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5.png" ContentType="image/png"/>
  <Override PartName="/ppt/media/image9.wmf" ContentType="image/x-wmf"/>
  <Override PartName="/ppt/media/image12.wmf" ContentType="image/x-wmf"/>
  <Override PartName="/ppt/media/image4.png" ContentType="image/png"/>
  <Override PartName="/ppt/media/image18.png" ContentType="image/png"/>
  <Override PartName="/ppt/media/image17.wmf" ContentType="image/x-wmf"/>
  <Override PartName="/ppt/media/image1.png" ContentType="image/png"/>
  <Override PartName="/ppt/media/image2.jpeg" ContentType="image/jpeg"/>
  <Override PartName="/ppt/media/image14.wmf" ContentType="image/x-wmf"/>
  <Override PartName="/ppt/media/image6.png" ContentType="image/png"/>
  <Override PartName="/ppt/media/image10.wmf" ContentType="image/x-wmf"/>
  <Override PartName="/ppt/media/image15.wmf" ContentType="image/x-wmf"/>
  <Override PartName="/ppt/media/image7.png" ContentType="image/png"/>
  <Override PartName="/ppt/media/image3.png" ContentType="image/png"/>
  <Override PartName="/ppt/media/image11.wmf" ContentType="image/x-wmf"/>
  <Override PartName="/ppt/media/image16.wmf" ContentType="image/x-wmf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1"/>
          </p:nvPr>
        </p:nvSpPr>
        <p:spPr>
          <a:xfrm>
            <a:off x="384984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931680" y="741240"/>
            <a:ext cx="4935240" cy="3702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2"/>
          </p:nvPr>
        </p:nvSpPr>
        <p:spPr>
          <a:xfrm>
            <a:off x="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3"/>
          </p:nvPr>
        </p:nvSpPr>
        <p:spPr>
          <a:xfrm>
            <a:off x="384984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7FB5D-0803-4D8B-9375-23DEC30581E9}" type="slidenum">
              <a:rPr b="0" lang="de-CH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Foliennummernplatzhalter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2EC6E-67ED-4B51-A9FB-490DFD00E8F7}" type="slidenum">
              <a:rPr b="0" lang="de-CH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Foliennummernplatzhalter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477DA-BA31-4E3F-986D-453C3B04DB57}" type="slidenum">
              <a:rPr b="0" lang="de-CH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Foliennummernplatzhalter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834B9-4C51-4223-ABED-FCECDD1AEBCC}" type="slidenum">
              <a:rPr b="0" lang="de-CH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Foliennummernplatzhalter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EEC98-4ABA-4AB4-8FE9-1EEA5529D9DF}" type="slidenum">
              <a:rPr b="0" lang="de-CH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Foliennummernplatzhalter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C44C7-BE42-4029-8D9A-28C9CB6C315F}" type="slidenum">
              <a:rPr b="0" lang="de-CH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Foliennummernplatzhalter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8734A-4FB9-4F66-BF28-C82B649DBD76}" type="slidenum">
              <a:rPr b="0" lang="de-CH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Foliennummernplatzhalter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FE194-9D2C-4FC9-99B2-37C17A389697}" type="slidenum">
              <a:rPr b="0" lang="de-CH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Foliennummernplatzhalter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0CD14-91DF-483A-BF88-E302E9BB277A}" type="slidenum">
              <a:rPr b="0" lang="de-CH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95280" y="1197000"/>
            <a:ext cx="74628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95280" y="2133360"/>
            <a:ext cx="746280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95280" y="4220640"/>
            <a:ext cx="746280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95280" y="1197000"/>
            <a:ext cx="74628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95280" y="2133360"/>
            <a:ext cx="364176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9560" y="2133360"/>
            <a:ext cx="364176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95280" y="4220640"/>
            <a:ext cx="364176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9560" y="4220640"/>
            <a:ext cx="364176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95280" y="1197000"/>
            <a:ext cx="74628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95280" y="2133360"/>
            <a:ext cx="240264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18520" y="2133360"/>
            <a:ext cx="240264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41760" y="2133360"/>
            <a:ext cx="240264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95280" y="4220640"/>
            <a:ext cx="240264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18520" y="4220640"/>
            <a:ext cx="240264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41760" y="4220640"/>
            <a:ext cx="240264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95280" y="1197000"/>
            <a:ext cx="74628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95280" y="2133360"/>
            <a:ext cx="7462800" cy="39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95280" y="1197000"/>
            <a:ext cx="74628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95280" y="2133360"/>
            <a:ext cx="7462800" cy="39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95280" y="1197000"/>
            <a:ext cx="74628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295280" y="2133360"/>
            <a:ext cx="3641760" cy="39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19560" y="2133360"/>
            <a:ext cx="3641760" cy="39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95280" y="1197000"/>
            <a:ext cx="74628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295280" y="1197000"/>
            <a:ext cx="7462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95280" y="1197000"/>
            <a:ext cx="74628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95280" y="2133360"/>
            <a:ext cx="364176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19560" y="2133360"/>
            <a:ext cx="3641760" cy="39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295280" y="4220640"/>
            <a:ext cx="364176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95280" y="1197000"/>
            <a:ext cx="74628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95280" y="2133360"/>
            <a:ext cx="7462800" cy="39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95280" y="1197000"/>
            <a:ext cx="74628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95280" y="2133360"/>
            <a:ext cx="3641760" cy="39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9560" y="2133360"/>
            <a:ext cx="364176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119560" y="4220640"/>
            <a:ext cx="364176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95280" y="1197000"/>
            <a:ext cx="74628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95280" y="2133360"/>
            <a:ext cx="364176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9560" y="2133360"/>
            <a:ext cx="364176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295280" y="4220640"/>
            <a:ext cx="746280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95280" y="1197000"/>
            <a:ext cx="74628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95280" y="2133360"/>
            <a:ext cx="746280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295280" y="4220640"/>
            <a:ext cx="746280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95280" y="1197000"/>
            <a:ext cx="74628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95280" y="2133360"/>
            <a:ext cx="364176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119560" y="2133360"/>
            <a:ext cx="364176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295280" y="4220640"/>
            <a:ext cx="364176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119560" y="4220640"/>
            <a:ext cx="364176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95280" y="1197000"/>
            <a:ext cx="74628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95280" y="2133360"/>
            <a:ext cx="240264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818520" y="2133360"/>
            <a:ext cx="240264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41760" y="2133360"/>
            <a:ext cx="240264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295280" y="4220640"/>
            <a:ext cx="240264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818520" y="4220640"/>
            <a:ext cx="240264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41760" y="4220640"/>
            <a:ext cx="240264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95280" y="1197000"/>
            <a:ext cx="74628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95280" y="2133360"/>
            <a:ext cx="7462800" cy="39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95280" y="1197000"/>
            <a:ext cx="74628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95280" y="2133360"/>
            <a:ext cx="3641760" cy="39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9560" y="2133360"/>
            <a:ext cx="3641760" cy="39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95280" y="1197000"/>
            <a:ext cx="74628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95280" y="1197000"/>
            <a:ext cx="7462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95280" y="1197000"/>
            <a:ext cx="74628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95280" y="2133360"/>
            <a:ext cx="364176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9560" y="2133360"/>
            <a:ext cx="3641760" cy="39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95280" y="4220640"/>
            <a:ext cx="364176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95280" y="1197000"/>
            <a:ext cx="74628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95280" y="2133360"/>
            <a:ext cx="3641760" cy="39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9560" y="2133360"/>
            <a:ext cx="364176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9560" y="4220640"/>
            <a:ext cx="364176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95280" y="1197000"/>
            <a:ext cx="74628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95280" y="2133360"/>
            <a:ext cx="364176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9560" y="2133360"/>
            <a:ext cx="364176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95280" y="4220640"/>
            <a:ext cx="746280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2"/>
          <p:cNvSpPr/>
          <p:nvPr/>
        </p:nvSpPr>
        <p:spPr>
          <a:xfrm>
            <a:off x="533520" y="304920"/>
            <a:ext cx="5105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295280" y="1197000"/>
            <a:ext cx="74628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95280" y="2133360"/>
            <a:ext cx="7462800" cy="39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ts val="25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177840" indent="-176400">
              <a:lnSpc>
                <a:spcPts val="25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357120" indent="-177840">
              <a:lnSpc>
                <a:spcPts val="2599"/>
              </a:lnSpc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536400" indent="-177480">
              <a:lnSpc>
                <a:spcPts val="2599"/>
              </a:lnSpc>
              <a:buClr>
                <a:srgbClr val="b2b2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720720" indent="-182520">
              <a:lnSpc>
                <a:spcPts val="2599"/>
              </a:lnSpc>
              <a:buClr>
                <a:srgbClr val="c0c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720720" indent="-182520">
              <a:lnSpc>
                <a:spcPts val="25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720720" indent="-182520">
              <a:lnSpc>
                <a:spcPts val="25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 Box 5"/>
          <p:cNvSpPr/>
          <p:nvPr/>
        </p:nvSpPr>
        <p:spPr>
          <a:xfrm>
            <a:off x="6448320" y="6205680"/>
            <a:ext cx="2266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ts val="1199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0C2A3-41E7-4703-9A4F-1AF4AD74DDE9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AutoShape 6"/>
          <p:cNvSpPr/>
          <p:nvPr/>
        </p:nvSpPr>
        <p:spPr>
          <a:xfrm>
            <a:off x="1231920" y="6146640"/>
            <a:ext cx="7218360" cy="388440"/>
          </a:xfrm>
          <a:prstGeom prst="octagon">
            <a:avLst>
              <a:gd name="adj" fmla="val 2928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900" spc="-1" strike="noStrike">
                <a:solidFill>
                  <a:srgbClr val="000000"/>
                </a:solidFill>
                <a:latin typeface="Arial"/>
              </a:rPr>
              <a:t>Relevé structure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900" spc="-1" strike="noStrike">
                <a:solidFill>
                  <a:srgbClr val="000000"/>
                </a:solidFill>
                <a:latin typeface="Arial"/>
              </a:rPr>
              <a:t>Roland Ket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7"/>
          <p:cNvSpPr/>
          <p:nvPr/>
        </p:nvSpPr>
        <p:spPr>
          <a:xfrm flipH="1">
            <a:off x="1285560" y="6162840"/>
            <a:ext cx="7496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8" descr="Logo_CMYK_pos"/>
          <p:cNvPicPr/>
          <p:nvPr/>
        </p:nvPicPr>
        <p:blipFill>
          <a:blip r:embed="rId2"/>
          <a:stretch/>
        </p:blipFill>
        <p:spPr>
          <a:xfrm>
            <a:off x="927000" y="387360"/>
            <a:ext cx="1997280" cy="507960"/>
          </a:xfrm>
          <a:prstGeom prst="rect">
            <a:avLst/>
          </a:prstGeom>
          <a:ln w="0">
            <a:noFill/>
          </a:ln>
        </p:spPr>
      </p:pic>
      <p:sp>
        <p:nvSpPr>
          <p:cNvPr id="7" name="Text Box 6"/>
          <p:cNvSpPr/>
          <p:nvPr/>
        </p:nvSpPr>
        <p:spPr>
          <a:xfrm>
            <a:off x="4716360" y="404640"/>
            <a:ext cx="35816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Département fédéral de l'intérieur DFI</a:t>
            </a:r>
            <a:br>
              <a:rPr sz="800"/>
            </a:br>
            <a:r>
              <a:rPr b="1" lang="fr-FR" sz="800" spc="-1" strike="noStrike">
                <a:solidFill>
                  <a:srgbClr val="000000"/>
                </a:solidFill>
                <a:latin typeface="Arial"/>
              </a:rPr>
              <a:t>Office fédéral de la statistique OF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Header_ppt_705-2-f"/>
          <p:cNvPicPr/>
          <p:nvPr/>
        </p:nvPicPr>
        <p:blipFill>
          <a:blip r:embed="rId3"/>
          <a:stretch/>
        </p:blipFill>
        <p:spPr>
          <a:xfrm>
            <a:off x="0" y="642960"/>
            <a:ext cx="662040" cy="621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5" descr="Logo_CMYK_pos"/>
          <p:cNvPicPr/>
          <p:nvPr/>
        </p:nvPicPr>
        <p:blipFill>
          <a:blip r:embed="rId2"/>
          <a:stretch/>
        </p:blipFill>
        <p:spPr>
          <a:xfrm>
            <a:off x="927000" y="387360"/>
            <a:ext cx="1997280" cy="50796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95280" y="1197000"/>
            <a:ext cx="74628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1295280" y="2133360"/>
            <a:ext cx="7462800" cy="39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ts val="25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177840" indent="-176400">
              <a:lnSpc>
                <a:spcPts val="25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357120" indent="-177840">
              <a:lnSpc>
                <a:spcPts val="2599"/>
              </a:lnSpc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536400" indent="-177480">
              <a:lnSpc>
                <a:spcPts val="2599"/>
              </a:lnSpc>
              <a:buClr>
                <a:srgbClr val="b2b2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720720" indent="-182520">
              <a:lnSpc>
                <a:spcPts val="2599"/>
              </a:lnSpc>
              <a:buClr>
                <a:srgbClr val="c0c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720720" indent="-182520">
              <a:lnSpc>
                <a:spcPts val="25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720720" indent="-182520">
              <a:lnSpc>
                <a:spcPts val="25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6"/>
          <p:cNvSpPr/>
          <p:nvPr/>
        </p:nvSpPr>
        <p:spPr>
          <a:xfrm>
            <a:off x="4716360" y="404640"/>
            <a:ext cx="35816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Département fédéral de l'intérieur DFI</a:t>
            </a:r>
            <a:br>
              <a:rPr sz="800"/>
            </a:br>
            <a:r>
              <a:rPr b="1" lang="fr-FR" sz="800" spc="-1" strike="noStrike">
                <a:solidFill>
                  <a:srgbClr val="000000"/>
                </a:solidFill>
                <a:latin typeface="Arial"/>
              </a:rPr>
              <a:t>Office fédéral de la statistique OF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10" descr="Header_ppt_705-2-f"/>
          <p:cNvPicPr/>
          <p:nvPr/>
        </p:nvPicPr>
        <p:blipFill>
          <a:blip r:embed="rId3"/>
          <a:stretch/>
        </p:blipFill>
        <p:spPr>
          <a:xfrm>
            <a:off x="0" y="642960"/>
            <a:ext cx="662040" cy="621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image" Target="../media/image13.wmf"/><Relationship Id="rId6" Type="http://schemas.openxmlformats.org/officeDocument/2006/relationships/image" Target="../media/image14.wmf"/><Relationship Id="rId7" Type="http://schemas.openxmlformats.org/officeDocument/2006/relationships/image" Target="../media/image15.wmf"/><Relationship Id="rId8" Type="http://schemas.openxmlformats.org/officeDocument/2006/relationships/image" Target="../media/image16.wmf"/><Relationship Id="rId9" Type="http://schemas.openxmlformats.org/officeDocument/2006/relationships/image" Target="../media/image17.wmf"/><Relationship Id="rId10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PERSONENFRAGEBOGEN_FR_20091001.pdf" TargetMode="External"/><Relationship Id="rId2" Type="http://schemas.openxmlformats.org/officeDocument/2006/relationships/hyperlink" Target="file:///HHFRAGEBOGEN_FR_20091001.pdf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census.ch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88800" y="2671920"/>
            <a:ext cx="7358040" cy="118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4800" spc="-1" strike="noStrike">
                <a:solidFill>
                  <a:srgbClr val="000000"/>
                </a:solidFill>
                <a:latin typeface="Arial"/>
              </a:rPr>
              <a:t>Relevé structurel</a:t>
            </a:r>
            <a:br>
              <a:rPr sz="4800"/>
            </a:br>
            <a:br>
              <a:rPr sz="4800"/>
            </a:b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14360" y="5589720"/>
            <a:ext cx="734400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Séance d</a:t>
            </a: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information: préparation du RFP2010 et de </a:t>
            </a: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l’enquête</a:t>
            </a: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 sur la formation de base et la formation continue 2011 - 8 octobre 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Roland Ke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Rectangle 4" descr=""/>
          <p:cNvPicPr/>
          <p:nvPr/>
        </p:nvPicPr>
        <p:blipFill>
          <a:blip r:embed="rId1"/>
          <a:srcRect l="0" t="0" r="24508" b="2694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Rectangle 4" descr=""/>
          <p:cNvPicPr/>
          <p:nvPr/>
        </p:nvPicPr>
        <p:blipFill>
          <a:blip r:embed="rId1"/>
          <a:srcRect l="0" t="0" r="24508" b="2694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Rectangle 4" descr=""/>
          <p:cNvPicPr/>
          <p:nvPr/>
        </p:nvPicPr>
        <p:blipFill>
          <a:blip r:embed="rId1"/>
          <a:srcRect l="0" t="0" r="0" b="369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95280" y="1339920"/>
            <a:ext cx="74628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Arial"/>
              </a:rPr>
              <a:t>Pour rappel – Densification de l'échantillon (1/5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95280" y="2133360"/>
            <a:ext cx="7462800" cy="39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1080"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Princi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ts val="2599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100" spc="-1" strike="noStrike">
                <a:solidFill>
                  <a:srgbClr val="000000"/>
                </a:solidFill>
                <a:latin typeface="Arial"/>
              </a:rPr>
              <a:t>L'échantillon annuel ne dépasse pas 14% de la population (15 ans et plus, ménages privés); correspond à un maximum de 800'000 personn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ts val="2599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100" spc="-1" strike="noStrike">
                <a:solidFill>
                  <a:srgbClr val="000000"/>
                </a:solidFill>
                <a:latin typeface="Arial"/>
              </a:rPr>
              <a:t>Sur une période de 10 ans, l'échantillon cumulé ne doit pas dépasser 70% de la population (15 ans et plus, ménages privés); correspond à un doublement de l'échantillon, soit 400'000 personnes par an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95280" y="1197000"/>
            <a:ext cx="74628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000000"/>
                </a:solidFill>
                <a:latin typeface="Arial"/>
              </a:rPr>
              <a:t>Vorgeschlagene Variante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631200" y="1900080"/>
            <a:ext cx="233100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CH" sz="1600" spc="-1" strike="noStrike">
                <a:solidFill>
                  <a:srgbClr val="000000"/>
                </a:solidFill>
                <a:latin typeface="Arial"/>
              </a:rPr>
              <a:t>orientée vers l'aveni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CH" sz="1600" spc="-1" strike="noStrike">
                <a:solidFill>
                  <a:srgbClr val="000000"/>
                </a:solidFill>
                <a:latin typeface="Arial"/>
              </a:rPr>
              <a:t>évolutions temporel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CH" sz="1600" spc="-1" strike="noStrike">
                <a:solidFill>
                  <a:srgbClr val="000000"/>
                </a:solidFill>
                <a:latin typeface="Arial"/>
              </a:rPr>
              <a:t>poo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CH" sz="1600" spc="-1" strike="noStrike">
                <a:solidFill>
                  <a:srgbClr val="000000"/>
                </a:solidFill>
                <a:latin typeface="Arial"/>
              </a:rPr>
              <a:t>stabilit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653520" y="3395520"/>
            <a:ext cx="2331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CH" sz="1600" spc="-1" strike="noStrike">
                <a:solidFill>
                  <a:srgbClr val="000000"/>
                </a:solidFill>
                <a:latin typeface="Arial"/>
              </a:rPr>
              <a:t>précision en 20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rial"/>
              </a:rPr>
              <a:t>à moyen term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CH" sz="1600" spc="-1" strike="noStrike">
                <a:solidFill>
                  <a:srgbClr val="000000"/>
                </a:solidFill>
                <a:latin typeface="Arial"/>
              </a:rPr>
              <a:t>évolutions temporel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CH" sz="1600" spc="-1" strike="noStrike">
                <a:solidFill>
                  <a:srgbClr val="000000"/>
                </a:solidFill>
                <a:latin typeface="Arial"/>
              </a:rPr>
              <a:t>poo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CH" sz="1600" spc="-1" strike="noStrike">
                <a:solidFill>
                  <a:srgbClr val="000000"/>
                </a:solidFill>
                <a:latin typeface="Arial"/>
              </a:rPr>
              <a:t>stabilit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676920" y="5240160"/>
            <a:ext cx="2481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CH" sz="1600" spc="-1" strike="noStrike">
                <a:solidFill>
                  <a:srgbClr val="000000"/>
                </a:solidFill>
                <a:latin typeface="Arial"/>
              </a:rPr>
              <a:t>comparaisons sur 5 a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CH" sz="1600" spc="-1" strike="noStrike">
                <a:solidFill>
                  <a:srgbClr val="000000"/>
                </a:solidFill>
                <a:latin typeface="Arial"/>
              </a:rPr>
              <a:t>certaine stabilit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1013760" y="771480"/>
            <a:ext cx="5533200" cy="5409360"/>
            <a:chOff x="1013760" y="771480"/>
            <a:chExt cx="5533200" cy="5409360"/>
          </a:xfrm>
        </p:grpSpPr>
        <p:sp>
          <p:nvSpPr>
            <p:cNvPr id="118" name=""/>
            <p:cNvSpPr/>
            <p:nvPr/>
          </p:nvSpPr>
          <p:spPr>
            <a:xfrm>
              <a:off x="1013760" y="77148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9" name=""/>
            <p:cNvGrpSpPr/>
            <p:nvPr/>
          </p:nvGrpSpPr>
          <p:grpSpPr>
            <a:xfrm>
              <a:off x="1820880" y="5570640"/>
              <a:ext cx="4573440" cy="228600"/>
              <a:chOff x="1820880" y="5570640"/>
              <a:chExt cx="4573440" cy="228600"/>
            </a:xfrm>
          </p:grpSpPr>
          <p:sp>
            <p:nvSpPr>
              <p:cNvPr id="120" name=""/>
              <p:cNvSpPr/>
              <p:nvPr/>
            </p:nvSpPr>
            <p:spPr>
              <a:xfrm>
                <a:off x="1820880" y="5570640"/>
                <a:ext cx="4572000" cy="22860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21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822320" y="5570640"/>
                <a:ext cx="4572000" cy="228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2" name=""/>
              <p:cNvSpPr/>
              <p:nvPr/>
            </p:nvSpPr>
            <p:spPr>
              <a:xfrm>
                <a:off x="1820880" y="5570640"/>
                <a:ext cx="4572000" cy="22860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3649680" y="5342040"/>
              <a:ext cx="1373040" cy="228600"/>
              <a:chOff x="3649680" y="5342040"/>
              <a:chExt cx="1373040" cy="228600"/>
            </a:xfrm>
          </p:grpSpPr>
          <p:sp>
            <p:nvSpPr>
              <p:cNvPr id="124" name=""/>
              <p:cNvSpPr/>
              <p:nvPr/>
            </p:nvSpPr>
            <p:spPr>
              <a:xfrm>
                <a:off x="3649680" y="5342040"/>
                <a:ext cx="1371600" cy="2286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25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3651120" y="5342040"/>
                <a:ext cx="1371600" cy="228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6" name=""/>
              <p:cNvSpPr/>
              <p:nvPr/>
            </p:nvSpPr>
            <p:spPr>
              <a:xfrm>
                <a:off x="3649680" y="5342040"/>
                <a:ext cx="1371600" cy="2286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" name=""/>
            <p:cNvGrpSpPr/>
            <p:nvPr/>
          </p:nvGrpSpPr>
          <p:grpSpPr>
            <a:xfrm>
              <a:off x="1820880" y="5342040"/>
              <a:ext cx="1373040" cy="228600"/>
              <a:chOff x="1820880" y="5342040"/>
              <a:chExt cx="1373040" cy="228600"/>
            </a:xfrm>
          </p:grpSpPr>
          <p:sp>
            <p:nvSpPr>
              <p:cNvPr id="128" name=""/>
              <p:cNvSpPr/>
              <p:nvPr/>
            </p:nvSpPr>
            <p:spPr>
              <a:xfrm>
                <a:off x="1820880" y="5342040"/>
                <a:ext cx="1371600" cy="2286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29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1822320" y="5342040"/>
                <a:ext cx="1371600" cy="228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0" name=""/>
              <p:cNvSpPr/>
              <p:nvPr/>
            </p:nvSpPr>
            <p:spPr>
              <a:xfrm>
                <a:off x="1820880" y="5342040"/>
                <a:ext cx="1371600" cy="2286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1820880" y="4084560"/>
              <a:ext cx="4573440" cy="228600"/>
              <a:chOff x="1820880" y="4084560"/>
              <a:chExt cx="4573440" cy="228600"/>
            </a:xfrm>
          </p:grpSpPr>
          <p:sp>
            <p:nvSpPr>
              <p:cNvPr id="132" name=""/>
              <p:cNvSpPr/>
              <p:nvPr/>
            </p:nvSpPr>
            <p:spPr>
              <a:xfrm>
                <a:off x="1820880" y="4084560"/>
                <a:ext cx="4572000" cy="22860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33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1822320" y="4084560"/>
                <a:ext cx="4572000" cy="228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4" name=""/>
              <p:cNvSpPr/>
              <p:nvPr/>
            </p:nvSpPr>
            <p:spPr>
              <a:xfrm>
                <a:off x="1820880" y="4084560"/>
                <a:ext cx="4572000" cy="22860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5" name=""/>
            <p:cNvGrpSpPr/>
            <p:nvPr/>
          </p:nvGrpSpPr>
          <p:grpSpPr>
            <a:xfrm>
              <a:off x="3192480" y="3855960"/>
              <a:ext cx="3201840" cy="228600"/>
              <a:chOff x="3192480" y="3855960"/>
              <a:chExt cx="3201840" cy="228600"/>
            </a:xfrm>
          </p:grpSpPr>
          <p:sp>
            <p:nvSpPr>
              <p:cNvPr id="136" name=""/>
              <p:cNvSpPr/>
              <p:nvPr/>
            </p:nvSpPr>
            <p:spPr>
              <a:xfrm>
                <a:off x="3192480" y="3855960"/>
                <a:ext cx="3200400" cy="2286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37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3193920" y="3855960"/>
                <a:ext cx="3200400" cy="228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8" name=""/>
              <p:cNvSpPr/>
              <p:nvPr/>
            </p:nvSpPr>
            <p:spPr>
              <a:xfrm>
                <a:off x="3192480" y="3855960"/>
                <a:ext cx="3200400" cy="2286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1820880" y="3398760"/>
              <a:ext cx="458640" cy="685800"/>
              <a:chOff x="1820880" y="3398760"/>
              <a:chExt cx="458640" cy="685800"/>
            </a:xfrm>
          </p:grpSpPr>
          <p:sp>
            <p:nvSpPr>
              <p:cNvPr id="140" name=""/>
              <p:cNvSpPr/>
              <p:nvPr/>
            </p:nvSpPr>
            <p:spPr>
              <a:xfrm>
                <a:off x="1820880" y="3398760"/>
                <a:ext cx="457200" cy="6858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4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1822320" y="3398760"/>
                <a:ext cx="457200" cy="685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2" name=""/>
              <p:cNvSpPr/>
              <p:nvPr/>
            </p:nvSpPr>
            <p:spPr>
              <a:xfrm>
                <a:off x="1820880" y="3398760"/>
                <a:ext cx="457200" cy="6858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3" name=""/>
            <p:cNvGrpSpPr/>
            <p:nvPr/>
          </p:nvGrpSpPr>
          <p:grpSpPr>
            <a:xfrm>
              <a:off x="1820880" y="2484360"/>
              <a:ext cx="4573440" cy="228600"/>
              <a:chOff x="1820880" y="2484360"/>
              <a:chExt cx="4573440" cy="228600"/>
            </a:xfrm>
          </p:grpSpPr>
          <p:sp>
            <p:nvSpPr>
              <p:cNvPr id="144" name=""/>
              <p:cNvSpPr/>
              <p:nvPr/>
            </p:nvSpPr>
            <p:spPr>
              <a:xfrm>
                <a:off x="1820880" y="2484360"/>
                <a:ext cx="4572000" cy="22860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4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1822320" y="2484360"/>
                <a:ext cx="4572000" cy="228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6" name=""/>
              <p:cNvSpPr/>
              <p:nvPr/>
            </p:nvSpPr>
            <p:spPr>
              <a:xfrm>
                <a:off x="1820880" y="2484360"/>
                <a:ext cx="4572000" cy="22860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7" name=""/>
            <p:cNvSpPr/>
            <p:nvPr/>
          </p:nvSpPr>
          <p:spPr>
            <a:xfrm>
              <a:off x="1365120" y="2027160"/>
              <a:ext cx="502920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967400" y="2762280"/>
              <a:ext cx="2080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201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72600" y="2762280"/>
              <a:ext cx="2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5320" y="2762280"/>
              <a:ext cx="156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20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578680" y="276228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629800" y="2762280"/>
              <a:ext cx="2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881800" y="2762280"/>
              <a:ext cx="2080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201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087000" y="2762280"/>
              <a:ext cx="2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339000" y="2762280"/>
              <a:ext cx="2080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2013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544200" y="2762280"/>
              <a:ext cx="2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796200" y="2762280"/>
              <a:ext cx="2080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201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002840" y="2762280"/>
              <a:ext cx="2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253400" y="2762280"/>
              <a:ext cx="2080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201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460040" y="2762280"/>
              <a:ext cx="2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710600" y="2762280"/>
              <a:ext cx="2080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2016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917240" y="2762280"/>
              <a:ext cx="2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167800" y="2762280"/>
              <a:ext cx="2080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2017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374440" y="2762280"/>
              <a:ext cx="2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625000" y="2762280"/>
              <a:ext cx="2080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2018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831640" y="2762280"/>
              <a:ext cx="2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082200" y="2762280"/>
              <a:ext cx="2080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2019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288840" y="2762280"/>
              <a:ext cx="2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398960" y="2419200"/>
              <a:ext cx="345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200’0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740600" y="2419200"/>
              <a:ext cx="2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289160" y="2141640"/>
              <a:ext cx="6094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400760" y="219060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429200" y="2190600"/>
              <a:ext cx="29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00’0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740600" y="2190600"/>
              <a:ext cx="2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5" name=""/>
            <p:cNvGrpSpPr/>
            <p:nvPr/>
          </p:nvGrpSpPr>
          <p:grpSpPr>
            <a:xfrm>
              <a:off x="1820880" y="2255760"/>
              <a:ext cx="4573440" cy="228600"/>
              <a:chOff x="1820880" y="2255760"/>
              <a:chExt cx="4573440" cy="228600"/>
            </a:xfrm>
          </p:grpSpPr>
          <p:sp>
            <p:nvSpPr>
              <p:cNvPr id="176" name=""/>
              <p:cNvSpPr/>
              <p:nvPr/>
            </p:nvSpPr>
            <p:spPr>
              <a:xfrm>
                <a:off x="1820880" y="2255760"/>
                <a:ext cx="4572000" cy="2286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77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822320" y="2255760"/>
                <a:ext cx="4572000" cy="228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8" name=""/>
              <p:cNvSpPr/>
              <p:nvPr/>
            </p:nvSpPr>
            <p:spPr>
              <a:xfrm>
                <a:off x="1820880" y="2255760"/>
                <a:ext cx="4572000" cy="2286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9" name=""/>
            <p:cNvSpPr/>
            <p:nvPr/>
          </p:nvSpPr>
          <p:spPr>
            <a:xfrm rot="16200000">
              <a:off x="910080" y="2232000"/>
              <a:ext cx="750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CH" sz="700" spc="-1" strike="noStrike">
                  <a:solidFill>
                    <a:srgbClr val="000000"/>
                  </a:solidFill>
                  <a:latin typeface="Times New Roman"/>
                </a:rPr>
                <a:t>Grandeur échantill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rot="16200000">
              <a:off x="1271880" y="1974960"/>
              <a:ext cx="237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801040" y="2989440"/>
              <a:ext cx="531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CH" sz="700" spc="-1" strike="noStrike">
                  <a:solidFill>
                    <a:srgbClr val="000000"/>
                  </a:solidFill>
                  <a:latin typeface="Times New Roman"/>
                </a:rPr>
                <a:t>Année enquêt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296760" y="2989440"/>
              <a:ext cx="237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784520" y="2027160"/>
              <a:ext cx="75960" cy="692280"/>
            </a:xfrm>
            <a:custGeom>
              <a:avLst/>
              <a:gdLst/>
              <a:ahLst/>
              <a:rect l="l" t="t" r="r" b="b"/>
              <a:pathLst>
                <a:path w="800" h="7267">
                  <a:moveTo>
                    <a:pt x="328" y="7200"/>
                  </a:moveTo>
                  <a:lnTo>
                    <a:pt x="334" y="667"/>
                  </a:lnTo>
                  <a:cubicBezTo>
                    <a:pt x="334" y="630"/>
                    <a:pt x="364" y="600"/>
                    <a:pt x="401" y="600"/>
                  </a:cubicBezTo>
                  <a:cubicBezTo>
                    <a:pt x="437" y="601"/>
                    <a:pt x="467" y="630"/>
                    <a:pt x="467" y="667"/>
                  </a:cubicBezTo>
                  <a:lnTo>
                    <a:pt x="461" y="7201"/>
                  </a:lnTo>
                  <a:cubicBezTo>
                    <a:pt x="461" y="7237"/>
                    <a:pt x="431" y="7267"/>
                    <a:pt x="394" y="7267"/>
                  </a:cubicBezTo>
                  <a:cubicBezTo>
                    <a:pt x="358" y="7267"/>
                    <a:pt x="328" y="7237"/>
                    <a:pt x="328" y="7200"/>
                  </a:cubicBezTo>
                  <a:close/>
                  <a:moveTo>
                    <a:pt x="0" y="800"/>
                  </a:moveTo>
                  <a:lnTo>
                    <a:pt x="401" y="0"/>
                  </a:lnTo>
                  <a:lnTo>
                    <a:pt x="800" y="801"/>
                  </a:lnTo>
                  <a:lnTo>
                    <a:pt x="0" y="80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816200" y="2674800"/>
              <a:ext cx="4730760" cy="76320"/>
            </a:xfrm>
            <a:custGeom>
              <a:avLst/>
              <a:gdLst/>
              <a:ahLst/>
              <a:rect l="l" t="t" r="r" b="b"/>
              <a:pathLst>
                <a:path w="24833" h="400">
                  <a:moveTo>
                    <a:pt x="33" y="167"/>
                  </a:moveTo>
                  <a:lnTo>
                    <a:pt x="24500" y="167"/>
                  </a:lnTo>
                  <a:cubicBezTo>
                    <a:pt x="24519" y="167"/>
                    <a:pt x="24534" y="182"/>
                    <a:pt x="24534" y="200"/>
                  </a:cubicBezTo>
                  <a:cubicBezTo>
                    <a:pt x="24534" y="219"/>
                    <a:pt x="24519" y="234"/>
                    <a:pt x="24500" y="234"/>
                  </a:cubicBezTo>
                  <a:lnTo>
                    <a:pt x="33" y="234"/>
                  </a:lnTo>
                  <a:cubicBezTo>
                    <a:pt x="15" y="234"/>
                    <a:pt x="0" y="219"/>
                    <a:pt x="0" y="200"/>
                  </a:cubicBezTo>
                  <a:cubicBezTo>
                    <a:pt x="0" y="182"/>
                    <a:pt x="15" y="167"/>
                    <a:pt x="33" y="167"/>
                  </a:cubicBezTo>
                  <a:close/>
                  <a:moveTo>
                    <a:pt x="24433" y="0"/>
                  </a:moveTo>
                  <a:lnTo>
                    <a:pt x="24833" y="200"/>
                  </a:lnTo>
                  <a:lnTo>
                    <a:pt x="24433" y="400"/>
                  </a:lnTo>
                  <a:lnTo>
                    <a:pt x="24433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278080" y="2260440"/>
              <a:ext cx="3240" cy="454320"/>
            </a:xfrm>
            <a:custGeom>
              <a:avLst/>
              <a:gdLst/>
              <a:ahLst/>
              <a:rect l="l" t="t" r="r" b="b"/>
              <a:pathLst>
                <a:path w="40" h="4769">
                  <a:moveTo>
                    <a:pt x="0" y="4752"/>
                  </a:moveTo>
                  <a:lnTo>
                    <a:pt x="0" y="4752"/>
                  </a:lnTo>
                  <a:cubicBezTo>
                    <a:pt x="0" y="4743"/>
                    <a:pt x="7" y="4736"/>
                    <a:pt x="16" y="4736"/>
                  </a:cubicBezTo>
                  <a:cubicBezTo>
                    <a:pt x="26" y="4736"/>
                    <a:pt x="33" y="4743"/>
                    <a:pt x="33" y="4752"/>
                  </a:cubicBezTo>
                  <a:lnTo>
                    <a:pt x="33" y="4752"/>
                  </a:lnTo>
                  <a:cubicBezTo>
                    <a:pt x="33" y="4762"/>
                    <a:pt x="26" y="4769"/>
                    <a:pt x="16" y="4769"/>
                  </a:cubicBezTo>
                  <a:cubicBezTo>
                    <a:pt x="7" y="4769"/>
                    <a:pt x="0" y="4762"/>
                    <a:pt x="0" y="4752"/>
                  </a:cubicBezTo>
                  <a:close/>
                  <a:moveTo>
                    <a:pt x="0" y="4686"/>
                  </a:moveTo>
                  <a:lnTo>
                    <a:pt x="0" y="4686"/>
                  </a:lnTo>
                  <a:cubicBezTo>
                    <a:pt x="0" y="4677"/>
                    <a:pt x="7" y="4669"/>
                    <a:pt x="17" y="4669"/>
                  </a:cubicBezTo>
                  <a:cubicBezTo>
                    <a:pt x="26" y="4669"/>
                    <a:pt x="33" y="4677"/>
                    <a:pt x="33" y="4686"/>
                  </a:cubicBezTo>
                  <a:lnTo>
                    <a:pt x="33" y="4686"/>
                  </a:lnTo>
                  <a:cubicBezTo>
                    <a:pt x="33" y="4695"/>
                    <a:pt x="26" y="4702"/>
                    <a:pt x="17" y="4702"/>
                  </a:cubicBezTo>
                  <a:cubicBezTo>
                    <a:pt x="7" y="4702"/>
                    <a:pt x="0" y="4695"/>
                    <a:pt x="0" y="4686"/>
                  </a:cubicBezTo>
                  <a:close/>
                  <a:moveTo>
                    <a:pt x="0" y="4619"/>
                  </a:moveTo>
                  <a:lnTo>
                    <a:pt x="0" y="4619"/>
                  </a:lnTo>
                  <a:cubicBezTo>
                    <a:pt x="0" y="4610"/>
                    <a:pt x="7" y="4602"/>
                    <a:pt x="17" y="4602"/>
                  </a:cubicBezTo>
                  <a:cubicBezTo>
                    <a:pt x="26" y="4602"/>
                    <a:pt x="33" y="4610"/>
                    <a:pt x="33" y="4619"/>
                  </a:cubicBezTo>
                  <a:lnTo>
                    <a:pt x="33" y="4619"/>
                  </a:lnTo>
                  <a:cubicBezTo>
                    <a:pt x="33" y="4628"/>
                    <a:pt x="26" y="4636"/>
                    <a:pt x="17" y="4636"/>
                  </a:cubicBezTo>
                  <a:cubicBezTo>
                    <a:pt x="7" y="4636"/>
                    <a:pt x="0" y="4628"/>
                    <a:pt x="0" y="4619"/>
                  </a:cubicBezTo>
                  <a:close/>
                  <a:moveTo>
                    <a:pt x="0" y="4552"/>
                  </a:moveTo>
                  <a:lnTo>
                    <a:pt x="0" y="4552"/>
                  </a:lnTo>
                  <a:cubicBezTo>
                    <a:pt x="0" y="4543"/>
                    <a:pt x="8" y="4536"/>
                    <a:pt x="17" y="4536"/>
                  </a:cubicBezTo>
                  <a:cubicBezTo>
                    <a:pt x="26" y="4536"/>
                    <a:pt x="33" y="4543"/>
                    <a:pt x="33" y="4552"/>
                  </a:cubicBezTo>
                  <a:lnTo>
                    <a:pt x="33" y="4552"/>
                  </a:lnTo>
                  <a:cubicBezTo>
                    <a:pt x="33" y="4562"/>
                    <a:pt x="26" y="4569"/>
                    <a:pt x="17" y="4569"/>
                  </a:cubicBezTo>
                  <a:cubicBezTo>
                    <a:pt x="8" y="4569"/>
                    <a:pt x="0" y="4562"/>
                    <a:pt x="0" y="4552"/>
                  </a:cubicBezTo>
                  <a:close/>
                  <a:moveTo>
                    <a:pt x="0" y="4486"/>
                  </a:moveTo>
                  <a:lnTo>
                    <a:pt x="0" y="4486"/>
                  </a:lnTo>
                  <a:cubicBezTo>
                    <a:pt x="0" y="4476"/>
                    <a:pt x="8" y="4469"/>
                    <a:pt x="17" y="4469"/>
                  </a:cubicBezTo>
                  <a:cubicBezTo>
                    <a:pt x="26" y="4469"/>
                    <a:pt x="34" y="4476"/>
                    <a:pt x="34" y="4486"/>
                  </a:cubicBezTo>
                  <a:lnTo>
                    <a:pt x="34" y="4486"/>
                  </a:lnTo>
                  <a:cubicBezTo>
                    <a:pt x="34" y="4495"/>
                    <a:pt x="26" y="4502"/>
                    <a:pt x="17" y="4502"/>
                  </a:cubicBezTo>
                  <a:cubicBezTo>
                    <a:pt x="8" y="4502"/>
                    <a:pt x="0" y="4495"/>
                    <a:pt x="0" y="4486"/>
                  </a:cubicBezTo>
                  <a:close/>
                  <a:moveTo>
                    <a:pt x="0" y="4419"/>
                  </a:moveTo>
                  <a:lnTo>
                    <a:pt x="0" y="4419"/>
                  </a:lnTo>
                  <a:cubicBezTo>
                    <a:pt x="0" y="4410"/>
                    <a:pt x="8" y="4402"/>
                    <a:pt x="17" y="4402"/>
                  </a:cubicBezTo>
                  <a:cubicBezTo>
                    <a:pt x="26" y="4402"/>
                    <a:pt x="34" y="4410"/>
                    <a:pt x="34" y="4419"/>
                  </a:cubicBezTo>
                  <a:lnTo>
                    <a:pt x="34" y="4419"/>
                  </a:lnTo>
                  <a:cubicBezTo>
                    <a:pt x="34" y="4428"/>
                    <a:pt x="26" y="4436"/>
                    <a:pt x="17" y="4436"/>
                  </a:cubicBezTo>
                  <a:cubicBezTo>
                    <a:pt x="8" y="4436"/>
                    <a:pt x="0" y="4428"/>
                    <a:pt x="0" y="4419"/>
                  </a:cubicBezTo>
                  <a:close/>
                  <a:moveTo>
                    <a:pt x="0" y="4352"/>
                  </a:moveTo>
                  <a:lnTo>
                    <a:pt x="0" y="4352"/>
                  </a:lnTo>
                  <a:cubicBezTo>
                    <a:pt x="0" y="4343"/>
                    <a:pt x="8" y="4336"/>
                    <a:pt x="17" y="4336"/>
                  </a:cubicBezTo>
                  <a:cubicBezTo>
                    <a:pt x="26" y="4336"/>
                    <a:pt x="34" y="4343"/>
                    <a:pt x="34" y="4352"/>
                  </a:cubicBezTo>
                  <a:lnTo>
                    <a:pt x="34" y="4352"/>
                  </a:lnTo>
                  <a:cubicBezTo>
                    <a:pt x="34" y="4361"/>
                    <a:pt x="26" y="4369"/>
                    <a:pt x="17" y="4369"/>
                  </a:cubicBezTo>
                  <a:cubicBezTo>
                    <a:pt x="8" y="4369"/>
                    <a:pt x="0" y="4361"/>
                    <a:pt x="0" y="4352"/>
                  </a:cubicBezTo>
                  <a:close/>
                  <a:moveTo>
                    <a:pt x="0" y="4286"/>
                  </a:moveTo>
                  <a:lnTo>
                    <a:pt x="0" y="4286"/>
                  </a:lnTo>
                  <a:cubicBezTo>
                    <a:pt x="0" y="4276"/>
                    <a:pt x="8" y="4269"/>
                    <a:pt x="17" y="4269"/>
                  </a:cubicBezTo>
                  <a:cubicBezTo>
                    <a:pt x="26" y="4269"/>
                    <a:pt x="34" y="4276"/>
                    <a:pt x="34" y="4286"/>
                  </a:cubicBezTo>
                  <a:lnTo>
                    <a:pt x="34" y="4286"/>
                  </a:lnTo>
                  <a:cubicBezTo>
                    <a:pt x="34" y="4295"/>
                    <a:pt x="26" y="4302"/>
                    <a:pt x="17" y="4302"/>
                  </a:cubicBezTo>
                  <a:cubicBezTo>
                    <a:pt x="8" y="4302"/>
                    <a:pt x="0" y="4295"/>
                    <a:pt x="0" y="4286"/>
                  </a:cubicBezTo>
                  <a:close/>
                  <a:moveTo>
                    <a:pt x="1" y="4219"/>
                  </a:moveTo>
                  <a:lnTo>
                    <a:pt x="1" y="4219"/>
                  </a:lnTo>
                  <a:cubicBezTo>
                    <a:pt x="1" y="4210"/>
                    <a:pt x="8" y="4202"/>
                    <a:pt x="17" y="4202"/>
                  </a:cubicBezTo>
                  <a:cubicBezTo>
                    <a:pt x="26" y="4202"/>
                    <a:pt x="34" y="4210"/>
                    <a:pt x="34" y="4219"/>
                  </a:cubicBezTo>
                  <a:lnTo>
                    <a:pt x="34" y="4219"/>
                  </a:lnTo>
                  <a:cubicBezTo>
                    <a:pt x="34" y="4228"/>
                    <a:pt x="26" y="4236"/>
                    <a:pt x="17" y="4236"/>
                  </a:cubicBezTo>
                  <a:cubicBezTo>
                    <a:pt x="8" y="4236"/>
                    <a:pt x="1" y="4228"/>
                    <a:pt x="1" y="4219"/>
                  </a:cubicBezTo>
                  <a:close/>
                  <a:moveTo>
                    <a:pt x="1" y="4152"/>
                  </a:moveTo>
                  <a:lnTo>
                    <a:pt x="1" y="4152"/>
                  </a:lnTo>
                  <a:cubicBezTo>
                    <a:pt x="1" y="4143"/>
                    <a:pt x="8" y="4135"/>
                    <a:pt x="17" y="4135"/>
                  </a:cubicBezTo>
                  <a:cubicBezTo>
                    <a:pt x="26" y="4135"/>
                    <a:pt x="34" y="4143"/>
                    <a:pt x="34" y="4152"/>
                  </a:cubicBezTo>
                  <a:lnTo>
                    <a:pt x="34" y="4152"/>
                  </a:lnTo>
                  <a:cubicBezTo>
                    <a:pt x="34" y="4161"/>
                    <a:pt x="26" y="4169"/>
                    <a:pt x="17" y="4169"/>
                  </a:cubicBezTo>
                  <a:cubicBezTo>
                    <a:pt x="8" y="4169"/>
                    <a:pt x="1" y="4161"/>
                    <a:pt x="1" y="4152"/>
                  </a:cubicBezTo>
                  <a:close/>
                  <a:moveTo>
                    <a:pt x="1" y="4085"/>
                  </a:moveTo>
                  <a:lnTo>
                    <a:pt x="1" y="4085"/>
                  </a:lnTo>
                  <a:cubicBezTo>
                    <a:pt x="1" y="4076"/>
                    <a:pt x="8" y="4069"/>
                    <a:pt x="17" y="4069"/>
                  </a:cubicBezTo>
                  <a:cubicBezTo>
                    <a:pt x="27" y="4069"/>
                    <a:pt x="34" y="4076"/>
                    <a:pt x="34" y="4085"/>
                  </a:cubicBezTo>
                  <a:lnTo>
                    <a:pt x="34" y="4085"/>
                  </a:lnTo>
                  <a:cubicBezTo>
                    <a:pt x="34" y="4095"/>
                    <a:pt x="27" y="4102"/>
                    <a:pt x="17" y="4102"/>
                  </a:cubicBezTo>
                  <a:cubicBezTo>
                    <a:pt x="8" y="4102"/>
                    <a:pt x="1" y="4095"/>
                    <a:pt x="1" y="4085"/>
                  </a:cubicBezTo>
                  <a:close/>
                  <a:moveTo>
                    <a:pt x="1" y="4019"/>
                  </a:moveTo>
                  <a:lnTo>
                    <a:pt x="1" y="4019"/>
                  </a:lnTo>
                  <a:cubicBezTo>
                    <a:pt x="1" y="4009"/>
                    <a:pt x="8" y="4002"/>
                    <a:pt x="17" y="4002"/>
                  </a:cubicBezTo>
                  <a:cubicBezTo>
                    <a:pt x="27" y="4002"/>
                    <a:pt x="34" y="4009"/>
                    <a:pt x="34" y="4019"/>
                  </a:cubicBezTo>
                  <a:lnTo>
                    <a:pt x="34" y="4019"/>
                  </a:lnTo>
                  <a:cubicBezTo>
                    <a:pt x="34" y="4028"/>
                    <a:pt x="27" y="4035"/>
                    <a:pt x="17" y="4035"/>
                  </a:cubicBezTo>
                  <a:cubicBezTo>
                    <a:pt x="8" y="4035"/>
                    <a:pt x="1" y="4028"/>
                    <a:pt x="1" y="4019"/>
                  </a:cubicBezTo>
                  <a:close/>
                  <a:moveTo>
                    <a:pt x="1" y="3952"/>
                  </a:moveTo>
                  <a:lnTo>
                    <a:pt x="1" y="3952"/>
                  </a:lnTo>
                  <a:cubicBezTo>
                    <a:pt x="1" y="3943"/>
                    <a:pt x="8" y="3935"/>
                    <a:pt x="18" y="3935"/>
                  </a:cubicBezTo>
                  <a:cubicBezTo>
                    <a:pt x="27" y="3935"/>
                    <a:pt x="34" y="3943"/>
                    <a:pt x="34" y="3952"/>
                  </a:cubicBezTo>
                  <a:lnTo>
                    <a:pt x="34" y="3952"/>
                  </a:lnTo>
                  <a:cubicBezTo>
                    <a:pt x="34" y="3961"/>
                    <a:pt x="27" y="3969"/>
                    <a:pt x="18" y="3969"/>
                  </a:cubicBezTo>
                  <a:cubicBezTo>
                    <a:pt x="8" y="3969"/>
                    <a:pt x="1" y="3961"/>
                    <a:pt x="1" y="3952"/>
                  </a:cubicBezTo>
                  <a:close/>
                  <a:moveTo>
                    <a:pt x="1" y="3885"/>
                  </a:moveTo>
                  <a:lnTo>
                    <a:pt x="1" y="3885"/>
                  </a:lnTo>
                  <a:cubicBezTo>
                    <a:pt x="1" y="3876"/>
                    <a:pt x="8" y="3869"/>
                    <a:pt x="18" y="3869"/>
                  </a:cubicBezTo>
                  <a:cubicBezTo>
                    <a:pt x="27" y="3869"/>
                    <a:pt x="34" y="3876"/>
                    <a:pt x="34" y="3885"/>
                  </a:cubicBezTo>
                  <a:lnTo>
                    <a:pt x="34" y="3885"/>
                  </a:lnTo>
                  <a:cubicBezTo>
                    <a:pt x="34" y="3895"/>
                    <a:pt x="27" y="3902"/>
                    <a:pt x="18" y="3902"/>
                  </a:cubicBezTo>
                  <a:cubicBezTo>
                    <a:pt x="8" y="3902"/>
                    <a:pt x="1" y="3895"/>
                    <a:pt x="1" y="3885"/>
                  </a:cubicBezTo>
                  <a:close/>
                  <a:moveTo>
                    <a:pt x="1" y="3819"/>
                  </a:moveTo>
                  <a:lnTo>
                    <a:pt x="1" y="3819"/>
                  </a:lnTo>
                  <a:cubicBezTo>
                    <a:pt x="1" y="3809"/>
                    <a:pt x="9" y="3802"/>
                    <a:pt x="18" y="3802"/>
                  </a:cubicBezTo>
                  <a:cubicBezTo>
                    <a:pt x="27" y="3802"/>
                    <a:pt x="34" y="3809"/>
                    <a:pt x="34" y="3819"/>
                  </a:cubicBezTo>
                  <a:lnTo>
                    <a:pt x="34" y="3819"/>
                  </a:lnTo>
                  <a:cubicBezTo>
                    <a:pt x="34" y="3828"/>
                    <a:pt x="27" y="3835"/>
                    <a:pt x="18" y="3835"/>
                  </a:cubicBezTo>
                  <a:cubicBezTo>
                    <a:pt x="9" y="3835"/>
                    <a:pt x="1" y="3828"/>
                    <a:pt x="1" y="3819"/>
                  </a:cubicBezTo>
                  <a:close/>
                  <a:moveTo>
                    <a:pt x="1" y="3752"/>
                  </a:moveTo>
                  <a:lnTo>
                    <a:pt x="1" y="3752"/>
                  </a:lnTo>
                  <a:cubicBezTo>
                    <a:pt x="1" y="3743"/>
                    <a:pt x="9" y="3735"/>
                    <a:pt x="18" y="3735"/>
                  </a:cubicBezTo>
                  <a:cubicBezTo>
                    <a:pt x="27" y="3735"/>
                    <a:pt x="35" y="3743"/>
                    <a:pt x="35" y="3752"/>
                  </a:cubicBezTo>
                  <a:lnTo>
                    <a:pt x="35" y="3752"/>
                  </a:lnTo>
                  <a:cubicBezTo>
                    <a:pt x="35" y="3761"/>
                    <a:pt x="27" y="3769"/>
                    <a:pt x="18" y="3769"/>
                  </a:cubicBezTo>
                  <a:cubicBezTo>
                    <a:pt x="9" y="3769"/>
                    <a:pt x="1" y="3761"/>
                    <a:pt x="1" y="3752"/>
                  </a:cubicBezTo>
                  <a:close/>
                  <a:moveTo>
                    <a:pt x="1" y="3685"/>
                  </a:moveTo>
                  <a:lnTo>
                    <a:pt x="1" y="3685"/>
                  </a:lnTo>
                  <a:cubicBezTo>
                    <a:pt x="1" y="3676"/>
                    <a:pt x="9" y="3669"/>
                    <a:pt x="18" y="3669"/>
                  </a:cubicBezTo>
                  <a:cubicBezTo>
                    <a:pt x="27" y="3669"/>
                    <a:pt x="35" y="3676"/>
                    <a:pt x="35" y="3685"/>
                  </a:cubicBezTo>
                  <a:lnTo>
                    <a:pt x="35" y="3685"/>
                  </a:lnTo>
                  <a:cubicBezTo>
                    <a:pt x="35" y="3694"/>
                    <a:pt x="27" y="3702"/>
                    <a:pt x="18" y="3702"/>
                  </a:cubicBezTo>
                  <a:cubicBezTo>
                    <a:pt x="9" y="3702"/>
                    <a:pt x="1" y="3694"/>
                    <a:pt x="1" y="3685"/>
                  </a:cubicBezTo>
                  <a:close/>
                  <a:moveTo>
                    <a:pt x="1" y="3619"/>
                  </a:moveTo>
                  <a:lnTo>
                    <a:pt x="1" y="3618"/>
                  </a:lnTo>
                  <a:cubicBezTo>
                    <a:pt x="1" y="3609"/>
                    <a:pt x="9" y="3602"/>
                    <a:pt x="18" y="3602"/>
                  </a:cubicBezTo>
                  <a:cubicBezTo>
                    <a:pt x="27" y="3602"/>
                    <a:pt x="35" y="3609"/>
                    <a:pt x="35" y="3618"/>
                  </a:cubicBezTo>
                  <a:lnTo>
                    <a:pt x="35" y="3619"/>
                  </a:lnTo>
                  <a:cubicBezTo>
                    <a:pt x="35" y="3628"/>
                    <a:pt x="27" y="3635"/>
                    <a:pt x="18" y="3635"/>
                  </a:cubicBezTo>
                  <a:cubicBezTo>
                    <a:pt x="9" y="3635"/>
                    <a:pt x="1" y="3628"/>
                    <a:pt x="1" y="3619"/>
                  </a:cubicBezTo>
                  <a:close/>
                  <a:moveTo>
                    <a:pt x="1" y="3552"/>
                  </a:moveTo>
                  <a:lnTo>
                    <a:pt x="1" y="3552"/>
                  </a:lnTo>
                  <a:cubicBezTo>
                    <a:pt x="1" y="3543"/>
                    <a:pt x="9" y="3535"/>
                    <a:pt x="18" y="3535"/>
                  </a:cubicBezTo>
                  <a:cubicBezTo>
                    <a:pt x="27" y="3535"/>
                    <a:pt x="35" y="3543"/>
                    <a:pt x="35" y="3552"/>
                  </a:cubicBezTo>
                  <a:lnTo>
                    <a:pt x="35" y="3552"/>
                  </a:lnTo>
                  <a:cubicBezTo>
                    <a:pt x="35" y="3561"/>
                    <a:pt x="27" y="3568"/>
                    <a:pt x="18" y="3568"/>
                  </a:cubicBezTo>
                  <a:cubicBezTo>
                    <a:pt x="9" y="3568"/>
                    <a:pt x="1" y="3561"/>
                    <a:pt x="1" y="3552"/>
                  </a:cubicBezTo>
                  <a:close/>
                  <a:moveTo>
                    <a:pt x="2" y="3485"/>
                  </a:moveTo>
                  <a:lnTo>
                    <a:pt x="2" y="3485"/>
                  </a:lnTo>
                  <a:cubicBezTo>
                    <a:pt x="2" y="3476"/>
                    <a:pt x="9" y="3468"/>
                    <a:pt x="18" y="3468"/>
                  </a:cubicBezTo>
                  <a:cubicBezTo>
                    <a:pt x="27" y="3468"/>
                    <a:pt x="35" y="3476"/>
                    <a:pt x="35" y="3485"/>
                  </a:cubicBezTo>
                  <a:lnTo>
                    <a:pt x="35" y="3485"/>
                  </a:lnTo>
                  <a:cubicBezTo>
                    <a:pt x="35" y="3494"/>
                    <a:pt x="27" y="3502"/>
                    <a:pt x="18" y="3502"/>
                  </a:cubicBezTo>
                  <a:cubicBezTo>
                    <a:pt x="9" y="3502"/>
                    <a:pt x="2" y="3494"/>
                    <a:pt x="2" y="3485"/>
                  </a:cubicBezTo>
                  <a:close/>
                  <a:moveTo>
                    <a:pt x="2" y="3418"/>
                  </a:moveTo>
                  <a:lnTo>
                    <a:pt x="2" y="3418"/>
                  </a:lnTo>
                  <a:cubicBezTo>
                    <a:pt x="2" y="3409"/>
                    <a:pt x="9" y="3402"/>
                    <a:pt x="18" y="3402"/>
                  </a:cubicBezTo>
                  <a:cubicBezTo>
                    <a:pt x="28" y="3402"/>
                    <a:pt x="35" y="3409"/>
                    <a:pt x="35" y="3418"/>
                  </a:cubicBezTo>
                  <a:lnTo>
                    <a:pt x="35" y="3418"/>
                  </a:lnTo>
                  <a:cubicBezTo>
                    <a:pt x="35" y="3428"/>
                    <a:pt x="28" y="3435"/>
                    <a:pt x="18" y="3435"/>
                  </a:cubicBezTo>
                  <a:cubicBezTo>
                    <a:pt x="9" y="3435"/>
                    <a:pt x="2" y="3428"/>
                    <a:pt x="2" y="3418"/>
                  </a:cubicBezTo>
                  <a:close/>
                  <a:moveTo>
                    <a:pt x="2" y="3352"/>
                  </a:moveTo>
                  <a:lnTo>
                    <a:pt x="2" y="3352"/>
                  </a:lnTo>
                  <a:cubicBezTo>
                    <a:pt x="2" y="3342"/>
                    <a:pt x="9" y="3335"/>
                    <a:pt x="18" y="3335"/>
                  </a:cubicBezTo>
                  <a:cubicBezTo>
                    <a:pt x="28" y="3335"/>
                    <a:pt x="35" y="3342"/>
                    <a:pt x="35" y="3352"/>
                  </a:cubicBezTo>
                  <a:lnTo>
                    <a:pt x="35" y="3352"/>
                  </a:lnTo>
                  <a:cubicBezTo>
                    <a:pt x="35" y="3361"/>
                    <a:pt x="28" y="3368"/>
                    <a:pt x="18" y="3368"/>
                  </a:cubicBezTo>
                  <a:cubicBezTo>
                    <a:pt x="9" y="3368"/>
                    <a:pt x="2" y="3361"/>
                    <a:pt x="2" y="3352"/>
                  </a:cubicBezTo>
                  <a:close/>
                  <a:moveTo>
                    <a:pt x="2" y="3285"/>
                  </a:moveTo>
                  <a:lnTo>
                    <a:pt x="2" y="3285"/>
                  </a:lnTo>
                  <a:cubicBezTo>
                    <a:pt x="2" y="3276"/>
                    <a:pt x="9" y="3268"/>
                    <a:pt x="18" y="3268"/>
                  </a:cubicBezTo>
                  <a:cubicBezTo>
                    <a:pt x="28" y="3268"/>
                    <a:pt x="35" y="3276"/>
                    <a:pt x="35" y="3285"/>
                  </a:cubicBezTo>
                  <a:lnTo>
                    <a:pt x="35" y="3285"/>
                  </a:lnTo>
                  <a:cubicBezTo>
                    <a:pt x="35" y="3294"/>
                    <a:pt x="28" y="3302"/>
                    <a:pt x="18" y="3302"/>
                  </a:cubicBezTo>
                  <a:cubicBezTo>
                    <a:pt x="9" y="3302"/>
                    <a:pt x="2" y="3294"/>
                    <a:pt x="2" y="3285"/>
                  </a:cubicBezTo>
                  <a:close/>
                  <a:moveTo>
                    <a:pt x="2" y="3218"/>
                  </a:moveTo>
                  <a:lnTo>
                    <a:pt x="2" y="3218"/>
                  </a:lnTo>
                  <a:cubicBezTo>
                    <a:pt x="2" y="3209"/>
                    <a:pt x="9" y="3202"/>
                    <a:pt x="19" y="3202"/>
                  </a:cubicBezTo>
                  <a:cubicBezTo>
                    <a:pt x="28" y="3202"/>
                    <a:pt x="35" y="3209"/>
                    <a:pt x="35" y="3218"/>
                  </a:cubicBezTo>
                  <a:lnTo>
                    <a:pt x="35" y="3218"/>
                  </a:lnTo>
                  <a:cubicBezTo>
                    <a:pt x="35" y="3228"/>
                    <a:pt x="28" y="3235"/>
                    <a:pt x="19" y="3235"/>
                  </a:cubicBezTo>
                  <a:cubicBezTo>
                    <a:pt x="9" y="3235"/>
                    <a:pt x="2" y="3228"/>
                    <a:pt x="2" y="3218"/>
                  </a:cubicBezTo>
                  <a:close/>
                  <a:moveTo>
                    <a:pt x="2" y="3152"/>
                  </a:moveTo>
                  <a:lnTo>
                    <a:pt x="2" y="3152"/>
                  </a:lnTo>
                  <a:cubicBezTo>
                    <a:pt x="2" y="3142"/>
                    <a:pt x="9" y="3135"/>
                    <a:pt x="19" y="3135"/>
                  </a:cubicBezTo>
                  <a:cubicBezTo>
                    <a:pt x="28" y="3135"/>
                    <a:pt x="35" y="3142"/>
                    <a:pt x="35" y="3152"/>
                  </a:cubicBezTo>
                  <a:lnTo>
                    <a:pt x="35" y="3152"/>
                  </a:lnTo>
                  <a:cubicBezTo>
                    <a:pt x="35" y="3161"/>
                    <a:pt x="28" y="3168"/>
                    <a:pt x="19" y="3168"/>
                  </a:cubicBezTo>
                  <a:cubicBezTo>
                    <a:pt x="9" y="3168"/>
                    <a:pt x="2" y="3161"/>
                    <a:pt x="2" y="3152"/>
                  </a:cubicBezTo>
                  <a:close/>
                  <a:moveTo>
                    <a:pt x="2" y="3085"/>
                  </a:moveTo>
                  <a:lnTo>
                    <a:pt x="2" y="3085"/>
                  </a:lnTo>
                  <a:cubicBezTo>
                    <a:pt x="2" y="3076"/>
                    <a:pt x="10" y="3068"/>
                    <a:pt x="19" y="3068"/>
                  </a:cubicBezTo>
                  <a:cubicBezTo>
                    <a:pt x="28" y="3068"/>
                    <a:pt x="35" y="3076"/>
                    <a:pt x="35" y="3085"/>
                  </a:cubicBezTo>
                  <a:lnTo>
                    <a:pt x="35" y="3085"/>
                  </a:lnTo>
                  <a:cubicBezTo>
                    <a:pt x="35" y="3094"/>
                    <a:pt x="28" y="3102"/>
                    <a:pt x="19" y="3102"/>
                  </a:cubicBezTo>
                  <a:cubicBezTo>
                    <a:pt x="10" y="3102"/>
                    <a:pt x="2" y="3094"/>
                    <a:pt x="2" y="3085"/>
                  </a:cubicBezTo>
                  <a:close/>
                  <a:moveTo>
                    <a:pt x="2" y="3018"/>
                  </a:moveTo>
                  <a:lnTo>
                    <a:pt x="2" y="3018"/>
                  </a:lnTo>
                  <a:cubicBezTo>
                    <a:pt x="2" y="3009"/>
                    <a:pt x="10" y="3002"/>
                    <a:pt x="19" y="3002"/>
                  </a:cubicBezTo>
                  <a:cubicBezTo>
                    <a:pt x="28" y="3002"/>
                    <a:pt x="36" y="3009"/>
                    <a:pt x="36" y="3018"/>
                  </a:cubicBezTo>
                  <a:lnTo>
                    <a:pt x="36" y="3018"/>
                  </a:lnTo>
                  <a:cubicBezTo>
                    <a:pt x="36" y="3027"/>
                    <a:pt x="28" y="3035"/>
                    <a:pt x="19" y="3035"/>
                  </a:cubicBezTo>
                  <a:cubicBezTo>
                    <a:pt x="10" y="3035"/>
                    <a:pt x="2" y="3027"/>
                    <a:pt x="2" y="3018"/>
                  </a:cubicBezTo>
                  <a:close/>
                  <a:moveTo>
                    <a:pt x="2" y="2952"/>
                  </a:moveTo>
                  <a:lnTo>
                    <a:pt x="2" y="2951"/>
                  </a:lnTo>
                  <a:cubicBezTo>
                    <a:pt x="2" y="2942"/>
                    <a:pt x="10" y="2935"/>
                    <a:pt x="19" y="2935"/>
                  </a:cubicBezTo>
                  <a:cubicBezTo>
                    <a:pt x="28" y="2935"/>
                    <a:pt x="36" y="2942"/>
                    <a:pt x="36" y="2951"/>
                  </a:cubicBezTo>
                  <a:lnTo>
                    <a:pt x="36" y="2952"/>
                  </a:lnTo>
                  <a:cubicBezTo>
                    <a:pt x="36" y="2961"/>
                    <a:pt x="28" y="2968"/>
                    <a:pt x="19" y="2968"/>
                  </a:cubicBezTo>
                  <a:cubicBezTo>
                    <a:pt x="10" y="2968"/>
                    <a:pt x="2" y="2961"/>
                    <a:pt x="2" y="2952"/>
                  </a:cubicBezTo>
                  <a:close/>
                  <a:moveTo>
                    <a:pt x="2" y="2885"/>
                  </a:moveTo>
                  <a:lnTo>
                    <a:pt x="2" y="2885"/>
                  </a:lnTo>
                  <a:cubicBezTo>
                    <a:pt x="2" y="2876"/>
                    <a:pt x="10" y="2868"/>
                    <a:pt x="19" y="2868"/>
                  </a:cubicBezTo>
                  <a:cubicBezTo>
                    <a:pt x="28" y="2868"/>
                    <a:pt x="36" y="2876"/>
                    <a:pt x="36" y="2885"/>
                  </a:cubicBezTo>
                  <a:lnTo>
                    <a:pt x="36" y="2885"/>
                  </a:lnTo>
                  <a:cubicBezTo>
                    <a:pt x="36" y="2894"/>
                    <a:pt x="28" y="2901"/>
                    <a:pt x="19" y="2901"/>
                  </a:cubicBezTo>
                  <a:cubicBezTo>
                    <a:pt x="10" y="2901"/>
                    <a:pt x="2" y="2894"/>
                    <a:pt x="2" y="2885"/>
                  </a:cubicBezTo>
                  <a:close/>
                  <a:moveTo>
                    <a:pt x="2" y="2818"/>
                  </a:moveTo>
                  <a:lnTo>
                    <a:pt x="2" y="2818"/>
                  </a:lnTo>
                  <a:cubicBezTo>
                    <a:pt x="2" y="2809"/>
                    <a:pt x="10" y="2801"/>
                    <a:pt x="19" y="2801"/>
                  </a:cubicBezTo>
                  <a:cubicBezTo>
                    <a:pt x="28" y="2801"/>
                    <a:pt x="36" y="2809"/>
                    <a:pt x="36" y="2818"/>
                  </a:cubicBezTo>
                  <a:lnTo>
                    <a:pt x="36" y="2818"/>
                  </a:lnTo>
                  <a:cubicBezTo>
                    <a:pt x="36" y="2827"/>
                    <a:pt x="28" y="2835"/>
                    <a:pt x="19" y="2835"/>
                  </a:cubicBezTo>
                  <a:cubicBezTo>
                    <a:pt x="10" y="2835"/>
                    <a:pt x="2" y="2827"/>
                    <a:pt x="2" y="2818"/>
                  </a:cubicBezTo>
                  <a:close/>
                  <a:moveTo>
                    <a:pt x="3" y="2751"/>
                  </a:moveTo>
                  <a:lnTo>
                    <a:pt x="3" y="2751"/>
                  </a:lnTo>
                  <a:cubicBezTo>
                    <a:pt x="3" y="2742"/>
                    <a:pt x="10" y="2735"/>
                    <a:pt x="19" y="2735"/>
                  </a:cubicBezTo>
                  <a:cubicBezTo>
                    <a:pt x="28" y="2735"/>
                    <a:pt x="36" y="2742"/>
                    <a:pt x="36" y="2751"/>
                  </a:cubicBezTo>
                  <a:lnTo>
                    <a:pt x="36" y="2751"/>
                  </a:lnTo>
                  <a:cubicBezTo>
                    <a:pt x="36" y="2761"/>
                    <a:pt x="28" y="2768"/>
                    <a:pt x="19" y="2768"/>
                  </a:cubicBezTo>
                  <a:cubicBezTo>
                    <a:pt x="10" y="2768"/>
                    <a:pt x="3" y="2761"/>
                    <a:pt x="3" y="2751"/>
                  </a:cubicBezTo>
                  <a:close/>
                  <a:moveTo>
                    <a:pt x="3" y="2685"/>
                  </a:moveTo>
                  <a:lnTo>
                    <a:pt x="3" y="2685"/>
                  </a:lnTo>
                  <a:cubicBezTo>
                    <a:pt x="3" y="2675"/>
                    <a:pt x="10" y="2668"/>
                    <a:pt x="19" y="2668"/>
                  </a:cubicBezTo>
                  <a:cubicBezTo>
                    <a:pt x="29" y="2668"/>
                    <a:pt x="36" y="2675"/>
                    <a:pt x="36" y="2685"/>
                  </a:cubicBezTo>
                  <a:lnTo>
                    <a:pt x="36" y="2685"/>
                  </a:lnTo>
                  <a:cubicBezTo>
                    <a:pt x="36" y="2694"/>
                    <a:pt x="29" y="2701"/>
                    <a:pt x="19" y="2701"/>
                  </a:cubicBezTo>
                  <a:cubicBezTo>
                    <a:pt x="10" y="2701"/>
                    <a:pt x="3" y="2694"/>
                    <a:pt x="3" y="2685"/>
                  </a:cubicBezTo>
                  <a:close/>
                  <a:moveTo>
                    <a:pt x="3" y="2618"/>
                  </a:moveTo>
                  <a:lnTo>
                    <a:pt x="3" y="2618"/>
                  </a:lnTo>
                  <a:cubicBezTo>
                    <a:pt x="3" y="2609"/>
                    <a:pt x="10" y="2601"/>
                    <a:pt x="19" y="2601"/>
                  </a:cubicBezTo>
                  <a:cubicBezTo>
                    <a:pt x="29" y="2601"/>
                    <a:pt x="36" y="2609"/>
                    <a:pt x="36" y="2618"/>
                  </a:cubicBezTo>
                  <a:lnTo>
                    <a:pt x="36" y="2618"/>
                  </a:lnTo>
                  <a:cubicBezTo>
                    <a:pt x="36" y="2627"/>
                    <a:pt x="29" y="2635"/>
                    <a:pt x="19" y="2635"/>
                  </a:cubicBezTo>
                  <a:cubicBezTo>
                    <a:pt x="10" y="2635"/>
                    <a:pt x="3" y="2627"/>
                    <a:pt x="3" y="2618"/>
                  </a:cubicBezTo>
                  <a:close/>
                  <a:moveTo>
                    <a:pt x="3" y="2551"/>
                  </a:moveTo>
                  <a:lnTo>
                    <a:pt x="3" y="2551"/>
                  </a:lnTo>
                  <a:cubicBezTo>
                    <a:pt x="3" y="2542"/>
                    <a:pt x="10" y="2535"/>
                    <a:pt x="20" y="2535"/>
                  </a:cubicBezTo>
                  <a:cubicBezTo>
                    <a:pt x="29" y="2535"/>
                    <a:pt x="36" y="2542"/>
                    <a:pt x="36" y="2551"/>
                  </a:cubicBezTo>
                  <a:lnTo>
                    <a:pt x="36" y="2551"/>
                  </a:lnTo>
                  <a:cubicBezTo>
                    <a:pt x="36" y="2561"/>
                    <a:pt x="29" y="2568"/>
                    <a:pt x="20" y="2568"/>
                  </a:cubicBezTo>
                  <a:cubicBezTo>
                    <a:pt x="10" y="2568"/>
                    <a:pt x="3" y="2561"/>
                    <a:pt x="3" y="2551"/>
                  </a:cubicBezTo>
                  <a:close/>
                  <a:moveTo>
                    <a:pt x="3" y="2485"/>
                  </a:moveTo>
                  <a:lnTo>
                    <a:pt x="3" y="2485"/>
                  </a:lnTo>
                  <a:cubicBezTo>
                    <a:pt x="3" y="2475"/>
                    <a:pt x="10" y="2468"/>
                    <a:pt x="20" y="2468"/>
                  </a:cubicBezTo>
                  <a:cubicBezTo>
                    <a:pt x="29" y="2468"/>
                    <a:pt x="36" y="2475"/>
                    <a:pt x="36" y="2485"/>
                  </a:cubicBezTo>
                  <a:lnTo>
                    <a:pt x="36" y="2485"/>
                  </a:lnTo>
                  <a:cubicBezTo>
                    <a:pt x="36" y="2494"/>
                    <a:pt x="29" y="2501"/>
                    <a:pt x="20" y="2501"/>
                  </a:cubicBezTo>
                  <a:cubicBezTo>
                    <a:pt x="10" y="2501"/>
                    <a:pt x="3" y="2494"/>
                    <a:pt x="3" y="2485"/>
                  </a:cubicBezTo>
                  <a:close/>
                  <a:moveTo>
                    <a:pt x="3" y="2418"/>
                  </a:moveTo>
                  <a:lnTo>
                    <a:pt x="3" y="2418"/>
                  </a:lnTo>
                  <a:cubicBezTo>
                    <a:pt x="3" y="2409"/>
                    <a:pt x="10" y="2401"/>
                    <a:pt x="20" y="2401"/>
                  </a:cubicBezTo>
                  <a:cubicBezTo>
                    <a:pt x="29" y="2401"/>
                    <a:pt x="36" y="2409"/>
                    <a:pt x="36" y="2418"/>
                  </a:cubicBezTo>
                  <a:lnTo>
                    <a:pt x="36" y="2418"/>
                  </a:lnTo>
                  <a:cubicBezTo>
                    <a:pt x="36" y="2427"/>
                    <a:pt x="29" y="2435"/>
                    <a:pt x="20" y="2435"/>
                  </a:cubicBezTo>
                  <a:cubicBezTo>
                    <a:pt x="10" y="2435"/>
                    <a:pt x="3" y="2427"/>
                    <a:pt x="3" y="2418"/>
                  </a:cubicBezTo>
                  <a:close/>
                  <a:moveTo>
                    <a:pt x="3" y="2351"/>
                  </a:moveTo>
                  <a:lnTo>
                    <a:pt x="3" y="2351"/>
                  </a:lnTo>
                  <a:cubicBezTo>
                    <a:pt x="3" y="2342"/>
                    <a:pt x="11" y="2334"/>
                    <a:pt x="20" y="2334"/>
                  </a:cubicBezTo>
                  <a:cubicBezTo>
                    <a:pt x="29" y="2334"/>
                    <a:pt x="36" y="2342"/>
                    <a:pt x="36" y="2351"/>
                  </a:cubicBezTo>
                  <a:lnTo>
                    <a:pt x="36" y="2351"/>
                  </a:lnTo>
                  <a:cubicBezTo>
                    <a:pt x="36" y="2360"/>
                    <a:pt x="29" y="2368"/>
                    <a:pt x="20" y="2368"/>
                  </a:cubicBezTo>
                  <a:cubicBezTo>
                    <a:pt x="11" y="2368"/>
                    <a:pt x="3" y="2360"/>
                    <a:pt x="3" y="2351"/>
                  </a:cubicBezTo>
                  <a:close/>
                  <a:moveTo>
                    <a:pt x="3" y="2285"/>
                  </a:moveTo>
                  <a:lnTo>
                    <a:pt x="3" y="2284"/>
                  </a:lnTo>
                  <a:cubicBezTo>
                    <a:pt x="3" y="2275"/>
                    <a:pt x="11" y="2268"/>
                    <a:pt x="20" y="2268"/>
                  </a:cubicBezTo>
                  <a:cubicBezTo>
                    <a:pt x="29" y="2268"/>
                    <a:pt x="37" y="2275"/>
                    <a:pt x="37" y="2284"/>
                  </a:cubicBezTo>
                  <a:lnTo>
                    <a:pt x="37" y="2285"/>
                  </a:lnTo>
                  <a:cubicBezTo>
                    <a:pt x="37" y="2294"/>
                    <a:pt x="29" y="2301"/>
                    <a:pt x="20" y="2301"/>
                  </a:cubicBezTo>
                  <a:cubicBezTo>
                    <a:pt x="11" y="2301"/>
                    <a:pt x="3" y="2294"/>
                    <a:pt x="3" y="2285"/>
                  </a:cubicBezTo>
                  <a:close/>
                  <a:moveTo>
                    <a:pt x="3" y="2218"/>
                  </a:moveTo>
                  <a:lnTo>
                    <a:pt x="3" y="2218"/>
                  </a:lnTo>
                  <a:cubicBezTo>
                    <a:pt x="3" y="2209"/>
                    <a:pt x="11" y="2201"/>
                    <a:pt x="20" y="2201"/>
                  </a:cubicBezTo>
                  <a:cubicBezTo>
                    <a:pt x="29" y="2201"/>
                    <a:pt x="37" y="2209"/>
                    <a:pt x="37" y="2218"/>
                  </a:cubicBezTo>
                  <a:lnTo>
                    <a:pt x="37" y="2218"/>
                  </a:lnTo>
                  <a:cubicBezTo>
                    <a:pt x="37" y="2227"/>
                    <a:pt x="29" y="2234"/>
                    <a:pt x="20" y="2234"/>
                  </a:cubicBezTo>
                  <a:cubicBezTo>
                    <a:pt x="11" y="2234"/>
                    <a:pt x="3" y="2227"/>
                    <a:pt x="3" y="2218"/>
                  </a:cubicBezTo>
                  <a:close/>
                  <a:moveTo>
                    <a:pt x="3" y="2151"/>
                  </a:moveTo>
                  <a:lnTo>
                    <a:pt x="3" y="2151"/>
                  </a:lnTo>
                  <a:cubicBezTo>
                    <a:pt x="3" y="2142"/>
                    <a:pt x="11" y="2134"/>
                    <a:pt x="20" y="2134"/>
                  </a:cubicBezTo>
                  <a:cubicBezTo>
                    <a:pt x="29" y="2134"/>
                    <a:pt x="37" y="2142"/>
                    <a:pt x="37" y="2151"/>
                  </a:cubicBezTo>
                  <a:lnTo>
                    <a:pt x="37" y="2151"/>
                  </a:lnTo>
                  <a:cubicBezTo>
                    <a:pt x="37" y="2160"/>
                    <a:pt x="29" y="2168"/>
                    <a:pt x="20" y="2168"/>
                  </a:cubicBezTo>
                  <a:cubicBezTo>
                    <a:pt x="11" y="2168"/>
                    <a:pt x="3" y="2160"/>
                    <a:pt x="3" y="2151"/>
                  </a:cubicBezTo>
                  <a:close/>
                  <a:moveTo>
                    <a:pt x="4" y="2084"/>
                  </a:moveTo>
                  <a:lnTo>
                    <a:pt x="4" y="2084"/>
                  </a:lnTo>
                  <a:cubicBezTo>
                    <a:pt x="4" y="2075"/>
                    <a:pt x="11" y="2068"/>
                    <a:pt x="20" y="2068"/>
                  </a:cubicBezTo>
                  <a:cubicBezTo>
                    <a:pt x="29" y="2068"/>
                    <a:pt x="37" y="2075"/>
                    <a:pt x="37" y="2084"/>
                  </a:cubicBezTo>
                  <a:lnTo>
                    <a:pt x="37" y="2084"/>
                  </a:lnTo>
                  <a:cubicBezTo>
                    <a:pt x="37" y="2094"/>
                    <a:pt x="29" y="2101"/>
                    <a:pt x="20" y="2101"/>
                  </a:cubicBezTo>
                  <a:cubicBezTo>
                    <a:pt x="11" y="2101"/>
                    <a:pt x="4" y="2094"/>
                    <a:pt x="4" y="2084"/>
                  </a:cubicBezTo>
                  <a:close/>
                  <a:moveTo>
                    <a:pt x="4" y="2018"/>
                  </a:moveTo>
                  <a:lnTo>
                    <a:pt x="4" y="2018"/>
                  </a:lnTo>
                  <a:cubicBezTo>
                    <a:pt x="4" y="2008"/>
                    <a:pt x="11" y="2001"/>
                    <a:pt x="20" y="2001"/>
                  </a:cubicBezTo>
                  <a:cubicBezTo>
                    <a:pt x="29" y="2001"/>
                    <a:pt x="37" y="2008"/>
                    <a:pt x="37" y="2018"/>
                  </a:cubicBezTo>
                  <a:lnTo>
                    <a:pt x="37" y="2018"/>
                  </a:lnTo>
                  <a:cubicBezTo>
                    <a:pt x="37" y="2027"/>
                    <a:pt x="29" y="2034"/>
                    <a:pt x="20" y="2034"/>
                  </a:cubicBezTo>
                  <a:cubicBezTo>
                    <a:pt x="11" y="2034"/>
                    <a:pt x="4" y="2027"/>
                    <a:pt x="4" y="2018"/>
                  </a:cubicBezTo>
                  <a:close/>
                  <a:moveTo>
                    <a:pt x="4" y="1951"/>
                  </a:moveTo>
                  <a:lnTo>
                    <a:pt x="4" y="1951"/>
                  </a:lnTo>
                  <a:cubicBezTo>
                    <a:pt x="4" y="1942"/>
                    <a:pt x="11" y="1934"/>
                    <a:pt x="20" y="1934"/>
                  </a:cubicBezTo>
                  <a:cubicBezTo>
                    <a:pt x="30" y="1934"/>
                    <a:pt x="37" y="1942"/>
                    <a:pt x="37" y="1951"/>
                  </a:cubicBezTo>
                  <a:lnTo>
                    <a:pt x="37" y="1951"/>
                  </a:lnTo>
                  <a:cubicBezTo>
                    <a:pt x="37" y="1960"/>
                    <a:pt x="30" y="1968"/>
                    <a:pt x="20" y="1968"/>
                  </a:cubicBezTo>
                  <a:cubicBezTo>
                    <a:pt x="11" y="1968"/>
                    <a:pt x="4" y="1960"/>
                    <a:pt x="4" y="1951"/>
                  </a:cubicBezTo>
                  <a:close/>
                  <a:moveTo>
                    <a:pt x="4" y="1884"/>
                  </a:moveTo>
                  <a:lnTo>
                    <a:pt x="4" y="1884"/>
                  </a:lnTo>
                  <a:cubicBezTo>
                    <a:pt x="4" y="1875"/>
                    <a:pt x="11" y="1868"/>
                    <a:pt x="20" y="1868"/>
                  </a:cubicBezTo>
                  <a:cubicBezTo>
                    <a:pt x="30" y="1868"/>
                    <a:pt x="37" y="1875"/>
                    <a:pt x="37" y="1884"/>
                  </a:cubicBezTo>
                  <a:lnTo>
                    <a:pt x="37" y="1884"/>
                  </a:lnTo>
                  <a:cubicBezTo>
                    <a:pt x="37" y="1893"/>
                    <a:pt x="30" y="1901"/>
                    <a:pt x="20" y="1901"/>
                  </a:cubicBezTo>
                  <a:cubicBezTo>
                    <a:pt x="11" y="1901"/>
                    <a:pt x="4" y="1893"/>
                    <a:pt x="4" y="1884"/>
                  </a:cubicBezTo>
                  <a:close/>
                  <a:moveTo>
                    <a:pt x="4" y="1818"/>
                  </a:moveTo>
                  <a:lnTo>
                    <a:pt x="4" y="1818"/>
                  </a:lnTo>
                  <a:cubicBezTo>
                    <a:pt x="4" y="1808"/>
                    <a:pt x="11" y="1801"/>
                    <a:pt x="21" y="1801"/>
                  </a:cubicBezTo>
                  <a:cubicBezTo>
                    <a:pt x="30" y="1801"/>
                    <a:pt x="37" y="1808"/>
                    <a:pt x="37" y="1818"/>
                  </a:cubicBezTo>
                  <a:lnTo>
                    <a:pt x="37" y="1818"/>
                  </a:lnTo>
                  <a:cubicBezTo>
                    <a:pt x="37" y="1827"/>
                    <a:pt x="30" y="1834"/>
                    <a:pt x="21" y="1834"/>
                  </a:cubicBezTo>
                  <a:cubicBezTo>
                    <a:pt x="11" y="1834"/>
                    <a:pt x="4" y="1827"/>
                    <a:pt x="4" y="1818"/>
                  </a:cubicBezTo>
                  <a:close/>
                  <a:moveTo>
                    <a:pt x="4" y="1751"/>
                  </a:moveTo>
                  <a:lnTo>
                    <a:pt x="4" y="1751"/>
                  </a:lnTo>
                  <a:cubicBezTo>
                    <a:pt x="4" y="1742"/>
                    <a:pt x="11" y="1734"/>
                    <a:pt x="21" y="1734"/>
                  </a:cubicBezTo>
                  <a:cubicBezTo>
                    <a:pt x="30" y="1734"/>
                    <a:pt x="37" y="1742"/>
                    <a:pt x="37" y="1751"/>
                  </a:cubicBezTo>
                  <a:lnTo>
                    <a:pt x="37" y="1751"/>
                  </a:lnTo>
                  <a:cubicBezTo>
                    <a:pt x="37" y="1760"/>
                    <a:pt x="30" y="1768"/>
                    <a:pt x="21" y="1768"/>
                  </a:cubicBezTo>
                  <a:cubicBezTo>
                    <a:pt x="11" y="1768"/>
                    <a:pt x="4" y="1760"/>
                    <a:pt x="4" y="1751"/>
                  </a:cubicBezTo>
                  <a:close/>
                  <a:moveTo>
                    <a:pt x="4" y="1684"/>
                  </a:moveTo>
                  <a:lnTo>
                    <a:pt x="4" y="1684"/>
                  </a:lnTo>
                  <a:cubicBezTo>
                    <a:pt x="4" y="1675"/>
                    <a:pt x="12" y="1667"/>
                    <a:pt x="21" y="1667"/>
                  </a:cubicBezTo>
                  <a:cubicBezTo>
                    <a:pt x="30" y="1667"/>
                    <a:pt x="37" y="1675"/>
                    <a:pt x="37" y="1684"/>
                  </a:cubicBezTo>
                  <a:lnTo>
                    <a:pt x="37" y="1684"/>
                  </a:lnTo>
                  <a:cubicBezTo>
                    <a:pt x="37" y="1693"/>
                    <a:pt x="30" y="1701"/>
                    <a:pt x="21" y="1701"/>
                  </a:cubicBezTo>
                  <a:cubicBezTo>
                    <a:pt x="12" y="1701"/>
                    <a:pt x="4" y="1693"/>
                    <a:pt x="4" y="1684"/>
                  </a:cubicBezTo>
                  <a:close/>
                  <a:moveTo>
                    <a:pt x="4" y="1617"/>
                  </a:moveTo>
                  <a:lnTo>
                    <a:pt x="4" y="1617"/>
                  </a:lnTo>
                  <a:cubicBezTo>
                    <a:pt x="4" y="1608"/>
                    <a:pt x="12" y="1601"/>
                    <a:pt x="21" y="1601"/>
                  </a:cubicBezTo>
                  <a:cubicBezTo>
                    <a:pt x="30" y="1601"/>
                    <a:pt x="37" y="1608"/>
                    <a:pt x="37" y="1617"/>
                  </a:cubicBezTo>
                  <a:lnTo>
                    <a:pt x="37" y="1617"/>
                  </a:lnTo>
                  <a:cubicBezTo>
                    <a:pt x="37" y="1627"/>
                    <a:pt x="30" y="1634"/>
                    <a:pt x="21" y="1634"/>
                  </a:cubicBezTo>
                  <a:cubicBezTo>
                    <a:pt x="12" y="1634"/>
                    <a:pt x="4" y="1627"/>
                    <a:pt x="4" y="1617"/>
                  </a:cubicBezTo>
                  <a:close/>
                  <a:moveTo>
                    <a:pt x="4" y="1551"/>
                  </a:moveTo>
                  <a:lnTo>
                    <a:pt x="4" y="1551"/>
                  </a:lnTo>
                  <a:cubicBezTo>
                    <a:pt x="4" y="1542"/>
                    <a:pt x="12" y="1534"/>
                    <a:pt x="21" y="1534"/>
                  </a:cubicBezTo>
                  <a:cubicBezTo>
                    <a:pt x="30" y="1534"/>
                    <a:pt x="38" y="1542"/>
                    <a:pt x="38" y="1551"/>
                  </a:cubicBezTo>
                  <a:lnTo>
                    <a:pt x="38" y="1551"/>
                  </a:lnTo>
                  <a:cubicBezTo>
                    <a:pt x="38" y="1560"/>
                    <a:pt x="30" y="1567"/>
                    <a:pt x="21" y="1567"/>
                  </a:cubicBezTo>
                  <a:cubicBezTo>
                    <a:pt x="12" y="1567"/>
                    <a:pt x="4" y="1560"/>
                    <a:pt x="4" y="1551"/>
                  </a:cubicBezTo>
                  <a:close/>
                  <a:moveTo>
                    <a:pt x="4" y="1484"/>
                  </a:moveTo>
                  <a:lnTo>
                    <a:pt x="4" y="1484"/>
                  </a:lnTo>
                  <a:cubicBezTo>
                    <a:pt x="4" y="1475"/>
                    <a:pt x="12" y="1467"/>
                    <a:pt x="21" y="1467"/>
                  </a:cubicBezTo>
                  <a:cubicBezTo>
                    <a:pt x="30" y="1467"/>
                    <a:pt x="38" y="1475"/>
                    <a:pt x="38" y="1484"/>
                  </a:cubicBezTo>
                  <a:lnTo>
                    <a:pt x="38" y="1484"/>
                  </a:lnTo>
                  <a:cubicBezTo>
                    <a:pt x="38" y="1493"/>
                    <a:pt x="30" y="1501"/>
                    <a:pt x="21" y="1501"/>
                  </a:cubicBezTo>
                  <a:cubicBezTo>
                    <a:pt x="12" y="1501"/>
                    <a:pt x="4" y="1493"/>
                    <a:pt x="4" y="1484"/>
                  </a:cubicBezTo>
                  <a:close/>
                  <a:moveTo>
                    <a:pt x="4" y="1417"/>
                  </a:moveTo>
                  <a:lnTo>
                    <a:pt x="4" y="1417"/>
                  </a:lnTo>
                  <a:cubicBezTo>
                    <a:pt x="4" y="1408"/>
                    <a:pt x="12" y="1401"/>
                    <a:pt x="21" y="1401"/>
                  </a:cubicBezTo>
                  <a:cubicBezTo>
                    <a:pt x="30" y="1401"/>
                    <a:pt x="38" y="1408"/>
                    <a:pt x="38" y="1417"/>
                  </a:cubicBezTo>
                  <a:lnTo>
                    <a:pt x="38" y="1417"/>
                  </a:lnTo>
                  <a:cubicBezTo>
                    <a:pt x="38" y="1427"/>
                    <a:pt x="30" y="1434"/>
                    <a:pt x="21" y="1434"/>
                  </a:cubicBezTo>
                  <a:cubicBezTo>
                    <a:pt x="12" y="1434"/>
                    <a:pt x="4" y="1427"/>
                    <a:pt x="4" y="1417"/>
                  </a:cubicBezTo>
                  <a:close/>
                  <a:moveTo>
                    <a:pt x="5" y="1351"/>
                  </a:moveTo>
                  <a:lnTo>
                    <a:pt x="5" y="1351"/>
                  </a:lnTo>
                  <a:cubicBezTo>
                    <a:pt x="5" y="1341"/>
                    <a:pt x="12" y="1334"/>
                    <a:pt x="21" y="1334"/>
                  </a:cubicBezTo>
                  <a:cubicBezTo>
                    <a:pt x="30" y="1334"/>
                    <a:pt x="38" y="1341"/>
                    <a:pt x="38" y="1351"/>
                  </a:cubicBezTo>
                  <a:lnTo>
                    <a:pt x="38" y="1351"/>
                  </a:lnTo>
                  <a:cubicBezTo>
                    <a:pt x="38" y="1360"/>
                    <a:pt x="30" y="1367"/>
                    <a:pt x="21" y="1367"/>
                  </a:cubicBezTo>
                  <a:cubicBezTo>
                    <a:pt x="12" y="1367"/>
                    <a:pt x="5" y="1360"/>
                    <a:pt x="5" y="1351"/>
                  </a:cubicBezTo>
                  <a:close/>
                  <a:moveTo>
                    <a:pt x="5" y="1284"/>
                  </a:moveTo>
                  <a:lnTo>
                    <a:pt x="5" y="1284"/>
                  </a:lnTo>
                  <a:cubicBezTo>
                    <a:pt x="5" y="1275"/>
                    <a:pt x="12" y="1267"/>
                    <a:pt x="21" y="1267"/>
                  </a:cubicBezTo>
                  <a:cubicBezTo>
                    <a:pt x="30" y="1267"/>
                    <a:pt x="38" y="1275"/>
                    <a:pt x="38" y="1284"/>
                  </a:cubicBezTo>
                  <a:lnTo>
                    <a:pt x="38" y="1284"/>
                  </a:lnTo>
                  <a:cubicBezTo>
                    <a:pt x="38" y="1293"/>
                    <a:pt x="30" y="1301"/>
                    <a:pt x="21" y="1301"/>
                  </a:cubicBezTo>
                  <a:cubicBezTo>
                    <a:pt x="12" y="1301"/>
                    <a:pt x="5" y="1293"/>
                    <a:pt x="5" y="1284"/>
                  </a:cubicBezTo>
                  <a:close/>
                  <a:moveTo>
                    <a:pt x="5" y="1217"/>
                  </a:moveTo>
                  <a:lnTo>
                    <a:pt x="5" y="1217"/>
                  </a:lnTo>
                  <a:cubicBezTo>
                    <a:pt x="5" y="1208"/>
                    <a:pt x="12" y="1201"/>
                    <a:pt x="21" y="1201"/>
                  </a:cubicBezTo>
                  <a:cubicBezTo>
                    <a:pt x="31" y="1201"/>
                    <a:pt x="38" y="1208"/>
                    <a:pt x="38" y="1217"/>
                  </a:cubicBezTo>
                  <a:lnTo>
                    <a:pt x="38" y="1217"/>
                  </a:lnTo>
                  <a:cubicBezTo>
                    <a:pt x="38" y="1227"/>
                    <a:pt x="31" y="1234"/>
                    <a:pt x="21" y="1234"/>
                  </a:cubicBezTo>
                  <a:cubicBezTo>
                    <a:pt x="12" y="1234"/>
                    <a:pt x="5" y="1227"/>
                    <a:pt x="5" y="1217"/>
                  </a:cubicBezTo>
                  <a:close/>
                  <a:moveTo>
                    <a:pt x="5" y="1151"/>
                  </a:moveTo>
                  <a:lnTo>
                    <a:pt x="5" y="1151"/>
                  </a:lnTo>
                  <a:cubicBezTo>
                    <a:pt x="5" y="1141"/>
                    <a:pt x="12" y="1134"/>
                    <a:pt x="21" y="1134"/>
                  </a:cubicBezTo>
                  <a:cubicBezTo>
                    <a:pt x="31" y="1134"/>
                    <a:pt x="38" y="1141"/>
                    <a:pt x="38" y="1151"/>
                  </a:cubicBezTo>
                  <a:lnTo>
                    <a:pt x="38" y="1151"/>
                  </a:lnTo>
                  <a:cubicBezTo>
                    <a:pt x="38" y="1160"/>
                    <a:pt x="31" y="1167"/>
                    <a:pt x="21" y="1167"/>
                  </a:cubicBezTo>
                  <a:cubicBezTo>
                    <a:pt x="12" y="1167"/>
                    <a:pt x="5" y="1160"/>
                    <a:pt x="5" y="1151"/>
                  </a:cubicBezTo>
                  <a:close/>
                  <a:moveTo>
                    <a:pt x="5" y="1084"/>
                  </a:moveTo>
                  <a:lnTo>
                    <a:pt x="5" y="1084"/>
                  </a:lnTo>
                  <a:cubicBezTo>
                    <a:pt x="5" y="1075"/>
                    <a:pt x="12" y="1067"/>
                    <a:pt x="22" y="1067"/>
                  </a:cubicBezTo>
                  <a:cubicBezTo>
                    <a:pt x="31" y="1067"/>
                    <a:pt x="38" y="1075"/>
                    <a:pt x="38" y="1084"/>
                  </a:cubicBezTo>
                  <a:lnTo>
                    <a:pt x="38" y="1084"/>
                  </a:lnTo>
                  <a:cubicBezTo>
                    <a:pt x="38" y="1093"/>
                    <a:pt x="31" y="1101"/>
                    <a:pt x="22" y="1101"/>
                  </a:cubicBezTo>
                  <a:cubicBezTo>
                    <a:pt x="12" y="1101"/>
                    <a:pt x="5" y="1093"/>
                    <a:pt x="5" y="1084"/>
                  </a:cubicBezTo>
                  <a:close/>
                  <a:moveTo>
                    <a:pt x="5" y="1017"/>
                  </a:moveTo>
                  <a:lnTo>
                    <a:pt x="5" y="1017"/>
                  </a:lnTo>
                  <a:cubicBezTo>
                    <a:pt x="5" y="1008"/>
                    <a:pt x="12" y="1000"/>
                    <a:pt x="22" y="1000"/>
                  </a:cubicBezTo>
                  <a:cubicBezTo>
                    <a:pt x="31" y="1000"/>
                    <a:pt x="38" y="1008"/>
                    <a:pt x="38" y="1017"/>
                  </a:cubicBezTo>
                  <a:lnTo>
                    <a:pt x="38" y="1017"/>
                  </a:lnTo>
                  <a:cubicBezTo>
                    <a:pt x="38" y="1026"/>
                    <a:pt x="31" y="1034"/>
                    <a:pt x="22" y="1034"/>
                  </a:cubicBezTo>
                  <a:cubicBezTo>
                    <a:pt x="12" y="1034"/>
                    <a:pt x="5" y="1026"/>
                    <a:pt x="5" y="1017"/>
                  </a:cubicBezTo>
                  <a:close/>
                  <a:moveTo>
                    <a:pt x="5" y="951"/>
                  </a:moveTo>
                  <a:lnTo>
                    <a:pt x="5" y="950"/>
                  </a:lnTo>
                  <a:cubicBezTo>
                    <a:pt x="5" y="941"/>
                    <a:pt x="13" y="934"/>
                    <a:pt x="22" y="934"/>
                  </a:cubicBezTo>
                  <a:cubicBezTo>
                    <a:pt x="31" y="934"/>
                    <a:pt x="38" y="941"/>
                    <a:pt x="38" y="950"/>
                  </a:cubicBezTo>
                  <a:lnTo>
                    <a:pt x="38" y="951"/>
                  </a:lnTo>
                  <a:cubicBezTo>
                    <a:pt x="38" y="960"/>
                    <a:pt x="31" y="967"/>
                    <a:pt x="22" y="967"/>
                  </a:cubicBezTo>
                  <a:cubicBezTo>
                    <a:pt x="13" y="967"/>
                    <a:pt x="5" y="960"/>
                    <a:pt x="5" y="951"/>
                  </a:cubicBezTo>
                  <a:close/>
                  <a:moveTo>
                    <a:pt x="5" y="884"/>
                  </a:moveTo>
                  <a:lnTo>
                    <a:pt x="5" y="884"/>
                  </a:lnTo>
                  <a:cubicBezTo>
                    <a:pt x="5" y="875"/>
                    <a:pt x="13" y="867"/>
                    <a:pt x="22" y="867"/>
                  </a:cubicBezTo>
                  <a:cubicBezTo>
                    <a:pt x="31" y="867"/>
                    <a:pt x="39" y="875"/>
                    <a:pt x="39" y="884"/>
                  </a:cubicBezTo>
                  <a:lnTo>
                    <a:pt x="39" y="884"/>
                  </a:lnTo>
                  <a:cubicBezTo>
                    <a:pt x="39" y="893"/>
                    <a:pt x="31" y="900"/>
                    <a:pt x="22" y="900"/>
                  </a:cubicBezTo>
                  <a:cubicBezTo>
                    <a:pt x="13" y="900"/>
                    <a:pt x="5" y="893"/>
                    <a:pt x="5" y="884"/>
                  </a:cubicBezTo>
                  <a:close/>
                  <a:moveTo>
                    <a:pt x="5" y="817"/>
                  </a:moveTo>
                  <a:lnTo>
                    <a:pt x="5" y="817"/>
                  </a:lnTo>
                  <a:cubicBezTo>
                    <a:pt x="5" y="808"/>
                    <a:pt x="13" y="800"/>
                    <a:pt x="22" y="800"/>
                  </a:cubicBezTo>
                  <a:cubicBezTo>
                    <a:pt x="31" y="800"/>
                    <a:pt x="39" y="808"/>
                    <a:pt x="39" y="817"/>
                  </a:cubicBezTo>
                  <a:lnTo>
                    <a:pt x="39" y="817"/>
                  </a:lnTo>
                  <a:cubicBezTo>
                    <a:pt x="39" y="826"/>
                    <a:pt x="31" y="834"/>
                    <a:pt x="22" y="834"/>
                  </a:cubicBezTo>
                  <a:cubicBezTo>
                    <a:pt x="13" y="834"/>
                    <a:pt x="5" y="826"/>
                    <a:pt x="5" y="817"/>
                  </a:cubicBezTo>
                  <a:close/>
                  <a:moveTo>
                    <a:pt x="5" y="750"/>
                  </a:moveTo>
                  <a:lnTo>
                    <a:pt x="5" y="750"/>
                  </a:lnTo>
                  <a:cubicBezTo>
                    <a:pt x="5" y="741"/>
                    <a:pt x="13" y="734"/>
                    <a:pt x="22" y="734"/>
                  </a:cubicBezTo>
                  <a:cubicBezTo>
                    <a:pt x="31" y="734"/>
                    <a:pt x="39" y="741"/>
                    <a:pt x="39" y="750"/>
                  </a:cubicBezTo>
                  <a:lnTo>
                    <a:pt x="39" y="750"/>
                  </a:lnTo>
                  <a:cubicBezTo>
                    <a:pt x="39" y="760"/>
                    <a:pt x="31" y="767"/>
                    <a:pt x="22" y="767"/>
                  </a:cubicBezTo>
                  <a:cubicBezTo>
                    <a:pt x="13" y="767"/>
                    <a:pt x="5" y="760"/>
                    <a:pt x="5" y="750"/>
                  </a:cubicBezTo>
                  <a:close/>
                  <a:moveTo>
                    <a:pt x="5" y="684"/>
                  </a:moveTo>
                  <a:lnTo>
                    <a:pt x="5" y="684"/>
                  </a:lnTo>
                  <a:cubicBezTo>
                    <a:pt x="5" y="674"/>
                    <a:pt x="13" y="667"/>
                    <a:pt x="22" y="667"/>
                  </a:cubicBezTo>
                  <a:cubicBezTo>
                    <a:pt x="31" y="667"/>
                    <a:pt x="39" y="674"/>
                    <a:pt x="39" y="684"/>
                  </a:cubicBezTo>
                  <a:lnTo>
                    <a:pt x="39" y="684"/>
                  </a:lnTo>
                  <a:cubicBezTo>
                    <a:pt x="39" y="693"/>
                    <a:pt x="31" y="700"/>
                    <a:pt x="22" y="700"/>
                  </a:cubicBezTo>
                  <a:cubicBezTo>
                    <a:pt x="13" y="700"/>
                    <a:pt x="5" y="693"/>
                    <a:pt x="5" y="684"/>
                  </a:cubicBezTo>
                  <a:close/>
                  <a:moveTo>
                    <a:pt x="6" y="617"/>
                  </a:moveTo>
                  <a:lnTo>
                    <a:pt x="6" y="617"/>
                  </a:lnTo>
                  <a:cubicBezTo>
                    <a:pt x="6" y="608"/>
                    <a:pt x="13" y="600"/>
                    <a:pt x="22" y="600"/>
                  </a:cubicBezTo>
                  <a:cubicBezTo>
                    <a:pt x="31" y="600"/>
                    <a:pt x="39" y="608"/>
                    <a:pt x="39" y="617"/>
                  </a:cubicBezTo>
                  <a:lnTo>
                    <a:pt x="39" y="617"/>
                  </a:lnTo>
                  <a:cubicBezTo>
                    <a:pt x="39" y="626"/>
                    <a:pt x="31" y="634"/>
                    <a:pt x="22" y="634"/>
                  </a:cubicBezTo>
                  <a:cubicBezTo>
                    <a:pt x="13" y="634"/>
                    <a:pt x="6" y="626"/>
                    <a:pt x="6" y="617"/>
                  </a:cubicBezTo>
                  <a:close/>
                  <a:moveTo>
                    <a:pt x="6" y="550"/>
                  </a:moveTo>
                  <a:lnTo>
                    <a:pt x="6" y="550"/>
                  </a:lnTo>
                  <a:cubicBezTo>
                    <a:pt x="6" y="541"/>
                    <a:pt x="13" y="534"/>
                    <a:pt x="22" y="534"/>
                  </a:cubicBezTo>
                  <a:cubicBezTo>
                    <a:pt x="32" y="534"/>
                    <a:pt x="39" y="541"/>
                    <a:pt x="39" y="550"/>
                  </a:cubicBezTo>
                  <a:lnTo>
                    <a:pt x="39" y="550"/>
                  </a:lnTo>
                  <a:cubicBezTo>
                    <a:pt x="39" y="560"/>
                    <a:pt x="32" y="567"/>
                    <a:pt x="22" y="567"/>
                  </a:cubicBezTo>
                  <a:cubicBezTo>
                    <a:pt x="13" y="567"/>
                    <a:pt x="6" y="560"/>
                    <a:pt x="6" y="550"/>
                  </a:cubicBezTo>
                  <a:close/>
                  <a:moveTo>
                    <a:pt x="6" y="484"/>
                  </a:moveTo>
                  <a:lnTo>
                    <a:pt x="6" y="484"/>
                  </a:lnTo>
                  <a:cubicBezTo>
                    <a:pt x="6" y="474"/>
                    <a:pt x="13" y="467"/>
                    <a:pt x="22" y="467"/>
                  </a:cubicBezTo>
                  <a:cubicBezTo>
                    <a:pt x="32" y="467"/>
                    <a:pt x="39" y="474"/>
                    <a:pt x="39" y="484"/>
                  </a:cubicBezTo>
                  <a:lnTo>
                    <a:pt x="39" y="484"/>
                  </a:lnTo>
                  <a:cubicBezTo>
                    <a:pt x="39" y="493"/>
                    <a:pt x="32" y="500"/>
                    <a:pt x="22" y="500"/>
                  </a:cubicBezTo>
                  <a:cubicBezTo>
                    <a:pt x="13" y="500"/>
                    <a:pt x="6" y="493"/>
                    <a:pt x="6" y="484"/>
                  </a:cubicBezTo>
                  <a:close/>
                  <a:moveTo>
                    <a:pt x="6" y="417"/>
                  </a:moveTo>
                  <a:lnTo>
                    <a:pt x="6" y="417"/>
                  </a:lnTo>
                  <a:cubicBezTo>
                    <a:pt x="6" y="408"/>
                    <a:pt x="13" y="400"/>
                    <a:pt x="22" y="400"/>
                  </a:cubicBezTo>
                  <a:cubicBezTo>
                    <a:pt x="32" y="400"/>
                    <a:pt x="39" y="408"/>
                    <a:pt x="39" y="417"/>
                  </a:cubicBezTo>
                  <a:lnTo>
                    <a:pt x="39" y="417"/>
                  </a:lnTo>
                  <a:cubicBezTo>
                    <a:pt x="39" y="426"/>
                    <a:pt x="32" y="434"/>
                    <a:pt x="22" y="434"/>
                  </a:cubicBezTo>
                  <a:cubicBezTo>
                    <a:pt x="13" y="434"/>
                    <a:pt x="6" y="426"/>
                    <a:pt x="6" y="417"/>
                  </a:cubicBezTo>
                  <a:close/>
                  <a:moveTo>
                    <a:pt x="6" y="350"/>
                  </a:moveTo>
                  <a:lnTo>
                    <a:pt x="6" y="350"/>
                  </a:lnTo>
                  <a:cubicBezTo>
                    <a:pt x="6" y="341"/>
                    <a:pt x="13" y="334"/>
                    <a:pt x="23" y="334"/>
                  </a:cubicBezTo>
                  <a:cubicBezTo>
                    <a:pt x="32" y="334"/>
                    <a:pt x="39" y="341"/>
                    <a:pt x="39" y="350"/>
                  </a:cubicBezTo>
                  <a:lnTo>
                    <a:pt x="39" y="350"/>
                  </a:lnTo>
                  <a:cubicBezTo>
                    <a:pt x="39" y="359"/>
                    <a:pt x="32" y="367"/>
                    <a:pt x="23" y="367"/>
                  </a:cubicBezTo>
                  <a:cubicBezTo>
                    <a:pt x="13" y="367"/>
                    <a:pt x="6" y="359"/>
                    <a:pt x="6" y="350"/>
                  </a:cubicBezTo>
                  <a:close/>
                  <a:moveTo>
                    <a:pt x="6" y="284"/>
                  </a:moveTo>
                  <a:lnTo>
                    <a:pt x="6" y="283"/>
                  </a:lnTo>
                  <a:cubicBezTo>
                    <a:pt x="6" y="274"/>
                    <a:pt x="13" y="267"/>
                    <a:pt x="23" y="267"/>
                  </a:cubicBezTo>
                  <a:cubicBezTo>
                    <a:pt x="32" y="267"/>
                    <a:pt x="39" y="274"/>
                    <a:pt x="39" y="283"/>
                  </a:cubicBezTo>
                  <a:lnTo>
                    <a:pt x="39" y="284"/>
                  </a:lnTo>
                  <a:cubicBezTo>
                    <a:pt x="39" y="293"/>
                    <a:pt x="32" y="300"/>
                    <a:pt x="23" y="300"/>
                  </a:cubicBezTo>
                  <a:cubicBezTo>
                    <a:pt x="13" y="300"/>
                    <a:pt x="6" y="293"/>
                    <a:pt x="6" y="284"/>
                  </a:cubicBezTo>
                  <a:close/>
                  <a:moveTo>
                    <a:pt x="6" y="217"/>
                  </a:moveTo>
                  <a:lnTo>
                    <a:pt x="6" y="217"/>
                  </a:lnTo>
                  <a:cubicBezTo>
                    <a:pt x="6" y="208"/>
                    <a:pt x="14" y="200"/>
                    <a:pt x="23" y="200"/>
                  </a:cubicBezTo>
                  <a:cubicBezTo>
                    <a:pt x="32" y="200"/>
                    <a:pt x="39" y="208"/>
                    <a:pt x="39" y="217"/>
                  </a:cubicBezTo>
                  <a:lnTo>
                    <a:pt x="39" y="217"/>
                  </a:lnTo>
                  <a:cubicBezTo>
                    <a:pt x="39" y="226"/>
                    <a:pt x="32" y="233"/>
                    <a:pt x="23" y="233"/>
                  </a:cubicBezTo>
                  <a:cubicBezTo>
                    <a:pt x="14" y="233"/>
                    <a:pt x="6" y="226"/>
                    <a:pt x="6" y="217"/>
                  </a:cubicBezTo>
                  <a:close/>
                  <a:moveTo>
                    <a:pt x="6" y="150"/>
                  </a:moveTo>
                  <a:lnTo>
                    <a:pt x="6" y="150"/>
                  </a:lnTo>
                  <a:cubicBezTo>
                    <a:pt x="6" y="141"/>
                    <a:pt x="14" y="133"/>
                    <a:pt x="23" y="133"/>
                  </a:cubicBezTo>
                  <a:cubicBezTo>
                    <a:pt x="32" y="133"/>
                    <a:pt x="40" y="141"/>
                    <a:pt x="40" y="150"/>
                  </a:cubicBezTo>
                  <a:lnTo>
                    <a:pt x="40" y="150"/>
                  </a:lnTo>
                  <a:cubicBezTo>
                    <a:pt x="40" y="159"/>
                    <a:pt x="32" y="167"/>
                    <a:pt x="23" y="167"/>
                  </a:cubicBezTo>
                  <a:cubicBezTo>
                    <a:pt x="14" y="167"/>
                    <a:pt x="6" y="159"/>
                    <a:pt x="6" y="150"/>
                  </a:cubicBezTo>
                  <a:close/>
                  <a:moveTo>
                    <a:pt x="6" y="83"/>
                  </a:moveTo>
                  <a:lnTo>
                    <a:pt x="6" y="83"/>
                  </a:lnTo>
                  <a:cubicBezTo>
                    <a:pt x="6" y="74"/>
                    <a:pt x="14" y="67"/>
                    <a:pt x="23" y="67"/>
                  </a:cubicBezTo>
                  <a:cubicBezTo>
                    <a:pt x="32" y="67"/>
                    <a:pt x="40" y="74"/>
                    <a:pt x="40" y="83"/>
                  </a:cubicBezTo>
                  <a:lnTo>
                    <a:pt x="40" y="83"/>
                  </a:lnTo>
                  <a:cubicBezTo>
                    <a:pt x="40" y="93"/>
                    <a:pt x="32" y="100"/>
                    <a:pt x="23" y="100"/>
                  </a:cubicBezTo>
                  <a:cubicBezTo>
                    <a:pt x="14" y="100"/>
                    <a:pt x="6" y="93"/>
                    <a:pt x="6" y="83"/>
                  </a:cubicBezTo>
                  <a:close/>
                  <a:moveTo>
                    <a:pt x="6" y="17"/>
                  </a:moveTo>
                  <a:lnTo>
                    <a:pt x="6" y="17"/>
                  </a:lnTo>
                  <a:cubicBezTo>
                    <a:pt x="6" y="8"/>
                    <a:pt x="14" y="0"/>
                    <a:pt x="23" y="0"/>
                  </a:cubicBezTo>
                  <a:cubicBezTo>
                    <a:pt x="32" y="0"/>
                    <a:pt x="40" y="8"/>
                    <a:pt x="40" y="17"/>
                  </a:cubicBezTo>
                  <a:lnTo>
                    <a:pt x="40" y="17"/>
                  </a:lnTo>
                  <a:cubicBezTo>
                    <a:pt x="40" y="26"/>
                    <a:pt x="32" y="33"/>
                    <a:pt x="23" y="33"/>
                  </a:cubicBezTo>
                  <a:cubicBezTo>
                    <a:pt x="14" y="33"/>
                    <a:pt x="6" y="26"/>
                    <a:pt x="6" y="17"/>
                  </a:cubicBez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564080" y="2260440"/>
              <a:ext cx="3240" cy="454320"/>
            </a:xfrm>
            <a:custGeom>
              <a:avLst/>
              <a:gdLst/>
              <a:ahLst/>
              <a:rect l="l" t="t" r="r" b="b"/>
              <a:pathLst>
                <a:path w="20" h="2385">
                  <a:moveTo>
                    <a:pt x="0" y="2376"/>
                  </a:moveTo>
                  <a:lnTo>
                    <a:pt x="0" y="2376"/>
                  </a:lnTo>
                  <a:cubicBezTo>
                    <a:pt x="0" y="2372"/>
                    <a:pt x="4" y="2368"/>
                    <a:pt x="8" y="2368"/>
                  </a:cubicBezTo>
                  <a:cubicBezTo>
                    <a:pt x="13" y="2368"/>
                    <a:pt x="17" y="2372"/>
                    <a:pt x="17" y="2376"/>
                  </a:cubicBezTo>
                  <a:lnTo>
                    <a:pt x="17" y="2376"/>
                  </a:lnTo>
                  <a:cubicBezTo>
                    <a:pt x="17" y="2381"/>
                    <a:pt x="13" y="2385"/>
                    <a:pt x="8" y="2385"/>
                  </a:cubicBezTo>
                  <a:cubicBezTo>
                    <a:pt x="4" y="2385"/>
                    <a:pt x="0" y="2381"/>
                    <a:pt x="0" y="2376"/>
                  </a:cubicBezTo>
                  <a:close/>
                  <a:moveTo>
                    <a:pt x="0" y="2343"/>
                  </a:moveTo>
                  <a:lnTo>
                    <a:pt x="0" y="2343"/>
                  </a:lnTo>
                  <a:cubicBezTo>
                    <a:pt x="0" y="2338"/>
                    <a:pt x="4" y="2335"/>
                    <a:pt x="9" y="2335"/>
                  </a:cubicBezTo>
                  <a:cubicBezTo>
                    <a:pt x="13" y="2335"/>
                    <a:pt x="17" y="2338"/>
                    <a:pt x="17" y="2343"/>
                  </a:cubicBezTo>
                  <a:lnTo>
                    <a:pt x="17" y="2343"/>
                  </a:lnTo>
                  <a:cubicBezTo>
                    <a:pt x="17" y="2348"/>
                    <a:pt x="13" y="2351"/>
                    <a:pt x="9" y="2351"/>
                  </a:cubicBezTo>
                  <a:cubicBezTo>
                    <a:pt x="4" y="2351"/>
                    <a:pt x="0" y="2348"/>
                    <a:pt x="0" y="2343"/>
                  </a:cubicBezTo>
                  <a:close/>
                  <a:moveTo>
                    <a:pt x="0" y="2310"/>
                  </a:moveTo>
                  <a:lnTo>
                    <a:pt x="0" y="2310"/>
                  </a:lnTo>
                  <a:cubicBezTo>
                    <a:pt x="0" y="2305"/>
                    <a:pt x="4" y="2301"/>
                    <a:pt x="9" y="2301"/>
                  </a:cubicBezTo>
                  <a:cubicBezTo>
                    <a:pt x="13" y="2301"/>
                    <a:pt x="17" y="2305"/>
                    <a:pt x="17" y="2310"/>
                  </a:cubicBezTo>
                  <a:lnTo>
                    <a:pt x="17" y="2310"/>
                  </a:lnTo>
                  <a:cubicBezTo>
                    <a:pt x="17" y="2314"/>
                    <a:pt x="13" y="2318"/>
                    <a:pt x="9" y="2318"/>
                  </a:cubicBezTo>
                  <a:cubicBezTo>
                    <a:pt x="4" y="2318"/>
                    <a:pt x="0" y="2314"/>
                    <a:pt x="0" y="2310"/>
                  </a:cubicBezTo>
                  <a:close/>
                  <a:moveTo>
                    <a:pt x="0" y="2276"/>
                  </a:moveTo>
                  <a:lnTo>
                    <a:pt x="0" y="2276"/>
                  </a:lnTo>
                  <a:cubicBezTo>
                    <a:pt x="0" y="2272"/>
                    <a:pt x="4" y="2268"/>
                    <a:pt x="9" y="2268"/>
                  </a:cubicBezTo>
                  <a:cubicBezTo>
                    <a:pt x="13" y="2268"/>
                    <a:pt x="17" y="2272"/>
                    <a:pt x="17" y="2276"/>
                  </a:cubicBezTo>
                  <a:lnTo>
                    <a:pt x="17" y="2276"/>
                  </a:lnTo>
                  <a:cubicBezTo>
                    <a:pt x="17" y="2281"/>
                    <a:pt x="13" y="2285"/>
                    <a:pt x="9" y="2285"/>
                  </a:cubicBezTo>
                  <a:cubicBezTo>
                    <a:pt x="4" y="2285"/>
                    <a:pt x="0" y="2281"/>
                    <a:pt x="0" y="2276"/>
                  </a:cubicBezTo>
                  <a:close/>
                  <a:moveTo>
                    <a:pt x="0" y="2243"/>
                  </a:moveTo>
                  <a:lnTo>
                    <a:pt x="0" y="2243"/>
                  </a:lnTo>
                  <a:cubicBezTo>
                    <a:pt x="0" y="2238"/>
                    <a:pt x="4" y="2235"/>
                    <a:pt x="9" y="2235"/>
                  </a:cubicBezTo>
                  <a:cubicBezTo>
                    <a:pt x="13" y="2235"/>
                    <a:pt x="17" y="2238"/>
                    <a:pt x="17" y="2243"/>
                  </a:cubicBezTo>
                  <a:lnTo>
                    <a:pt x="17" y="2243"/>
                  </a:lnTo>
                  <a:cubicBezTo>
                    <a:pt x="17" y="2248"/>
                    <a:pt x="13" y="2251"/>
                    <a:pt x="9" y="2251"/>
                  </a:cubicBezTo>
                  <a:cubicBezTo>
                    <a:pt x="4" y="2251"/>
                    <a:pt x="0" y="2248"/>
                    <a:pt x="0" y="2243"/>
                  </a:cubicBezTo>
                  <a:close/>
                  <a:moveTo>
                    <a:pt x="0" y="2210"/>
                  </a:moveTo>
                  <a:lnTo>
                    <a:pt x="0" y="2210"/>
                  </a:lnTo>
                  <a:cubicBezTo>
                    <a:pt x="0" y="2205"/>
                    <a:pt x="4" y="2201"/>
                    <a:pt x="9" y="2201"/>
                  </a:cubicBezTo>
                  <a:cubicBezTo>
                    <a:pt x="13" y="2201"/>
                    <a:pt x="17" y="2205"/>
                    <a:pt x="17" y="2210"/>
                  </a:cubicBezTo>
                  <a:lnTo>
                    <a:pt x="17" y="2210"/>
                  </a:lnTo>
                  <a:cubicBezTo>
                    <a:pt x="17" y="2214"/>
                    <a:pt x="13" y="2218"/>
                    <a:pt x="9" y="2218"/>
                  </a:cubicBezTo>
                  <a:cubicBezTo>
                    <a:pt x="4" y="2218"/>
                    <a:pt x="0" y="2214"/>
                    <a:pt x="0" y="2210"/>
                  </a:cubicBezTo>
                  <a:close/>
                  <a:moveTo>
                    <a:pt x="0" y="2176"/>
                  </a:moveTo>
                  <a:lnTo>
                    <a:pt x="0" y="2176"/>
                  </a:lnTo>
                  <a:cubicBezTo>
                    <a:pt x="0" y="2172"/>
                    <a:pt x="4" y="2168"/>
                    <a:pt x="9" y="2168"/>
                  </a:cubicBezTo>
                  <a:cubicBezTo>
                    <a:pt x="13" y="2168"/>
                    <a:pt x="17" y="2172"/>
                    <a:pt x="17" y="2176"/>
                  </a:cubicBezTo>
                  <a:lnTo>
                    <a:pt x="17" y="2176"/>
                  </a:lnTo>
                  <a:cubicBezTo>
                    <a:pt x="17" y="2181"/>
                    <a:pt x="13" y="2185"/>
                    <a:pt x="9" y="2185"/>
                  </a:cubicBezTo>
                  <a:cubicBezTo>
                    <a:pt x="4" y="2185"/>
                    <a:pt x="0" y="2181"/>
                    <a:pt x="0" y="2176"/>
                  </a:cubicBezTo>
                  <a:close/>
                  <a:moveTo>
                    <a:pt x="0" y="2143"/>
                  </a:moveTo>
                  <a:lnTo>
                    <a:pt x="0" y="2143"/>
                  </a:lnTo>
                  <a:cubicBezTo>
                    <a:pt x="0" y="2138"/>
                    <a:pt x="4" y="2135"/>
                    <a:pt x="9" y="2135"/>
                  </a:cubicBezTo>
                  <a:cubicBezTo>
                    <a:pt x="13" y="2135"/>
                    <a:pt x="17" y="2138"/>
                    <a:pt x="17" y="2143"/>
                  </a:cubicBezTo>
                  <a:lnTo>
                    <a:pt x="17" y="2143"/>
                  </a:lnTo>
                  <a:cubicBezTo>
                    <a:pt x="17" y="2148"/>
                    <a:pt x="13" y="2151"/>
                    <a:pt x="9" y="2151"/>
                  </a:cubicBezTo>
                  <a:cubicBezTo>
                    <a:pt x="4" y="2151"/>
                    <a:pt x="0" y="2148"/>
                    <a:pt x="0" y="2143"/>
                  </a:cubicBezTo>
                  <a:close/>
                  <a:moveTo>
                    <a:pt x="0" y="2110"/>
                  </a:moveTo>
                  <a:lnTo>
                    <a:pt x="0" y="2110"/>
                  </a:lnTo>
                  <a:cubicBezTo>
                    <a:pt x="0" y="2105"/>
                    <a:pt x="4" y="2101"/>
                    <a:pt x="9" y="2101"/>
                  </a:cubicBezTo>
                  <a:cubicBezTo>
                    <a:pt x="13" y="2101"/>
                    <a:pt x="17" y="2105"/>
                    <a:pt x="17" y="2110"/>
                  </a:cubicBezTo>
                  <a:lnTo>
                    <a:pt x="17" y="2110"/>
                  </a:lnTo>
                  <a:cubicBezTo>
                    <a:pt x="17" y="2114"/>
                    <a:pt x="13" y="2118"/>
                    <a:pt x="9" y="2118"/>
                  </a:cubicBezTo>
                  <a:cubicBezTo>
                    <a:pt x="4" y="2118"/>
                    <a:pt x="0" y="2114"/>
                    <a:pt x="0" y="2110"/>
                  </a:cubicBezTo>
                  <a:close/>
                  <a:moveTo>
                    <a:pt x="1" y="2076"/>
                  </a:moveTo>
                  <a:lnTo>
                    <a:pt x="1" y="2076"/>
                  </a:lnTo>
                  <a:cubicBezTo>
                    <a:pt x="1" y="2072"/>
                    <a:pt x="4" y="2068"/>
                    <a:pt x="9" y="2068"/>
                  </a:cubicBezTo>
                  <a:cubicBezTo>
                    <a:pt x="13" y="2068"/>
                    <a:pt x="17" y="2072"/>
                    <a:pt x="17" y="2076"/>
                  </a:cubicBezTo>
                  <a:lnTo>
                    <a:pt x="17" y="2076"/>
                  </a:lnTo>
                  <a:cubicBezTo>
                    <a:pt x="17" y="2081"/>
                    <a:pt x="13" y="2085"/>
                    <a:pt x="9" y="2085"/>
                  </a:cubicBezTo>
                  <a:cubicBezTo>
                    <a:pt x="4" y="2085"/>
                    <a:pt x="1" y="2081"/>
                    <a:pt x="1" y="2076"/>
                  </a:cubicBezTo>
                  <a:close/>
                  <a:moveTo>
                    <a:pt x="1" y="2043"/>
                  </a:moveTo>
                  <a:lnTo>
                    <a:pt x="1" y="2043"/>
                  </a:lnTo>
                  <a:cubicBezTo>
                    <a:pt x="1" y="2038"/>
                    <a:pt x="4" y="2035"/>
                    <a:pt x="9" y="2035"/>
                  </a:cubicBezTo>
                  <a:cubicBezTo>
                    <a:pt x="14" y="2035"/>
                    <a:pt x="17" y="2038"/>
                    <a:pt x="17" y="2043"/>
                  </a:cubicBezTo>
                  <a:lnTo>
                    <a:pt x="17" y="2043"/>
                  </a:lnTo>
                  <a:cubicBezTo>
                    <a:pt x="17" y="2048"/>
                    <a:pt x="14" y="2051"/>
                    <a:pt x="9" y="2051"/>
                  </a:cubicBezTo>
                  <a:cubicBezTo>
                    <a:pt x="4" y="2051"/>
                    <a:pt x="1" y="2048"/>
                    <a:pt x="1" y="2043"/>
                  </a:cubicBezTo>
                  <a:close/>
                  <a:moveTo>
                    <a:pt x="1" y="2010"/>
                  </a:moveTo>
                  <a:lnTo>
                    <a:pt x="1" y="2010"/>
                  </a:lnTo>
                  <a:cubicBezTo>
                    <a:pt x="1" y="2005"/>
                    <a:pt x="4" y="2001"/>
                    <a:pt x="9" y="2001"/>
                  </a:cubicBezTo>
                  <a:cubicBezTo>
                    <a:pt x="14" y="2001"/>
                    <a:pt x="17" y="2005"/>
                    <a:pt x="17" y="2010"/>
                  </a:cubicBezTo>
                  <a:lnTo>
                    <a:pt x="17" y="2010"/>
                  </a:lnTo>
                  <a:cubicBezTo>
                    <a:pt x="17" y="2014"/>
                    <a:pt x="14" y="2018"/>
                    <a:pt x="9" y="2018"/>
                  </a:cubicBezTo>
                  <a:cubicBezTo>
                    <a:pt x="4" y="2018"/>
                    <a:pt x="1" y="2014"/>
                    <a:pt x="1" y="2010"/>
                  </a:cubicBezTo>
                  <a:close/>
                  <a:moveTo>
                    <a:pt x="1" y="1976"/>
                  </a:moveTo>
                  <a:lnTo>
                    <a:pt x="1" y="1976"/>
                  </a:lnTo>
                  <a:cubicBezTo>
                    <a:pt x="1" y="1972"/>
                    <a:pt x="4" y="1968"/>
                    <a:pt x="9" y="1968"/>
                  </a:cubicBezTo>
                  <a:cubicBezTo>
                    <a:pt x="14" y="1968"/>
                    <a:pt x="17" y="1972"/>
                    <a:pt x="17" y="1976"/>
                  </a:cubicBezTo>
                  <a:lnTo>
                    <a:pt x="17" y="1976"/>
                  </a:lnTo>
                  <a:cubicBezTo>
                    <a:pt x="17" y="1981"/>
                    <a:pt x="14" y="1985"/>
                    <a:pt x="9" y="1985"/>
                  </a:cubicBezTo>
                  <a:cubicBezTo>
                    <a:pt x="4" y="1985"/>
                    <a:pt x="1" y="1981"/>
                    <a:pt x="1" y="1976"/>
                  </a:cubicBezTo>
                  <a:close/>
                  <a:moveTo>
                    <a:pt x="1" y="1943"/>
                  </a:moveTo>
                  <a:lnTo>
                    <a:pt x="1" y="1943"/>
                  </a:lnTo>
                  <a:cubicBezTo>
                    <a:pt x="1" y="1938"/>
                    <a:pt x="4" y="1935"/>
                    <a:pt x="9" y="1935"/>
                  </a:cubicBezTo>
                  <a:cubicBezTo>
                    <a:pt x="14" y="1935"/>
                    <a:pt x="17" y="1938"/>
                    <a:pt x="17" y="1943"/>
                  </a:cubicBezTo>
                  <a:lnTo>
                    <a:pt x="17" y="1943"/>
                  </a:lnTo>
                  <a:cubicBezTo>
                    <a:pt x="17" y="1948"/>
                    <a:pt x="14" y="1951"/>
                    <a:pt x="9" y="1951"/>
                  </a:cubicBezTo>
                  <a:cubicBezTo>
                    <a:pt x="4" y="1951"/>
                    <a:pt x="1" y="1948"/>
                    <a:pt x="1" y="1943"/>
                  </a:cubicBezTo>
                  <a:close/>
                  <a:moveTo>
                    <a:pt x="1" y="1910"/>
                  </a:moveTo>
                  <a:lnTo>
                    <a:pt x="1" y="1910"/>
                  </a:lnTo>
                  <a:cubicBezTo>
                    <a:pt x="1" y="1905"/>
                    <a:pt x="4" y="1901"/>
                    <a:pt x="9" y="1901"/>
                  </a:cubicBezTo>
                  <a:cubicBezTo>
                    <a:pt x="14" y="1901"/>
                    <a:pt x="17" y="1905"/>
                    <a:pt x="17" y="1910"/>
                  </a:cubicBezTo>
                  <a:lnTo>
                    <a:pt x="17" y="1910"/>
                  </a:lnTo>
                  <a:cubicBezTo>
                    <a:pt x="17" y="1914"/>
                    <a:pt x="14" y="1918"/>
                    <a:pt x="9" y="1918"/>
                  </a:cubicBezTo>
                  <a:cubicBezTo>
                    <a:pt x="4" y="1918"/>
                    <a:pt x="1" y="1914"/>
                    <a:pt x="1" y="1910"/>
                  </a:cubicBezTo>
                  <a:close/>
                  <a:moveTo>
                    <a:pt x="1" y="1876"/>
                  </a:moveTo>
                  <a:lnTo>
                    <a:pt x="1" y="1876"/>
                  </a:lnTo>
                  <a:cubicBezTo>
                    <a:pt x="1" y="1872"/>
                    <a:pt x="5" y="1868"/>
                    <a:pt x="9" y="1868"/>
                  </a:cubicBezTo>
                  <a:cubicBezTo>
                    <a:pt x="14" y="1868"/>
                    <a:pt x="17" y="1872"/>
                    <a:pt x="17" y="1876"/>
                  </a:cubicBezTo>
                  <a:lnTo>
                    <a:pt x="17" y="1876"/>
                  </a:lnTo>
                  <a:cubicBezTo>
                    <a:pt x="17" y="1881"/>
                    <a:pt x="14" y="1885"/>
                    <a:pt x="9" y="1885"/>
                  </a:cubicBezTo>
                  <a:cubicBezTo>
                    <a:pt x="5" y="1885"/>
                    <a:pt x="1" y="1881"/>
                    <a:pt x="1" y="1876"/>
                  </a:cubicBezTo>
                  <a:close/>
                  <a:moveTo>
                    <a:pt x="1" y="1843"/>
                  </a:moveTo>
                  <a:lnTo>
                    <a:pt x="1" y="1843"/>
                  </a:lnTo>
                  <a:cubicBezTo>
                    <a:pt x="1" y="1838"/>
                    <a:pt x="5" y="1834"/>
                    <a:pt x="9" y="1834"/>
                  </a:cubicBezTo>
                  <a:cubicBezTo>
                    <a:pt x="14" y="1834"/>
                    <a:pt x="18" y="1838"/>
                    <a:pt x="18" y="1843"/>
                  </a:cubicBezTo>
                  <a:lnTo>
                    <a:pt x="18" y="1843"/>
                  </a:lnTo>
                  <a:cubicBezTo>
                    <a:pt x="18" y="1847"/>
                    <a:pt x="14" y="1851"/>
                    <a:pt x="9" y="1851"/>
                  </a:cubicBezTo>
                  <a:cubicBezTo>
                    <a:pt x="5" y="1851"/>
                    <a:pt x="1" y="1847"/>
                    <a:pt x="1" y="1843"/>
                  </a:cubicBezTo>
                  <a:close/>
                  <a:moveTo>
                    <a:pt x="1" y="1809"/>
                  </a:moveTo>
                  <a:lnTo>
                    <a:pt x="1" y="1809"/>
                  </a:lnTo>
                  <a:cubicBezTo>
                    <a:pt x="1" y="1805"/>
                    <a:pt x="5" y="1801"/>
                    <a:pt x="9" y="1801"/>
                  </a:cubicBezTo>
                  <a:cubicBezTo>
                    <a:pt x="14" y="1801"/>
                    <a:pt x="18" y="1805"/>
                    <a:pt x="18" y="1809"/>
                  </a:cubicBezTo>
                  <a:lnTo>
                    <a:pt x="18" y="1809"/>
                  </a:lnTo>
                  <a:cubicBezTo>
                    <a:pt x="18" y="1814"/>
                    <a:pt x="14" y="1818"/>
                    <a:pt x="9" y="1818"/>
                  </a:cubicBezTo>
                  <a:cubicBezTo>
                    <a:pt x="5" y="1818"/>
                    <a:pt x="1" y="1814"/>
                    <a:pt x="1" y="1809"/>
                  </a:cubicBezTo>
                  <a:close/>
                  <a:moveTo>
                    <a:pt x="1" y="1776"/>
                  </a:moveTo>
                  <a:lnTo>
                    <a:pt x="1" y="1776"/>
                  </a:lnTo>
                  <a:cubicBezTo>
                    <a:pt x="1" y="1772"/>
                    <a:pt x="5" y="1768"/>
                    <a:pt x="9" y="1768"/>
                  </a:cubicBezTo>
                  <a:cubicBezTo>
                    <a:pt x="14" y="1768"/>
                    <a:pt x="18" y="1772"/>
                    <a:pt x="18" y="1776"/>
                  </a:cubicBezTo>
                  <a:lnTo>
                    <a:pt x="18" y="1776"/>
                  </a:lnTo>
                  <a:cubicBezTo>
                    <a:pt x="18" y="1781"/>
                    <a:pt x="14" y="1784"/>
                    <a:pt x="9" y="1784"/>
                  </a:cubicBezTo>
                  <a:cubicBezTo>
                    <a:pt x="5" y="1784"/>
                    <a:pt x="1" y="1781"/>
                    <a:pt x="1" y="1776"/>
                  </a:cubicBezTo>
                  <a:close/>
                  <a:moveTo>
                    <a:pt x="1" y="1743"/>
                  </a:moveTo>
                  <a:lnTo>
                    <a:pt x="1" y="1743"/>
                  </a:lnTo>
                  <a:cubicBezTo>
                    <a:pt x="1" y="1738"/>
                    <a:pt x="5" y="1734"/>
                    <a:pt x="9" y="1734"/>
                  </a:cubicBezTo>
                  <a:cubicBezTo>
                    <a:pt x="14" y="1734"/>
                    <a:pt x="18" y="1738"/>
                    <a:pt x="18" y="1743"/>
                  </a:cubicBezTo>
                  <a:lnTo>
                    <a:pt x="18" y="1743"/>
                  </a:lnTo>
                  <a:cubicBezTo>
                    <a:pt x="18" y="1747"/>
                    <a:pt x="14" y="1751"/>
                    <a:pt x="9" y="1751"/>
                  </a:cubicBezTo>
                  <a:cubicBezTo>
                    <a:pt x="5" y="1751"/>
                    <a:pt x="1" y="1747"/>
                    <a:pt x="1" y="1743"/>
                  </a:cubicBezTo>
                  <a:close/>
                  <a:moveTo>
                    <a:pt x="1" y="1709"/>
                  </a:moveTo>
                  <a:lnTo>
                    <a:pt x="1" y="1709"/>
                  </a:lnTo>
                  <a:cubicBezTo>
                    <a:pt x="1" y="1705"/>
                    <a:pt x="5" y="1701"/>
                    <a:pt x="9" y="1701"/>
                  </a:cubicBezTo>
                  <a:cubicBezTo>
                    <a:pt x="14" y="1701"/>
                    <a:pt x="18" y="1705"/>
                    <a:pt x="18" y="1709"/>
                  </a:cubicBezTo>
                  <a:lnTo>
                    <a:pt x="18" y="1709"/>
                  </a:lnTo>
                  <a:cubicBezTo>
                    <a:pt x="18" y="1714"/>
                    <a:pt x="14" y="1718"/>
                    <a:pt x="9" y="1718"/>
                  </a:cubicBezTo>
                  <a:cubicBezTo>
                    <a:pt x="5" y="1718"/>
                    <a:pt x="1" y="1714"/>
                    <a:pt x="1" y="1709"/>
                  </a:cubicBezTo>
                  <a:close/>
                  <a:moveTo>
                    <a:pt x="1" y="1676"/>
                  </a:moveTo>
                  <a:lnTo>
                    <a:pt x="1" y="1676"/>
                  </a:lnTo>
                  <a:cubicBezTo>
                    <a:pt x="1" y="1671"/>
                    <a:pt x="5" y="1668"/>
                    <a:pt x="9" y="1668"/>
                  </a:cubicBezTo>
                  <a:cubicBezTo>
                    <a:pt x="14" y="1668"/>
                    <a:pt x="18" y="1671"/>
                    <a:pt x="18" y="1676"/>
                  </a:cubicBezTo>
                  <a:lnTo>
                    <a:pt x="18" y="1676"/>
                  </a:lnTo>
                  <a:cubicBezTo>
                    <a:pt x="18" y="1681"/>
                    <a:pt x="14" y="1684"/>
                    <a:pt x="9" y="1684"/>
                  </a:cubicBezTo>
                  <a:cubicBezTo>
                    <a:pt x="5" y="1684"/>
                    <a:pt x="1" y="1681"/>
                    <a:pt x="1" y="1676"/>
                  </a:cubicBezTo>
                  <a:close/>
                  <a:moveTo>
                    <a:pt x="1" y="1643"/>
                  </a:moveTo>
                  <a:lnTo>
                    <a:pt x="1" y="1643"/>
                  </a:lnTo>
                  <a:cubicBezTo>
                    <a:pt x="1" y="1638"/>
                    <a:pt x="5" y="1634"/>
                    <a:pt x="9" y="1634"/>
                  </a:cubicBezTo>
                  <a:cubicBezTo>
                    <a:pt x="14" y="1634"/>
                    <a:pt x="18" y="1638"/>
                    <a:pt x="18" y="1643"/>
                  </a:cubicBezTo>
                  <a:lnTo>
                    <a:pt x="18" y="1643"/>
                  </a:lnTo>
                  <a:cubicBezTo>
                    <a:pt x="18" y="1647"/>
                    <a:pt x="14" y="1651"/>
                    <a:pt x="9" y="1651"/>
                  </a:cubicBezTo>
                  <a:cubicBezTo>
                    <a:pt x="5" y="1651"/>
                    <a:pt x="1" y="1647"/>
                    <a:pt x="1" y="1643"/>
                  </a:cubicBezTo>
                  <a:close/>
                  <a:moveTo>
                    <a:pt x="1" y="1609"/>
                  </a:moveTo>
                  <a:lnTo>
                    <a:pt x="1" y="1609"/>
                  </a:lnTo>
                  <a:cubicBezTo>
                    <a:pt x="1" y="1605"/>
                    <a:pt x="5" y="1601"/>
                    <a:pt x="10" y="1601"/>
                  </a:cubicBezTo>
                  <a:cubicBezTo>
                    <a:pt x="14" y="1601"/>
                    <a:pt x="18" y="1605"/>
                    <a:pt x="18" y="1609"/>
                  </a:cubicBezTo>
                  <a:lnTo>
                    <a:pt x="18" y="1609"/>
                  </a:lnTo>
                  <a:cubicBezTo>
                    <a:pt x="18" y="1614"/>
                    <a:pt x="14" y="1618"/>
                    <a:pt x="10" y="1618"/>
                  </a:cubicBezTo>
                  <a:cubicBezTo>
                    <a:pt x="5" y="1618"/>
                    <a:pt x="1" y="1614"/>
                    <a:pt x="1" y="1609"/>
                  </a:cubicBezTo>
                  <a:close/>
                  <a:moveTo>
                    <a:pt x="1" y="1576"/>
                  </a:moveTo>
                  <a:lnTo>
                    <a:pt x="1" y="1576"/>
                  </a:lnTo>
                  <a:cubicBezTo>
                    <a:pt x="1" y="1571"/>
                    <a:pt x="5" y="1568"/>
                    <a:pt x="10" y="1568"/>
                  </a:cubicBezTo>
                  <a:cubicBezTo>
                    <a:pt x="14" y="1568"/>
                    <a:pt x="18" y="1571"/>
                    <a:pt x="18" y="1576"/>
                  </a:cubicBezTo>
                  <a:lnTo>
                    <a:pt x="18" y="1576"/>
                  </a:lnTo>
                  <a:cubicBezTo>
                    <a:pt x="18" y="1581"/>
                    <a:pt x="14" y="1584"/>
                    <a:pt x="10" y="1584"/>
                  </a:cubicBezTo>
                  <a:cubicBezTo>
                    <a:pt x="5" y="1584"/>
                    <a:pt x="1" y="1581"/>
                    <a:pt x="1" y="1576"/>
                  </a:cubicBezTo>
                  <a:close/>
                  <a:moveTo>
                    <a:pt x="1" y="1543"/>
                  </a:moveTo>
                  <a:lnTo>
                    <a:pt x="1" y="1543"/>
                  </a:lnTo>
                  <a:cubicBezTo>
                    <a:pt x="1" y="1538"/>
                    <a:pt x="5" y="1534"/>
                    <a:pt x="10" y="1534"/>
                  </a:cubicBezTo>
                  <a:cubicBezTo>
                    <a:pt x="14" y="1534"/>
                    <a:pt x="18" y="1538"/>
                    <a:pt x="18" y="1543"/>
                  </a:cubicBezTo>
                  <a:lnTo>
                    <a:pt x="18" y="1543"/>
                  </a:lnTo>
                  <a:cubicBezTo>
                    <a:pt x="18" y="1547"/>
                    <a:pt x="14" y="1551"/>
                    <a:pt x="10" y="1551"/>
                  </a:cubicBezTo>
                  <a:cubicBezTo>
                    <a:pt x="5" y="1551"/>
                    <a:pt x="1" y="1547"/>
                    <a:pt x="1" y="1543"/>
                  </a:cubicBezTo>
                  <a:close/>
                  <a:moveTo>
                    <a:pt x="1" y="1509"/>
                  </a:moveTo>
                  <a:lnTo>
                    <a:pt x="1" y="1509"/>
                  </a:lnTo>
                  <a:cubicBezTo>
                    <a:pt x="1" y="1505"/>
                    <a:pt x="5" y="1501"/>
                    <a:pt x="10" y="1501"/>
                  </a:cubicBezTo>
                  <a:cubicBezTo>
                    <a:pt x="14" y="1501"/>
                    <a:pt x="18" y="1505"/>
                    <a:pt x="18" y="1509"/>
                  </a:cubicBezTo>
                  <a:lnTo>
                    <a:pt x="18" y="1509"/>
                  </a:lnTo>
                  <a:cubicBezTo>
                    <a:pt x="18" y="1514"/>
                    <a:pt x="14" y="1518"/>
                    <a:pt x="10" y="1518"/>
                  </a:cubicBezTo>
                  <a:cubicBezTo>
                    <a:pt x="5" y="1518"/>
                    <a:pt x="1" y="1514"/>
                    <a:pt x="1" y="1509"/>
                  </a:cubicBezTo>
                  <a:close/>
                  <a:moveTo>
                    <a:pt x="1" y="1476"/>
                  </a:moveTo>
                  <a:lnTo>
                    <a:pt x="1" y="1476"/>
                  </a:lnTo>
                  <a:cubicBezTo>
                    <a:pt x="1" y="1471"/>
                    <a:pt x="5" y="1468"/>
                    <a:pt x="10" y="1468"/>
                  </a:cubicBezTo>
                  <a:cubicBezTo>
                    <a:pt x="14" y="1468"/>
                    <a:pt x="18" y="1471"/>
                    <a:pt x="18" y="1476"/>
                  </a:cubicBezTo>
                  <a:lnTo>
                    <a:pt x="18" y="1476"/>
                  </a:lnTo>
                  <a:cubicBezTo>
                    <a:pt x="18" y="1481"/>
                    <a:pt x="14" y="1484"/>
                    <a:pt x="10" y="1484"/>
                  </a:cubicBezTo>
                  <a:cubicBezTo>
                    <a:pt x="5" y="1484"/>
                    <a:pt x="1" y="1481"/>
                    <a:pt x="1" y="1476"/>
                  </a:cubicBezTo>
                  <a:close/>
                  <a:moveTo>
                    <a:pt x="1" y="1443"/>
                  </a:moveTo>
                  <a:lnTo>
                    <a:pt x="1" y="1443"/>
                  </a:lnTo>
                  <a:cubicBezTo>
                    <a:pt x="1" y="1438"/>
                    <a:pt x="5" y="1434"/>
                    <a:pt x="10" y="1434"/>
                  </a:cubicBezTo>
                  <a:cubicBezTo>
                    <a:pt x="14" y="1434"/>
                    <a:pt x="18" y="1438"/>
                    <a:pt x="18" y="1443"/>
                  </a:cubicBezTo>
                  <a:lnTo>
                    <a:pt x="18" y="1443"/>
                  </a:lnTo>
                  <a:cubicBezTo>
                    <a:pt x="18" y="1447"/>
                    <a:pt x="14" y="1451"/>
                    <a:pt x="10" y="1451"/>
                  </a:cubicBezTo>
                  <a:cubicBezTo>
                    <a:pt x="5" y="1451"/>
                    <a:pt x="1" y="1447"/>
                    <a:pt x="1" y="1443"/>
                  </a:cubicBezTo>
                  <a:close/>
                  <a:moveTo>
                    <a:pt x="1" y="1409"/>
                  </a:moveTo>
                  <a:lnTo>
                    <a:pt x="1" y="1409"/>
                  </a:lnTo>
                  <a:cubicBezTo>
                    <a:pt x="1" y="1405"/>
                    <a:pt x="5" y="1401"/>
                    <a:pt x="10" y="1401"/>
                  </a:cubicBezTo>
                  <a:cubicBezTo>
                    <a:pt x="14" y="1401"/>
                    <a:pt x="18" y="1405"/>
                    <a:pt x="18" y="1409"/>
                  </a:cubicBezTo>
                  <a:lnTo>
                    <a:pt x="18" y="1409"/>
                  </a:lnTo>
                  <a:cubicBezTo>
                    <a:pt x="18" y="1414"/>
                    <a:pt x="14" y="1418"/>
                    <a:pt x="10" y="1418"/>
                  </a:cubicBezTo>
                  <a:cubicBezTo>
                    <a:pt x="5" y="1418"/>
                    <a:pt x="1" y="1414"/>
                    <a:pt x="1" y="1409"/>
                  </a:cubicBezTo>
                  <a:close/>
                  <a:moveTo>
                    <a:pt x="2" y="1376"/>
                  </a:moveTo>
                  <a:lnTo>
                    <a:pt x="2" y="1376"/>
                  </a:lnTo>
                  <a:cubicBezTo>
                    <a:pt x="2" y="1371"/>
                    <a:pt x="5" y="1368"/>
                    <a:pt x="10" y="1368"/>
                  </a:cubicBezTo>
                  <a:cubicBezTo>
                    <a:pt x="14" y="1368"/>
                    <a:pt x="18" y="1371"/>
                    <a:pt x="18" y="1376"/>
                  </a:cubicBezTo>
                  <a:lnTo>
                    <a:pt x="18" y="1376"/>
                  </a:lnTo>
                  <a:cubicBezTo>
                    <a:pt x="18" y="1381"/>
                    <a:pt x="14" y="1384"/>
                    <a:pt x="10" y="1384"/>
                  </a:cubicBezTo>
                  <a:cubicBezTo>
                    <a:pt x="5" y="1384"/>
                    <a:pt x="2" y="1381"/>
                    <a:pt x="2" y="1376"/>
                  </a:cubicBezTo>
                  <a:close/>
                  <a:moveTo>
                    <a:pt x="2" y="1343"/>
                  </a:moveTo>
                  <a:lnTo>
                    <a:pt x="2" y="1343"/>
                  </a:lnTo>
                  <a:cubicBezTo>
                    <a:pt x="2" y="1338"/>
                    <a:pt x="5" y="1334"/>
                    <a:pt x="10" y="1334"/>
                  </a:cubicBezTo>
                  <a:cubicBezTo>
                    <a:pt x="14" y="1334"/>
                    <a:pt x="18" y="1338"/>
                    <a:pt x="18" y="1343"/>
                  </a:cubicBezTo>
                  <a:lnTo>
                    <a:pt x="18" y="1343"/>
                  </a:lnTo>
                  <a:cubicBezTo>
                    <a:pt x="18" y="1347"/>
                    <a:pt x="14" y="1351"/>
                    <a:pt x="10" y="1351"/>
                  </a:cubicBezTo>
                  <a:cubicBezTo>
                    <a:pt x="5" y="1351"/>
                    <a:pt x="2" y="1347"/>
                    <a:pt x="2" y="1343"/>
                  </a:cubicBezTo>
                  <a:close/>
                  <a:moveTo>
                    <a:pt x="2" y="1309"/>
                  </a:moveTo>
                  <a:lnTo>
                    <a:pt x="2" y="1309"/>
                  </a:lnTo>
                  <a:cubicBezTo>
                    <a:pt x="2" y="1305"/>
                    <a:pt x="5" y="1301"/>
                    <a:pt x="10" y="1301"/>
                  </a:cubicBezTo>
                  <a:cubicBezTo>
                    <a:pt x="15" y="1301"/>
                    <a:pt x="18" y="1305"/>
                    <a:pt x="18" y="1309"/>
                  </a:cubicBezTo>
                  <a:lnTo>
                    <a:pt x="18" y="1309"/>
                  </a:lnTo>
                  <a:cubicBezTo>
                    <a:pt x="18" y="1314"/>
                    <a:pt x="15" y="1318"/>
                    <a:pt x="10" y="1318"/>
                  </a:cubicBezTo>
                  <a:cubicBezTo>
                    <a:pt x="5" y="1318"/>
                    <a:pt x="2" y="1314"/>
                    <a:pt x="2" y="1309"/>
                  </a:cubicBezTo>
                  <a:close/>
                  <a:moveTo>
                    <a:pt x="2" y="1276"/>
                  </a:moveTo>
                  <a:lnTo>
                    <a:pt x="2" y="1276"/>
                  </a:lnTo>
                  <a:cubicBezTo>
                    <a:pt x="2" y="1271"/>
                    <a:pt x="5" y="1268"/>
                    <a:pt x="10" y="1268"/>
                  </a:cubicBezTo>
                  <a:cubicBezTo>
                    <a:pt x="15" y="1268"/>
                    <a:pt x="18" y="1271"/>
                    <a:pt x="18" y="1276"/>
                  </a:cubicBezTo>
                  <a:lnTo>
                    <a:pt x="18" y="1276"/>
                  </a:lnTo>
                  <a:cubicBezTo>
                    <a:pt x="18" y="1280"/>
                    <a:pt x="15" y="1284"/>
                    <a:pt x="10" y="1284"/>
                  </a:cubicBezTo>
                  <a:cubicBezTo>
                    <a:pt x="5" y="1284"/>
                    <a:pt x="2" y="1280"/>
                    <a:pt x="2" y="1276"/>
                  </a:cubicBezTo>
                  <a:close/>
                  <a:moveTo>
                    <a:pt x="2" y="1243"/>
                  </a:moveTo>
                  <a:lnTo>
                    <a:pt x="2" y="1243"/>
                  </a:lnTo>
                  <a:cubicBezTo>
                    <a:pt x="2" y="1238"/>
                    <a:pt x="5" y="1234"/>
                    <a:pt x="10" y="1234"/>
                  </a:cubicBezTo>
                  <a:cubicBezTo>
                    <a:pt x="15" y="1234"/>
                    <a:pt x="18" y="1238"/>
                    <a:pt x="18" y="1243"/>
                  </a:cubicBezTo>
                  <a:lnTo>
                    <a:pt x="18" y="1243"/>
                  </a:lnTo>
                  <a:cubicBezTo>
                    <a:pt x="18" y="1247"/>
                    <a:pt x="15" y="1251"/>
                    <a:pt x="10" y="1251"/>
                  </a:cubicBezTo>
                  <a:cubicBezTo>
                    <a:pt x="5" y="1251"/>
                    <a:pt x="2" y="1247"/>
                    <a:pt x="2" y="1243"/>
                  </a:cubicBezTo>
                  <a:close/>
                  <a:moveTo>
                    <a:pt x="2" y="1209"/>
                  </a:moveTo>
                  <a:lnTo>
                    <a:pt x="2" y="1209"/>
                  </a:lnTo>
                  <a:cubicBezTo>
                    <a:pt x="2" y="1205"/>
                    <a:pt x="5" y="1201"/>
                    <a:pt x="10" y="1201"/>
                  </a:cubicBezTo>
                  <a:cubicBezTo>
                    <a:pt x="15" y="1201"/>
                    <a:pt x="18" y="1205"/>
                    <a:pt x="18" y="1209"/>
                  </a:cubicBezTo>
                  <a:lnTo>
                    <a:pt x="18" y="1209"/>
                  </a:lnTo>
                  <a:cubicBezTo>
                    <a:pt x="18" y="1214"/>
                    <a:pt x="15" y="1218"/>
                    <a:pt x="10" y="1218"/>
                  </a:cubicBezTo>
                  <a:cubicBezTo>
                    <a:pt x="5" y="1218"/>
                    <a:pt x="2" y="1214"/>
                    <a:pt x="2" y="1209"/>
                  </a:cubicBezTo>
                  <a:close/>
                  <a:moveTo>
                    <a:pt x="2" y="1176"/>
                  </a:moveTo>
                  <a:lnTo>
                    <a:pt x="2" y="1176"/>
                  </a:lnTo>
                  <a:cubicBezTo>
                    <a:pt x="2" y="1171"/>
                    <a:pt x="6" y="1167"/>
                    <a:pt x="10" y="1167"/>
                  </a:cubicBezTo>
                  <a:cubicBezTo>
                    <a:pt x="15" y="1167"/>
                    <a:pt x="18" y="1171"/>
                    <a:pt x="18" y="1176"/>
                  </a:cubicBezTo>
                  <a:lnTo>
                    <a:pt x="18" y="1176"/>
                  </a:lnTo>
                  <a:cubicBezTo>
                    <a:pt x="18" y="1180"/>
                    <a:pt x="15" y="1184"/>
                    <a:pt x="10" y="1184"/>
                  </a:cubicBezTo>
                  <a:cubicBezTo>
                    <a:pt x="6" y="1184"/>
                    <a:pt x="2" y="1180"/>
                    <a:pt x="2" y="1176"/>
                  </a:cubicBezTo>
                  <a:close/>
                  <a:moveTo>
                    <a:pt x="2" y="1142"/>
                  </a:moveTo>
                  <a:lnTo>
                    <a:pt x="2" y="1142"/>
                  </a:lnTo>
                  <a:cubicBezTo>
                    <a:pt x="2" y="1138"/>
                    <a:pt x="6" y="1134"/>
                    <a:pt x="10" y="1134"/>
                  </a:cubicBezTo>
                  <a:cubicBezTo>
                    <a:pt x="15" y="1134"/>
                    <a:pt x="18" y="1138"/>
                    <a:pt x="18" y="1142"/>
                  </a:cubicBezTo>
                  <a:lnTo>
                    <a:pt x="18" y="1142"/>
                  </a:lnTo>
                  <a:cubicBezTo>
                    <a:pt x="18" y="1147"/>
                    <a:pt x="15" y="1151"/>
                    <a:pt x="10" y="1151"/>
                  </a:cubicBezTo>
                  <a:cubicBezTo>
                    <a:pt x="6" y="1151"/>
                    <a:pt x="2" y="1147"/>
                    <a:pt x="2" y="1142"/>
                  </a:cubicBezTo>
                  <a:close/>
                  <a:moveTo>
                    <a:pt x="2" y="1109"/>
                  </a:moveTo>
                  <a:lnTo>
                    <a:pt x="2" y="1109"/>
                  </a:lnTo>
                  <a:cubicBezTo>
                    <a:pt x="2" y="1105"/>
                    <a:pt x="6" y="1101"/>
                    <a:pt x="10" y="1101"/>
                  </a:cubicBezTo>
                  <a:cubicBezTo>
                    <a:pt x="15" y="1101"/>
                    <a:pt x="19" y="1105"/>
                    <a:pt x="19" y="1109"/>
                  </a:cubicBezTo>
                  <a:lnTo>
                    <a:pt x="19" y="1109"/>
                  </a:lnTo>
                  <a:cubicBezTo>
                    <a:pt x="19" y="1114"/>
                    <a:pt x="15" y="1117"/>
                    <a:pt x="10" y="1117"/>
                  </a:cubicBezTo>
                  <a:cubicBezTo>
                    <a:pt x="6" y="1117"/>
                    <a:pt x="2" y="1114"/>
                    <a:pt x="2" y="1109"/>
                  </a:cubicBezTo>
                  <a:close/>
                  <a:moveTo>
                    <a:pt x="2" y="1076"/>
                  </a:moveTo>
                  <a:lnTo>
                    <a:pt x="2" y="1076"/>
                  </a:lnTo>
                  <a:cubicBezTo>
                    <a:pt x="2" y="1071"/>
                    <a:pt x="6" y="1067"/>
                    <a:pt x="10" y="1067"/>
                  </a:cubicBezTo>
                  <a:cubicBezTo>
                    <a:pt x="15" y="1067"/>
                    <a:pt x="19" y="1071"/>
                    <a:pt x="19" y="1076"/>
                  </a:cubicBezTo>
                  <a:lnTo>
                    <a:pt x="19" y="1076"/>
                  </a:lnTo>
                  <a:cubicBezTo>
                    <a:pt x="19" y="1080"/>
                    <a:pt x="15" y="1084"/>
                    <a:pt x="10" y="1084"/>
                  </a:cubicBezTo>
                  <a:cubicBezTo>
                    <a:pt x="6" y="1084"/>
                    <a:pt x="2" y="1080"/>
                    <a:pt x="2" y="1076"/>
                  </a:cubicBezTo>
                  <a:close/>
                  <a:moveTo>
                    <a:pt x="2" y="1042"/>
                  </a:moveTo>
                  <a:lnTo>
                    <a:pt x="2" y="1042"/>
                  </a:lnTo>
                  <a:cubicBezTo>
                    <a:pt x="2" y="1038"/>
                    <a:pt x="6" y="1034"/>
                    <a:pt x="10" y="1034"/>
                  </a:cubicBezTo>
                  <a:cubicBezTo>
                    <a:pt x="15" y="1034"/>
                    <a:pt x="19" y="1038"/>
                    <a:pt x="19" y="1042"/>
                  </a:cubicBezTo>
                  <a:lnTo>
                    <a:pt x="19" y="1042"/>
                  </a:lnTo>
                  <a:cubicBezTo>
                    <a:pt x="19" y="1047"/>
                    <a:pt x="15" y="1051"/>
                    <a:pt x="10" y="1051"/>
                  </a:cubicBezTo>
                  <a:cubicBezTo>
                    <a:pt x="6" y="1051"/>
                    <a:pt x="2" y="1047"/>
                    <a:pt x="2" y="1042"/>
                  </a:cubicBezTo>
                  <a:close/>
                  <a:moveTo>
                    <a:pt x="2" y="1009"/>
                  </a:moveTo>
                  <a:lnTo>
                    <a:pt x="2" y="1009"/>
                  </a:lnTo>
                  <a:cubicBezTo>
                    <a:pt x="2" y="1004"/>
                    <a:pt x="6" y="1001"/>
                    <a:pt x="10" y="1001"/>
                  </a:cubicBezTo>
                  <a:cubicBezTo>
                    <a:pt x="15" y="1001"/>
                    <a:pt x="19" y="1004"/>
                    <a:pt x="19" y="1009"/>
                  </a:cubicBezTo>
                  <a:lnTo>
                    <a:pt x="19" y="1009"/>
                  </a:lnTo>
                  <a:cubicBezTo>
                    <a:pt x="19" y="1014"/>
                    <a:pt x="15" y="1017"/>
                    <a:pt x="10" y="1017"/>
                  </a:cubicBezTo>
                  <a:cubicBezTo>
                    <a:pt x="6" y="1017"/>
                    <a:pt x="2" y="1014"/>
                    <a:pt x="2" y="1009"/>
                  </a:cubicBezTo>
                  <a:close/>
                  <a:moveTo>
                    <a:pt x="2" y="976"/>
                  </a:moveTo>
                  <a:lnTo>
                    <a:pt x="2" y="976"/>
                  </a:lnTo>
                  <a:cubicBezTo>
                    <a:pt x="2" y="971"/>
                    <a:pt x="6" y="967"/>
                    <a:pt x="10" y="967"/>
                  </a:cubicBezTo>
                  <a:cubicBezTo>
                    <a:pt x="15" y="967"/>
                    <a:pt x="19" y="971"/>
                    <a:pt x="19" y="976"/>
                  </a:cubicBezTo>
                  <a:lnTo>
                    <a:pt x="19" y="976"/>
                  </a:lnTo>
                  <a:cubicBezTo>
                    <a:pt x="19" y="980"/>
                    <a:pt x="15" y="984"/>
                    <a:pt x="10" y="984"/>
                  </a:cubicBezTo>
                  <a:cubicBezTo>
                    <a:pt x="6" y="984"/>
                    <a:pt x="2" y="980"/>
                    <a:pt x="2" y="976"/>
                  </a:cubicBezTo>
                  <a:close/>
                  <a:moveTo>
                    <a:pt x="2" y="942"/>
                  </a:moveTo>
                  <a:lnTo>
                    <a:pt x="2" y="942"/>
                  </a:lnTo>
                  <a:cubicBezTo>
                    <a:pt x="2" y="938"/>
                    <a:pt x="6" y="934"/>
                    <a:pt x="10" y="934"/>
                  </a:cubicBezTo>
                  <a:cubicBezTo>
                    <a:pt x="15" y="934"/>
                    <a:pt x="19" y="938"/>
                    <a:pt x="19" y="942"/>
                  </a:cubicBezTo>
                  <a:lnTo>
                    <a:pt x="19" y="942"/>
                  </a:lnTo>
                  <a:cubicBezTo>
                    <a:pt x="19" y="947"/>
                    <a:pt x="15" y="951"/>
                    <a:pt x="10" y="951"/>
                  </a:cubicBezTo>
                  <a:cubicBezTo>
                    <a:pt x="6" y="951"/>
                    <a:pt x="2" y="947"/>
                    <a:pt x="2" y="942"/>
                  </a:cubicBezTo>
                  <a:close/>
                  <a:moveTo>
                    <a:pt x="2" y="909"/>
                  </a:moveTo>
                  <a:lnTo>
                    <a:pt x="2" y="909"/>
                  </a:lnTo>
                  <a:cubicBezTo>
                    <a:pt x="2" y="904"/>
                    <a:pt x="6" y="901"/>
                    <a:pt x="10" y="901"/>
                  </a:cubicBezTo>
                  <a:cubicBezTo>
                    <a:pt x="15" y="901"/>
                    <a:pt x="19" y="904"/>
                    <a:pt x="19" y="909"/>
                  </a:cubicBezTo>
                  <a:lnTo>
                    <a:pt x="19" y="909"/>
                  </a:lnTo>
                  <a:cubicBezTo>
                    <a:pt x="19" y="914"/>
                    <a:pt x="15" y="917"/>
                    <a:pt x="10" y="917"/>
                  </a:cubicBezTo>
                  <a:cubicBezTo>
                    <a:pt x="6" y="917"/>
                    <a:pt x="2" y="914"/>
                    <a:pt x="2" y="909"/>
                  </a:cubicBezTo>
                  <a:close/>
                  <a:moveTo>
                    <a:pt x="2" y="876"/>
                  </a:moveTo>
                  <a:lnTo>
                    <a:pt x="2" y="876"/>
                  </a:lnTo>
                  <a:cubicBezTo>
                    <a:pt x="2" y="871"/>
                    <a:pt x="6" y="867"/>
                    <a:pt x="11" y="867"/>
                  </a:cubicBezTo>
                  <a:cubicBezTo>
                    <a:pt x="15" y="867"/>
                    <a:pt x="19" y="871"/>
                    <a:pt x="19" y="876"/>
                  </a:cubicBezTo>
                  <a:lnTo>
                    <a:pt x="19" y="876"/>
                  </a:lnTo>
                  <a:cubicBezTo>
                    <a:pt x="19" y="880"/>
                    <a:pt x="15" y="884"/>
                    <a:pt x="11" y="884"/>
                  </a:cubicBezTo>
                  <a:cubicBezTo>
                    <a:pt x="6" y="884"/>
                    <a:pt x="2" y="880"/>
                    <a:pt x="2" y="876"/>
                  </a:cubicBezTo>
                  <a:close/>
                  <a:moveTo>
                    <a:pt x="2" y="842"/>
                  </a:moveTo>
                  <a:lnTo>
                    <a:pt x="2" y="842"/>
                  </a:lnTo>
                  <a:cubicBezTo>
                    <a:pt x="2" y="838"/>
                    <a:pt x="6" y="834"/>
                    <a:pt x="11" y="834"/>
                  </a:cubicBezTo>
                  <a:cubicBezTo>
                    <a:pt x="15" y="834"/>
                    <a:pt x="19" y="838"/>
                    <a:pt x="19" y="842"/>
                  </a:cubicBezTo>
                  <a:lnTo>
                    <a:pt x="19" y="842"/>
                  </a:lnTo>
                  <a:cubicBezTo>
                    <a:pt x="19" y="847"/>
                    <a:pt x="15" y="851"/>
                    <a:pt x="11" y="851"/>
                  </a:cubicBezTo>
                  <a:cubicBezTo>
                    <a:pt x="6" y="851"/>
                    <a:pt x="2" y="847"/>
                    <a:pt x="2" y="842"/>
                  </a:cubicBezTo>
                  <a:close/>
                  <a:moveTo>
                    <a:pt x="2" y="809"/>
                  </a:moveTo>
                  <a:lnTo>
                    <a:pt x="2" y="809"/>
                  </a:lnTo>
                  <a:cubicBezTo>
                    <a:pt x="2" y="804"/>
                    <a:pt x="6" y="801"/>
                    <a:pt x="11" y="801"/>
                  </a:cubicBezTo>
                  <a:cubicBezTo>
                    <a:pt x="15" y="801"/>
                    <a:pt x="19" y="804"/>
                    <a:pt x="19" y="809"/>
                  </a:cubicBezTo>
                  <a:lnTo>
                    <a:pt x="19" y="809"/>
                  </a:lnTo>
                  <a:cubicBezTo>
                    <a:pt x="19" y="814"/>
                    <a:pt x="15" y="817"/>
                    <a:pt x="11" y="817"/>
                  </a:cubicBezTo>
                  <a:cubicBezTo>
                    <a:pt x="6" y="817"/>
                    <a:pt x="2" y="814"/>
                    <a:pt x="2" y="809"/>
                  </a:cubicBezTo>
                  <a:close/>
                  <a:moveTo>
                    <a:pt x="2" y="776"/>
                  </a:moveTo>
                  <a:lnTo>
                    <a:pt x="2" y="776"/>
                  </a:lnTo>
                  <a:cubicBezTo>
                    <a:pt x="2" y="771"/>
                    <a:pt x="6" y="767"/>
                    <a:pt x="11" y="767"/>
                  </a:cubicBezTo>
                  <a:cubicBezTo>
                    <a:pt x="15" y="767"/>
                    <a:pt x="19" y="771"/>
                    <a:pt x="19" y="776"/>
                  </a:cubicBezTo>
                  <a:lnTo>
                    <a:pt x="19" y="776"/>
                  </a:lnTo>
                  <a:cubicBezTo>
                    <a:pt x="19" y="780"/>
                    <a:pt x="15" y="784"/>
                    <a:pt x="11" y="784"/>
                  </a:cubicBezTo>
                  <a:cubicBezTo>
                    <a:pt x="6" y="784"/>
                    <a:pt x="2" y="780"/>
                    <a:pt x="2" y="776"/>
                  </a:cubicBezTo>
                  <a:close/>
                  <a:moveTo>
                    <a:pt x="2" y="742"/>
                  </a:moveTo>
                  <a:lnTo>
                    <a:pt x="2" y="742"/>
                  </a:lnTo>
                  <a:cubicBezTo>
                    <a:pt x="2" y="738"/>
                    <a:pt x="6" y="734"/>
                    <a:pt x="11" y="734"/>
                  </a:cubicBezTo>
                  <a:cubicBezTo>
                    <a:pt x="15" y="734"/>
                    <a:pt x="19" y="738"/>
                    <a:pt x="19" y="742"/>
                  </a:cubicBezTo>
                  <a:lnTo>
                    <a:pt x="19" y="742"/>
                  </a:lnTo>
                  <a:cubicBezTo>
                    <a:pt x="19" y="747"/>
                    <a:pt x="15" y="751"/>
                    <a:pt x="11" y="751"/>
                  </a:cubicBezTo>
                  <a:cubicBezTo>
                    <a:pt x="6" y="751"/>
                    <a:pt x="2" y="747"/>
                    <a:pt x="2" y="742"/>
                  </a:cubicBezTo>
                  <a:close/>
                  <a:moveTo>
                    <a:pt x="2" y="709"/>
                  </a:moveTo>
                  <a:lnTo>
                    <a:pt x="2" y="709"/>
                  </a:lnTo>
                  <a:cubicBezTo>
                    <a:pt x="2" y="704"/>
                    <a:pt x="6" y="701"/>
                    <a:pt x="11" y="701"/>
                  </a:cubicBezTo>
                  <a:cubicBezTo>
                    <a:pt x="15" y="701"/>
                    <a:pt x="19" y="704"/>
                    <a:pt x="19" y="709"/>
                  </a:cubicBezTo>
                  <a:lnTo>
                    <a:pt x="19" y="709"/>
                  </a:lnTo>
                  <a:cubicBezTo>
                    <a:pt x="19" y="714"/>
                    <a:pt x="15" y="717"/>
                    <a:pt x="11" y="717"/>
                  </a:cubicBezTo>
                  <a:cubicBezTo>
                    <a:pt x="6" y="717"/>
                    <a:pt x="2" y="714"/>
                    <a:pt x="2" y="709"/>
                  </a:cubicBezTo>
                  <a:close/>
                  <a:moveTo>
                    <a:pt x="2" y="676"/>
                  </a:moveTo>
                  <a:lnTo>
                    <a:pt x="2" y="676"/>
                  </a:lnTo>
                  <a:cubicBezTo>
                    <a:pt x="2" y="671"/>
                    <a:pt x="6" y="667"/>
                    <a:pt x="11" y="667"/>
                  </a:cubicBezTo>
                  <a:cubicBezTo>
                    <a:pt x="15" y="667"/>
                    <a:pt x="19" y="671"/>
                    <a:pt x="19" y="676"/>
                  </a:cubicBezTo>
                  <a:lnTo>
                    <a:pt x="19" y="676"/>
                  </a:lnTo>
                  <a:cubicBezTo>
                    <a:pt x="19" y="680"/>
                    <a:pt x="15" y="684"/>
                    <a:pt x="11" y="684"/>
                  </a:cubicBezTo>
                  <a:cubicBezTo>
                    <a:pt x="6" y="684"/>
                    <a:pt x="2" y="680"/>
                    <a:pt x="2" y="676"/>
                  </a:cubicBezTo>
                  <a:close/>
                  <a:moveTo>
                    <a:pt x="3" y="642"/>
                  </a:moveTo>
                  <a:lnTo>
                    <a:pt x="3" y="642"/>
                  </a:lnTo>
                  <a:cubicBezTo>
                    <a:pt x="3" y="638"/>
                    <a:pt x="6" y="634"/>
                    <a:pt x="11" y="634"/>
                  </a:cubicBezTo>
                  <a:cubicBezTo>
                    <a:pt x="15" y="634"/>
                    <a:pt x="19" y="638"/>
                    <a:pt x="19" y="642"/>
                  </a:cubicBezTo>
                  <a:lnTo>
                    <a:pt x="19" y="642"/>
                  </a:lnTo>
                  <a:cubicBezTo>
                    <a:pt x="19" y="647"/>
                    <a:pt x="15" y="651"/>
                    <a:pt x="11" y="651"/>
                  </a:cubicBezTo>
                  <a:cubicBezTo>
                    <a:pt x="6" y="651"/>
                    <a:pt x="3" y="647"/>
                    <a:pt x="3" y="642"/>
                  </a:cubicBezTo>
                  <a:close/>
                  <a:moveTo>
                    <a:pt x="3" y="609"/>
                  </a:moveTo>
                  <a:lnTo>
                    <a:pt x="3" y="609"/>
                  </a:lnTo>
                  <a:cubicBezTo>
                    <a:pt x="3" y="604"/>
                    <a:pt x="6" y="601"/>
                    <a:pt x="11" y="601"/>
                  </a:cubicBezTo>
                  <a:cubicBezTo>
                    <a:pt x="16" y="601"/>
                    <a:pt x="19" y="604"/>
                    <a:pt x="19" y="609"/>
                  </a:cubicBezTo>
                  <a:lnTo>
                    <a:pt x="19" y="609"/>
                  </a:lnTo>
                  <a:cubicBezTo>
                    <a:pt x="19" y="613"/>
                    <a:pt x="16" y="617"/>
                    <a:pt x="11" y="617"/>
                  </a:cubicBezTo>
                  <a:cubicBezTo>
                    <a:pt x="6" y="617"/>
                    <a:pt x="3" y="613"/>
                    <a:pt x="3" y="609"/>
                  </a:cubicBezTo>
                  <a:close/>
                  <a:moveTo>
                    <a:pt x="3" y="576"/>
                  </a:moveTo>
                  <a:lnTo>
                    <a:pt x="3" y="576"/>
                  </a:lnTo>
                  <a:cubicBezTo>
                    <a:pt x="3" y="571"/>
                    <a:pt x="6" y="567"/>
                    <a:pt x="11" y="567"/>
                  </a:cubicBezTo>
                  <a:cubicBezTo>
                    <a:pt x="16" y="567"/>
                    <a:pt x="19" y="571"/>
                    <a:pt x="19" y="576"/>
                  </a:cubicBezTo>
                  <a:lnTo>
                    <a:pt x="19" y="576"/>
                  </a:lnTo>
                  <a:cubicBezTo>
                    <a:pt x="19" y="580"/>
                    <a:pt x="16" y="584"/>
                    <a:pt x="11" y="584"/>
                  </a:cubicBezTo>
                  <a:cubicBezTo>
                    <a:pt x="6" y="584"/>
                    <a:pt x="3" y="580"/>
                    <a:pt x="3" y="576"/>
                  </a:cubicBezTo>
                  <a:close/>
                  <a:moveTo>
                    <a:pt x="3" y="542"/>
                  </a:moveTo>
                  <a:lnTo>
                    <a:pt x="3" y="542"/>
                  </a:lnTo>
                  <a:cubicBezTo>
                    <a:pt x="3" y="538"/>
                    <a:pt x="6" y="534"/>
                    <a:pt x="11" y="534"/>
                  </a:cubicBezTo>
                  <a:cubicBezTo>
                    <a:pt x="16" y="534"/>
                    <a:pt x="19" y="538"/>
                    <a:pt x="19" y="542"/>
                  </a:cubicBezTo>
                  <a:lnTo>
                    <a:pt x="19" y="542"/>
                  </a:lnTo>
                  <a:cubicBezTo>
                    <a:pt x="19" y="547"/>
                    <a:pt x="16" y="551"/>
                    <a:pt x="11" y="551"/>
                  </a:cubicBezTo>
                  <a:cubicBezTo>
                    <a:pt x="6" y="551"/>
                    <a:pt x="3" y="547"/>
                    <a:pt x="3" y="542"/>
                  </a:cubicBezTo>
                  <a:close/>
                  <a:moveTo>
                    <a:pt x="3" y="509"/>
                  </a:moveTo>
                  <a:lnTo>
                    <a:pt x="3" y="509"/>
                  </a:lnTo>
                  <a:cubicBezTo>
                    <a:pt x="3" y="504"/>
                    <a:pt x="6" y="500"/>
                    <a:pt x="11" y="500"/>
                  </a:cubicBezTo>
                  <a:cubicBezTo>
                    <a:pt x="16" y="500"/>
                    <a:pt x="19" y="504"/>
                    <a:pt x="19" y="509"/>
                  </a:cubicBezTo>
                  <a:lnTo>
                    <a:pt x="19" y="509"/>
                  </a:lnTo>
                  <a:cubicBezTo>
                    <a:pt x="19" y="513"/>
                    <a:pt x="16" y="517"/>
                    <a:pt x="11" y="517"/>
                  </a:cubicBezTo>
                  <a:cubicBezTo>
                    <a:pt x="6" y="517"/>
                    <a:pt x="3" y="513"/>
                    <a:pt x="3" y="509"/>
                  </a:cubicBezTo>
                  <a:close/>
                  <a:moveTo>
                    <a:pt x="3" y="475"/>
                  </a:moveTo>
                  <a:lnTo>
                    <a:pt x="3" y="475"/>
                  </a:lnTo>
                  <a:cubicBezTo>
                    <a:pt x="3" y="471"/>
                    <a:pt x="6" y="467"/>
                    <a:pt x="11" y="467"/>
                  </a:cubicBezTo>
                  <a:cubicBezTo>
                    <a:pt x="16" y="467"/>
                    <a:pt x="19" y="471"/>
                    <a:pt x="19" y="475"/>
                  </a:cubicBezTo>
                  <a:lnTo>
                    <a:pt x="19" y="475"/>
                  </a:lnTo>
                  <a:cubicBezTo>
                    <a:pt x="19" y="480"/>
                    <a:pt x="16" y="484"/>
                    <a:pt x="11" y="484"/>
                  </a:cubicBezTo>
                  <a:cubicBezTo>
                    <a:pt x="6" y="484"/>
                    <a:pt x="3" y="480"/>
                    <a:pt x="3" y="475"/>
                  </a:cubicBezTo>
                  <a:close/>
                  <a:moveTo>
                    <a:pt x="3" y="442"/>
                  </a:moveTo>
                  <a:lnTo>
                    <a:pt x="3" y="442"/>
                  </a:lnTo>
                  <a:cubicBezTo>
                    <a:pt x="3" y="438"/>
                    <a:pt x="7" y="434"/>
                    <a:pt x="11" y="434"/>
                  </a:cubicBezTo>
                  <a:cubicBezTo>
                    <a:pt x="16" y="434"/>
                    <a:pt x="19" y="438"/>
                    <a:pt x="19" y="442"/>
                  </a:cubicBezTo>
                  <a:lnTo>
                    <a:pt x="19" y="442"/>
                  </a:lnTo>
                  <a:cubicBezTo>
                    <a:pt x="19" y="447"/>
                    <a:pt x="16" y="450"/>
                    <a:pt x="11" y="450"/>
                  </a:cubicBezTo>
                  <a:cubicBezTo>
                    <a:pt x="7" y="450"/>
                    <a:pt x="3" y="447"/>
                    <a:pt x="3" y="442"/>
                  </a:cubicBezTo>
                  <a:close/>
                  <a:moveTo>
                    <a:pt x="3" y="409"/>
                  </a:moveTo>
                  <a:lnTo>
                    <a:pt x="3" y="409"/>
                  </a:lnTo>
                  <a:cubicBezTo>
                    <a:pt x="3" y="404"/>
                    <a:pt x="7" y="400"/>
                    <a:pt x="11" y="400"/>
                  </a:cubicBezTo>
                  <a:cubicBezTo>
                    <a:pt x="16" y="400"/>
                    <a:pt x="20" y="404"/>
                    <a:pt x="20" y="409"/>
                  </a:cubicBezTo>
                  <a:lnTo>
                    <a:pt x="20" y="409"/>
                  </a:lnTo>
                  <a:cubicBezTo>
                    <a:pt x="20" y="413"/>
                    <a:pt x="16" y="417"/>
                    <a:pt x="11" y="417"/>
                  </a:cubicBezTo>
                  <a:cubicBezTo>
                    <a:pt x="7" y="417"/>
                    <a:pt x="3" y="413"/>
                    <a:pt x="3" y="409"/>
                  </a:cubicBezTo>
                  <a:close/>
                  <a:moveTo>
                    <a:pt x="3" y="375"/>
                  </a:moveTo>
                  <a:lnTo>
                    <a:pt x="3" y="375"/>
                  </a:lnTo>
                  <a:cubicBezTo>
                    <a:pt x="3" y="371"/>
                    <a:pt x="7" y="367"/>
                    <a:pt x="11" y="367"/>
                  </a:cubicBezTo>
                  <a:cubicBezTo>
                    <a:pt x="16" y="367"/>
                    <a:pt x="20" y="371"/>
                    <a:pt x="20" y="375"/>
                  </a:cubicBezTo>
                  <a:lnTo>
                    <a:pt x="20" y="375"/>
                  </a:lnTo>
                  <a:cubicBezTo>
                    <a:pt x="20" y="380"/>
                    <a:pt x="16" y="384"/>
                    <a:pt x="11" y="384"/>
                  </a:cubicBezTo>
                  <a:cubicBezTo>
                    <a:pt x="7" y="384"/>
                    <a:pt x="3" y="380"/>
                    <a:pt x="3" y="375"/>
                  </a:cubicBezTo>
                  <a:close/>
                  <a:moveTo>
                    <a:pt x="3" y="342"/>
                  </a:moveTo>
                  <a:lnTo>
                    <a:pt x="3" y="342"/>
                  </a:lnTo>
                  <a:cubicBezTo>
                    <a:pt x="3" y="337"/>
                    <a:pt x="7" y="334"/>
                    <a:pt x="11" y="334"/>
                  </a:cubicBezTo>
                  <a:cubicBezTo>
                    <a:pt x="16" y="334"/>
                    <a:pt x="20" y="337"/>
                    <a:pt x="20" y="342"/>
                  </a:cubicBezTo>
                  <a:lnTo>
                    <a:pt x="20" y="342"/>
                  </a:lnTo>
                  <a:cubicBezTo>
                    <a:pt x="20" y="347"/>
                    <a:pt x="16" y="350"/>
                    <a:pt x="11" y="350"/>
                  </a:cubicBezTo>
                  <a:cubicBezTo>
                    <a:pt x="7" y="350"/>
                    <a:pt x="3" y="347"/>
                    <a:pt x="3" y="342"/>
                  </a:cubicBezTo>
                  <a:close/>
                  <a:moveTo>
                    <a:pt x="3" y="309"/>
                  </a:moveTo>
                  <a:lnTo>
                    <a:pt x="3" y="309"/>
                  </a:lnTo>
                  <a:cubicBezTo>
                    <a:pt x="3" y="304"/>
                    <a:pt x="7" y="300"/>
                    <a:pt x="11" y="300"/>
                  </a:cubicBezTo>
                  <a:cubicBezTo>
                    <a:pt x="16" y="300"/>
                    <a:pt x="20" y="304"/>
                    <a:pt x="20" y="309"/>
                  </a:cubicBezTo>
                  <a:lnTo>
                    <a:pt x="20" y="309"/>
                  </a:lnTo>
                  <a:cubicBezTo>
                    <a:pt x="20" y="313"/>
                    <a:pt x="16" y="317"/>
                    <a:pt x="11" y="317"/>
                  </a:cubicBezTo>
                  <a:cubicBezTo>
                    <a:pt x="7" y="317"/>
                    <a:pt x="3" y="313"/>
                    <a:pt x="3" y="309"/>
                  </a:cubicBezTo>
                  <a:close/>
                  <a:moveTo>
                    <a:pt x="3" y="275"/>
                  </a:moveTo>
                  <a:lnTo>
                    <a:pt x="3" y="275"/>
                  </a:lnTo>
                  <a:cubicBezTo>
                    <a:pt x="3" y="271"/>
                    <a:pt x="7" y="267"/>
                    <a:pt x="11" y="267"/>
                  </a:cubicBezTo>
                  <a:cubicBezTo>
                    <a:pt x="16" y="267"/>
                    <a:pt x="20" y="271"/>
                    <a:pt x="20" y="275"/>
                  </a:cubicBezTo>
                  <a:lnTo>
                    <a:pt x="20" y="275"/>
                  </a:lnTo>
                  <a:cubicBezTo>
                    <a:pt x="20" y="280"/>
                    <a:pt x="16" y="284"/>
                    <a:pt x="11" y="284"/>
                  </a:cubicBezTo>
                  <a:cubicBezTo>
                    <a:pt x="7" y="284"/>
                    <a:pt x="3" y="280"/>
                    <a:pt x="3" y="275"/>
                  </a:cubicBezTo>
                  <a:close/>
                  <a:moveTo>
                    <a:pt x="3" y="242"/>
                  </a:moveTo>
                  <a:lnTo>
                    <a:pt x="3" y="242"/>
                  </a:lnTo>
                  <a:cubicBezTo>
                    <a:pt x="3" y="237"/>
                    <a:pt x="7" y="234"/>
                    <a:pt x="11" y="234"/>
                  </a:cubicBezTo>
                  <a:cubicBezTo>
                    <a:pt x="16" y="234"/>
                    <a:pt x="20" y="237"/>
                    <a:pt x="20" y="242"/>
                  </a:cubicBezTo>
                  <a:lnTo>
                    <a:pt x="20" y="242"/>
                  </a:lnTo>
                  <a:cubicBezTo>
                    <a:pt x="20" y="247"/>
                    <a:pt x="16" y="250"/>
                    <a:pt x="11" y="250"/>
                  </a:cubicBezTo>
                  <a:cubicBezTo>
                    <a:pt x="7" y="250"/>
                    <a:pt x="3" y="247"/>
                    <a:pt x="3" y="242"/>
                  </a:cubicBezTo>
                  <a:close/>
                  <a:moveTo>
                    <a:pt x="3" y="209"/>
                  </a:moveTo>
                  <a:lnTo>
                    <a:pt x="3" y="209"/>
                  </a:lnTo>
                  <a:cubicBezTo>
                    <a:pt x="3" y="204"/>
                    <a:pt x="7" y="200"/>
                    <a:pt x="11" y="200"/>
                  </a:cubicBezTo>
                  <a:cubicBezTo>
                    <a:pt x="16" y="200"/>
                    <a:pt x="20" y="204"/>
                    <a:pt x="20" y="209"/>
                  </a:cubicBezTo>
                  <a:lnTo>
                    <a:pt x="20" y="209"/>
                  </a:lnTo>
                  <a:cubicBezTo>
                    <a:pt x="20" y="213"/>
                    <a:pt x="16" y="217"/>
                    <a:pt x="11" y="217"/>
                  </a:cubicBezTo>
                  <a:cubicBezTo>
                    <a:pt x="7" y="217"/>
                    <a:pt x="3" y="213"/>
                    <a:pt x="3" y="209"/>
                  </a:cubicBezTo>
                  <a:close/>
                  <a:moveTo>
                    <a:pt x="3" y="175"/>
                  </a:moveTo>
                  <a:lnTo>
                    <a:pt x="3" y="175"/>
                  </a:lnTo>
                  <a:cubicBezTo>
                    <a:pt x="3" y="171"/>
                    <a:pt x="7" y="167"/>
                    <a:pt x="12" y="167"/>
                  </a:cubicBezTo>
                  <a:cubicBezTo>
                    <a:pt x="16" y="167"/>
                    <a:pt x="20" y="171"/>
                    <a:pt x="20" y="175"/>
                  </a:cubicBezTo>
                  <a:lnTo>
                    <a:pt x="20" y="175"/>
                  </a:lnTo>
                  <a:cubicBezTo>
                    <a:pt x="20" y="180"/>
                    <a:pt x="16" y="184"/>
                    <a:pt x="12" y="184"/>
                  </a:cubicBezTo>
                  <a:cubicBezTo>
                    <a:pt x="7" y="184"/>
                    <a:pt x="3" y="180"/>
                    <a:pt x="3" y="175"/>
                  </a:cubicBezTo>
                  <a:close/>
                  <a:moveTo>
                    <a:pt x="3" y="142"/>
                  </a:moveTo>
                  <a:lnTo>
                    <a:pt x="3" y="142"/>
                  </a:lnTo>
                  <a:cubicBezTo>
                    <a:pt x="3" y="137"/>
                    <a:pt x="7" y="134"/>
                    <a:pt x="12" y="134"/>
                  </a:cubicBezTo>
                  <a:cubicBezTo>
                    <a:pt x="16" y="134"/>
                    <a:pt x="20" y="137"/>
                    <a:pt x="20" y="142"/>
                  </a:cubicBezTo>
                  <a:lnTo>
                    <a:pt x="20" y="142"/>
                  </a:lnTo>
                  <a:cubicBezTo>
                    <a:pt x="20" y="147"/>
                    <a:pt x="16" y="150"/>
                    <a:pt x="12" y="150"/>
                  </a:cubicBezTo>
                  <a:cubicBezTo>
                    <a:pt x="7" y="150"/>
                    <a:pt x="3" y="147"/>
                    <a:pt x="3" y="142"/>
                  </a:cubicBezTo>
                  <a:close/>
                  <a:moveTo>
                    <a:pt x="3" y="109"/>
                  </a:moveTo>
                  <a:lnTo>
                    <a:pt x="3" y="109"/>
                  </a:lnTo>
                  <a:cubicBezTo>
                    <a:pt x="3" y="104"/>
                    <a:pt x="7" y="100"/>
                    <a:pt x="12" y="100"/>
                  </a:cubicBezTo>
                  <a:cubicBezTo>
                    <a:pt x="16" y="100"/>
                    <a:pt x="20" y="104"/>
                    <a:pt x="20" y="109"/>
                  </a:cubicBezTo>
                  <a:lnTo>
                    <a:pt x="20" y="109"/>
                  </a:lnTo>
                  <a:cubicBezTo>
                    <a:pt x="20" y="113"/>
                    <a:pt x="16" y="117"/>
                    <a:pt x="12" y="117"/>
                  </a:cubicBezTo>
                  <a:cubicBezTo>
                    <a:pt x="7" y="117"/>
                    <a:pt x="3" y="113"/>
                    <a:pt x="3" y="109"/>
                  </a:cubicBezTo>
                  <a:close/>
                  <a:moveTo>
                    <a:pt x="3" y="75"/>
                  </a:moveTo>
                  <a:lnTo>
                    <a:pt x="3" y="75"/>
                  </a:lnTo>
                  <a:cubicBezTo>
                    <a:pt x="3" y="71"/>
                    <a:pt x="7" y="67"/>
                    <a:pt x="12" y="67"/>
                  </a:cubicBezTo>
                  <a:cubicBezTo>
                    <a:pt x="16" y="67"/>
                    <a:pt x="20" y="71"/>
                    <a:pt x="20" y="75"/>
                  </a:cubicBezTo>
                  <a:lnTo>
                    <a:pt x="20" y="75"/>
                  </a:lnTo>
                  <a:cubicBezTo>
                    <a:pt x="20" y="80"/>
                    <a:pt x="16" y="84"/>
                    <a:pt x="12" y="84"/>
                  </a:cubicBezTo>
                  <a:cubicBezTo>
                    <a:pt x="7" y="84"/>
                    <a:pt x="3" y="80"/>
                    <a:pt x="3" y="75"/>
                  </a:cubicBezTo>
                  <a:close/>
                  <a:moveTo>
                    <a:pt x="3" y="42"/>
                  </a:moveTo>
                  <a:lnTo>
                    <a:pt x="3" y="42"/>
                  </a:lnTo>
                  <a:cubicBezTo>
                    <a:pt x="3" y="37"/>
                    <a:pt x="7" y="34"/>
                    <a:pt x="12" y="34"/>
                  </a:cubicBezTo>
                  <a:cubicBezTo>
                    <a:pt x="16" y="34"/>
                    <a:pt x="20" y="37"/>
                    <a:pt x="20" y="42"/>
                  </a:cubicBezTo>
                  <a:lnTo>
                    <a:pt x="20" y="42"/>
                  </a:lnTo>
                  <a:cubicBezTo>
                    <a:pt x="20" y="47"/>
                    <a:pt x="16" y="50"/>
                    <a:pt x="12" y="50"/>
                  </a:cubicBezTo>
                  <a:cubicBezTo>
                    <a:pt x="7" y="50"/>
                    <a:pt x="3" y="47"/>
                    <a:pt x="3" y="42"/>
                  </a:cubicBezTo>
                  <a:close/>
                  <a:moveTo>
                    <a:pt x="3" y="9"/>
                  </a:moveTo>
                  <a:lnTo>
                    <a:pt x="3" y="9"/>
                  </a:lnTo>
                  <a:cubicBezTo>
                    <a:pt x="3" y="4"/>
                    <a:pt x="7" y="0"/>
                    <a:pt x="12" y="0"/>
                  </a:cubicBezTo>
                  <a:cubicBezTo>
                    <a:pt x="16" y="0"/>
                    <a:pt x="20" y="4"/>
                    <a:pt x="20" y="9"/>
                  </a:cubicBezTo>
                  <a:lnTo>
                    <a:pt x="20" y="9"/>
                  </a:lnTo>
                  <a:cubicBezTo>
                    <a:pt x="20" y="13"/>
                    <a:pt x="16" y="17"/>
                    <a:pt x="12" y="17"/>
                  </a:cubicBezTo>
                  <a:cubicBezTo>
                    <a:pt x="7" y="17"/>
                    <a:pt x="3" y="13"/>
                    <a:pt x="3" y="9"/>
                  </a:cubicBez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735280" y="2260440"/>
              <a:ext cx="3240" cy="454320"/>
            </a:xfrm>
            <a:custGeom>
              <a:avLst/>
              <a:gdLst/>
              <a:ahLst/>
              <a:rect l="l" t="t" r="r" b="b"/>
              <a:pathLst>
                <a:path w="40" h="4769">
                  <a:moveTo>
                    <a:pt x="0" y="4752"/>
                  </a:moveTo>
                  <a:lnTo>
                    <a:pt x="0" y="4752"/>
                  </a:lnTo>
                  <a:cubicBezTo>
                    <a:pt x="0" y="4743"/>
                    <a:pt x="7" y="4736"/>
                    <a:pt x="16" y="4736"/>
                  </a:cubicBezTo>
                  <a:cubicBezTo>
                    <a:pt x="26" y="4736"/>
                    <a:pt x="33" y="4743"/>
                    <a:pt x="33" y="4752"/>
                  </a:cubicBezTo>
                  <a:lnTo>
                    <a:pt x="33" y="4752"/>
                  </a:lnTo>
                  <a:cubicBezTo>
                    <a:pt x="33" y="4762"/>
                    <a:pt x="26" y="4769"/>
                    <a:pt x="16" y="4769"/>
                  </a:cubicBezTo>
                  <a:cubicBezTo>
                    <a:pt x="7" y="4769"/>
                    <a:pt x="0" y="4762"/>
                    <a:pt x="0" y="4752"/>
                  </a:cubicBezTo>
                  <a:close/>
                  <a:moveTo>
                    <a:pt x="0" y="4686"/>
                  </a:moveTo>
                  <a:lnTo>
                    <a:pt x="0" y="4686"/>
                  </a:lnTo>
                  <a:cubicBezTo>
                    <a:pt x="0" y="4677"/>
                    <a:pt x="7" y="4669"/>
                    <a:pt x="17" y="4669"/>
                  </a:cubicBezTo>
                  <a:cubicBezTo>
                    <a:pt x="26" y="4669"/>
                    <a:pt x="33" y="4677"/>
                    <a:pt x="33" y="4686"/>
                  </a:cubicBezTo>
                  <a:lnTo>
                    <a:pt x="33" y="4686"/>
                  </a:lnTo>
                  <a:cubicBezTo>
                    <a:pt x="33" y="4695"/>
                    <a:pt x="26" y="4702"/>
                    <a:pt x="17" y="4702"/>
                  </a:cubicBezTo>
                  <a:cubicBezTo>
                    <a:pt x="7" y="4702"/>
                    <a:pt x="0" y="4695"/>
                    <a:pt x="0" y="4686"/>
                  </a:cubicBezTo>
                  <a:close/>
                  <a:moveTo>
                    <a:pt x="0" y="4619"/>
                  </a:moveTo>
                  <a:lnTo>
                    <a:pt x="0" y="4619"/>
                  </a:lnTo>
                  <a:cubicBezTo>
                    <a:pt x="0" y="4610"/>
                    <a:pt x="7" y="4602"/>
                    <a:pt x="17" y="4602"/>
                  </a:cubicBezTo>
                  <a:cubicBezTo>
                    <a:pt x="26" y="4602"/>
                    <a:pt x="33" y="4610"/>
                    <a:pt x="33" y="4619"/>
                  </a:cubicBezTo>
                  <a:lnTo>
                    <a:pt x="33" y="4619"/>
                  </a:lnTo>
                  <a:cubicBezTo>
                    <a:pt x="33" y="4628"/>
                    <a:pt x="26" y="4636"/>
                    <a:pt x="17" y="4636"/>
                  </a:cubicBezTo>
                  <a:cubicBezTo>
                    <a:pt x="7" y="4636"/>
                    <a:pt x="0" y="4628"/>
                    <a:pt x="0" y="4619"/>
                  </a:cubicBezTo>
                  <a:close/>
                  <a:moveTo>
                    <a:pt x="0" y="4552"/>
                  </a:moveTo>
                  <a:lnTo>
                    <a:pt x="0" y="4552"/>
                  </a:lnTo>
                  <a:cubicBezTo>
                    <a:pt x="0" y="4543"/>
                    <a:pt x="8" y="4536"/>
                    <a:pt x="17" y="4536"/>
                  </a:cubicBezTo>
                  <a:cubicBezTo>
                    <a:pt x="26" y="4536"/>
                    <a:pt x="33" y="4543"/>
                    <a:pt x="33" y="4552"/>
                  </a:cubicBezTo>
                  <a:lnTo>
                    <a:pt x="33" y="4552"/>
                  </a:lnTo>
                  <a:cubicBezTo>
                    <a:pt x="33" y="4562"/>
                    <a:pt x="26" y="4569"/>
                    <a:pt x="17" y="4569"/>
                  </a:cubicBezTo>
                  <a:cubicBezTo>
                    <a:pt x="8" y="4569"/>
                    <a:pt x="0" y="4562"/>
                    <a:pt x="0" y="4552"/>
                  </a:cubicBezTo>
                  <a:close/>
                  <a:moveTo>
                    <a:pt x="0" y="4486"/>
                  </a:moveTo>
                  <a:lnTo>
                    <a:pt x="0" y="4486"/>
                  </a:lnTo>
                  <a:cubicBezTo>
                    <a:pt x="0" y="4476"/>
                    <a:pt x="8" y="4469"/>
                    <a:pt x="17" y="4469"/>
                  </a:cubicBezTo>
                  <a:cubicBezTo>
                    <a:pt x="26" y="4469"/>
                    <a:pt x="34" y="4476"/>
                    <a:pt x="34" y="4486"/>
                  </a:cubicBezTo>
                  <a:lnTo>
                    <a:pt x="34" y="4486"/>
                  </a:lnTo>
                  <a:cubicBezTo>
                    <a:pt x="34" y="4495"/>
                    <a:pt x="26" y="4502"/>
                    <a:pt x="17" y="4502"/>
                  </a:cubicBezTo>
                  <a:cubicBezTo>
                    <a:pt x="8" y="4502"/>
                    <a:pt x="0" y="4495"/>
                    <a:pt x="0" y="4486"/>
                  </a:cubicBezTo>
                  <a:close/>
                  <a:moveTo>
                    <a:pt x="0" y="4419"/>
                  </a:moveTo>
                  <a:lnTo>
                    <a:pt x="0" y="4419"/>
                  </a:lnTo>
                  <a:cubicBezTo>
                    <a:pt x="0" y="4410"/>
                    <a:pt x="8" y="4402"/>
                    <a:pt x="17" y="4402"/>
                  </a:cubicBezTo>
                  <a:cubicBezTo>
                    <a:pt x="26" y="4402"/>
                    <a:pt x="34" y="4410"/>
                    <a:pt x="34" y="4419"/>
                  </a:cubicBezTo>
                  <a:lnTo>
                    <a:pt x="34" y="4419"/>
                  </a:lnTo>
                  <a:cubicBezTo>
                    <a:pt x="34" y="4428"/>
                    <a:pt x="26" y="4436"/>
                    <a:pt x="17" y="4436"/>
                  </a:cubicBezTo>
                  <a:cubicBezTo>
                    <a:pt x="8" y="4436"/>
                    <a:pt x="0" y="4428"/>
                    <a:pt x="0" y="4419"/>
                  </a:cubicBezTo>
                  <a:close/>
                  <a:moveTo>
                    <a:pt x="0" y="4352"/>
                  </a:moveTo>
                  <a:lnTo>
                    <a:pt x="0" y="4352"/>
                  </a:lnTo>
                  <a:cubicBezTo>
                    <a:pt x="0" y="4343"/>
                    <a:pt x="8" y="4336"/>
                    <a:pt x="17" y="4336"/>
                  </a:cubicBezTo>
                  <a:cubicBezTo>
                    <a:pt x="26" y="4336"/>
                    <a:pt x="34" y="4343"/>
                    <a:pt x="34" y="4352"/>
                  </a:cubicBezTo>
                  <a:lnTo>
                    <a:pt x="34" y="4352"/>
                  </a:lnTo>
                  <a:cubicBezTo>
                    <a:pt x="34" y="4361"/>
                    <a:pt x="26" y="4369"/>
                    <a:pt x="17" y="4369"/>
                  </a:cubicBezTo>
                  <a:cubicBezTo>
                    <a:pt x="8" y="4369"/>
                    <a:pt x="0" y="4361"/>
                    <a:pt x="0" y="4352"/>
                  </a:cubicBezTo>
                  <a:close/>
                  <a:moveTo>
                    <a:pt x="0" y="4286"/>
                  </a:moveTo>
                  <a:lnTo>
                    <a:pt x="0" y="4286"/>
                  </a:lnTo>
                  <a:cubicBezTo>
                    <a:pt x="0" y="4276"/>
                    <a:pt x="8" y="4269"/>
                    <a:pt x="17" y="4269"/>
                  </a:cubicBezTo>
                  <a:cubicBezTo>
                    <a:pt x="26" y="4269"/>
                    <a:pt x="34" y="4276"/>
                    <a:pt x="34" y="4286"/>
                  </a:cubicBezTo>
                  <a:lnTo>
                    <a:pt x="34" y="4286"/>
                  </a:lnTo>
                  <a:cubicBezTo>
                    <a:pt x="34" y="4295"/>
                    <a:pt x="26" y="4302"/>
                    <a:pt x="17" y="4302"/>
                  </a:cubicBezTo>
                  <a:cubicBezTo>
                    <a:pt x="8" y="4302"/>
                    <a:pt x="0" y="4295"/>
                    <a:pt x="0" y="4286"/>
                  </a:cubicBezTo>
                  <a:close/>
                  <a:moveTo>
                    <a:pt x="1" y="4219"/>
                  </a:moveTo>
                  <a:lnTo>
                    <a:pt x="1" y="4219"/>
                  </a:lnTo>
                  <a:cubicBezTo>
                    <a:pt x="1" y="4210"/>
                    <a:pt x="8" y="4202"/>
                    <a:pt x="17" y="4202"/>
                  </a:cubicBezTo>
                  <a:cubicBezTo>
                    <a:pt x="26" y="4202"/>
                    <a:pt x="34" y="4210"/>
                    <a:pt x="34" y="4219"/>
                  </a:cubicBezTo>
                  <a:lnTo>
                    <a:pt x="34" y="4219"/>
                  </a:lnTo>
                  <a:cubicBezTo>
                    <a:pt x="34" y="4228"/>
                    <a:pt x="26" y="4236"/>
                    <a:pt x="17" y="4236"/>
                  </a:cubicBezTo>
                  <a:cubicBezTo>
                    <a:pt x="8" y="4236"/>
                    <a:pt x="1" y="4228"/>
                    <a:pt x="1" y="4219"/>
                  </a:cubicBezTo>
                  <a:close/>
                  <a:moveTo>
                    <a:pt x="1" y="4152"/>
                  </a:moveTo>
                  <a:lnTo>
                    <a:pt x="1" y="4152"/>
                  </a:lnTo>
                  <a:cubicBezTo>
                    <a:pt x="1" y="4143"/>
                    <a:pt x="8" y="4135"/>
                    <a:pt x="17" y="4135"/>
                  </a:cubicBezTo>
                  <a:cubicBezTo>
                    <a:pt x="26" y="4135"/>
                    <a:pt x="34" y="4143"/>
                    <a:pt x="34" y="4152"/>
                  </a:cubicBezTo>
                  <a:lnTo>
                    <a:pt x="34" y="4152"/>
                  </a:lnTo>
                  <a:cubicBezTo>
                    <a:pt x="34" y="4161"/>
                    <a:pt x="26" y="4169"/>
                    <a:pt x="17" y="4169"/>
                  </a:cubicBezTo>
                  <a:cubicBezTo>
                    <a:pt x="8" y="4169"/>
                    <a:pt x="1" y="4161"/>
                    <a:pt x="1" y="4152"/>
                  </a:cubicBezTo>
                  <a:close/>
                  <a:moveTo>
                    <a:pt x="1" y="4085"/>
                  </a:moveTo>
                  <a:lnTo>
                    <a:pt x="1" y="4085"/>
                  </a:lnTo>
                  <a:cubicBezTo>
                    <a:pt x="1" y="4076"/>
                    <a:pt x="8" y="4069"/>
                    <a:pt x="17" y="4069"/>
                  </a:cubicBezTo>
                  <a:cubicBezTo>
                    <a:pt x="27" y="4069"/>
                    <a:pt x="34" y="4076"/>
                    <a:pt x="34" y="4085"/>
                  </a:cubicBezTo>
                  <a:lnTo>
                    <a:pt x="34" y="4085"/>
                  </a:lnTo>
                  <a:cubicBezTo>
                    <a:pt x="34" y="4095"/>
                    <a:pt x="27" y="4102"/>
                    <a:pt x="17" y="4102"/>
                  </a:cubicBezTo>
                  <a:cubicBezTo>
                    <a:pt x="8" y="4102"/>
                    <a:pt x="1" y="4095"/>
                    <a:pt x="1" y="4085"/>
                  </a:cubicBezTo>
                  <a:close/>
                  <a:moveTo>
                    <a:pt x="1" y="4019"/>
                  </a:moveTo>
                  <a:lnTo>
                    <a:pt x="1" y="4019"/>
                  </a:lnTo>
                  <a:cubicBezTo>
                    <a:pt x="1" y="4009"/>
                    <a:pt x="8" y="4002"/>
                    <a:pt x="17" y="4002"/>
                  </a:cubicBezTo>
                  <a:cubicBezTo>
                    <a:pt x="27" y="4002"/>
                    <a:pt x="34" y="4009"/>
                    <a:pt x="34" y="4019"/>
                  </a:cubicBezTo>
                  <a:lnTo>
                    <a:pt x="34" y="4019"/>
                  </a:lnTo>
                  <a:cubicBezTo>
                    <a:pt x="34" y="4028"/>
                    <a:pt x="27" y="4035"/>
                    <a:pt x="17" y="4035"/>
                  </a:cubicBezTo>
                  <a:cubicBezTo>
                    <a:pt x="8" y="4035"/>
                    <a:pt x="1" y="4028"/>
                    <a:pt x="1" y="4019"/>
                  </a:cubicBezTo>
                  <a:close/>
                  <a:moveTo>
                    <a:pt x="1" y="3952"/>
                  </a:moveTo>
                  <a:lnTo>
                    <a:pt x="1" y="3952"/>
                  </a:lnTo>
                  <a:cubicBezTo>
                    <a:pt x="1" y="3943"/>
                    <a:pt x="8" y="3935"/>
                    <a:pt x="18" y="3935"/>
                  </a:cubicBezTo>
                  <a:cubicBezTo>
                    <a:pt x="27" y="3935"/>
                    <a:pt x="34" y="3943"/>
                    <a:pt x="34" y="3952"/>
                  </a:cubicBezTo>
                  <a:lnTo>
                    <a:pt x="34" y="3952"/>
                  </a:lnTo>
                  <a:cubicBezTo>
                    <a:pt x="34" y="3961"/>
                    <a:pt x="27" y="3969"/>
                    <a:pt x="18" y="3969"/>
                  </a:cubicBezTo>
                  <a:cubicBezTo>
                    <a:pt x="8" y="3969"/>
                    <a:pt x="1" y="3961"/>
                    <a:pt x="1" y="3952"/>
                  </a:cubicBezTo>
                  <a:close/>
                  <a:moveTo>
                    <a:pt x="1" y="3885"/>
                  </a:moveTo>
                  <a:lnTo>
                    <a:pt x="1" y="3885"/>
                  </a:lnTo>
                  <a:cubicBezTo>
                    <a:pt x="1" y="3876"/>
                    <a:pt x="8" y="3869"/>
                    <a:pt x="18" y="3869"/>
                  </a:cubicBezTo>
                  <a:cubicBezTo>
                    <a:pt x="27" y="3869"/>
                    <a:pt x="34" y="3876"/>
                    <a:pt x="34" y="3885"/>
                  </a:cubicBezTo>
                  <a:lnTo>
                    <a:pt x="34" y="3885"/>
                  </a:lnTo>
                  <a:cubicBezTo>
                    <a:pt x="34" y="3895"/>
                    <a:pt x="27" y="3902"/>
                    <a:pt x="18" y="3902"/>
                  </a:cubicBezTo>
                  <a:cubicBezTo>
                    <a:pt x="8" y="3902"/>
                    <a:pt x="1" y="3895"/>
                    <a:pt x="1" y="3885"/>
                  </a:cubicBezTo>
                  <a:close/>
                  <a:moveTo>
                    <a:pt x="1" y="3819"/>
                  </a:moveTo>
                  <a:lnTo>
                    <a:pt x="1" y="3819"/>
                  </a:lnTo>
                  <a:cubicBezTo>
                    <a:pt x="1" y="3809"/>
                    <a:pt x="9" y="3802"/>
                    <a:pt x="18" y="3802"/>
                  </a:cubicBezTo>
                  <a:cubicBezTo>
                    <a:pt x="27" y="3802"/>
                    <a:pt x="34" y="3809"/>
                    <a:pt x="34" y="3819"/>
                  </a:cubicBezTo>
                  <a:lnTo>
                    <a:pt x="34" y="3819"/>
                  </a:lnTo>
                  <a:cubicBezTo>
                    <a:pt x="34" y="3828"/>
                    <a:pt x="27" y="3835"/>
                    <a:pt x="18" y="3835"/>
                  </a:cubicBezTo>
                  <a:cubicBezTo>
                    <a:pt x="9" y="3835"/>
                    <a:pt x="1" y="3828"/>
                    <a:pt x="1" y="3819"/>
                  </a:cubicBezTo>
                  <a:close/>
                  <a:moveTo>
                    <a:pt x="1" y="3752"/>
                  </a:moveTo>
                  <a:lnTo>
                    <a:pt x="1" y="3752"/>
                  </a:lnTo>
                  <a:cubicBezTo>
                    <a:pt x="1" y="3743"/>
                    <a:pt x="9" y="3735"/>
                    <a:pt x="18" y="3735"/>
                  </a:cubicBezTo>
                  <a:cubicBezTo>
                    <a:pt x="27" y="3735"/>
                    <a:pt x="35" y="3743"/>
                    <a:pt x="35" y="3752"/>
                  </a:cubicBezTo>
                  <a:lnTo>
                    <a:pt x="35" y="3752"/>
                  </a:lnTo>
                  <a:cubicBezTo>
                    <a:pt x="35" y="3761"/>
                    <a:pt x="27" y="3769"/>
                    <a:pt x="18" y="3769"/>
                  </a:cubicBezTo>
                  <a:cubicBezTo>
                    <a:pt x="9" y="3769"/>
                    <a:pt x="1" y="3761"/>
                    <a:pt x="1" y="3752"/>
                  </a:cubicBezTo>
                  <a:close/>
                  <a:moveTo>
                    <a:pt x="1" y="3685"/>
                  </a:moveTo>
                  <a:lnTo>
                    <a:pt x="1" y="3685"/>
                  </a:lnTo>
                  <a:cubicBezTo>
                    <a:pt x="1" y="3676"/>
                    <a:pt x="9" y="3669"/>
                    <a:pt x="18" y="3669"/>
                  </a:cubicBezTo>
                  <a:cubicBezTo>
                    <a:pt x="27" y="3669"/>
                    <a:pt x="35" y="3676"/>
                    <a:pt x="35" y="3685"/>
                  </a:cubicBezTo>
                  <a:lnTo>
                    <a:pt x="35" y="3685"/>
                  </a:lnTo>
                  <a:cubicBezTo>
                    <a:pt x="35" y="3694"/>
                    <a:pt x="27" y="3702"/>
                    <a:pt x="18" y="3702"/>
                  </a:cubicBezTo>
                  <a:cubicBezTo>
                    <a:pt x="9" y="3702"/>
                    <a:pt x="1" y="3694"/>
                    <a:pt x="1" y="3685"/>
                  </a:cubicBezTo>
                  <a:close/>
                  <a:moveTo>
                    <a:pt x="1" y="3619"/>
                  </a:moveTo>
                  <a:lnTo>
                    <a:pt x="1" y="3618"/>
                  </a:lnTo>
                  <a:cubicBezTo>
                    <a:pt x="1" y="3609"/>
                    <a:pt x="9" y="3602"/>
                    <a:pt x="18" y="3602"/>
                  </a:cubicBezTo>
                  <a:cubicBezTo>
                    <a:pt x="27" y="3602"/>
                    <a:pt x="35" y="3609"/>
                    <a:pt x="35" y="3618"/>
                  </a:cubicBezTo>
                  <a:lnTo>
                    <a:pt x="35" y="3619"/>
                  </a:lnTo>
                  <a:cubicBezTo>
                    <a:pt x="35" y="3628"/>
                    <a:pt x="27" y="3635"/>
                    <a:pt x="18" y="3635"/>
                  </a:cubicBezTo>
                  <a:cubicBezTo>
                    <a:pt x="9" y="3635"/>
                    <a:pt x="1" y="3628"/>
                    <a:pt x="1" y="3619"/>
                  </a:cubicBezTo>
                  <a:close/>
                  <a:moveTo>
                    <a:pt x="1" y="3552"/>
                  </a:moveTo>
                  <a:lnTo>
                    <a:pt x="1" y="3552"/>
                  </a:lnTo>
                  <a:cubicBezTo>
                    <a:pt x="1" y="3543"/>
                    <a:pt x="9" y="3535"/>
                    <a:pt x="18" y="3535"/>
                  </a:cubicBezTo>
                  <a:cubicBezTo>
                    <a:pt x="27" y="3535"/>
                    <a:pt x="35" y="3543"/>
                    <a:pt x="35" y="3552"/>
                  </a:cubicBezTo>
                  <a:lnTo>
                    <a:pt x="35" y="3552"/>
                  </a:lnTo>
                  <a:cubicBezTo>
                    <a:pt x="35" y="3561"/>
                    <a:pt x="27" y="3568"/>
                    <a:pt x="18" y="3568"/>
                  </a:cubicBezTo>
                  <a:cubicBezTo>
                    <a:pt x="9" y="3568"/>
                    <a:pt x="1" y="3561"/>
                    <a:pt x="1" y="3552"/>
                  </a:cubicBezTo>
                  <a:close/>
                  <a:moveTo>
                    <a:pt x="2" y="3485"/>
                  </a:moveTo>
                  <a:lnTo>
                    <a:pt x="2" y="3485"/>
                  </a:lnTo>
                  <a:cubicBezTo>
                    <a:pt x="2" y="3476"/>
                    <a:pt x="9" y="3468"/>
                    <a:pt x="18" y="3468"/>
                  </a:cubicBezTo>
                  <a:cubicBezTo>
                    <a:pt x="27" y="3468"/>
                    <a:pt x="35" y="3476"/>
                    <a:pt x="35" y="3485"/>
                  </a:cubicBezTo>
                  <a:lnTo>
                    <a:pt x="35" y="3485"/>
                  </a:lnTo>
                  <a:cubicBezTo>
                    <a:pt x="35" y="3494"/>
                    <a:pt x="27" y="3502"/>
                    <a:pt x="18" y="3502"/>
                  </a:cubicBezTo>
                  <a:cubicBezTo>
                    <a:pt x="9" y="3502"/>
                    <a:pt x="2" y="3494"/>
                    <a:pt x="2" y="3485"/>
                  </a:cubicBezTo>
                  <a:close/>
                  <a:moveTo>
                    <a:pt x="2" y="3418"/>
                  </a:moveTo>
                  <a:lnTo>
                    <a:pt x="2" y="3418"/>
                  </a:lnTo>
                  <a:cubicBezTo>
                    <a:pt x="2" y="3409"/>
                    <a:pt x="9" y="3402"/>
                    <a:pt x="18" y="3402"/>
                  </a:cubicBezTo>
                  <a:cubicBezTo>
                    <a:pt x="28" y="3402"/>
                    <a:pt x="35" y="3409"/>
                    <a:pt x="35" y="3418"/>
                  </a:cubicBezTo>
                  <a:lnTo>
                    <a:pt x="35" y="3418"/>
                  </a:lnTo>
                  <a:cubicBezTo>
                    <a:pt x="35" y="3428"/>
                    <a:pt x="28" y="3435"/>
                    <a:pt x="18" y="3435"/>
                  </a:cubicBezTo>
                  <a:cubicBezTo>
                    <a:pt x="9" y="3435"/>
                    <a:pt x="2" y="3428"/>
                    <a:pt x="2" y="3418"/>
                  </a:cubicBezTo>
                  <a:close/>
                  <a:moveTo>
                    <a:pt x="2" y="3352"/>
                  </a:moveTo>
                  <a:lnTo>
                    <a:pt x="2" y="3352"/>
                  </a:lnTo>
                  <a:cubicBezTo>
                    <a:pt x="2" y="3342"/>
                    <a:pt x="9" y="3335"/>
                    <a:pt x="18" y="3335"/>
                  </a:cubicBezTo>
                  <a:cubicBezTo>
                    <a:pt x="28" y="3335"/>
                    <a:pt x="35" y="3342"/>
                    <a:pt x="35" y="3352"/>
                  </a:cubicBezTo>
                  <a:lnTo>
                    <a:pt x="35" y="3352"/>
                  </a:lnTo>
                  <a:cubicBezTo>
                    <a:pt x="35" y="3361"/>
                    <a:pt x="28" y="3368"/>
                    <a:pt x="18" y="3368"/>
                  </a:cubicBezTo>
                  <a:cubicBezTo>
                    <a:pt x="9" y="3368"/>
                    <a:pt x="2" y="3361"/>
                    <a:pt x="2" y="3352"/>
                  </a:cubicBezTo>
                  <a:close/>
                  <a:moveTo>
                    <a:pt x="2" y="3285"/>
                  </a:moveTo>
                  <a:lnTo>
                    <a:pt x="2" y="3285"/>
                  </a:lnTo>
                  <a:cubicBezTo>
                    <a:pt x="2" y="3276"/>
                    <a:pt x="9" y="3268"/>
                    <a:pt x="18" y="3268"/>
                  </a:cubicBezTo>
                  <a:cubicBezTo>
                    <a:pt x="28" y="3268"/>
                    <a:pt x="35" y="3276"/>
                    <a:pt x="35" y="3285"/>
                  </a:cubicBezTo>
                  <a:lnTo>
                    <a:pt x="35" y="3285"/>
                  </a:lnTo>
                  <a:cubicBezTo>
                    <a:pt x="35" y="3294"/>
                    <a:pt x="28" y="3302"/>
                    <a:pt x="18" y="3302"/>
                  </a:cubicBezTo>
                  <a:cubicBezTo>
                    <a:pt x="9" y="3302"/>
                    <a:pt x="2" y="3294"/>
                    <a:pt x="2" y="3285"/>
                  </a:cubicBezTo>
                  <a:close/>
                  <a:moveTo>
                    <a:pt x="2" y="3218"/>
                  </a:moveTo>
                  <a:lnTo>
                    <a:pt x="2" y="3218"/>
                  </a:lnTo>
                  <a:cubicBezTo>
                    <a:pt x="2" y="3209"/>
                    <a:pt x="9" y="3202"/>
                    <a:pt x="19" y="3202"/>
                  </a:cubicBezTo>
                  <a:cubicBezTo>
                    <a:pt x="28" y="3202"/>
                    <a:pt x="35" y="3209"/>
                    <a:pt x="35" y="3218"/>
                  </a:cubicBezTo>
                  <a:lnTo>
                    <a:pt x="35" y="3218"/>
                  </a:lnTo>
                  <a:cubicBezTo>
                    <a:pt x="35" y="3228"/>
                    <a:pt x="28" y="3235"/>
                    <a:pt x="19" y="3235"/>
                  </a:cubicBezTo>
                  <a:cubicBezTo>
                    <a:pt x="9" y="3235"/>
                    <a:pt x="2" y="3228"/>
                    <a:pt x="2" y="3218"/>
                  </a:cubicBezTo>
                  <a:close/>
                  <a:moveTo>
                    <a:pt x="2" y="3152"/>
                  </a:moveTo>
                  <a:lnTo>
                    <a:pt x="2" y="3152"/>
                  </a:lnTo>
                  <a:cubicBezTo>
                    <a:pt x="2" y="3142"/>
                    <a:pt x="9" y="3135"/>
                    <a:pt x="19" y="3135"/>
                  </a:cubicBezTo>
                  <a:cubicBezTo>
                    <a:pt x="28" y="3135"/>
                    <a:pt x="35" y="3142"/>
                    <a:pt x="35" y="3152"/>
                  </a:cubicBezTo>
                  <a:lnTo>
                    <a:pt x="35" y="3152"/>
                  </a:lnTo>
                  <a:cubicBezTo>
                    <a:pt x="35" y="3161"/>
                    <a:pt x="28" y="3168"/>
                    <a:pt x="19" y="3168"/>
                  </a:cubicBezTo>
                  <a:cubicBezTo>
                    <a:pt x="9" y="3168"/>
                    <a:pt x="2" y="3161"/>
                    <a:pt x="2" y="3152"/>
                  </a:cubicBezTo>
                  <a:close/>
                  <a:moveTo>
                    <a:pt x="2" y="3085"/>
                  </a:moveTo>
                  <a:lnTo>
                    <a:pt x="2" y="3085"/>
                  </a:lnTo>
                  <a:cubicBezTo>
                    <a:pt x="2" y="3076"/>
                    <a:pt x="10" y="3068"/>
                    <a:pt x="19" y="3068"/>
                  </a:cubicBezTo>
                  <a:cubicBezTo>
                    <a:pt x="28" y="3068"/>
                    <a:pt x="35" y="3076"/>
                    <a:pt x="35" y="3085"/>
                  </a:cubicBezTo>
                  <a:lnTo>
                    <a:pt x="35" y="3085"/>
                  </a:lnTo>
                  <a:cubicBezTo>
                    <a:pt x="35" y="3094"/>
                    <a:pt x="28" y="3102"/>
                    <a:pt x="19" y="3102"/>
                  </a:cubicBezTo>
                  <a:cubicBezTo>
                    <a:pt x="10" y="3102"/>
                    <a:pt x="2" y="3094"/>
                    <a:pt x="2" y="3085"/>
                  </a:cubicBezTo>
                  <a:close/>
                  <a:moveTo>
                    <a:pt x="2" y="3018"/>
                  </a:moveTo>
                  <a:lnTo>
                    <a:pt x="2" y="3018"/>
                  </a:lnTo>
                  <a:cubicBezTo>
                    <a:pt x="2" y="3009"/>
                    <a:pt x="10" y="3002"/>
                    <a:pt x="19" y="3002"/>
                  </a:cubicBezTo>
                  <a:cubicBezTo>
                    <a:pt x="28" y="3002"/>
                    <a:pt x="36" y="3009"/>
                    <a:pt x="36" y="3018"/>
                  </a:cubicBezTo>
                  <a:lnTo>
                    <a:pt x="36" y="3018"/>
                  </a:lnTo>
                  <a:cubicBezTo>
                    <a:pt x="36" y="3027"/>
                    <a:pt x="28" y="3035"/>
                    <a:pt x="19" y="3035"/>
                  </a:cubicBezTo>
                  <a:cubicBezTo>
                    <a:pt x="10" y="3035"/>
                    <a:pt x="2" y="3027"/>
                    <a:pt x="2" y="3018"/>
                  </a:cubicBezTo>
                  <a:close/>
                  <a:moveTo>
                    <a:pt x="2" y="2952"/>
                  </a:moveTo>
                  <a:lnTo>
                    <a:pt x="2" y="2951"/>
                  </a:lnTo>
                  <a:cubicBezTo>
                    <a:pt x="2" y="2942"/>
                    <a:pt x="10" y="2935"/>
                    <a:pt x="19" y="2935"/>
                  </a:cubicBezTo>
                  <a:cubicBezTo>
                    <a:pt x="28" y="2935"/>
                    <a:pt x="36" y="2942"/>
                    <a:pt x="36" y="2951"/>
                  </a:cubicBezTo>
                  <a:lnTo>
                    <a:pt x="36" y="2952"/>
                  </a:lnTo>
                  <a:cubicBezTo>
                    <a:pt x="36" y="2961"/>
                    <a:pt x="28" y="2968"/>
                    <a:pt x="19" y="2968"/>
                  </a:cubicBezTo>
                  <a:cubicBezTo>
                    <a:pt x="10" y="2968"/>
                    <a:pt x="2" y="2961"/>
                    <a:pt x="2" y="2952"/>
                  </a:cubicBezTo>
                  <a:close/>
                  <a:moveTo>
                    <a:pt x="2" y="2885"/>
                  </a:moveTo>
                  <a:lnTo>
                    <a:pt x="2" y="2885"/>
                  </a:lnTo>
                  <a:cubicBezTo>
                    <a:pt x="2" y="2876"/>
                    <a:pt x="10" y="2868"/>
                    <a:pt x="19" y="2868"/>
                  </a:cubicBezTo>
                  <a:cubicBezTo>
                    <a:pt x="28" y="2868"/>
                    <a:pt x="36" y="2876"/>
                    <a:pt x="36" y="2885"/>
                  </a:cubicBezTo>
                  <a:lnTo>
                    <a:pt x="36" y="2885"/>
                  </a:lnTo>
                  <a:cubicBezTo>
                    <a:pt x="36" y="2894"/>
                    <a:pt x="28" y="2901"/>
                    <a:pt x="19" y="2901"/>
                  </a:cubicBezTo>
                  <a:cubicBezTo>
                    <a:pt x="10" y="2901"/>
                    <a:pt x="2" y="2894"/>
                    <a:pt x="2" y="2885"/>
                  </a:cubicBezTo>
                  <a:close/>
                  <a:moveTo>
                    <a:pt x="2" y="2818"/>
                  </a:moveTo>
                  <a:lnTo>
                    <a:pt x="2" y="2818"/>
                  </a:lnTo>
                  <a:cubicBezTo>
                    <a:pt x="2" y="2809"/>
                    <a:pt x="10" y="2801"/>
                    <a:pt x="19" y="2801"/>
                  </a:cubicBezTo>
                  <a:cubicBezTo>
                    <a:pt x="28" y="2801"/>
                    <a:pt x="36" y="2809"/>
                    <a:pt x="36" y="2818"/>
                  </a:cubicBezTo>
                  <a:lnTo>
                    <a:pt x="36" y="2818"/>
                  </a:lnTo>
                  <a:cubicBezTo>
                    <a:pt x="36" y="2827"/>
                    <a:pt x="28" y="2835"/>
                    <a:pt x="19" y="2835"/>
                  </a:cubicBezTo>
                  <a:cubicBezTo>
                    <a:pt x="10" y="2835"/>
                    <a:pt x="2" y="2827"/>
                    <a:pt x="2" y="2818"/>
                  </a:cubicBezTo>
                  <a:close/>
                  <a:moveTo>
                    <a:pt x="3" y="2751"/>
                  </a:moveTo>
                  <a:lnTo>
                    <a:pt x="3" y="2751"/>
                  </a:lnTo>
                  <a:cubicBezTo>
                    <a:pt x="3" y="2742"/>
                    <a:pt x="10" y="2735"/>
                    <a:pt x="19" y="2735"/>
                  </a:cubicBezTo>
                  <a:cubicBezTo>
                    <a:pt x="28" y="2735"/>
                    <a:pt x="36" y="2742"/>
                    <a:pt x="36" y="2751"/>
                  </a:cubicBezTo>
                  <a:lnTo>
                    <a:pt x="36" y="2751"/>
                  </a:lnTo>
                  <a:cubicBezTo>
                    <a:pt x="36" y="2761"/>
                    <a:pt x="28" y="2768"/>
                    <a:pt x="19" y="2768"/>
                  </a:cubicBezTo>
                  <a:cubicBezTo>
                    <a:pt x="10" y="2768"/>
                    <a:pt x="3" y="2761"/>
                    <a:pt x="3" y="2751"/>
                  </a:cubicBezTo>
                  <a:close/>
                  <a:moveTo>
                    <a:pt x="3" y="2685"/>
                  </a:moveTo>
                  <a:lnTo>
                    <a:pt x="3" y="2685"/>
                  </a:lnTo>
                  <a:cubicBezTo>
                    <a:pt x="3" y="2675"/>
                    <a:pt x="10" y="2668"/>
                    <a:pt x="19" y="2668"/>
                  </a:cubicBezTo>
                  <a:cubicBezTo>
                    <a:pt x="29" y="2668"/>
                    <a:pt x="36" y="2675"/>
                    <a:pt x="36" y="2685"/>
                  </a:cubicBezTo>
                  <a:lnTo>
                    <a:pt x="36" y="2685"/>
                  </a:lnTo>
                  <a:cubicBezTo>
                    <a:pt x="36" y="2694"/>
                    <a:pt x="29" y="2701"/>
                    <a:pt x="19" y="2701"/>
                  </a:cubicBezTo>
                  <a:cubicBezTo>
                    <a:pt x="10" y="2701"/>
                    <a:pt x="3" y="2694"/>
                    <a:pt x="3" y="2685"/>
                  </a:cubicBezTo>
                  <a:close/>
                  <a:moveTo>
                    <a:pt x="3" y="2618"/>
                  </a:moveTo>
                  <a:lnTo>
                    <a:pt x="3" y="2618"/>
                  </a:lnTo>
                  <a:cubicBezTo>
                    <a:pt x="3" y="2609"/>
                    <a:pt x="10" y="2601"/>
                    <a:pt x="19" y="2601"/>
                  </a:cubicBezTo>
                  <a:cubicBezTo>
                    <a:pt x="29" y="2601"/>
                    <a:pt x="36" y="2609"/>
                    <a:pt x="36" y="2618"/>
                  </a:cubicBezTo>
                  <a:lnTo>
                    <a:pt x="36" y="2618"/>
                  </a:lnTo>
                  <a:cubicBezTo>
                    <a:pt x="36" y="2627"/>
                    <a:pt x="29" y="2635"/>
                    <a:pt x="19" y="2635"/>
                  </a:cubicBezTo>
                  <a:cubicBezTo>
                    <a:pt x="10" y="2635"/>
                    <a:pt x="3" y="2627"/>
                    <a:pt x="3" y="2618"/>
                  </a:cubicBezTo>
                  <a:close/>
                  <a:moveTo>
                    <a:pt x="3" y="2551"/>
                  </a:moveTo>
                  <a:lnTo>
                    <a:pt x="3" y="2551"/>
                  </a:lnTo>
                  <a:cubicBezTo>
                    <a:pt x="3" y="2542"/>
                    <a:pt x="10" y="2535"/>
                    <a:pt x="19" y="2535"/>
                  </a:cubicBezTo>
                  <a:cubicBezTo>
                    <a:pt x="29" y="2535"/>
                    <a:pt x="36" y="2542"/>
                    <a:pt x="36" y="2551"/>
                  </a:cubicBezTo>
                  <a:lnTo>
                    <a:pt x="36" y="2551"/>
                  </a:lnTo>
                  <a:cubicBezTo>
                    <a:pt x="36" y="2561"/>
                    <a:pt x="29" y="2568"/>
                    <a:pt x="19" y="2568"/>
                  </a:cubicBezTo>
                  <a:cubicBezTo>
                    <a:pt x="10" y="2568"/>
                    <a:pt x="3" y="2561"/>
                    <a:pt x="3" y="2551"/>
                  </a:cubicBezTo>
                  <a:close/>
                  <a:moveTo>
                    <a:pt x="3" y="2485"/>
                  </a:moveTo>
                  <a:lnTo>
                    <a:pt x="3" y="2485"/>
                  </a:lnTo>
                  <a:cubicBezTo>
                    <a:pt x="3" y="2475"/>
                    <a:pt x="10" y="2468"/>
                    <a:pt x="20" y="2468"/>
                  </a:cubicBezTo>
                  <a:cubicBezTo>
                    <a:pt x="29" y="2468"/>
                    <a:pt x="36" y="2475"/>
                    <a:pt x="36" y="2485"/>
                  </a:cubicBezTo>
                  <a:lnTo>
                    <a:pt x="36" y="2485"/>
                  </a:lnTo>
                  <a:cubicBezTo>
                    <a:pt x="36" y="2494"/>
                    <a:pt x="29" y="2501"/>
                    <a:pt x="20" y="2501"/>
                  </a:cubicBezTo>
                  <a:cubicBezTo>
                    <a:pt x="10" y="2501"/>
                    <a:pt x="3" y="2494"/>
                    <a:pt x="3" y="2485"/>
                  </a:cubicBezTo>
                  <a:close/>
                  <a:moveTo>
                    <a:pt x="3" y="2418"/>
                  </a:moveTo>
                  <a:lnTo>
                    <a:pt x="3" y="2418"/>
                  </a:lnTo>
                  <a:cubicBezTo>
                    <a:pt x="3" y="2409"/>
                    <a:pt x="10" y="2401"/>
                    <a:pt x="20" y="2401"/>
                  </a:cubicBezTo>
                  <a:cubicBezTo>
                    <a:pt x="29" y="2401"/>
                    <a:pt x="36" y="2409"/>
                    <a:pt x="36" y="2418"/>
                  </a:cubicBezTo>
                  <a:lnTo>
                    <a:pt x="36" y="2418"/>
                  </a:lnTo>
                  <a:cubicBezTo>
                    <a:pt x="36" y="2427"/>
                    <a:pt x="29" y="2435"/>
                    <a:pt x="20" y="2435"/>
                  </a:cubicBezTo>
                  <a:cubicBezTo>
                    <a:pt x="10" y="2435"/>
                    <a:pt x="3" y="2427"/>
                    <a:pt x="3" y="2418"/>
                  </a:cubicBezTo>
                  <a:close/>
                  <a:moveTo>
                    <a:pt x="3" y="2351"/>
                  </a:moveTo>
                  <a:lnTo>
                    <a:pt x="3" y="2351"/>
                  </a:lnTo>
                  <a:cubicBezTo>
                    <a:pt x="3" y="2342"/>
                    <a:pt x="11" y="2334"/>
                    <a:pt x="20" y="2334"/>
                  </a:cubicBezTo>
                  <a:cubicBezTo>
                    <a:pt x="29" y="2334"/>
                    <a:pt x="36" y="2342"/>
                    <a:pt x="36" y="2351"/>
                  </a:cubicBezTo>
                  <a:lnTo>
                    <a:pt x="36" y="2351"/>
                  </a:lnTo>
                  <a:cubicBezTo>
                    <a:pt x="36" y="2360"/>
                    <a:pt x="29" y="2368"/>
                    <a:pt x="20" y="2368"/>
                  </a:cubicBezTo>
                  <a:cubicBezTo>
                    <a:pt x="11" y="2368"/>
                    <a:pt x="3" y="2360"/>
                    <a:pt x="3" y="2351"/>
                  </a:cubicBezTo>
                  <a:close/>
                  <a:moveTo>
                    <a:pt x="3" y="2285"/>
                  </a:moveTo>
                  <a:lnTo>
                    <a:pt x="3" y="2284"/>
                  </a:lnTo>
                  <a:cubicBezTo>
                    <a:pt x="3" y="2275"/>
                    <a:pt x="11" y="2268"/>
                    <a:pt x="20" y="2268"/>
                  </a:cubicBezTo>
                  <a:cubicBezTo>
                    <a:pt x="29" y="2268"/>
                    <a:pt x="37" y="2275"/>
                    <a:pt x="37" y="2284"/>
                  </a:cubicBezTo>
                  <a:lnTo>
                    <a:pt x="37" y="2285"/>
                  </a:lnTo>
                  <a:cubicBezTo>
                    <a:pt x="37" y="2294"/>
                    <a:pt x="29" y="2301"/>
                    <a:pt x="20" y="2301"/>
                  </a:cubicBezTo>
                  <a:cubicBezTo>
                    <a:pt x="11" y="2301"/>
                    <a:pt x="3" y="2294"/>
                    <a:pt x="3" y="2285"/>
                  </a:cubicBezTo>
                  <a:close/>
                  <a:moveTo>
                    <a:pt x="3" y="2218"/>
                  </a:moveTo>
                  <a:lnTo>
                    <a:pt x="3" y="2218"/>
                  </a:lnTo>
                  <a:cubicBezTo>
                    <a:pt x="3" y="2209"/>
                    <a:pt x="11" y="2201"/>
                    <a:pt x="20" y="2201"/>
                  </a:cubicBezTo>
                  <a:cubicBezTo>
                    <a:pt x="29" y="2201"/>
                    <a:pt x="37" y="2209"/>
                    <a:pt x="37" y="2218"/>
                  </a:cubicBezTo>
                  <a:lnTo>
                    <a:pt x="37" y="2218"/>
                  </a:lnTo>
                  <a:cubicBezTo>
                    <a:pt x="37" y="2227"/>
                    <a:pt x="29" y="2234"/>
                    <a:pt x="20" y="2234"/>
                  </a:cubicBezTo>
                  <a:cubicBezTo>
                    <a:pt x="11" y="2234"/>
                    <a:pt x="3" y="2227"/>
                    <a:pt x="3" y="2218"/>
                  </a:cubicBezTo>
                  <a:close/>
                  <a:moveTo>
                    <a:pt x="3" y="2151"/>
                  </a:moveTo>
                  <a:lnTo>
                    <a:pt x="3" y="2151"/>
                  </a:lnTo>
                  <a:cubicBezTo>
                    <a:pt x="3" y="2142"/>
                    <a:pt x="11" y="2134"/>
                    <a:pt x="20" y="2134"/>
                  </a:cubicBezTo>
                  <a:cubicBezTo>
                    <a:pt x="29" y="2134"/>
                    <a:pt x="37" y="2142"/>
                    <a:pt x="37" y="2151"/>
                  </a:cubicBezTo>
                  <a:lnTo>
                    <a:pt x="37" y="2151"/>
                  </a:lnTo>
                  <a:cubicBezTo>
                    <a:pt x="37" y="2160"/>
                    <a:pt x="29" y="2168"/>
                    <a:pt x="20" y="2168"/>
                  </a:cubicBezTo>
                  <a:cubicBezTo>
                    <a:pt x="11" y="2168"/>
                    <a:pt x="3" y="2160"/>
                    <a:pt x="3" y="2151"/>
                  </a:cubicBezTo>
                  <a:close/>
                  <a:moveTo>
                    <a:pt x="3" y="2084"/>
                  </a:moveTo>
                  <a:lnTo>
                    <a:pt x="3" y="2084"/>
                  </a:lnTo>
                  <a:cubicBezTo>
                    <a:pt x="3" y="2075"/>
                    <a:pt x="11" y="2068"/>
                    <a:pt x="20" y="2068"/>
                  </a:cubicBezTo>
                  <a:cubicBezTo>
                    <a:pt x="29" y="2068"/>
                    <a:pt x="37" y="2075"/>
                    <a:pt x="37" y="2084"/>
                  </a:cubicBezTo>
                  <a:lnTo>
                    <a:pt x="37" y="2084"/>
                  </a:lnTo>
                  <a:cubicBezTo>
                    <a:pt x="37" y="2094"/>
                    <a:pt x="29" y="2101"/>
                    <a:pt x="20" y="2101"/>
                  </a:cubicBezTo>
                  <a:cubicBezTo>
                    <a:pt x="11" y="2101"/>
                    <a:pt x="3" y="2094"/>
                    <a:pt x="3" y="2084"/>
                  </a:cubicBezTo>
                  <a:close/>
                  <a:moveTo>
                    <a:pt x="4" y="2018"/>
                  </a:moveTo>
                  <a:lnTo>
                    <a:pt x="4" y="2018"/>
                  </a:lnTo>
                  <a:cubicBezTo>
                    <a:pt x="4" y="2008"/>
                    <a:pt x="11" y="2001"/>
                    <a:pt x="20" y="2001"/>
                  </a:cubicBezTo>
                  <a:cubicBezTo>
                    <a:pt x="29" y="2001"/>
                    <a:pt x="37" y="2008"/>
                    <a:pt x="37" y="2018"/>
                  </a:cubicBezTo>
                  <a:lnTo>
                    <a:pt x="37" y="2018"/>
                  </a:lnTo>
                  <a:cubicBezTo>
                    <a:pt x="37" y="2027"/>
                    <a:pt x="29" y="2034"/>
                    <a:pt x="20" y="2034"/>
                  </a:cubicBezTo>
                  <a:cubicBezTo>
                    <a:pt x="11" y="2034"/>
                    <a:pt x="4" y="2027"/>
                    <a:pt x="4" y="2018"/>
                  </a:cubicBezTo>
                  <a:close/>
                  <a:moveTo>
                    <a:pt x="4" y="1951"/>
                  </a:moveTo>
                  <a:lnTo>
                    <a:pt x="4" y="1951"/>
                  </a:lnTo>
                  <a:cubicBezTo>
                    <a:pt x="4" y="1942"/>
                    <a:pt x="11" y="1934"/>
                    <a:pt x="20" y="1934"/>
                  </a:cubicBezTo>
                  <a:cubicBezTo>
                    <a:pt x="30" y="1934"/>
                    <a:pt x="37" y="1942"/>
                    <a:pt x="37" y="1951"/>
                  </a:cubicBezTo>
                  <a:lnTo>
                    <a:pt x="37" y="1951"/>
                  </a:lnTo>
                  <a:cubicBezTo>
                    <a:pt x="37" y="1960"/>
                    <a:pt x="30" y="1968"/>
                    <a:pt x="20" y="1968"/>
                  </a:cubicBezTo>
                  <a:cubicBezTo>
                    <a:pt x="11" y="1968"/>
                    <a:pt x="4" y="1960"/>
                    <a:pt x="4" y="1951"/>
                  </a:cubicBezTo>
                  <a:close/>
                  <a:moveTo>
                    <a:pt x="4" y="1884"/>
                  </a:moveTo>
                  <a:lnTo>
                    <a:pt x="4" y="1884"/>
                  </a:lnTo>
                  <a:cubicBezTo>
                    <a:pt x="4" y="1875"/>
                    <a:pt x="11" y="1868"/>
                    <a:pt x="20" y="1868"/>
                  </a:cubicBezTo>
                  <a:cubicBezTo>
                    <a:pt x="30" y="1868"/>
                    <a:pt x="37" y="1875"/>
                    <a:pt x="37" y="1884"/>
                  </a:cubicBezTo>
                  <a:lnTo>
                    <a:pt x="37" y="1884"/>
                  </a:lnTo>
                  <a:cubicBezTo>
                    <a:pt x="37" y="1893"/>
                    <a:pt x="30" y="1901"/>
                    <a:pt x="20" y="1901"/>
                  </a:cubicBezTo>
                  <a:cubicBezTo>
                    <a:pt x="11" y="1901"/>
                    <a:pt x="4" y="1893"/>
                    <a:pt x="4" y="1884"/>
                  </a:cubicBezTo>
                  <a:close/>
                  <a:moveTo>
                    <a:pt x="4" y="1818"/>
                  </a:moveTo>
                  <a:lnTo>
                    <a:pt x="4" y="1818"/>
                  </a:lnTo>
                  <a:cubicBezTo>
                    <a:pt x="4" y="1808"/>
                    <a:pt x="11" y="1801"/>
                    <a:pt x="21" y="1801"/>
                  </a:cubicBezTo>
                  <a:cubicBezTo>
                    <a:pt x="30" y="1801"/>
                    <a:pt x="37" y="1808"/>
                    <a:pt x="37" y="1818"/>
                  </a:cubicBezTo>
                  <a:lnTo>
                    <a:pt x="37" y="1818"/>
                  </a:lnTo>
                  <a:cubicBezTo>
                    <a:pt x="37" y="1827"/>
                    <a:pt x="30" y="1834"/>
                    <a:pt x="21" y="1834"/>
                  </a:cubicBezTo>
                  <a:cubicBezTo>
                    <a:pt x="11" y="1834"/>
                    <a:pt x="4" y="1827"/>
                    <a:pt x="4" y="1818"/>
                  </a:cubicBezTo>
                  <a:close/>
                  <a:moveTo>
                    <a:pt x="4" y="1751"/>
                  </a:moveTo>
                  <a:lnTo>
                    <a:pt x="4" y="1751"/>
                  </a:lnTo>
                  <a:cubicBezTo>
                    <a:pt x="4" y="1742"/>
                    <a:pt x="11" y="1734"/>
                    <a:pt x="21" y="1734"/>
                  </a:cubicBezTo>
                  <a:cubicBezTo>
                    <a:pt x="30" y="1734"/>
                    <a:pt x="37" y="1742"/>
                    <a:pt x="37" y="1751"/>
                  </a:cubicBezTo>
                  <a:lnTo>
                    <a:pt x="37" y="1751"/>
                  </a:lnTo>
                  <a:cubicBezTo>
                    <a:pt x="37" y="1760"/>
                    <a:pt x="30" y="1768"/>
                    <a:pt x="21" y="1768"/>
                  </a:cubicBezTo>
                  <a:cubicBezTo>
                    <a:pt x="11" y="1768"/>
                    <a:pt x="4" y="1760"/>
                    <a:pt x="4" y="1751"/>
                  </a:cubicBezTo>
                  <a:close/>
                  <a:moveTo>
                    <a:pt x="4" y="1684"/>
                  </a:moveTo>
                  <a:lnTo>
                    <a:pt x="4" y="1684"/>
                  </a:lnTo>
                  <a:cubicBezTo>
                    <a:pt x="4" y="1675"/>
                    <a:pt x="11" y="1667"/>
                    <a:pt x="21" y="1667"/>
                  </a:cubicBezTo>
                  <a:cubicBezTo>
                    <a:pt x="30" y="1667"/>
                    <a:pt x="37" y="1675"/>
                    <a:pt x="37" y="1684"/>
                  </a:cubicBezTo>
                  <a:lnTo>
                    <a:pt x="37" y="1684"/>
                  </a:lnTo>
                  <a:cubicBezTo>
                    <a:pt x="37" y="1693"/>
                    <a:pt x="30" y="1701"/>
                    <a:pt x="21" y="1701"/>
                  </a:cubicBezTo>
                  <a:cubicBezTo>
                    <a:pt x="11" y="1701"/>
                    <a:pt x="4" y="1693"/>
                    <a:pt x="4" y="1684"/>
                  </a:cubicBezTo>
                  <a:close/>
                  <a:moveTo>
                    <a:pt x="4" y="1617"/>
                  </a:moveTo>
                  <a:lnTo>
                    <a:pt x="4" y="1617"/>
                  </a:lnTo>
                  <a:cubicBezTo>
                    <a:pt x="4" y="1608"/>
                    <a:pt x="12" y="1601"/>
                    <a:pt x="21" y="1601"/>
                  </a:cubicBezTo>
                  <a:cubicBezTo>
                    <a:pt x="30" y="1601"/>
                    <a:pt x="37" y="1608"/>
                    <a:pt x="37" y="1617"/>
                  </a:cubicBezTo>
                  <a:lnTo>
                    <a:pt x="37" y="1617"/>
                  </a:lnTo>
                  <a:cubicBezTo>
                    <a:pt x="37" y="1627"/>
                    <a:pt x="30" y="1634"/>
                    <a:pt x="21" y="1634"/>
                  </a:cubicBezTo>
                  <a:cubicBezTo>
                    <a:pt x="12" y="1634"/>
                    <a:pt x="4" y="1627"/>
                    <a:pt x="4" y="1617"/>
                  </a:cubicBezTo>
                  <a:close/>
                  <a:moveTo>
                    <a:pt x="4" y="1551"/>
                  </a:moveTo>
                  <a:lnTo>
                    <a:pt x="4" y="1551"/>
                  </a:lnTo>
                  <a:cubicBezTo>
                    <a:pt x="4" y="1542"/>
                    <a:pt x="12" y="1534"/>
                    <a:pt x="21" y="1534"/>
                  </a:cubicBezTo>
                  <a:cubicBezTo>
                    <a:pt x="30" y="1534"/>
                    <a:pt x="38" y="1542"/>
                    <a:pt x="38" y="1551"/>
                  </a:cubicBezTo>
                  <a:lnTo>
                    <a:pt x="38" y="1551"/>
                  </a:lnTo>
                  <a:cubicBezTo>
                    <a:pt x="38" y="1560"/>
                    <a:pt x="30" y="1567"/>
                    <a:pt x="21" y="1567"/>
                  </a:cubicBezTo>
                  <a:cubicBezTo>
                    <a:pt x="12" y="1567"/>
                    <a:pt x="4" y="1560"/>
                    <a:pt x="4" y="1551"/>
                  </a:cubicBezTo>
                  <a:close/>
                  <a:moveTo>
                    <a:pt x="4" y="1484"/>
                  </a:moveTo>
                  <a:lnTo>
                    <a:pt x="4" y="1484"/>
                  </a:lnTo>
                  <a:cubicBezTo>
                    <a:pt x="4" y="1475"/>
                    <a:pt x="12" y="1467"/>
                    <a:pt x="21" y="1467"/>
                  </a:cubicBezTo>
                  <a:cubicBezTo>
                    <a:pt x="30" y="1467"/>
                    <a:pt x="38" y="1475"/>
                    <a:pt x="38" y="1484"/>
                  </a:cubicBezTo>
                  <a:lnTo>
                    <a:pt x="38" y="1484"/>
                  </a:lnTo>
                  <a:cubicBezTo>
                    <a:pt x="38" y="1493"/>
                    <a:pt x="30" y="1501"/>
                    <a:pt x="21" y="1501"/>
                  </a:cubicBezTo>
                  <a:cubicBezTo>
                    <a:pt x="12" y="1501"/>
                    <a:pt x="4" y="1493"/>
                    <a:pt x="4" y="1484"/>
                  </a:cubicBezTo>
                  <a:close/>
                  <a:moveTo>
                    <a:pt x="4" y="1417"/>
                  </a:moveTo>
                  <a:lnTo>
                    <a:pt x="4" y="1417"/>
                  </a:lnTo>
                  <a:cubicBezTo>
                    <a:pt x="4" y="1408"/>
                    <a:pt x="12" y="1401"/>
                    <a:pt x="21" y="1401"/>
                  </a:cubicBezTo>
                  <a:cubicBezTo>
                    <a:pt x="30" y="1401"/>
                    <a:pt x="38" y="1408"/>
                    <a:pt x="38" y="1417"/>
                  </a:cubicBezTo>
                  <a:lnTo>
                    <a:pt x="38" y="1417"/>
                  </a:lnTo>
                  <a:cubicBezTo>
                    <a:pt x="38" y="1427"/>
                    <a:pt x="30" y="1434"/>
                    <a:pt x="21" y="1434"/>
                  </a:cubicBezTo>
                  <a:cubicBezTo>
                    <a:pt x="12" y="1434"/>
                    <a:pt x="4" y="1427"/>
                    <a:pt x="4" y="1417"/>
                  </a:cubicBezTo>
                  <a:close/>
                  <a:moveTo>
                    <a:pt x="5" y="1351"/>
                  </a:moveTo>
                  <a:lnTo>
                    <a:pt x="5" y="1351"/>
                  </a:lnTo>
                  <a:cubicBezTo>
                    <a:pt x="5" y="1341"/>
                    <a:pt x="12" y="1334"/>
                    <a:pt x="21" y="1334"/>
                  </a:cubicBezTo>
                  <a:cubicBezTo>
                    <a:pt x="30" y="1334"/>
                    <a:pt x="38" y="1341"/>
                    <a:pt x="38" y="1351"/>
                  </a:cubicBezTo>
                  <a:lnTo>
                    <a:pt x="38" y="1351"/>
                  </a:lnTo>
                  <a:cubicBezTo>
                    <a:pt x="38" y="1360"/>
                    <a:pt x="30" y="1367"/>
                    <a:pt x="21" y="1367"/>
                  </a:cubicBezTo>
                  <a:cubicBezTo>
                    <a:pt x="12" y="1367"/>
                    <a:pt x="5" y="1360"/>
                    <a:pt x="5" y="1351"/>
                  </a:cubicBezTo>
                  <a:close/>
                  <a:moveTo>
                    <a:pt x="5" y="1284"/>
                  </a:moveTo>
                  <a:lnTo>
                    <a:pt x="5" y="1284"/>
                  </a:lnTo>
                  <a:cubicBezTo>
                    <a:pt x="5" y="1275"/>
                    <a:pt x="12" y="1267"/>
                    <a:pt x="21" y="1267"/>
                  </a:cubicBezTo>
                  <a:cubicBezTo>
                    <a:pt x="30" y="1267"/>
                    <a:pt x="38" y="1275"/>
                    <a:pt x="38" y="1284"/>
                  </a:cubicBezTo>
                  <a:lnTo>
                    <a:pt x="38" y="1284"/>
                  </a:lnTo>
                  <a:cubicBezTo>
                    <a:pt x="38" y="1293"/>
                    <a:pt x="30" y="1301"/>
                    <a:pt x="21" y="1301"/>
                  </a:cubicBezTo>
                  <a:cubicBezTo>
                    <a:pt x="12" y="1301"/>
                    <a:pt x="5" y="1293"/>
                    <a:pt x="5" y="1284"/>
                  </a:cubicBezTo>
                  <a:close/>
                  <a:moveTo>
                    <a:pt x="5" y="1217"/>
                  </a:moveTo>
                  <a:lnTo>
                    <a:pt x="5" y="1217"/>
                  </a:lnTo>
                  <a:cubicBezTo>
                    <a:pt x="5" y="1208"/>
                    <a:pt x="12" y="1201"/>
                    <a:pt x="21" y="1201"/>
                  </a:cubicBezTo>
                  <a:cubicBezTo>
                    <a:pt x="31" y="1201"/>
                    <a:pt x="38" y="1208"/>
                    <a:pt x="38" y="1217"/>
                  </a:cubicBezTo>
                  <a:lnTo>
                    <a:pt x="38" y="1217"/>
                  </a:lnTo>
                  <a:cubicBezTo>
                    <a:pt x="38" y="1227"/>
                    <a:pt x="31" y="1234"/>
                    <a:pt x="21" y="1234"/>
                  </a:cubicBezTo>
                  <a:cubicBezTo>
                    <a:pt x="12" y="1234"/>
                    <a:pt x="5" y="1227"/>
                    <a:pt x="5" y="1217"/>
                  </a:cubicBezTo>
                  <a:close/>
                  <a:moveTo>
                    <a:pt x="5" y="1151"/>
                  </a:moveTo>
                  <a:lnTo>
                    <a:pt x="5" y="1151"/>
                  </a:lnTo>
                  <a:cubicBezTo>
                    <a:pt x="5" y="1141"/>
                    <a:pt x="12" y="1134"/>
                    <a:pt x="21" y="1134"/>
                  </a:cubicBezTo>
                  <a:cubicBezTo>
                    <a:pt x="31" y="1134"/>
                    <a:pt x="38" y="1141"/>
                    <a:pt x="38" y="1151"/>
                  </a:cubicBezTo>
                  <a:lnTo>
                    <a:pt x="38" y="1151"/>
                  </a:lnTo>
                  <a:cubicBezTo>
                    <a:pt x="38" y="1160"/>
                    <a:pt x="31" y="1167"/>
                    <a:pt x="21" y="1167"/>
                  </a:cubicBezTo>
                  <a:cubicBezTo>
                    <a:pt x="12" y="1167"/>
                    <a:pt x="5" y="1160"/>
                    <a:pt x="5" y="1151"/>
                  </a:cubicBezTo>
                  <a:close/>
                  <a:moveTo>
                    <a:pt x="5" y="1084"/>
                  </a:moveTo>
                  <a:lnTo>
                    <a:pt x="5" y="1084"/>
                  </a:lnTo>
                  <a:cubicBezTo>
                    <a:pt x="5" y="1075"/>
                    <a:pt x="12" y="1067"/>
                    <a:pt x="22" y="1067"/>
                  </a:cubicBezTo>
                  <a:cubicBezTo>
                    <a:pt x="31" y="1067"/>
                    <a:pt x="38" y="1075"/>
                    <a:pt x="38" y="1084"/>
                  </a:cubicBezTo>
                  <a:lnTo>
                    <a:pt x="38" y="1084"/>
                  </a:lnTo>
                  <a:cubicBezTo>
                    <a:pt x="38" y="1093"/>
                    <a:pt x="31" y="1101"/>
                    <a:pt x="22" y="1101"/>
                  </a:cubicBezTo>
                  <a:cubicBezTo>
                    <a:pt x="12" y="1101"/>
                    <a:pt x="5" y="1093"/>
                    <a:pt x="5" y="1084"/>
                  </a:cubicBezTo>
                  <a:close/>
                  <a:moveTo>
                    <a:pt x="5" y="1017"/>
                  </a:moveTo>
                  <a:lnTo>
                    <a:pt x="5" y="1017"/>
                  </a:lnTo>
                  <a:cubicBezTo>
                    <a:pt x="5" y="1008"/>
                    <a:pt x="12" y="1000"/>
                    <a:pt x="22" y="1000"/>
                  </a:cubicBezTo>
                  <a:cubicBezTo>
                    <a:pt x="31" y="1000"/>
                    <a:pt x="38" y="1008"/>
                    <a:pt x="38" y="1017"/>
                  </a:cubicBezTo>
                  <a:lnTo>
                    <a:pt x="38" y="1017"/>
                  </a:lnTo>
                  <a:cubicBezTo>
                    <a:pt x="38" y="1026"/>
                    <a:pt x="31" y="1034"/>
                    <a:pt x="22" y="1034"/>
                  </a:cubicBezTo>
                  <a:cubicBezTo>
                    <a:pt x="12" y="1034"/>
                    <a:pt x="5" y="1026"/>
                    <a:pt x="5" y="1017"/>
                  </a:cubicBezTo>
                  <a:close/>
                  <a:moveTo>
                    <a:pt x="5" y="951"/>
                  </a:moveTo>
                  <a:lnTo>
                    <a:pt x="5" y="950"/>
                  </a:lnTo>
                  <a:cubicBezTo>
                    <a:pt x="5" y="941"/>
                    <a:pt x="13" y="934"/>
                    <a:pt x="22" y="934"/>
                  </a:cubicBezTo>
                  <a:cubicBezTo>
                    <a:pt x="31" y="934"/>
                    <a:pt x="38" y="941"/>
                    <a:pt x="38" y="950"/>
                  </a:cubicBezTo>
                  <a:lnTo>
                    <a:pt x="38" y="951"/>
                  </a:lnTo>
                  <a:cubicBezTo>
                    <a:pt x="38" y="960"/>
                    <a:pt x="31" y="967"/>
                    <a:pt x="22" y="967"/>
                  </a:cubicBezTo>
                  <a:cubicBezTo>
                    <a:pt x="13" y="967"/>
                    <a:pt x="5" y="960"/>
                    <a:pt x="5" y="951"/>
                  </a:cubicBezTo>
                  <a:close/>
                  <a:moveTo>
                    <a:pt x="5" y="884"/>
                  </a:moveTo>
                  <a:lnTo>
                    <a:pt x="5" y="884"/>
                  </a:lnTo>
                  <a:cubicBezTo>
                    <a:pt x="5" y="875"/>
                    <a:pt x="13" y="867"/>
                    <a:pt x="22" y="867"/>
                  </a:cubicBezTo>
                  <a:cubicBezTo>
                    <a:pt x="31" y="867"/>
                    <a:pt x="38" y="875"/>
                    <a:pt x="38" y="884"/>
                  </a:cubicBezTo>
                  <a:lnTo>
                    <a:pt x="38" y="884"/>
                  </a:lnTo>
                  <a:cubicBezTo>
                    <a:pt x="38" y="893"/>
                    <a:pt x="31" y="900"/>
                    <a:pt x="22" y="900"/>
                  </a:cubicBezTo>
                  <a:cubicBezTo>
                    <a:pt x="13" y="900"/>
                    <a:pt x="5" y="893"/>
                    <a:pt x="5" y="884"/>
                  </a:cubicBezTo>
                  <a:close/>
                  <a:moveTo>
                    <a:pt x="5" y="817"/>
                  </a:moveTo>
                  <a:lnTo>
                    <a:pt x="5" y="817"/>
                  </a:lnTo>
                  <a:cubicBezTo>
                    <a:pt x="5" y="808"/>
                    <a:pt x="13" y="800"/>
                    <a:pt x="22" y="800"/>
                  </a:cubicBezTo>
                  <a:cubicBezTo>
                    <a:pt x="31" y="800"/>
                    <a:pt x="39" y="808"/>
                    <a:pt x="39" y="817"/>
                  </a:cubicBezTo>
                  <a:lnTo>
                    <a:pt x="39" y="817"/>
                  </a:lnTo>
                  <a:cubicBezTo>
                    <a:pt x="39" y="826"/>
                    <a:pt x="31" y="834"/>
                    <a:pt x="22" y="834"/>
                  </a:cubicBezTo>
                  <a:cubicBezTo>
                    <a:pt x="13" y="834"/>
                    <a:pt x="5" y="826"/>
                    <a:pt x="5" y="817"/>
                  </a:cubicBezTo>
                  <a:close/>
                  <a:moveTo>
                    <a:pt x="5" y="750"/>
                  </a:moveTo>
                  <a:lnTo>
                    <a:pt x="5" y="750"/>
                  </a:lnTo>
                  <a:cubicBezTo>
                    <a:pt x="5" y="741"/>
                    <a:pt x="13" y="734"/>
                    <a:pt x="22" y="734"/>
                  </a:cubicBezTo>
                  <a:cubicBezTo>
                    <a:pt x="31" y="734"/>
                    <a:pt x="39" y="741"/>
                    <a:pt x="39" y="750"/>
                  </a:cubicBezTo>
                  <a:lnTo>
                    <a:pt x="39" y="750"/>
                  </a:lnTo>
                  <a:cubicBezTo>
                    <a:pt x="39" y="760"/>
                    <a:pt x="31" y="767"/>
                    <a:pt x="22" y="767"/>
                  </a:cubicBezTo>
                  <a:cubicBezTo>
                    <a:pt x="13" y="767"/>
                    <a:pt x="5" y="760"/>
                    <a:pt x="5" y="750"/>
                  </a:cubicBezTo>
                  <a:close/>
                  <a:moveTo>
                    <a:pt x="5" y="684"/>
                  </a:moveTo>
                  <a:lnTo>
                    <a:pt x="5" y="684"/>
                  </a:lnTo>
                  <a:cubicBezTo>
                    <a:pt x="5" y="674"/>
                    <a:pt x="13" y="667"/>
                    <a:pt x="22" y="667"/>
                  </a:cubicBezTo>
                  <a:cubicBezTo>
                    <a:pt x="31" y="667"/>
                    <a:pt x="39" y="674"/>
                    <a:pt x="39" y="684"/>
                  </a:cubicBezTo>
                  <a:lnTo>
                    <a:pt x="39" y="684"/>
                  </a:lnTo>
                  <a:cubicBezTo>
                    <a:pt x="39" y="693"/>
                    <a:pt x="31" y="700"/>
                    <a:pt x="22" y="700"/>
                  </a:cubicBezTo>
                  <a:cubicBezTo>
                    <a:pt x="13" y="700"/>
                    <a:pt x="5" y="693"/>
                    <a:pt x="5" y="684"/>
                  </a:cubicBezTo>
                  <a:close/>
                  <a:moveTo>
                    <a:pt x="6" y="617"/>
                  </a:moveTo>
                  <a:lnTo>
                    <a:pt x="6" y="617"/>
                  </a:lnTo>
                  <a:cubicBezTo>
                    <a:pt x="6" y="608"/>
                    <a:pt x="13" y="600"/>
                    <a:pt x="22" y="600"/>
                  </a:cubicBezTo>
                  <a:cubicBezTo>
                    <a:pt x="31" y="600"/>
                    <a:pt x="39" y="608"/>
                    <a:pt x="39" y="617"/>
                  </a:cubicBezTo>
                  <a:lnTo>
                    <a:pt x="39" y="617"/>
                  </a:lnTo>
                  <a:cubicBezTo>
                    <a:pt x="39" y="626"/>
                    <a:pt x="31" y="634"/>
                    <a:pt x="22" y="634"/>
                  </a:cubicBezTo>
                  <a:cubicBezTo>
                    <a:pt x="13" y="634"/>
                    <a:pt x="6" y="626"/>
                    <a:pt x="6" y="617"/>
                  </a:cubicBezTo>
                  <a:close/>
                  <a:moveTo>
                    <a:pt x="6" y="550"/>
                  </a:moveTo>
                  <a:lnTo>
                    <a:pt x="6" y="550"/>
                  </a:lnTo>
                  <a:cubicBezTo>
                    <a:pt x="6" y="541"/>
                    <a:pt x="13" y="534"/>
                    <a:pt x="22" y="534"/>
                  </a:cubicBezTo>
                  <a:cubicBezTo>
                    <a:pt x="31" y="534"/>
                    <a:pt x="39" y="541"/>
                    <a:pt x="39" y="550"/>
                  </a:cubicBezTo>
                  <a:lnTo>
                    <a:pt x="39" y="550"/>
                  </a:lnTo>
                  <a:cubicBezTo>
                    <a:pt x="39" y="560"/>
                    <a:pt x="31" y="567"/>
                    <a:pt x="22" y="567"/>
                  </a:cubicBezTo>
                  <a:cubicBezTo>
                    <a:pt x="13" y="567"/>
                    <a:pt x="6" y="560"/>
                    <a:pt x="6" y="550"/>
                  </a:cubicBezTo>
                  <a:close/>
                  <a:moveTo>
                    <a:pt x="6" y="484"/>
                  </a:moveTo>
                  <a:lnTo>
                    <a:pt x="6" y="484"/>
                  </a:lnTo>
                  <a:cubicBezTo>
                    <a:pt x="6" y="474"/>
                    <a:pt x="13" y="467"/>
                    <a:pt x="22" y="467"/>
                  </a:cubicBezTo>
                  <a:cubicBezTo>
                    <a:pt x="32" y="467"/>
                    <a:pt x="39" y="474"/>
                    <a:pt x="39" y="484"/>
                  </a:cubicBezTo>
                  <a:lnTo>
                    <a:pt x="39" y="484"/>
                  </a:lnTo>
                  <a:cubicBezTo>
                    <a:pt x="39" y="493"/>
                    <a:pt x="32" y="500"/>
                    <a:pt x="22" y="500"/>
                  </a:cubicBezTo>
                  <a:cubicBezTo>
                    <a:pt x="13" y="500"/>
                    <a:pt x="6" y="493"/>
                    <a:pt x="6" y="484"/>
                  </a:cubicBezTo>
                  <a:close/>
                  <a:moveTo>
                    <a:pt x="6" y="417"/>
                  </a:moveTo>
                  <a:lnTo>
                    <a:pt x="6" y="417"/>
                  </a:lnTo>
                  <a:cubicBezTo>
                    <a:pt x="6" y="408"/>
                    <a:pt x="13" y="400"/>
                    <a:pt x="22" y="400"/>
                  </a:cubicBezTo>
                  <a:cubicBezTo>
                    <a:pt x="32" y="400"/>
                    <a:pt x="39" y="408"/>
                    <a:pt x="39" y="417"/>
                  </a:cubicBezTo>
                  <a:lnTo>
                    <a:pt x="39" y="417"/>
                  </a:lnTo>
                  <a:cubicBezTo>
                    <a:pt x="39" y="426"/>
                    <a:pt x="32" y="434"/>
                    <a:pt x="22" y="434"/>
                  </a:cubicBezTo>
                  <a:cubicBezTo>
                    <a:pt x="13" y="434"/>
                    <a:pt x="6" y="426"/>
                    <a:pt x="6" y="417"/>
                  </a:cubicBezTo>
                  <a:close/>
                  <a:moveTo>
                    <a:pt x="6" y="350"/>
                  </a:moveTo>
                  <a:lnTo>
                    <a:pt x="6" y="350"/>
                  </a:lnTo>
                  <a:cubicBezTo>
                    <a:pt x="6" y="341"/>
                    <a:pt x="13" y="334"/>
                    <a:pt x="23" y="334"/>
                  </a:cubicBezTo>
                  <a:cubicBezTo>
                    <a:pt x="32" y="334"/>
                    <a:pt x="39" y="341"/>
                    <a:pt x="39" y="350"/>
                  </a:cubicBezTo>
                  <a:lnTo>
                    <a:pt x="39" y="350"/>
                  </a:lnTo>
                  <a:cubicBezTo>
                    <a:pt x="39" y="359"/>
                    <a:pt x="32" y="367"/>
                    <a:pt x="23" y="367"/>
                  </a:cubicBezTo>
                  <a:cubicBezTo>
                    <a:pt x="13" y="367"/>
                    <a:pt x="6" y="359"/>
                    <a:pt x="6" y="350"/>
                  </a:cubicBezTo>
                  <a:close/>
                  <a:moveTo>
                    <a:pt x="6" y="284"/>
                  </a:moveTo>
                  <a:lnTo>
                    <a:pt x="6" y="283"/>
                  </a:lnTo>
                  <a:cubicBezTo>
                    <a:pt x="6" y="274"/>
                    <a:pt x="13" y="267"/>
                    <a:pt x="23" y="267"/>
                  </a:cubicBezTo>
                  <a:cubicBezTo>
                    <a:pt x="32" y="267"/>
                    <a:pt x="39" y="274"/>
                    <a:pt x="39" y="283"/>
                  </a:cubicBezTo>
                  <a:lnTo>
                    <a:pt x="39" y="284"/>
                  </a:lnTo>
                  <a:cubicBezTo>
                    <a:pt x="39" y="293"/>
                    <a:pt x="32" y="300"/>
                    <a:pt x="23" y="300"/>
                  </a:cubicBezTo>
                  <a:cubicBezTo>
                    <a:pt x="13" y="300"/>
                    <a:pt x="6" y="293"/>
                    <a:pt x="6" y="284"/>
                  </a:cubicBezTo>
                  <a:close/>
                  <a:moveTo>
                    <a:pt x="6" y="217"/>
                  </a:moveTo>
                  <a:lnTo>
                    <a:pt x="6" y="217"/>
                  </a:lnTo>
                  <a:cubicBezTo>
                    <a:pt x="6" y="208"/>
                    <a:pt x="14" y="200"/>
                    <a:pt x="23" y="200"/>
                  </a:cubicBezTo>
                  <a:cubicBezTo>
                    <a:pt x="32" y="200"/>
                    <a:pt x="39" y="208"/>
                    <a:pt x="39" y="217"/>
                  </a:cubicBezTo>
                  <a:lnTo>
                    <a:pt x="39" y="217"/>
                  </a:lnTo>
                  <a:cubicBezTo>
                    <a:pt x="39" y="226"/>
                    <a:pt x="32" y="233"/>
                    <a:pt x="23" y="233"/>
                  </a:cubicBezTo>
                  <a:cubicBezTo>
                    <a:pt x="14" y="233"/>
                    <a:pt x="6" y="226"/>
                    <a:pt x="6" y="217"/>
                  </a:cubicBezTo>
                  <a:close/>
                  <a:moveTo>
                    <a:pt x="6" y="150"/>
                  </a:moveTo>
                  <a:lnTo>
                    <a:pt x="6" y="150"/>
                  </a:lnTo>
                  <a:cubicBezTo>
                    <a:pt x="6" y="141"/>
                    <a:pt x="14" y="133"/>
                    <a:pt x="23" y="133"/>
                  </a:cubicBezTo>
                  <a:cubicBezTo>
                    <a:pt x="32" y="133"/>
                    <a:pt x="40" y="141"/>
                    <a:pt x="40" y="150"/>
                  </a:cubicBezTo>
                  <a:lnTo>
                    <a:pt x="40" y="150"/>
                  </a:lnTo>
                  <a:cubicBezTo>
                    <a:pt x="40" y="159"/>
                    <a:pt x="32" y="167"/>
                    <a:pt x="23" y="167"/>
                  </a:cubicBezTo>
                  <a:cubicBezTo>
                    <a:pt x="14" y="167"/>
                    <a:pt x="6" y="159"/>
                    <a:pt x="6" y="150"/>
                  </a:cubicBezTo>
                  <a:close/>
                  <a:moveTo>
                    <a:pt x="6" y="83"/>
                  </a:moveTo>
                  <a:lnTo>
                    <a:pt x="6" y="83"/>
                  </a:lnTo>
                  <a:cubicBezTo>
                    <a:pt x="6" y="74"/>
                    <a:pt x="14" y="67"/>
                    <a:pt x="23" y="67"/>
                  </a:cubicBezTo>
                  <a:cubicBezTo>
                    <a:pt x="32" y="67"/>
                    <a:pt x="40" y="74"/>
                    <a:pt x="40" y="83"/>
                  </a:cubicBezTo>
                  <a:lnTo>
                    <a:pt x="40" y="83"/>
                  </a:lnTo>
                  <a:cubicBezTo>
                    <a:pt x="40" y="93"/>
                    <a:pt x="32" y="100"/>
                    <a:pt x="23" y="100"/>
                  </a:cubicBezTo>
                  <a:cubicBezTo>
                    <a:pt x="14" y="100"/>
                    <a:pt x="6" y="93"/>
                    <a:pt x="6" y="83"/>
                  </a:cubicBezTo>
                  <a:close/>
                  <a:moveTo>
                    <a:pt x="6" y="17"/>
                  </a:moveTo>
                  <a:lnTo>
                    <a:pt x="6" y="17"/>
                  </a:lnTo>
                  <a:cubicBezTo>
                    <a:pt x="6" y="8"/>
                    <a:pt x="14" y="0"/>
                    <a:pt x="23" y="0"/>
                  </a:cubicBezTo>
                  <a:cubicBezTo>
                    <a:pt x="32" y="0"/>
                    <a:pt x="40" y="8"/>
                    <a:pt x="40" y="17"/>
                  </a:cubicBezTo>
                  <a:lnTo>
                    <a:pt x="40" y="17"/>
                  </a:lnTo>
                  <a:cubicBezTo>
                    <a:pt x="40" y="26"/>
                    <a:pt x="32" y="33"/>
                    <a:pt x="23" y="33"/>
                  </a:cubicBezTo>
                  <a:cubicBezTo>
                    <a:pt x="14" y="33"/>
                    <a:pt x="6" y="26"/>
                    <a:pt x="6" y="17"/>
                  </a:cubicBez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192480" y="2260440"/>
              <a:ext cx="3240" cy="454320"/>
            </a:xfrm>
            <a:custGeom>
              <a:avLst/>
              <a:gdLst/>
              <a:ahLst/>
              <a:rect l="l" t="t" r="r" b="b"/>
              <a:pathLst>
                <a:path w="40" h="4769">
                  <a:moveTo>
                    <a:pt x="0" y="4752"/>
                  </a:moveTo>
                  <a:lnTo>
                    <a:pt x="0" y="4752"/>
                  </a:lnTo>
                  <a:cubicBezTo>
                    <a:pt x="0" y="4743"/>
                    <a:pt x="7" y="4736"/>
                    <a:pt x="16" y="4736"/>
                  </a:cubicBezTo>
                  <a:cubicBezTo>
                    <a:pt x="26" y="4736"/>
                    <a:pt x="33" y="4743"/>
                    <a:pt x="33" y="4752"/>
                  </a:cubicBezTo>
                  <a:lnTo>
                    <a:pt x="33" y="4752"/>
                  </a:lnTo>
                  <a:cubicBezTo>
                    <a:pt x="33" y="4762"/>
                    <a:pt x="26" y="4769"/>
                    <a:pt x="16" y="4769"/>
                  </a:cubicBezTo>
                  <a:cubicBezTo>
                    <a:pt x="7" y="4769"/>
                    <a:pt x="0" y="4762"/>
                    <a:pt x="0" y="4752"/>
                  </a:cubicBezTo>
                  <a:close/>
                  <a:moveTo>
                    <a:pt x="0" y="4686"/>
                  </a:moveTo>
                  <a:lnTo>
                    <a:pt x="0" y="4686"/>
                  </a:lnTo>
                  <a:cubicBezTo>
                    <a:pt x="0" y="4677"/>
                    <a:pt x="7" y="4669"/>
                    <a:pt x="17" y="4669"/>
                  </a:cubicBezTo>
                  <a:cubicBezTo>
                    <a:pt x="26" y="4669"/>
                    <a:pt x="33" y="4677"/>
                    <a:pt x="33" y="4686"/>
                  </a:cubicBezTo>
                  <a:lnTo>
                    <a:pt x="33" y="4686"/>
                  </a:lnTo>
                  <a:cubicBezTo>
                    <a:pt x="33" y="4695"/>
                    <a:pt x="26" y="4702"/>
                    <a:pt x="17" y="4702"/>
                  </a:cubicBezTo>
                  <a:cubicBezTo>
                    <a:pt x="7" y="4702"/>
                    <a:pt x="0" y="4695"/>
                    <a:pt x="0" y="4686"/>
                  </a:cubicBezTo>
                  <a:close/>
                  <a:moveTo>
                    <a:pt x="0" y="4619"/>
                  </a:moveTo>
                  <a:lnTo>
                    <a:pt x="0" y="4619"/>
                  </a:lnTo>
                  <a:cubicBezTo>
                    <a:pt x="0" y="4610"/>
                    <a:pt x="7" y="4602"/>
                    <a:pt x="17" y="4602"/>
                  </a:cubicBezTo>
                  <a:cubicBezTo>
                    <a:pt x="26" y="4602"/>
                    <a:pt x="33" y="4610"/>
                    <a:pt x="33" y="4619"/>
                  </a:cubicBezTo>
                  <a:lnTo>
                    <a:pt x="33" y="4619"/>
                  </a:lnTo>
                  <a:cubicBezTo>
                    <a:pt x="33" y="4628"/>
                    <a:pt x="26" y="4636"/>
                    <a:pt x="17" y="4636"/>
                  </a:cubicBezTo>
                  <a:cubicBezTo>
                    <a:pt x="7" y="4636"/>
                    <a:pt x="0" y="4628"/>
                    <a:pt x="0" y="4619"/>
                  </a:cubicBezTo>
                  <a:close/>
                  <a:moveTo>
                    <a:pt x="0" y="4552"/>
                  </a:moveTo>
                  <a:lnTo>
                    <a:pt x="0" y="4552"/>
                  </a:lnTo>
                  <a:cubicBezTo>
                    <a:pt x="0" y="4543"/>
                    <a:pt x="8" y="4536"/>
                    <a:pt x="17" y="4536"/>
                  </a:cubicBezTo>
                  <a:cubicBezTo>
                    <a:pt x="26" y="4536"/>
                    <a:pt x="33" y="4543"/>
                    <a:pt x="33" y="4552"/>
                  </a:cubicBezTo>
                  <a:lnTo>
                    <a:pt x="33" y="4552"/>
                  </a:lnTo>
                  <a:cubicBezTo>
                    <a:pt x="33" y="4562"/>
                    <a:pt x="26" y="4569"/>
                    <a:pt x="17" y="4569"/>
                  </a:cubicBezTo>
                  <a:cubicBezTo>
                    <a:pt x="8" y="4569"/>
                    <a:pt x="0" y="4562"/>
                    <a:pt x="0" y="4552"/>
                  </a:cubicBezTo>
                  <a:close/>
                  <a:moveTo>
                    <a:pt x="0" y="4486"/>
                  </a:moveTo>
                  <a:lnTo>
                    <a:pt x="0" y="4486"/>
                  </a:lnTo>
                  <a:cubicBezTo>
                    <a:pt x="0" y="4476"/>
                    <a:pt x="8" y="4469"/>
                    <a:pt x="17" y="4469"/>
                  </a:cubicBezTo>
                  <a:cubicBezTo>
                    <a:pt x="26" y="4469"/>
                    <a:pt x="34" y="4476"/>
                    <a:pt x="34" y="4486"/>
                  </a:cubicBezTo>
                  <a:lnTo>
                    <a:pt x="34" y="4486"/>
                  </a:lnTo>
                  <a:cubicBezTo>
                    <a:pt x="34" y="4495"/>
                    <a:pt x="26" y="4502"/>
                    <a:pt x="17" y="4502"/>
                  </a:cubicBezTo>
                  <a:cubicBezTo>
                    <a:pt x="8" y="4502"/>
                    <a:pt x="0" y="4495"/>
                    <a:pt x="0" y="4486"/>
                  </a:cubicBezTo>
                  <a:close/>
                  <a:moveTo>
                    <a:pt x="0" y="4419"/>
                  </a:moveTo>
                  <a:lnTo>
                    <a:pt x="0" y="4419"/>
                  </a:lnTo>
                  <a:cubicBezTo>
                    <a:pt x="0" y="4410"/>
                    <a:pt x="8" y="4402"/>
                    <a:pt x="17" y="4402"/>
                  </a:cubicBezTo>
                  <a:cubicBezTo>
                    <a:pt x="26" y="4402"/>
                    <a:pt x="34" y="4410"/>
                    <a:pt x="34" y="4419"/>
                  </a:cubicBezTo>
                  <a:lnTo>
                    <a:pt x="34" y="4419"/>
                  </a:lnTo>
                  <a:cubicBezTo>
                    <a:pt x="34" y="4428"/>
                    <a:pt x="26" y="4436"/>
                    <a:pt x="17" y="4436"/>
                  </a:cubicBezTo>
                  <a:cubicBezTo>
                    <a:pt x="8" y="4436"/>
                    <a:pt x="0" y="4428"/>
                    <a:pt x="0" y="4419"/>
                  </a:cubicBezTo>
                  <a:close/>
                  <a:moveTo>
                    <a:pt x="0" y="4352"/>
                  </a:moveTo>
                  <a:lnTo>
                    <a:pt x="0" y="4352"/>
                  </a:lnTo>
                  <a:cubicBezTo>
                    <a:pt x="0" y="4343"/>
                    <a:pt x="8" y="4336"/>
                    <a:pt x="17" y="4336"/>
                  </a:cubicBezTo>
                  <a:cubicBezTo>
                    <a:pt x="26" y="4336"/>
                    <a:pt x="34" y="4343"/>
                    <a:pt x="34" y="4352"/>
                  </a:cubicBezTo>
                  <a:lnTo>
                    <a:pt x="34" y="4352"/>
                  </a:lnTo>
                  <a:cubicBezTo>
                    <a:pt x="34" y="4361"/>
                    <a:pt x="26" y="4369"/>
                    <a:pt x="17" y="4369"/>
                  </a:cubicBezTo>
                  <a:cubicBezTo>
                    <a:pt x="8" y="4369"/>
                    <a:pt x="0" y="4361"/>
                    <a:pt x="0" y="4352"/>
                  </a:cubicBezTo>
                  <a:close/>
                  <a:moveTo>
                    <a:pt x="0" y="4286"/>
                  </a:moveTo>
                  <a:lnTo>
                    <a:pt x="0" y="4286"/>
                  </a:lnTo>
                  <a:cubicBezTo>
                    <a:pt x="0" y="4276"/>
                    <a:pt x="8" y="4269"/>
                    <a:pt x="17" y="4269"/>
                  </a:cubicBezTo>
                  <a:cubicBezTo>
                    <a:pt x="26" y="4269"/>
                    <a:pt x="34" y="4276"/>
                    <a:pt x="34" y="4286"/>
                  </a:cubicBezTo>
                  <a:lnTo>
                    <a:pt x="34" y="4286"/>
                  </a:lnTo>
                  <a:cubicBezTo>
                    <a:pt x="34" y="4295"/>
                    <a:pt x="26" y="4302"/>
                    <a:pt x="17" y="4302"/>
                  </a:cubicBezTo>
                  <a:cubicBezTo>
                    <a:pt x="8" y="4302"/>
                    <a:pt x="0" y="4295"/>
                    <a:pt x="0" y="4286"/>
                  </a:cubicBezTo>
                  <a:close/>
                  <a:moveTo>
                    <a:pt x="1" y="4219"/>
                  </a:moveTo>
                  <a:lnTo>
                    <a:pt x="1" y="4219"/>
                  </a:lnTo>
                  <a:cubicBezTo>
                    <a:pt x="1" y="4210"/>
                    <a:pt x="8" y="4202"/>
                    <a:pt x="17" y="4202"/>
                  </a:cubicBezTo>
                  <a:cubicBezTo>
                    <a:pt x="26" y="4202"/>
                    <a:pt x="34" y="4210"/>
                    <a:pt x="34" y="4219"/>
                  </a:cubicBezTo>
                  <a:lnTo>
                    <a:pt x="34" y="4219"/>
                  </a:lnTo>
                  <a:cubicBezTo>
                    <a:pt x="34" y="4228"/>
                    <a:pt x="26" y="4236"/>
                    <a:pt x="17" y="4236"/>
                  </a:cubicBezTo>
                  <a:cubicBezTo>
                    <a:pt x="8" y="4236"/>
                    <a:pt x="1" y="4228"/>
                    <a:pt x="1" y="4219"/>
                  </a:cubicBezTo>
                  <a:close/>
                  <a:moveTo>
                    <a:pt x="1" y="4152"/>
                  </a:moveTo>
                  <a:lnTo>
                    <a:pt x="1" y="4152"/>
                  </a:lnTo>
                  <a:cubicBezTo>
                    <a:pt x="1" y="4143"/>
                    <a:pt x="8" y="4135"/>
                    <a:pt x="17" y="4135"/>
                  </a:cubicBezTo>
                  <a:cubicBezTo>
                    <a:pt x="26" y="4135"/>
                    <a:pt x="34" y="4143"/>
                    <a:pt x="34" y="4152"/>
                  </a:cubicBezTo>
                  <a:lnTo>
                    <a:pt x="34" y="4152"/>
                  </a:lnTo>
                  <a:cubicBezTo>
                    <a:pt x="34" y="4161"/>
                    <a:pt x="26" y="4169"/>
                    <a:pt x="17" y="4169"/>
                  </a:cubicBezTo>
                  <a:cubicBezTo>
                    <a:pt x="8" y="4169"/>
                    <a:pt x="1" y="4161"/>
                    <a:pt x="1" y="4152"/>
                  </a:cubicBezTo>
                  <a:close/>
                  <a:moveTo>
                    <a:pt x="1" y="4085"/>
                  </a:moveTo>
                  <a:lnTo>
                    <a:pt x="1" y="4085"/>
                  </a:lnTo>
                  <a:cubicBezTo>
                    <a:pt x="1" y="4076"/>
                    <a:pt x="8" y="4069"/>
                    <a:pt x="17" y="4069"/>
                  </a:cubicBezTo>
                  <a:cubicBezTo>
                    <a:pt x="27" y="4069"/>
                    <a:pt x="34" y="4076"/>
                    <a:pt x="34" y="4085"/>
                  </a:cubicBezTo>
                  <a:lnTo>
                    <a:pt x="34" y="4085"/>
                  </a:lnTo>
                  <a:cubicBezTo>
                    <a:pt x="34" y="4095"/>
                    <a:pt x="27" y="4102"/>
                    <a:pt x="17" y="4102"/>
                  </a:cubicBezTo>
                  <a:cubicBezTo>
                    <a:pt x="8" y="4102"/>
                    <a:pt x="1" y="4095"/>
                    <a:pt x="1" y="4085"/>
                  </a:cubicBezTo>
                  <a:close/>
                  <a:moveTo>
                    <a:pt x="1" y="4019"/>
                  </a:moveTo>
                  <a:lnTo>
                    <a:pt x="1" y="4019"/>
                  </a:lnTo>
                  <a:cubicBezTo>
                    <a:pt x="1" y="4009"/>
                    <a:pt x="8" y="4002"/>
                    <a:pt x="17" y="4002"/>
                  </a:cubicBezTo>
                  <a:cubicBezTo>
                    <a:pt x="27" y="4002"/>
                    <a:pt x="34" y="4009"/>
                    <a:pt x="34" y="4019"/>
                  </a:cubicBezTo>
                  <a:lnTo>
                    <a:pt x="34" y="4019"/>
                  </a:lnTo>
                  <a:cubicBezTo>
                    <a:pt x="34" y="4028"/>
                    <a:pt x="27" y="4035"/>
                    <a:pt x="17" y="4035"/>
                  </a:cubicBezTo>
                  <a:cubicBezTo>
                    <a:pt x="8" y="4035"/>
                    <a:pt x="1" y="4028"/>
                    <a:pt x="1" y="4019"/>
                  </a:cubicBezTo>
                  <a:close/>
                  <a:moveTo>
                    <a:pt x="1" y="3952"/>
                  </a:moveTo>
                  <a:lnTo>
                    <a:pt x="1" y="3952"/>
                  </a:lnTo>
                  <a:cubicBezTo>
                    <a:pt x="1" y="3943"/>
                    <a:pt x="8" y="3935"/>
                    <a:pt x="18" y="3935"/>
                  </a:cubicBezTo>
                  <a:cubicBezTo>
                    <a:pt x="27" y="3935"/>
                    <a:pt x="34" y="3943"/>
                    <a:pt x="34" y="3952"/>
                  </a:cubicBezTo>
                  <a:lnTo>
                    <a:pt x="34" y="3952"/>
                  </a:lnTo>
                  <a:cubicBezTo>
                    <a:pt x="34" y="3961"/>
                    <a:pt x="27" y="3969"/>
                    <a:pt x="18" y="3969"/>
                  </a:cubicBezTo>
                  <a:cubicBezTo>
                    <a:pt x="8" y="3969"/>
                    <a:pt x="1" y="3961"/>
                    <a:pt x="1" y="3952"/>
                  </a:cubicBezTo>
                  <a:close/>
                  <a:moveTo>
                    <a:pt x="1" y="3885"/>
                  </a:moveTo>
                  <a:lnTo>
                    <a:pt x="1" y="3885"/>
                  </a:lnTo>
                  <a:cubicBezTo>
                    <a:pt x="1" y="3876"/>
                    <a:pt x="8" y="3869"/>
                    <a:pt x="18" y="3869"/>
                  </a:cubicBezTo>
                  <a:cubicBezTo>
                    <a:pt x="27" y="3869"/>
                    <a:pt x="34" y="3876"/>
                    <a:pt x="34" y="3885"/>
                  </a:cubicBezTo>
                  <a:lnTo>
                    <a:pt x="34" y="3885"/>
                  </a:lnTo>
                  <a:cubicBezTo>
                    <a:pt x="34" y="3895"/>
                    <a:pt x="27" y="3902"/>
                    <a:pt x="18" y="3902"/>
                  </a:cubicBezTo>
                  <a:cubicBezTo>
                    <a:pt x="8" y="3902"/>
                    <a:pt x="1" y="3895"/>
                    <a:pt x="1" y="3885"/>
                  </a:cubicBezTo>
                  <a:close/>
                  <a:moveTo>
                    <a:pt x="1" y="3819"/>
                  </a:moveTo>
                  <a:lnTo>
                    <a:pt x="1" y="3819"/>
                  </a:lnTo>
                  <a:cubicBezTo>
                    <a:pt x="1" y="3809"/>
                    <a:pt x="9" y="3802"/>
                    <a:pt x="18" y="3802"/>
                  </a:cubicBezTo>
                  <a:cubicBezTo>
                    <a:pt x="27" y="3802"/>
                    <a:pt x="34" y="3809"/>
                    <a:pt x="34" y="3819"/>
                  </a:cubicBezTo>
                  <a:lnTo>
                    <a:pt x="34" y="3819"/>
                  </a:lnTo>
                  <a:cubicBezTo>
                    <a:pt x="34" y="3828"/>
                    <a:pt x="27" y="3835"/>
                    <a:pt x="18" y="3835"/>
                  </a:cubicBezTo>
                  <a:cubicBezTo>
                    <a:pt x="9" y="3835"/>
                    <a:pt x="1" y="3828"/>
                    <a:pt x="1" y="3819"/>
                  </a:cubicBezTo>
                  <a:close/>
                  <a:moveTo>
                    <a:pt x="1" y="3752"/>
                  </a:moveTo>
                  <a:lnTo>
                    <a:pt x="1" y="3752"/>
                  </a:lnTo>
                  <a:cubicBezTo>
                    <a:pt x="1" y="3743"/>
                    <a:pt x="9" y="3735"/>
                    <a:pt x="18" y="3735"/>
                  </a:cubicBezTo>
                  <a:cubicBezTo>
                    <a:pt x="27" y="3735"/>
                    <a:pt x="35" y="3743"/>
                    <a:pt x="35" y="3752"/>
                  </a:cubicBezTo>
                  <a:lnTo>
                    <a:pt x="35" y="3752"/>
                  </a:lnTo>
                  <a:cubicBezTo>
                    <a:pt x="35" y="3761"/>
                    <a:pt x="27" y="3769"/>
                    <a:pt x="18" y="3769"/>
                  </a:cubicBezTo>
                  <a:cubicBezTo>
                    <a:pt x="9" y="3769"/>
                    <a:pt x="1" y="3761"/>
                    <a:pt x="1" y="3752"/>
                  </a:cubicBezTo>
                  <a:close/>
                  <a:moveTo>
                    <a:pt x="1" y="3685"/>
                  </a:moveTo>
                  <a:lnTo>
                    <a:pt x="1" y="3685"/>
                  </a:lnTo>
                  <a:cubicBezTo>
                    <a:pt x="1" y="3676"/>
                    <a:pt x="9" y="3669"/>
                    <a:pt x="18" y="3669"/>
                  </a:cubicBezTo>
                  <a:cubicBezTo>
                    <a:pt x="27" y="3669"/>
                    <a:pt x="35" y="3676"/>
                    <a:pt x="35" y="3685"/>
                  </a:cubicBezTo>
                  <a:lnTo>
                    <a:pt x="35" y="3685"/>
                  </a:lnTo>
                  <a:cubicBezTo>
                    <a:pt x="35" y="3694"/>
                    <a:pt x="27" y="3702"/>
                    <a:pt x="18" y="3702"/>
                  </a:cubicBezTo>
                  <a:cubicBezTo>
                    <a:pt x="9" y="3702"/>
                    <a:pt x="1" y="3694"/>
                    <a:pt x="1" y="3685"/>
                  </a:cubicBezTo>
                  <a:close/>
                  <a:moveTo>
                    <a:pt x="1" y="3619"/>
                  </a:moveTo>
                  <a:lnTo>
                    <a:pt x="1" y="3618"/>
                  </a:lnTo>
                  <a:cubicBezTo>
                    <a:pt x="1" y="3609"/>
                    <a:pt x="9" y="3602"/>
                    <a:pt x="18" y="3602"/>
                  </a:cubicBezTo>
                  <a:cubicBezTo>
                    <a:pt x="27" y="3602"/>
                    <a:pt x="35" y="3609"/>
                    <a:pt x="35" y="3618"/>
                  </a:cubicBezTo>
                  <a:lnTo>
                    <a:pt x="35" y="3619"/>
                  </a:lnTo>
                  <a:cubicBezTo>
                    <a:pt x="35" y="3628"/>
                    <a:pt x="27" y="3635"/>
                    <a:pt x="18" y="3635"/>
                  </a:cubicBezTo>
                  <a:cubicBezTo>
                    <a:pt x="9" y="3635"/>
                    <a:pt x="1" y="3628"/>
                    <a:pt x="1" y="3619"/>
                  </a:cubicBezTo>
                  <a:close/>
                  <a:moveTo>
                    <a:pt x="1" y="3552"/>
                  </a:moveTo>
                  <a:lnTo>
                    <a:pt x="1" y="3552"/>
                  </a:lnTo>
                  <a:cubicBezTo>
                    <a:pt x="1" y="3543"/>
                    <a:pt x="9" y="3535"/>
                    <a:pt x="18" y="3535"/>
                  </a:cubicBezTo>
                  <a:cubicBezTo>
                    <a:pt x="27" y="3535"/>
                    <a:pt x="35" y="3543"/>
                    <a:pt x="35" y="3552"/>
                  </a:cubicBezTo>
                  <a:lnTo>
                    <a:pt x="35" y="3552"/>
                  </a:lnTo>
                  <a:cubicBezTo>
                    <a:pt x="35" y="3561"/>
                    <a:pt x="27" y="3568"/>
                    <a:pt x="18" y="3568"/>
                  </a:cubicBezTo>
                  <a:cubicBezTo>
                    <a:pt x="9" y="3568"/>
                    <a:pt x="1" y="3561"/>
                    <a:pt x="1" y="3552"/>
                  </a:cubicBezTo>
                  <a:close/>
                  <a:moveTo>
                    <a:pt x="2" y="3485"/>
                  </a:moveTo>
                  <a:lnTo>
                    <a:pt x="2" y="3485"/>
                  </a:lnTo>
                  <a:cubicBezTo>
                    <a:pt x="2" y="3476"/>
                    <a:pt x="9" y="3468"/>
                    <a:pt x="18" y="3468"/>
                  </a:cubicBezTo>
                  <a:cubicBezTo>
                    <a:pt x="27" y="3468"/>
                    <a:pt x="35" y="3476"/>
                    <a:pt x="35" y="3485"/>
                  </a:cubicBezTo>
                  <a:lnTo>
                    <a:pt x="35" y="3485"/>
                  </a:lnTo>
                  <a:cubicBezTo>
                    <a:pt x="35" y="3494"/>
                    <a:pt x="27" y="3502"/>
                    <a:pt x="18" y="3502"/>
                  </a:cubicBezTo>
                  <a:cubicBezTo>
                    <a:pt x="9" y="3502"/>
                    <a:pt x="2" y="3494"/>
                    <a:pt x="2" y="3485"/>
                  </a:cubicBezTo>
                  <a:close/>
                  <a:moveTo>
                    <a:pt x="2" y="3418"/>
                  </a:moveTo>
                  <a:lnTo>
                    <a:pt x="2" y="3418"/>
                  </a:lnTo>
                  <a:cubicBezTo>
                    <a:pt x="2" y="3409"/>
                    <a:pt x="9" y="3402"/>
                    <a:pt x="18" y="3402"/>
                  </a:cubicBezTo>
                  <a:cubicBezTo>
                    <a:pt x="28" y="3402"/>
                    <a:pt x="35" y="3409"/>
                    <a:pt x="35" y="3418"/>
                  </a:cubicBezTo>
                  <a:lnTo>
                    <a:pt x="35" y="3418"/>
                  </a:lnTo>
                  <a:cubicBezTo>
                    <a:pt x="35" y="3428"/>
                    <a:pt x="28" y="3435"/>
                    <a:pt x="18" y="3435"/>
                  </a:cubicBezTo>
                  <a:cubicBezTo>
                    <a:pt x="9" y="3435"/>
                    <a:pt x="2" y="3428"/>
                    <a:pt x="2" y="3418"/>
                  </a:cubicBezTo>
                  <a:close/>
                  <a:moveTo>
                    <a:pt x="2" y="3352"/>
                  </a:moveTo>
                  <a:lnTo>
                    <a:pt x="2" y="3352"/>
                  </a:lnTo>
                  <a:cubicBezTo>
                    <a:pt x="2" y="3342"/>
                    <a:pt x="9" y="3335"/>
                    <a:pt x="18" y="3335"/>
                  </a:cubicBezTo>
                  <a:cubicBezTo>
                    <a:pt x="28" y="3335"/>
                    <a:pt x="35" y="3342"/>
                    <a:pt x="35" y="3352"/>
                  </a:cubicBezTo>
                  <a:lnTo>
                    <a:pt x="35" y="3352"/>
                  </a:lnTo>
                  <a:cubicBezTo>
                    <a:pt x="35" y="3361"/>
                    <a:pt x="28" y="3368"/>
                    <a:pt x="18" y="3368"/>
                  </a:cubicBezTo>
                  <a:cubicBezTo>
                    <a:pt x="9" y="3368"/>
                    <a:pt x="2" y="3361"/>
                    <a:pt x="2" y="3352"/>
                  </a:cubicBezTo>
                  <a:close/>
                  <a:moveTo>
                    <a:pt x="2" y="3285"/>
                  </a:moveTo>
                  <a:lnTo>
                    <a:pt x="2" y="3285"/>
                  </a:lnTo>
                  <a:cubicBezTo>
                    <a:pt x="2" y="3276"/>
                    <a:pt x="9" y="3268"/>
                    <a:pt x="18" y="3268"/>
                  </a:cubicBezTo>
                  <a:cubicBezTo>
                    <a:pt x="28" y="3268"/>
                    <a:pt x="35" y="3276"/>
                    <a:pt x="35" y="3285"/>
                  </a:cubicBezTo>
                  <a:lnTo>
                    <a:pt x="35" y="3285"/>
                  </a:lnTo>
                  <a:cubicBezTo>
                    <a:pt x="35" y="3294"/>
                    <a:pt x="28" y="3302"/>
                    <a:pt x="18" y="3302"/>
                  </a:cubicBezTo>
                  <a:cubicBezTo>
                    <a:pt x="9" y="3302"/>
                    <a:pt x="2" y="3294"/>
                    <a:pt x="2" y="3285"/>
                  </a:cubicBezTo>
                  <a:close/>
                  <a:moveTo>
                    <a:pt x="2" y="3218"/>
                  </a:moveTo>
                  <a:lnTo>
                    <a:pt x="2" y="3218"/>
                  </a:lnTo>
                  <a:cubicBezTo>
                    <a:pt x="2" y="3209"/>
                    <a:pt x="9" y="3202"/>
                    <a:pt x="19" y="3202"/>
                  </a:cubicBezTo>
                  <a:cubicBezTo>
                    <a:pt x="28" y="3202"/>
                    <a:pt x="35" y="3209"/>
                    <a:pt x="35" y="3218"/>
                  </a:cubicBezTo>
                  <a:lnTo>
                    <a:pt x="35" y="3218"/>
                  </a:lnTo>
                  <a:cubicBezTo>
                    <a:pt x="35" y="3228"/>
                    <a:pt x="28" y="3235"/>
                    <a:pt x="19" y="3235"/>
                  </a:cubicBezTo>
                  <a:cubicBezTo>
                    <a:pt x="9" y="3235"/>
                    <a:pt x="2" y="3228"/>
                    <a:pt x="2" y="3218"/>
                  </a:cubicBezTo>
                  <a:close/>
                  <a:moveTo>
                    <a:pt x="2" y="3152"/>
                  </a:moveTo>
                  <a:lnTo>
                    <a:pt x="2" y="3152"/>
                  </a:lnTo>
                  <a:cubicBezTo>
                    <a:pt x="2" y="3142"/>
                    <a:pt x="9" y="3135"/>
                    <a:pt x="19" y="3135"/>
                  </a:cubicBezTo>
                  <a:cubicBezTo>
                    <a:pt x="28" y="3135"/>
                    <a:pt x="35" y="3142"/>
                    <a:pt x="35" y="3152"/>
                  </a:cubicBezTo>
                  <a:lnTo>
                    <a:pt x="35" y="3152"/>
                  </a:lnTo>
                  <a:cubicBezTo>
                    <a:pt x="35" y="3161"/>
                    <a:pt x="28" y="3168"/>
                    <a:pt x="19" y="3168"/>
                  </a:cubicBezTo>
                  <a:cubicBezTo>
                    <a:pt x="9" y="3168"/>
                    <a:pt x="2" y="3161"/>
                    <a:pt x="2" y="3152"/>
                  </a:cubicBezTo>
                  <a:close/>
                  <a:moveTo>
                    <a:pt x="2" y="3085"/>
                  </a:moveTo>
                  <a:lnTo>
                    <a:pt x="2" y="3085"/>
                  </a:lnTo>
                  <a:cubicBezTo>
                    <a:pt x="2" y="3076"/>
                    <a:pt x="10" y="3068"/>
                    <a:pt x="19" y="3068"/>
                  </a:cubicBezTo>
                  <a:cubicBezTo>
                    <a:pt x="28" y="3068"/>
                    <a:pt x="35" y="3076"/>
                    <a:pt x="35" y="3085"/>
                  </a:cubicBezTo>
                  <a:lnTo>
                    <a:pt x="35" y="3085"/>
                  </a:lnTo>
                  <a:cubicBezTo>
                    <a:pt x="35" y="3094"/>
                    <a:pt x="28" y="3102"/>
                    <a:pt x="19" y="3102"/>
                  </a:cubicBezTo>
                  <a:cubicBezTo>
                    <a:pt x="10" y="3102"/>
                    <a:pt x="2" y="3094"/>
                    <a:pt x="2" y="3085"/>
                  </a:cubicBezTo>
                  <a:close/>
                  <a:moveTo>
                    <a:pt x="2" y="3018"/>
                  </a:moveTo>
                  <a:lnTo>
                    <a:pt x="2" y="3018"/>
                  </a:lnTo>
                  <a:cubicBezTo>
                    <a:pt x="2" y="3009"/>
                    <a:pt x="10" y="3002"/>
                    <a:pt x="19" y="3002"/>
                  </a:cubicBezTo>
                  <a:cubicBezTo>
                    <a:pt x="28" y="3002"/>
                    <a:pt x="36" y="3009"/>
                    <a:pt x="36" y="3018"/>
                  </a:cubicBezTo>
                  <a:lnTo>
                    <a:pt x="36" y="3018"/>
                  </a:lnTo>
                  <a:cubicBezTo>
                    <a:pt x="36" y="3027"/>
                    <a:pt x="28" y="3035"/>
                    <a:pt x="19" y="3035"/>
                  </a:cubicBezTo>
                  <a:cubicBezTo>
                    <a:pt x="10" y="3035"/>
                    <a:pt x="2" y="3027"/>
                    <a:pt x="2" y="3018"/>
                  </a:cubicBezTo>
                  <a:close/>
                  <a:moveTo>
                    <a:pt x="2" y="2952"/>
                  </a:moveTo>
                  <a:lnTo>
                    <a:pt x="2" y="2951"/>
                  </a:lnTo>
                  <a:cubicBezTo>
                    <a:pt x="2" y="2942"/>
                    <a:pt x="10" y="2935"/>
                    <a:pt x="19" y="2935"/>
                  </a:cubicBezTo>
                  <a:cubicBezTo>
                    <a:pt x="28" y="2935"/>
                    <a:pt x="36" y="2942"/>
                    <a:pt x="36" y="2951"/>
                  </a:cubicBezTo>
                  <a:lnTo>
                    <a:pt x="36" y="2952"/>
                  </a:lnTo>
                  <a:cubicBezTo>
                    <a:pt x="36" y="2961"/>
                    <a:pt x="28" y="2968"/>
                    <a:pt x="19" y="2968"/>
                  </a:cubicBezTo>
                  <a:cubicBezTo>
                    <a:pt x="10" y="2968"/>
                    <a:pt x="2" y="2961"/>
                    <a:pt x="2" y="2952"/>
                  </a:cubicBezTo>
                  <a:close/>
                  <a:moveTo>
                    <a:pt x="2" y="2885"/>
                  </a:moveTo>
                  <a:lnTo>
                    <a:pt x="2" y="2885"/>
                  </a:lnTo>
                  <a:cubicBezTo>
                    <a:pt x="2" y="2876"/>
                    <a:pt x="10" y="2868"/>
                    <a:pt x="19" y="2868"/>
                  </a:cubicBezTo>
                  <a:cubicBezTo>
                    <a:pt x="28" y="2868"/>
                    <a:pt x="36" y="2876"/>
                    <a:pt x="36" y="2885"/>
                  </a:cubicBezTo>
                  <a:lnTo>
                    <a:pt x="36" y="2885"/>
                  </a:lnTo>
                  <a:cubicBezTo>
                    <a:pt x="36" y="2894"/>
                    <a:pt x="28" y="2901"/>
                    <a:pt x="19" y="2901"/>
                  </a:cubicBezTo>
                  <a:cubicBezTo>
                    <a:pt x="10" y="2901"/>
                    <a:pt x="2" y="2894"/>
                    <a:pt x="2" y="2885"/>
                  </a:cubicBezTo>
                  <a:close/>
                  <a:moveTo>
                    <a:pt x="2" y="2818"/>
                  </a:moveTo>
                  <a:lnTo>
                    <a:pt x="2" y="2818"/>
                  </a:lnTo>
                  <a:cubicBezTo>
                    <a:pt x="2" y="2809"/>
                    <a:pt x="10" y="2801"/>
                    <a:pt x="19" y="2801"/>
                  </a:cubicBezTo>
                  <a:cubicBezTo>
                    <a:pt x="28" y="2801"/>
                    <a:pt x="36" y="2809"/>
                    <a:pt x="36" y="2818"/>
                  </a:cubicBezTo>
                  <a:lnTo>
                    <a:pt x="36" y="2818"/>
                  </a:lnTo>
                  <a:cubicBezTo>
                    <a:pt x="36" y="2827"/>
                    <a:pt x="28" y="2835"/>
                    <a:pt x="19" y="2835"/>
                  </a:cubicBezTo>
                  <a:cubicBezTo>
                    <a:pt x="10" y="2835"/>
                    <a:pt x="2" y="2827"/>
                    <a:pt x="2" y="2818"/>
                  </a:cubicBezTo>
                  <a:close/>
                  <a:moveTo>
                    <a:pt x="3" y="2751"/>
                  </a:moveTo>
                  <a:lnTo>
                    <a:pt x="3" y="2751"/>
                  </a:lnTo>
                  <a:cubicBezTo>
                    <a:pt x="3" y="2742"/>
                    <a:pt x="10" y="2735"/>
                    <a:pt x="19" y="2735"/>
                  </a:cubicBezTo>
                  <a:cubicBezTo>
                    <a:pt x="28" y="2735"/>
                    <a:pt x="36" y="2742"/>
                    <a:pt x="36" y="2751"/>
                  </a:cubicBezTo>
                  <a:lnTo>
                    <a:pt x="36" y="2751"/>
                  </a:lnTo>
                  <a:cubicBezTo>
                    <a:pt x="36" y="2761"/>
                    <a:pt x="28" y="2768"/>
                    <a:pt x="19" y="2768"/>
                  </a:cubicBezTo>
                  <a:cubicBezTo>
                    <a:pt x="10" y="2768"/>
                    <a:pt x="3" y="2761"/>
                    <a:pt x="3" y="2751"/>
                  </a:cubicBezTo>
                  <a:close/>
                  <a:moveTo>
                    <a:pt x="3" y="2685"/>
                  </a:moveTo>
                  <a:lnTo>
                    <a:pt x="3" y="2685"/>
                  </a:lnTo>
                  <a:cubicBezTo>
                    <a:pt x="3" y="2675"/>
                    <a:pt x="10" y="2668"/>
                    <a:pt x="19" y="2668"/>
                  </a:cubicBezTo>
                  <a:cubicBezTo>
                    <a:pt x="29" y="2668"/>
                    <a:pt x="36" y="2675"/>
                    <a:pt x="36" y="2685"/>
                  </a:cubicBezTo>
                  <a:lnTo>
                    <a:pt x="36" y="2685"/>
                  </a:lnTo>
                  <a:cubicBezTo>
                    <a:pt x="36" y="2694"/>
                    <a:pt x="29" y="2701"/>
                    <a:pt x="19" y="2701"/>
                  </a:cubicBezTo>
                  <a:cubicBezTo>
                    <a:pt x="10" y="2701"/>
                    <a:pt x="3" y="2694"/>
                    <a:pt x="3" y="2685"/>
                  </a:cubicBezTo>
                  <a:close/>
                  <a:moveTo>
                    <a:pt x="3" y="2618"/>
                  </a:moveTo>
                  <a:lnTo>
                    <a:pt x="3" y="2618"/>
                  </a:lnTo>
                  <a:cubicBezTo>
                    <a:pt x="3" y="2609"/>
                    <a:pt x="10" y="2601"/>
                    <a:pt x="19" y="2601"/>
                  </a:cubicBezTo>
                  <a:cubicBezTo>
                    <a:pt x="29" y="2601"/>
                    <a:pt x="36" y="2609"/>
                    <a:pt x="36" y="2618"/>
                  </a:cubicBezTo>
                  <a:lnTo>
                    <a:pt x="36" y="2618"/>
                  </a:lnTo>
                  <a:cubicBezTo>
                    <a:pt x="36" y="2627"/>
                    <a:pt x="29" y="2635"/>
                    <a:pt x="19" y="2635"/>
                  </a:cubicBezTo>
                  <a:cubicBezTo>
                    <a:pt x="10" y="2635"/>
                    <a:pt x="3" y="2627"/>
                    <a:pt x="3" y="2618"/>
                  </a:cubicBezTo>
                  <a:close/>
                  <a:moveTo>
                    <a:pt x="3" y="2551"/>
                  </a:moveTo>
                  <a:lnTo>
                    <a:pt x="3" y="2551"/>
                  </a:lnTo>
                  <a:cubicBezTo>
                    <a:pt x="3" y="2542"/>
                    <a:pt x="10" y="2535"/>
                    <a:pt x="19" y="2535"/>
                  </a:cubicBezTo>
                  <a:cubicBezTo>
                    <a:pt x="29" y="2535"/>
                    <a:pt x="36" y="2542"/>
                    <a:pt x="36" y="2551"/>
                  </a:cubicBezTo>
                  <a:lnTo>
                    <a:pt x="36" y="2551"/>
                  </a:lnTo>
                  <a:cubicBezTo>
                    <a:pt x="36" y="2561"/>
                    <a:pt x="29" y="2568"/>
                    <a:pt x="19" y="2568"/>
                  </a:cubicBezTo>
                  <a:cubicBezTo>
                    <a:pt x="10" y="2568"/>
                    <a:pt x="3" y="2561"/>
                    <a:pt x="3" y="2551"/>
                  </a:cubicBezTo>
                  <a:close/>
                  <a:moveTo>
                    <a:pt x="3" y="2485"/>
                  </a:moveTo>
                  <a:lnTo>
                    <a:pt x="3" y="2485"/>
                  </a:lnTo>
                  <a:cubicBezTo>
                    <a:pt x="3" y="2475"/>
                    <a:pt x="10" y="2468"/>
                    <a:pt x="20" y="2468"/>
                  </a:cubicBezTo>
                  <a:cubicBezTo>
                    <a:pt x="29" y="2468"/>
                    <a:pt x="36" y="2475"/>
                    <a:pt x="36" y="2485"/>
                  </a:cubicBezTo>
                  <a:lnTo>
                    <a:pt x="36" y="2485"/>
                  </a:lnTo>
                  <a:cubicBezTo>
                    <a:pt x="36" y="2494"/>
                    <a:pt x="29" y="2501"/>
                    <a:pt x="20" y="2501"/>
                  </a:cubicBezTo>
                  <a:cubicBezTo>
                    <a:pt x="10" y="2501"/>
                    <a:pt x="3" y="2494"/>
                    <a:pt x="3" y="2485"/>
                  </a:cubicBezTo>
                  <a:close/>
                  <a:moveTo>
                    <a:pt x="3" y="2418"/>
                  </a:moveTo>
                  <a:lnTo>
                    <a:pt x="3" y="2418"/>
                  </a:lnTo>
                  <a:cubicBezTo>
                    <a:pt x="3" y="2409"/>
                    <a:pt x="10" y="2401"/>
                    <a:pt x="20" y="2401"/>
                  </a:cubicBezTo>
                  <a:cubicBezTo>
                    <a:pt x="29" y="2401"/>
                    <a:pt x="36" y="2409"/>
                    <a:pt x="36" y="2418"/>
                  </a:cubicBezTo>
                  <a:lnTo>
                    <a:pt x="36" y="2418"/>
                  </a:lnTo>
                  <a:cubicBezTo>
                    <a:pt x="36" y="2427"/>
                    <a:pt x="29" y="2435"/>
                    <a:pt x="20" y="2435"/>
                  </a:cubicBezTo>
                  <a:cubicBezTo>
                    <a:pt x="10" y="2435"/>
                    <a:pt x="3" y="2427"/>
                    <a:pt x="3" y="2418"/>
                  </a:cubicBezTo>
                  <a:close/>
                  <a:moveTo>
                    <a:pt x="3" y="2351"/>
                  </a:moveTo>
                  <a:lnTo>
                    <a:pt x="3" y="2351"/>
                  </a:lnTo>
                  <a:cubicBezTo>
                    <a:pt x="3" y="2342"/>
                    <a:pt x="11" y="2334"/>
                    <a:pt x="20" y="2334"/>
                  </a:cubicBezTo>
                  <a:cubicBezTo>
                    <a:pt x="29" y="2334"/>
                    <a:pt x="36" y="2342"/>
                    <a:pt x="36" y="2351"/>
                  </a:cubicBezTo>
                  <a:lnTo>
                    <a:pt x="36" y="2351"/>
                  </a:lnTo>
                  <a:cubicBezTo>
                    <a:pt x="36" y="2360"/>
                    <a:pt x="29" y="2368"/>
                    <a:pt x="20" y="2368"/>
                  </a:cubicBezTo>
                  <a:cubicBezTo>
                    <a:pt x="11" y="2368"/>
                    <a:pt x="3" y="2360"/>
                    <a:pt x="3" y="2351"/>
                  </a:cubicBezTo>
                  <a:close/>
                  <a:moveTo>
                    <a:pt x="3" y="2285"/>
                  </a:moveTo>
                  <a:lnTo>
                    <a:pt x="3" y="2284"/>
                  </a:lnTo>
                  <a:cubicBezTo>
                    <a:pt x="3" y="2275"/>
                    <a:pt x="11" y="2268"/>
                    <a:pt x="20" y="2268"/>
                  </a:cubicBezTo>
                  <a:cubicBezTo>
                    <a:pt x="29" y="2268"/>
                    <a:pt x="37" y="2275"/>
                    <a:pt x="37" y="2284"/>
                  </a:cubicBezTo>
                  <a:lnTo>
                    <a:pt x="37" y="2285"/>
                  </a:lnTo>
                  <a:cubicBezTo>
                    <a:pt x="37" y="2294"/>
                    <a:pt x="29" y="2301"/>
                    <a:pt x="20" y="2301"/>
                  </a:cubicBezTo>
                  <a:cubicBezTo>
                    <a:pt x="11" y="2301"/>
                    <a:pt x="3" y="2294"/>
                    <a:pt x="3" y="2285"/>
                  </a:cubicBezTo>
                  <a:close/>
                  <a:moveTo>
                    <a:pt x="3" y="2218"/>
                  </a:moveTo>
                  <a:lnTo>
                    <a:pt x="3" y="2218"/>
                  </a:lnTo>
                  <a:cubicBezTo>
                    <a:pt x="3" y="2209"/>
                    <a:pt x="11" y="2201"/>
                    <a:pt x="20" y="2201"/>
                  </a:cubicBezTo>
                  <a:cubicBezTo>
                    <a:pt x="29" y="2201"/>
                    <a:pt x="37" y="2209"/>
                    <a:pt x="37" y="2218"/>
                  </a:cubicBezTo>
                  <a:lnTo>
                    <a:pt x="37" y="2218"/>
                  </a:lnTo>
                  <a:cubicBezTo>
                    <a:pt x="37" y="2227"/>
                    <a:pt x="29" y="2234"/>
                    <a:pt x="20" y="2234"/>
                  </a:cubicBezTo>
                  <a:cubicBezTo>
                    <a:pt x="11" y="2234"/>
                    <a:pt x="3" y="2227"/>
                    <a:pt x="3" y="2218"/>
                  </a:cubicBezTo>
                  <a:close/>
                  <a:moveTo>
                    <a:pt x="3" y="2151"/>
                  </a:moveTo>
                  <a:lnTo>
                    <a:pt x="3" y="2151"/>
                  </a:lnTo>
                  <a:cubicBezTo>
                    <a:pt x="3" y="2142"/>
                    <a:pt x="11" y="2134"/>
                    <a:pt x="20" y="2134"/>
                  </a:cubicBezTo>
                  <a:cubicBezTo>
                    <a:pt x="29" y="2134"/>
                    <a:pt x="37" y="2142"/>
                    <a:pt x="37" y="2151"/>
                  </a:cubicBezTo>
                  <a:lnTo>
                    <a:pt x="37" y="2151"/>
                  </a:lnTo>
                  <a:cubicBezTo>
                    <a:pt x="37" y="2160"/>
                    <a:pt x="29" y="2168"/>
                    <a:pt x="20" y="2168"/>
                  </a:cubicBezTo>
                  <a:cubicBezTo>
                    <a:pt x="11" y="2168"/>
                    <a:pt x="3" y="2160"/>
                    <a:pt x="3" y="2151"/>
                  </a:cubicBezTo>
                  <a:close/>
                  <a:moveTo>
                    <a:pt x="3" y="2084"/>
                  </a:moveTo>
                  <a:lnTo>
                    <a:pt x="3" y="2084"/>
                  </a:lnTo>
                  <a:cubicBezTo>
                    <a:pt x="3" y="2075"/>
                    <a:pt x="11" y="2068"/>
                    <a:pt x="20" y="2068"/>
                  </a:cubicBezTo>
                  <a:cubicBezTo>
                    <a:pt x="29" y="2068"/>
                    <a:pt x="37" y="2075"/>
                    <a:pt x="37" y="2084"/>
                  </a:cubicBezTo>
                  <a:lnTo>
                    <a:pt x="37" y="2084"/>
                  </a:lnTo>
                  <a:cubicBezTo>
                    <a:pt x="37" y="2094"/>
                    <a:pt x="29" y="2101"/>
                    <a:pt x="20" y="2101"/>
                  </a:cubicBezTo>
                  <a:cubicBezTo>
                    <a:pt x="11" y="2101"/>
                    <a:pt x="3" y="2094"/>
                    <a:pt x="3" y="2084"/>
                  </a:cubicBezTo>
                  <a:close/>
                  <a:moveTo>
                    <a:pt x="4" y="2018"/>
                  </a:moveTo>
                  <a:lnTo>
                    <a:pt x="4" y="2018"/>
                  </a:lnTo>
                  <a:cubicBezTo>
                    <a:pt x="4" y="2008"/>
                    <a:pt x="11" y="2001"/>
                    <a:pt x="20" y="2001"/>
                  </a:cubicBezTo>
                  <a:cubicBezTo>
                    <a:pt x="29" y="2001"/>
                    <a:pt x="37" y="2008"/>
                    <a:pt x="37" y="2018"/>
                  </a:cubicBezTo>
                  <a:lnTo>
                    <a:pt x="37" y="2018"/>
                  </a:lnTo>
                  <a:cubicBezTo>
                    <a:pt x="37" y="2027"/>
                    <a:pt x="29" y="2034"/>
                    <a:pt x="20" y="2034"/>
                  </a:cubicBezTo>
                  <a:cubicBezTo>
                    <a:pt x="11" y="2034"/>
                    <a:pt x="4" y="2027"/>
                    <a:pt x="4" y="2018"/>
                  </a:cubicBezTo>
                  <a:close/>
                  <a:moveTo>
                    <a:pt x="4" y="1951"/>
                  </a:moveTo>
                  <a:lnTo>
                    <a:pt x="4" y="1951"/>
                  </a:lnTo>
                  <a:cubicBezTo>
                    <a:pt x="4" y="1942"/>
                    <a:pt x="11" y="1934"/>
                    <a:pt x="20" y="1934"/>
                  </a:cubicBezTo>
                  <a:cubicBezTo>
                    <a:pt x="30" y="1934"/>
                    <a:pt x="37" y="1942"/>
                    <a:pt x="37" y="1951"/>
                  </a:cubicBezTo>
                  <a:lnTo>
                    <a:pt x="37" y="1951"/>
                  </a:lnTo>
                  <a:cubicBezTo>
                    <a:pt x="37" y="1960"/>
                    <a:pt x="30" y="1968"/>
                    <a:pt x="20" y="1968"/>
                  </a:cubicBezTo>
                  <a:cubicBezTo>
                    <a:pt x="11" y="1968"/>
                    <a:pt x="4" y="1960"/>
                    <a:pt x="4" y="1951"/>
                  </a:cubicBezTo>
                  <a:close/>
                  <a:moveTo>
                    <a:pt x="4" y="1884"/>
                  </a:moveTo>
                  <a:lnTo>
                    <a:pt x="4" y="1884"/>
                  </a:lnTo>
                  <a:cubicBezTo>
                    <a:pt x="4" y="1875"/>
                    <a:pt x="11" y="1868"/>
                    <a:pt x="20" y="1868"/>
                  </a:cubicBezTo>
                  <a:cubicBezTo>
                    <a:pt x="30" y="1868"/>
                    <a:pt x="37" y="1875"/>
                    <a:pt x="37" y="1884"/>
                  </a:cubicBezTo>
                  <a:lnTo>
                    <a:pt x="37" y="1884"/>
                  </a:lnTo>
                  <a:cubicBezTo>
                    <a:pt x="37" y="1893"/>
                    <a:pt x="30" y="1901"/>
                    <a:pt x="20" y="1901"/>
                  </a:cubicBezTo>
                  <a:cubicBezTo>
                    <a:pt x="11" y="1901"/>
                    <a:pt x="4" y="1893"/>
                    <a:pt x="4" y="1884"/>
                  </a:cubicBezTo>
                  <a:close/>
                  <a:moveTo>
                    <a:pt x="4" y="1818"/>
                  </a:moveTo>
                  <a:lnTo>
                    <a:pt x="4" y="1818"/>
                  </a:lnTo>
                  <a:cubicBezTo>
                    <a:pt x="4" y="1808"/>
                    <a:pt x="11" y="1801"/>
                    <a:pt x="21" y="1801"/>
                  </a:cubicBezTo>
                  <a:cubicBezTo>
                    <a:pt x="30" y="1801"/>
                    <a:pt x="37" y="1808"/>
                    <a:pt x="37" y="1818"/>
                  </a:cubicBezTo>
                  <a:lnTo>
                    <a:pt x="37" y="1818"/>
                  </a:lnTo>
                  <a:cubicBezTo>
                    <a:pt x="37" y="1827"/>
                    <a:pt x="30" y="1834"/>
                    <a:pt x="21" y="1834"/>
                  </a:cubicBezTo>
                  <a:cubicBezTo>
                    <a:pt x="11" y="1834"/>
                    <a:pt x="4" y="1827"/>
                    <a:pt x="4" y="1818"/>
                  </a:cubicBezTo>
                  <a:close/>
                  <a:moveTo>
                    <a:pt x="4" y="1751"/>
                  </a:moveTo>
                  <a:lnTo>
                    <a:pt x="4" y="1751"/>
                  </a:lnTo>
                  <a:cubicBezTo>
                    <a:pt x="4" y="1742"/>
                    <a:pt x="11" y="1734"/>
                    <a:pt x="21" y="1734"/>
                  </a:cubicBezTo>
                  <a:cubicBezTo>
                    <a:pt x="30" y="1734"/>
                    <a:pt x="37" y="1742"/>
                    <a:pt x="37" y="1751"/>
                  </a:cubicBezTo>
                  <a:lnTo>
                    <a:pt x="37" y="1751"/>
                  </a:lnTo>
                  <a:cubicBezTo>
                    <a:pt x="37" y="1760"/>
                    <a:pt x="30" y="1768"/>
                    <a:pt x="21" y="1768"/>
                  </a:cubicBezTo>
                  <a:cubicBezTo>
                    <a:pt x="11" y="1768"/>
                    <a:pt x="4" y="1760"/>
                    <a:pt x="4" y="1751"/>
                  </a:cubicBezTo>
                  <a:close/>
                  <a:moveTo>
                    <a:pt x="4" y="1684"/>
                  </a:moveTo>
                  <a:lnTo>
                    <a:pt x="4" y="1684"/>
                  </a:lnTo>
                  <a:cubicBezTo>
                    <a:pt x="4" y="1675"/>
                    <a:pt x="11" y="1667"/>
                    <a:pt x="21" y="1667"/>
                  </a:cubicBezTo>
                  <a:cubicBezTo>
                    <a:pt x="30" y="1667"/>
                    <a:pt x="37" y="1675"/>
                    <a:pt x="37" y="1684"/>
                  </a:cubicBezTo>
                  <a:lnTo>
                    <a:pt x="37" y="1684"/>
                  </a:lnTo>
                  <a:cubicBezTo>
                    <a:pt x="37" y="1693"/>
                    <a:pt x="30" y="1701"/>
                    <a:pt x="21" y="1701"/>
                  </a:cubicBezTo>
                  <a:cubicBezTo>
                    <a:pt x="11" y="1701"/>
                    <a:pt x="4" y="1693"/>
                    <a:pt x="4" y="1684"/>
                  </a:cubicBezTo>
                  <a:close/>
                  <a:moveTo>
                    <a:pt x="4" y="1617"/>
                  </a:moveTo>
                  <a:lnTo>
                    <a:pt x="4" y="1617"/>
                  </a:lnTo>
                  <a:cubicBezTo>
                    <a:pt x="4" y="1608"/>
                    <a:pt x="12" y="1601"/>
                    <a:pt x="21" y="1601"/>
                  </a:cubicBezTo>
                  <a:cubicBezTo>
                    <a:pt x="30" y="1601"/>
                    <a:pt x="37" y="1608"/>
                    <a:pt x="37" y="1617"/>
                  </a:cubicBezTo>
                  <a:lnTo>
                    <a:pt x="37" y="1617"/>
                  </a:lnTo>
                  <a:cubicBezTo>
                    <a:pt x="37" y="1627"/>
                    <a:pt x="30" y="1634"/>
                    <a:pt x="21" y="1634"/>
                  </a:cubicBezTo>
                  <a:cubicBezTo>
                    <a:pt x="12" y="1634"/>
                    <a:pt x="4" y="1627"/>
                    <a:pt x="4" y="1617"/>
                  </a:cubicBezTo>
                  <a:close/>
                  <a:moveTo>
                    <a:pt x="4" y="1551"/>
                  </a:moveTo>
                  <a:lnTo>
                    <a:pt x="4" y="1551"/>
                  </a:lnTo>
                  <a:cubicBezTo>
                    <a:pt x="4" y="1542"/>
                    <a:pt x="12" y="1534"/>
                    <a:pt x="21" y="1534"/>
                  </a:cubicBezTo>
                  <a:cubicBezTo>
                    <a:pt x="30" y="1534"/>
                    <a:pt x="38" y="1542"/>
                    <a:pt x="38" y="1551"/>
                  </a:cubicBezTo>
                  <a:lnTo>
                    <a:pt x="38" y="1551"/>
                  </a:lnTo>
                  <a:cubicBezTo>
                    <a:pt x="38" y="1560"/>
                    <a:pt x="30" y="1567"/>
                    <a:pt x="21" y="1567"/>
                  </a:cubicBezTo>
                  <a:cubicBezTo>
                    <a:pt x="12" y="1567"/>
                    <a:pt x="4" y="1560"/>
                    <a:pt x="4" y="1551"/>
                  </a:cubicBezTo>
                  <a:close/>
                  <a:moveTo>
                    <a:pt x="4" y="1484"/>
                  </a:moveTo>
                  <a:lnTo>
                    <a:pt x="4" y="1484"/>
                  </a:lnTo>
                  <a:cubicBezTo>
                    <a:pt x="4" y="1475"/>
                    <a:pt x="12" y="1467"/>
                    <a:pt x="21" y="1467"/>
                  </a:cubicBezTo>
                  <a:cubicBezTo>
                    <a:pt x="30" y="1467"/>
                    <a:pt x="38" y="1475"/>
                    <a:pt x="38" y="1484"/>
                  </a:cubicBezTo>
                  <a:lnTo>
                    <a:pt x="38" y="1484"/>
                  </a:lnTo>
                  <a:cubicBezTo>
                    <a:pt x="38" y="1493"/>
                    <a:pt x="30" y="1501"/>
                    <a:pt x="21" y="1501"/>
                  </a:cubicBezTo>
                  <a:cubicBezTo>
                    <a:pt x="12" y="1501"/>
                    <a:pt x="4" y="1493"/>
                    <a:pt x="4" y="1484"/>
                  </a:cubicBezTo>
                  <a:close/>
                  <a:moveTo>
                    <a:pt x="4" y="1417"/>
                  </a:moveTo>
                  <a:lnTo>
                    <a:pt x="4" y="1417"/>
                  </a:lnTo>
                  <a:cubicBezTo>
                    <a:pt x="4" y="1408"/>
                    <a:pt x="12" y="1401"/>
                    <a:pt x="21" y="1401"/>
                  </a:cubicBezTo>
                  <a:cubicBezTo>
                    <a:pt x="30" y="1401"/>
                    <a:pt x="38" y="1408"/>
                    <a:pt x="38" y="1417"/>
                  </a:cubicBezTo>
                  <a:lnTo>
                    <a:pt x="38" y="1417"/>
                  </a:lnTo>
                  <a:cubicBezTo>
                    <a:pt x="38" y="1427"/>
                    <a:pt x="30" y="1434"/>
                    <a:pt x="21" y="1434"/>
                  </a:cubicBezTo>
                  <a:cubicBezTo>
                    <a:pt x="12" y="1434"/>
                    <a:pt x="4" y="1427"/>
                    <a:pt x="4" y="1417"/>
                  </a:cubicBezTo>
                  <a:close/>
                  <a:moveTo>
                    <a:pt x="5" y="1351"/>
                  </a:moveTo>
                  <a:lnTo>
                    <a:pt x="5" y="1351"/>
                  </a:lnTo>
                  <a:cubicBezTo>
                    <a:pt x="5" y="1341"/>
                    <a:pt x="12" y="1334"/>
                    <a:pt x="21" y="1334"/>
                  </a:cubicBezTo>
                  <a:cubicBezTo>
                    <a:pt x="30" y="1334"/>
                    <a:pt x="38" y="1341"/>
                    <a:pt x="38" y="1351"/>
                  </a:cubicBezTo>
                  <a:lnTo>
                    <a:pt x="38" y="1351"/>
                  </a:lnTo>
                  <a:cubicBezTo>
                    <a:pt x="38" y="1360"/>
                    <a:pt x="30" y="1367"/>
                    <a:pt x="21" y="1367"/>
                  </a:cubicBezTo>
                  <a:cubicBezTo>
                    <a:pt x="12" y="1367"/>
                    <a:pt x="5" y="1360"/>
                    <a:pt x="5" y="1351"/>
                  </a:cubicBezTo>
                  <a:close/>
                  <a:moveTo>
                    <a:pt x="5" y="1284"/>
                  </a:moveTo>
                  <a:lnTo>
                    <a:pt x="5" y="1284"/>
                  </a:lnTo>
                  <a:cubicBezTo>
                    <a:pt x="5" y="1275"/>
                    <a:pt x="12" y="1267"/>
                    <a:pt x="21" y="1267"/>
                  </a:cubicBezTo>
                  <a:cubicBezTo>
                    <a:pt x="30" y="1267"/>
                    <a:pt x="38" y="1275"/>
                    <a:pt x="38" y="1284"/>
                  </a:cubicBezTo>
                  <a:lnTo>
                    <a:pt x="38" y="1284"/>
                  </a:lnTo>
                  <a:cubicBezTo>
                    <a:pt x="38" y="1293"/>
                    <a:pt x="30" y="1301"/>
                    <a:pt x="21" y="1301"/>
                  </a:cubicBezTo>
                  <a:cubicBezTo>
                    <a:pt x="12" y="1301"/>
                    <a:pt x="5" y="1293"/>
                    <a:pt x="5" y="1284"/>
                  </a:cubicBezTo>
                  <a:close/>
                  <a:moveTo>
                    <a:pt x="5" y="1217"/>
                  </a:moveTo>
                  <a:lnTo>
                    <a:pt x="5" y="1217"/>
                  </a:lnTo>
                  <a:cubicBezTo>
                    <a:pt x="5" y="1208"/>
                    <a:pt x="12" y="1201"/>
                    <a:pt x="21" y="1201"/>
                  </a:cubicBezTo>
                  <a:cubicBezTo>
                    <a:pt x="31" y="1201"/>
                    <a:pt x="38" y="1208"/>
                    <a:pt x="38" y="1217"/>
                  </a:cubicBezTo>
                  <a:lnTo>
                    <a:pt x="38" y="1217"/>
                  </a:lnTo>
                  <a:cubicBezTo>
                    <a:pt x="38" y="1227"/>
                    <a:pt x="31" y="1234"/>
                    <a:pt x="21" y="1234"/>
                  </a:cubicBezTo>
                  <a:cubicBezTo>
                    <a:pt x="12" y="1234"/>
                    <a:pt x="5" y="1227"/>
                    <a:pt x="5" y="1217"/>
                  </a:cubicBezTo>
                  <a:close/>
                  <a:moveTo>
                    <a:pt x="5" y="1151"/>
                  </a:moveTo>
                  <a:lnTo>
                    <a:pt x="5" y="1151"/>
                  </a:lnTo>
                  <a:cubicBezTo>
                    <a:pt x="5" y="1141"/>
                    <a:pt x="12" y="1134"/>
                    <a:pt x="21" y="1134"/>
                  </a:cubicBezTo>
                  <a:cubicBezTo>
                    <a:pt x="31" y="1134"/>
                    <a:pt x="38" y="1141"/>
                    <a:pt x="38" y="1151"/>
                  </a:cubicBezTo>
                  <a:lnTo>
                    <a:pt x="38" y="1151"/>
                  </a:lnTo>
                  <a:cubicBezTo>
                    <a:pt x="38" y="1160"/>
                    <a:pt x="31" y="1167"/>
                    <a:pt x="21" y="1167"/>
                  </a:cubicBezTo>
                  <a:cubicBezTo>
                    <a:pt x="12" y="1167"/>
                    <a:pt x="5" y="1160"/>
                    <a:pt x="5" y="1151"/>
                  </a:cubicBezTo>
                  <a:close/>
                  <a:moveTo>
                    <a:pt x="5" y="1084"/>
                  </a:moveTo>
                  <a:lnTo>
                    <a:pt x="5" y="1084"/>
                  </a:lnTo>
                  <a:cubicBezTo>
                    <a:pt x="5" y="1075"/>
                    <a:pt x="12" y="1067"/>
                    <a:pt x="22" y="1067"/>
                  </a:cubicBezTo>
                  <a:cubicBezTo>
                    <a:pt x="31" y="1067"/>
                    <a:pt x="38" y="1075"/>
                    <a:pt x="38" y="1084"/>
                  </a:cubicBezTo>
                  <a:lnTo>
                    <a:pt x="38" y="1084"/>
                  </a:lnTo>
                  <a:cubicBezTo>
                    <a:pt x="38" y="1093"/>
                    <a:pt x="31" y="1101"/>
                    <a:pt x="22" y="1101"/>
                  </a:cubicBezTo>
                  <a:cubicBezTo>
                    <a:pt x="12" y="1101"/>
                    <a:pt x="5" y="1093"/>
                    <a:pt x="5" y="1084"/>
                  </a:cubicBezTo>
                  <a:close/>
                  <a:moveTo>
                    <a:pt x="5" y="1017"/>
                  </a:moveTo>
                  <a:lnTo>
                    <a:pt x="5" y="1017"/>
                  </a:lnTo>
                  <a:cubicBezTo>
                    <a:pt x="5" y="1008"/>
                    <a:pt x="12" y="1000"/>
                    <a:pt x="22" y="1000"/>
                  </a:cubicBezTo>
                  <a:cubicBezTo>
                    <a:pt x="31" y="1000"/>
                    <a:pt x="38" y="1008"/>
                    <a:pt x="38" y="1017"/>
                  </a:cubicBezTo>
                  <a:lnTo>
                    <a:pt x="38" y="1017"/>
                  </a:lnTo>
                  <a:cubicBezTo>
                    <a:pt x="38" y="1026"/>
                    <a:pt x="31" y="1034"/>
                    <a:pt x="22" y="1034"/>
                  </a:cubicBezTo>
                  <a:cubicBezTo>
                    <a:pt x="12" y="1034"/>
                    <a:pt x="5" y="1026"/>
                    <a:pt x="5" y="1017"/>
                  </a:cubicBezTo>
                  <a:close/>
                  <a:moveTo>
                    <a:pt x="5" y="951"/>
                  </a:moveTo>
                  <a:lnTo>
                    <a:pt x="5" y="950"/>
                  </a:lnTo>
                  <a:cubicBezTo>
                    <a:pt x="5" y="941"/>
                    <a:pt x="13" y="934"/>
                    <a:pt x="22" y="934"/>
                  </a:cubicBezTo>
                  <a:cubicBezTo>
                    <a:pt x="31" y="934"/>
                    <a:pt x="38" y="941"/>
                    <a:pt x="38" y="950"/>
                  </a:cubicBezTo>
                  <a:lnTo>
                    <a:pt x="38" y="951"/>
                  </a:lnTo>
                  <a:cubicBezTo>
                    <a:pt x="38" y="960"/>
                    <a:pt x="31" y="967"/>
                    <a:pt x="22" y="967"/>
                  </a:cubicBezTo>
                  <a:cubicBezTo>
                    <a:pt x="13" y="967"/>
                    <a:pt x="5" y="960"/>
                    <a:pt x="5" y="951"/>
                  </a:cubicBezTo>
                  <a:close/>
                  <a:moveTo>
                    <a:pt x="5" y="884"/>
                  </a:moveTo>
                  <a:lnTo>
                    <a:pt x="5" y="884"/>
                  </a:lnTo>
                  <a:cubicBezTo>
                    <a:pt x="5" y="875"/>
                    <a:pt x="13" y="867"/>
                    <a:pt x="22" y="867"/>
                  </a:cubicBezTo>
                  <a:cubicBezTo>
                    <a:pt x="31" y="867"/>
                    <a:pt x="38" y="875"/>
                    <a:pt x="38" y="884"/>
                  </a:cubicBezTo>
                  <a:lnTo>
                    <a:pt x="38" y="884"/>
                  </a:lnTo>
                  <a:cubicBezTo>
                    <a:pt x="38" y="893"/>
                    <a:pt x="31" y="900"/>
                    <a:pt x="22" y="900"/>
                  </a:cubicBezTo>
                  <a:cubicBezTo>
                    <a:pt x="13" y="900"/>
                    <a:pt x="5" y="893"/>
                    <a:pt x="5" y="884"/>
                  </a:cubicBezTo>
                  <a:close/>
                  <a:moveTo>
                    <a:pt x="5" y="817"/>
                  </a:moveTo>
                  <a:lnTo>
                    <a:pt x="5" y="817"/>
                  </a:lnTo>
                  <a:cubicBezTo>
                    <a:pt x="5" y="808"/>
                    <a:pt x="13" y="800"/>
                    <a:pt x="22" y="800"/>
                  </a:cubicBezTo>
                  <a:cubicBezTo>
                    <a:pt x="31" y="800"/>
                    <a:pt x="39" y="808"/>
                    <a:pt x="39" y="817"/>
                  </a:cubicBezTo>
                  <a:lnTo>
                    <a:pt x="39" y="817"/>
                  </a:lnTo>
                  <a:cubicBezTo>
                    <a:pt x="39" y="826"/>
                    <a:pt x="31" y="834"/>
                    <a:pt x="22" y="834"/>
                  </a:cubicBezTo>
                  <a:cubicBezTo>
                    <a:pt x="13" y="834"/>
                    <a:pt x="5" y="826"/>
                    <a:pt x="5" y="817"/>
                  </a:cubicBezTo>
                  <a:close/>
                  <a:moveTo>
                    <a:pt x="5" y="750"/>
                  </a:moveTo>
                  <a:lnTo>
                    <a:pt x="5" y="750"/>
                  </a:lnTo>
                  <a:cubicBezTo>
                    <a:pt x="5" y="741"/>
                    <a:pt x="13" y="734"/>
                    <a:pt x="22" y="734"/>
                  </a:cubicBezTo>
                  <a:cubicBezTo>
                    <a:pt x="31" y="734"/>
                    <a:pt x="39" y="741"/>
                    <a:pt x="39" y="750"/>
                  </a:cubicBezTo>
                  <a:lnTo>
                    <a:pt x="39" y="750"/>
                  </a:lnTo>
                  <a:cubicBezTo>
                    <a:pt x="39" y="760"/>
                    <a:pt x="31" y="767"/>
                    <a:pt x="22" y="767"/>
                  </a:cubicBezTo>
                  <a:cubicBezTo>
                    <a:pt x="13" y="767"/>
                    <a:pt x="5" y="760"/>
                    <a:pt x="5" y="750"/>
                  </a:cubicBezTo>
                  <a:close/>
                  <a:moveTo>
                    <a:pt x="5" y="684"/>
                  </a:moveTo>
                  <a:lnTo>
                    <a:pt x="5" y="684"/>
                  </a:lnTo>
                  <a:cubicBezTo>
                    <a:pt x="5" y="674"/>
                    <a:pt x="13" y="667"/>
                    <a:pt x="22" y="667"/>
                  </a:cubicBezTo>
                  <a:cubicBezTo>
                    <a:pt x="31" y="667"/>
                    <a:pt x="39" y="674"/>
                    <a:pt x="39" y="684"/>
                  </a:cubicBezTo>
                  <a:lnTo>
                    <a:pt x="39" y="684"/>
                  </a:lnTo>
                  <a:cubicBezTo>
                    <a:pt x="39" y="693"/>
                    <a:pt x="31" y="700"/>
                    <a:pt x="22" y="700"/>
                  </a:cubicBezTo>
                  <a:cubicBezTo>
                    <a:pt x="13" y="700"/>
                    <a:pt x="5" y="693"/>
                    <a:pt x="5" y="684"/>
                  </a:cubicBezTo>
                  <a:close/>
                  <a:moveTo>
                    <a:pt x="6" y="617"/>
                  </a:moveTo>
                  <a:lnTo>
                    <a:pt x="6" y="617"/>
                  </a:lnTo>
                  <a:cubicBezTo>
                    <a:pt x="6" y="608"/>
                    <a:pt x="13" y="600"/>
                    <a:pt x="22" y="600"/>
                  </a:cubicBezTo>
                  <a:cubicBezTo>
                    <a:pt x="31" y="600"/>
                    <a:pt x="39" y="608"/>
                    <a:pt x="39" y="617"/>
                  </a:cubicBezTo>
                  <a:lnTo>
                    <a:pt x="39" y="617"/>
                  </a:lnTo>
                  <a:cubicBezTo>
                    <a:pt x="39" y="626"/>
                    <a:pt x="31" y="634"/>
                    <a:pt x="22" y="634"/>
                  </a:cubicBezTo>
                  <a:cubicBezTo>
                    <a:pt x="13" y="634"/>
                    <a:pt x="6" y="626"/>
                    <a:pt x="6" y="617"/>
                  </a:cubicBezTo>
                  <a:close/>
                  <a:moveTo>
                    <a:pt x="6" y="550"/>
                  </a:moveTo>
                  <a:lnTo>
                    <a:pt x="6" y="550"/>
                  </a:lnTo>
                  <a:cubicBezTo>
                    <a:pt x="6" y="541"/>
                    <a:pt x="13" y="534"/>
                    <a:pt x="22" y="534"/>
                  </a:cubicBezTo>
                  <a:cubicBezTo>
                    <a:pt x="31" y="534"/>
                    <a:pt x="39" y="541"/>
                    <a:pt x="39" y="550"/>
                  </a:cubicBezTo>
                  <a:lnTo>
                    <a:pt x="39" y="550"/>
                  </a:lnTo>
                  <a:cubicBezTo>
                    <a:pt x="39" y="560"/>
                    <a:pt x="31" y="567"/>
                    <a:pt x="22" y="567"/>
                  </a:cubicBezTo>
                  <a:cubicBezTo>
                    <a:pt x="13" y="567"/>
                    <a:pt x="6" y="560"/>
                    <a:pt x="6" y="550"/>
                  </a:cubicBezTo>
                  <a:close/>
                  <a:moveTo>
                    <a:pt x="6" y="484"/>
                  </a:moveTo>
                  <a:lnTo>
                    <a:pt x="6" y="484"/>
                  </a:lnTo>
                  <a:cubicBezTo>
                    <a:pt x="6" y="474"/>
                    <a:pt x="13" y="467"/>
                    <a:pt x="22" y="467"/>
                  </a:cubicBezTo>
                  <a:cubicBezTo>
                    <a:pt x="32" y="467"/>
                    <a:pt x="39" y="474"/>
                    <a:pt x="39" y="484"/>
                  </a:cubicBezTo>
                  <a:lnTo>
                    <a:pt x="39" y="484"/>
                  </a:lnTo>
                  <a:cubicBezTo>
                    <a:pt x="39" y="493"/>
                    <a:pt x="32" y="500"/>
                    <a:pt x="22" y="500"/>
                  </a:cubicBezTo>
                  <a:cubicBezTo>
                    <a:pt x="13" y="500"/>
                    <a:pt x="6" y="493"/>
                    <a:pt x="6" y="484"/>
                  </a:cubicBezTo>
                  <a:close/>
                  <a:moveTo>
                    <a:pt x="6" y="417"/>
                  </a:moveTo>
                  <a:lnTo>
                    <a:pt x="6" y="417"/>
                  </a:lnTo>
                  <a:cubicBezTo>
                    <a:pt x="6" y="408"/>
                    <a:pt x="13" y="400"/>
                    <a:pt x="22" y="400"/>
                  </a:cubicBezTo>
                  <a:cubicBezTo>
                    <a:pt x="32" y="400"/>
                    <a:pt x="39" y="408"/>
                    <a:pt x="39" y="417"/>
                  </a:cubicBezTo>
                  <a:lnTo>
                    <a:pt x="39" y="417"/>
                  </a:lnTo>
                  <a:cubicBezTo>
                    <a:pt x="39" y="426"/>
                    <a:pt x="32" y="434"/>
                    <a:pt x="22" y="434"/>
                  </a:cubicBezTo>
                  <a:cubicBezTo>
                    <a:pt x="13" y="434"/>
                    <a:pt x="6" y="426"/>
                    <a:pt x="6" y="417"/>
                  </a:cubicBezTo>
                  <a:close/>
                  <a:moveTo>
                    <a:pt x="6" y="350"/>
                  </a:moveTo>
                  <a:lnTo>
                    <a:pt x="6" y="350"/>
                  </a:lnTo>
                  <a:cubicBezTo>
                    <a:pt x="6" y="341"/>
                    <a:pt x="13" y="334"/>
                    <a:pt x="23" y="334"/>
                  </a:cubicBezTo>
                  <a:cubicBezTo>
                    <a:pt x="32" y="334"/>
                    <a:pt x="39" y="341"/>
                    <a:pt x="39" y="350"/>
                  </a:cubicBezTo>
                  <a:lnTo>
                    <a:pt x="39" y="350"/>
                  </a:lnTo>
                  <a:cubicBezTo>
                    <a:pt x="39" y="359"/>
                    <a:pt x="32" y="367"/>
                    <a:pt x="23" y="367"/>
                  </a:cubicBezTo>
                  <a:cubicBezTo>
                    <a:pt x="13" y="367"/>
                    <a:pt x="6" y="359"/>
                    <a:pt x="6" y="350"/>
                  </a:cubicBezTo>
                  <a:close/>
                  <a:moveTo>
                    <a:pt x="6" y="284"/>
                  </a:moveTo>
                  <a:lnTo>
                    <a:pt x="6" y="283"/>
                  </a:lnTo>
                  <a:cubicBezTo>
                    <a:pt x="6" y="274"/>
                    <a:pt x="13" y="267"/>
                    <a:pt x="23" y="267"/>
                  </a:cubicBezTo>
                  <a:cubicBezTo>
                    <a:pt x="32" y="267"/>
                    <a:pt x="39" y="274"/>
                    <a:pt x="39" y="283"/>
                  </a:cubicBezTo>
                  <a:lnTo>
                    <a:pt x="39" y="284"/>
                  </a:lnTo>
                  <a:cubicBezTo>
                    <a:pt x="39" y="293"/>
                    <a:pt x="32" y="300"/>
                    <a:pt x="23" y="300"/>
                  </a:cubicBezTo>
                  <a:cubicBezTo>
                    <a:pt x="13" y="300"/>
                    <a:pt x="6" y="293"/>
                    <a:pt x="6" y="284"/>
                  </a:cubicBezTo>
                  <a:close/>
                  <a:moveTo>
                    <a:pt x="6" y="217"/>
                  </a:moveTo>
                  <a:lnTo>
                    <a:pt x="6" y="217"/>
                  </a:lnTo>
                  <a:cubicBezTo>
                    <a:pt x="6" y="208"/>
                    <a:pt x="14" y="200"/>
                    <a:pt x="23" y="200"/>
                  </a:cubicBezTo>
                  <a:cubicBezTo>
                    <a:pt x="32" y="200"/>
                    <a:pt x="39" y="208"/>
                    <a:pt x="39" y="217"/>
                  </a:cubicBezTo>
                  <a:lnTo>
                    <a:pt x="39" y="217"/>
                  </a:lnTo>
                  <a:cubicBezTo>
                    <a:pt x="39" y="226"/>
                    <a:pt x="32" y="233"/>
                    <a:pt x="23" y="233"/>
                  </a:cubicBezTo>
                  <a:cubicBezTo>
                    <a:pt x="14" y="233"/>
                    <a:pt x="6" y="226"/>
                    <a:pt x="6" y="217"/>
                  </a:cubicBezTo>
                  <a:close/>
                  <a:moveTo>
                    <a:pt x="6" y="150"/>
                  </a:moveTo>
                  <a:lnTo>
                    <a:pt x="6" y="150"/>
                  </a:lnTo>
                  <a:cubicBezTo>
                    <a:pt x="6" y="141"/>
                    <a:pt x="14" y="133"/>
                    <a:pt x="23" y="133"/>
                  </a:cubicBezTo>
                  <a:cubicBezTo>
                    <a:pt x="32" y="133"/>
                    <a:pt x="40" y="141"/>
                    <a:pt x="40" y="150"/>
                  </a:cubicBezTo>
                  <a:lnTo>
                    <a:pt x="40" y="150"/>
                  </a:lnTo>
                  <a:cubicBezTo>
                    <a:pt x="40" y="159"/>
                    <a:pt x="32" y="167"/>
                    <a:pt x="23" y="167"/>
                  </a:cubicBezTo>
                  <a:cubicBezTo>
                    <a:pt x="14" y="167"/>
                    <a:pt x="6" y="159"/>
                    <a:pt x="6" y="150"/>
                  </a:cubicBezTo>
                  <a:close/>
                  <a:moveTo>
                    <a:pt x="6" y="83"/>
                  </a:moveTo>
                  <a:lnTo>
                    <a:pt x="6" y="83"/>
                  </a:lnTo>
                  <a:cubicBezTo>
                    <a:pt x="6" y="74"/>
                    <a:pt x="14" y="67"/>
                    <a:pt x="23" y="67"/>
                  </a:cubicBezTo>
                  <a:cubicBezTo>
                    <a:pt x="32" y="67"/>
                    <a:pt x="40" y="74"/>
                    <a:pt x="40" y="83"/>
                  </a:cubicBezTo>
                  <a:lnTo>
                    <a:pt x="40" y="83"/>
                  </a:lnTo>
                  <a:cubicBezTo>
                    <a:pt x="40" y="93"/>
                    <a:pt x="32" y="100"/>
                    <a:pt x="23" y="100"/>
                  </a:cubicBezTo>
                  <a:cubicBezTo>
                    <a:pt x="14" y="100"/>
                    <a:pt x="6" y="93"/>
                    <a:pt x="6" y="83"/>
                  </a:cubicBezTo>
                  <a:close/>
                  <a:moveTo>
                    <a:pt x="6" y="17"/>
                  </a:moveTo>
                  <a:lnTo>
                    <a:pt x="6" y="17"/>
                  </a:lnTo>
                  <a:cubicBezTo>
                    <a:pt x="6" y="8"/>
                    <a:pt x="14" y="0"/>
                    <a:pt x="23" y="0"/>
                  </a:cubicBezTo>
                  <a:cubicBezTo>
                    <a:pt x="32" y="0"/>
                    <a:pt x="40" y="8"/>
                    <a:pt x="40" y="17"/>
                  </a:cubicBezTo>
                  <a:lnTo>
                    <a:pt x="40" y="17"/>
                  </a:lnTo>
                  <a:cubicBezTo>
                    <a:pt x="40" y="26"/>
                    <a:pt x="32" y="33"/>
                    <a:pt x="23" y="33"/>
                  </a:cubicBezTo>
                  <a:cubicBezTo>
                    <a:pt x="14" y="33"/>
                    <a:pt x="6" y="26"/>
                    <a:pt x="6" y="17"/>
                  </a:cubicBez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106880" y="2260440"/>
              <a:ext cx="3240" cy="454320"/>
            </a:xfrm>
            <a:custGeom>
              <a:avLst/>
              <a:gdLst/>
              <a:ahLst/>
              <a:rect l="l" t="t" r="r" b="b"/>
              <a:pathLst>
                <a:path w="20" h="2385">
                  <a:moveTo>
                    <a:pt x="0" y="2376"/>
                  </a:moveTo>
                  <a:lnTo>
                    <a:pt x="0" y="2376"/>
                  </a:lnTo>
                  <a:cubicBezTo>
                    <a:pt x="0" y="2372"/>
                    <a:pt x="4" y="2368"/>
                    <a:pt x="8" y="2368"/>
                  </a:cubicBezTo>
                  <a:cubicBezTo>
                    <a:pt x="13" y="2368"/>
                    <a:pt x="17" y="2372"/>
                    <a:pt x="17" y="2376"/>
                  </a:cubicBezTo>
                  <a:lnTo>
                    <a:pt x="17" y="2376"/>
                  </a:lnTo>
                  <a:cubicBezTo>
                    <a:pt x="17" y="2381"/>
                    <a:pt x="13" y="2385"/>
                    <a:pt x="8" y="2385"/>
                  </a:cubicBezTo>
                  <a:cubicBezTo>
                    <a:pt x="4" y="2385"/>
                    <a:pt x="0" y="2381"/>
                    <a:pt x="0" y="2376"/>
                  </a:cubicBezTo>
                  <a:close/>
                  <a:moveTo>
                    <a:pt x="0" y="2343"/>
                  </a:moveTo>
                  <a:lnTo>
                    <a:pt x="0" y="2343"/>
                  </a:lnTo>
                  <a:cubicBezTo>
                    <a:pt x="0" y="2338"/>
                    <a:pt x="4" y="2335"/>
                    <a:pt x="9" y="2335"/>
                  </a:cubicBezTo>
                  <a:cubicBezTo>
                    <a:pt x="13" y="2335"/>
                    <a:pt x="17" y="2338"/>
                    <a:pt x="17" y="2343"/>
                  </a:cubicBezTo>
                  <a:lnTo>
                    <a:pt x="17" y="2343"/>
                  </a:lnTo>
                  <a:cubicBezTo>
                    <a:pt x="17" y="2348"/>
                    <a:pt x="13" y="2351"/>
                    <a:pt x="9" y="2351"/>
                  </a:cubicBezTo>
                  <a:cubicBezTo>
                    <a:pt x="4" y="2351"/>
                    <a:pt x="0" y="2348"/>
                    <a:pt x="0" y="2343"/>
                  </a:cubicBezTo>
                  <a:close/>
                  <a:moveTo>
                    <a:pt x="0" y="2310"/>
                  </a:moveTo>
                  <a:lnTo>
                    <a:pt x="0" y="2310"/>
                  </a:lnTo>
                  <a:cubicBezTo>
                    <a:pt x="0" y="2305"/>
                    <a:pt x="4" y="2301"/>
                    <a:pt x="9" y="2301"/>
                  </a:cubicBezTo>
                  <a:cubicBezTo>
                    <a:pt x="13" y="2301"/>
                    <a:pt x="17" y="2305"/>
                    <a:pt x="17" y="2310"/>
                  </a:cubicBezTo>
                  <a:lnTo>
                    <a:pt x="17" y="2310"/>
                  </a:lnTo>
                  <a:cubicBezTo>
                    <a:pt x="17" y="2314"/>
                    <a:pt x="13" y="2318"/>
                    <a:pt x="9" y="2318"/>
                  </a:cubicBezTo>
                  <a:cubicBezTo>
                    <a:pt x="4" y="2318"/>
                    <a:pt x="0" y="2314"/>
                    <a:pt x="0" y="2310"/>
                  </a:cubicBezTo>
                  <a:close/>
                  <a:moveTo>
                    <a:pt x="0" y="2276"/>
                  </a:moveTo>
                  <a:lnTo>
                    <a:pt x="0" y="2276"/>
                  </a:lnTo>
                  <a:cubicBezTo>
                    <a:pt x="0" y="2272"/>
                    <a:pt x="4" y="2268"/>
                    <a:pt x="9" y="2268"/>
                  </a:cubicBezTo>
                  <a:cubicBezTo>
                    <a:pt x="13" y="2268"/>
                    <a:pt x="17" y="2272"/>
                    <a:pt x="17" y="2276"/>
                  </a:cubicBezTo>
                  <a:lnTo>
                    <a:pt x="17" y="2276"/>
                  </a:lnTo>
                  <a:cubicBezTo>
                    <a:pt x="17" y="2281"/>
                    <a:pt x="13" y="2285"/>
                    <a:pt x="9" y="2285"/>
                  </a:cubicBezTo>
                  <a:cubicBezTo>
                    <a:pt x="4" y="2285"/>
                    <a:pt x="0" y="2281"/>
                    <a:pt x="0" y="2276"/>
                  </a:cubicBezTo>
                  <a:close/>
                  <a:moveTo>
                    <a:pt x="0" y="2243"/>
                  </a:moveTo>
                  <a:lnTo>
                    <a:pt x="0" y="2243"/>
                  </a:lnTo>
                  <a:cubicBezTo>
                    <a:pt x="0" y="2238"/>
                    <a:pt x="4" y="2235"/>
                    <a:pt x="9" y="2235"/>
                  </a:cubicBezTo>
                  <a:cubicBezTo>
                    <a:pt x="13" y="2235"/>
                    <a:pt x="17" y="2238"/>
                    <a:pt x="17" y="2243"/>
                  </a:cubicBezTo>
                  <a:lnTo>
                    <a:pt x="17" y="2243"/>
                  </a:lnTo>
                  <a:cubicBezTo>
                    <a:pt x="17" y="2248"/>
                    <a:pt x="13" y="2251"/>
                    <a:pt x="9" y="2251"/>
                  </a:cubicBezTo>
                  <a:cubicBezTo>
                    <a:pt x="4" y="2251"/>
                    <a:pt x="0" y="2248"/>
                    <a:pt x="0" y="2243"/>
                  </a:cubicBezTo>
                  <a:close/>
                  <a:moveTo>
                    <a:pt x="0" y="2210"/>
                  </a:moveTo>
                  <a:lnTo>
                    <a:pt x="0" y="2210"/>
                  </a:lnTo>
                  <a:cubicBezTo>
                    <a:pt x="0" y="2205"/>
                    <a:pt x="4" y="2201"/>
                    <a:pt x="9" y="2201"/>
                  </a:cubicBezTo>
                  <a:cubicBezTo>
                    <a:pt x="13" y="2201"/>
                    <a:pt x="17" y="2205"/>
                    <a:pt x="17" y="2210"/>
                  </a:cubicBezTo>
                  <a:lnTo>
                    <a:pt x="17" y="2210"/>
                  </a:lnTo>
                  <a:cubicBezTo>
                    <a:pt x="17" y="2214"/>
                    <a:pt x="13" y="2218"/>
                    <a:pt x="9" y="2218"/>
                  </a:cubicBezTo>
                  <a:cubicBezTo>
                    <a:pt x="4" y="2218"/>
                    <a:pt x="0" y="2214"/>
                    <a:pt x="0" y="2210"/>
                  </a:cubicBezTo>
                  <a:close/>
                  <a:moveTo>
                    <a:pt x="0" y="2176"/>
                  </a:moveTo>
                  <a:lnTo>
                    <a:pt x="0" y="2176"/>
                  </a:lnTo>
                  <a:cubicBezTo>
                    <a:pt x="0" y="2172"/>
                    <a:pt x="4" y="2168"/>
                    <a:pt x="9" y="2168"/>
                  </a:cubicBezTo>
                  <a:cubicBezTo>
                    <a:pt x="13" y="2168"/>
                    <a:pt x="17" y="2172"/>
                    <a:pt x="17" y="2176"/>
                  </a:cubicBezTo>
                  <a:lnTo>
                    <a:pt x="17" y="2176"/>
                  </a:lnTo>
                  <a:cubicBezTo>
                    <a:pt x="17" y="2181"/>
                    <a:pt x="13" y="2185"/>
                    <a:pt x="9" y="2185"/>
                  </a:cubicBezTo>
                  <a:cubicBezTo>
                    <a:pt x="4" y="2185"/>
                    <a:pt x="0" y="2181"/>
                    <a:pt x="0" y="2176"/>
                  </a:cubicBezTo>
                  <a:close/>
                  <a:moveTo>
                    <a:pt x="0" y="2143"/>
                  </a:moveTo>
                  <a:lnTo>
                    <a:pt x="0" y="2143"/>
                  </a:lnTo>
                  <a:cubicBezTo>
                    <a:pt x="0" y="2138"/>
                    <a:pt x="4" y="2135"/>
                    <a:pt x="9" y="2135"/>
                  </a:cubicBezTo>
                  <a:cubicBezTo>
                    <a:pt x="13" y="2135"/>
                    <a:pt x="17" y="2138"/>
                    <a:pt x="17" y="2143"/>
                  </a:cubicBezTo>
                  <a:lnTo>
                    <a:pt x="17" y="2143"/>
                  </a:lnTo>
                  <a:cubicBezTo>
                    <a:pt x="17" y="2148"/>
                    <a:pt x="13" y="2151"/>
                    <a:pt x="9" y="2151"/>
                  </a:cubicBezTo>
                  <a:cubicBezTo>
                    <a:pt x="4" y="2151"/>
                    <a:pt x="0" y="2148"/>
                    <a:pt x="0" y="2143"/>
                  </a:cubicBezTo>
                  <a:close/>
                  <a:moveTo>
                    <a:pt x="0" y="2110"/>
                  </a:moveTo>
                  <a:lnTo>
                    <a:pt x="0" y="2110"/>
                  </a:lnTo>
                  <a:cubicBezTo>
                    <a:pt x="0" y="2105"/>
                    <a:pt x="4" y="2101"/>
                    <a:pt x="9" y="2101"/>
                  </a:cubicBezTo>
                  <a:cubicBezTo>
                    <a:pt x="13" y="2101"/>
                    <a:pt x="17" y="2105"/>
                    <a:pt x="17" y="2110"/>
                  </a:cubicBezTo>
                  <a:lnTo>
                    <a:pt x="17" y="2110"/>
                  </a:lnTo>
                  <a:cubicBezTo>
                    <a:pt x="17" y="2114"/>
                    <a:pt x="13" y="2118"/>
                    <a:pt x="9" y="2118"/>
                  </a:cubicBezTo>
                  <a:cubicBezTo>
                    <a:pt x="4" y="2118"/>
                    <a:pt x="0" y="2114"/>
                    <a:pt x="0" y="2110"/>
                  </a:cubicBezTo>
                  <a:close/>
                  <a:moveTo>
                    <a:pt x="1" y="2076"/>
                  </a:moveTo>
                  <a:lnTo>
                    <a:pt x="1" y="2076"/>
                  </a:lnTo>
                  <a:cubicBezTo>
                    <a:pt x="1" y="2072"/>
                    <a:pt x="4" y="2068"/>
                    <a:pt x="9" y="2068"/>
                  </a:cubicBezTo>
                  <a:cubicBezTo>
                    <a:pt x="13" y="2068"/>
                    <a:pt x="17" y="2072"/>
                    <a:pt x="17" y="2076"/>
                  </a:cubicBezTo>
                  <a:lnTo>
                    <a:pt x="17" y="2076"/>
                  </a:lnTo>
                  <a:cubicBezTo>
                    <a:pt x="17" y="2081"/>
                    <a:pt x="13" y="2085"/>
                    <a:pt x="9" y="2085"/>
                  </a:cubicBezTo>
                  <a:cubicBezTo>
                    <a:pt x="4" y="2085"/>
                    <a:pt x="1" y="2081"/>
                    <a:pt x="1" y="2076"/>
                  </a:cubicBezTo>
                  <a:close/>
                  <a:moveTo>
                    <a:pt x="1" y="2043"/>
                  </a:moveTo>
                  <a:lnTo>
                    <a:pt x="1" y="2043"/>
                  </a:lnTo>
                  <a:cubicBezTo>
                    <a:pt x="1" y="2038"/>
                    <a:pt x="4" y="2035"/>
                    <a:pt x="9" y="2035"/>
                  </a:cubicBezTo>
                  <a:cubicBezTo>
                    <a:pt x="14" y="2035"/>
                    <a:pt x="17" y="2038"/>
                    <a:pt x="17" y="2043"/>
                  </a:cubicBezTo>
                  <a:lnTo>
                    <a:pt x="17" y="2043"/>
                  </a:lnTo>
                  <a:cubicBezTo>
                    <a:pt x="17" y="2048"/>
                    <a:pt x="14" y="2051"/>
                    <a:pt x="9" y="2051"/>
                  </a:cubicBezTo>
                  <a:cubicBezTo>
                    <a:pt x="4" y="2051"/>
                    <a:pt x="1" y="2048"/>
                    <a:pt x="1" y="2043"/>
                  </a:cubicBezTo>
                  <a:close/>
                  <a:moveTo>
                    <a:pt x="1" y="2010"/>
                  </a:moveTo>
                  <a:lnTo>
                    <a:pt x="1" y="2010"/>
                  </a:lnTo>
                  <a:cubicBezTo>
                    <a:pt x="1" y="2005"/>
                    <a:pt x="4" y="2001"/>
                    <a:pt x="9" y="2001"/>
                  </a:cubicBezTo>
                  <a:cubicBezTo>
                    <a:pt x="14" y="2001"/>
                    <a:pt x="17" y="2005"/>
                    <a:pt x="17" y="2010"/>
                  </a:cubicBezTo>
                  <a:lnTo>
                    <a:pt x="17" y="2010"/>
                  </a:lnTo>
                  <a:cubicBezTo>
                    <a:pt x="17" y="2014"/>
                    <a:pt x="14" y="2018"/>
                    <a:pt x="9" y="2018"/>
                  </a:cubicBezTo>
                  <a:cubicBezTo>
                    <a:pt x="4" y="2018"/>
                    <a:pt x="1" y="2014"/>
                    <a:pt x="1" y="2010"/>
                  </a:cubicBezTo>
                  <a:close/>
                  <a:moveTo>
                    <a:pt x="1" y="1976"/>
                  </a:moveTo>
                  <a:lnTo>
                    <a:pt x="1" y="1976"/>
                  </a:lnTo>
                  <a:cubicBezTo>
                    <a:pt x="1" y="1972"/>
                    <a:pt x="4" y="1968"/>
                    <a:pt x="9" y="1968"/>
                  </a:cubicBezTo>
                  <a:cubicBezTo>
                    <a:pt x="14" y="1968"/>
                    <a:pt x="17" y="1972"/>
                    <a:pt x="17" y="1976"/>
                  </a:cubicBezTo>
                  <a:lnTo>
                    <a:pt x="17" y="1976"/>
                  </a:lnTo>
                  <a:cubicBezTo>
                    <a:pt x="17" y="1981"/>
                    <a:pt x="14" y="1985"/>
                    <a:pt x="9" y="1985"/>
                  </a:cubicBezTo>
                  <a:cubicBezTo>
                    <a:pt x="4" y="1985"/>
                    <a:pt x="1" y="1981"/>
                    <a:pt x="1" y="1976"/>
                  </a:cubicBezTo>
                  <a:close/>
                  <a:moveTo>
                    <a:pt x="1" y="1943"/>
                  </a:moveTo>
                  <a:lnTo>
                    <a:pt x="1" y="1943"/>
                  </a:lnTo>
                  <a:cubicBezTo>
                    <a:pt x="1" y="1938"/>
                    <a:pt x="4" y="1935"/>
                    <a:pt x="9" y="1935"/>
                  </a:cubicBezTo>
                  <a:cubicBezTo>
                    <a:pt x="14" y="1935"/>
                    <a:pt x="17" y="1938"/>
                    <a:pt x="17" y="1943"/>
                  </a:cubicBezTo>
                  <a:lnTo>
                    <a:pt x="17" y="1943"/>
                  </a:lnTo>
                  <a:cubicBezTo>
                    <a:pt x="17" y="1948"/>
                    <a:pt x="14" y="1951"/>
                    <a:pt x="9" y="1951"/>
                  </a:cubicBezTo>
                  <a:cubicBezTo>
                    <a:pt x="4" y="1951"/>
                    <a:pt x="1" y="1948"/>
                    <a:pt x="1" y="1943"/>
                  </a:cubicBezTo>
                  <a:close/>
                  <a:moveTo>
                    <a:pt x="1" y="1910"/>
                  </a:moveTo>
                  <a:lnTo>
                    <a:pt x="1" y="1910"/>
                  </a:lnTo>
                  <a:cubicBezTo>
                    <a:pt x="1" y="1905"/>
                    <a:pt x="4" y="1901"/>
                    <a:pt x="9" y="1901"/>
                  </a:cubicBezTo>
                  <a:cubicBezTo>
                    <a:pt x="14" y="1901"/>
                    <a:pt x="17" y="1905"/>
                    <a:pt x="17" y="1910"/>
                  </a:cubicBezTo>
                  <a:lnTo>
                    <a:pt x="17" y="1910"/>
                  </a:lnTo>
                  <a:cubicBezTo>
                    <a:pt x="17" y="1914"/>
                    <a:pt x="14" y="1918"/>
                    <a:pt x="9" y="1918"/>
                  </a:cubicBezTo>
                  <a:cubicBezTo>
                    <a:pt x="4" y="1918"/>
                    <a:pt x="1" y="1914"/>
                    <a:pt x="1" y="1910"/>
                  </a:cubicBezTo>
                  <a:close/>
                  <a:moveTo>
                    <a:pt x="1" y="1876"/>
                  </a:moveTo>
                  <a:lnTo>
                    <a:pt x="1" y="1876"/>
                  </a:lnTo>
                  <a:cubicBezTo>
                    <a:pt x="1" y="1872"/>
                    <a:pt x="5" y="1868"/>
                    <a:pt x="9" y="1868"/>
                  </a:cubicBezTo>
                  <a:cubicBezTo>
                    <a:pt x="14" y="1868"/>
                    <a:pt x="17" y="1872"/>
                    <a:pt x="17" y="1876"/>
                  </a:cubicBezTo>
                  <a:lnTo>
                    <a:pt x="17" y="1876"/>
                  </a:lnTo>
                  <a:cubicBezTo>
                    <a:pt x="17" y="1881"/>
                    <a:pt x="14" y="1885"/>
                    <a:pt x="9" y="1885"/>
                  </a:cubicBezTo>
                  <a:cubicBezTo>
                    <a:pt x="5" y="1885"/>
                    <a:pt x="1" y="1881"/>
                    <a:pt x="1" y="1876"/>
                  </a:cubicBezTo>
                  <a:close/>
                  <a:moveTo>
                    <a:pt x="1" y="1843"/>
                  </a:moveTo>
                  <a:lnTo>
                    <a:pt x="1" y="1843"/>
                  </a:lnTo>
                  <a:cubicBezTo>
                    <a:pt x="1" y="1838"/>
                    <a:pt x="5" y="1834"/>
                    <a:pt x="9" y="1834"/>
                  </a:cubicBezTo>
                  <a:cubicBezTo>
                    <a:pt x="14" y="1834"/>
                    <a:pt x="18" y="1838"/>
                    <a:pt x="18" y="1843"/>
                  </a:cubicBezTo>
                  <a:lnTo>
                    <a:pt x="18" y="1843"/>
                  </a:lnTo>
                  <a:cubicBezTo>
                    <a:pt x="18" y="1847"/>
                    <a:pt x="14" y="1851"/>
                    <a:pt x="9" y="1851"/>
                  </a:cubicBezTo>
                  <a:cubicBezTo>
                    <a:pt x="5" y="1851"/>
                    <a:pt x="1" y="1847"/>
                    <a:pt x="1" y="1843"/>
                  </a:cubicBezTo>
                  <a:close/>
                  <a:moveTo>
                    <a:pt x="1" y="1809"/>
                  </a:moveTo>
                  <a:lnTo>
                    <a:pt x="1" y="1809"/>
                  </a:lnTo>
                  <a:cubicBezTo>
                    <a:pt x="1" y="1805"/>
                    <a:pt x="5" y="1801"/>
                    <a:pt x="9" y="1801"/>
                  </a:cubicBezTo>
                  <a:cubicBezTo>
                    <a:pt x="14" y="1801"/>
                    <a:pt x="18" y="1805"/>
                    <a:pt x="18" y="1809"/>
                  </a:cubicBezTo>
                  <a:lnTo>
                    <a:pt x="18" y="1809"/>
                  </a:lnTo>
                  <a:cubicBezTo>
                    <a:pt x="18" y="1814"/>
                    <a:pt x="14" y="1818"/>
                    <a:pt x="9" y="1818"/>
                  </a:cubicBezTo>
                  <a:cubicBezTo>
                    <a:pt x="5" y="1818"/>
                    <a:pt x="1" y="1814"/>
                    <a:pt x="1" y="1809"/>
                  </a:cubicBezTo>
                  <a:close/>
                  <a:moveTo>
                    <a:pt x="1" y="1776"/>
                  </a:moveTo>
                  <a:lnTo>
                    <a:pt x="1" y="1776"/>
                  </a:lnTo>
                  <a:cubicBezTo>
                    <a:pt x="1" y="1772"/>
                    <a:pt x="5" y="1768"/>
                    <a:pt x="9" y="1768"/>
                  </a:cubicBezTo>
                  <a:cubicBezTo>
                    <a:pt x="14" y="1768"/>
                    <a:pt x="18" y="1772"/>
                    <a:pt x="18" y="1776"/>
                  </a:cubicBezTo>
                  <a:lnTo>
                    <a:pt x="18" y="1776"/>
                  </a:lnTo>
                  <a:cubicBezTo>
                    <a:pt x="18" y="1781"/>
                    <a:pt x="14" y="1784"/>
                    <a:pt x="9" y="1784"/>
                  </a:cubicBezTo>
                  <a:cubicBezTo>
                    <a:pt x="5" y="1784"/>
                    <a:pt x="1" y="1781"/>
                    <a:pt x="1" y="1776"/>
                  </a:cubicBezTo>
                  <a:close/>
                  <a:moveTo>
                    <a:pt x="1" y="1743"/>
                  </a:moveTo>
                  <a:lnTo>
                    <a:pt x="1" y="1743"/>
                  </a:lnTo>
                  <a:cubicBezTo>
                    <a:pt x="1" y="1738"/>
                    <a:pt x="5" y="1734"/>
                    <a:pt x="9" y="1734"/>
                  </a:cubicBezTo>
                  <a:cubicBezTo>
                    <a:pt x="14" y="1734"/>
                    <a:pt x="18" y="1738"/>
                    <a:pt x="18" y="1743"/>
                  </a:cubicBezTo>
                  <a:lnTo>
                    <a:pt x="18" y="1743"/>
                  </a:lnTo>
                  <a:cubicBezTo>
                    <a:pt x="18" y="1747"/>
                    <a:pt x="14" y="1751"/>
                    <a:pt x="9" y="1751"/>
                  </a:cubicBezTo>
                  <a:cubicBezTo>
                    <a:pt x="5" y="1751"/>
                    <a:pt x="1" y="1747"/>
                    <a:pt x="1" y="1743"/>
                  </a:cubicBezTo>
                  <a:close/>
                  <a:moveTo>
                    <a:pt x="1" y="1709"/>
                  </a:moveTo>
                  <a:lnTo>
                    <a:pt x="1" y="1709"/>
                  </a:lnTo>
                  <a:cubicBezTo>
                    <a:pt x="1" y="1705"/>
                    <a:pt x="5" y="1701"/>
                    <a:pt x="9" y="1701"/>
                  </a:cubicBezTo>
                  <a:cubicBezTo>
                    <a:pt x="14" y="1701"/>
                    <a:pt x="18" y="1705"/>
                    <a:pt x="18" y="1709"/>
                  </a:cubicBezTo>
                  <a:lnTo>
                    <a:pt x="18" y="1709"/>
                  </a:lnTo>
                  <a:cubicBezTo>
                    <a:pt x="18" y="1714"/>
                    <a:pt x="14" y="1718"/>
                    <a:pt x="9" y="1718"/>
                  </a:cubicBezTo>
                  <a:cubicBezTo>
                    <a:pt x="5" y="1718"/>
                    <a:pt x="1" y="1714"/>
                    <a:pt x="1" y="1709"/>
                  </a:cubicBezTo>
                  <a:close/>
                  <a:moveTo>
                    <a:pt x="1" y="1676"/>
                  </a:moveTo>
                  <a:lnTo>
                    <a:pt x="1" y="1676"/>
                  </a:lnTo>
                  <a:cubicBezTo>
                    <a:pt x="1" y="1671"/>
                    <a:pt x="5" y="1668"/>
                    <a:pt x="9" y="1668"/>
                  </a:cubicBezTo>
                  <a:cubicBezTo>
                    <a:pt x="14" y="1668"/>
                    <a:pt x="18" y="1671"/>
                    <a:pt x="18" y="1676"/>
                  </a:cubicBezTo>
                  <a:lnTo>
                    <a:pt x="18" y="1676"/>
                  </a:lnTo>
                  <a:cubicBezTo>
                    <a:pt x="18" y="1681"/>
                    <a:pt x="14" y="1684"/>
                    <a:pt x="9" y="1684"/>
                  </a:cubicBezTo>
                  <a:cubicBezTo>
                    <a:pt x="5" y="1684"/>
                    <a:pt x="1" y="1681"/>
                    <a:pt x="1" y="1676"/>
                  </a:cubicBezTo>
                  <a:close/>
                  <a:moveTo>
                    <a:pt x="1" y="1643"/>
                  </a:moveTo>
                  <a:lnTo>
                    <a:pt x="1" y="1643"/>
                  </a:lnTo>
                  <a:cubicBezTo>
                    <a:pt x="1" y="1638"/>
                    <a:pt x="5" y="1634"/>
                    <a:pt x="9" y="1634"/>
                  </a:cubicBezTo>
                  <a:cubicBezTo>
                    <a:pt x="14" y="1634"/>
                    <a:pt x="18" y="1638"/>
                    <a:pt x="18" y="1643"/>
                  </a:cubicBezTo>
                  <a:lnTo>
                    <a:pt x="18" y="1643"/>
                  </a:lnTo>
                  <a:cubicBezTo>
                    <a:pt x="18" y="1647"/>
                    <a:pt x="14" y="1651"/>
                    <a:pt x="9" y="1651"/>
                  </a:cubicBezTo>
                  <a:cubicBezTo>
                    <a:pt x="5" y="1651"/>
                    <a:pt x="1" y="1647"/>
                    <a:pt x="1" y="1643"/>
                  </a:cubicBezTo>
                  <a:close/>
                  <a:moveTo>
                    <a:pt x="1" y="1609"/>
                  </a:moveTo>
                  <a:lnTo>
                    <a:pt x="1" y="1609"/>
                  </a:lnTo>
                  <a:cubicBezTo>
                    <a:pt x="1" y="1605"/>
                    <a:pt x="5" y="1601"/>
                    <a:pt x="10" y="1601"/>
                  </a:cubicBezTo>
                  <a:cubicBezTo>
                    <a:pt x="14" y="1601"/>
                    <a:pt x="18" y="1605"/>
                    <a:pt x="18" y="1609"/>
                  </a:cubicBezTo>
                  <a:lnTo>
                    <a:pt x="18" y="1609"/>
                  </a:lnTo>
                  <a:cubicBezTo>
                    <a:pt x="18" y="1614"/>
                    <a:pt x="14" y="1618"/>
                    <a:pt x="10" y="1618"/>
                  </a:cubicBezTo>
                  <a:cubicBezTo>
                    <a:pt x="5" y="1618"/>
                    <a:pt x="1" y="1614"/>
                    <a:pt x="1" y="1609"/>
                  </a:cubicBezTo>
                  <a:close/>
                  <a:moveTo>
                    <a:pt x="1" y="1576"/>
                  </a:moveTo>
                  <a:lnTo>
                    <a:pt x="1" y="1576"/>
                  </a:lnTo>
                  <a:cubicBezTo>
                    <a:pt x="1" y="1571"/>
                    <a:pt x="5" y="1568"/>
                    <a:pt x="10" y="1568"/>
                  </a:cubicBezTo>
                  <a:cubicBezTo>
                    <a:pt x="14" y="1568"/>
                    <a:pt x="18" y="1571"/>
                    <a:pt x="18" y="1576"/>
                  </a:cubicBezTo>
                  <a:lnTo>
                    <a:pt x="18" y="1576"/>
                  </a:lnTo>
                  <a:cubicBezTo>
                    <a:pt x="18" y="1581"/>
                    <a:pt x="14" y="1584"/>
                    <a:pt x="10" y="1584"/>
                  </a:cubicBezTo>
                  <a:cubicBezTo>
                    <a:pt x="5" y="1584"/>
                    <a:pt x="1" y="1581"/>
                    <a:pt x="1" y="1576"/>
                  </a:cubicBezTo>
                  <a:close/>
                  <a:moveTo>
                    <a:pt x="1" y="1543"/>
                  </a:moveTo>
                  <a:lnTo>
                    <a:pt x="1" y="1543"/>
                  </a:lnTo>
                  <a:cubicBezTo>
                    <a:pt x="1" y="1538"/>
                    <a:pt x="5" y="1534"/>
                    <a:pt x="10" y="1534"/>
                  </a:cubicBezTo>
                  <a:cubicBezTo>
                    <a:pt x="14" y="1534"/>
                    <a:pt x="18" y="1538"/>
                    <a:pt x="18" y="1543"/>
                  </a:cubicBezTo>
                  <a:lnTo>
                    <a:pt x="18" y="1543"/>
                  </a:lnTo>
                  <a:cubicBezTo>
                    <a:pt x="18" y="1547"/>
                    <a:pt x="14" y="1551"/>
                    <a:pt x="10" y="1551"/>
                  </a:cubicBezTo>
                  <a:cubicBezTo>
                    <a:pt x="5" y="1551"/>
                    <a:pt x="1" y="1547"/>
                    <a:pt x="1" y="1543"/>
                  </a:cubicBezTo>
                  <a:close/>
                  <a:moveTo>
                    <a:pt x="1" y="1509"/>
                  </a:moveTo>
                  <a:lnTo>
                    <a:pt x="1" y="1509"/>
                  </a:lnTo>
                  <a:cubicBezTo>
                    <a:pt x="1" y="1505"/>
                    <a:pt x="5" y="1501"/>
                    <a:pt x="10" y="1501"/>
                  </a:cubicBezTo>
                  <a:cubicBezTo>
                    <a:pt x="14" y="1501"/>
                    <a:pt x="18" y="1505"/>
                    <a:pt x="18" y="1509"/>
                  </a:cubicBezTo>
                  <a:lnTo>
                    <a:pt x="18" y="1509"/>
                  </a:lnTo>
                  <a:cubicBezTo>
                    <a:pt x="18" y="1514"/>
                    <a:pt x="14" y="1518"/>
                    <a:pt x="10" y="1518"/>
                  </a:cubicBezTo>
                  <a:cubicBezTo>
                    <a:pt x="5" y="1518"/>
                    <a:pt x="1" y="1514"/>
                    <a:pt x="1" y="1509"/>
                  </a:cubicBezTo>
                  <a:close/>
                  <a:moveTo>
                    <a:pt x="1" y="1476"/>
                  </a:moveTo>
                  <a:lnTo>
                    <a:pt x="1" y="1476"/>
                  </a:lnTo>
                  <a:cubicBezTo>
                    <a:pt x="1" y="1471"/>
                    <a:pt x="5" y="1468"/>
                    <a:pt x="10" y="1468"/>
                  </a:cubicBezTo>
                  <a:cubicBezTo>
                    <a:pt x="14" y="1468"/>
                    <a:pt x="18" y="1471"/>
                    <a:pt x="18" y="1476"/>
                  </a:cubicBezTo>
                  <a:lnTo>
                    <a:pt x="18" y="1476"/>
                  </a:lnTo>
                  <a:cubicBezTo>
                    <a:pt x="18" y="1481"/>
                    <a:pt x="14" y="1484"/>
                    <a:pt x="10" y="1484"/>
                  </a:cubicBezTo>
                  <a:cubicBezTo>
                    <a:pt x="5" y="1484"/>
                    <a:pt x="1" y="1481"/>
                    <a:pt x="1" y="1476"/>
                  </a:cubicBezTo>
                  <a:close/>
                  <a:moveTo>
                    <a:pt x="1" y="1443"/>
                  </a:moveTo>
                  <a:lnTo>
                    <a:pt x="1" y="1443"/>
                  </a:lnTo>
                  <a:cubicBezTo>
                    <a:pt x="1" y="1438"/>
                    <a:pt x="5" y="1434"/>
                    <a:pt x="10" y="1434"/>
                  </a:cubicBezTo>
                  <a:cubicBezTo>
                    <a:pt x="14" y="1434"/>
                    <a:pt x="18" y="1438"/>
                    <a:pt x="18" y="1443"/>
                  </a:cubicBezTo>
                  <a:lnTo>
                    <a:pt x="18" y="1443"/>
                  </a:lnTo>
                  <a:cubicBezTo>
                    <a:pt x="18" y="1447"/>
                    <a:pt x="14" y="1451"/>
                    <a:pt x="10" y="1451"/>
                  </a:cubicBezTo>
                  <a:cubicBezTo>
                    <a:pt x="5" y="1451"/>
                    <a:pt x="1" y="1447"/>
                    <a:pt x="1" y="1443"/>
                  </a:cubicBezTo>
                  <a:close/>
                  <a:moveTo>
                    <a:pt x="1" y="1409"/>
                  </a:moveTo>
                  <a:lnTo>
                    <a:pt x="1" y="1409"/>
                  </a:lnTo>
                  <a:cubicBezTo>
                    <a:pt x="1" y="1405"/>
                    <a:pt x="5" y="1401"/>
                    <a:pt x="10" y="1401"/>
                  </a:cubicBezTo>
                  <a:cubicBezTo>
                    <a:pt x="14" y="1401"/>
                    <a:pt x="18" y="1405"/>
                    <a:pt x="18" y="1409"/>
                  </a:cubicBezTo>
                  <a:lnTo>
                    <a:pt x="18" y="1409"/>
                  </a:lnTo>
                  <a:cubicBezTo>
                    <a:pt x="18" y="1414"/>
                    <a:pt x="14" y="1418"/>
                    <a:pt x="10" y="1418"/>
                  </a:cubicBezTo>
                  <a:cubicBezTo>
                    <a:pt x="5" y="1418"/>
                    <a:pt x="1" y="1414"/>
                    <a:pt x="1" y="1409"/>
                  </a:cubicBezTo>
                  <a:close/>
                  <a:moveTo>
                    <a:pt x="2" y="1376"/>
                  </a:moveTo>
                  <a:lnTo>
                    <a:pt x="2" y="1376"/>
                  </a:lnTo>
                  <a:cubicBezTo>
                    <a:pt x="2" y="1371"/>
                    <a:pt x="5" y="1368"/>
                    <a:pt x="10" y="1368"/>
                  </a:cubicBezTo>
                  <a:cubicBezTo>
                    <a:pt x="14" y="1368"/>
                    <a:pt x="18" y="1371"/>
                    <a:pt x="18" y="1376"/>
                  </a:cubicBezTo>
                  <a:lnTo>
                    <a:pt x="18" y="1376"/>
                  </a:lnTo>
                  <a:cubicBezTo>
                    <a:pt x="18" y="1381"/>
                    <a:pt x="14" y="1384"/>
                    <a:pt x="10" y="1384"/>
                  </a:cubicBezTo>
                  <a:cubicBezTo>
                    <a:pt x="5" y="1384"/>
                    <a:pt x="2" y="1381"/>
                    <a:pt x="2" y="1376"/>
                  </a:cubicBezTo>
                  <a:close/>
                  <a:moveTo>
                    <a:pt x="2" y="1343"/>
                  </a:moveTo>
                  <a:lnTo>
                    <a:pt x="2" y="1343"/>
                  </a:lnTo>
                  <a:cubicBezTo>
                    <a:pt x="2" y="1338"/>
                    <a:pt x="5" y="1334"/>
                    <a:pt x="10" y="1334"/>
                  </a:cubicBezTo>
                  <a:cubicBezTo>
                    <a:pt x="14" y="1334"/>
                    <a:pt x="18" y="1338"/>
                    <a:pt x="18" y="1343"/>
                  </a:cubicBezTo>
                  <a:lnTo>
                    <a:pt x="18" y="1343"/>
                  </a:lnTo>
                  <a:cubicBezTo>
                    <a:pt x="18" y="1347"/>
                    <a:pt x="14" y="1351"/>
                    <a:pt x="10" y="1351"/>
                  </a:cubicBezTo>
                  <a:cubicBezTo>
                    <a:pt x="5" y="1351"/>
                    <a:pt x="2" y="1347"/>
                    <a:pt x="2" y="1343"/>
                  </a:cubicBezTo>
                  <a:close/>
                  <a:moveTo>
                    <a:pt x="2" y="1309"/>
                  </a:moveTo>
                  <a:lnTo>
                    <a:pt x="2" y="1309"/>
                  </a:lnTo>
                  <a:cubicBezTo>
                    <a:pt x="2" y="1305"/>
                    <a:pt x="5" y="1301"/>
                    <a:pt x="10" y="1301"/>
                  </a:cubicBezTo>
                  <a:cubicBezTo>
                    <a:pt x="15" y="1301"/>
                    <a:pt x="18" y="1305"/>
                    <a:pt x="18" y="1309"/>
                  </a:cubicBezTo>
                  <a:lnTo>
                    <a:pt x="18" y="1309"/>
                  </a:lnTo>
                  <a:cubicBezTo>
                    <a:pt x="18" y="1314"/>
                    <a:pt x="15" y="1318"/>
                    <a:pt x="10" y="1318"/>
                  </a:cubicBezTo>
                  <a:cubicBezTo>
                    <a:pt x="5" y="1318"/>
                    <a:pt x="2" y="1314"/>
                    <a:pt x="2" y="1309"/>
                  </a:cubicBezTo>
                  <a:close/>
                  <a:moveTo>
                    <a:pt x="2" y="1276"/>
                  </a:moveTo>
                  <a:lnTo>
                    <a:pt x="2" y="1276"/>
                  </a:lnTo>
                  <a:cubicBezTo>
                    <a:pt x="2" y="1271"/>
                    <a:pt x="5" y="1268"/>
                    <a:pt x="10" y="1268"/>
                  </a:cubicBezTo>
                  <a:cubicBezTo>
                    <a:pt x="15" y="1268"/>
                    <a:pt x="18" y="1271"/>
                    <a:pt x="18" y="1276"/>
                  </a:cubicBezTo>
                  <a:lnTo>
                    <a:pt x="18" y="1276"/>
                  </a:lnTo>
                  <a:cubicBezTo>
                    <a:pt x="18" y="1280"/>
                    <a:pt x="15" y="1284"/>
                    <a:pt x="10" y="1284"/>
                  </a:cubicBezTo>
                  <a:cubicBezTo>
                    <a:pt x="5" y="1284"/>
                    <a:pt x="2" y="1280"/>
                    <a:pt x="2" y="1276"/>
                  </a:cubicBezTo>
                  <a:close/>
                  <a:moveTo>
                    <a:pt x="2" y="1243"/>
                  </a:moveTo>
                  <a:lnTo>
                    <a:pt x="2" y="1243"/>
                  </a:lnTo>
                  <a:cubicBezTo>
                    <a:pt x="2" y="1238"/>
                    <a:pt x="5" y="1234"/>
                    <a:pt x="10" y="1234"/>
                  </a:cubicBezTo>
                  <a:cubicBezTo>
                    <a:pt x="15" y="1234"/>
                    <a:pt x="18" y="1238"/>
                    <a:pt x="18" y="1243"/>
                  </a:cubicBezTo>
                  <a:lnTo>
                    <a:pt x="18" y="1243"/>
                  </a:lnTo>
                  <a:cubicBezTo>
                    <a:pt x="18" y="1247"/>
                    <a:pt x="15" y="1251"/>
                    <a:pt x="10" y="1251"/>
                  </a:cubicBezTo>
                  <a:cubicBezTo>
                    <a:pt x="5" y="1251"/>
                    <a:pt x="2" y="1247"/>
                    <a:pt x="2" y="1243"/>
                  </a:cubicBezTo>
                  <a:close/>
                  <a:moveTo>
                    <a:pt x="2" y="1209"/>
                  </a:moveTo>
                  <a:lnTo>
                    <a:pt x="2" y="1209"/>
                  </a:lnTo>
                  <a:cubicBezTo>
                    <a:pt x="2" y="1205"/>
                    <a:pt x="5" y="1201"/>
                    <a:pt x="10" y="1201"/>
                  </a:cubicBezTo>
                  <a:cubicBezTo>
                    <a:pt x="15" y="1201"/>
                    <a:pt x="18" y="1205"/>
                    <a:pt x="18" y="1209"/>
                  </a:cubicBezTo>
                  <a:lnTo>
                    <a:pt x="18" y="1209"/>
                  </a:lnTo>
                  <a:cubicBezTo>
                    <a:pt x="18" y="1214"/>
                    <a:pt x="15" y="1218"/>
                    <a:pt x="10" y="1218"/>
                  </a:cubicBezTo>
                  <a:cubicBezTo>
                    <a:pt x="5" y="1218"/>
                    <a:pt x="2" y="1214"/>
                    <a:pt x="2" y="1209"/>
                  </a:cubicBezTo>
                  <a:close/>
                  <a:moveTo>
                    <a:pt x="2" y="1176"/>
                  </a:moveTo>
                  <a:lnTo>
                    <a:pt x="2" y="1176"/>
                  </a:lnTo>
                  <a:cubicBezTo>
                    <a:pt x="2" y="1171"/>
                    <a:pt x="6" y="1167"/>
                    <a:pt x="10" y="1167"/>
                  </a:cubicBezTo>
                  <a:cubicBezTo>
                    <a:pt x="15" y="1167"/>
                    <a:pt x="18" y="1171"/>
                    <a:pt x="18" y="1176"/>
                  </a:cubicBezTo>
                  <a:lnTo>
                    <a:pt x="18" y="1176"/>
                  </a:lnTo>
                  <a:cubicBezTo>
                    <a:pt x="18" y="1180"/>
                    <a:pt x="15" y="1184"/>
                    <a:pt x="10" y="1184"/>
                  </a:cubicBezTo>
                  <a:cubicBezTo>
                    <a:pt x="6" y="1184"/>
                    <a:pt x="2" y="1180"/>
                    <a:pt x="2" y="1176"/>
                  </a:cubicBezTo>
                  <a:close/>
                  <a:moveTo>
                    <a:pt x="2" y="1142"/>
                  </a:moveTo>
                  <a:lnTo>
                    <a:pt x="2" y="1142"/>
                  </a:lnTo>
                  <a:cubicBezTo>
                    <a:pt x="2" y="1138"/>
                    <a:pt x="6" y="1134"/>
                    <a:pt x="10" y="1134"/>
                  </a:cubicBezTo>
                  <a:cubicBezTo>
                    <a:pt x="15" y="1134"/>
                    <a:pt x="18" y="1138"/>
                    <a:pt x="18" y="1142"/>
                  </a:cubicBezTo>
                  <a:lnTo>
                    <a:pt x="18" y="1142"/>
                  </a:lnTo>
                  <a:cubicBezTo>
                    <a:pt x="18" y="1147"/>
                    <a:pt x="15" y="1151"/>
                    <a:pt x="10" y="1151"/>
                  </a:cubicBezTo>
                  <a:cubicBezTo>
                    <a:pt x="6" y="1151"/>
                    <a:pt x="2" y="1147"/>
                    <a:pt x="2" y="1142"/>
                  </a:cubicBezTo>
                  <a:close/>
                  <a:moveTo>
                    <a:pt x="2" y="1109"/>
                  </a:moveTo>
                  <a:lnTo>
                    <a:pt x="2" y="1109"/>
                  </a:lnTo>
                  <a:cubicBezTo>
                    <a:pt x="2" y="1105"/>
                    <a:pt x="6" y="1101"/>
                    <a:pt x="10" y="1101"/>
                  </a:cubicBezTo>
                  <a:cubicBezTo>
                    <a:pt x="15" y="1101"/>
                    <a:pt x="19" y="1105"/>
                    <a:pt x="19" y="1109"/>
                  </a:cubicBezTo>
                  <a:lnTo>
                    <a:pt x="19" y="1109"/>
                  </a:lnTo>
                  <a:cubicBezTo>
                    <a:pt x="19" y="1114"/>
                    <a:pt x="15" y="1117"/>
                    <a:pt x="10" y="1117"/>
                  </a:cubicBezTo>
                  <a:cubicBezTo>
                    <a:pt x="6" y="1117"/>
                    <a:pt x="2" y="1114"/>
                    <a:pt x="2" y="1109"/>
                  </a:cubicBezTo>
                  <a:close/>
                  <a:moveTo>
                    <a:pt x="2" y="1076"/>
                  </a:moveTo>
                  <a:lnTo>
                    <a:pt x="2" y="1076"/>
                  </a:lnTo>
                  <a:cubicBezTo>
                    <a:pt x="2" y="1071"/>
                    <a:pt x="6" y="1067"/>
                    <a:pt x="10" y="1067"/>
                  </a:cubicBezTo>
                  <a:cubicBezTo>
                    <a:pt x="15" y="1067"/>
                    <a:pt x="19" y="1071"/>
                    <a:pt x="19" y="1076"/>
                  </a:cubicBezTo>
                  <a:lnTo>
                    <a:pt x="19" y="1076"/>
                  </a:lnTo>
                  <a:cubicBezTo>
                    <a:pt x="19" y="1080"/>
                    <a:pt x="15" y="1084"/>
                    <a:pt x="10" y="1084"/>
                  </a:cubicBezTo>
                  <a:cubicBezTo>
                    <a:pt x="6" y="1084"/>
                    <a:pt x="2" y="1080"/>
                    <a:pt x="2" y="1076"/>
                  </a:cubicBezTo>
                  <a:close/>
                  <a:moveTo>
                    <a:pt x="2" y="1042"/>
                  </a:moveTo>
                  <a:lnTo>
                    <a:pt x="2" y="1042"/>
                  </a:lnTo>
                  <a:cubicBezTo>
                    <a:pt x="2" y="1038"/>
                    <a:pt x="6" y="1034"/>
                    <a:pt x="10" y="1034"/>
                  </a:cubicBezTo>
                  <a:cubicBezTo>
                    <a:pt x="15" y="1034"/>
                    <a:pt x="19" y="1038"/>
                    <a:pt x="19" y="1042"/>
                  </a:cubicBezTo>
                  <a:lnTo>
                    <a:pt x="19" y="1042"/>
                  </a:lnTo>
                  <a:cubicBezTo>
                    <a:pt x="19" y="1047"/>
                    <a:pt x="15" y="1051"/>
                    <a:pt x="10" y="1051"/>
                  </a:cubicBezTo>
                  <a:cubicBezTo>
                    <a:pt x="6" y="1051"/>
                    <a:pt x="2" y="1047"/>
                    <a:pt x="2" y="1042"/>
                  </a:cubicBezTo>
                  <a:close/>
                  <a:moveTo>
                    <a:pt x="2" y="1009"/>
                  </a:moveTo>
                  <a:lnTo>
                    <a:pt x="2" y="1009"/>
                  </a:lnTo>
                  <a:cubicBezTo>
                    <a:pt x="2" y="1004"/>
                    <a:pt x="6" y="1001"/>
                    <a:pt x="10" y="1001"/>
                  </a:cubicBezTo>
                  <a:cubicBezTo>
                    <a:pt x="15" y="1001"/>
                    <a:pt x="19" y="1004"/>
                    <a:pt x="19" y="1009"/>
                  </a:cubicBezTo>
                  <a:lnTo>
                    <a:pt x="19" y="1009"/>
                  </a:lnTo>
                  <a:cubicBezTo>
                    <a:pt x="19" y="1014"/>
                    <a:pt x="15" y="1017"/>
                    <a:pt x="10" y="1017"/>
                  </a:cubicBezTo>
                  <a:cubicBezTo>
                    <a:pt x="6" y="1017"/>
                    <a:pt x="2" y="1014"/>
                    <a:pt x="2" y="1009"/>
                  </a:cubicBezTo>
                  <a:close/>
                  <a:moveTo>
                    <a:pt x="2" y="976"/>
                  </a:moveTo>
                  <a:lnTo>
                    <a:pt x="2" y="976"/>
                  </a:lnTo>
                  <a:cubicBezTo>
                    <a:pt x="2" y="971"/>
                    <a:pt x="6" y="967"/>
                    <a:pt x="10" y="967"/>
                  </a:cubicBezTo>
                  <a:cubicBezTo>
                    <a:pt x="15" y="967"/>
                    <a:pt x="19" y="971"/>
                    <a:pt x="19" y="976"/>
                  </a:cubicBezTo>
                  <a:lnTo>
                    <a:pt x="19" y="976"/>
                  </a:lnTo>
                  <a:cubicBezTo>
                    <a:pt x="19" y="980"/>
                    <a:pt x="15" y="984"/>
                    <a:pt x="10" y="984"/>
                  </a:cubicBezTo>
                  <a:cubicBezTo>
                    <a:pt x="6" y="984"/>
                    <a:pt x="2" y="980"/>
                    <a:pt x="2" y="976"/>
                  </a:cubicBezTo>
                  <a:close/>
                  <a:moveTo>
                    <a:pt x="2" y="942"/>
                  </a:moveTo>
                  <a:lnTo>
                    <a:pt x="2" y="942"/>
                  </a:lnTo>
                  <a:cubicBezTo>
                    <a:pt x="2" y="938"/>
                    <a:pt x="6" y="934"/>
                    <a:pt x="10" y="934"/>
                  </a:cubicBezTo>
                  <a:cubicBezTo>
                    <a:pt x="15" y="934"/>
                    <a:pt x="19" y="938"/>
                    <a:pt x="19" y="942"/>
                  </a:cubicBezTo>
                  <a:lnTo>
                    <a:pt x="19" y="942"/>
                  </a:lnTo>
                  <a:cubicBezTo>
                    <a:pt x="19" y="947"/>
                    <a:pt x="15" y="951"/>
                    <a:pt x="10" y="951"/>
                  </a:cubicBezTo>
                  <a:cubicBezTo>
                    <a:pt x="6" y="951"/>
                    <a:pt x="2" y="947"/>
                    <a:pt x="2" y="942"/>
                  </a:cubicBezTo>
                  <a:close/>
                  <a:moveTo>
                    <a:pt x="2" y="909"/>
                  </a:moveTo>
                  <a:lnTo>
                    <a:pt x="2" y="909"/>
                  </a:lnTo>
                  <a:cubicBezTo>
                    <a:pt x="2" y="904"/>
                    <a:pt x="6" y="901"/>
                    <a:pt x="10" y="901"/>
                  </a:cubicBezTo>
                  <a:cubicBezTo>
                    <a:pt x="15" y="901"/>
                    <a:pt x="19" y="904"/>
                    <a:pt x="19" y="909"/>
                  </a:cubicBezTo>
                  <a:lnTo>
                    <a:pt x="19" y="909"/>
                  </a:lnTo>
                  <a:cubicBezTo>
                    <a:pt x="19" y="914"/>
                    <a:pt x="15" y="917"/>
                    <a:pt x="10" y="917"/>
                  </a:cubicBezTo>
                  <a:cubicBezTo>
                    <a:pt x="6" y="917"/>
                    <a:pt x="2" y="914"/>
                    <a:pt x="2" y="909"/>
                  </a:cubicBezTo>
                  <a:close/>
                  <a:moveTo>
                    <a:pt x="2" y="876"/>
                  </a:moveTo>
                  <a:lnTo>
                    <a:pt x="2" y="876"/>
                  </a:lnTo>
                  <a:cubicBezTo>
                    <a:pt x="2" y="871"/>
                    <a:pt x="6" y="867"/>
                    <a:pt x="11" y="867"/>
                  </a:cubicBezTo>
                  <a:cubicBezTo>
                    <a:pt x="15" y="867"/>
                    <a:pt x="19" y="871"/>
                    <a:pt x="19" y="876"/>
                  </a:cubicBezTo>
                  <a:lnTo>
                    <a:pt x="19" y="876"/>
                  </a:lnTo>
                  <a:cubicBezTo>
                    <a:pt x="19" y="880"/>
                    <a:pt x="15" y="884"/>
                    <a:pt x="11" y="884"/>
                  </a:cubicBezTo>
                  <a:cubicBezTo>
                    <a:pt x="6" y="884"/>
                    <a:pt x="2" y="880"/>
                    <a:pt x="2" y="876"/>
                  </a:cubicBezTo>
                  <a:close/>
                  <a:moveTo>
                    <a:pt x="2" y="842"/>
                  </a:moveTo>
                  <a:lnTo>
                    <a:pt x="2" y="842"/>
                  </a:lnTo>
                  <a:cubicBezTo>
                    <a:pt x="2" y="838"/>
                    <a:pt x="6" y="834"/>
                    <a:pt x="11" y="834"/>
                  </a:cubicBezTo>
                  <a:cubicBezTo>
                    <a:pt x="15" y="834"/>
                    <a:pt x="19" y="838"/>
                    <a:pt x="19" y="842"/>
                  </a:cubicBezTo>
                  <a:lnTo>
                    <a:pt x="19" y="842"/>
                  </a:lnTo>
                  <a:cubicBezTo>
                    <a:pt x="19" y="847"/>
                    <a:pt x="15" y="851"/>
                    <a:pt x="11" y="851"/>
                  </a:cubicBezTo>
                  <a:cubicBezTo>
                    <a:pt x="6" y="851"/>
                    <a:pt x="2" y="847"/>
                    <a:pt x="2" y="842"/>
                  </a:cubicBezTo>
                  <a:close/>
                  <a:moveTo>
                    <a:pt x="2" y="809"/>
                  </a:moveTo>
                  <a:lnTo>
                    <a:pt x="2" y="809"/>
                  </a:lnTo>
                  <a:cubicBezTo>
                    <a:pt x="2" y="804"/>
                    <a:pt x="6" y="801"/>
                    <a:pt x="11" y="801"/>
                  </a:cubicBezTo>
                  <a:cubicBezTo>
                    <a:pt x="15" y="801"/>
                    <a:pt x="19" y="804"/>
                    <a:pt x="19" y="809"/>
                  </a:cubicBezTo>
                  <a:lnTo>
                    <a:pt x="19" y="809"/>
                  </a:lnTo>
                  <a:cubicBezTo>
                    <a:pt x="19" y="814"/>
                    <a:pt x="15" y="817"/>
                    <a:pt x="11" y="817"/>
                  </a:cubicBezTo>
                  <a:cubicBezTo>
                    <a:pt x="6" y="817"/>
                    <a:pt x="2" y="814"/>
                    <a:pt x="2" y="809"/>
                  </a:cubicBezTo>
                  <a:close/>
                  <a:moveTo>
                    <a:pt x="2" y="776"/>
                  </a:moveTo>
                  <a:lnTo>
                    <a:pt x="2" y="776"/>
                  </a:lnTo>
                  <a:cubicBezTo>
                    <a:pt x="2" y="771"/>
                    <a:pt x="6" y="767"/>
                    <a:pt x="11" y="767"/>
                  </a:cubicBezTo>
                  <a:cubicBezTo>
                    <a:pt x="15" y="767"/>
                    <a:pt x="19" y="771"/>
                    <a:pt x="19" y="776"/>
                  </a:cubicBezTo>
                  <a:lnTo>
                    <a:pt x="19" y="776"/>
                  </a:lnTo>
                  <a:cubicBezTo>
                    <a:pt x="19" y="780"/>
                    <a:pt x="15" y="784"/>
                    <a:pt x="11" y="784"/>
                  </a:cubicBezTo>
                  <a:cubicBezTo>
                    <a:pt x="6" y="784"/>
                    <a:pt x="2" y="780"/>
                    <a:pt x="2" y="776"/>
                  </a:cubicBezTo>
                  <a:close/>
                  <a:moveTo>
                    <a:pt x="2" y="742"/>
                  </a:moveTo>
                  <a:lnTo>
                    <a:pt x="2" y="742"/>
                  </a:lnTo>
                  <a:cubicBezTo>
                    <a:pt x="2" y="738"/>
                    <a:pt x="6" y="734"/>
                    <a:pt x="11" y="734"/>
                  </a:cubicBezTo>
                  <a:cubicBezTo>
                    <a:pt x="15" y="734"/>
                    <a:pt x="19" y="738"/>
                    <a:pt x="19" y="742"/>
                  </a:cubicBezTo>
                  <a:lnTo>
                    <a:pt x="19" y="742"/>
                  </a:lnTo>
                  <a:cubicBezTo>
                    <a:pt x="19" y="747"/>
                    <a:pt x="15" y="751"/>
                    <a:pt x="11" y="751"/>
                  </a:cubicBezTo>
                  <a:cubicBezTo>
                    <a:pt x="6" y="751"/>
                    <a:pt x="2" y="747"/>
                    <a:pt x="2" y="742"/>
                  </a:cubicBezTo>
                  <a:close/>
                  <a:moveTo>
                    <a:pt x="2" y="709"/>
                  </a:moveTo>
                  <a:lnTo>
                    <a:pt x="2" y="709"/>
                  </a:lnTo>
                  <a:cubicBezTo>
                    <a:pt x="2" y="704"/>
                    <a:pt x="6" y="701"/>
                    <a:pt x="11" y="701"/>
                  </a:cubicBezTo>
                  <a:cubicBezTo>
                    <a:pt x="15" y="701"/>
                    <a:pt x="19" y="704"/>
                    <a:pt x="19" y="709"/>
                  </a:cubicBezTo>
                  <a:lnTo>
                    <a:pt x="19" y="709"/>
                  </a:lnTo>
                  <a:cubicBezTo>
                    <a:pt x="19" y="714"/>
                    <a:pt x="15" y="717"/>
                    <a:pt x="11" y="717"/>
                  </a:cubicBezTo>
                  <a:cubicBezTo>
                    <a:pt x="6" y="717"/>
                    <a:pt x="2" y="714"/>
                    <a:pt x="2" y="709"/>
                  </a:cubicBezTo>
                  <a:close/>
                  <a:moveTo>
                    <a:pt x="2" y="676"/>
                  </a:moveTo>
                  <a:lnTo>
                    <a:pt x="2" y="676"/>
                  </a:lnTo>
                  <a:cubicBezTo>
                    <a:pt x="2" y="671"/>
                    <a:pt x="6" y="667"/>
                    <a:pt x="11" y="667"/>
                  </a:cubicBezTo>
                  <a:cubicBezTo>
                    <a:pt x="15" y="667"/>
                    <a:pt x="19" y="671"/>
                    <a:pt x="19" y="676"/>
                  </a:cubicBezTo>
                  <a:lnTo>
                    <a:pt x="19" y="676"/>
                  </a:lnTo>
                  <a:cubicBezTo>
                    <a:pt x="19" y="680"/>
                    <a:pt x="15" y="684"/>
                    <a:pt x="11" y="684"/>
                  </a:cubicBezTo>
                  <a:cubicBezTo>
                    <a:pt x="6" y="684"/>
                    <a:pt x="2" y="680"/>
                    <a:pt x="2" y="676"/>
                  </a:cubicBezTo>
                  <a:close/>
                  <a:moveTo>
                    <a:pt x="3" y="642"/>
                  </a:moveTo>
                  <a:lnTo>
                    <a:pt x="3" y="642"/>
                  </a:lnTo>
                  <a:cubicBezTo>
                    <a:pt x="3" y="638"/>
                    <a:pt x="6" y="634"/>
                    <a:pt x="11" y="634"/>
                  </a:cubicBezTo>
                  <a:cubicBezTo>
                    <a:pt x="15" y="634"/>
                    <a:pt x="19" y="638"/>
                    <a:pt x="19" y="642"/>
                  </a:cubicBezTo>
                  <a:lnTo>
                    <a:pt x="19" y="642"/>
                  </a:lnTo>
                  <a:cubicBezTo>
                    <a:pt x="19" y="647"/>
                    <a:pt x="15" y="651"/>
                    <a:pt x="11" y="651"/>
                  </a:cubicBezTo>
                  <a:cubicBezTo>
                    <a:pt x="6" y="651"/>
                    <a:pt x="3" y="647"/>
                    <a:pt x="3" y="642"/>
                  </a:cubicBezTo>
                  <a:close/>
                  <a:moveTo>
                    <a:pt x="3" y="609"/>
                  </a:moveTo>
                  <a:lnTo>
                    <a:pt x="3" y="609"/>
                  </a:lnTo>
                  <a:cubicBezTo>
                    <a:pt x="3" y="604"/>
                    <a:pt x="6" y="601"/>
                    <a:pt x="11" y="601"/>
                  </a:cubicBezTo>
                  <a:cubicBezTo>
                    <a:pt x="16" y="601"/>
                    <a:pt x="19" y="604"/>
                    <a:pt x="19" y="609"/>
                  </a:cubicBezTo>
                  <a:lnTo>
                    <a:pt x="19" y="609"/>
                  </a:lnTo>
                  <a:cubicBezTo>
                    <a:pt x="19" y="613"/>
                    <a:pt x="16" y="617"/>
                    <a:pt x="11" y="617"/>
                  </a:cubicBezTo>
                  <a:cubicBezTo>
                    <a:pt x="6" y="617"/>
                    <a:pt x="3" y="613"/>
                    <a:pt x="3" y="609"/>
                  </a:cubicBezTo>
                  <a:close/>
                  <a:moveTo>
                    <a:pt x="3" y="576"/>
                  </a:moveTo>
                  <a:lnTo>
                    <a:pt x="3" y="576"/>
                  </a:lnTo>
                  <a:cubicBezTo>
                    <a:pt x="3" y="571"/>
                    <a:pt x="6" y="567"/>
                    <a:pt x="11" y="567"/>
                  </a:cubicBezTo>
                  <a:cubicBezTo>
                    <a:pt x="16" y="567"/>
                    <a:pt x="19" y="571"/>
                    <a:pt x="19" y="576"/>
                  </a:cubicBezTo>
                  <a:lnTo>
                    <a:pt x="19" y="576"/>
                  </a:lnTo>
                  <a:cubicBezTo>
                    <a:pt x="19" y="580"/>
                    <a:pt x="16" y="584"/>
                    <a:pt x="11" y="584"/>
                  </a:cubicBezTo>
                  <a:cubicBezTo>
                    <a:pt x="6" y="584"/>
                    <a:pt x="3" y="580"/>
                    <a:pt x="3" y="576"/>
                  </a:cubicBezTo>
                  <a:close/>
                  <a:moveTo>
                    <a:pt x="3" y="542"/>
                  </a:moveTo>
                  <a:lnTo>
                    <a:pt x="3" y="542"/>
                  </a:lnTo>
                  <a:cubicBezTo>
                    <a:pt x="3" y="538"/>
                    <a:pt x="6" y="534"/>
                    <a:pt x="11" y="534"/>
                  </a:cubicBezTo>
                  <a:cubicBezTo>
                    <a:pt x="16" y="534"/>
                    <a:pt x="19" y="538"/>
                    <a:pt x="19" y="542"/>
                  </a:cubicBezTo>
                  <a:lnTo>
                    <a:pt x="19" y="542"/>
                  </a:lnTo>
                  <a:cubicBezTo>
                    <a:pt x="19" y="547"/>
                    <a:pt x="16" y="551"/>
                    <a:pt x="11" y="551"/>
                  </a:cubicBezTo>
                  <a:cubicBezTo>
                    <a:pt x="6" y="551"/>
                    <a:pt x="3" y="547"/>
                    <a:pt x="3" y="542"/>
                  </a:cubicBezTo>
                  <a:close/>
                  <a:moveTo>
                    <a:pt x="3" y="509"/>
                  </a:moveTo>
                  <a:lnTo>
                    <a:pt x="3" y="509"/>
                  </a:lnTo>
                  <a:cubicBezTo>
                    <a:pt x="3" y="504"/>
                    <a:pt x="6" y="500"/>
                    <a:pt x="11" y="500"/>
                  </a:cubicBezTo>
                  <a:cubicBezTo>
                    <a:pt x="16" y="500"/>
                    <a:pt x="19" y="504"/>
                    <a:pt x="19" y="509"/>
                  </a:cubicBezTo>
                  <a:lnTo>
                    <a:pt x="19" y="509"/>
                  </a:lnTo>
                  <a:cubicBezTo>
                    <a:pt x="19" y="513"/>
                    <a:pt x="16" y="517"/>
                    <a:pt x="11" y="517"/>
                  </a:cubicBezTo>
                  <a:cubicBezTo>
                    <a:pt x="6" y="517"/>
                    <a:pt x="3" y="513"/>
                    <a:pt x="3" y="509"/>
                  </a:cubicBezTo>
                  <a:close/>
                  <a:moveTo>
                    <a:pt x="3" y="475"/>
                  </a:moveTo>
                  <a:lnTo>
                    <a:pt x="3" y="475"/>
                  </a:lnTo>
                  <a:cubicBezTo>
                    <a:pt x="3" y="471"/>
                    <a:pt x="6" y="467"/>
                    <a:pt x="11" y="467"/>
                  </a:cubicBezTo>
                  <a:cubicBezTo>
                    <a:pt x="16" y="467"/>
                    <a:pt x="19" y="471"/>
                    <a:pt x="19" y="475"/>
                  </a:cubicBezTo>
                  <a:lnTo>
                    <a:pt x="19" y="475"/>
                  </a:lnTo>
                  <a:cubicBezTo>
                    <a:pt x="19" y="480"/>
                    <a:pt x="16" y="484"/>
                    <a:pt x="11" y="484"/>
                  </a:cubicBezTo>
                  <a:cubicBezTo>
                    <a:pt x="6" y="484"/>
                    <a:pt x="3" y="480"/>
                    <a:pt x="3" y="475"/>
                  </a:cubicBezTo>
                  <a:close/>
                  <a:moveTo>
                    <a:pt x="3" y="442"/>
                  </a:moveTo>
                  <a:lnTo>
                    <a:pt x="3" y="442"/>
                  </a:lnTo>
                  <a:cubicBezTo>
                    <a:pt x="3" y="438"/>
                    <a:pt x="7" y="434"/>
                    <a:pt x="11" y="434"/>
                  </a:cubicBezTo>
                  <a:cubicBezTo>
                    <a:pt x="16" y="434"/>
                    <a:pt x="19" y="438"/>
                    <a:pt x="19" y="442"/>
                  </a:cubicBezTo>
                  <a:lnTo>
                    <a:pt x="19" y="442"/>
                  </a:lnTo>
                  <a:cubicBezTo>
                    <a:pt x="19" y="447"/>
                    <a:pt x="16" y="450"/>
                    <a:pt x="11" y="450"/>
                  </a:cubicBezTo>
                  <a:cubicBezTo>
                    <a:pt x="7" y="450"/>
                    <a:pt x="3" y="447"/>
                    <a:pt x="3" y="442"/>
                  </a:cubicBezTo>
                  <a:close/>
                  <a:moveTo>
                    <a:pt x="3" y="409"/>
                  </a:moveTo>
                  <a:lnTo>
                    <a:pt x="3" y="409"/>
                  </a:lnTo>
                  <a:cubicBezTo>
                    <a:pt x="3" y="404"/>
                    <a:pt x="7" y="400"/>
                    <a:pt x="11" y="400"/>
                  </a:cubicBezTo>
                  <a:cubicBezTo>
                    <a:pt x="16" y="400"/>
                    <a:pt x="20" y="404"/>
                    <a:pt x="20" y="409"/>
                  </a:cubicBezTo>
                  <a:lnTo>
                    <a:pt x="20" y="409"/>
                  </a:lnTo>
                  <a:cubicBezTo>
                    <a:pt x="20" y="413"/>
                    <a:pt x="16" y="417"/>
                    <a:pt x="11" y="417"/>
                  </a:cubicBezTo>
                  <a:cubicBezTo>
                    <a:pt x="7" y="417"/>
                    <a:pt x="3" y="413"/>
                    <a:pt x="3" y="409"/>
                  </a:cubicBezTo>
                  <a:close/>
                  <a:moveTo>
                    <a:pt x="3" y="375"/>
                  </a:moveTo>
                  <a:lnTo>
                    <a:pt x="3" y="375"/>
                  </a:lnTo>
                  <a:cubicBezTo>
                    <a:pt x="3" y="371"/>
                    <a:pt x="7" y="367"/>
                    <a:pt x="11" y="367"/>
                  </a:cubicBezTo>
                  <a:cubicBezTo>
                    <a:pt x="16" y="367"/>
                    <a:pt x="20" y="371"/>
                    <a:pt x="20" y="375"/>
                  </a:cubicBezTo>
                  <a:lnTo>
                    <a:pt x="20" y="375"/>
                  </a:lnTo>
                  <a:cubicBezTo>
                    <a:pt x="20" y="380"/>
                    <a:pt x="16" y="384"/>
                    <a:pt x="11" y="384"/>
                  </a:cubicBezTo>
                  <a:cubicBezTo>
                    <a:pt x="7" y="384"/>
                    <a:pt x="3" y="380"/>
                    <a:pt x="3" y="375"/>
                  </a:cubicBezTo>
                  <a:close/>
                  <a:moveTo>
                    <a:pt x="3" y="342"/>
                  </a:moveTo>
                  <a:lnTo>
                    <a:pt x="3" y="342"/>
                  </a:lnTo>
                  <a:cubicBezTo>
                    <a:pt x="3" y="337"/>
                    <a:pt x="7" y="334"/>
                    <a:pt x="11" y="334"/>
                  </a:cubicBezTo>
                  <a:cubicBezTo>
                    <a:pt x="16" y="334"/>
                    <a:pt x="20" y="337"/>
                    <a:pt x="20" y="342"/>
                  </a:cubicBezTo>
                  <a:lnTo>
                    <a:pt x="20" y="342"/>
                  </a:lnTo>
                  <a:cubicBezTo>
                    <a:pt x="20" y="347"/>
                    <a:pt x="16" y="350"/>
                    <a:pt x="11" y="350"/>
                  </a:cubicBezTo>
                  <a:cubicBezTo>
                    <a:pt x="7" y="350"/>
                    <a:pt x="3" y="347"/>
                    <a:pt x="3" y="342"/>
                  </a:cubicBezTo>
                  <a:close/>
                  <a:moveTo>
                    <a:pt x="3" y="309"/>
                  </a:moveTo>
                  <a:lnTo>
                    <a:pt x="3" y="309"/>
                  </a:lnTo>
                  <a:cubicBezTo>
                    <a:pt x="3" y="304"/>
                    <a:pt x="7" y="300"/>
                    <a:pt x="11" y="300"/>
                  </a:cubicBezTo>
                  <a:cubicBezTo>
                    <a:pt x="16" y="300"/>
                    <a:pt x="20" y="304"/>
                    <a:pt x="20" y="309"/>
                  </a:cubicBezTo>
                  <a:lnTo>
                    <a:pt x="20" y="309"/>
                  </a:lnTo>
                  <a:cubicBezTo>
                    <a:pt x="20" y="313"/>
                    <a:pt x="16" y="317"/>
                    <a:pt x="11" y="317"/>
                  </a:cubicBezTo>
                  <a:cubicBezTo>
                    <a:pt x="7" y="317"/>
                    <a:pt x="3" y="313"/>
                    <a:pt x="3" y="309"/>
                  </a:cubicBezTo>
                  <a:close/>
                  <a:moveTo>
                    <a:pt x="3" y="275"/>
                  </a:moveTo>
                  <a:lnTo>
                    <a:pt x="3" y="275"/>
                  </a:lnTo>
                  <a:cubicBezTo>
                    <a:pt x="3" y="271"/>
                    <a:pt x="7" y="267"/>
                    <a:pt x="11" y="267"/>
                  </a:cubicBezTo>
                  <a:cubicBezTo>
                    <a:pt x="16" y="267"/>
                    <a:pt x="20" y="271"/>
                    <a:pt x="20" y="275"/>
                  </a:cubicBezTo>
                  <a:lnTo>
                    <a:pt x="20" y="275"/>
                  </a:lnTo>
                  <a:cubicBezTo>
                    <a:pt x="20" y="280"/>
                    <a:pt x="16" y="284"/>
                    <a:pt x="11" y="284"/>
                  </a:cubicBezTo>
                  <a:cubicBezTo>
                    <a:pt x="7" y="284"/>
                    <a:pt x="3" y="280"/>
                    <a:pt x="3" y="275"/>
                  </a:cubicBezTo>
                  <a:close/>
                  <a:moveTo>
                    <a:pt x="3" y="242"/>
                  </a:moveTo>
                  <a:lnTo>
                    <a:pt x="3" y="242"/>
                  </a:lnTo>
                  <a:cubicBezTo>
                    <a:pt x="3" y="237"/>
                    <a:pt x="7" y="234"/>
                    <a:pt x="11" y="234"/>
                  </a:cubicBezTo>
                  <a:cubicBezTo>
                    <a:pt x="16" y="234"/>
                    <a:pt x="20" y="237"/>
                    <a:pt x="20" y="242"/>
                  </a:cubicBezTo>
                  <a:lnTo>
                    <a:pt x="20" y="242"/>
                  </a:lnTo>
                  <a:cubicBezTo>
                    <a:pt x="20" y="247"/>
                    <a:pt x="16" y="250"/>
                    <a:pt x="11" y="250"/>
                  </a:cubicBezTo>
                  <a:cubicBezTo>
                    <a:pt x="7" y="250"/>
                    <a:pt x="3" y="247"/>
                    <a:pt x="3" y="242"/>
                  </a:cubicBezTo>
                  <a:close/>
                  <a:moveTo>
                    <a:pt x="3" y="209"/>
                  </a:moveTo>
                  <a:lnTo>
                    <a:pt x="3" y="209"/>
                  </a:lnTo>
                  <a:cubicBezTo>
                    <a:pt x="3" y="204"/>
                    <a:pt x="7" y="200"/>
                    <a:pt x="11" y="200"/>
                  </a:cubicBezTo>
                  <a:cubicBezTo>
                    <a:pt x="16" y="200"/>
                    <a:pt x="20" y="204"/>
                    <a:pt x="20" y="209"/>
                  </a:cubicBezTo>
                  <a:lnTo>
                    <a:pt x="20" y="209"/>
                  </a:lnTo>
                  <a:cubicBezTo>
                    <a:pt x="20" y="213"/>
                    <a:pt x="16" y="217"/>
                    <a:pt x="11" y="217"/>
                  </a:cubicBezTo>
                  <a:cubicBezTo>
                    <a:pt x="7" y="217"/>
                    <a:pt x="3" y="213"/>
                    <a:pt x="3" y="209"/>
                  </a:cubicBezTo>
                  <a:close/>
                  <a:moveTo>
                    <a:pt x="3" y="175"/>
                  </a:moveTo>
                  <a:lnTo>
                    <a:pt x="3" y="175"/>
                  </a:lnTo>
                  <a:cubicBezTo>
                    <a:pt x="3" y="171"/>
                    <a:pt x="7" y="167"/>
                    <a:pt x="12" y="167"/>
                  </a:cubicBezTo>
                  <a:cubicBezTo>
                    <a:pt x="16" y="167"/>
                    <a:pt x="20" y="171"/>
                    <a:pt x="20" y="175"/>
                  </a:cubicBezTo>
                  <a:lnTo>
                    <a:pt x="20" y="175"/>
                  </a:lnTo>
                  <a:cubicBezTo>
                    <a:pt x="20" y="180"/>
                    <a:pt x="16" y="184"/>
                    <a:pt x="12" y="184"/>
                  </a:cubicBezTo>
                  <a:cubicBezTo>
                    <a:pt x="7" y="184"/>
                    <a:pt x="3" y="180"/>
                    <a:pt x="3" y="175"/>
                  </a:cubicBezTo>
                  <a:close/>
                  <a:moveTo>
                    <a:pt x="3" y="142"/>
                  </a:moveTo>
                  <a:lnTo>
                    <a:pt x="3" y="142"/>
                  </a:lnTo>
                  <a:cubicBezTo>
                    <a:pt x="3" y="137"/>
                    <a:pt x="7" y="134"/>
                    <a:pt x="12" y="134"/>
                  </a:cubicBezTo>
                  <a:cubicBezTo>
                    <a:pt x="16" y="134"/>
                    <a:pt x="20" y="137"/>
                    <a:pt x="20" y="142"/>
                  </a:cubicBezTo>
                  <a:lnTo>
                    <a:pt x="20" y="142"/>
                  </a:lnTo>
                  <a:cubicBezTo>
                    <a:pt x="20" y="147"/>
                    <a:pt x="16" y="150"/>
                    <a:pt x="12" y="150"/>
                  </a:cubicBezTo>
                  <a:cubicBezTo>
                    <a:pt x="7" y="150"/>
                    <a:pt x="3" y="147"/>
                    <a:pt x="3" y="142"/>
                  </a:cubicBezTo>
                  <a:close/>
                  <a:moveTo>
                    <a:pt x="3" y="109"/>
                  </a:moveTo>
                  <a:lnTo>
                    <a:pt x="3" y="109"/>
                  </a:lnTo>
                  <a:cubicBezTo>
                    <a:pt x="3" y="104"/>
                    <a:pt x="7" y="100"/>
                    <a:pt x="12" y="100"/>
                  </a:cubicBezTo>
                  <a:cubicBezTo>
                    <a:pt x="16" y="100"/>
                    <a:pt x="20" y="104"/>
                    <a:pt x="20" y="109"/>
                  </a:cubicBezTo>
                  <a:lnTo>
                    <a:pt x="20" y="109"/>
                  </a:lnTo>
                  <a:cubicBezTo>
                    <a:pt x="20" y="113"/>
                    <a:pt x="16" y="117"/>
                    <a:pt x="12" y="117"/>
                  </a:cubicBezTo>
                  <a:cubicBezTo>
                    <a:pt x="7" y="117"/>
                    <a:pt x="3" y="113"/>
                    <a:pt x="3" y="109"/>
                  </a:cubicBezTo>
                  <a:close/>
                  <a:moveTo>
                    <a:pt x="3" y="75"/>
                  </a:moveTo>
                  <a:lnTo>
                    <a:pt x="3" y="75"/>
                  </a:lnTo>
                  <a:cubicBezTo>
                    <a:pt x="3" y="71"/>
                    <a:pt x="7" y="67"/>
                    <a:pt x="12" y="67"/>
                  </a:cubicBezTo>
                  <a:cubicBezTo>
                    <a:pt x="16" y="67"/>
                    <a:pt x="20" y="71"/>
                    <a:pt x="20" y="75"/>
                  </a:cubicBezTo>
                  <a:lnTo>
                    <a:pt x="20" y="75"/>
                  </a:lnTo>
                  <a:cubicBezTo>
                    <a:pt x="20" y="80"/>
                    <a:pt x="16" y="84"/>
                    <a:pt x="12" y="84"/>
                  </a:cubicBezTo>
                  <a:cubicBezTo>
                    <a:pt x="7" y="84"/>
                    <a:pt x="3" y="80"/>
                    <a:pt x="3" y="75"/>
                  </a:cubicBezTo>
                  <a:close/>
                  <a:moveTo>
                    <a:pt x="3" y="42"/>
                  </a:moveTo>
                  <a:lnTo>
                    <a:pt x="3" y="42"/>
                  </a:lnTo>
                  <a:cubicBezTo>
                    <a:pt x="3" y="37"/>
                    <a:pt x="7" y="34"/>
                    <a:pt x="12" y="34"/>
                  </a:cubicBezTo>
                  <a:cubicBezTo>
                    <a:pt x="16" y="34"/>
                    <a:pt x="20" y="37"/>
                    <a:pt x="20" y="42"/>
                  </a:cubicBezTo>
                  <a:lnTo>
                    <a:pt x="20" y="42"/>
                  </a:lnTo>
                  <a:cubicBezTo>
                    <a:pt x="20" y="47"/>
                    <a:pt x="16" y="50"/>
                    <a:pt x="12" y="50"/>
                  </a:cubicBezTo>
                  <a:cubicBezTo>
                    <a:pt x="7" y="50"/>
                    <a:pt x="3" y="47"/>
                    <a:pt x="3" y="42"/>
                  </a:cubicBezTo>
                  <a:close/>
                  <a:moveTo>
                    <a:pt x="3" y="9"/>
                  </a:moveTo>
                  <a:lnTo>
                    <a:pt x="3" y="9"/>
                  </a:lnTo>
                  <a:cubicBezTo>
                    <a:pt x="3" y="4"/>
                    <a:pt x="7" y="0"/>
                    <a:pt x="12" y="0"/>
                  </a:cubicBezTo>
                  <a:cubicBezTo>
                    <a:pt x="16" y="0"/>
                    <a:pt x="20" y="4"/>
                    <a:pt x="20" y="9"/>
                  </a:cubicBezTo>
                  <a:lnTo>
                    <a:pt x="20" y="9"/>
                  </a:lnTo>
                  <a:cubicBezTo>
                    <a:pt x="20" y="13"/>
                    <a:pt x="16" y="17"/>
                    <a:pt x="12" y="17"/>
                  </a:cubicBezTo>
                  <a:cubicBezTo>
                    <a:pt x="7" y="17"/>
                    <a:pt x="3" y="13"/>
                    <a:pt x="3" y="9"/>
                  </a:cubicBez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021280" y="2260440"/>
              <a:ext cx="3240" cy="454320"/>
            </a:xfrm>
            <a:custGeom>
              <a:avLst/>
              <a:gdLst/>
              <a:ahLst/>
              <a:rect l="l" t="t" r="r" b="b"/>
              <a:pathLst>
                <a:path w="20" h="2385">
                  <a:moveTo>
                    <a:pt x="0" y="2376"/>
                  </a:moveTo>
                  <a:lnTo>
                    <a:pt x="0" y="2376"/>
                  </a:lnTo>
                  <a:cubicBezTo>
                    <a:pt x="0" y="2372"/>
                    <a:pt x="4" y="2368"/>
                    <a:pt x="8" y="2368"/>
                  </a:cubicBezTo>
                  <a:cubicBezTo>
                    <a:pt x="13" y="2368"/>
                    <a:pt x="17" y="2372"/>
                    <a:pt x="17" y="2376"/>
                  </a:cubicBezTo>
                  <a:lnTo>
                    <a:pt x="17" y="2376"/>
                  </a:lnTo>
                  <a:cubicBezTo>
                    <a:pt x="17" y="2381"/>
                    <a:pt x="13" y="2385"/>
                    <a:pt x="8" y="2385"/>
                  </a:cubicBezTo>
                  <a:cubicBezTo>
                    <a:pt x="4" y="2385"/>
                    <a:pt x="0" y="2381"/>
                    <a:pt x="0" y="2376"/>
                  </a:cubicBezTo>
                  <a:close/>
                  <a:moveTo>
                    <a:pt x="0" y="2343"/>
                  </a:moveTo>
                  <a:lnTo>
                    <a:pt x="0" y="2343"/>
                  </a:lnTo>
                  <a:cubicBezTo>
                    <a:pt x="0" y="2338"/>
                    <a:pt x="4" y="2335"/>
                    <a:pt x="9" y="2335"/>
                  </a:cubicBezTo>
                  <a:cubicBezTo>
                    <a:pt x="13" y="2335"/>
                    <a:pt x="17" y="2338"/>
                    <a:pt x="17" y="2343"/>
                  </a:cubicBezTo>
                  <a:lnTo>
                    <a:pt x="17" y="2343"/>
                  </a:lnTo>
                  <a:cubicBezTo>
                    <a:pt x="17" y="2348"/>
                    <a:pt x="13" y="2351"/>
                    <a:pt x="9" y="2351"/>
                  </a:cubicBezTo>
                  <a:cubicBezTo>
                    <a:pt x="4" y="2351"/>
                    <a:pt x="0" y="2348"/>
                    <a:pt x="0" y="2343"/>
                  </a:cubicBezTo>
                  <a:close/>
                  <a:moveTo>
                    <a:pt x="0" y="2310"/>
                  </a:moveTo>
                  <a:lnTo>
                    <a:pt x="0" y="2310"/>
                  </a:lnTo>
                  <a:cubicBezTo>
                    <a:pt x="0" y="2305"/>
                    <a:pt x="4" y="2301"/>
                    <a:pt x="9" y="2301"/>
                  </a:cubicBezTo>
                  <a:cubicBezTo>
                    <a:pt x="13" y="2301"/>
                    <a:pt x="17" y="2305"/>
                    <a:pt x="17" y="2310"/>
                  </a:cubicBezTo>
                  <a:lnTo>
                    <a:pt x="17" y="2310"/>
                  </a:lnTo>
                  <a:cubicBezTo>
                    <a:pt x="17" y="2314"/>
                    <a:pt x="13" y="2318"/>
                    <a:pt x="9" y="2318"/>
                  </a:cubicBezTo>
                  <a:cubicBezTo>
                    <a:pt x="4" y="2318"/>
                    <a:pt x="0" y="2314"/>
                    <a:pt x="0" y="2310"/>
                  </a:cubicBezTo>
                  <a:close/>
                  <a:moveTo>
                    <a:pt x="0" y="2276"/>
                  </a:moveTo>
                  <a:lnTo>
                    <a:pt x="0" y="2276"/>
                  </a:lnTo>
                  <a:cubicBezTo>
                    <a:pt x="0" y="2272"/>
                    <a:pt x="4" y="2268"/>
                    <a:pt x="9" y="2268"/>
                  </a:cubicBezTo>
                  <a:cubicBezTo>
                    <a:pt x="13" y="2268"/>
                    <a:pt x="17" y="2272"/>
                    <a:pt x="17" y="2276"/>
                  </a:cubicBezTo>
                  <a:lnTo>
                    <a:pt x="17" y="2276"/>
                  </a:lnTo>
                  <a:cubicBezTo>
                    <a:pt x="17" y="2281"/>
                    <a:pt x="13" y="2285"/>
                    <a:pt x="9" y="2285"/>
                  </a:cubicBezTo>
                  <a:cubicBezTo>
                    <a:pt x="4" y="2285"/>
                    <a:pt x="0" y="2281"/>
                    <a:pt x="0" y="2276"/>
                  </a:cubicBezTo>
                  <a:close/>
                  <a:moveTo>
                    <a:pt x="0" y="2243"/>
                  </a:moveTo>
                  <a:lnTo>
                    <a:pt x="0" y="2243"/>
                  </a:lnTo>
                  <a:cubicBezTo>
                    <a:pt x="0" y="2238"/>
                    <a:pt x="4" y="2235"/>
                    <a:pt x="9" y="2235"/>
                  </a:cubicBezTo>
                  <a:cubicBezTo>
                    <a:pt x="13" y="2235"/>
                    <a:pt x="17" y="2238"/>
                    <a:pt x="17" y="2243"/>
                  </a:cubicBezTo>
                  <a:lnTo>
                    <a:pt x="17" y="2243"/>
                  </a:lnTo>
                  <a:cubicBezTo>
                    <a:pt x="17" y="2248"/>
                    <a:pt x="13" y="2251"/>
                    <a:pt x="9" y="2251"/>
                  </a:cubicBezTo>
                  <a:cubicBezTo>
                    <a:pt x="4" y="2251"/>
                    <a:pt x="0" y="2248"/>
                    <a:pt x="0" y="2243"/>
                  </a:cubicBezTo>
                  <a:close/>
                  <a:moveTo>
                    <a:pt x="0" y="2210"/>
                  </a:moveTo>
                  <a:lnTo>
                    <a:pt x="0" y="2210"/>
                  </a:lnTo>
                  <a:cubicBezTo>
                    <a:pt x="0" y="2205"/>
                    <a:pt x="4" y="2201"/>
                    <a:pt x="9" y="2201"/>
                  </a:cubicBezTo>
                  <a:cubicBezTo>
                    <a:pt x="13" y="2201"/>
                    <a:pt x="17" y="2205"/>
                    <a:pt x="17" y="2210"/>
                  </a:cubicBezTo>
                  <a:lnTo>
                    <a:pt x="17" y="2210"/>
                  </a:lnTo>
                  <a:cubicBezTo>
                    <a:pt x="17" y="2214"/>
                    <a:pt x="13" y="2218"/>
                    <a:pt x="9" y="2218"/>
                  </a:cubicBezTo>
                  <a:cubicBezTo>
                    <a:pt x="4" y="2218"/>
                    <a:pt x="0" y="2214"/>
                    <a:pt x="0" y="2210"/>
                  </a:cubicBezTo>
                  <a:close/>
                  <a:moveTo>
                    <a:pt x="0" y="2176"/>
                  </a:moveTo>
                  <a:lnTo>
                    <a:pt x="0" y="2176"/>
                  </a:lnTo>
                  <a:cubicBezTo>
                    <a:pt x="0" y="2172"/>
                    <a:pt x="4" y="2168"/>
                    <a:pt x="9" y="2168"/>
                  </a:cubicBezTo>
                  <a:cubicBezTo>
                    <a:pt x="13" y="2168"/>
                    <a:pt x="17" y="2172"/>
                    <a:pt x="17" y="2176"/>
                  </a:cubicBezTo>
                  <a:lnTo>
                    <a:pt x="17" y="2176"/>
                  </a:lnTo>
                  <a:cubicBezTo>
                    <a:pt x="17" y="2181"/>
                    <a:pt x="13" y="2185"/>
                    <a:pt x="9" y="2185"/>
                  </a:cubicBezTo>
                  <a:cubicBezTo>
                    <a:pt x="4" y="2185"/>
                    <a:pt x="0" y="2181"/>
                    <a:pt x="0" y="2176"/>
                  </a:cubicBezTo>
                  <a:close/>
                  <a:moveTo>
                    <a:pt x="0" y="2143"/>
                  </a:moveTo>
                  <a:lnTo>
                    <a:pt x="0" y="2143"/>
                  </a:lnTo>
                  <a:cubicBezTo>
                    <a:pt x="0" y="2138"/>
                    <a:pt x="4" y="2135"/>
                    <a:pt x="9" y="2135"/>
                  </a:cubicBezTo>
                  <a:cubicBezTo>
                    <a:pt x="13" y="2135"/>
                    <a:pt x="17" y="2138"/>
                    <a:pt x="17" y="2143"/>
                  </a:cubicBezTo>
                  <a:lnTo>
                    <a:pt x="17" y="2143"/>
                  </a:lnTo>
                  <a:cubicBezTo>
                    <a:pt x="17" y="2148"/>
                    <a:pt x="13" y="2151"/>
                    <a:pt x="9" y="2151"/>
                  </a:cubicBezTo>
                  <a:cubicBezTo>
                    <a:pt x="4" y="2151"/>
                    <a:pt x="0" y="2148"/>
                    <a:pt x="0" y="2143"/>
                  </a:cubicBezTo>
                  <a:close/>
                  <a:moveTo>
                    <a:pt x="0" y="2110"/>
                  </a:moveTo>
                  <a:lnTo>
                    <a:pt x="0" y="2110"/>
                  </a:lnTo>
                  <a:cubicBezTo>
                    <a:pt x="0" y="2105"/>
                    <a:pt x="4" y="2101"/>
                    <a:pt x="9" y="2101"/>
                  </a:cubicBezTo>
                  <a:cubicBezTo>
                    <a:pt x="13" y="2101"/>
                    <a:pt x="17" y="2105"/>
                    <a:pt x="17" y="2110"/>
                  </a:cubicBezTo>
                  <a:lnTo>
                    <a:pt x="17" y="2110"/>
                  </a:lnTo>
                  <a:cubicBezTo>
                    <a:pt x="17" y="2114"/>
                    <a:pt x="13" y="2118"/>
                    <a:pt x="9" y="2118"/>
                  </a:cubicBezTo>
                  <a:cubicBezTo>
                    <a:pt x="4" y="2118"/>
                    <a:pt x="0" y="2114"/>
                    <a:pt x="0" y="2110"/>
                  </a:cubicBezTo>
                  <a:close/>
                  <a:moveTo>
                    <a:pt x="1" y="2076"/>
                  </a:moveTo>
                  <a:lnTo>
                    <a:pt x="1" y="2076"/>
                  </a:lnTo>
                  <a:cubicBezTo>
                    <a:pt x="1" y="2072"/>
                    <a:pt x="4" y="2068"/>
                    <a:pt x="9" y="2068"/>
                  </a:cubicBezTo>
                  <a:cubicBezTo>
                    <a:pt x="13" y="2068"/>
                    <a:pt x="17" y="2072"/>
                    <a:pt x="17" y="2076"/>
                  </a:cubicBezTo>
                  <a:lnTo>
                    <a:pt x="17" y="2076"/>
                  </a:lnTo>
                  <a:cubicBezTo>
                    <a:pt x="17" y="2081"/>
                    <a:pt x="13" y="2085"/>
                    <a:pt x="9" y="2085"/>
                  </a:cubicBezTo>
                  <a:cubicBezTo>
                    <a:pt x="4" y="2085"/>
                    <a:pt x="1" y="2081"/>
                    <a:pt x="1" y="2076"/>
                  </a:cubicBezTo>
                  <a:close/>
                  <a:moveTo>
                    <a:pt x="1" y="2043"/>
                  </a:moveTo>
                  <a:lnTo>
                    <a:pt x="1" y="2043"/>
                  </a:lnTo>
                  <a:cubicBezTo>
                    <a:pt x="1" y="2038"/>
                    <a:pt x="4" y="2035"/>
                    <a:pt x="9" y="2035"/>
                  </a:cubicBezTo>
                  <a:cubicBezTo>
                    <a:pt x="14" y="2035"/>
                    <a:pt x="17" y="2038"/>
                    <a:pt x="17" y="2043"/>
                  </a:cubicBezTo>
                  <a:lnTo>
                    <a:pt x="17" y="2043"/>
                  </a:lnTo>
                  <a:cubicBezTo>
                    <a:pt x="17" y="2048"/>
                    <a:pt x="14" y="2051"/>
                    <a:pt x="9" y="2051"/>
                  </a:cubicBezTo>
                  <a:cubicBezTo>
                    <a:pt x="4" y="2051"/>
                    <a:pt x="1" y="2048"/>
                    <a:pt x="1" y="2043"/>
                  </a:cubicBezTo>
                  <a:close/>
                  <a:moveTo>
                    <a:pt x="1" y="2010"/>
                  </a:moveTo>
                  <a:lnTo>
                    <a:pt x="1" y="2010"/>
                  </a:lnTo>
                  <a:cubicBezTo>
                    <a:pt x="1" y="2005"/>
                    <a:pt x="4" y="2001"/>
                    <a:pt x="9" y="2001"/>
                  </a:cubicBezTo>
                  <a:cubicBezTo>
                    <a:pt x="14" y="2001"/>
                    <a:pt x="17" y="2005"/>
                    <a:pt x="17" y="2010"/>
                  </a:cubicBezTo>
                  <a:lnTo>
                    <a:pt x="17" y="2010"/>
                  </a:lnTo>
                  <a:cubicBezTo>
                    <a:pt x="17" y="2014"/>
                    <a:pt x="14" y="2018"/>
                    <a:pt x="9" y="2018"/>
                  </a:cubicBezTo>
                  <a:cubicBezTo>
                    <a:pt x="4" y="2018"/>
                    <a:pt x="1" y="2014"/>
                    <a:pt x="1" y="2010"/>
                  </a:cubicBezTo>
                  <a:close/>
                  <a:moveTo>
                    <a:pt x="1" y="1976"/>
                  </a:moveTo>
                  <a:lnTo>
                    <a:pt x="1" y="1976"/>
                  </a:lnTo>
                  <a:cubicBezTo>
                    <a:pt x="1" y="1972"/>
                    <a:pt x="4" y="1968"/>
                    <a:pt x="9" y="1968"/>
                  </a:cubicBezTo>
                  <a:cubicBezTo>
                    <a:pt x="14" y="1968"/>
                    <a:pt x="17" y="1972"/>
                    <a:pt x="17" y="1976"/>
                  </a:cubicBezTo>
                  <a:lnTo>
                    <a:pt x="17" y="1976"/>
                  </a:lnTo>
                  <a:cubicBezTo>
                    <a:pt x="17" y="1981"/>
                    <a:pt x="14" y="1985"/>
                    <a:pt x="9" y="1985"/>
                  </a:cubicBezTo>
                  <a:cubicBezTo>
                    <a:pt x="4" y="1985"/>
                    <a:pt x="1" y="1981"/>
                    <a:pt x="1" y="1976"/>
                  </a:cubicBezTo>
                  <a:close/>
                  <a:moveTo>
                    <a:pt x="1" y="1943"/>
                  </a:moveTo>
                  <a:lnTo>
                    <a:pt x="1" y="1943"/>
                  </a:lnTo>
                  <a:cubicBezTo>
                    <a:pt x="1" y="1938"/>
                    <a:pt x="4" y="1935"/>
                    <a:pt x="9" y="1935"/>
                  </a:cubicBezTo>
                  <a:cubicBezTo>
                    <a:pt x="14" y="1935"/>
                    <a:pt x="17" y="1938"/>
                    <a:pt x="17" y="1943"/>
                  </a:cubicBezTo>
                  <a:lnTo>
                    <a:pt x="17" y="1943"/>
                  </a:lnTo>
                  <a:cubicBezTo>
                    <a:pt x="17" y="1948"/>
                    <a:pt x="14" y="1951"/>
                    <a:pt x="9" y="1951"/>
                  </a:cubicBezTo>
                  <a:cubicBezTo>
                    <a:pt x="4" y="1951"/>
                    <a:pt x="1" y="1948"/>
                    <a:pt x="1" y="1943"/>
                  </a:cubicBezTo>
                  <a:close/>
                  <a:moveTo>
                    <a:pt x="1" y="1910"/>
                  </a:moveTo>
                  <a:lnTo>
                    <a:pt x="1" y="1910"/>
                  </a:lnTo>
                  <a:cubicBezTo>
                    <a:pt x="1" y="1905"/>
                    <a:pt x="4" y="1901"/>
                    <a:pt x="9" y="1901"/>
                  </a:cubicBezTo>
                  <a:cubicBezTo>
                    <a:pt x="14" y="1901"/>
                    <a:pt x="17" y="1905"/>
                    <a:pt x="17" y="1910"/>
                  </a:cubicBezTo>
                  <a:lnTo>
                    <a:pt x="17" y="1910"/>
                  </a:lnTo>
                  <a:cubicBezTo>
                    <a:pt x="17" y="1914"/>
                    <a:pt x="14" y="1918"/>
                    <a:pt x="9" y="1918"/>
                  </a:cubicBezTo>
                  <a:cubicBezTo>
                    <a:pt x="4" y="1918"/>
                    <a:pt x="1" y="1914"/>
                    <a:pt x="1" y="1910"/>
                  </a:cubicBezTo>
                  <a:close/>
                  <a:moveTo>
                    <a:pt x="1" y="1876"/>
                  </a:moveTo>
                  <a:lnTo>
                    <a:pt x="1" y="1876"/>
                  </a:lnTo>
                  <a:cubicBezTo>
                    <a:pt x="1" y="1872"/>
                    <a:pt x="5" y="1868"/>
                    <a:pt x="9" y="1868"/>
                  </a:cubicBezTo>
                  <a:cubicBezTo>
                    <a:pt x="14" y="1868"/>
                    <a:pt x="17" y="1872"/>
                    <a:pt x="17" y="1876"/>
                  </a:cubicBezTo>
                  <a:lnTo>
                    <a:pt x="17" y="1876"/>
                  </a:lnTo>
                  <a:cubicBezTo>
                    <a:pt x="17" y="1881"/>
                    <a:pt x="14" y="1885"/>
                    <a:pt x="9" y="1885"/>
                  </a:cubicBezTo>
                  <a:cubicBezTo>
                    <a:pt x="5" y="1885"/>
                    <a:pt x="1" y="1881"/>
                    <a:pt x="1" y="1876"/>
                  </a:cubicBezTo>
                  <a:close/>
                  <a:moveTo>
                    <a:pt x="1" y="1843"/>
                  </a:moveTo>
                  <a:lnTo>
                    <a:pt x="1" y="1843"/>
                  </a:lnTo>
                  <a:cubicBezTo>
                    <a:pt x="1" y="1838"/>
                    <a:pt x="5" y="1834"/>
                    <a:pt x="9" y="1834"/>
                  </a:cubicBezTo>
                  <a:cubicBezTo>
                    <a:pt x="14" y="1834"/>
                    <a:pt x="18" y="1838"/>
                    <a:pt x="18" y="1843"/>
                  </a:cubicBezTo>
                  <a:lnTo>
                    <a:pt x="18" y="1843"/>
                  </a:lnTo>
                  <a:cubicBezTo>
                    <a:pt x="18" y="1847"/>
                    <a:pt x="14" y="1851"/>
                    <a:pt x="9" y="1851"/>
                  </a:cubicBezTo>
                  <a:cubicBezTo>
                    <a:pt x="5" y="1851"/>
                    <a:pt x="1" y="1847"/>
                    <a:pt x="1" y="1843"/>
                  </a:cubicBezTo>
                  <a:close/>
                  <a:moveTo>
                    <a:pt x="1" y="1809"/>
                  </a:moveTo>
                  <a:lnTo>
                    <a:pt x="1" y="1809"/>
                  </a:lnTo>
                  <a:cubicBezTo>
                    <a:pt x="1" y="1805"/>
                    <a:pt x="5" y="1801"/>
                    <a:pt x="9" y="1801"/>
                  </a:cubicBezTo>
                  <a:cubicBezTo>
                    <a:pt x="14" y="1801"/>
                    <a:pt x="18" y="1805"/>
                    <a:pt x="18" y="1809"/>
                  </a:cubicBezTo>
                  <a:lnTo>
                    <a:pt x="18" y="1809"/>
                  </a:lnTo>
                  <a:cubicBezTo>
                    <a:pt x="18" y="1814"/>
                    <a:pt x="14" y="1818"/>
                    <a:pt x="9" y="1818"/>
                  </a:cubicBezTo>
                  <a:cubicBezTo>
                    <a:pt x="5" y="1818"/>
                    <a:pt x="1" y="1814"/>
                    <a:pt x="1" y="1809"/>
                  </a:cubicBezTo>
                  <a:close/>
                  <a:moveTo>
                    <a:pt x="1" y="1776"/>
                  </a:moveTo>
                  <a:lnTo>
                    <a:pt x="1" y="1776"/>
                  </a:lnTo>
                  <a:cubicBezTo>
                    <a:pt x="1" y="1772"/>
                    <a:pt x="5" y="1768"/>
                    <a:pt x="9" y="1768"/>
                  </a:cubicBezTo>
                  <a:cubicBezTo>
                    <a:pt x="14" y="1768"/>
                    <a:pt x="18" y="1772"/>
                    <a:pt x="18" y="1776"/>
                  </a:cubicBezTo>
                  <a:lnTo>
                    <a:pt x="18" y="1776"/>
                  </a:lnTo>
                  <a:cubicBezTo>
                    <a:pt x="18" y="1781"/>
                    <a:pt x="14" y="1784"/>
                    <a:pt x="9" y="1784"/>
                  </a:cubicBezTo>
                  <a:cubicBezTo>
                    <a:pt x="5" y="1784"/>
                    <a:pt x="1" y="1781"/>
                    <a:pt x="1" y="1776"/>
                  </a:cubicBezTo>
                  <a:close/>
                  <a:moveTo>
                    <a:pt x="1" y="1743"/>
                  </a:moveTo>
                  <a:lnTo>
                    <a:pt x="1" y="1743"/>
                  </a:lnTo>
                  <a:cubicBezTo>
                    <a:pt x="1" y="1738"/>
                    <a:pt x="5" y="1734"/>
                    <a:pt x="9" y="1734"/>
                  </a:cubicBezTo>
                  <a:cubicBezTo>
                    <a:pt x="14" y="1734"/>
                    <a:pt x="18" y="1738"/>
                    <a:pt x="18" y="1743"/>
                  </a:cubicBezTo>
                  <a:lnTo>
                    <a:pt x="18" y="1743"/>
                  </a:lnTo>
                  <a:cubicBezTo>
                    <a:pt x="18" y="1747"/>
                    <a:pt x="14" y="1751"/>
                    <a:pt x="9" y="1751"/>
                  </a:cubicBezTo>
                  <a:cubicBezTo>
                    <a:pt x="5" y="1751"/>
                    <a:pt x="1" y="1747"/>
                    <a:pt x="1" y="1743"/>
                  </a:cubicBezTo>
                  <a:close/>
                  <a:moveTo>
                    <a:pt x="1" y="1709"/>
                  </a:moveTo>
                  <a:lnTo>
                    <a:pt x="1" y="1709"/>
                  </a:lnTo>
                  <a:cubicBezTo>
                    <a:pt x="1" y="1705"/>
                    <a:pt x="5" y="1701"/>
                    <a:pt x="9" y="1701"/>
                  </a:cubicBezTo>
                  <a:cubicBezTo>
                    <a:pt x="14" y="1701"/>
                    <a:pt x="18" y="1705"/>
                    <a:pt x="18" y="1709"/>
                  </a:cubicBezTo>
                  <a:lnTo>
                    <a:pt x="18" y="1709"/>
                  </a:lnTo>
                  <a:cubicBezTo>
                    <a:pt x="18" y="1714"/>
                    <a:pt x="14" y="1718"/>
                    <a:pt x="9" y="1718"/>
                  </a:cubicBezTo>
                  <a:cubicBezTo>
                    <a:pt x="5" y="1718"/>
                    <a:pt x="1" y="1714"/>
                    <a:pt x="1" y="1709"/>
                  </a:cubicBezTo>
                  <a:close/>
                  <a:moveTo>
                    <a:pt x="1" y="1676"/>
                  </a:moveTo>
                  <a:lnTo>
                    <a:pt x="1" y="1676"/>
                  </a:lnTo>
                  <a:cubicBezTo>
                    <a:pt x="1" y="1671"/>
                    <a:pt x="5" y="1668"/>
                    <a:pt x="9" y="1668"/>
                  </a:cubicBezTo>
                  <a:cubicBezTo>
                    <a:pt x="14" y="1668"/>
                    <a:pt x="18" y="1671"/>
                    <a:pt x="18" y="1676"/>
                  </a:cubicBezTo>
                  <a:lnTo>
                    <a:pt x="18" y="1676"/>
                  </a:lnTo>
                  <a:cubicBezTo>
                    <a:pt x="18" y="1681"/>
                    <a:pt x="14" y="1684"/>
                    <a:pt x="9" y="1684"/>
                  </a:cubicBezTo>
                  <a:cubicBezTo>
                    <a:pt x="5" y="1684"/>
                    <a:pt x="1" y="1681"/>
                    <a:pt x="1" y="1676"/>
                  </a:cubicBezTo>
                  <a:close/>
                  <a:moveTo>
                    <a:pt x="1" y="1643"/>
                  </a:moveTo>
                  <a:lnTo>
                    <a:pt x="1" y="1643"/>
                  </a:lnTo>
                  <a:cubicBezTo>
                    <a:pt x="1" y="1638"/>
                    <a:pt x="5" y="1634"/>
                    <a:pt x="9" y="1634"/>
                  </a:cubicBezTo>
                  <a:cubicBezTo>
                    <a:pt x="14" y="1634"/>
                    <a:pt x="18" y="1638"/>
                    <a:pt x="18" y="1643"/>
                  </a:cubicBezTo>
                  <a:lnTo>
                    <a:pt x="18" y="1643"/>
                  </a:lnTo>
                  <a:cubicBezTo>
                    <a:pt x="18" y="1647"/>
                    <a:pt x="14" y="1651"/>
                    <a:pt x="9" y="1651"/>
                  </a:cubicBezTo>
                  <a:cubicBezTo>
                    <a:pt x="5" y="1651"/>
                    <a:pt x="1" y="1647"/>
                    <a:pt x="1" y="1643"/>
                  </a:cubicBezTo>
                  <a:close/>
                  <a:moveTo>
                    <a:pt x="1" y="1609"/>
                  </a:moveTo>
                  <a:lnTo>
                    <a:pt x="1" y="1609"/>
                  </a:lnTo>
                  <a:cubicBezTo>
                    <a:pt x="1" y="1605"/>
                    <a:pt x="5" y="1601"/>
                    <a:pt x="10" y="1601"/>
                  </a:cubicBezTo>
                  <a:cubicBezTo>
                    <a:pt x="14" y="1601"/>
                    <a:pt x="18" y="1605"/>
                    <a:pt x="18" y="1609"/>
                  </a:cubicBezTo>
                  <a:lnTo>
                    <a:pt x="18" y="1609"/>
                  </a:lnTo>
                  <a:cubicBezTo>
                    <a:pt x="18" y="1614"/>
                    <a:pt x="14" y="1618"/>
                    <a:pt x="10" y="1618"/>
                  </a:cubicBezTo>
                  <a:cubicBezTo>
                    <a:pt x="5" y="1618"/>
                    <a:pt x="1" y="1614"/>
                    <a:pt x="1" y="1609"/>
                  </a:cubicBezTo>
                  <a:close/>
                  <a:moveTo>
                    <a:pt x="1" y="1576"/>
                  </a:moveTo>
                  <a:lnTo>
                    <a:pt x="1" y="1576"/>
                  </a:lnTo>
                  <a:cubicBezTo>
                    <a:pt x="1" y="1571"/>
                    <a:pt x="5" y="1568"/>
                    <a:pt x="10" y="1568"/>
                  </a:cubicBezTo>
                  <a:cubicBezTo>
                    <a:pt x="14" y="1568"/>
                    <a:pt x="18" y="1571"/>
                    <a:pt x="18" y="1576"/>
                  </a:cubicBezTo>
                  <a:lnTo>
                    <a:pt x="18" y="1576"/>
                  </a:lnTo>
                  <a:cubicBezTo>
                    <a:pt x="18" y="1581"/>
                    <a:pt x="14" y="1584"/>
                    <a:pt x="10" y="1584"/>
                  </a:cubicBezTo>
                  <a:cubicBezTo>
                    <a:pt x="5" y="1584"/>
                    <a:pt x="1" y="1581"/>
                    <a:pt x="1" y="1576"/>
                  </a:cubicBezTo>
                  <a:close/>
                  <a:moveTo>
                    <a:pt x="1" y="1543"/>
                  </a:moveTo>
                  <a:lnTo>
                    <a:pt x="1" y="1543"/>
                  </a:lnTo>
                  <a:cubicBezTo>
                    <a:pt x="1" y="1538"/>
                    <a:pt x="5" y="1534"/>
                    <a:pt x="10" y="1534"/>
                  </a:cubicBezTo>
                  <a:cubicBezTo>
                    <a:pt x="14" y="1534"/>
                    <a:pt x="18" y="1538"/>
                    <a:pt x="18" y="1543"/>
                  </a:cubicBezTo>
                  <a:lnTo>
                    <a:pt x="18" y="1543"/>
                  </a:lnTo>
                  <a:cubicBezTo>
                    <a:pt x="18" y="1547"/>
                    <a:pt x="14" y="1551"/>
                    <a:pt x="10" y="1551"/>
                  </a:cubicBezTo>
                  <a:cubicBezTo>
                    <a:pt x="5" y="1551"/>
                    <a:pt x="1" y="1547"/>
                    <a:pt x="1" y="1543"/>
                  </a:cubicBezTo>
                  <a:close/>
                  <a:moveTo>
                    <a:pt x="1" y="1509"/>
                  </a:moveTo>
                  <a:lnTo>
                    <a:pt x="1" y="1509"/>
                  </a:lnTo>
                  <a:cubicBezTo>
                    <a:pt x="1" y="1505"/>
                    <a:pt x="5" y="1501"/>
                    <a:pt x="10" y="1501"/>
                  </a:cubicBezTo>
                  <a:cubicBezTo>
                    <a:pt x="14" y="1501"/>
                    <a:pt x="18" y="1505"/>
                    <a:pt x="18" y="1509"/>
                  </a:cubicBezTo>
                  <a:lnTo>
                    <a:pt x="18" y="1509"/>
                  </a:lnTo>
                  <a:cubicBezTo>
                    <a:pt x="18" y="1514"/>
                    <a:pt x="14" y="1518"/>
                    <a:pt x="10" y="1518"/>
                  </a:cubicBezTo>
                  <a:cubicBezTo>
                    <a:pt x="5" y="1518"/>
                    <a:pt x="1" y="1514"/>
                    <a:pt x="1" y="1509"/>
                  </a:cubicBezTo>
                  <a:close/>
                  <a:moveTo>
                    <a:pt x="1" y="1476"/>
                  </a:moveTo>
                  <a:lnTo>
                    <a:pt x="1" y="1476"/>
                  </a:lnTo>
                  <a:cubicBezTo>
                    <a:pt x="1" y="1471"/>
                    <a:pt x="5" y="1468"/>
                    <a:pt x="10" y="1468"/>
                  </a:cubicBezTo>
                  <a:cubicBezTo>
                    <a:pt x="14" y="1468"/>
                    <a:pt x="18" y="1471"/>
                    <a:pt x="18" y="1476"/>
                  </a:cubicBezTo>
                  <a:lnTo>
                    <a:pt x="18" y="1476"/>
                  </a:lnTo>
                  <a:cubicBezTo>
                    <a:pt x="18" y="1481"/>
                    <a:pt x="14" y="1484"/>
                    <a:pt x="10" y="1484"/>
                  </a:cubicBezTo>
                  <a:cubicBezTo>
                    <a:pt x="5" y="1484"/>
                    <a:pt x="1" y="1481"/>
                    <a:pt x="1" y="1476"/>
                  </a:cubicBezTo>
                  <a:close/>
                  <a:moveTo>
                    <a:pt x="1" y="1443"/>
                  </a:moveTo>
                  <a:lnTo>
                    <a:pt x="1" y="1443"/>
                  </a:lnTo>
                  <a:cubicBezTo>
                    <a:pt x="1" y="1438"/>
                    <a:pt x="5" y="1434"/>
                    <a:pt x="10" y="1434"/>
                  </a:cubicBezTo>
                  <a:cubicBezTo>
                    <a:pt x="14" y="1434"/>
                    <a:pt x="18" y="1438"/>
                    <a:pt x="18" y="1443"/>
                  </a:cubicBezTo>
                  <a:lnTo>
                    <a:pt x="18" y="1443"/>
                  </a:lnTo>
                  <a:cubicBezTo>
                    <a:pt x="18" y="1447"/>
                    <a:pt x="14" y="1451"/>
                    <a:pt x="10" y="1451"/>
                  </a:cubicBezTo>
                  <a:cubicBezTo>
                    <a:pt x="5" y="1451"/>
                    <a:pt x="1" y="1447"/>
                    <a:pt x="1" y="1443"/>
                  </a:cubicBezTo>
                  <a:close/>
                  <a:moveTo>
                    <a:pt x="1" y="1409"/>
                  </a:moveTo>
                  <a:lnTo>
                    <a:pt x="1" y="1409"/>
                  </a:lnTo>
                  <a:cubicBezTo>
                    <a:pt x="1" y="1405"/>
                    <a:pt x="5" y="1401"/>
                    <a:pt x="10" y="1401"/>
                  </a:cubicBezTo>
                  <a:cubicBezTo>
                    <a:pt x="14" y="1401"/>
                    <a:pt x="18" y="1405"/>
                    <a:pt x="18" y="1409"/>
                  </a:cubicBezTo>
                  <a:lnTo>
                    <a:pt x="18" y="1409"/>
                  </a:lnTo>
                  <a:cubicBezTo>
                    <a:pt x="18" y="1414"/>
                    <a:pt x="14" y="1418"/>
                    <a:pt x="10" y="1418"/>
                  </a:cubicBezTo>
                  <a:cubicBezTo>
                    <a:pt x="5" y="1418"/>
                    <a:pt x="1" y="1414"/>
                    <a:pt x="1" y="1409"/>
                  </a:cubicBezTo>
                  <a:close/>
                  <a:moveTo>
                    <a:pt x="2" y="1376"/>
                  </a:moveTo>
                  <a:lnTo>
                    <a:pt x="2" y="1376"/>
                  </a:lnTo>
                  <a:cubicBezTo>
                    <a:pt x="2" y="1371"/>
                    <a:pt x="5" y="1368"/>
                    <a:pt x="10" y="1368"/>
                  </a:cubicBezTo>
                  <a:cubicBezTo>
                    <a:pt x="14" y="1368"/>
                    <a:pt x="18" y="1371"/>
                    <a:pt x="18" y="1376"/>
                  </a:cubicBezTo>
                  <a:lnTo>
                    <a:pt x="18" y="1376"/>
                  </a:lnTo>
                  <a:cubicBezTo>
                    <a:pt x="18" y="1381"/>
                    <a:pt x="14" y="1384"/>
                    <a:pt x="10" y="1384"/>
                  </a:cubicBezTo>
                  <a:cubicBezTo>
                    <a:pt x="5" y="1384"/>
                    <a:pt x="2" y="1381"/>
                    <a:pt x="2" y="1376"/>
                  </a:cubicBezTo>
                  <a:close/>
                  <a:moveTo>
                    <a:pt x="2" y="1343"/>
                  </a:moveTo>
                  <a:lnTo>
                    <a:pt x="2" y="1343"/>
                  </a:lnTo>
                  <a:cubicBezTo>
                    <a:pt x="2" y="1338"/>
                    <a:pt x="5" y="1334"/>
                    <a:pt x="10" y="1334"/>
                  </a:cubicBezTo>
                  <a:cubicBezTo>
                    <a:pt x="14" y="1334"/>
                    <a:pt x="18" y="1338"/>
                    <a:pt x="18" y="1343"/>
                  </a:cubicBezTo>
                  <a:lnTo>
                    <a:pt x="18" y="1343"/>
                  </a:lnTo>
                  <a:cubicBezTo>
                    <a:pt x="18" y="1347"/>
                    <a:pt x="14" y="1351"/>
                    <a:pt x="10" y="1351"/>
                  </a:cubicBezTo>
                  <a:cubicBezTo>
                    <a:pt x="5" y="1351"/>
                    <a:pt x="2" y="1347"/>
                    <a:pt x="2" y="1343"/>
                  </a:cubicBezTo>
                  <a:close/>
                  <a:moveTo>
                    <a:pt x="2" y="1309"/>
                  </a:moveTo>
                  <a:lnTo>
                    <a:pt x="2" y="1309"/>
                  </a:lnTo>
                  <a:cubicBezTo>
                    <a:pt x="2" y="1305"/>
                    <a:pt x="5" y="1301"/>
                    <a:pt x="10" y="1301"/>
                  </a:cubicBezTo>
                  <a:cubicBezTo>
                    <a:pt x="15" y="1301"/>
                    <a:pt x="18" y="1305"/>
                    <a:pt x="18" y="1309"/>
                  </a:cubicBezTo>
                  <a:lnTo>
                    <a:pt x="18" y="1309"/>
                  </a:lnTo>
                  <a:cubicBezTo>
                    <a:pt x="18" y="1314"/>
                    <a:pt x="15" y="1318"/>
                    <a:pt x="10" y="1318"/>
                  </a:cubicBezTo>
                  <a:cubicBezTo>
                    <a:pt x="5" y="1318"/>
                    <a:pt x="2" y="1314"/>
                    <a:pt x="2" y="1309"/>
                  </a:cubicBezTo>
                  <a:close/>
                  <a:moveTo>
                    <a:pt x="2" y="1276"/>
                  </a:moveTo>
                  <a:lnTo>
                    <a:pt x="2" y="1276"/>
                  </a:lnTo>
                  <a:cubicBezTo>
                    <a:pt x="2" y="1271"/>
                    <a:pt x="5" y="1268"/>
                    <a:pt x="10" y="1268"/>
                  </a:cubicBezTo>
                  <a:cubicBezTo>
                    <a:pt x="15" y="1268"/>
                    <a:pt x="18" y="1271"/>
                    <a:pt x="18" y="1276"/>
                  </a:cubicBezTo>
                  <a:lnTo>
                    <a:pt x="18" y="1276"/>
                  </a:lnTo>
                  <a:cubicBezTo>
                    <a:pt x="18" y="1280"/>
                    <a:pt x="15" y="1284"/>
                    <a:pt x="10" y="1284"/>
                  </a:cubicBezTo>
                  <a:cubicBezTo>
                    <a:pt x="5" y="1284"/>
                    <a:pt x="2" y="1280"/>
                    <a:pt x="2" y="1276"/>
                  </a:cubicBezTo>
                  <a:close/>
                  <a:moveTo>
                    <a:pt x="2" y="1243"/>
                  </a:moveTo>
                  <a:lnTo>
                    <a:pt x="2" y="1243"/>
                  </a:lnTo>
                  <a:cubicBezTo>
                    <a:pt x="2" y="1238"/>
                    <a:pt x="5" y="1234"/>
                    <a:pt x="10" y="1234"/>
                  </a:cubicBezTo>
                  <a:cubicBezTo>
                    <a:pt x="15" y="1234"/>
                    <a:pt x="18" y="1238"/>
                    <a:pt x="18" y="1243"/>
                  </a:cubicBezTo>
                  <a:lnTo>
                    <a:pt x="18" y="1243"/>
                  </a:lnTo>
                  <a:cubicBezTo>
                    <a:pt x="18" y="1247"/>
                    <a:pt x="15" y="1251"/>
                    <a:pt x="10" y="1251"/>
                  </a:cubicBezTo>
                  <a:cubicBezTo>
                    <a:pt x="5" y="1251"/>
                    <a:pt x="2" y="1247"/>
                    <a:pt x="2" y="1243"/>
                  </a:cubicBezTo>
                  <a:close/>
                  <a:moveTo>
                    <a:pt x="2" y="1209"/>
                  </a:moveTo>
                  <a:lnTo>
                    <a:pt x="2" y="1209"/>
                  </a:lnTo>
                  <a:cubicBezTo>
                    <a:pt x="2" y="1205"/>
                    <a:pt x="5" y="1201"/>
                    <a:pt x="10" y="1201"/>
                  </a:cubicBezTo>
                  <a:cubicBezTo>
                    <a:pt x="15" y="1201"/>
                    <a:pt x="18" y="1205"/>
                    <a:pt x="18" y="1209"/>
                  </a:cubicBezTo>
                  <a:lnTo>
                    <a:pt x="18" y="1209"/>
                  </a:lnTo>
                  <a:cubicBezTo>
                    <a:pt x="18" y="1214"/>
                    <a:pt x="15" y="1218"/>
                    <a:pt x="10" y="1218"/>
                  </a:cubicBezTo>
                  <a:cubicBezTo>
                    <a:pt x="5" y="1218"/>
                    <a:pt x="2" y="1214"/>
                    <a:pt x="2" y="1209"/>
                  </a:cubicBezTo>
                  <a:close/>
                  <a:moveTo>
                    <a:pt x="2" y="1176"/>
                  </a:moveTo>
                  <a:lnTo>
                    <a:pt x="2" y="1176"/>
                  </a:lnTo>
                  <a:cubicBezTo>
                    <a:pt x="2" y="1171"/>
                    <a:pt x="6" y="1167"/>
                    <a:pt x="10" y="1167"/>
                  </a:cubicBezTo>
                  <a:cubicBezTo>
                    <a:pt x="15" y="1167"/>
                    <a:pt x="18" y="1171"/>
                    <a:pt x="18" y="1176"/>
                  </a:cubicBezTo>
                  <a:lnTo>
                    <a:pt x="18" y="1176"/>
                  </a:lnTo>
                  <a:cubicBezTo>
                    <a:pt x="18" y="1180"/>
                    <a:pt x="15" y="1184"/>
                    <a:pt x="10" y="1184"/>
                  </a:cubicBezTo>
                  <a:cubicBezTo>
                    <a:pt x="6" y="1184"/>
                    <a:pt x="2" y="1180"/>
                    <a:pt x="2" y="1176"/>
                  </a:cubicBezTo>
                  <a:close/>
                  <a:moveTo>
                    <a:pt x="2" y="1142"/>
                  </a:moveTo>
                  <a:lnTo>
                    <a:pt x="2" y="1142"/>
                  </a:lnTo>
                  <a:cubicBezTo>
                    <a:pt x="2" y="1138"/>
                    <a:pt x="6" y="1134"/>
                    <a:pt x="10" y="1134"/>
                  </a:cubicBezTo>
                  <a:cubicBezTo>
                    <a:pt x="15" y="1134"/>
                    <a:pt x="18" y="1138"/>
                    <a:pt x="18" y="1142"/>
                  </a:cubicBezTo>
                  <a:lnTo>
                    <a:pt x="18" y="1142"/>
                  </a:lnTo>
                  <a:cubicBezTo>
                    <a:pt x="18" y="1147"/>
                    <a:pt x="15" y="1151"/>
                    <a:pt x="10" y="1151"/>
                  </a:cubicBezTo>
                  <a:cubicBezTo>
                    <a:pt x="6" y="1151"/>
                    <a:pt x="2" y="1147"/>
                    <a:pt x="2" y="1142"/>
                  </a:cubicBezTo>
                  <a:close/>
                  <a:moveTo>
                    <a:pt x="2" y="1109"/>
                  </a:moveTo>
                  <a:lnTo>
                    <a:pt x="2" y="1109"/>
                  </a:lnTo>
                  <a:cubicBezTo>
                    <a:pt x="2" y="1105"/>
                    <a:pt x="6" y="1101"/>
                    <a:pt x="10" y="1101"/>
                  </a:cubicBezTo>
                  <a:cubicBezTo>
                    <a:pt x="15" y="1101"/>
                    <a:pt x="19" y="1105"/>
                    <a:pt x="19" y="1109"/>
                  </a:cubicBezTo>
                  <a:lnTo>
                    <a:pt x="19" y="1109"/>
                  </a:lnTo>
                  <a:cubicBezTo>
                    <a:pt x="19" y="1114"/>
                    <a:pt x="15" y="1117"/>
                    <a:pt x="10" y="1117"/>
                  </a:cubicBezTo>
                  <a:cubicBezTo>
                    <a:pt x="6" y="1117"/>
                    <a:pt x="2" y="1114"/>
                    <a:pt x="2" y="1109"/>
                  </a:cubicBezTo>
                  <a:close/>
                  <a:moveTo>
                    <a:pt x="2" y="1076"/>
                  </a:moveTo>
                  <a:lnTo>
                    <a:pt x="2" y="1076"/>
                  </a:lnTo>
                  <a:cubicBezTo>
                    <a:pt x="2" y="1071"/>
                    <a:pt x="6" y="1067"/>
                    <a:pt x="10" y="1067"/>
                  </a:cubicBezTo>
                  <a:cubicBezTo>
                    <a:pt x="15" y="1067"/>
                    <a:pt x="19" y="1071"/>
                    <a:pt x="19" y="1076"/>
                  </a:cubicBezTo>
                  <a:lnTo>
                    <a:pt x="19" y="1076"/>
                  </a:lnTo>
                  <a:cubicBezTo>
                    <a:pt x="19" y="1080"/>
                    <a:pt x="15" y="1084"/>
                    <a:pt x="10" y="1084"/>
                  </a:cubicBezTo>
                  <a:cubicBezTo>
                    <a:pt x="6" y="1084"/>
                    <a:pt x="2" y="1080"/>
                    <a:pt x="2" y="1076"/>
                  </a:cubicBezTo>
                  <a:close/>
                  <a:moveTo>
                    <a:pt x="2" y="1042"/>
                  </a:moveTo>
                  <a:lnTo>
                    <a:pt x="2" y="1042"/>
                  </a:lnTo>
                  <a:cubicBezTo>
                    <a:pt x="2" y="1038"/>
                    <a:pt x="6" y="1034"/>
                    <a:pt x="10" y="1034"/>
                  </a:cubicBezTo>
                  <a:cubicBezTo>
                    <a:pt x="15" y="1034"/>
                    <a:pt x="19" y="1038"/>
                    <a:pt x="19" y="1042"/>
                  </a:cubicBezTo>
                  <a:lnTo>
                    <a:pt x="19" y="1042"/>
                  </a:lnTo>
                  <a:cubicBezTo>
                    <a:pt x="19" y="1047"/>
                    <a:pt x="15" y="1051"/>
                    <a:pt x="10" y="1051"/>
                  </a:cubicBezTo>
                  <a:cubicBezTo>
                    <a:pt x="6" y="1051"/>
                    <a:pt x="2" y="1047"/>
                    <a:pt x="2" y="1042"/>
                  </a:cubicBezTo>
                  <a:close/>
                  <a:moveTo>
                    <a:pt x="2" y="1009"/>
                  </a:moveTo>
                  <a:lnTo>
                    <a:pt x="2" y="1009"/>
                  </a:lnTo>
                  <a:cubicBezTo>
                    <a:pt x="2" y="1004"/>
                    <a:pt x="6" y="1001"/>
                    <a:pt x="10" y="1001"/>
                  </a:cubicBezTo>
                  <a:cubicBezTo>
                    <a:pt x="15" y="1001"/>
                    <a:pt x="19" y="1004"/>
                    <a:pt x="19" y="1009"/>
                  </a:cubicBezTo>
                  <a:lnTo>
                    <a:pt x="19" y="1009"/>
                  </a:lnTo>
                  <a:cubicBezTo>
                    <a:pt x="19" y="1014"/>
                    <a:pt x="15" y="1017"/>
                    <a:pt x="10" y="1017"/>
                  </a:cubicBezTo>
                  <a:cubicBezTo>
                    <a:pt x="6" y="1017"/>
                    <a:pt x="2" y="1014"/>
                    <a:pt x="2" y="1009"/>
                  </a:cubicBezTo>
                  <a:close/>
                  <a:moveTo>
                    <a:pt x="2" y="976"/>
                  </a:moveTo>
                  <a:lnTo>
                    <a:pt x="2" y="976"/>
                  </a:lnTo>
                  <a:cubicBezTo>
                    <a:pt x="2" y="971"/>
                    <a:pt x="6" y="967"/>
                    <a:pt x="10" y="967"/>
                  </a:cubicBezTo>
                  <a:cubicBezTo>
                    <a:pt x="15" y="967"/>
                    <a:pt x="19" y="971"/>
                    <a:pt x="19" y="976"/>
                  </a:cubicBezTo>
                  <a:lnTo>
                    <a:pt x="19" y="976"/>
                  </a:lnTo>
                  <a:cubicBezTo>
                    <a:pt x="19" y="980"/>
                    <a:pt x="15" y="984"/>
                    <a:pt x="10" y="984"/>
                  </a:cubicBezTo>
                  <a:cubicBezTo>
                    <a:pt x="6" y="984"/>
                    <a:pt x="2" y="980"/>
                    <a:pt x="2" y="976"/>
                  </a:cubicBezTo>
                  <a:close/>
                  <a:moveTo>
                    <a:pt x="2" y="942"/>
                  </a:moveTo>
                  <a:lnTo>
                    <a:pt x="2" y="942"/>
                  </a:lnTo>
                  <a:cubicBezTo>
                    <a:pt x="2" y="938"/>
                    <a:pt x="6" y="934"/>
                    <a:pt x="10" y="934"/>
                  </a:cubicBezTo>
                  <a:cubicBezTo>
                    <a:pt x="15" y="934"/>
                    <a:pt x="19" y="938"/>
                    <a:pt x="19" y="942"/>
                  </a:cubicBezTo>
                  <a:lnTo>
                    <a:pt x="19" y="942"/>
                  </a:lnTo>
                  <a:cubicBezTo>
                    <a:pt x="19" y="947"/>
                    <a:pt x="15" y="951"/>
                    <a:pt x="10" y="951"/>
                  </a:cubicBezTo>
                  <a:cubicBezTo>
                    <a:pt x="6" y="951"/>
                    <a:pt x="2" y="947"/>
                    <a:pt x="2" y="942"/>
                  </a:cubicBezTo>
                  <a:close/>
                  <a:moveTo>
                    <a:pt x="2" y="909"/>
                  </a:moveTo>
                  <a:lnTo>
                    <a:pt x="2" y="909"/>
                  </a:lnTo>
                  <a:cubicBezTo>
                    <a:pt x="2" y="904"/>
                    <a:pt x="6" y="901"/>
                    <a:pt x="10" y="901"/>
                  </a:cubicBezTo>
                  <a:cubicBezTo>
                    <a:pt x="15" y="901"/>
                    <a:pt x="19" y="904"/>
                    <a:pt x="19" y="909"/>
                  </a:cubicBezTo>
                  <a:lnTo>
                    <a:pt x="19" y="909"/>
                  </a:lnTo>
                  <a:cubicBezTo>
                    <a:pt x="19" y="914"/>
                    <a:pt x="15" y="917"/>
                    <a:pt x="10" y="917"/>
                  </a:cubicBezTo>
                  <a:cubicBezTo>
                    <a:pt x="6" y="917"/>
                    <a:pt x="2" y="914"/>
                    <a:pt x="2" y="909"/>
                  </a:cubicBezTo>
                  <a:close/>
                  <a:moveTo>
                    <a:pt x="2" y="876"/>
                  </a:moveTo>
                  <a:lnTo>
                    <a:pt x="2" y="876"/>
                  </a:lnTo>
                  <a:cubicBezTo>
                    <a:pt x="2" y="871"/>
                    <a:pt x="6" y="867"/>
                    <a:pt x="11" y="867"/>
                  </a:cubicBezTo>
                  <a:cubicBezTo>
                    <a:pt x="15" y="867"/>
                    <a:pt x="19" y="871"/>
                    <a:pt x="19" y="876"/>
                  </a:cubicBezTo>
                  <a:lnTo>
                    <a:pt x="19" y="876"/>
                  </a:lnTo>
                  <a:cubicBezTo>
                    <a:pt x="19" y="880"/>
                    <a:pt x="15" y="884"/>
                    <a:pt x="11" y="884"/>
                  </a:cubicBezTo>
                  <a:cubicBezTo>
                    <a:pt x="6" y="884"/>
                    <a:pt x="2" y="880"/>
                    <a:pt x="2" y="876"/>
                  </a:cubicBezTo>
                  <a:close/>
                  <a:moveTo>
                    <a:pt x="2" y="842"/>
                  </a:moveTo>
                  <a:lnTo>
                    <a:pt x="2" y="842"/>
                  </a:lnTo>
                  <a:cubicBezTo>
                    <a:pt x="2" y="838"/>
                    <a:pt x="6" y="834"/>
                    <a:pt x="11" y="834"/>
                  </a:cubicBezTo>
                  <a:cubicBezTo>
                    <a:pt x="15" y="834"/>
                    <a:pt x="19" y="838"/>
                    <a:pt x="19" y="842"/>
                  </a:cubicBezTo>
                  <a:lnTo>
                    <a:pt x="19" y="842"/>
                  </a:lnTo>
                  <a:cubicBezTo>
                    <a:pt x="19" y="847"/>
                    <a:pt x="15" y="851"/>
                    <a:pt x="11" y="851"/>
                  </a:cubicBezTo>
                  <a:cubicBezTo>
                    <a:pt x="6" y="851"/>
                    <a:pt x="2" y="847"/>
                    <a:pt x="2" y="842"/>
                  </a:cubicBezTo>
                  <a:close/>
                  <a:moveTo>
                    <a:pt x="2" y="809"/>
                  </a:moveTo>
                  <a:lnTo>
                    <a:pt x="2" y="809"/>
                  </a:lnTo>
                  <a:cubicBezTo>
                    <a:pt x="2" y="804"/>
                    <a:pt x="6" y="801"/>
                    <a:pt x="11" y="801"/>
                  </a:cubicBezTo>
                  <a:cubicBezTo>
                    <a:pt x="15" y="801"/>
                    <a:pt x="19" y="804"/>
                    <a:pt x="19" y="809"/>
                  </a:cubicBezTo>
                  <a:lnTo>
                    <a:pt x="19" y="809"/>
                  </a:lnTo>
                  <a:cubicBezTo>
                    <a:pt x="19" y="814"/>
                    <a:pt x="15" y="817"/>
                    <a:pt x="11" y="817"/>
                  </a:cubicBezTo>
                  <a:cubicBezTo>
                    <a:pt x="6" y="817"/>
                    <a:pt x="2" y="814"/>
                    <a:pt x="2" y="809"/>
                  </a:cubicBezTo>
                  <a:close/>
                  <a:moveTo>
                    <a:pt x="2" y="776"/>
                  </a:moveTo>
                  <a:lnTo>
                    <a:pt x="2" y="776"/>
                  </a:lnTo>
                  <a:cubicBezTo>
                    <a:pt x="2" y="771"/>
                    <a:pt x="6" y="767"/>
                    <a:pt x="11" y="767"/>
                  </a:cubicBezTo>
                  <a:cubicBezTo>
                    <a:pt x="15" y="767"/>
                    <a:pt x="19" y="771"/>
                    <a:pt x="19" y="776"/>
                  </a:cubicBezTo>
                  <a:lnTo>
                    <a:pt x="19" y="776"/>
                  </a:lnTo>
                  <a:cubicBezTo>
                    <a:pt x="19" y="780"/>
                    <a:pt x="15" y="784"/>
                    <a:pt x="11" y="784"/>
                  </a:cubicBezTo>
                  <a:cubicBezTo>
                    <a:pt x="6" y="784"/>
                    <a:pt x="2" y="780"/>
                    <a:pt x="2" y="776"/>
                  </a:cubicBezTo>
                  <a:close/>
                  <a:moveTo>
                    <a:pt x="2" y="742"/>
                  </a:moveTo>
                  <a:lnTo>
                    <a:pt x="2" y="742"/>
                  </a:lnTo>
                  <a:cubicBezTo>
                    <a:pt x="2" y="738"/>
                    <a:pt x="6" y="734"/>
                    <a:pt x="11" y="734"/>
                  </a:cubicBezTo>
                  <a:cubicBezTo>
                    <a:pt x="15" y="734"/>
                    <a:pt x="19" y="738"/>
                    <a:pt x="19" y="742"/>
                  </a:cubicBezTo>
                  <a:lnTo>
                    <a:pt x="19" y="742"/>
                  </a:lnTo>
                  <a:cubicBezTo>
                    <a:pt x="19" y="747"/>
                    <a:pt x="15" y="751"/>
                    <a:pt x="11" y="751"/>
                  </a:cubicBezTo>
                  <a:cubicBezTo>
                    <a:pt x="6" y="751"/>
                    <a:pt x="2" y="747"/>
                    <a:pt x="2" y="742"/>
                  </a:cubicBezTo>
                  <a:close/>
                  <a:moveTo>
                    <a:pt x="2" y="709"/>
                  </a:moveTo>
                  <a:lnTo>
                    <a:pt x="2" y="709"/>
                  </a:lnTo>
                  <a:cubicBezTo>
                    <a:pt x="2" y="704"/>
                    <a:pt x="6" y="701"/>
                    <a:pt x="11" y="701"/>
                  </a:cubicBezTo>
                  <a:cubicBezTo>
                    <a:pt x="15" y="701"/>
                    <a:pt x="19" y="704"/>
                    <a:pt x="19" y="709"/>
                  </a:cubicBezTo>
                  <a:lnTo>
                    <a:pt x="19" y="709"/>
                  </a:lnTo>
                  <a:cubicBezTo>
                    <a:pt x="19" y="714"/>
                    <a:pt x="15" y="717"/>
                    <a:pt x="11" y="717"/>
                  </a:cubicBezTo>
                  <a:cubicBezTo>
                    <a:pt x="6" y="717"/>
                    <a:pt x="2" y="714"/>
                    <a:pt x="2" y="709"/>
                  </a:cubicBezTo>
                  <a:close/>
                  <a:moveTo>
                    <a:pt x="2" y="676"/>
                  </a:moveTo>
                  <a:lnTo>
                    <a:pt x="2" y="676"/>
                  </a:lnTo>
                  <a:cubicBezTo>
                    <a:pt x="2" y="671"/>
                    <a:pt x="6" y="667"/>
                    <a:pt x="11" y="667"/>
                  </a:cubicBezTo>
                  <a:cubicBezTo>
                    <a:pt x="15" y="667"/>
                    <a:pt x="19" y="671"/>
                    <a:pt x="19" y="676"/>
                  </a:cubicBezTo>
                  <a:lnTo>
                    <a:pt x="19" y="676"/>
                  </a:lnTo>
                  <a:cubicBezTo>
                    <a:pt x="19" y="680"/>
                    <a:pt x="15" y="684"/>
                    <a:pt x="11" y="684"/>
                  </a:cubicBezTo>
                  <a:cubicBezTo>
                    <a:pt x="6" y="684"/>
                    <a:pt x="2" y="680"/>
                    <a:pt x="2" y="676"/>
                  </a:cubicBezTo>
                  <a:close/>
                  <a:moveTo>
                    <a:pt x="3" y="642"/>
                  </a:moveTo>
                  <a:lnTo>
                    <a:pt x="3" y="642"/>
                  </a:lnTo>
                  <a:cubicBezTo>
                    <a:pt x="3" y="638"/>
                    <a:pt x="6" y="634"/>
                    <a:pt x="11" y="634"/>
                  </a:cubicBezTo>
                  <a:cubicBezTo>
                    <a:pt x="15" y="634"/>
                    <a:pt x="19" y="638"/>
                    <a:pt x="19" y="642"/>
                  </a:cubicBezTo>
                  <a:lnTo>
                    <a:pt x="19" y="642"/>
                  </a:lnTo>
                  <a:cubicBezTo>
                    <a:pt x="19" y="647"/>
                    <a:pt x="15" y="651"/>
                    <a:pt x="11" y="651"/>
                  </a:cubicBezTo>
                  <a:cubicBezTo>
                    <a:pt x="6" y="651"/>
                    <a:pt x="3" y="647"/>
                    <a:pt x="3" y="642"/>
                  </a:cubicBezTo>
                  <a:close/>
                  <a:moveTo>
                    <a:pt x="3" y="609"/>
                  </a:moveTo>
                  <a:lnTo>
                    <a:pt x="3" y="609"/>
                  </a:lnTo>
                  <a:cubicBezTo>
                    <a:pt x="3" y="604"/>
                    <a:pt x="6" y="601"/>
                    <a:pt x="11" y="601"/>
                  </a:cubicBezTo>
                  <a:cubicBezTo>
                    <a:pt x="16" y="601"/>
                    <a:pt x="19" y="604"/>
                    <a:pt x="19" y="609"/>
                  </a:cubicBezTo>
                  <a:lnTo>
                    <a:pt x="19" y="609"/>
                  </a:lnTo>
                  <a:cubicBezTo>
                    <a:pt x="19" y="613"/>
                    <a:pt x="16" y="617"/>
                    <a:pt x="11" y="617"/>
                  </a:cubicBezTo>
                  <a:cubicBezTo>
                    <a:pt x="6" y="617"/>
                    <a:pt x="3" y="613"/>
                    <a:pt x="3" y="609"/>
                  </a:cubicBezTo>
                  <a:close/>
                  <a:moveTo>
                    <a:pt x="3" y="576"/>
                  </a:moveTo>
                  <a:lnTo>
                    <a:pt x="3" y="576"/>
                  </a:lnTo>
                  <a:cubicBezTo>
                    <a:pt x="3" y="571"/>
                    <a:pt x="6" y="567"/>
                    <a:pt x="11" y="567"/>
                  </a:cubicBezTo>
                  <a:cubicBezTo>
                    <a:pt x="16" y="567"/>
                    <a:pt x="19" y="571"/>
                    <a:pt x="19" y="576"/>
                  </a:cubicBezTo>
                  <a:lnTo>
                    <a:pt x="19" y="576"/>
                  </a:lnTo>
                  <a:cubicBezTo>
                    <a:pt x="19" y="580"/>
                    <a:pt x="16" y="584"/>
                    <a:pt x="11" y="584"/>
                  </a:cubicBezTo>
                  <a:cubicBezTo>
                    <a:pt x="6" y="584"/>
                    <a:pt x="3" y="580"/>
                    <a:pt x="3" y="576"/>
                  </a:cubicBezTo>
                  <a:close/>
                  <a:moveTo>
                    <a:pt x="3" y="542"/>
                  </a:moveTo>
                  <a:lnTo>
                    <a:pt x="3" y="542"/>
                  </a:lnTo>
                  <a:cubicBezTo>
                    <a:pt x="3" y="538"/>
                    <a:pt x="6" y="534"/>
                    <a:pt x="11" y="534"/>
                  </a:cubicBezTo>
                  <a:cubicBezTo>
                    <a:pt x="16" y="534"/>
                    <a:pt x="19" y="538"/>
                    <a:pt x="19" y="542"/>
                  </a:cubicBezTo>
                  <a:lnTo>
                    <a:pt x="19" y="542"/>
                  </a:lnTo>
                  <a:cubicBezTo>
                    <a:pt x="19" y="547"/>
                    <a:pt x="16" y="551"/>
                    <a:pt x="11" y="551"/>
                  </a:cubicBezTo>
                  <a:cubicBezTo>
                    <a:pt x="6" y="551"/>
                    <a:pt x="3" y="547"/>
                    <a:pt x="3" y="542"/>
                  </a:cubicBezTo>
                  <a:close/>
                  <a:moveTo>
                    <a:pt x="3" y="509"/>
                  </a:moveTo>
                  <a:lnTo>
                    <a:pt x="3" y="509"/>
                  </a:lnTo>
                  <a:cubicBezTo>
                    <a:pt x="3" y="504"/>
                    <a:pt x="6" y="500"/>
                    <a:pt x="11" y="500"/>
                  </a:cubicBezTo>
                  <a:cubicBezTo>
                    <a:pt x="16" y="500"/>
                    <a:pt x="19" y="504"/>
                    <a:pt x="19" y="509"/>
                  </a:cubicBezTo>
                  <a:lnTo>
                    <a:pt x="19" y="509"/>
                  </a:lnTo>
                  <a:cubicBezTo>
                    <a:pt x="19" y="513"/>
                    <a:pt x="16" y="517"/>
                    <a:pt x="11" y="517"/>
                  </a:cubicBezTo>
                  <a:cubicBezTo>
                    <a:pt x="6" y="517"/>
                    <a:pt x="3" y="513"/>
                    <a:pt x="3" y="509"/>
                  </a:cubicBezTo>
                  <a:close/>
                  <a:moveTo>
                    <a:pt x="3" y="475"/>
                  </a:moveTo>
                  <a:lnTo>
                    <a:pt x="3" y="475"/>
                  </a:lnTo>
                  <a:cubicBezTo>
                    <a:pt x="3" y="471"/>
                    <a:pt x="6" y="467"/>
                    <a:pt x="11" y="467"/>
                  </a:cubicBezTo>
                  <a:cubicBezTo>
                    <a:pt x="16" y="467"/>
                    <a:pt x="19" y="471"/>
                    <a:pt x="19" y="475"/>
                  </a:cubicBezTo>
                  <a:lnTo>
                    <a:pt x="19" y="475"/>
                  </a:lnTo>
                  <a:cubicBezTo>
                    <a:pt x="19" y="480"/>
                    <a:pt x="16" y="484"/>
                    <a:pt x="11" y="484"/>
                  </a:cubicBezTo>
                  <a:cubicBezTo>
                    <a:pt x="6" y="484"/>
                    <a:pt x="3" y="480"/>
                    <a:pt x="3" y="475"/>
                  </a:cubicBezTo>
                  <a:close/>
                  <a:moveTo>
                    <a:pt x="3" y="442"/>
                  </a:moveTo>
                  <a:lnTo>
                    <a:pt x="3" y="442"/>
                  </a:lnTo>
                  <a:cubicBezTo>
                    <a:pt x="3" y="438"/>
                    <a:pt x="7" y="434"/>
                    <a:pt x="11" y="434"/>
                  </a:cubicBezTo>
                  <a:cubicBezTo>
                    <a:pt x="16" y="434"/>
                    <a:pt x="19" y="438"/>
                    <a:pt x="19" y="442"/>
                  </a:cubicBezTo>
                  <a:lnTo>
                    <a:pt x="19" y="442"/>
                  </a:lnTo>
                  <a:cubicBezTo>
                    <a:pt x="19" y="447"/>
                    <a:pt x="16" y="450"/>
                    <a:pt x="11" y="450"/>
                  </a:cubicBezTo>
                  <a:cubicBezTo>
                    <a:pt x="7" y="450"/>
                    <a:pt x="3" y="447"/>
                    <a:pt x="3" y="442"/>
                  </a:cubicBezTo>
                  <a:close/>
                  <a:moveTo>
                    <a:pt x="3" y="409"/>
                  </a:moveTo>
                  <a:lnTo>
                    <a:pt x="3" y="409"/>
                  </a:lnTo>
                  <a:cubicBezTo>
                    <a:pt x="3" y="404"/>
                    <a:pt x="7" y="400"/>
                    <a:pt x="11" y="400"/>
                  </a:cubicBezTo>
                  <a:cubicBezTo>
                    <a:pt x="16" y="400"/>
                    <a:pt x="20" y="404"/>
                    <a:pt x="20" y="409"/>
                  </a:cubicBezTo>
                  <a:lnTo>
                    <a:pt x="20" y="409"/>
                  </a:lnTo>
                  <a:cubicBezTo>
                    <a:pt x="20" y="413"/>
                    <a:pt x="16" y="417"/>
                    <a:pt x="11" y="417"/>
                  </a:cubicBezTo>
                  <a:cubicBezTo>
                    <a:pt x="7" y="417"/>
                    <a:pt x="3" y="413"/>
                    <a:pt x="3" y="409"/>
                  </a:cubicBezTo>
                  <a:close/>
                  <a:moveTo>
                    <a:pt x="3" y="375"/>
                  </a:moveTo>
                  <a:lnTo>
                    <a:pt x="3" y="375"/>
                  </a:lnTo>
                  <a:cubicBezTo>
                    <a:pt x="3" y="371"/>
                    <a:pt x="7" y="367"/>
                    <a:pt x="11" y="367"/>
                  </a:cubicBezTo>
                  <a:cubicBezTo>
                    <a:pt x="16" y="367"/>
                    <a:pt x="20" y="371"/>
                    <a:pt x="20" y="375"/>
                  </a:cubicBezTo>
                  <a:lnTo>
                    <a:pt x="20" y="375"/>
                  </a:lnTo>
                  <a:cubicBezTo>
                    <a:pt x="20" y="380"/>
                    <a:pt x="16" y="384"/>
                    <a:pt x="11" y="384"/>
                  </a:cubicBezTo>
                  <a:cubicBezTo>
                    <a:pt x="7" y="384"/>
                    <a:pt x="3" y="380"/>
                    <a:pt x="3" y="375"/>
                  </a:cubicBezTo>
                  <a:close/>
                  <a:moveTo>
                    <a:pt x="3" y="342"/>
                  </a:moveTo>
                  <a:lnTo>
                    <a:pt x="3" y="342"/>
                  </a:lnTo>
                  <a:cubicBezTo>
                    <a:pt x="3" y="337"/>
                    <a:pt x="7" y="334"/>
                    <a:pt x="11" y="334"/>
                  </a:cubicBezTo>
                  <a:cubicBezTo>
                    <a:pt x="16" y="334"/>
                    <a:pt x="20" y="337"/>
                    <a:pt x="20" y="342"/>
                  </a:cubicBezTo>
                  <a:lnTo>
                    <a:pt x="20" y="342"/>
                  </a:lnTo>
                  <a:cubicBezTo>
                    <a:pt x="20" y="347"/>
                    <a:pt x="16" y="350"/>
                    <a:pt x="11" y="350"/>
                  </a:cubicBezTo>
                  <a:cubicBezTo>
                    <a:pt x="7" y="350"/>
                    <a:pt x="3" y="347"/>
                    <a:pt x="3" y="342"/>
                  </a:cubicBezTo>
                  <a:close/>
                  <a:moveTo>
                    <a:pt x="3" y="309"/>
                  </a:moveTo>
                  <a:lnTo>
                    <a:pt x="3" y="309"/>
                  </a:lnTo>
                  <a:cubicBezTo>
                    <a:pt x="3" y="304"/>
                    <a:pt x="7" y="300"/>
                    <a:pt x="11" y="300"/>
                  </a:cubicBezTo>
                  <a:cubicBezTo>
                    <a:pt x="16" y="300"/>
                    <a:pt x="20" y="304"/>
                    <a:pt x="20" y="309"/>
                  </a:cubicBezTo>
                  <a:lnTo>
                    <a:pt x="20" y="309"/>
                  </a:lnTo>
                  <a:cubicBezTo>
                    <a:pt x="20" y="313"/>
                    <a:pt x="16" y="317"/>
                    <a:pt x="11" y="317"/>
                  </a:cubicBezTo>
                  <a:cubicBezTo>
                    <a:pt x="7" y="317"/>
                    <a:pt x="3" y="313"/>
                    <a:pt x="3" y="309"/>
                  </a:cubicBezTo>
                  <a:close/>
                  <a:moveTo>
                    <a:pt x="3" y="275"/>
                  </a:moveTo>
                  <a:lnTo>
                    <a:pt x="3" y="275"/>
                  </a:lnTo>
                  <a:cubicBezTo>
                    <a:pt x="3" y="271"/>
                    <a:pt x="7" y="267"/>
                    <a:pt x="11" y="267"/>
                  </a:cubicBezTo>
                  <a:cubicBezTo>
                    <a:pt x="16" y="267"/>
                    <a:pt x="20" y="271"/>
                    <a:pt x="20" y="275"/>
                  </a:cubicBezTo>
                  <a:lnTo>
                    <a:pt x="20" y="275"/>
                  </a:lnTo>
                  <a:cubicBezTo>
                    <a:pt x="20" y="280"/>
                    <a:pt x="16" y="284"/>
                    <a:pt x="11" y="284"/>
                  </a:cubicBezTo>
                  <a:cubicBezTo>
                    <a:pt x="7" y="284"/>
                    <a:pt x="3" y="280"/>
                    <a:pt x="3" y="275"/>
                  </a:cubicBezTo>
                  <a:close/>
                  <a:moveTo>
                    <a:pt x="3" y="242"/>
                  </a:moveTo>
                  <a:lnTo>
                    <a:pt x="3" y="242"/>
                  </a:lnTo>
                  <a:cubicBezTo>
                    <a:pt x="3" y="237"/>
                    <a:pt x="7" y="234"/>
                    <a:pt x="11" y="234"/>
                  </a:cubicBezTo>
                  <a:cubicBezTo>
                    <a:pt x="16" y="234"/>
                    <a:pt x="20" y="237"/>
                    <a:pt x="20" y="242"/>
                  </a:cubicBezTo>
                  <a:lnTo>
                    <a:pt x="20" y="242"/>
                  </a:lnTo>
                  <a:cubicBezTo>
                    <a:pt x="20" y="247"/>
                    <a:pt x="16" y="250"/>
                    <a:pt x="11" y="250"/>
                  </a:cubicBezTo>
                  <a:cubicBezTo>
                    <a:pt x="7" y="250"/>
                    <a:pt x="3" y="247"/>
                    <a:pt x="3" y="242"/>
                  </a:cubicBezTo>
                  <a:close/>
                  <a:moveTo>
                    <a:pt x="3" y="209"/>
                  </a:moveTo>
                  <a:lnTo>
                    <a:pt x="3" y="209"/>
                  </a:lnTo>
                  <a:cubicBezTo>
                    <a:pt x="3" y="204"/>
                    <a:pt x="7" y="200"/>
                    <a:pt x="11" y="200"/>
                  </a:cubicBezTo>
                  <a:cubicBezTo>
                    <a:pt x="16" y="200"/>
                    <a:pt x="20" y="204"/>
                    <a:pt x="20" y="209"/>
                  </a:cubicBezTo>
                  <a:lnTo>
                    <a:pt x="20" y="209"/>
                  </a:lnTo>
                  <a:cubicBezTo>
                    <a:pt x="20" y="213"/>
                    <a:pt x="16" y="217"/>
                    <a:pt x="11" y="217"/>
                  </a:cubicBezTo>
                  <a:cubicBezTo>
                    <a:pt x="7" y="217"/>
                    <a:pt x="3" y="213"/>
                    <a:pt x="3" y="209"/>
                  </a:cubicBezTo>
                  <a:close/>
                  <a:moveTo>
                    <a:pt x="3" y="175"/>
                  </a:moveTo>
                  <a:lnTo>
                    <a:pt x="3" y="175"/>
                  </a:lnTo>
                  <a:cubicBezTo>
                    <a:pt x="3" y="171"/>
                    <a:pt x="7" y="167"/>
                    <a:pt x="12" y="167"/>
                  </a:cubicBezTo>
                  <a:cubicBezTo>
                    <a:pt x="16" y="167"/>
                    <a:pt x="20" y="171"/>
                    <a:pt x="20" y="175"/>
                  </a:cubicBezTo>
                  <a:lnTo>
                    <a:pt x="20" y="175"/>
                  </a:lnTo>
                  <a:cubicBezTo>
                    <a:pt x="20" y="180"/>
                    <a:pt x="16" y="184"/>
                    <a:pt x="12" y="184"/>
                  </a:cubicBezTo>
                  <a:cubicBezTo>
                    <a:pt x="7" y="184"/>
                    <a:pt x="3" y="180"/>
                    <a:pt x="3" y="175"/>
                  </a:cubicBezTo>
                  <a:close/>
                  <a:moveTo>
                    <a:pt x="3" y="142"/>
                  </a:moveTo>
                  <a:lnTo>
                    <a:pt x="3" y="142"/>
                  </a:lnTo>
                  <a:cubicBezTo>
                    <a:pt x="3" y="137"/>
                    <a:pt x="7" y="134"/>
                    <a:pt x="12" y="134"/>
                  </a:cubicBezTo>
                  <a:cubicBezTo>
                    <a:pt x="16" y="134"/>
                    <a:pt x="20" y="137"/>
                    <a:pt x="20" y="142"/>
                  </a:cubicBezTo>
                  <a:lnTo>
                    <a:pt x="20" y="142"/>
                  </a:lnTo>
                  <a:cubicBezTo>
                    <a:pt x="20" y="147"/>
                    <a:pt x="16" y="150"/>
                    <a:pt x="12" y="150"/>
                  </a:cubicBezTo>
                  <a:cubicBezTo>
                    <a:pt x="7" y="150"/>
                    <a:pt x="3" y="147"/>
                    <a:pt x="3" y="142"/>
                  </a:cubicBezTo>
                  <a:close/>
                  <a:moveTo>
                    <a:pt x="3" y="109"/>
                  </a:moveTo>
                  <a:lnTo>
                    <a:pt x="3" y="109"/>
                  </a:lnTo>
                  <a:cubicBezTo>
                    <a:pt x="3" y="104"/>
                    <a:pt x="7" y="100"/>
                    <a:pt x="12" y="100"/>
                  </a:cubicBezTo>
                  <a:cubicBezTo>
                    <a:pt x="16" y="100"/>
                    <a:pt x="20" y="104"/>
                    <a:pt x="20" y="109"/>
                  </a:cubicBezTo>
                  <a:lnTo>
                    <a:pt x="20" y="109"/>
                  </a:lnTo>
                  <a:cubicBezTo>
                    <a:pt x="20" y="113"/>
                    <a:pt x="16" y="117"/>
                    <a:pt x="12" y="117"/>
                  </a:cubicBezTo>
                  <a:cubicBezTo>
                    <a:pt x="7" y="117"/>
                    <a:pt x="3" y="113"/>
                    <a:pt x="3" y="109"/>
                  </a:cubicBezTo>
                  <a:close/>
                  <a:moveTo>
                    <a:pt x="3" y="75"/>
                  </a:moveTo>
                  <a:lnTo>
                    <a:pt x="3" y="75"/>
                  </a:lnTo>
                  <a:cubicBezTo>
                    <a:pt x="3" y="71"/>
                    <a:pt x="7" y="67"/>
                    <a:pt x="12" y="67"/>
                  </a:cubicBezTo>
                  <a:cubicBezTo>
                    <a:pt x="16" y="67"/>
                    <a:pt x="20" y="71"/>
                    <a:pt x="20" y="75"/>
                  </a:cubicBezTo>
                  <a:lnTo>
                    <a:pt x="20" y="75"/>
                  </a:lnTo>
                  <a:cubicBezTo>
                    <a:pt x="20" y="80"/>
                    <a:pt x="16" y="84"/>
                    <a:pt x="12" y="84"/>
                  </a:cubicBezTo>
                  <a:cubicBezTo>
                    <a:pt x="7" y="84"/>
                    <a:pt x="3" y="80"/>
                    <a:pt x="3" y="75"/>
                  </a:cubicBezTo>
                  <a:close/>
                  <a:moveTo>
                    <a:pt x="3" y="42"/>
                  </a:moveTo>
                  <a:lnTo>
                    <a:pt x="3" y="42"/>
                  </a:lnTo>
                  <a:cubicBezTo>
                    <a:pt x="3" y="37"/>
                    <a:pt x="7" y="34"/>
                    <a:pt x="12" y="34"/>
                  </a:cubicBezTo>
                  <a:cubicBezTo>
                    <a:pt x="16" y="34"/>
                    <a:pt x="20" y="37"/>
                    <a:pt x="20" y="42"/>
                  </a:cubicBezTo>
                  <a:lnTo>
                    <a:pt x="20" y="42"/>
                  </a:lnTo>
                  <a:cubicBezTo>
                    <a:pt x="20" y="47"/>
                    <a:pt x="16" y="50"/>
                    <a:pt x="12" y="50"/>
                  </a:cubicBezTo>
                  <a:cubicBezTo>
                    <a:pt x="7" y="50"/>
                    <a:pt x="3" y="47"/>
                    <a:pt x="3" y="42"/>
                  </a:cubicBezTo>
                  <a:close/>
                  <a:moveTo>
                    <a:pt x="3" y="9"/>
                  </a:moveTo>
                  <a:lnTo>
                    <a:pt x="3" y="9"/>
                  </a:lnTo>
                  <a:cubicBezTo>
                    <a:pt x="3" y="4"/>
                    <a:pt x="7" y="0"/>
                    <a:pt x="12" y="0"/>
                  </a:cubicBezTo>
                  <a:cubicBezTo>
                    <a:pt x="16" y="0"/>
                    <a:pt x="20" y="4"/>
                    <a:pt x="20" y="9"/>
                  </a:cubicBezTo>
                  <a:lnTo>
                    <a:pt x="20" y="9"/>
                  </a:lnTo>
                  <a:cubicBezTo>
                    <a:pt x="20" y="13"/>
                    <a:pt x="16" y="17"/>
                    <a:pt x="12" y="17"/>
                  </a:cubicBezTo>
                  <a:cubicBezTo>
                    <a:pt x="7" y="17"/>
                    <a:pt x="3" y="13"/>
                    <a:pt x="3" y="9"/>
                  </a:cubicBez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478480" y="2260440"/>
              <a:ext cx="3240" cy="454320"/>
            </a:xfrm>
            <a:custGeom>
              <a:avLst/>
              <a:gdLst/>
              <a:ahLst/>
              <a:rect l="l" t="t" r="r" b="b"/>
              <a:pathLst>
                <a:path w="20" h="2385">
                  <a:moveTo>
                    <a:pt x="0" y="2376"/>
                  </a:moveTo>
                  <a:lnTo>
                    <a:pt x="0" y="2376"/>
                  </a:lnTo>
                  <a:cubicBezTo>
                    <a:pt x="0" y="2372"/>
                    <a:pt x="4" y="2368"/>
                    <a:pt x="8" y="2368"/>
                  </a:cubicBezTo>
                  <a:cubicBezTo>
                    <a:pt x="13" y="2368"/>
                    <a:pt x="17" y="2372"/>
                    <a:pt x="17" y="2376"/>
                  </a:cubicBezTo>
                  <a:lnTo>
                    <a:pt x="17" y="2376"/>
                  </a:lnTo>
                  <a:cubicBezTo>
                    <a:pt x="17" y="2381"/>
                    <a:pt x="13" y="2385"/>
                    <a:pt x="8" y="2385"/>
                  </a:cubicBezTo>
                  <a:cubicBezTo>
                    <a:pt x="4" y="2385"/>
                    <a:pt x="0" y="2381"/>
                    <a:pt x="0" y="2376"/>
                  </a:cubicBezTo>
                  <a:close/>
                  <a:moveTo>
                    <a:pt x="0" y="2343"/>
                  </a:moveTo>
                  <a:lnTo>
                    <a:pt x="0" y="2343"/>
                  </a:lnTo>
                  <a:cubicBezTo>
                    <a:pt x="0" y="2338"/>
                    <a:pt x="4" y="2335"/>
                    <a:pt x="9" y="2335"/>
                  </a:cubicBezTo>
                  <a:cubicBezTo>
                    <a:pt x="13" y="2335"/>
                    <a:pt x="17" y="2338"/>
                    <a:pt x="17" y="2343"/>
                  </a:cubicBezTo>
                  <a:lnTo>
                    <a:pt x="17" y="2343"/>
                  </a:lnTo>
                  <a:cubicBezTo>
                    <a:pt x="17" y="2348"/>
                    <a:pt x="13" y="2351"/>
                    <a:pt x="9" y="2351"/>
                  </a:cubicBezTo>
                  <a:cubicBezTo>
                    <a:pt x="4" y="2351"/>
                    <a:pt x="0" y="2348"/>
                    <a:pt x="0" y="2343"/>
                  </a:cubicBezTo>
                  <a:close/>
                  <a:moveTo>
                    <a:pt x="0" y="2310"/>
                  </a:moveTo>
                  <a:lnTo>
                    <a:pt x="0" y="2310"/>
                  </a:lnTo>
                  <a:cubicBezTo>
                    <a:pt x="0" y="2305"/>
                    <a:pt x="4" y="2301"/>
                    <a:pt x="9" y="2301"/>
                  </a:cubicBezTo>
                  <a:cubicBezTo>
                    <a:pt x="13" y="2301"/>
                    <a:pt x="17" y="2305"/>
                    <a:pt x="17" y="2310"/>
                  </a:cubicBezTo>
                  <a:lnTo>
                    <a:pt x="17" y="2310"/>
                  </a:lnTo>
                  <a:cubicBezTo>
                    <a:pt x="17" y="2314"/>
                    <a:pt x="13" y="2318"/>
                    <a:pt x="9" y="2318"/>
                  </a:cubicBezTo>
                  <a:cubicBezTo>
                    <a:pt x="4" y="2318"/>
                    <a:pt x="0" y="2314"/>
                    <a:pt x="0" y="2310"/>
                  </a:cubicBezTo>
                  <a:close/>
                  <a:moveTo>
                    <a:pt x="0" y="2276"/>
                  </a:moveTo>
                  <a:lnTo>
                    <a:pt x="0" y="2276"/>
                  </a:lnTo>
                  <a:cubicBezTo>
                    <a:pt x="0" y="2272"/>
                    <a:pt x="4" y="2268"/>
                    <a:pt x="9" y="2268"/>
                  </a:cubicBezTo>
                  <a:cubicBezTo>
                    <a:pt x="13" y="2268"/>
                    <a:pt x="17" y="2272"/>
                    <a:pt x="17" y="2276"/>
                  </a:cubicBezTo>
                  <a:lnTo>
                    <a:pt x="17" y="2276"/>
                  </a:lnTo>
                  <a:cubicBezTo>
                    <a:pt x="17" y="2281"/>
                    <a:pt x="13" y="2285"/>
                    <a:pt x="9" y="2285"/>
                  </a:cubicBezTo>
                  <a:cubicBezTo>
                    <a:pt x="4" y="2285"/>
                    <a:pt x="0" y="2281"/>
                    <a:pt x="0" y="2276"/>
                  </a:cubicBezTo>
                  <a:close/>
                  <a:moveTo>
                    <a:pt x="0" y="2243"/>
                  </a:moveTo>
                  <a:lnTo>
                    <a:pt x="0" y="2243"/>
                  </a:lnTo>
                  <a:cubicBezTo>
                    <a:pt x="0" y="2238"/>
                    <a:pt x="4" y="2235"/>
                    <a:pt x="9" y="2235"/>
                  </a:cubicBezTo>
                  <a:cubicBezTo>
                    <a:pt x="13" y="2235"/>
                    <a:pt x="17" y="2238"/>
                    <a:pt x="17" y="2243"/>
                  </a:cubicBezTo>
                  <a:lnTo>
                    <a:pt x="17" y="2243"/>
                  </a:lnTo>
                  <a:cubicBezTo>
                    <a:pt x="17" y="2248"/>
                    <a:pt x="13" y="2251"/>
                    <a:pt x="9" y="2251"/>
                  </a:cubicBezTo>
                  <a:cubicBezTo>
                    <a:pt x="4" y="2251"/>
                    <a:pt x="0" y="2248"/>
                    <a:pt x="0" y="2243"/>
                  </a:cubicBezTo>
                  <a:close/>
                  <a:moveTo>
                    <a:pt x="0" y="2210"/>
                  </a:moveTo>
                  <a:lnTo>
                    <a:pt x="0" y="2210"/>
                  </a:lnTo>
                  <a:cubicBezTo>
                    <a:pt x="0" y="2205"/>
                    <a:pt x="4" y="2201"/>
                    <a:pt x="9" y="2201"/>
                  </a:cubicBezTo>
                  <a:cubicBezTo>
                    <a:pt x="13" y="2201"/>
                    <a:pt x="17" y="2205"/>
                    <a:pt x="17" y="2210"/>
                  </a:cubicBezTo>
                  <a:lnTo>
                    <a:pt x="17" y="2210"/>
                  </a:lnTo>
                  <a:cubicBezTo>
                    <a:pt x="17" y="2214"/>
                    <a:pt x="13" y="2218"/>
                    <a:pt x="9" y="2218"/>
                  </a:cubicBezTo>
                  <a:cubicBezTo>
                    <a:pt x="4" y="2218"/>
                    <a:pt x="0" y="2214"/>
                    <a:pt x="0" y="2210"/>
                  </a:cubicBezTo>
                  <a:close/>
                  <a:moveTo>
                    <a:pt x="0" y="2176"/>
                  </a:moveTo>
                  <a:lnTo>
                    <a:pt x="0" y="2176"/>
                  </a:lnTo>
                  <a:cubicBezTo>
                    <a:pt x="0" y="2172"/>
                    <a:pt x="4" y="2168"/>
                    <a:pt x="9" y="2168"/>
                  </a:cubicBezTo>
                  <a:cubicBezTo>
                    <a:pt x="13" y="2168"/>
                    <a:pt x="17" y="2172"/>
                    <a:pt x="17" y="2176"/>
                  </a:cubicBezTo>
                  <a:lnTo>
                    <a:pt x="17" y="2176"/>
                  </a:lnTo>
                  <a:cubicBezTo>
                    <a:pt x="17" y="2181"/>
                    <a:pt x="13" y="2185"/>
                    <a:pt x="9" y="2185"/>
                  </a:cubicBezTo>
                  <a:cubicBezTo>
                    <a:pt x="4" y="2185"/>
                    <a:pt x="0" y="2181"/>
                    <a:pt x="0" y="2176"/>
                  </a:cubicBezTo>
                  <a:close/>
                  <a:moveTo>
                    <a:pt x="0" y="2143"/>
                  </a:moveTo>
                  <a:lnTo>
                    <a:pt x="0" y="2143"/>
                  </a:lnTo>
                  <a:cubicBezTo>
                    <a:pt x="0" y="2138"/>
                    <a:pt x="4" y="2135"/>
                    <a:pt x="9" y="2135"/>
                  </a:cubicBezTo>
                  <a:cubicBezTo>
                    <a:pt x="13" y="2135"/>
                    <a:pt x="17" y="2138"/>
                    <a:pt x="17" y="2143"/>
                  </a:cubicBezTo>
                  <a:lnTo>
                    <a:pt x="17" y="2143"/>
                  </a:lnTo>
                  <a:cubicBezTo>
                    <a:pt x="17" y="2148"/>
                    <a:pt x="13" y="2151"/>
                    <a:pt x="9" y="2151"/>
                  </a:cubicBezTo>
                  <a:cubicBezTo>
                    <a:pt x="4" y="2151"/>
                    <a:pt x="0" y="2148"/>
                    <a:pt x="0" y="2143"/>
                  </a:cubicBezTo>
                  <a:close/>
                  <a:moveTo>
                    <a:pt x="0" y="2110"/>
                  </a:moveTo>
                  <a:lnTo>
                    <a:pt x="0" y="2110"/>
                  </a:lnTo>
                  <a:cubicBezTo>
                    <a:pt x="0" y="2105"/>
                    <a:pt x="4" y="2101"/>
                    <a:pt x="9" y="2101"/>
                  </a:cubicBezTo>
                  <a:cubicBezTo>
                    <a:pt x="13" y="2101"/>
                    <a:pt x="17" y="2105"/>
                    <a:pt x="17" y="2110"/>
                  </a:cubicBezTo>
                  <a:lnTo>
                    <a:pt x="17" y="2110"/>
                  </a:lnTo>
                  <a:cubicBezTo>
                    <a:pt x="17" y="2114"/>
                    <a:pt x="13" y="2118"/>
                    <a:pt x="9" y="2118"/>
                  </a:cubicBezTo>
                  <a:cubicBezTo>
                    <a:pt x="4" y="2118"/>
                    <a:pt x="0" y="2114"/>
                    <a:pt x="0" y="2110"/>
                  </a:cubicBezTo>
                  <a:close/>
                  <a:moveTo>
                    <a:pt x="1" y="2076"/>
                  </a:moveTo>
                  <a:lnTo>
                    <a:pt x="1" y="2076"/>
                  </a:lnTo>
                  <a:cubicBezTo>
                    <a:pt x="1" y="2072"/>
                    <a:pt x="4" y="2068"/>
                    <a:pt x="9" y="2068"/>
                  </a:cubicBezTo>
                  <a:cubicBezTo>
                    <a:pt x="13" y="2068"/>
                    <a:pt x="17" y="2072"/>
                    <a:pt x="17" y="2076"/>
                  </a:cubicBezTo>
                  <a:lnTo>
                    <a:pt x="17" y="2076"/>
                  </a:lnTo>
                  <a:cubicBezTo>
                    <a:pt x="17" y="2081"/>
                    <a:pt x="13" y="2085"/>
                    <a:pt x="9" y="2085"/>
                  </a:cubicBezTo>
                  <a:cubicBezTo>
                    <a:pt x="4" y="2085"/>
                    <a:pt x="1" y="2081"/>
                    <a:pt x="1" y="2076"/>
                  </a:cubicBezTo>
                  <a:close/>
                  <a:moveTo>
                    <a:pt x="1" y="2043"/>
                  </a:moveTo>
                  <a:lnTo>
                    <a:pt x="1" y="2043"/>
                  </a:lnTo>
                  <a:cubicBezTo>
                    <a:pt x="1" y="2038"/>
                    <a:pt x="4" y="2035"/>
                    <a:pt x="9" y="2035"/>
                  </a:cubicBezTo>
                  <a:cubicBezTo>
                    <a:pt x="14" y="2035"/>
                    <a:pt x="17" y="2038"/>
                    <a:pt x="17" y="2043"/>
                  </a:cubicBezTo>
                  <a:lnTo>
                    <a:pt x="17" y="2043"/>
                  </a:lnTo>
                  <a:cubicBezTo>
                    <a:pt x="17" y="2048"/>
                    <a:pt x="14" y="2051"/>
                    <a:pt x="9" y="2051"/>
                  </a:cubicBezTo>
                  <a:cubicBezTo>
                    <a:pt x="4" y="2051"/>
                    <a:pt x="1" y="2048"/>
                    <a:pt x="1" y="2043"/>
                  </a:cubicBezTo>
                  <a:close/>
                  <a:moveTo>
                    <a:pt x="1" y="2010"/>
                  </a:moveTo>
                  <a:lnTo>
                    <a:pt x="1" y="2010"/>
                  </a:lnTo>
                  <a:cubicBezTo>
                    <a:pt x="1" y="2005"/>
                    <a:pt x="4" y="2001"/>
                    <a:pt x="9" y="2001"/>
                  </a:cubicBezTo>
                  <a:cubicBezTo>
                    <a:pt x="14" y="2001"/>
                    <a:pt x="17" y="2005"/>
                    <a:pt x="17" y="2010"/>
                  </a:cubicBezTo>
                  <a:lnTo>
                    <a:pt x="17" y="2010"/>
                  </a:lnTo>
                  <a:cubicBezTo>
                    <a:pt x="17" y="2014"/>
                    <a:pt x="14" y="2018"/>
                    <a:pt x="9" y="2018"/>
                  </a:cubicBezTo>
                  <a:cubicBezTo>
                    <a:pt x="4" y="2018"/>
                    <a:pt x="1" y="2014"/>
                    <a:pt x="1" y="2010"/>
                  </a:cubicBezTo>
                  <a:close/>
                  <a:moveTo>
                    <a:pt x="1" y="1976"/>
                  </a:moveTo>
                  <a:lnTo>
                    <a:pt x="1" y="1976"/>
                  </a:lnTo>
                  <a:cubicBezTo>
                    <a:pt x="1" y="1972"/>
                    <a:pt x="4" y="1968"/>
                    <a:pt x="9" y="1968"/>
                  </a:cubicBezTo>
                  <a:cubicBezTo>
                    <a:pt x="14" y="1968"/>
                    <a:pt x="17" y="1972"/>
                    <a:pt x="17" y="1976"/>
                  </a:cubicBezTo>
                  <a:lnTo>
                    <a:pt x="17" y="1976"/>
                  </a:lnTo>
                  <a:cubicBezTo>
                    <a:pt x="17" y="1981"/>
                    <a:pt x="14" y="1985"/>
                    <a:pt x="9" y="1985"/>
                  </a:cubicBezTo>
                  <a:cubicBezTo>
                    <a:pt x="4" y="1985"/>
                    <a:pt x="1" y="1981"/>
                    <a:pt x="1" y="1976"/>
                  </a:cubicBezTo>
                  <a:close/>
                  <a:moveTo>
                    <a:pt x="1" y="1943"/>
                  </a:moveTo>
                  <a:lnTo>
                    <a:pt x="1" y="1943"/>
                  </a:lnTo>
                  <a:cubicBezTo>
                    <a:pt x="1" y="1938"/>
                    <a:pt x="4" y="1935"/>
                    <a:pt x="9" y="1935"/>
                  </a:cubicBezTo>
                  <a:cubicBezTo>
                    <a:pt x="14" y="1935"/>
                    <a:pt x="17" y="1938"/>
                    <a:pt x="17" y="1943"/>
                  </a:cubicBezTo>
                  <a:lnTo>
                    <a:pt x="17" y="1943"/>
                  </a:lnTo>
                  <a:cubicBezTo>
                    <a:pt x="17" y="1948"/>
                    <a:pt x="14" y="1951"/>
                    <a:pt x="9" y="1951"/>
                  </a:cubicBezTo>
                  <a:cubicBezTo>
                    <a:pt x="4" y="1951"/>
                    <a:pt x="1" y="1948"/>
                    <a:pt x="1" y="1943"/>
                  </a:cubicBezTo>
                  <a:close/>
                  <a:moveTo>
                    <a:pt x="1" y="1910"/>
                  </a:moveTo>
                  <a:lnTo>
                    <a:pt x="1" y="1910"/>
                  </a:lnTo>
                  <a:cubicBezTo>
                    <a:pt x="1" y="1905"/>
                    <a:pt x="4" y="1901"/>
                    <a:pt x="9" y="1901"/>
                  </a:cubicBezTo>
                  <a:cubicBezTo>
                    <a:pt x="14" y="1901"/>
                    <a:pt x="17" y="1905"/>
                    <a:pt x="17" y="1910"/>
                  </a:cubicBezTo>
                  <a:lnTo>
                    <a:pt x="17" y="1910"/>
                  </a:lnTo>
                  <a:cubicBezTo>
                    <a:pt x="17" y="1914"/>
                    <a:pt x="14" y="1918"/>
                    <a:pt x="9" y="1918"/>
                  </a:cubicBezTo>
                  <a:cubicBezTo>
                    <a:pt x="4" y="1918"/>
                    <a:pt x="1" y="1914"/>
                    <a:pt x="1" y="1910"/>
                  </a:cubicBezTo>
                  <a:close/>
                  <a:moveTo>
                    <a:pt x="1" y="1876"/>
                  </a:moveTo>
                  <a:lnTo>
                    <a:pt x="1" y="1876"/>
                  </a:lnTo>
                  <a:cubicBezTo>
                    <a:pt x="1" y="1872"/>
                    <a:pt x="5" y="1868"/>
                    <a:pt x="9" y="1868"/>
                  </a:cubicBezTo>
                  <a:cubicBezTo>
                    <a:pt x="14" y="1868"/>
                    <a:pt x="17" y="1872"/>
                    <a:pt x="17" y="1876"/>
                  </a:cubicBezTo>
                  <a:lnTo>
                    <a:pt x="17" y="1876"/>
                  </a:lnTo>
                  <a:cubicBezTo>
                    <a:pt x="17" y="1881"/>
                    <a:pt x="14" y="1885"/>
                    <a:pt x="9" y="1885"/>
                  </a:cubicBezTo>
                  <a:cubicBezTo>
                    <a:pt x="5" y="1885"/>
                    <a:pt x="1" y="1881"/>
                    <a:pt x="1" y="1876"/>
                  </a:cubicBezTo>
                  <a:close/>
                  <a:moveTo>
                    <a:pt x="1" y="1843"/>
                  </a:moveTo>
                  <a:lnTo>
                    <a:pt x="1" y="1843"/>
                  </a:lnTo>
                  <a:cubicBezTo>
                    <a:pt x="1" y="1838"/>
                    <a:pt x="5" y="1834"/>
                    <a:pt x="9" y="1834"/>
                  </a:cubicBezTo>
                  <a:cubicBezTo>
                    <a:pt x="14" y="1834"/>
                    <a:pt x="18" y="1838"/>
                    <a:pt x="18" y="1843"/>
                  </a:cubicBezTo>
                  <a:lnTo>
                    <a:pt x="18" y="1843"/>
                  </a:lnTo>
                  <a:cubicBezTo>
                    <a:pt x="18" y="1847"/>
                    <a:pt x="14" y="1851"/>
                    <a:pt x="9" y="1851"/>
                  </a:cubicBezTo>
                  <a:cubicBezTo>
                    <a:pt x="5" y="1851"/>
                    <a:pt x="1" y="1847"/>
                    <a:pt x="1" y="1843"/>
                  </a:cubicBezTo>
                  <a:close/>
                  <a:moveTo>
                    <a:pt x="1" y="1809"/>
                  </a:moveTo>
                  <a:lnTo>
                    <a:pt x="1" y="1809"/>
                  </a:lnTo>
                  <a:cubicBezTo>
                    <a:pt x="1" y="1805"/>
                    <a:pt x="5" y="1801"/>
                    <a:pt x="9" y="1801"/>
                  </a:cubicBezTo>
                  <a:cubicBezTo>
                    <a:pt x="14" y="1801"/>
                    <a:pt x="18" y="1805"/>
                    <a:pt x="18" y="1809"/>
                  </a:cubicBezTo>
                  <a:lnTo>
                    <a:pt x="18" y="1809"/>
                  </a:lnTo>
                  <a:cubicBezTo>
                    <a:pt x="18" y="1814"/>
                    <a:pt x="14" y="1818"/>
                    <a:pt x="9" y="1818"/>
                  </a:cubicBezTo>
                  <a:cubicBezTo>
                    <a:pt x="5" y="1818"/>
                    <a:pt x="1" y="1814"/>
                    <a:pt x="1" y="1809"/>
                  </a:cubicBezTo>
                  <a:close/>
                  <a:moveTo>
                    <a:pt x="1" y="1776"/>
                  </a:moveTo>
                  <a:lnTo>
                    <a:pt x="1" y="1776"/>
                  </a:lnTo>
                  <a:cubicBezTo>
                    <a:pt x="1" y="1772"/>
                    <a:pt x="5" y="1768"/>
                    <a:pt x="9" y="1768"/>
                  </a:cubicBezTo>
                  <a:cubicBezTo>
                    <a:pt x="14" y="1768"/>
                    <a:pt x="18" y="1772"/>
                    <a:pt x="18" y="1776"/>
                  </a:cubicBezTo>
                  <a:lnTo>
                    <a:pt x="18" y="1776"/>
                  </a:lnTo>
                  <a:cubicBezTo>
                    <a:pt x="18" y="1781"/>
                    <a:pt x="14" y="1784"/>
                    <a:pt x="9" y="1784"/>
                  </a:cubicBezTo>
                  <a:cubicBezTo>
                    <a:pt x="5" y="1784"/>
                    <a:pt x="1" y="1781"/>
                    <a:pt x="1" y="1776"/>
                  </a:cubicBezTo>
                  <a:close/>
                  <a:moveTo>
                    <a:pt x="1" y="1743"/>
                  </a:moveTo>
                  <a:lnTo>
                    <a:pt x="1" y="1743"/>
                  </a:lnTo>
                  <a:cubicBezTo>
                    <a:pt x="1" y="1738"/>
                    <a:pt x="5" y="1734"/>
                    <a:pt x="9" y="1734"/>
                  </a:cubicBezTo>
                  <a:cubicBezTo>
                    <a:pt x="14" y="1734"/>
                    <a:pt x="18" y="1738"/>
                    <a:pt x="18" y="1743"/>
                  </a:cubicBezTo>
                  <a:lnTo>
                    <a:pt x="18" y="1743"/>
                  </a:lnTo>
                  <a:cubicBezTo>
                    <a:pt x="18" y="1747"/>
                    <a:pt x="14" y="1751"/>
                    <a:pt x="9" y="1751"/>
                  </a:cubicBezTo>
                  <a:cubicBezTo>
                    <a:pt x="5" y="1751"/>
                    <a:pt x="1" y="1747"/>
                    <a:pt x="1" y="1743"/>
                  </a:cubicBezTo>
                  <a:close/>
                  <a:moveTo>
                    <a:pt x="1" y="1709"/>
                  </a:moveTo>
                  <a:lnTo>
                    <a:pt x="1" y="1709"/>
                  </a:lnTo>
                  <a:cubicBezTo>
                    <a:pt x="1" y="1705"/>
                    <a:pt x="5" y="1701"/>
                    <a:pt x="9" y="1701"/>
                  </a:cubicBezTo>
                  <a:cubicBezTo>
                    <a:pt x="14" y="1701"/>
                    <a:pt x="18" y="1705"/>
                    <a:pt x="18" y="1709"/>
                  </a:cubicBezTo>
                  <a:lnTo>
                    <a:pt x="18" y="1709"/>
                  </a:lnTo>
                  <a:cubicBezTo>
                    <a:pt x="18" y="1714"/>
                    <a:pt x="14" y="1718"/>
                    <a:pt x="9" y="1718"/>
                  </a:cubicBezTo>
                  <a:cubicBezTo>
                    <a:pt x="5" y="1718"/>
                    <a:pt x="1" y="1714"/>
                    <a:pt x="1" y="1709"/>
                  </a:cubicBezTo>
                  <a:close/>
                  <a:moveTo>
                    <a:pt x="1" y="1676"/>
                  </a:moveTo>
                  <a:lnTo>
                    <a:pt x="1" y="1676"/>
                  </a:lnTo>
                  <a:cubicBezTo>
                    <a:pt x="1" y="1671"/>
                    <a:pt x="5" y="1668"/>
                    <a:pt x="9" y="1668"/>
                  </a:cubicBezTo>
                  <a:cubicBezTo>
                    <a:pt x="14" y="1668"/>
                    <a:pt x="18" y="1671"/>
                    <a:pt x="18" y="1676"/>
                  </a:cubicBezTo>
                  <a:lnTo>
                    <a:pt x="18" y="1676"/>
                  </a:lnTo>
                  <a:cubicBezTo>
                    <a:pt x="18" y="1681"/>
                    <a:pt x="14" y="1684"/>
                    <a:pt x="9" y="1684"/>
                  </a:cubicBezTo>
                  <a:cubicBezTo>
                    <a:pt x="5" y="1684"/>
                    <a:pt x="1" y="1681"/>
                    <a:pt x="1" y="1676"/>
                  </a:cubicBezTo>
                  <a:close/>
                  <a:moveTo>
                    <a:pt x="1" y="1643"/>
                  </a:moveTo>
                  <a:lnTo>
                    <a:pt x="1" y="1643"/>
                  </a:lnTo>
                  <a:cubicBezTo>
                    <a:pt x="1" y="1638"/>
                    <a:pt x="5" y="1634"/>
                    <a:pt x="9" y="1634"/>
                  </a:cubicBezTo>
                  <a:cubicBezTo>
                    <a:pt x="14" y="1634"/>
                    <a:pt x="18" y="1638"/>
                    <a:pt x="18" y="1643"/>
                  </a:cubicBezTo>
                  <a:lnTo>
                    <a:pt x="18" y="1643"/>
                  </a:lnTo>
                  <a:cubicBezTo>
                    <a:pt x="18" y="1647"/>
                    <a:pt x="14" y="1651"/>
                    <a:pt x="9" y="1651"/>
                  </a:cubicBezTo>
                  <a:cubicBezTo>
                    <a:pt x="5" y="1651"/>
                    <a:pt x="1" y="1647"/>
                    <a:pt x="1" y="1643"/>
                  </a:cubicBezTo>
                  <a:close/>
                  <a:moveTo>
                    <a:pt x="1" y="1609"/>
                  </a:moveTo>
                  <a:lnTo>
                    <a:pt x="1" y="1609"/>
                  </a:lnTo>
                  <a:cubicBezTo>
                    <a:pt x="1" y="1605"/>
                    <a:pt x="5" y="1601"/>
                    <a:pt x="10" y="1601"/>
                  </a:cubicBezTo>
                  <a:cubicBezTo>
                    <a:pt x="14" y="1601"/>
                    <a:pt x="18" y="1605"/>
                    <a:pt x="18" y="1609"/>
                  </a:cubicBezTo>
                  <a:lnTo>
                    <a:pt x="18" y="1609"/>
                  </a:lnTo>
                  <a:cubicBezTo>
                    <a:pt x="18" y="1614"/>
                    <a:pt x="14" y="1618"/>
                    <a:pt x="10" y="1618"/>
                  </a:cubicBezTo>
                  <a:cubicBezTo>
                    <a:pt x="5" y="1618"/>
                    <a:pt x="1" y="1614"/>
                    <a:pt x="1" y="1609"/>
                  </a:cubicBezTo>
                  <a:close/>
                  <a:moveTo>
                    <a:pt x="1" y="1576"/>
                  </a:moveTo>
                  <a:lnTo>
                    <a:pt x="1" y="1576"/>
                  </a:lnTo>
                  <a:cubicBezTo>
                    <a:pt x="1" y="1571"/>
                    <a:pt x="5" y="1568"/>
                    <a:pt x="10" y="1568"/>
                  </a:cubicBezTo>
                  <a:cubicBezTo>
                    <a:pt x="14" y="1568"/>
                    <a:pt x="18" y="1571"/>
                    <a:pt x="18" y="1576"/>
                  </a:cubicBezTo>
                  <a:lnTo>
                    <a:pt x="18" y="1576"/>
                  </a:lnTo>
                  <a:cubicBezTo>
                    <a:pt x="18" y="1581"/>
                    <a:pt x="14" y="1584"/>
                    <a:pt x="10" y="1584"/>
                  </a:cubicBezTo>
                  <a:cubicBezTo>
                    <a:pt x="5" y="1584"/>
                    <a:pt x="1" y="1581"/>
                    <a:pt x="1" y="1576"/>
                  </a:cubicBezTo>
                  <a:close/>
                  <a:moveTo>
                    <a:pt x="1" y="1543"/>
                  </a:moveTo>
                  <a:lnTo>
                    <a:pt x="1" y="1543"/>
                  </a:lnTo>
                  <a:cubicBezTo>
                    <a:pt x="1" y="1538"/>
                    <a:pt x="5" y="1534"/>
                    <a:pt x="10" y="1534"/>
                  </a:cubicBezTo>
                  <a:cubicBezTo>
                    <a:pt x="14" y="1534"/>
                    <a:pt x="18" y="1538"/>
                    <a:pt x="18" y="1543"/>
                  </a:cubicBezTo>
                  <a:lnTo>
                    <a:pt x="18" y="1543"/>
                  </a:lnTo>
                  <a:cubicBezTo>
                    <a:pt x="18" y="1547"/>
                    <a:pt x="14" y="1551"/>
                    <a:pt x="10" y="1551"/>
                  </a:cubicBezTo>
                  <a:cubicBezTo>
                    <a:pt x="5" y="1551"/>
                    <a:pt x="1" y="1547"/>
                    <a:pt x="1" y="1543"/>
                  </a:cubicBezTo>
                  <a:close/>
                  <a:moveTo>
                    <a:pt x="1" y="1509"/>
                  </a:moveTo>
                  <a:lnTo>
                    <a:pt x="1" y="1509"/>
                  </a:lnTo>
                  <a:cubicBezTo>
                    <a:pt x="1" y="1505"/>
                    <a:pt x="5" y="1501"/>
                    <a:pt x="10" y="1501"/>
                  </a:cubicBezTo>
                  <a:cubicBezTo>
                    <a:pt x="14" y="1501"/>
                    <a:pt x="18" y="1505"/>
                    <a:pt x="18" y="1509"/>
                  </a:cubicBezTo>
                  <a:lnTo>
                    <a:pt x="18" y="1509"/>
                  </a:lnTo>
                  <a:cubicBezTo>
                    <a:pt x="18" y="1514"/>
                    <a:pt x="14" y="1518"/>
                    <a:pt x="10" y="1518"/>
                  </a:cubicBezTo>
                  <a:cubicBezTo>
                    <a:pt x="5" y="1518"/>
                    <a:pt x="1" y="1514"/>
                    <a:pt x="1" y="1509"/>
                  </a:cubicBezTo>
                  <a:close/>
                  <a:moveTo>
                    <a:pt x="1" y="1476"/>
                  </a:moveTo>
                  <a:lnTo>
                    <a:pt x="1" y="1476"/>
                  </a:lnTo>
                  <a:cubicBezTo>
                    <a:pt x="1" y="1471"/>
                    <a:pt x="5" y="1468"/>
                    <a:pt x="10" y="1468"/>
                  </a:cubicBezTo>
                  <a:cubicBezTo>
                    <a:pt x="14" y="1468"/>
                    <a:pt x="18" y="1471"/>
                    <a:pt x="18" y="1476"/>
                  </a:cubicBezTo>
                  <a:lnTo>
                    <a:pt x="18" y="1476"/>
                  </a:lnTo>
                  <a:cubicBezTo>
                    <a:pt x="18" y="1481"/>
                    <a:pt x="14" y="1484"/>
                    <a:pt x="10" y="1484"/>
                  </a:cubicBezTo>
                  <a:cubicBezTo>
                    <a:pt x="5" y="1484"/>
                    <a:pt x="1" y="1481"/>
                    <a:pt x="1" y="1476"/>
                  </a:cubicBezTo>
                  <a:close/>
                  <a:moveTo>
                    <a:pt x="1" y="1443"/>
                  </a:moveTo>
                  <a:lnTo>
                    <a:pt x="1" y="1443"/>
                  </a:lnTo>
                  <a:cubicBezTo>
                    <a:pt x="1" y="1438"/>
                    <a:pt x="5" y="1434"/>
                    <a:pt x="10" y="1434"/>
                  </a:cubicBezTo>
                  <a:cubicBezTo>
                    <a:pt x="14" y="1434"/>
                    <a:pt x="18" y="1438"/>
                    <a:pt x="18" y="1443"/>
                  </a:cubicBezTo>
                  <a:lnTo>
                    <a:pt x="18" y="1443"/>
                  </a:lnTo>
                  <a:cubicBezTo>
                    <a:pt x="18" y="1447"/>
                    <a:pt x="14" y="1451"/>
                    <a:pt x="10" y="1451"/>
                  </a:cubicBezTo>
                  <a:cubicBezTo>
                    <a:pt x="5" y="1451"/>
                    <a:pt x="1" y="1447"/>
                    <a:pt x="1" y="1443"/>
                  </a:cubicBezTo>
                  <a:close/>
                  <a:moveTo>
                    <a:pt x="1" y="1409"/>
                  </a:moveTo>
                  <a:lnTo>
                    <a:pt x="1" y="1409"/>
                  </a:lnTo>
                  <a:cubicBezTo>
                    <a:pt x="1" y="1405"/>
                    <a:pt x="5" y="1401"/>
                    <a:pt x="10" y="1401"/>
                  </a:cubicBezTo>
                  <a:cubicBezTo>
                    <a:pt x="14" y="1401"/>
                    <a:pt x="18" y="1405"/>
                    <a:pt x="18" y="1409"/>
                  </a:cubicBezTo>
                  <a:lnTo>
                    <a:pt x="18" y="1409"/>
                  </a:lnTo>
                  <a:cubicBezTo>
                    <a:pt x="18" y="1414"/>
                    <a:pt x="14" y="1418"/>
                    <a:pt x="10" y="1418"/>
                  </a:cubicBezTo>
                  <a:cubicBezTo>
                    <a:pt x="5" y="1418"/>
                    <a:pt x="1" y="1414"/>
                    <a:pt x="1" y="1409"/>
                  </a:cubicBezTo>
                  <a:close/>
                  <a:moveTo>
                    <a:pt x="2" y="1376"/>
                  </a:moveTo>
                  <a:lnTo>
                    <a:pt x="2" y="1376"/>
                  </a:lnTo>
                  <a:cubicBezTo>
                    <a:pt x="2" y="1371"/>
                    <a:pt x="5" y="1368"/>
                    <a:pt x="10" y="1368"/>
                  </a:cubicBezTo>
                  <a:cubicBezTo>
                    <a:pt x="14" y="1368"/>
                    <a:pt x="18" y="1371"/>
                    <a:pt x="18" y="1376"/>
                  </a:cubicBezTo>
                  <a:lnTo>
                    <a:pt x="18" y="1376"/>
                  </a:lnTo>
                  <a:cubicBezTo>
                    <a:pt x="18" y="1381"/>
                    <a:pt x="14" y="1384"/>
                    <a:pt x="10" y="1384"/>
                  </a:cubicBezTo>
                  <a:cubicBezTo>
                    <a:pt x="5" y="1384"/>
                    <a:pt x="2" y="1381"/>
                    <a:pt x="2" y="1376"/>
                  </a:cubicBezTo>
                  <a:close/>
                  <a:moveTo>
                    <a:pt x="2" y="1343"/>
                  </a:moveTo>
                  <a:lnTo>
                    <a:pt x="2" y="1343"/>
                  </a:lnTo>
                  <a:cubicBezTo>
                    <a:pt x="2" y="1338"/>
                    <a:pt x="5" y="1334"/>
                    <a:pt x="10" y="1334"/>
                  </a:cubicBezTo>
                  <a:cubicBezTo>
                    <a:pt x="14" y="1334"/>
                    <a:pt x="18" y="1338"/>
                    <a:pt x="18" y="1343"/>
                  </a:cubicBezTo>
                  <a:lnTo>
                    <a:pt x="18" y="1343"/>
                  </a:lnTo>
                  <a:cubicBezTo>
                    <a:pt x="18" y="1347"/>
                    <a:pt x="14" y="1351"/>
                    <a:pt x="10" y="1351"/>
                  </a:cubicBezTo>
                  <a:cubicBezTo>
                    <a:pt x="5" y="1351"/>
                    <a:pt x="2" y="1347"/>
                    <a:pt x="2" y="1343"/>
                  </a:cubicBezTo>
                  <a:close/>
                  <a:moveTo>
                    <a:pt x="2" y="1309"/>
                  </a:moveTo>
                  <a:lnTo>
                    <a:pt x="2" y="1309"/>
                  </a:lnTo>
                  <a:cubicBezTo>
                    <a:pt x="2" y="1305"/>
                    <a:pt x="5" y="1301"/>
                    <a:pt x="10" y="1301"/>
                  </a:cubicBezTo>
                  <a:cubicBezTo>
                    <a:pt x="15" y="1301"/>
                    <a:pt x="18" y="1305"/>
                    <a:pt x="18" y="1309"/>
                  </a:cubicBezTo>
                  <a:lnTo>
                    <a:pt x="18" y="1309"/>
                  </a:lnTo>
                  <a:cubicBezTo>
                    <a:pt x="18" y="1314"/>
                    <a:pt x="15" y="1318"/>
                    <a:pt x="10" y="1318"/>
                  </a:cubicBezTo>
                  <a:cubicBezTo>
                    <a:pt x="5" y="1318"/>
                    <a:pt x="2" y="1314"/>
                    <a:pt x="2" y="1309"/>
                  </a:cubicBezTo>
                  <a:close/>
                  <a:moveTo>
                    <a:pt x="2" y="1276"/>
                  </a:moveTo>
                  <a:lnTo>
                    <a:pt x="2" y="1276"/>
                  </a:lnTo>
                  <a:cubicBezTo>
                    <a:pt x="2" y="1271"/>
                    <a:pt x="5" y="1268"/>
                    <a:pt x="10" y="1268"/>
                  </a:cubicBezTo>
                  <a:cubicBezTo>
                    <a:pt x="15" y="1268"/>
                    <a:pt x="18" y="1271"/>
                    <a:pt x="18" y="1276"/>
                  </a:cubicBezTo>
                  <a:lnTo>
                    <a:pt x="18" y="1276"/>
                  </a:lnTo>
                  <a:cubicBezTo>
                    <a:pt x="18" y="1280"/>
                    <a:pt x="15" y="1284"/>
                    <a:pt x="10" y="1284"/>
                  </a:cubicBezTo>
                  <a:cubicBezTo>
                    <a:pt x="5" y="1284"/>
                    <a:pt x="2" y="1280"/>
                    <a:pt x="2" y="1276"/>
                  </a:cubicBezTo>
                  <a:close/>
                  <a:moveTo>
                    <a:pt x="2" y="1243"/>
                  </a:moveTo>
                  <a:lnTo>
                    <a:pt x="2" y="1243"/>
                  </a:lnTo>
                  <a:cubicBezTo>
                    <a:pt x="2" y="1238"/>
                    <a:pt x="5" y="1234"/>
                    <a:pt x="10" y="1234"/>
                  </a:cubicBezTo>
                  <a:cubicBezTo>
                    <a:pt x="15" y="1234"/>
                    <a:pt x="18" y="1238"/>
                    <a:pt x="18" y="1243"/>
                  </a:cubicBezTo>
                  <a:lnTo>
                    <a:pt x="18" y="1243"/>
                  </a:lnTo>
                  <a:cubicBezTo>
                    <a:pt x="18" y="1247"/>
                    <a:pt x="15" y="1251"/>
                    <a:pt x="10" y="1251"/>
                  </a:cubicBezTo>
                  <a:cubicBezTo>
                    <a:pt x="5" y="1251"/>
                    <a:pt x="2" y="1247"/>
                    <a:pt x="2" y="1243"/>
                  </a:cubicBezTo>
                  <a:close/>
                  <a:moveTo>
                    <a:pt x="2" y="1209"/>
                  </a:moveTo>
                  <a:lnTo>
                    <a:pt x="2" y="1209"/>
                  </a:lnTo>
                  <a:cubicBezTo>
                    <a:pt x="2" y="1205"/>
                    <a:pt x="5" y="1201"/>
                    <a:pt x="10" y="1201"/>
                  </a:cubicBezTo>
                  <a:cubicBezTo>
                    <a:pt x="15" y="1201"/>
                    <a:pt x="18" y="1205"/>
                    <a:pt x="18" y="1209"/>
                  </a:cubicBezTo>
                  <a:lnTo>
                    <a:pt x="18" y="1209"/>
                  </a:lnTo>
                  <a:cubicBezTo>
                    <a:pt x="18" y="1214"/>
                    <a:pt x="15" y="1218"/>
                    <a:pt x="10" y="1218"/>
                  </a:cubicBezTo>
                  <a:cubicBezTo>
                    <a:pt x="5" y="1218"/>
                    <a:pt x="2" y="1214"/>
                    <a:pt x="2" y="1209"/>
                  </a:cubicBezTo>
                  <a:close/>
                  <a:moveTo>
                    <a:pt x="2" y="1176"/>
                  </a:moveTo>
                  <a:lnTo>
                    <a:pt x="2" y="1176"/>
                  </a:lnTo>
                  <a:cubicBezTo>
                    <a:pt x="2" y="1171"/>
                    <a:pt x="6" y="1167"/>
                    <a:pt x="10" y="1167"/>
                  </a:cubicBezTo>
                  <a:cubicBezTo>
                    <a:pt x="15" y="1167"/>
                    <a:pt x="18" y="1171"/>
                    <a:pt x="18" y="1176"/>
                  </a:cubicBezTo>
                  <a:lnTo>
                    <a:pt x="18" y="1176"/>
                  </a:lnTo>
                  <a:cubicBezTo>
                    <a:pt x="18" y="1180"/>
                    <a:pt x="15" y="1184"/>
                    <a:pt x="10" y="1184"/>
                  </a:cubicBezTo>
                  <a:cubicBezTo>
                    <a:pt x="6" y="1184"/>
                    <a:pt x="2" y="1180"/>
                    <a:pt x="2" y="1176"/>
                  </a:cubicBezTo>
                  <a:close/>
                  <a:moveTo>
                    <a:pt x="2" y="1142"/>
                  </a:moveTo>
                  <a:lnTo>
                    <a:pt x="2" y="1142"/>
                  </a:lnTo>
                  <a:cubicBezTo>
                    <a:pt x="2" y="1138"/>
                    <a:pt x="6" y="1134"/>
                    <a:pt x="10" y="1134"/>
                  </a:cubicBezTo>
                  <a:cubicBezTo>
                    <a:pt x="15" y="1134"/>
                    <a:pt x="18" y="1138"/>
                    <a:pt x="18" y="1142"/>
                  </a:cubicBezTo>
                  <a:lnTo>
                    <a:pt x="18" y="1142"/>
                  </a:lnTo>
                  <a:cubicBezTo>
                    <a:pt x="18" y="1147"/>
                    <a:pt x="15" y="1151"/>
                    <a:pt x="10" y="1151"/>
                  </a:cubicBezTo>
                  <a:cubicBezTo>
                    <a:pt x="6" y="1151"/>
                    <a:pt x="2" y="1147"/>
                    <a:pt x="2" y="1142"/>
                  </a:cubicBezTo>
                  <a:close/>
                  <a:moveTo>
                    <a:pt x="2" y="1109"/>
                  </a:moveTo>
                  <a:lnTo>
                    <a:pt x="2" y="1109"/>
                  </a:lnTo>
                  <a:cubicBezTo>
                    <a:pt x="2" y="1105"/>
                    <a:pt x="6" y="1101"/>
                    <a:pt x="10" y="1101"/>
                  </a:cubicBezTo>
                  <a:cubicBezTo>
                    <a:pt x="15" y="1101"/>
                    <a:pt x="19" y="1105"/>
                    <a:pt x="19" y="1109"/>
                  </a:cubicBezTo>
                  <a:lnTo>
                    <a:pt x="19" y="1109"/>
                  </a:lnTo>
                  <a:cubicBezTo>
                    <a:pt x="19" y="1114"/>
                    <a:pt x="15" y="1117"/>
                    <a:pt x="10" y="1117"/>
                  </a:cubicBezTo>
                  <a:cubicBezTo>
                    <a:pt x="6" y="1117"/>
                    <a:pt x="2" y="1114"/>
                    <a:pt x="2" y="1109"/>
                  </a:cubicBezTo>
                  <a:close/>
                  <a:moveTo>
                    <a:pt x="2" y="1076"/>
                  </a:moveTo>
                  <a:lnTo>
                    <a:pt x="2" y="1076"/>
                  </a:lnTo>
                  <a:cubicBezTo>
                    <a:pt x="2" y="1071"/>
                    <a:pt x="6" y="1067"/>
                    <a:pt x="10" y="1067"/>
                  </a:cubicBezTo>
                  <a:cubicBezTo>
                    <a:pt x="15" y="1067"/>
                    <a:pt x="19" y="1071"/>
                    <a:pt x="19" y="1076"/>
                  </a:cubicBezTo>
                  <a:lnTo>
                    <a:pt x="19" y="1076"/>
                  </a:lnTo>
                  <a:cubicBezTo>
                    <a:pt x="19" y="1080"/>
                    <a:pt x="15" y="1084"/>
                    <a:pt x="10" y="1084"/>
                  </a:cubicBezTo>
                  <a:cubicBezTo>
                    <a:pt x="6" y="1084"/>
                    <a:pt x="2" y="1080"/>
                    <a:pt x="2" y="1076"/>
                  </a:cubicBezTo>
                  <a:close/>
                  <a:moveTo>
                    <a:pt x="2" y="1042"/>
                  </a:moveTo>
                  <a:lnTo>
                    <a:pt x="2" y="1042"/>
                  </a:lnTo>
                  <a:cubicBezTo>
                    <a:pt x="2" y="1038"/>
                    <a:pt x="6" y="1034"/>
                    <a:pt x="10" y="1034"/>
                  </a:cubicBezTo>
                  <a:cubicBezTo>
                    <a:pt x="15" y="1034"/>
                    <a:pt x="19" y="1038"/>
                    <a:pt x="19" y="1042"/>
                  </a:cubicBezTo>
                  <a:lnTo>
                    <a:pt x="19" y="1042"/>
                  </a:lnTo>
                  <a:cubicBezTo>
                    <a:pt x="19" y="1047"/>
                    <a:pt x="15" y="1051"/>
                    <a:pt x="10" y="1051"/>
                  </a:cubicBezTo>
                  <a:cubicBezTo>
                    <a:pt x="6" y="1051"/>
                    <a:pt x="2" y="1047"/>
                    <a:pt x="2" y="1042"/>
                  </a:cubicBezTo>
                  <a:close/>
                  <a:moveTo>
                    <a:pt x="2" y="1009"/>
                  </a:moveTo>
                  <a:lnTo>
                    <a:pt x="2" y="1009"/>
                  </a:lnTo>
                  <a:cubicBezTo>
                    <a:pt x="2" y="1004"/>
                    <a:pt x="6" y="1001"/>
                    <a:pt x="10" y="1001"/>
                  </a:cubicBezTo>
                  <a:cubicBezTo>
                    <a:pt x="15" y="1001"/>
                    <a:pt x="19" y="1004"/>
                    <a:pt x="19" y="1009"/>
                  </a:cubicBezTo>
                  <a:lnTo>
                    <a:pt x="19" y="1009"/>
                  </a:lnTo>
                  <a:cubicBezTo>
                    <a:pt x="19" y="1014"/>
                    <a:pt x="15" y="1017"/>
                    <a:pt x="10" y="1017"/>
                  </a:cubicBezTo>
                  <a:cubicBezTo>
                    <a:pt x="6" y="1017"/>
                    <a:pt x="2" y="1014"/>
                    <a:pt x="2" y="1009"/>
                  </a:cubicBezTo>
                  <a:close/>
                  <a:moveTo>
                    <a:pt x="2" y="976"/>
                  </a:moveTo>
                  <a:lnTo>
                    <a:pt x="2" y="976"/>
                  </a:lnTo>
                  <a:cubicBezTo>
                    <a:pt x="2" y="971"/>
                    <a:pt x="6" y="967"/>
                    <a:pt x="10" y="967"/>
                  </a:cubicBezTo>
                  <a:cubicBezTo>
                    <a:pt x="15" y="967"/>
                    <a:pt x="19" y="971"/>
                    <a:pt x="19" y="976"/>
                  </a:cubicBezTo>
                  <a:lnTo>
                    <a:pt x="19" y="976"/>
                  </a:lnTo>
                  <a:cubicBezTo>
                    <a:pt x="19" y="980"/>
                    <a:pt x="15" y="984"/>
                    <a:pt x="10" y="984"/>
                  </a:cubicBezTo>
                  <a:cubicBezTo>
                    <a:pt x="6" y="984"/>
                    <a:pt x="2" y="980"/>
                    <a:pt x="2" y="976"/>
                  </a:cubicBezTo>
                  <a:close/>
                  <a:moveTo>
                    <a:pt x="2" y="942"/>
                  </a:moveTo>
                  <a:lnTo>
                    <a:pt x="2" y="942"/>
                  </a:lnTo>
                  <a:cubicBezTo>
                    <a:pt x="2" y="938"/>
                    <a:pt x="6" y="934"/>
                    <a:pt x="10" y="934"/>
                  </a:cubicBezTo>
                  <a:cubicBezTo>
                    <a:pt x="15" y="934"/>
                    <a:pt x="19" y="938"/>
                    <a:pt x="19" y="942"/>
                  </a:cubicBezTo>
                  <a:lnTo>
                    <a:pt x="19" y="942"/>
                  </a:lnTo>
                  <a:cubicBezTo>
                    <a:pt x="19" y="947"/>
                    <a:pt x="15" y="951"/>
                    <a:pt x="10" y="951"/>
                  </a:cubicBezTo>
                  <a:cubicBezTo>
                    <a:pt x="6" y="951"/>
                    <a:pt x="2" y="947"/>
                    <a:pt x="2" y="942"/>
                  </a:cubicBezTo>
                  <a:close/>
                  <a:moveTo>
                    <a:pt x="2" y="909"/>
                  </a:moveTo>
                  <a:lnTo>
                    <a:pt x="2" y="909"/>
                  </a:lnTo>
                  <a:cubicBezTo>
                    <a:pt x="2" y="904"/>
                    <a:pt x="6" y="901"/>
                    <a:pt x="10" y="901"/>
                  </a:cubicBezTo>
                  <a:cubicBezTo>
                    <a:pt x="15" y="901"/>
                    <a:pt x="19" y="904"/>
                    <a:pt x="19" y="909"/>
                  </a:cubicBezTo>
                  <a:lnTo>
                    <a:pt x="19" y="909"/>
                  </a:lnTo>
                  <a:cubicBezTo>
                    <a:pt x="19" y="914"/>
                    <a:pt x="15" y="917"/>
                    <a:pt x="10" y="917"/>
                  </a:cubicBezTo>
                  <a:cubicBezTo>
                    <a:pt x="6" y="917"/>
                    <a:pt x="2" y="914"/>
                    <a:pt x="2" y="909"/>
                  </a:cubicBezTo>
                  <a:close/>
                  <a:moveTo>
                    <a:pt x="2" y="876"/>
                  </a:moveTo>
                  <a:lnTo>
                    <a:pt x="2" y="876"/>
                  </a:lnTo>
                  <a:cubicBezTo>
                    <a:pt x="2" y="871"/>
                    <a:pt x="6" y="867"/>
                    <a:pt x="11" y="867"/>
                  </a:cubicBezTo>
                  <a:cubicBezTo>
                    <a:pt x="15" y="867"/>
                    <a:pt x="19" y="871"/>
                    <a:pt x="19" y="876"/>
                  </a:cubicBezTo>
                  <a:lnTo>
                    <a:pt x="19" y="876"/>
                  </a:lnTo>
                  <a:cubicBezTo>
                    <a:pt x="19" y="880"/>
                    <a:pt x="15" y="884"/>
                    <a:pt x="11" y="884"/>
                  </a:cubicBezTo>
                  <a:cubicBezTo>
                    <a:pt x="6" y="884"/>
                    <a:pt x="2" y="880"/>
                    <a:pt x="2" y="876"/>
                  </a:cubicBezTo>
                  <a:close/>
                  <a:moveTo>
                    <a:pt x="2" y="842"/>
                  </a:moveTo>
                  <a:lnTo>
                    <a:pt x="2" y="842"/>
                  </a:lnTo>
                  <a:cubicBezTo>
                    <a:pt x="2" y="838"/>
                    <a:pt x="6" y="834"/>
                    <a:pt x="11" y="834"/>
                  </a:cubicBezTo>
                  <a:cubicBezTo>
                    <a:pt x="15" y="834"/>
                    <a:pt x="19" y="838"/>
                    <a:pt x="19" y="842"/>
                  </a:cubicBezTo>
                  <a:lnTo>
                    <a:pt x="19" y="842"/>
                  </a:lnTo>
                  <a:cubicBezTo>
                    <a:pt x="19" y="847"/>
                    <a:pt x="15" y="851"/>
                    <a:pt x="11" y="851"/>
                  </a:cubicBezTo>
                  <a:cubicBezTo>
                    <a:pt x="6" y="851"/>
                    <a:pt x="2" y="847"/>
                    <a:pt x="2" y="842"/>
                  </a:cubicBezTo>
                  <a:close/>
                  <a:moveTo>
                    <a:pt x="2" y="809"/>
                  </a:moveTo>
                  <a:lnTo>
                    <a:pt x="2" y="809"/>
                  </a:lnTo>
                  <a:cubicBezTo>
                    <a:pt x="2" y="804"/>
                    <a:pt x="6" y="801"/>
                    <a:pt x="11" y="801"/>
                  </a:cubicBezTo>
                  <a:cubicBezTo>
                    <a:pt x="15" y="801"/>
                    <a:pt x="19" y="804"/>
                    <a:pt x="19" y="809"/>
                  </a:cubicBezTo>
                  <a:lnTo>
                    <a:pt x="19" y="809"/>
                  </a:lnTo>
                  <a:cubicBezTo>
                    <a:pt x="19" y="814"/>
                    <a:pt x="15" y="817"/>
                    <a:pt x="11" y="817"/>
                  </a:cubicBezTo>
                  <a:cubicBezTo>
                    <a:pt x="6" y="817"/>
                    <a:pt x="2" y="814"/>
                    <a:pt x="2" y="809"/>
                  </a:cubicBezTo>
                  <a:close/>
                  <a:moveTo>
                    <a:pt x="2" y="776"/>
                  </a:moveTo>
                  <a:lnTo>
                    <a:pt x="2" y="776"/>
                  </a:lnTo>
                  <a:cubicBezTo>
                    <a:pt x="2" y="771"/>
                    <a:pt x="6" y="767"/>
                    <a:pt x="11" y="767"/>
                  </a:cubicBezTo>
                  <a:cubicBezTo>
                    <a:pt x="15" y="767"/>
                    <a:pt x="19" y="771"/>
                    <a:pt x="19" y="776"/>
                  </a:cubicBezTo>
                  <a:lnTo>
                    <a:pt x="19" y="776"/>
                  </a:lnTo>
                  <a:cubicBezTo>
                    <a:pt x="19" y="780"/>
                    <a:pt x="15" y="784"/>
                    <a:pt x="11" y="784"/>
                  </a:cubicBezTo>
                  <a:cubicBezTo>
                    <a:pt x="6" y="784"/>
                    <a:pt x="2" y="780"/>
                    <a:pt x="2" y="776"/>
                  </a:cubicBezTo>
                  <a:close/>
                  <a:moveTo>
                    <a:pt x="2" y="742"/>
                  </a:moveTo>
                  <a:lnTo>
                    <a:pt x="2" y="742"/>
                  </a:lnTo>
                  <a:cubicBezTo>
                    <a:pt x="2" y="738"/>
                    <a:pt x="6" y="734"/>
                    <a:pt x="11" y="734"/>
                  </a:cubicBezTo>
                  <a:cubicBezTo>
                    <a:pt x="15" y="734"/>
                    <a:pt x="19" y="738"/>
                    <a:pt x="19" y="742"/>
                  </a:cubicBezTo>
                  <a:lnTo>
                    <a:pt x="19" y="742"/>
                  </a:lnTo>
                  <a:cubicBezTo>
                    <a:pt x="19" y="747"/>
                    <a:pt x="15" y="751"/>
                    <a:pt x="11" y="751"/>
                  </a:cubicBezTo>
                  <a:cubicBezTo>
                    <a:pt x="6" y="751"/>
                    <a:pt x="2" y="747"/>
                    <a:pt x="2" y="742"/>
                  </a:cubicBezTo>
                  <a:close/>
                  <a:moveTo>
                    <a:pt x="2" y="709"/>
                  </a:moveTo>
                  <a:lnTo>
                    <a:pt x="2" y="709"/>
                  </a:lnTo>
                  <a:cubicBezTo>
                    <a:pt x="2" y="704"/>
                    <a:pt x="6" y="701"/>
                    <a:pt x="11" y="701"/>
                  </a:cubicBezTo>
                  <a:cubicBezTo>
                    <a:pt x="15" y="701"/>
                    <a:pt x="19" y="704"/>
                    <a:pt x="19" y="709"/>
                  </a:cubicBezTo>
                  <a:lnTo>
                    <a:pt x="19" y="709"/>
                  </a:lnTo>
                  <a:cubicBezTo>
                    <a:pt x="19" y="714"/>
                    <a:pt x="15" y="717"/>
                    <a:pt x="11" y="717"/>
                  </a:cubicBezTo>
                  <a:cubicBezTo>
                    <a:pt x="6" y="717"/>
                    <a:pt x="2" y="714"/>
                    <a:pt x="2" y="709"/>
                  </a:cubicBezTo>
                  <a:close/>
                  <a:moveTo>
                    <a:pt x="2" y="676"/>
                  </a:moveTo>
                  <a:lnTo>
                    <a:pt x="2" y="676"/>
                  </a:lnTo>
                  <a:cubicBezTo>
                    <a:pt x="2" y="671"/>
                    <a:pt x="6" y="667"/>
                    <a:pt x="11" y="667"/>
                  </a:cubicBezTo>
                  <a:cubicBezTo>
                    <a:pt x="15" y="667"/>
                    <a:pt x="19" y="671"/>
                    <a:pt x="19" y="676"/>
                  </a:cubicBezTo>
                  <a:lnTo>
                    <a:pt x="19" y="676"/>
                  </a:lnTo>
                  <a:cubicBezTo>
                    <a:pt x="19" y="680"/>
                    <a:pt x="15" y="684"/>
                    <a:pt x="11" y="684"/>
                  </a:cubicBezTo>
                  <a:cubicBezTo>
                    <a:pt x="6" y="684"/>
                    <a:pt x="2" y="680"/>
                    <a:pt x="2" y="676"/>
                  </a:cubicBezTo>
                  <a:close/>
                  <a:moveTo>
                    <a:pt x="3" y="642"/>
                  </a:moveTo>
                  <a:lnTo>
                    <a:pt x="3" y="642"/>
                  </a:lnTo>
                  <a:cubicBezTo>
                    <a:pt x="3" y="638"/>
                    <a:pt x="6" y="634"/>
                    <a:pt x="11" y="634"/>
                  </a:cubicBezTo>
                  <a:cubicBezTo>
                    <a:pt x="15" y="634"/>
                    <a:pt x="19" y="638"/>
                    <a:pt x="19" y="642"/>
                  </a:cubicBezTo>
                  <a:lnTo>
                    <a:pt x="19" y="642"/>
                  </a:lnTo>
                  <a:cubicBezTo>
                    <a:pt x="19" y="647"/>
                    <a:pt x="15" y="651"/>
                    <a:pt x="11" y="651"/>
                  </a:cubicBezTo>
                  <a:cubicBezTo>
                    <a:pt x="6" y="651"/>
                    <a:pt x="3" y="647"/>
                    <a:pt x="3" y="642"/>
                  </a:cubicBezTo>
                  <a:close/>
                  <a:moveTo>
                    <a:pt x="3" y="609"/>
                  </a:moveTo>
                  <a:lnTo>
                    <a:pt x="3" y="609"/>
                  </a:lnTo>
                  <a:cubicBezTo>
                    <a:pt x="3" y="604"/>
                    <a:pt x="6" y="601"/>
                    <a:pt x="11" y="601"/>
                  </a:cubicBezTo>
                  <a:cubicBezTo>
                    <a:pt x="16" y="601"/>
                    <a:pt x="19" y="604"/>
                    <a:pt x="19" y="609"/>
                  </a:cubicBezTo>
                  <a:lnTo>
                    <a:pt x="19" y="609"/>
                  </a:lnTo>
                  <a:cubicBezTo>
                    <a:pt x="19" y="613"/>
                    <a:pt x="16" y="617"/>
                    <a:pt x="11" y="617"/>
                  </a:cubicBezTo>
                  <a:cubicBezTo>
                    <a:pt x="6" y="617"/>
                    <a:pt x="3" y="613"/>
                    <a:pt x="3" y="609"/>
                  </a:cubicBezTo>
                  <a:close/>
                  <a:moveTo>
                    <a:pt x="3" y="576"/>
                  </a:moveTo>
                  <a:lnTo>
                    <a:pt x="3" y="576"/>
                  </a:lnTo>
                  <a:cubicBezTo>
                    <a:pt x="3" y="571"/>
                    <a:pt x="6" y="567"/>
                    <a:pt x="11" y="567"/>
                  </a:cubicBezTo>
                  <a:cubicBezTo>
                    <a:pt x="16" y="567"/>
                    <a:pt x="19" y="571"/>
                    <a:pt x="19" y="576"/>
                  </a:cubicBezTo>
                  <a:lnTo>
                    <a:pt x="19" y="576"/>
                  </a:lnTo>
                  <a:cubicBezTo>
                    <a:pt x="19" y="580"/>
                    <a:pt x="16" y="584"/>
                    <a:pt x="11" y="584"/>
                  </a:cubicBezTo>
                  <a:cubicBezTo>
                    <a:pt x="6" y="584"/>
                    <a:pt x="3" y="580"/>
                    <a:pt x="3" y="576"/>
                  </a:cubicBezTo>
                  <a:close/>
                  <a:moveTo>
                    <a:pt x="3" y="542"/>
                  </a:moveTo>
                  <a:lnTo>
                    <a:pt x="3" y="542"/>
                  </a:lnTo>
                  <a:cubicBezTo>
                    <a:pt x="3" y="538"/>
                    <a:pt x="6" y="534"/>
                    <a:pt x="11" y="534"/>
                  </a:cubicBezTo>
                  <a:cubicBezTo>
                    <a:pt x="16" y="534"/>
                    <a:pt x="19" y="538"/>
                    <a:pt x="19" y="542"/>
                  </a:cubicBezTo>
                  <a:lnTo>
                    <a:pt x="19" y="542"/>
                  </a:lnTo>
                  <a:cubicBezTo>
                    <a:pt x="19" y="547"/>
                    <a:pt x="16" y="551"/>
                    <a:pt x="11" y="551"/>
                  </a:cubicBezTo>
                  <a:cubicBezTo>
                    <a:pt x="6" y="551"/>
                    <a:pt x="3" y="547"/>
                    <a:pt x="3" y="542"/>
                  </a:cubicBezTo>
                  <a:close/>
                  <a:moveTo>
                    <a:pt x="3" y="509"/>
                  </a:moveTo>
                  <a:lnTo>
                    <a:pt x="3" y="509"/>
                  </a:lnTo>
                  <a:cubicBezTo>
                    <a:pt x="3" y="504"/>
                    <a:pt x="6" y="500"/>
                    <a:pt x="11" y="500"/>
                  </a:cubicBezTo>
                  <a:cubicBezTo>
                    <a:pt x="16" y="500"/>
                    <a:pt x="19" y="504"/>
                    <a:pt x="19" y="509"/>
                  </a:cubicBezTo>
                  <a:lnTo>
                    <a:pt x="19" y="509"/>
                  </a:lnTo>
                  <a:cubicBezTo>
                    <a:pt x="19" y="513"/>
                    <a:pt x="16" y="517"/>
                    <a:pt x="11" y="517"/>
                  </a:cubicBezTo>
                  <a:cubicBezTo>
                    <a:pt x="6" y="517"/>
                    <a:pt x="3" y="513"/>
                    <a:pt x="3" y="509"/>
                  </a:cubicBezTo>
                  <a:close/>
                  <a:moveTo>
                    <a:pt x="3" y="475"/>
                  </a:moveTo>
                  <a:lnTo>
                    <a:pt x="3" y="475"/>
                  </a:lnTo>
                  <a:cubicBezTo>
                    <a:pt x="3" y="471"/>
                    <a:pt x="6" y="467"/>
                    <a:pt x="11" y="467"/>
                  </a:cubicBezTo>
                  <a:cubicBezTo>
                    <a:pt x="16" y="467"/>
                    <a:pt x="19" y="471"/>
                    <a:pt x="19" y="475"/>
                  </a:cubicBezTo>
                  <a:lnTo>
                    <a:pt x="19" y="475"/>
                  </a:lnTo>
                  <a:cubicBezTo>
                    <a:pt x="19" y="480"/>
                    <a:pt x="16" y="484"/>
                    <a:pt x="11" y="484"/>
                  </a:cubicBezTo>
                  <a:cubicBezTo>
                    <a:pt x="6" y="484"/>
                    <a:pt x="3" y="480"/>
                    <a:pt x="3" y="475"/>
                  </a:cubicBezTo>
                  <a:close/>
                  <a:moveTo>
                    <a:pt x="3" y="442"/>
                  </a:moveTo>
                  <a:lnTo>
                    <a:pt x="3" y="442"/>
                  </a:lnTo>
                  <a:cubicBezTo>
                    <a:pt x="3" y="438"/>
                    <a:pt x="7" y="434"/>
                    <a:pt x="11" y="434"/>
                  </a:cubicBezTo>
                  <a:cubicBezTo>
                    <a:pt x="16" y="434"/>
                    <a:pt x="19" y="438"/>
                    <a:pt x="19" y="442"/>
                  </a:cubicBezTo>
                  <a:lnTo>
                    <a:pt x="19" y="442"/>
                  </a:lnTo>
                  <a:cubicBezTo>
                    <a:pt x="19" y="447"/>
                    <a:pt x="16" y="450"/>
                    <a:pt x="11" y="450"/>
                  </a:cubicBezTo>
                  <a:cubicBezTo>
                    <a:pt x="7" y="450"/>
                    <a:pt x="3" y="447"/>
                    <a:pt x="3" y="442"/>
                  </a:cubicBezTo>
                  <a:close/>
                  <a:moveTo>
                    <a:pt x="3" y="409"/>
                  </a:moveTo>
                  <a:lnTo>
                    <a:pt x="3" y="409"/>
                  </a:lnTo>
                  <a:cubicBezTo>
                    <a:pt x="3" y="404"/>
                    <a:pt x="7" y="400"/>
                    <a:pt x="11" y="400"/>
                  </a:cubicBezTo>
                  <a:cubicBezTo>
                    <a:pt x="16" y="400"/>
                    <a:pt x="20" y="404"/>
                    <a:pt x="20" y="409"/>
                  </a:cubicBezTo>
                  <a:lnTo>
                    <a:pt x="20" y="409"/>
                  </a:lnTo>
                  <a:cubicBezTo>
                    <a:pt x="20" y="413"/>
                    <a:pt x="16" y="417"/>
                    <a:pt x="11" y="417"/>
                  </a:cubicBezTo>
                  <a:cubicBezTo>
                    <a:pt x="7" y="417"/>
                    <a:pt x="3" y="413"/>
                    <a:pt x="3" y="409"/>
                  </a:cubicBezTo>
                  <a:close/>
                  <a:moveTo>
                    <a:pt x="3" y="375"/>
                  </a:moveTo>
                  <a:lnTo>
                    <a:pt x="3" y="375"/>
                  </a:lnTo>
                  <a:cubicBezTo>
                    <a:pt x="3" y="371"/>
                    <a:pt x="7" y="367"/>
                    <a:pt x="11" y="367"/>
                  </a:cubicBezTo>
                  <a:cubicBezTo>
                    <a:pt x="16" y="367"/>
                    <a:pt x="20" y="371"/>
                    <a:pt x="20" y="375"/>
                  </a:cubicBezTo>
                  <a:lnTo>
                    <a:pt x="20" y="375"/>
                  </a:lnTo>
                  <a:cubicBezTo>
                    <a:pt x="20" y="380"/>
                    <a:pt x="16" y="384"/>
                    <a:pt x="11" y="384"/>
                  </a:cubicBezTo>
                  <a:cubicBezTo>
                    <a:pt x="7" y="384"/>
                    <a:pt x="3" y="380"/>
                    <a:pt x="3" y="375"/>
                  </a:cubicBezTo>
                  <a:close/>
                  <a:moveTo>
                    <a:pt x="3" y="342"/>
                  </a:moveTo>
                  <a:lnTo>
                    <a:pt x="3" y="342"/>
                  </a:lnTo>
                  <a:cubicBezTo>
                    <a:pt x="3" y="337"/>
                    <a:pt x="7" y="334"/>
                    <a:pt x="11" y="334"/>
                  </a:cubicBezTo>
                  <a:cubicBezTo>
                    <a:pt x="16" y="334"/>
                    <a:pt x="20" y="337"/>
                    <a:pt x="20" y="342"/>
                  </a:cubicBezTo>
                  <a:lnTo>
                    <a:pt x="20" y="342"/>
                  </a:lnTo>
                  <a:cubicBezTo>
                    <a:pt x="20" y="347"/>
                    <a:pt x="16" y="350"/>
                    <a:pt x="11" y="350"/>
                  </a:cubicBezTo>
                  <a:cubicBezTo>
                    <a:pt x="7" y="350"/>
                    <a:pt x="3" y="347"/>
                    <a:pt x="3" y="342"/>
                  </a:cubicBezTo>
                  <a:close/>
                  <a:moveTo>
                    <a:pt x="3" y="309"/>
                  </a:moveTo>
                  <a:lnTo>
                    <a:pt x="3" y="309"/>
                  </a:lnTo>
                  <a:cubicBezTo>
                    <a:pt x="3" y="304"/>
                    <a:pt x="7" y="300"/>
                    <a:pt x="11" y="300"/>
                  </a:cubicBezTo>
                  <a:cubicBezTo>
                    <a:pt x="16" y="300"/>
                    <a:pt x="20" y="304"/>
                    <a:pt x="20" y="309"/>
                  </a:cubicBezTo>
                  <a:lnTo>
                    <a:pt x="20" y="309"/>
                  </a:lnTo>
                  <a:cubicBezTo>
                    <a:pt x="20" y="313"/>
                    <a:pt x="16" y="317"/>
                    <a:pt x="11" y="317"/>
                  </a:cubicBezTo>
                  <a:cubicBezTo>
                    <a:pt x="7" y="317"/>
                    <a:pt x="3" y="313"/>
                    <a:pt x="3" y="309"/>
                  </a:cubicBezTo>
                  <a:close/>
                  <a:moveTo>
                    <a:pt x="3" y="275"/>
                  </a:moveTo>
                  <a:lnTo>
                    <a:pt x="3" y="275"/>
                  </a:lnTo>
                  <a:cubicBezTo>
                    <a:pt x="3" y="271"/>
                    <a:pt x="7" y="267"/>
                    <a:pt x="11" y="267"/>
                  </a:cubicBezTo>
                  <a:cubicBezTo>
                    <a:pt x="16" y="267"/>
                    <a:pt x="20" y="271"/>
                    <a:pt x="20" y="275"/>
                  </a:cubicBezTo>
                  <a:lnTo>
                    <a:pt x="20" y="275"/>
                  </a:lnTo>
                  <a:cubicBezTo>
                    <a:pt x="20" y="280"/>
                    <a:pt x="16" y="284"/>
                    <a:pt x="11" y="284"/>
                  </a:cubicBezTo>
                  <a:cubicBezTo>
                    <a:pt x="7" y="284"/>
                    <a:pt x="3" y="280"/>
                    <a:pt x="3" y="275"/>
                  </a:cubicBezTo>
                  <a:close/>
                  <a:moveTo>
                    <a:pt x="3" y="242"/>
                  </a:moveTo>
                  <a:lnTo>
                    <a:pt x="3" y="242"/>
                  </a:lnTo>
                  <a:cubicBezTo>
                    <a:pt x="3" y="237"/>
                    <a:pt x="7" y="234"/>
                    <a:pt x="11" y="234"/>
                  </a:cubicBezTo>
                  <a:cubicBezTo>
                    <a:pt x="16" y="234"/>
                    <a:pt x="20" y="237"/>
                    <a:pt x="20" y="242"/>
                  </a:cubicBezTo>
                  <a:lnTo>
                    <a:pt x="20" y="242"/>
                  </a:lnTo>
                  <a:cubicBezTo>
                    <a:pt x="20" y="247"/>
                    <a:pt x="16" y="250"/>
                    <a:pt x="11" y="250"/>
                  </a:cubicBezTo>
                  <a:cubicBezTo>
                    <a:pt x="7" y="250"/>
                    <a:pt x="3" y="247"/>
                    <a:pt x="3" y="242"/>
                  </a:cubicBezTo>
                  <a:close/>
                  <a:moveTo>
                    <a:pt x="3" y="209"/>
                  </a:moveTo>
                  <a:lnTo>
                    <a:pt x="3" y="209"/>
                  </a:lnTo>
                  <a:cubicBezTo>
                    <a:pt x="3" y="204"/>
                    <a:pt x="7" y="200"/>
                    <a:pt x="11" y="200"/>
                  </a:cubicBezTo>
                  <a:cubicBezTo>
                    <a:pt x="16" y="200"/>
                    <a:pt x="20" y="204"/>
                    <a:pt x="20" y="209"/>
                  </a:cubicBezTo>
                  <a:lnTo>
                    <a:pt x="20" y="209"/>
                  </a:lnTo>
                  <a:cubicBezTo>
                    <a:pt x="20" y="213"/>
                    <a:pt x="16" y="217"/>
                    <a:pt x="11" y="217"/>
                  </a:cubicBezTo>
                  <a:cubicBezTo>
                    <a:pt x="7" y="217"/>
                    <a:pt x="3" y="213"/>
                    <a:pt x="3" y="209"/>
                  </a:cubicBezTo>
                  <a:close/>
                  <a:moveTo>
                    <a:pt x="3" y="175"/>
                  </a:moveTo>
                  <a:lnTo>
                    <a:pt x="3" y="175"/>
                  </a:lnTo>
                  <a:cubicBezTo>
                    <a:pt x="3" y="171"/>
                    <a:pt x="7" y="167"/>
                    <a:pt x="12" y="167"/>
                  </a:cubicBezTo>
                  <a:cubicBezTo>
                    <a:pt x="16" y="167"/>
                    <a:pt x="20" y="171"/>
                    <a:pt x="20" y="175"/>
                  </a:cubicBezTo>
                  <a:lnTo>
                    <a:pt x="20" y="175"/>
                  </a:lnTo>
                  <a:cubicBezTo>
                    <a:pt x="20" y="180"/>
                    <a:pt x="16" y="184"/>
                    <a:pt x="12" y="184"/>
                  </a:cubicBezTo>
                  <a:cubicBezTo>
                    <a:pt x="7" y="184"/>
                    <a:pt x="3" y="180"/>
                    <a:pt x="3" y="175"/>
                  </a:cubicBezTo>
                  <a:close/>
                  <a:moveTo>
                    <a:pt x="3" y="142"/>
                  </a:moveTo>
                  <a:lnTo>
                    <a:pt x="3" y="142"/>
                  </a:lnTo>
                  <a:cubicBezTo>
                    <a:pt x="3" y="137"/>
                    <a:pt x="7" y="134"/>
                    <a:pt x="12" y="134"/>
                  </a:cubicBezTo>
                  <a:cubicBezTo>
                    <a:pt x="16" y="134"/>
                    <a:pt x="20" y="137"/>
                    <a:pt x="20" y="142"/>
                  </a:cubicBezTo>
                  <a:lnTo>
                    <a:pt x="20" y="142"/>
                  </a:lnTo>
                  <a:cubicBezTo>
                    <a:pt x="20" y="147"/>
                    <a:pt x="16" y="150"/>
                    <a:pt x="12" y="150"/>
                  </a:cubicBezTo>
                  <a:cubicBezTo>
                    <a:pt x="7" y="150"/>
                    <a:pt x="3" y="147"/>
                    <a:pt x="3" y="142"/>
                  </a:cubicBezTo>
                  <a:close/>
                  <a:moveTo>
                    <a:pt x="3" y="109"/>
                  </a:moveTo>
                  <a:lnTo>
                    <a:pt x="3" y="109"/>
                  </a:lnTo>
                  <a:cubicBezTo>
                    <a:pt x="3" y="104"/>
                    <a:pt x="7" y="100"/>
                    <a:pt x="12" y="100"/>
                  </a:cubicBezTo>
                  <a:cubicBezTo>
                    <a:pt x="16" y="100"/>
                    <a:pt x="20" y="104"/>
                    <a:pt x="20" y="109"/>
                  </a:cubicBezTo>
                  <a:lnTo>
                    <a:pt x="20" y="109"/>
                  </a:lnTo>
                  <a:cubicBezTo>
                    <a:pt x="20" y="113"/>
                    <a:pt x="16" y="117"/>
                    <a:pt x="12" y="117"/>
                  </a:cubicBezTo>
                  <a:cubicBezTo>
                    <a:pt x="7" y="117"/>
                    <a:pt x="3" y="113"/>
                    <a:pt x="3" y="109"/>
                  </a:cubicBezTo>
                  <a:close/>
                  <a:moveTo>
                    <a:pt x="3" y="75"/>
                  </a:moveTo>
                  <a:lnTo>
                    <a:pt x="3" y="75"/>
                  </a:lnTo>
                  <a:cubicBezTo>
                    <a:pt x="3" y="71"/>
                    <a:pt x="7" y="67"/>
                    <a:pt x="12" y="67"/>
                  </a:cubicBezTo>
                  <a:cubicBezTo>
                    <a:pt x="16" y="67"/>
                    <a:pt x="20" y="71"/>
                    <a:pt x="20" y="75"/>
                  </a:cubicBezTo>
                  <a:lnTo>
                    <a:pt x="20" y="75"/>
                  </a:lnTo>
                  <a:cubicBezTo>
                    <a:pt x="20" y="80"/>
                    <a:pt x="16" y="84"/>
                    <a:pt x="12" y="84"/>
                  </a:cubicBezTo>
                  <a:cubicBezTo>
                    <a:pt x="7" y="84"/>
                    <a:pt x="3" y="80"/>
                    <a:pt x="3" y="75"/>
                  </a:cubicBezTo>
                  <a:close/>
                  <a:moveTo>
                    <a:pt x="3" y="42"/>
                  </a:moveTo>
                  <a:lnTo>
                    <a:pt x="3" y="42"/>
                  </a:lnTo>
                  <a:cubicBezTo>
                    <a:pt x="3" y="37"/>
                    <a:pt x="7" y="34"/>
                    <a:pt x="12" y="34"/>
                  </a:cubicBezTo>
                  <a:cubicBezTo>
                    <a:pt x="16" y="34"/>
                    <a:pt x="20" y="37"/>
                    <a:pt x="20" y="42"/>
                  </a:cubicBezTo>
                  <a:lnTo>
                    <a:pt x="20" y="42"/>
                  </a:lnTo>
                  <a:cubicBezTo>
                    <a:pt x="20" y="47"/>
                    <a:pt x="16" y="50"/>
                    <a:pt x="12" y="50"/>
                  </a:cubicBezTo>
                  <a:cubicBezTo>
                    <a:pt x="7" y="50"/>
                    <a:pt x="3" y="47"/>
                    <a:pt x="3" y="42"/>
                  </a:cubicBezTo>
                  <a:close/>
                  <a:moveTo>
                    <a:pt x="3" y="9"/>
                  </a:moveTo>
                  <a:lnTo>
                    <a:pt x="3" y="9"/>
                  </a:lnTo>
                  <a:cubicBezTo>
                    <a:pt x="3" y="4"/>
                    <a:pt x="7" y="0"/>
                    <a:pt x="12" y="0"/>
                  </a:cubicBezTo>
                  <a:cubicBezTo>
                    <a:pt x="16" y="0"/>
                    <a:pt x="20" y="4"/>
                    <a:pt x="20" y="9"/>
                  </a:cubicBezTo>
                  <a:lnTo>
                    <a:pt x="20" y="9"/>
                  </a:lnTo>
                  <a:cubicBezTo>
                    <a:pt x="20" y="13"/>
                    <a:pt x="16" y="17"/>
                    <a:pt x="12" y="17"/>
                  </a:cubicBezTo>
                  <a:cubicBezTo>
                    <a:pt x="7" y="17"/>
                    <a:pt x="3" y="13"/>
                    <a:pt x="3" y="9"/>
                  </a:cubicBez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935680" y="2260440"/>
              <a:ext cx="3240" cy="454320"/>
            </a:xfrm>
            <a:custGeom>
              <a:avLst/>
              <a:gdLst/>
              <a:ahLst/>
              <a:rect l="l" t="t" r="r" b="b"/>
              <a:pathLst>
                <a:path w="20" h="2385">
                  <a:moveTo>
                    <a:pt x="0" y="2376"/>
                  </a:moveTo>
                  <a:lnTo>
                    <a:pt x="0" y="2376"/>
                  </a:lnTo>
                  <a:cubicBezTo>
                    <a:pt x="0" y="2372"/>
                    <a:pt x="4" y="2368"/>
                    <a:pt x="8" y="2368"/>
                  </a:cubicBezTo>
                  <a:cubicBezTo>
                    <a:pt x="13" y="2368"/>
                    <a:pt x="17" y="2372"/>
                    <a:pt x="17" y="2376"/>
                  </a:cubicBezTo>
                  <a:lnTo>
                    <a:pt x="17" y="2376"/>
                  </a:lnTo>
                  <a:cubicBezTo>
                    <a:pt x="17" y="2381"/>
                    <a:pt x="13" y="2385"/>
                    <a:pt x="8" y="2385"/>
                  </a:cubicBezTo>
                  <a:cubicBezTo>
                    <a:pt x="4" y="2385"/>
                    <a:pt x="0" y="2381"/>
                    <a:pt x="0" y="2376"/>
                  </a:cubicBezTo>
                  <a:close/>
                  <a:moveTo>
                    <a:pt x="0" y="2343"/>
                  </a:moveTo>
                  <a:lnTo>
                    <a:pt x="0" y="2343"/>
                  </a:lnTo>
                  <a:cubicBezTo>
                    <a:pt x="0" y="2338"/>
                    <a:pt x="4" y="2335"/>
                    <a:pt x="9" y="2335"/>
                  </a:cubicBezTo>
                  <a:cubicBezTo>
                    <a:pt x="13" y="2335"/>
                    <a:pt x="17" y="2338"/>
                    <a:pt x="17" y="2343"/>
                  </a:cubicBezTo>
                  <a:lnTo>
                    <a:pt x="17" y="2343"/>
                  </a:lnTo>
                  <a:cubicBezTo>
                    <a:pt x="17" y="2348"/>
                    <a:pt x="13" y="2351"/>
                    <a:pt x="9" y="2351"/>
                  </a:cubicBezTo>
                  <a:cubicBezTo>
                    <a:pt x="4" y="2351"/>
                    <a:pt x="0" y="2348"/>
                    <a:pt x="0" y="2343"/>
                  </a:cubicBezTo>
                  <a:close/>
                  <a:moveTo>
                    <a:pt x="0" y="2310"/>
                  </a:moveTo>
                  <a:lnTo>
                    <a:pt x="0" y="2310"/>
                  </a:lnTo>
                  <a:cubicBezTo>
                    <a:pt x="0" y="2305"/>
                    <a:pt x="4" y="2301"/>
                    <a:pt x="9" y="2301"/>
                  </a:cubicBezTo>
                  <a:cubicBezTo>
                    <a:pt x="13" y="2301"/>
                    <a:pt x="17" y="2305"/>
                    <a:pt x="17" y="2310"/>
                  </a:cubicBezTo>
                  <a:lnTo>
                    <a:pt x="17" y="2310"/>
                  </a:lnTo>
                  <a:cubicBezTo>
                    <a:pt x="17" y="2314"/>
                    <a:pt x="13" y="2318"/>
                    <a:pt x="9" y="2318"/>
                  </a:cubicBezTo>
                  <a:cubicBezTo>
                    <a:pt x="4" y="2318"/>
                    <a:pt x="0" y="2314"/>
                    <a:pt x="0" y="2310"/>
                  </a:cubicBezTo>
                  <a:close/>
                  <a:moveTo>
                    <a:pt x="0" y="2276"/>
                  </a:moveTo>
                  <a:lnTo>
                    <a:pt x="0" y="2276"/>
                  </a:lnTo>
                  <a:cubicBezTo>
                    <a:pt x="0" y="2272"/>
                    <a:pt x="4" y="2268"/>
                    <a:pt x="9" y="2268"/>
                  </a:cubicBezTo>
                  <a:cubicBezTo>
                    <a:pt x="13" y="2268"/>
                    <a:pt x="17" y="2272"/>
                    <a:pt x="17" y="2276"/>
                  </a:cubicBezTo>
                  <a:lnTo>
                    <a:pt x="17" y="2276"/>
                  </a:lnTo>
                  <a:cubicBezTo>
                    <a:pt x="17" y="2281"/>
                    <a:pt x="13" y="2285"/>
                    <a:pt x="9" y="2285"/>
                  </a:cubicBezTo>
                  <a:cubicBezTo>
                    <a:pt x="4" y="2285"/>
                    <a:pt x="0" y="2281"/>
                    <a:pt x="0" y="2276"/>
                  </a:cubicBezTo>
                  <a:close/>
                  <a:moveTo>
                    <a:pt x="0" y="2243"/>
                  </a:moveTo>
                  <a:lnTo>
                    <a:pt x="0" y="2243"/>
                  </a:lnTo>
                  <a:cubicBezTo>
                    <a:pt x="0" y="2238"/>
                    <a:pt x="4" y="2235"/>
                    <a:pt x="9" y="2235"/>
                  </a:cubicBezTo>
                  <a:cubicBezTo>
                    <a:pt x="13" y="2235"/>
                    <a:pt x="17" y="2238"/>
                    <a:pt x="17" y="2243"/>
                  </a:cubicBezTo>
                  <a:lnTo>
                    <a:pt x="17" y="2243"/>
                  </a:lnTo>
                  <a:cubicBezTo>
                    <a:pt x="17" y="2248"/>
                    <a:pt x="13" y="2251"/>
                    <a:pt x="9" y="2251"/>
                  </a:cubicBezTo>
                  <a:cubicBezTo>
                    <a:pt x="4" y="2251"/>
                    <a:pt x="0" y="2248"/>
                    <a:pt x="0" y="2243"/>
                  </a:cubicBezTo>
                  <a:close/>
                  <a:moveTo>
                    <a:pt x="0" y="2210"/>
                  </a:moveTo>
                  <a:lnTo>
                    <a:pt x="0" y="2210"/>
                  </a:lnTo>
                  <a:cubicBezTo>
                    <a:pt x="0" y="2205"/>
                    <a:pt x="4" y="2201"/>
                    <a:pt x="9" y="2201"/>
                  </a:cubicBezTo>
                  <a:cubicBezTo>
                    <a:pt x="13" y="2201"/>
                    <a:pt x="17" y="2205"/>
                    <a:pt x="17" y="2210"/>
                  </a:cubicBezTo>
                  <a:lnTo>
                    <a:pt x="17" y="2210"/>
                  </a:lnTo>
                  <a:cubicBezTo>
                    <a:pt x="17" y="2214"/>
                    <a:pt x="13" y="2218"/>
                    <a:pt x="9" y="2218"/>
                  </a:cubicBezTo>
                  <a:cubicBezTo>
                    <a:pt x="4" y="2218"/>
                    <a:pt x="0" y="2214"/>
                    <a:pt x="0" y="2210"/>
                  </a:cubicBezTo>
                  <a:close/>
                  <a:moveTo>
                    <a:pt x="0" y="2176"/>
                  </a:moveTo>
                  <a:lnTo>
                    <a:pt x="0" y="2176"/>
                  </a:lnTo>
                  <a:cubicBezTo>
                    <a:pt x="0" y="2172"/>
                    <a:pt x="4" y="2168"/>
                    <a:pt x="9" y="2168"/>
                  </a:cubicBezTo>
                  <a:cubicBezTo>
                    <a:pt x="13" y="2168"/>
                    <a:pt x="17" y="2172"/>
                    <a:pt x="17" y="2176"/>
                  </a:cubicBezTo>
                  <a:lnTo>
                    <a:pt x="17" y="2176"/>
                  </a:lnTo>
                  <a:cubicBezTo>
                    <a:pt x="17" y="2181"/>
                    <a:pt x="13" y="2185"/>
                    <a:pt x="9" y="2185"/>
                  </a:cubicBezTo>
                  <a:cubicBezTo>
                    <a:pt x="4" y="2185"/>
                    <a:pt x="0" y="2181"/>
                    <a:pt x="0" y="2176"/>
                  </a:cubicBezTo>
                  <a:close/>
                  <a:moveTo>
                    <a:pt x="0" y="2143"/>
                  </a:moveTo>
                  <a:lnTo>
                    <a:pt x="0" y="2143"/>
                  </a:lnTo>
                  <a:cubicBezTo>
                    <a:pt x="0" y="2138"/>
                    <a:pt x="4" y="2135"/>
                    <a:pt x="9" y="2135"/>
                  </a:cubicBezTo>
                  <a:cubicBezTo>
                    <a:pt x="13" y="2135"/>
                    <a:pt x="17" y="2138"/>
                    <a:pt x="17" y="2143"/>
                  </a:cubicBezTo>
                  <a:lnTo>
                    <a:pt x="17" y="2143"/>
                  </a:lnTo>
                  <a:cubicBezTo>
                    <a:pt x="17" y="2148"/>
                    <a:pt x="13" y="2151"/>
                    <a:pt x="9" y="2151"/>
                  </a:cubicBezTo>
                  <a:cubicBezTo>
                    <a:pt x="4" y="2151"/>
                    <a:pt x="0" y="2148"/>
                    <a:pt x="0" y="2143"/>
                  </a:cubicBezTo>
                  <a:close/>
                  <a:moveTo>
                    <a:pt x="0" y="2110"/>
                  </a:moveTo>
                  <a:lnTo>
                    <a:pt x="0" y="2110"/>
                  </a:lnTo>
                  <a:cubicBezTo>
                    <a:pt x="0" y="2105"/>
                    <a:pt x="4" y="2101"/>
                    <a:pt x="9" y="2101"/>
                  </a:cubicBezTo>
                  <a:cubicBezTo>
                    <a:pt x="13" y="2101"/>
                    <a:pt x="17" y="2105"/>
                    <a:pt x="17" y="2110"/>
                  </a:cubicBezTo>
                  <a:lnTo>
                    <a:pt x="17" y="2110"/>
                  </a:lnTo>
                  <a:cubicBezTo>
                    <a:pt x="17" y="2114"/>
                    <a:pt x="13" y="2118"/>
                    <a:pt x="9" y="2118"/>
                  </a:cubicBezTo>
                  <a:cubicBezTo>
                    <a:pt x="4" y="2118"/>
                    <a:pt x="0" y="2114"/>
                    <a:pt x="0" y="2110"/>
                  </a:cubicBezTo>
                  <a:close/>
                  <a:moveTo>
                    <a:pt x="1" y="2076"/>
                  </a:moveTo>
                  <a:lnTo>
                    <a:pt x="1" y="2076"/>
                  </a:lnTo>
                  <a:cubicBezTo>
                    <a:pt x="1" y="2072"/>
                    <a:pt x="4" y="2068"/>
                    <a:pt x="9" y="2068"/>
                  </a:cubicBezTo>
                  <a:cubicBezTo>
                    <a:pt x="13" y="2068"/>
                    <a:pt x="17" y="2072"/>
                    <a:pt x="17" y="2076"/>
                  </a:cubicBezTo>
                  <a:lnTo>
                    <a:pt x="17" y="2076"/>
                  </a:lnTo>
                  <a:cubicBezTo>
                    <a:pt x="17" y="2081"/>
                    <a:pt x="13" y="2085"/>
                    <a:pt x="9" y="2085"/>
                  </a:cubicBezTo>
                  <a:cubicBezTo>
                    <a:pt x="4" y="2085"/>
                    <a:pt x="1" y="2081"/>
                    <a:pt x="1" y="2076"/>
                  </a:cubicBezTo>
                  <a:close/>
                  <a:moveTo>
                    <a:pt x="1" y="2043"/>
                  </a:moveTo>
                  <a:lnTo>
                    <a:pt x="1" y="2043"/>
                  </a:lnTo>
                  <a:cubicBezTo>
                    <a:pt x="1" y="2038"/>
                    <a:pt x="4" y="2035"/>
                    <a:pt x="9" y="2035"/>
                  </a:cubicBezTo>
                  <a:cubicBezTo>
                    <a:pt x="14" y="2035"/>
                    <a:pt x="17" y="2038"/>
                    <a:pt x="17" y="2043"/>
                  </a:cubicBezTo>
                  <a:lnTo>
                    <a:pt x="17" y="2043"/>
                  </a:lnTo>
                  <a:cubicBezTo>
                    <a:pt x="17" y="2048"/>
                    <a:pt x="14" y="2051"/>
                    <a:pt x="9" y="2051"/>
                  </a:cubicBezTo>
                  <a:cubicBezTo>
                    <a:pt x="4" y="2051"/>
                    <a:pt x="1" y="2048"/>
                    <a:pt x="1" y="2043"/>
                  </a:cubicBezTo>
                  <a:close/>
                  <a:moveTo>
                    <a:pt x="1" y="2010"/>
                  </a:moveTo>
                  <a:lnTo>
                    <a:pt x="1" y="2010"/>
                  </a:lnTo>
                  <a:cubicBezTo>
                    <a:pt x="1" y="2005"/>
                    <a:pt x="4" y="2001"/>
                    <a:pt x="9" y="2001"/>
                  </a:cubicBezTo>
                  <a:cubicBezTo>
                    <a:pt x="14" y="2001"/>
                    <a:pt x="17" y="2005"/>
                    <a:pt x="17" y="2010"/>
                  </a:cubicBezTo>
                  <a:lnTo>
                    <a:pt x="17" y="2010"/>
                  </a:lnTo>
                  <a:cubicBezTo>
                    <a:pt x="17" y="2014"/>
                    <a:pt x="14" y="2018"/>
                    <a:pt x="9" y="2018"/>
                  </a:cubicBezTo>
                  <a:cubicBezTo>
                    <a:pt x="4" y="2018"/>
                    <a:pt x="1" y="2014"/>
                    <a:pt x="1" y="2010"/>
                  </a:cubicBezTo>
                  <a:close/>
                  <a:moveTo>
                    <a:pt x="1" y="1976"/>
                  </a:moveTo>
                  <a:lnTo>
                    <a:pt x="1" y="1976"/>
                  </a:lnTo>
                  <a:cubicBezTo>
                    <a:pt x="1" y="1972"/>
                    <a:pt x="4" y="1968"/>
                    <a:pt x="9" y="1968"/>
                  </a:cubicBezTo>
                  <a:cubicBezTo>
                    <a:pt x="14" y="1968"/>
                    <a:pt x="17" y="1972"/>
                    <a:pt x="17" y="1976"/>
                  </a:cubicBezTo>
                  <a:lnTo>
                    <a:pt x="17" y="1976"/>
                  </a:lnTo>
                  <a:cubicBezTo>
                    <a:pt x="17" y="1981"/>
                    <a:pt x="14" y="1985"/>
                    <a:pt x="9" y="1985"/>
                  </a:cubicBezTo>
                  <a:cubicBezTo>
                    <a:pt x="4" y="1985"/>
                    <a:pt x="1" y="1981"/>
                    <a:pt x="1" y="1976"/>
                  </a:cubicBezTo>
                  <a:close/>
                  <a:moveTo>
                    <a:pt x="1" y="1943"/>
                  </a:moveTo>
                  <a:lnTo>
                    <a:pt x="1" y="1943"/>
                  </a:lnTo>
                  <a:cubicBezTo>
                    <a:pt x="1" y="1938"/>
                    <a:pt x="4" y="1935"/>
                    <a:pt x="9" y="1935"/>
                  </a:cubicBezTo>
                  <a:cubicBezTo>
                    <a:pt x="14" y="1935"/>
                    <a:pt x="17" y="1938"/>
                    <a:pt x="17" y="1943"/>
                  </a:cubicBezTo>
                  <a:lnTo>
                    <a:pt x="17" y="1943"/>
                  </a:lnTo>
                  <a:cubicBezTo>
                    <a:pt x="17" y="1948"/>
                    <a:pt x="14" y="1951"/>
                    <a:pt x="9" y="1951"/>
                  </a:cubicBezTo>
                  <a:cubicBezTo>
                    <a:pt x="4" y="1951"/>
                    <a:pt x="1" y="1948"/>
                    <a:pt x="1" y="1943"/>
                  </a:cubicBezTo>
                  <a:close/>
                  <a:moveTo>
                    <a:pt x="1" y="1910"/>
                  </a:moveTo>
                  <a:lnTo>
                    <a:pt x="1" y="1910"/>
                  </a:lnTo>
                  <a:cubicBezTo>
                    <a:pt x="1" y="1905"/>
                    <a:pt x="4" y="1901"/>
                    <a:pt x="9" y="1901"/>
                  </a:cubicBezTo>
                  <a:cubicBezTo>
                    <a:pt x="14" y="1901"/>
                    <a:pt x="17" y="1905"/>
                    <a:pt x="17" y="1910"/>
                  </a:cubicBezTo>
                  <a:lnTo>
                    <a:pt x="17" y="1910"/>
                  </a:lnTo>
                  <a:cubicBezTo>
                    <a:pt x="17" y="1914"/>
                    <a:pt x="14" y="1918"/>
                    <a:pt x="9" y="1918"/>
                  </a:cubicBezTo>
                  <a:cubicBezTo>
                    <a:pt x="4" y="1918"/>
                    <a:pt x="1" y="1914"/>
                    <a:pt x="1" y="1910"/>
                  </a:cubicBezTo>
                  <a:close/>
                  <a:moveTo>
                    <a:pt x="1" y="1876"/>
                  </a:moveTo>
                  <a:lnTo>
                    <a:pt x="1" y="1876"/>
                  </a:lnTo>
                  <a:cubicBezTo>
                    <a:pt x="1" y="1872"/>
                    <a:pt x="5" y="1868"/>
                    <a:pt x="9" y="1868"/>
                  </a:cubicBezTo>
                  <a:cubicBezTo>
                    <a:pt x="14" y="1868"/>
                    <a:pt x="17" y="1872"/>
                    <a:pt x="17" y="1876"/>
                  </a:cubicBezTo>
                  <a:lnTo>
                    <a:pt x="17" y="1876"/>
                  </a:lnTo>
                  <a:cubicBezTo>
                    <a:pt x="17" y="1881"/>
                    <a:pt x="14" y="1885"/>
                    <a:pt x="9" y="1885"/>
                  </a:cubicBezTo>
                  <a:cubicBezTo>
                    <a:pt x="5" y="1885"/>
                    <a:pt x="1" y="1881"/>
                    <a:pt x="1" y="1876"/>
                  </a:cubicBezTo>
                  <a:close/>
                  <a:moveTo>
                    <a:pt x="1" y="1843"/>
                  </a:moveTo>
                  <a:lnTo>
                    <a:pt x="1" y="1843"/>
                  </a:lnTo>
                  <a:cubicBezTo>
                    <a:pt x="1" y="1838"/>
                    <a:pt x="5" y="1834"/>
                    <a:pt x="9" y="1834"/>
                  </a:cubicBezTo>
                  <a:cubicBezTo>
                    <a:pt x="14" y="1834"/>
                    <a:pt x="18" y="1838"/>
                    <a:pt x="18" y="1843"/>
                  </a:cubicBezTo>
                  <a:lnTo>
                    <a:pt x="18" y="1843"/>
                  </a:lnTo>
                  <a:cubicBezTo>
                    <a:pt x="18" y="1847"/>
                    <a:pt x="14" y="1851"/>
                    <a:pt x="9" y="1851"/>
                  </a:cubicBezTo>
                  <a:cubicBezTo>
                    <a:pt x="5" y="1851"/>
                    <a:pt x="1" y="1847"/>
                    <a:pt x="1" y="1843"/>
                  </a:cubicBezTo>
                  <a:close/>
                  <a:moveTo>
                    <a:pt x="1" y="1809"/>
                  </a:moveTo>
                  <a:lnTo>
                    <a:pt x="1" y="1809"/>
                  </a:lnTo>
                  <a:cubicBezTo>
                    <a:pt x="1" y="1805"/>
                    <a:pt x="5" y="1801"/>
                    <a:pt x="9" y="1801"/>
                  </a:cubicBezTo>
                  <a:cubicBezTo>
                    <a:pt x="14" y="1801"/>
                    <a:pt x="18" y="1805"/>
                    <a:pt x="18" y="1809"/>
                  </a:cubicBezTo>
                  <a:lnTo>
                    <a:pt x="18" y="1809"/>
                  </a:lnTo>
                  <a:cubicBezTo>
                    <a:pt x="18" y="1814"/>
                    <a:pt x="14" y="1818"/>
                    <a:pt x="9" y="1818"/>
                  </a:cubicBezTo>
                  <a:cubicBezTo>
                    <a:pt x="5" y="1818"/>
                    <a:pt x="1" y="1814"/>
                    <a:pt x="1" y="1809"/>
                  </a:cubicBezTo>
                  <a:close/>
                  <a:moveTo>
                    <a:pt x="1" y="1776"/>
                  </a:moveTo>
                  <a:lnTo>
                    <a:pt x="1" y="1776"/>
                  </a:lnTo>
                  <a:cubicBezTo>
                    <a:pt x="1" y="1772"/>
                    <a:pt x="5" y="1768"/>
                    <a:pt x="9" y="1768"/>
                  </a:cubicBezTo>
                  <a:cubicBezTo>
                    <a:pt x="14" y="1768"/>
                    <a:pt x="18" y="1772"/>
                    <a:pt x="18" y="1776"/>
                  </a:cubicBezTo>
                  <a:lnTo>
                    <a:pt x="18" y="1776"/>
                  </a:lnTo>
                  <a:cubicBezTo>
                    <a:pt x="18" y="1781"/>
                    <a:pt x="14" y="1784"/>
                    <a:pt x="9" y="1784"/>
                  </a:cubicBezTo>
                  <a:cubicBezTo>
                    <a:pt x="5" y="1784"/>
                    <a:pt x="1" y="1781"/>
                    <a:pt x="1" y="1776"/>
                  </a:cubicBezTo>
                  <a:close/>
                  <a:moveTo>
                    <a:pt x="1" y="1743"/>
                  </a:moveTo>
                  <a:lnTo>
                    <a:pt x="1" y="1743"/>
                  </a:lnTo>
                  <a:cubicBezTo>
                    <a:pt x="1" y="1738"/>
                    <a:pt x="5" y="1734"/>
                    <a:pt x="9" y="1734"/>
                  </a:cubicBezTo>
                  <a:cubicBezTo>
                    <a:pt x="14" y="1734"/>
                    <a:pt x="18" y="1738"/>
                    <a:pt x="18" y="1743"/>
                  </a:cubicBezTo>
                  <a:lnTo>
                    <a:pt x="18" y="1743"/>
                  </a:lnTo>
                  <a:cubicBezTo>
                    <a:pt x="18" y="1747"/>
                    <a:pt x="14" y="1751"/>
                    <a:pt x="9" y="1751"/>
                  </a:cubicBezTo>
                  <a:cubicBezTo>
                    <a:pt x="5" y="1751"/>
                    <a:pt x="1" y="1747"/>
                    <a:pt x="1" y="1743"/>
                  </a:cubicBezTo>
                  <a:close/>
                  <a:moveTo>
                    <a:pt x="1" y="1709"/>
                  </a:moveTo>
                  <a:lnTo>
                    <a:pt x="1" y="1709"/>
                  </a:lnTo>
                  <a:cubicBezTo>
                    <a:pt x="1" y="1705"/>
                    <a:pt x="5" y="1701"/>
                    <a:pt x="9" y="1701"/>
                  </a:cubicBezTo>
                  <a:cubicBezTo>
                    <a:pt x="14" y="1701"/>
                    <a:pt x="18" y="1705"/>
                    <a:pt x="18" y="1709"/>
                  </a:cubicBezTo>
                  <a:lnTo>
                    <a:pt x="18" y="1709"/>
                  </a:lnTo>
                  <a:cubicBezTo>
                    <a:pt x="18" y="1714"/>
                    <a:pt x="14" y="1718"/>
                    <a:pt x="9" y="1718"/>
                  </a:cubicBezTo>
                  <a:cubicBezTo>
                    <a:pt x="5" y="1718"/>
                    <a:pt x="1" y="1714"/>
                    <a:pt x="1" y="1709"/>
                  </a:cubicBezTo>
                  <a:close/>
                  <a:moveTo>
                    <a:pt x="1" y="1676"/>
                  </a:moveTo>
                  <a:lnTo>
                    <a:pt x="1" y="1676"/>
                  </a:lnTo>
                  <a:cubicBezTo>
                    <a:pt x="1" y="1671"/>
                    <a:pt x="5" y="1668"/>
                    <a:pt x="9" y="1668"/>
                  </a:cubicBezTo>
                  <a:cubicBezTo>
                    <a:pt x="14" y="1668"/>
                    <a:pt x="18" y="1671"/>
                    <a:pt x="18" y="1676"/>
                  </a:cubicBezTo>
                  <a:lnTo>
                    <a:pt x="18" y="1676"/>
                  </a:lnTo>
                  <a:cubicBezTo>
                    <a:pt x="18" y="1681"/>
                    <a:pt x="14" y="1684"/>
                    <a:pt x="9" y="1684"/>
                  </a:cubicBezTo>
                  <a:cubicBezTo>
                    <a:pt x="5" y="1684"/>
                    <a:pt x="1" y="1681"/>
                    <a:pt x="1" y="1676"/>
                  </a:cubicBezTo>
                  <a:close/>
                  <a:moveTo>
                    <a:pt x="1" y="1643"/>
                  </a:moveTo>
                  <a:lnTo>
                    <a:pt x="1" y="1643"/>
                  </a:lnTo>
                  <a:cubicBezTo>
                    <a:pt x="1" y="1638"/>
                    <a:pt x="5" y="1634"/>
                    <a:pt x="9" y="1634"/>
                  </a:cubicBezTo>
                  <a:cubicBezTo>
                    <a:pt x="14" y="1634"/>
                    <a:pt x="18" y="1638"/>
                    <a:pt x="18" y="1643"/>
                  </a:cubicBezTo>
                  <a:lnTo>
                    <a:pt x="18" y="1643"/>
                  </a:lnTo>
                  <a:cubicBezTo>
                    <a:pt x="18" y="1647"/>
                    <a:pt x="14" y="1651"/>
                    <a:pt x="9" y="1651"/>
                  </a:cubicBezTo>
                  <a:cubicBezTo>
                    <a:pt x="5" y="1651"/>
                    <a:pt x="1" y="1647"/>
                    <a:pt x="1" y="1643"/>
                  </a:cubicBezTo>
                  <a:close/>
                  <a:moveTo>
                    <a:pt x="1" y="1609"/>
                  </a:moveTo>
                  <a:lnTo>
                    <a:pt x="1" y="1609"/>
                  </a:lnTo>
                  <a:cubicBezTo>
                    <a:pt x="1" y="1605"/>
                    <a:pt x="5" y="1601"/>
                    <a:pt x="10" y="1601"/>
                  </a:cubicBezTo>
                  <a:cubicBezTo>
                    <a:pt x="14" y="1601"/>
                    <a:pt x="18" y="1605"/>
                    <a:pt x="18" y="1609"/>
                  </a:cubicBezTo>
                  <a:lnTo>
                    <a:pt x="18" y="1609"/>
                  </a:lnTo>
                  <a:cubicBezTo>
                    <a:pt x="18" y="1614"/>
                    <a:pt x="14" y="1618"/>
                    <a:pt x="10" y="1618"/>
                  </a:cubicBezTo>
                  <a:cubicBezTo>
                    <a:pt x="5" y="1618"/>
                    <a:pt x="1" y="1614"/>
                    <a:pt x="1" y="1609"/>
                  </a:cubicBezTo>
                  <a:close/>
                  <a:moveTo>
                    <a:pt x="1" y="1576"/>
                  </a:moveTo>
                  <a:lnTo>
                    <a:pt x="1" y="1576"/>
                  </a:lnTo>
                  <a:cubicBezTo>
                    <a:pt x="1" y="1571"/>
                    <a:pt x="5" y="1568"/>
                    <a:pt x="10" y="1568"/>
                  </a:cubicBezTo>
                  <a:cubicBezTo>
                    <a:pt x="14" y="1568"/>
                    <a:pt x="18" y="1571"/>
                    <a:pt x="18" y="1576"/>
                  </a:cubicBezTo>
                  <a:lnTo>
                    <a:pt x="18" y="1576"/>
                  </a:lnTo>
                  <a:cubicBezTo>
                    <a:pt x="18" y="1581"/>
                    <a:pt x="14" y="1584"/>
                    <a:pt x="10" y="1584"/>
                  </a:cubicBezTo>
                  <a:cubicBezTo>
                    <a:pt x="5" y="1584"/>
                    <a:pt x="1" y="1581"/>
                    <a:pt x="1" y="1576"/>
                  </a:cubicBezTo>
                  <a:close/>
                  <a:moveTo>
                    <a:pt x="1" y="1543"/>
                  </a:moveTo>
                  <a:lnTo>
                    <a:pt x="1" y="1543"/>
                  </a:lnTo>
                  <a:cubicBezTo>
                    <a:pt x="1" y="1538"/>
                    <a:pt x="5" y="1534"/>
                    <a:pt x="10" y="1534"/>
                  </a:cubicBezTo>
                  <a:cubicBezTo>
                    <a:pt x="14" y="1534"/>
                    <a:pt x="18" y="1538"/>
                    <a:pt x="18" y="1543"/>
                  </a:cubicBezTo>
                  <a:lnTo>
                    <a:pt x="18" y="1543"/>
                  </a:lnTo>
                  <a:cubicBezTo>
                    <a:pt x="18" y="1547"/>
                    <a:pt x="14" y="1551"/>
                    <a:pt x="10" y="1551"/>
                  </a:cubicBezTo>
                  <a:cubicBezTo>
                    <a:pt x="5" y="1551"/>
                    <a:pt x="1" y="1547"/>
                    <a:pt x="1" y="1543"/>
                  </a:cubicBezTo>
                  <a:close/>
                  <a:moveTo>
                    <a:pt x="1" y="1509"/>
                  </a:moveTo>
                  <a:lnTo>
                    <a:pt x="1" y="1509"/>
                  </a:lnTo>
                  <a:cubicBezTo>
                    <a:pt x="1" y="1505"/>
                    <a:pt x="5" y="1501"/>
                    <a:pt x="10" y="1501"/>
                  </a:cubicBezTo>
                  <a:cubicBezTo>
                    <a:pt x="14" y="1501"/>
                    <a:pt x="18" y="1505"/>
                    <a:pt x="18" y="1509"/>
                  </a:cubicBezTo>
                  <a:lnTo>
                    <a:pt x="18" y="1509"/>
                  </a:lnTo>
                  <a:cubicBezTo>
                    <a:pt x="18" y="1514"/>
                    <a:pt x="14" y="1518"/>
                    <a:pt x="10" y="1518"/>
                  </a:cubicBezTo>
                  <a:cubicBezTo>
                    <a:pt x="5" y="1518"/>
                    <a:pt x="1" y="1514"/>
                    <a:pt x="1" y="1509"/>
                  </a:cubicBezTo>
                  <a:close/>
                  <a:moveTo>
                    <a:pt x="1" y="1476"/>
                  </a:moveTo>
                  <a:lnTo>
                    <a:pt x="1" y="1476"/>
                  </a:lnTo>
                  <a:cubicBezTo>
                    <a:pt x="1" y="1471"/>
                    <a:pt x="5" y="1468"/>
                    <a:pt x="10" y="1468"/>
                  </a:cubicBezTo>
                  <a:cubicBezTo>
                    <a:pt x="14" y="1468"/>
                    <a:pt x="18" y="1471"/>
                    <a:pt x="18" y="1476"/>
                  </a:cubicBezTo>
                  <a:lnTo>
                    <a:pt x="18" y="1476"/>
                  </a:lnTo>
                  <a:cubicBezTo>
                    <a:pt x="18" y="1481"/>
                    <a:pt x="14" y="1484"/>
                    <a:pt x="10" y="1484"/>
                  </a:cubicBezTo>
                  <a:cubicBezTo>
                    <a:pt x="5" y="1484"/>
                    <a:pt x="1" y="1481"/>
                    <a:pt x="1" y="1476"/>
                  </a:cubicBezTo>
                  <a:close/>
                  <a:moveTo>
                    <a:pt x="1" y="1443"/>
                  </a:moveTo>
                  <a:lnTo>
                    <a:pt x="1" y="1443"/>
                  </a:lnTo>
                  <a:cubicBezTo>
                    <a:pt x="1" y="1438"/>
                    <a:pt x="5" y="1434"/>
                    <a:pt x="10" y="1434"/>
                  </a:cubicBezTo>
                  <a:cubicBezTo>
                    <a:pt x="14" y="1434"/>
                    <a:pt x="18" y="1438"/>
                    <a:pt x="18" y="1443"/>
                  </a:cubicBezTo>
                  <a:lnTo>
                    <a:pt x="18" y="1443"/>
                  </a:lnTo>
                  <a:cubicBezTo>
                    <a:pt x="18" y="1447"/>
                    <a:pt x="14" y="1451"/>
                    <a:pt x="10" y="1451"/>
                  </a:cubicBezTo>
                  <a:cubicBezTo>
                    <a:pt x="5" y="1451"/>
                    <a:pt x="1" y="1447"/>
                    <a:pt x="1" y="1443"/>
                  </a:cubicBezTo>
                  <a:close/>
                  <a:moveTo>
                    <a:pt x="1" y="1409"/>
                  </a:moveTo>
                  <a:lnTo>
                    <a:pt x="1" y="1409"/>
                  </a:lnTo>
                  <a:cubicBezTo>
                    <a:pt x="1" y="1405"/>
                    <a:pt x="5" y="1401"/>
                    <a:pt x="10" y="1401"/>
                  </a:cubicBezTo>
                  <a:cubicBezTo>
                    <a:pt x="14" y="1401"/>
                    <a:pt x="18" y="1405"/>
                    <a:pt x="18" y="1409"/>
                  </a:cubicBezTo>
                  <a:lnTo>
                    <a:pt x="18" y="1409"/>
                  </a:lnTo>
                  <a:cubicBezTo>
                    <a:pt x="18" y="1414"/>
                    <a:pt x="14" y="1418"/>
                    <a:pt x="10" y="1418"/>
                  </a:cubicBezTo>
                  <a:cubicBezTo>
                    <a:pt x="5" y="1418"/>
                    <a:pt x="1" y="1414"/>
                    <a:pt x="1" y="1409"/>
                  </a:cubicBezTo>
                  <a:close/>
                  <a:moveTo>
                    <a:pt x="2" y="1376"/>
                  </a:moveTo>
                  <a:lnTo>
                    <a:pt x="2" y="1376"/>
                  </a:lnTo>
                  <a:cubicBezTo>
                    <a:pt x="2" y="1371"/>
                    <a:pt x="5" y="1368"/>
                    <a:pt x="10" y="1368"/>
                  </a:cubicBezTo>
                  <a:cubicBezTo>
                    <a:pt x="14" y="1368"/>
                    <a:pt x="18" y="1371"/>
                    <a:pt x="18" y="1376"/>
                  </a:cubicBezTo>
                  <a:lnTo>
                    <a:pt x="18" y="1376"/>
                  </a:lnTo>
                  <a:cubicBezTo>
                    <a:pt x="18" y="1381"/>
                    <a:pt x="14" y="1384"/>
                    <a:pt x="10" y="1384"/>
                  </a:cubicBezTo>
                  <a:cubicBezTo>
                    <a:pt x="5" y="1384"/>
                    <a:pt x="2" y="1381"/>
                    <a:pt x="2" y="1376"/>
                  </a:cubicBezTo>
                  <a:close/>
                  <a:moveTo>
                    <a:pt x="2" y="1343"/>
                  </a:moveTo>
                  <a:lnTo>
                    <a:pt x="2" y="1343"/>
                  </a:lnTo>
                  <a:cubicBezTo>
                    <a:pt x="2" y="1338"/>
                    <a:pt x="5" y="1334"/>
                    <a:pt x="10" y="1334"/>
                  </a:cubicBezTo>
                  <a:cubicBezTo>
                    <a:pt x="14" y="1334"/>
                    <a:pt x="18" y="1338"/>
                    <a:pt x="18" y="1343"/>
                  </a:cubicBezTo>
                  <a:lnTo>
                    <a:pt x="18" y="1343"/>
                  </a:lnTo>
                  <a:cubicBezTo>
                    <a:pt x="18" y="1347"/>
                    <a:pt x="14" y="1351"/>
                    <a:pt x="10" y="1351"/>
                  </a:cubicBezTo>
                  <a:cubicBezTo>
                    <a:pt x="5" y="1351"/>
                    <a:pt x="2" y="1347"/>
                    <a:pt x="2" y="1343"/>
                  </a:cubicBezTo>
                  <a:close/>
                  <a:moveTo>
                    <a:pt x="2" y="1309"/>
                  </a:moveTo>
                  <a:lnTo>
                    <a:pt x="2" y="1309"/>
                  </a:lnTo>
                  <a:cubicBezTo>
                    <a:pt x="2" y="1305"/>
                    <a:pt x="5" y="1301"/>
                    <a:pt x="10" y="1301"/>
                  </a:cubicBezTo>
                  <a:cubicBezTo>
                    <a:pt x="15" y="1301"/>
                    <a:pt x="18" y="1305"/>
                    <a:pt x="18" y="1309"/>
                  </a:cubicBezTo>
                  <a:lnTo>
                    <a:pt x="18" y="1309"/>
                  </a:lnTo>
                  <a:cubicBezTo>
                    <a:pt x="18" y="1314"/>
                    <a:pt x="15" y="1318"/>
                    <a:pt x="10" y="1318"/>
                  </a:cubicBezTo>
                  <a:cubicBezTo>
                    <a:pt x="5" y="1318"/>
                    <a:pt x="2" y="1314"/>
                    <a:pt x="2" y="1309"/>
                  </a:cubicBezTo>
                  <a:close/>
                  <a:moveTo>
                    <a:pt x="2" y="1276"/>
                  </a:moveTo>
                  <a:lnTo>
                    <a:pt x="2" y="1276"/>
                  </a:lnTo>
                  <a:cubicBezTo>
                    <a:pt x="2" y="1271"/>
                    <a:pt x="5" y="1268"/>
                    <a:pt x="10" y="1268"/>
                  </a:cubicBezTo>
                  <a:cubicBezTo>
                    <a:pt x="15" y="1268"/>
                    <a:pt x="18" y="1271"/>
                    <a:pt x="18" y="1276"/>
                  </a:cubicBezTo>
                  <a:lnTo>
                    <a:pt x="18" y="1276"/>
                  </a:lnTo>
                  <a:cubicBezTo>
                    <a:pt x="18" y="1280"/>
                    <a:pt x="15" y="1284"/>
                    <a:pt x="10" y="1284"/>
                  </a:cubicBezTo>
                  <a:cubicBezTo>
                    <a:pt x="5" y="1284"/>
                    <a:pt x="2" y="1280"/>
                    <a:pt x="2" y="1276"/>
                  </a:cubicBezTo>
                  <a:close/>
                  <a:moveTo>
                    <a:pt x="2" y="1243"/>
                  </a:moveTo>
                  <a:lnTo>
                    <a:pt x="2" y="1243"/>
                  </a:lnTo>
                  <a:cubicBezTo>
                    <a:pt x="2" y="1238"/>
                    <a:pt x="5" y="1234"/>
                    <a:pt x="10" y="1234"/>
                  </a:cubicBezTo>
                  <a:cubicBezTo>
                    <a:pt x="15" y="1234"/>
                    <a:pt x="18" y="1238"/>
                    <a:pt x="18" y="1243"/>
                  </a:cubicBezTo>
                  <a:lnTo>
                    <a:pt x="18" y="1243"/>
                  </a:lnTo>
                  <a:cubicBezTo>
                    <a:pt x="18" y="1247"/>
                    <a:pt x="15" y="1251"/>
                    <a:pt x="10" y="1251"/>
                  </a:cubicBezTo>
                  <a:cubicBezTo>
                    <a:pt x="5" y="1251"/>
                    <a:pt x="2" y="1247"/>
                    <a:pt x="2" y="1243"/>
                  </a:cubicBezTo>
                  <a:close/>
                  <a:moveTo>
                    <a:pt x="2" y="1209"/>
                  </a:moveTo>
                  <a:lnTo>
                    <a:pt x="2" y="1209"/>
                  </a:lnTo>
                  <a:cubicBezTo>
                    <a:pt x="2" y="1205"/>
                    <a:pt x="5" y="1201"/>
                    <a:pt x="10" y="1201"/>
                  </a:cubicBezTo>
                  <a:cubicBezTo>
                    <a:pt x="15" y="1201"/>
                    <a:pt x="18" y="1205"/>
                    <a:pt x="18" y="1209"/>
                  </a:cubicBezTo>
                  <a:lnTo>
                    <a:pt x="18" y="1209"/>
                  </a:lnTo>
                  <a:cubicBezTo>
                    <a:pt x="18" y="1214"/>
                    <a:pt x="15" y="1218"/>
                    <a:pt x="10" y="1218"/>
                  </a:cubicBezTo>
                  <a:cubicBezTo>
                    <a:pt x="5" y="1218"/>
                    <a:pt x="2" y="1214"/>
                    <a:pt x="2" y="1209"/>
                  </a:cubicBezTo>
                  <a:close/>
                  <a:moveTo>
                    <a:pt x="2" y="1176"/>
                  </a:moveTo>
                  <a:lnTo>
                    <a:pt x="2" y="1176"/>
                  </a:lnTo>
                  <a:cubicBezTo>
                    <a:pt x="2" y="1171"/>
                    <a:pt x="6" y="1167"/>
                    <a:pt x="10" y="1167"/>
                  </a:cubicBezTo>
                  <a:cubicBezTo>
                    <a:pt x="15" y="1167"/>
                    <a:pt x="18" y="1171"/>
                    <a:pt x="18" y="1176"/>
                  </a:cubicBezTo>
                  <a:lnTo>
                    <a:pt x="18" y="1176"/>
                  </a:lnTo>
                  <a:cubicBezTo>
                    <a:pt x="18" y="1180"/>
                    <a:pt x="15" y="1184"/>
                    <a:pt x="10" y="1184"/>
                  </a:cubicBezTo>
                  <a:cubicBezTo>
                    <a:pt x="6" y="1184"/>
                    <a:pt x="2" y="1180"/>
                    <a:pt x="2" y="1176"/>
                  </a:cubicBezTo>
                  <a:close/>
                  <a:moveTo>
                    <a:pt x="2" y="1142"/>
                  </a:moveTo>
                  <a:lnTo>
                    <a:pt x="2" y="1142"/>
                  </a:lnTo>
                  <a:cubicBezTo>
                    <a:pt x="2" y="1138"/>
                    <a:pt x="6" y="1134"/>
                    <a:pt x="10" y="1134"/>
                  </a:cubicBezTo>
                  <a:cubicBezTo>
                    <a:pt x="15" y="1134"/>
                    <a:pt x="18" y="1138"/>
                    <a:pt x="18" y="1142"/>
                  </a:cubicBezTo>
                  <a:lnTo>
                    <a:pt x="18" y="1142"/>
                  </a:lnTo>
                  <a:cubicBezTo>
                    <a:pt x="18" y="1147"/>
                    <a:pt x="15" y="1151"/>
                    <a:pt x="10" y="1151"/>
                  </a:cubicBezTo>
                  <a:cubicBezTo>
                    <a:pt x="6" y="1151"/>
                    <a:pt x="2" y="1147"/>
                    <a:pt x="2" y="1142"/>
                  </a:cubicBezTo>
                  <a:close/>
                  <a:moveTo>
                    <a:pt x="2" y="1109"/>
                  </a:moveTo>
                  <a:lnTo>
                    <a:pt x="2" y="1109"/>
                  </a:lnTo>
                  <a:cubicBezTo>
                    <a:pt x="2" y="1105"/>
                    <a:pt x="6" y="1101"/>
                    <a:pt x="10" y="1101"/>
                  </a:cubicBezTo>
                  <a:cubicBezTo>
                    <a:pt x="15" y="1101"/>
                    <a:pt x="19" y="1105"/>
                    <a:pt x="19" y="1109"/>
                  </a:cubicBezTo>
                  <a:lnTo>
                    <a:pt x="19" y="1109"/>
                  </a:lnTo>
                  <a:cubicBezTo>
                    <a:pt x="19" y="1114"/>
                    <a:pt x="15" y="1117"/>
                    <a:pt x="10" y="1117"/>
                  </a:cubicBezTo>
                  <a:cubicBezTo>
                    <a:pt x="6" y="1117"/>
                    <a:pt x="2" y="1114"/>
                    <a:pt x="2" y="1109"/>
                  </a:cubicBezTo>
                  <a:close/>
                  <a:moveTo>
                    <a:pt x="2" y="1076"/>
                  </a:moveTo>
                  <a:lnTo>
                    <a:pt x="2" y="1076"/>
                  </a:lnTo>
                  <a:cubicBezTo>
                    <a:pt x="2" y="1071"/>
                    <a:pt x="6" y="1067"/>
                    <a:pt x="10" y="1067"/>
                  </a:cubicBezTo>
                  <a:cubicBezTo>
                    <a:pt x="15" y="1067"/>
                    <a:pt x="19" y="1071"/>
                    <a:pt x="19" y="1076"/>
                  </a:cubicBezTo>
                  <a:lnTo>
                    <a:pt x="19" y="1076"/>
                  </a:lnTo>
                  <a:cubicBezTo>
                    <a:pt x="19" y="1080"/>
                    <a:pt x="15" y="1084"/>
                    <a:pt x="10" y="1084"/>
                  </a:cubicBezTo>
                  <a:cubicBezTo>
                    <a:pt x="6" y="1084"/>
                    <a:pt x="2" y="1080"/>
                    <a:pt x="2" y="1076"/>
                  </a:cubicBezTo>
                  <a:close/>
                  <a:moveTo>
                    <a:pt x="2" y="1042"/>
                  </a:moveTo>
                  <a:lnTo>
                    <a:pt x="2" y="1042"/>
                  </a:lnTo>
                  <a:cubicBezTo>
                    <a:pt x="2" y="1038"/>
                    <a:pt x="6" y="1034"/>
                    <a:pt x="10" y="1034"/>
                  </a:cubicBezTo>
                  <a:cubicBezTo>
                    <a:pt x="15" y="1034"/>
                    <a:pt x="19" y="1038"/>
                    <a:pt x="19" y="1042"/>
                  </a:cubicBezTo>
                  <a:lnTo>
                    <a:pt x="19" y="1042"/>
                  </a:lnTo>
                  <a:cubicBezTo>
                    <a:pt x="19" y="1047"/>
                    <a:pt x="15" y="1051"/>
                    <a:pt x="10" y="1051"/>
                  </a:cubicBezTo>
                  <a:cubicBezTo>
                    <a:pt x="6" y="1051"/>
                    <a:pt x="2" y="1047"/>
                    <a:pt x="2" y="1042"/>
                  </a:cubicBezTo>
                  <a:close/>
                  <a:moveTo>
                    <a:pt x="2" y="1009"/>
                  </a:moveTo>
                  <a:lnTo>
                    <a:pt x="2" y="1009"/>
                  </a:lnTo>
                  <a:cubicBezTo>
                    <a:pt x="2" y="1004"/>
                    <a:pt x="6" y="1001"/>
                    <a:pt x="10" y="1001"/>
                  </a:cubicBezTo>
                  <a:cubicBezTo>
                    <a:pt x="15" y="1001"/>
                    <a:pt x="19" y="1004"/>
                    <a:pt x="19" y="1009"/>
                  </a:cubicBezTo>
                  <a:lnTo>
                    <a:pt x="19" y="1009"/>
                  </a:lnTo>
                  <a:cubicBezTo>
                    <a:pt x="19" y="1014"/>
                    <a:pt x="15" y="1017"/>
                    <a:pt x="10" y="1017"/>
                  </a:cubicBezTo>
                  <a:cubicBezTo>
                    <a:pt x="6" y="1017"/>
                    <a:pt x="2" y="1014"/>
                    <a:pt x="2" y="1009"/>
                  </a:cubicBezTo>
                  <a:close/>
                  <a:moveTo>
                    <a:pt x="2" y="976"/>
                  </a:moveTo>
                  <a:lnTo>
                    <a:pt x="2" y="976"/>
                  </a:lnTo>
                  <a:cubicBezTo>
                    <a:pt x="2" y="971"/>
                    <a:pt x="6" y="967"/>
                    <a:pt x="10" y="967"/>
                  </a:cubicBezTo>
                  <a:cubicBezTo>
                    <a:pt x="15" y="967"/>
                    <a:pt x="19" y="971"/>
                    <a:pt x="19" y="976"/>
                  </a:cubicBezTo>
                  <a:lnTo>
                    <a:pt x="19" y="976"/>
                  </a:lnTo>
                  <a:cubicBezTo>
                    <a:pt x="19" y="980"/>
                    <a:pt x="15" y="984"/>
                    <a:pt x="10" y="984"/>
                  </a:cubicBezTo>
                  <a:cubicBezTo>
                    <a:pt x="6" y="984"/>
                    <a:pt x="2" y="980"/>
                    <a:pt x="2" y="976"/>
                  </a:cubicBezTo>
                  <a:close/>
                  <a:moveTo>
                    <a:pt x="2" y="942"/>
                  </a:moveTo>
                  <a:lnTo>
                    <a:pt x="2" y="942"/>
                  </a:lnTo>
                  <a:cubicBezTo>
                    <a:pt x="2" y="938"/>
                    <a:pt x="6" y="934"/>
                    <a:pt x="10" y="934"/>
                  </a:cubicBezTo>
                  <a:cubicBezTo>
                    <a:pt x="15" y="934"/>
                    <a:pt x="19" y="938"/>
                    <a:pt x="19" y="942"/>
                  </a:cubicBezTo>
                  <a:lnTo>
                    <a:pt x="19" y="942"/>
                  </a:lnTo>
                  <a:cubicBezTo>
                    <a:pt x="19" y="947"/>
                    <a:pt x="15" y="951"/>
                    <a:pt x="10" y="951"/>
                  </a:cubicBezTo>
                  <a:cubicBezTo>
                    <a:pt x="6" y="951"/>
                    <a:pt x="2" y="947"/>
                    <a:pt x="2" y="942"/>
                  </a:cubicBezTo>
                  <a:close/>
                  <a:moveTo>
                    <a:pt x="2" y="909"/>
                  </a:moveTo>
                  <a:lnTo>
                    <a:pt x="2" y="909"/>
                  </a:lnTo>
                  <a:cubicBezTo>
                    <a:pt x="2" y="904"/>
                    <a:pt x="6" y="901"/>
                    <a:pt x="10" y="901"/>
                  </a:cubicBezTo>
                  <a:cubicBezTo>
                    <a:pt x="15" y="901"/>
                    <a:pt x="19" y="904"/>
                    <a:pt x="19" y="909"/>
                  </a:cubicBezTo>
                  <a:lnTo>
                    <a:pt x="19" y="909"/>
                  </a:lnTo>
                  <a:cubicBezTo>
                    <a:pt x="19" y="914"/>
                    <a:pt x="15" y="917"/>
                    <a:pt x="10" y="917"/>
                  </a:cubicBezTo>
                  <a:cubicBezTo>
                    <a:pt x="6" y="917"/>
                    <a:pt x="2" y="914"/>
                    <a:pt x="2" y="909"/>
                  </a:cubicBezTo>
                  <a:close/>
                  <a:moveTo>
                    <a:pt x="2" y="876"/>
                  </a:moveTo>
                  <a:lnTo>
                    <a:pt x="2" y="876"/>
                  </a:lnTo>
                  <a:cubicBezTo>
                    <a:pt x="2" y="871"/>
                    <a:pt x="6" y="867"/>
                    <a:pt x="11" y="867"/>
                  </a:cubicBezTo>
                  <a:cubicBezTo>
                    <a:pt x="15" y="867"/>
                    <a:pt x="19" y="871"/>
                    <a:pt x="19" y="876"/>
                  </a:cubicBezTo>
                  <a:lnTo>
                    <a:pt x="19" y="876"/>
                  </a:lnTo>
                  <a:cubicBezTo>
                    <a:pt x="19" y="880"/>
                    <a:pt x="15" y="884"/>
                    <a:pt x="11" y="884"/>
                  </a:cubicBezTo>
                  <a:cubicBezTo>
                    <a:pt x="6" y="884"/>
                    <a:pt x="2" y="880"/>
                    <a:pt x="2" y="876"/>
                  </a:cubicBezTo>
                  <a:close/>
                  <a:moveTo>
                    <a:pt x="2" y="842"/>
                  </a:moveTo>
                  <a:lnTo>
                    <a:pt x="2" y="842"/>
                  </a:lnTo>
                  <a:cubicBezTo>
                    <a:pt x="2" y="838"/>
                    <a:pt x="6" y="834"/>
                    <a:pt x="11" y="834"/>
                  </a:cubicBezTo>
                  <a:cubicBezTo>
                    <a:pt x="15" y="834"/>
                    <a:pt x="19" y="838"/>
                    <a:pt x="19" y="842"/>
                  </a:cubicBezTo>
                  <a:lnTo>
                    <a:pt x="19" y="842"/>
                  </a:lnTo>
                  <a:cubicBezTo>
                    <a:pt x="19" y="847"/>
                    <a:pt x="15" y="851"/>
                    <a:pt x="11" y="851"/>
                  </a:cubicBezTo>
                  <a:cubicBezTo>
                    <a:pt x="6" y="851"/>
                    <a:pt x="2" y="847"/>
                    <a:pt x="2" y="842"/>
                  </a:cubicBezTo>
                  <a:close/>
                  <a:moveTo>
                    <a:pt x="2" y="809"/>
                  </a:moveTo>
                  <a:lnTo>
                    <a:pt x="2" y="809"/>
                  </a:lnTo>
                  <a:cubicBezTo>
                    <a:pt x="2" y="804"/>
                    <a:pt x="6" y="801"/>
                    <a:pt x="11" y="801"/>
                  </a:cubicBezTo>
                  <a:cubicBezTo>
                    <a:pt x="15" y="801"/>
                    <a:pt x="19" y="804"/>
                    <a:pt x="19" y="809"/>
                  </a:cubicBezTo>
                  <a:lnTo>
                    <a:pt x="19" y="809"/>
                  </a:lnTo>
                  <a:cubicBezTo>
                    <a:pt x="19" y="814"/>
                    <a:pt x="15" y="817"/>
                    <a:pt x="11" y="817"/>
                  </a:cubicBezTo>
                  <a:cubicBezTo>
                    <a:pt x="6" y="817"/>
                    <a:pt x="2" y="814"/>
                    <a:pt x="2" y="809"/>
                  </a:cubicBezTo>
                  <a:close/>
                  <a:moveTo>
                    <a:pt x="2" y="776"/>
                  </a:moveTo>
                  <a:lnTo>
                    <a:pt x="2" y="776"/>
                  </a:lnTo>
                  <a:cubicBezTo>
                    <a:pt x="2" y="771"/>
                    <a:pt x="6" y="767"/>
                    <a:pt x="11" y="767"/>
                  </a:cubicBezTo>
                  <a:cubicBezTo>
                    <a:pt x="15" y="767"/>
                    <a:pt x="19" y="771"/>
                    <a:pt x="19" y="776"/>
                  </a:cubicBezTo>
                  <a:lnTo>
                    <a:pt x="19" y="776"/>
                  </a:lnTo>
                  <a:cubicBezTo>
                    <a:pt x="19" y="780"/>
                    <a:pt x="15" y="784"/>
                    <a:pt x="11" y="784"/>
                  </a:cubicBezTo>
                  <a:cubicBezTo>
                    <a:pt x="6" y="784"/>
                    <a:pt x="2" y="780"/>
                    <a:pt x="2" y="776"/>
                  </a:cubicBezTo>
                  <a:close/>
                  <a:moveTo>
                    <a:pt x="2" y="742"/>
                  </a:moveTo>
                  <a:lnTo>
                    <a:pt x="2" y="742"/>
                  </a:lnTo>
                  <a:cubicBezTo>
                    <a:pt x="2" y="738"/>
                    <a:pt x="6" y="734"/>
                    <a:pt x="11" y="734"/>
                  </a:cubicBezTo>
                  <a:cubicBezTo>
                    <a:pt x="15" y="734"/>
                    <a:pt x="19" y="738"/>
                    <a:pt x="19" y="742"/>
                  </a:cubicBezTo>
                  <a:lnTo>
                    <a:pt x="19" y="742"/>
                  </a:lnTo>
                  <a:cubicBezTo>
                    <a:pt x="19" y="747"/>
                    <a:pt x="15" y="751"/>
                    <a:pt x="11" y="751"/>
                  </a:cubicBezTo>
                  <a:cubicBezTo>
                    <a:pt x="6" y="751"/>
                    <a:pt x="2" y="747"/>
                    <a:pt x="2" y="742"/>
                  </a:cubicBezTo>
                  <a:close/>
                  <a:moveTo>
                    <a:pt x="2" y="709"/>
                  </a:moveTo>
                  <a:lnTo>
                    <a:pt x="2" y="709"/>
                  </a:lnTo>
                  <a:cubicBezTo>
                    <a:pt x="2" y="704"/>
                    <a:pt x="6" y="701"/>
                    <a:pt x="11" y="701"/>
                  </a:cubicBezTo>
                  <a:cubicBezTo>
                    <a:pt x="15" y="701"/>
                    <a:pt x="19" y="704"/>
                    <a:pt x="19" y="709"/>
                  </a:cubicBezTo>
                  <a:lnTo>
                    <a:pt x="19" y="709"/>
                  </a:lnTo>
                  <a:cubicBezTo>
                    <a:pt x="19" y="714"/>
                    <a:pt x="15" y="717"/>
                    <a:pt x="11" y="717"/>
                  </a:cubicBezTo>
                  <a:cubicBezTo>
                    <a:pt x="6" y="717"/>
                    <a:pt x="2" y="714"/>
                    <a:pt x="2" y="709"/>
                  </a:cubicBezTo>
                  <a:close/>
                  <a:moveTo>
                    <a:pt x="2" y="676"/>
                  </a:moveTo>
                  <a:lnTo>
                    <a:pt x="2" y="676"/>
                  </a:lnTo>
                  <a:cubicBezTo>
                    <a:pt x="2" y="671"/>
                    <a:pt x="6" y="667"/>
                    <a:pt x="11" y="667"/>
                  </a:cubicBezTo>
                  <a:cubicBezTo>
                    <a:pt x="15" y="667"/>
                    <a:pt x="19" y="671"/>
                    <a:pt x="19" y="676"/>
                  </a:cubicBezTo>
                  <a:lnTo>
                    <a:pt x="19" y="676"/>
                  </a:lnTo>
                  <a:cubicBezTo>
                    <a:pt x="19" y="680"/>
                    <a:pt x="15" y="684"/>
                    <a:pt x="11" y="684"/>
                  </a:cubicBezTo>
                  <a:cubicBezTo>
                    <a:pt x="6" y="684"/>
                    <a:pt x="2" y="680"/>
                    <a:pt x="2" y="676"/>
                  </a:cubicBezTo>
                  <a:close/>
                  <a:moveTo>
                    <a:pt x="3" y="642"/>
                  </a:moveTo>
                  <a:lnTo>
                    <a:pt x="3" y="642"/>
                  </a:lnTo>
                  <a:cubicBezTo>
                    <a:pt x="3" y="638"/>
                    <a:pt x="6" y="634"/>
                    <a:pt x="11" y="634"/>
                  </a:cubicBezTo>
                  <a:cubicBezTo>
                    <a:pt x="15" y="634"/>
                    <a:pt x="19" y="638"/>
                    <a:pt x="19" y="642"/>
                  </a:cubicBezTo>
                  <a:lnTo>
                    <a:pt x="19" y="642"/>
                  </a:lnTo>
                  <a:cubicBezTo>
                    <a:pt x="19" y="647"/>
                    <a:pt x="15" y="651"/>
                    <a:pt x="11" y="651"/>
                  </a:cubicBezTo>
                  <a:cubicBezTo>
                    <a:pt x="6" y="651"/>
                    <a:pt x="3" y="647"/>
                    <a:pt x="3" y="642"/>
                  </a:cubicBezTo>
                  <a:close/>
                  <a:moveTo>
                    <a:pt x="3" y="609"/>
                  </a:moveTo>
                  <a:lnTo>
                    <a:pt x="3" y="609"/>
                  </a:lnTo>
                  <a:cubicBezTo>
                    <a:pt x="3" y="604"/>
                    <a:pt x="6" y="601"/>
                    <a:pt x="11" y="601"/>
                  </a:cubicBezTo>
                  <a:cubicBezTo>
                    <a:pt x="16" y="601"/>
                    <a:pt x="19" y="604"/>
                    <a:pt x="19" y="609"/>
                  </a:cubicBezTo>
                  <a:lnTo>
                    <a:pt x="19" y="609"/>
                  </a:lnTo>
                  <a:cubicBezTo>
                    <a:pt x="19" y="613"/>
                    <a:pt x="16" y="617"/>
                    <a:pt x="11" y="617"/>
                  </a:cubicBezTo>
                  <a:cubicBezTo>
                    <a:pt x="6" y="617"/>
                    <a:pt x="3" y="613"/>
                    <a:pt x="3" y="609"/>
                  </a:cubicBezTo>
                  <a:close/>
                  <a:moveTo>
                    <a:pt x="3" y="576"/>
                  </a:moveTo>
                  <a:lnTo>
                    <a:pt x="3" y="576"/>
                  </a:lnTo>
                  <a:cubicBezTo>
                    <a:pt x="3" y="571"/>
                    <a:pt x="6" y="567"/>
                    <a:pt x="11" y="567"/>
                  </a:cubicBezTo>
                  <a:cubicBezTo>
                    <a:pt x="16" y="567"/>
                    <a:pt x="19" y="571"/>
                    <a:pt x="19" y="576"/>
                  </a:cubicBezTo>
                  <a:lnTo>
                    <a:pt x="19" y="576"/>
                  </a:lnTo>
                  <a:cubicBezTo>
                    <a:pt x="19" y="580"/>
                    <a:pt x="16" y="584"/>
                    <a:pt x="11" y="584"/>
                  </a:cubicBezTo>
                  <a:cubicBezTo>
                    <a:pt x="6" y="584"/>
                    <a:pt x="3" y="580"/>
                    <a:pt x="3" y="576"/>
                  </a:cubicBezTo>
                  <a:close/>
                  <a:moveTo>
                    <a:pt x="3" y="542"/>
                  </a:moveTo>
                  <a:lnTo>
                    <a:pt x="3" y="542"/>
                  </a:lnTo>
                  <a:cubicBezTo>
                    <a:pt x="3" y="538"/>
                    <a:pt x="6" y="534"/>
                    <a:pt x="11" y="534"/>
                  </a:cubicBezTo>
                  <a:cubicBezTo>
                    <a:pt x="16" y="534"/>
                    <a:pt x="19" y="538"/>
                    <a:pt x="19" y="542"/>
                  </a:cubicBezTo>
                  <a:lnTo>
                    <a:pt x="19" y="542"/>
                  </a:lnTo>
                  <a:cubicBezTo>
                    <a:pt x="19" y="547"/>
                    <a:pt x="16" y="551"/>
                    <a:pt x="11" y="551"/>
                  </a:cubicBezTo>
                  <a:cubicBezTo>
                    <a:pt x="6" y="551"/>
                    <a:pt x="3" y="547"/>
                    <a:pt x="3" y="542"/>
                  </a:cubicBezTo>
                  <a:close/>
                  <a:moveTo>
                    <a:pt x="3" y="509"/>
                  </a:moveTo>
                  <a:lnTo>
                    <a:pt x="3" y="509"/>
                  </a:lnTo>
                  <a:cubicBezTo>
                    <a:pt x="3" y="504"/>
                    <a:pt x="6" y="500"/>
                    <a:pt x="11" y="500"/>
                  </a:cubicBezTo>
                  <a:cubicBezTo>
                    <a:pt x="16" y="500"/>
                    <a:pt x="19" y="504"/>
                    <a:pt x="19" y="509"/>
                  </a:cubicBezTo>
                  <a:lnTo>
                    <a:pt x="19" y="509"/>
                  </a:lnTo>
                  <a:cubicBezTo>
                    <a:pt x="19" y="513"/>
                    <a:pt x="16" y="517"/>
                    <a:pt x="11" y="517"/>
                  </a:cubicBezTo>
                  <a:cubicBezTo>
                    <a:pt x="6" y="517"/>
                    <a:pt x="3" y="513"/>
                    <a:pt x="3" y="509"/>
                  </a:cubicBezTo>
                  <a:close/>
                  <a:moveTo>
                    <a:pt x="3" y="475"/>
                  </a:moveTo>
                  <a:lnTo>
                    <a:pt x="3" y="475"/>
                  </a:lnTo>
                  <a:cubicBezTo>
                    <a:pt x="3" y="471"/>
                    <a:pt x="6" y="467"/>
                    <a:pt x="11" y="467"/>
                  </a:cubicBezTo>
                  <a:cubicBezTo>
                    <a:pt x="16" y="467"/>
                    <a:pt x="19" y="471"/>
                    <a:pt x="19" y="475"/>
                  </a:cubicBezTo>
                  <a:lnTo>
                    <a:pt x="19" y="475"/>
                  </a:lnTo>
                  <a:cubicBezTo>
                    <a:pt x="19" y="480"/>
                    <a:pt x="16" y="484"/>
                    <a:pt x="11" y="484"/>
                  </a:cubicBezTo>
                  <a:cubicBezTo>
                    <a:pt x="6" y="484"/>
                    <a:pt x="3" y="480"/>
                    <a:pt x="3" y="475"/>
                  </a:cubicBezTo>
                  <a:close/>
                  <a:moveTo>
                    <a:pt x="3" y="442"/>
                  </a:moveTo>
                  <a:lnTo>
                    <a:pt x="3" y="442"/>
                  </a:lnTo>
                  <a:cubicBezTo>
                    <a:pt x="3" y="438"/>
                    <a:pt x="7" y="434"/>
                    <a:pt x="11" y="434"/>
                  </a:cubicBezTo>
                  <a:cubicBezTo>
                    <a:pt x="16" y="434"/>
                    <a:pt x="19" y="438"/>
                    <a:pt x="19" y="442"/>
                  </a:cubicBezTo>
                  <a:lnTo>
                    <a:pt x="19" y="442"/>
                  </a:lnTo>
                  <a:cubicBezTo>
                    <a:pt x="19" y="447"/>
                    <a:pt x="16" y="450"/>
                    <a:pt x="11" y="450"/>
                  </a:cubicBezTo>
                  <a:cubicBezTo>
                    <a:pt x="7" y="450"/>
                    <a:pt x="3" y="447"/>
                    <a:pt x="3" y="442"/>
                  </a:cubicBezTo>
                  <a:close/>
                  <a:moveTo>
                    <a:pt x="3" y="409"/>
                  </a:moveTo>
                  <a:lnTo>
                    <a:pt x="3" y="409"/>
                  </a:lnTo>
                  <a:cubicBezTo>
                    <a:pt x="3" y="404"/>
                    <a:pt x="7" y="400"/>
                    <a:pt x="11" y="400"/>
                  </a:cubicBezTo>
                  <a:cubicBezTo>
                    <a:pt x="16" y="400"/>
                    <a:pt x="20" y="404"/>
                    <a:pt x="20" y="409"/>
                  </a:cubicBezTo>
                  <a:lnTo>
                    <a:pt x="20" y="409"/>
                  </a:lnTo>
                  <a:cubicBezTo>
                    <a:pt x="20" y="413"/>
                    <a:pt x="16" y="417"/>
                    <a:pt x="11" y="417"/>
                  </a:cubicBezTo>
                  <a:cubicBezTo>
                    <a:pt x="7" y="417"/>
                    <a:pt x="3" y="413"/>
                    <a:pt x="3" y="409"/>
                  </a:cubicBezTo>
                  <a:close/>
                  <a:moveTo>
                    <a:pt x="3" y="375"/>
                  </a:moveTo>
                  <a:lnTo>
                    <a:pt x="3" y="375"/>
                  </a:lnTo>
                  <a:cubicBezTo>
                    <a:pt x="3" y="371"/>
                    <a:pt x="7" y="367"/>
                    <a:pt x="11" y="367"/>
                  </a:cubicBezTo>
                  <a:cubicBezTo>
                    <a:pt x="16" y="367"/>
                    <a:pt x="20" y="371"/>
                    <a:pt x="20" y="375"/>
                  </a:cubicBezTo>
                  <a:lnTo>
                    <a:pt x="20" y="375"/>
                  </a:lnTo>
                  <a:cubicBezTo>
                    <a:pt x="20" y="380"/>
                    <a:pt x="16" y="384"/>
                    <a:pt x="11" y="384"/>
                  </a:cubicBezTo>
                  <a:cubicBezTo>
                    <a:pt x="7" y="384"/>
                    <a:pt x="3" y="380"/>
                    <a:pt x="3" y="375"/>
                  </a:cubicBezTo>
                  <a:close/>
                  <a:moveTo>
                    <a:pt x="3" y="342"/>
                  </a:moveTo>
                  <a:lnTo>
                    <a:pt x="3" y="342"/>
                  </a:lnTo>
                  <a:cubicBezTo>
                    <a:pt x="3" y="337"/>
                    <a:pt x="7" y="334"/>
                    <a:pt x="11" y="334"/>
                  </a:cubicBezTo>
                  <a:cubicBezTo>
                    <a:pt x="16" y="334"/>
                    <a:pt x="20" y="337"/>
                    <a:pt x="20" y="342"/>
                  </a:cubicBezTo>
                  <a:lnTo>
                    <a:pt x="20" y="342"/>
                  </a:lnTo>
                  <a:cubicBezTo>
                    <a:pt x="20" y="347"/>
                    <a:pt x="16" y="350"/>
                    <a:pt x="11" y="350"/>
                  </a:cubicBezTo>
                  <a:cubicBezTo>
                    <a:pt x="7" y="350"/>
                    <a:pt x="3" y="347"/>
                    <a:pt x="3" y="342"/>
                  </a:cubicBezTo>
                  <a:close/>
                  <a:moveTo>
                    <a:pt x="3" y="309"/>
                  </a:moveTo>
                  <a:lnTo>
                    <a:pt x="3" y="309"/>
                  </a:lnTo>
                  <a:cubicBezTo>
                    <a:pt x="3" y="304"/>
                    <a:pt x="7" y="300"/>
                    <a:pt x="11" y="300"/>
                  </a:cubicBezTo>
                  <a:cubicBezTo>
                    <a:pt x="16" y="300"/>
                    <a:pt x="20" y="304"/>
                    <a:pt x="20" y="309"/>
                  </a:cubicBezTo>
                  <a:lnTo>
                    <a:pt x="20" y="309"/>
                  </a:lnTo>
                  <a:cubicBezTo>
                    <a:pt x="20" y="313"/>
                    <a:pt x="16" y="317"/>
                    <a:pt x="11" y="317"/>
                  </a:cubicBezTo>
                  <a:cubicBezTo>
                    <a:pt x="7" y="317"/>
                    <a:pt x="3" y="313"/>
                    <a:pt x="3" y="309"/>
                  </a:cubicBezTo>
                  <a:close/>
                  <a:moveTo>
                    <a:pt x="3" y="275"/>
                  </a:moveTo>
                  <a:lnTo>
                    <a:pt x="3" y="275"/>
                  </a:lnTo>
                  <a:cubicBezTo>
                    <a:pt x="3" y="271"/>
                    <a:pt x="7" y="267"/>
                    <a:pt x="11" y="267"/>
                  </a:cubicBezTo>
                  <a:cubicBezTo>
                    <a:pt x="16" y="267"/>
                    <a:pt x="20" y="271"/>
                    <a:pt x="20" y="275"/>
                  </a:cubicBezTo>
                  <a:lnTo>
                    <a:pt x="20" y="275"/>
                  </a:lnTo>
                  <a:cubicBezTo>
                    <a:pt x="20" y="280"/>
                    <a:pt x="16" y="284"/>
                    <a:pt x="11" y="284"/>
                  </a:cubicBezTo>
                  <a:cubicBezTo>
                    <a:pt x="7" y="284"/>
                    <a:pt x="3" y="280"/>
                    <a:pt x="3" y="275"/>
                  </a:cubicBezTo>
                  <a:close/>
                  <a:moveTo>
                    <a:pt x="3" y="242"/>
                  </a:moveTo>
                  <a:lnTo>
                    <a:pt x="3" y="242"/>
                  </a:lnTo>
                  <a:cubicBezTo>
                    <a:pt x="3" y="237"/>
                    <a:pt x="7" y="234"/>
                    <a:pt x="11" y="234"/>
                  </a:cubicBezTo>
                  <a:cubicBezTo>
                    <a:pt x="16" y="234"/>
                    <a:pt x="20" y="237"/>
                    <a:pt x="20" y="242"/>
                  </a:cubicBezTo>
                  <a:lnTo>
                    <a:pt x="20" y="242"/>
                  </a:lnTo>
                  <a:cubicBezTo>
                    <a:pt x="20" y="247"/>
                    <a:pt x="16" y="250"/>
                    <a:pt x="11" y="250"/>
                  </a:cubicBezTo>
                  <a:cubicBezTo>
                    <a:pt x="7" y="250"/>
                    <a:pt x="3" y="247"/>
                    <a:pt x="3" y="242"/>
                  </a:cubicBezTo>
                  <a:close/>
                  <a:moveTo>
                    <a:pt x="3" y="209"/>
                  </a:moveTo>
                  <a:lnTo>
                    <a:pt x="3" y="209"/>
                  </a:lnTo>
                  <a:cubicBezTo>
                    <a:pt x="3" y="204"/>
                    <a:pt x="7" y="200"/>
                    <a:pt x="11" y="200"/>
                  </a:cubicBezTo>
                  <a:cubicBezTo>
                    <a:pt x="16" y="200"/>
                    <a:pt x="20" y="204"/>
                    <a:pt x="20" y="209"/>
                  </a:cubicBezTo>
                  <a:lnTo>
                    <a:pt x="20" y="209"/>
                  </a:lnTo>
                  <a:cubicBezTo>
                    <a:pt x="20" y="213"/>
                    <a:pt x="16" y="217"/>
                    <a:pt x="11" y="217"/>
                  </a:cubicBezTo>
                  <a:cubicBezTo>
                    <a:pt x="7" y="217"/>
                    <a:pt x="3" y="213"/>
                    <a:pt x="3" y="209"/>
                  </a:cubicBezTo>
                  <a:close/>
                  <a:moveTo>
                    <a:pt x="3" y="175"/>
                  </a:moveTo>
                  <a:lnTo>
                    <a:pt x="3" y="175"/>
                  </a:lnTo>
                  <a:cubicBezTo>
                    <a:pt x="3" y="171"/>
                    <a:pt x="7" y="167"/>
                    <a:pt x="12" y="167"/>
                  </a:cubicBezTo>
                  <a:cubicBezTo>
                    <a:pt x="16" y="167"/>
                    <a:pt x="20" y="171"/>
                    <a:pt x="20" y="175"/>
                  </a:cubicBezTo>
                  <a:lnTo>
                    <a:pt x="20" y="175"/>
                  </a:lnTo>
                  <a:cubicBezTo>
                    <a:pt x="20" y="180"/>
                    <a:pt x="16" y="184"/>
                    <a:pt x="12" y="184"/>
                  </a:cubicBezTo>
                  <a:cubicBezTo>
                    <a:pt x="7" y="184"/>
                    <a:pt x="3" y="180"/>
                    <a:pt x="3" y="175"/>
                  </a:cubicBezTo>
                  <a:close/>
                  <a:moveTo>
                    <a:pt x="3" y="142"/>
                  </a:moveTo>
                  <a:lnTo>
                    <a:pt x="3" y="142"/>
                  </a:lnTo>
                  <a:cubicBezTo>
                    <a:pt x="3" y="137"/>
                    <a:pt x="7" y="134"/>
                    <a:pt x="12" y="134"/>
                  </a:cubicBezTo>
                  <a:cubicBezTo>
                    <a:pt x="16" y="134"/>
                    <a:pt x="20" y="137"/>
                    <a:pt x="20" y="142"/>
                  </a:cubicBezTo>
                  <a:lnTo>
                    <a:pt x="20" y="142"/>
                  </a:lnTo>
                  <a:cubicBezTo>
                    <a:pt x="20" y="147"/>
                    <a:pt x="16" y="150"/>
                    <a:pt x="12" y="150"/>
                  </a:cubicBezTo>
                  <a:cubicBezTo>
                    <a:pt x="7" y="150"/>
                    <a:pt x="3" y="147"/>
                    <a:pt x="3" y="142"/>
                  </a:cubicBezTo>
                  <a:close/>
                  <a:moveTo>
                    <a:pt x="3" y="109"/>
                  </a:moveTo>
                  <a:lnTo>
                    <a:pt x="3" y="109"/>
                  </a:lnTo>
                  <a:cubicBezTo>
                    <a:pt x="3" y="104"/>
                    <a:pt x="7" y="100"/>
                    <a:pt x="12" y="100"/>
                  </a:cubicBezTo>
                  <a:cubicBezTo>
                    <a:pt x="16" y="100"/>
                    <a:pt x="20" y="104"/>
                    <a:pt x="20" y="109"/>
                  </a:cubicBezTo>
                  <a:lnTo>
                    <a:pt x="20" y="109"/>
                  </a:lnTo>
                  <a:cubicBezTo>
                    <a:pt x="20" y="113"/>
                    <a:pt x="16" y="117"/>
                    <a:pt x="12" y="117"/>
                  </a:cubicBezTo>
                  <a:cubicBezTo>
                    <a:pt x="7" y="117"/>
                    <a:pt x="3" y="113"/>
                    <a:pt x="3" y="109"/>
                  </a:cubicBezTo>
                  <a:close/>
                  <a:moveTo>
                    <a:pt x="3" y="75"/>
                  </a:moveTo>
                  <a:lnTo>
                    <a:pt x="3" y="75"/>
                  </a:lnTo>
                  <a:cubicBezTo>
                    <a:pt x="3" y="71"/>
                    <a:pt x="7" y="67"/>
                    <a:pt x="12" y="67"/>
                  </a:cubicBezTo>
                  <a:cubicBezTo>
                    <a:pt x="16" y="67"/>
                    <a:pt x="20" y="71"/>
                    <a:pt x="20" y="75"/>
                  </a:cubicBezTo>
                  <a:lnTo>
                    <a:pt x="20" y="75"/>
                  </a:lnTo>
                  <a:cubicBezTo>
                    <a:pt x="20" y="80"/>
                    <a:pt x="16" y="84"/>
                    <a:pt x="12" y="84"/>
                  </a:cubicBezTo>
                  <a:cubicBezTo>
                    <a:pt x="7" y="84"/>
                    <a:pt x="3" y="80"/>
                    <a:pt x="3" y="75"/>
                  </a:cubicBezTo>
                  <a:close/>
                  <a:moveTo>
                    <a:pt x="3" y="42"/>
                  </a:moveTo>
                  <a:lnTo>
                    <a:pt x="3" y="42"/>
                  </a:lnTo>
                  <a:cubicBezTo>
                    <a:pt x="3" y="37"/>
                    <a:pt x="7" y="34"/>
                    <a:pt x="12" y="34"/>
                  </a:cubicBezTo>
                  <a:cubicBezTo>
                    <a:pt x="16" y="34"/>
                    <a:pt x="20" y="37"/>
                    <a:pt x="20" y="42"/>
                  </a:cubicBezTo>
                  <a:lnTo>
                    <a:pt x="20" y="42"/>
                  </a:lnTo>
                  <a:cubicBezTo>
                    <a:pt x="20" y="47"/>
                    <a:pt x="16" y="50"/>
                    <a:pt x="12" y="50"/>
                  </a:cubicBezTo>
                  <a:cubicBezTo>
                    <a:pt x="7" y="50"/>
                    <a:pt x="3" y="47"/>
                    <a:pt x="3" y="42"/>
                  </a:cubicBezTo>
                  <a:close/>
                  <a:moveTo>
                    <a:pt x="3" y="9"/>
                  </a:moveTo>
                  <a:lnTo>
                    <a:pt x="3" y="9"/>
                  </a:lnTo>
                  <a:cubicBezTo>
                    <a:pt x="3" y="4"/>
                    <a:pt x="7" y="0"/>
                    <a:pt x="12" y="0"/>
                  </a:cubicBezTo>
                  <a:cubicBezTo>
                    <a:pt x="16" y="0"/>
                    <a:pt x="20" y="4"/>
                    <a:pt x="20" y="9"/>
                  </a:cubicBezTo>
                  <a:lnTo>
                    <a:pt x="20" y="9"/>
                  </a:lnTo>
                  <a:cubicBezTo>
                    <a:pt x="20" y="13"/>
                    <a:pt x="16" y="17"/>
                    <a:pt x="12" y="17"/>
                  </a:cubicBezTo>
                  <a:cubicBezTo>
                    <a:pt x="7" y="17"/>
                    <a:pt x="3" y="13"/>
                    <a:pt x="3" y="9"/>
                  </a:cubicBez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067840" y="2532240"/>
              <a:ext cx="4791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CH" sz="700" spc="-1" strike="noStrike">
                  <a:solidFill>
                    <a:srgbClr val="000000"/>
                  </a:solidFill>
                  <a:latin typeface="Times New Roman"/>
                </a:rPr>
                <a:t>Offre de bas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521800" y="2532240"/>
              <a:ext cx="237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069280" y="2303640"/>
              <a:ext cx="4777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700" spc="-1" strike="noStrike">
                  <a:solidFill>
                    <a:srgbClr val="000000"/>
                  </a:solidFill>
                  <a:latin typeface="Times New Roman"/>
                </a:rPr>
                <a:t>Densifica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508840" y="2303640"/>
              <a:ext cx="237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649680" y="2260440"/>
              <a:ext cx="3240" cy="454320"/>
            </a:xfrm>
            <a:custGeom>
              <a:avLst/>
              <a:gdLst/>
              <a:ahLst/>
              <a:rect l="l" t="t" r="r" b="b"/>
              <a:pathLst>
                <a:path w="40" h="4769">
                  <a:moveTo>
                    <a:pt x="0" y="4752"/>
                  </a:moveTo>
                  <a:lnTo>
                    <a:pt x="0" y="4752"/>
                  </a:lnTo>
                  <a:cubicBezTo>
                    <a:pt x="0" y="4743"/>
                    <a:pt x="7" y="4736"/>
                    <a:pt x="16" y="4736"/>
                  </a:cubicBezTo>
                  <a:cubicBezTo>
                    <a:pt x="26" y="4736"/>
                    <a:pt x="33" y="4743"/>
                    <a:pt x="33" y="4752"/>
                  </a:cubicBezTo>
                  <a:lnTo>
                    <a:pt x="33" y="4752"/>
                  </a:lnTo>
                  <a:cubicBezTo>
                    <a:pt x="33" y="4762"/>
                    <a:pt x="26" y="4769"/>
                    <a:pt x="16" y="4769"/>
                  </a:cubicBezTo>
                  <a:cubicBezTo>
                    <a:pt x="7" y="4769"/>
                    <a:pt x="0" y="4762"/>
                    <a:pt x="0" y="4752"/>
                  </a:cubicBezTo>
                  <a:close/>
                  <a:moveTo>
                    <a:pt x="0" y="4686"/>
                  </a:moveTo>
                  <a:lnTo>
                    <a:pt x="0" y="4686"/>
                  </a:lnTo>
                  <a:cubicBezTo>
                    <a:pt x="0" y="4677"/>
                    <a:pt x="7" y="4669"/>
                    <a:pt x="17" y="4669"/>
                  </a:cubicBezTo>
                  <a:cubicBezTo>
                    <a:pt x="26" y="4669"/>
                    <a:pt x="33" y="4677"/>
                    <a:pt x="33" y="4686"/>
                  </a:cubicBezTo>
                  <a:lnTo>
                    <a:pt x="33" y="4686"/>
                  </a:lnTo>
                  <a:cubicBezTo>
                    <a:pt x="33" y="4695"/>
                    <a:pt x="26" y="4702"/>
                    <a:pt x="17" y="4702"/>
                  </a:cubicBezTo>
                  <a:cubicBezTo>
                    <a:pt x="7" y="4702"/>
                    <a:pt x="0" y="4695"/>
                    <a:pt x="0" y="4686"/>
                  </a:cubicBezTo>
                  <a:close/>
                  <a:moveTo>
                    <a:pt x="0" y="4619"/>
                  </a:moveTo>
                  <a:lnTo>
                    <a:pt x="0" y="4619"/>
                  </a:lnTo>
                  <a:cubicBezTo>
                    <a:pt x="0" y="4610"/>
                    <a:pt x="7" y="4602"/>
                    <a:pt x="17" y="4602"/>
                  </a:cubicBezTo>
                  <a:cubicBezTo>
                    <a:pt x="26" y="4602"/>
                    <a:pt x="33" y="4610"/>
                    <a:pt x="33" y="4619"/>
                  </a:cubicBezTo>
                  <a:lnTo>
                    <a:pt x="33" y="4619"/>
                  </a:lnTo>
                  <a:cubicBezTo>
                    <a:pt x="33" y="4628"/>
                    <a:pt x="26" y="4636"/>
                    <a:pt x="17" y="4636"/>
                  </a:cubicBezTo>
                  <a:cubicBezTo>
                    <a:pt x="7" y="4636"/>
                    <a:pt x="0" y="4628"/>
                    <a:pt x="0" y="4619"/>
                  </a:cubicBezTo>
                  <a:close/>
                  <a:moveTo>
                    <a:pt x="0" y="4552"/>
                  </a:moveTo>
                  <a:lnTo>
                    <a:pt x="0" y="4552"/>
                  </a:lnTo>
                  <a:cubicBezTo>
                    <a:pt x="0" y="4543"/>
                    <a:pt x="8" y="4536"/>
                    <a:pt x="17" y="4536"/>
                  </a:cubicBezTo>
                  <a:cubicBezTo>
                    <a:pt x="26" y="4536"/>
                    <a:pt x="33" y="4543"/>
                    <a:pt x="33" y="4552"/>
                  </a:cubicBezTo>
                  <a:lnTo>
                    <a:pt x="33" y="4552"/>
                  </a:lnTo>
                  <a:cubicBezTo>
                    <a:pt x="33" y="4562"/>
                    <a:pt x="26" y="4569"/>
                    <a:pt x="17" y="4569"/>
                  </a:cubicBezTo>
                  <a:cubicBezTo>
                    <a:pt x="8" y="4569"/>
                    <a:pt x="0" y="4562"/>
                    <a:pt x="0" y="4552"/>
                  </a:cubicBezTo>
                  <a:close/>
                  <a:moveTo>
                    <a:pt x="0" y="4486"/>
                  </a:moveTo>
                  <a:lnTo>
                    <a:pt x="0" y="4486"/>
                  </a:lnTo>
                  <a:cubicBezTo>
                    <a:pt x="0" y="4476"/>
                    <a:pt x="8" y="4469"/>
                    <a:pt x="17" y="4469"/>
                  </a:cubicBezTo>
                  <a:cubicBezTo>
                    <a:pt x="26" y="4469"/>
                    <a:pt x="34" y="4476"/>
                    <a:pt x="34" y="4486"/>
                  </a:cubicBezTo>
                  <a:lnTo>
                    <a:pt x="34" y="4486"/>
                  </a:lnTo>
                  <a:cubicBezTo>
                    <a:pt x="34" y="4495"/>
                    <a:pt x="26" y="4502"/>
                    <a:pt x="17" y="4502"/>
                  </a:cubicBezTo>
                  <a:cubicBezTo>
                    <a:pt x="8" y="4502"/>
                    <a:pt x="0" y="4495"/>
                    <a:pt x="0" y="4486"/>
                  </a:cubicBezTo>
                  <a:close/>
                  <a:moveTo>
                    <a:pt x="0" y="4419"/>
                  </a:moveTo>
                  <a:lnTo>
                    <a:pt x="0" y="4419"/>
                  </a:lnTo>
                  <a:cubicBezTo>
                    <a:pt x="0" y="4410"/>
                    <a:pt x="8" y="4402"/>
                    <a:pt x="17" y="4402"/>
                  </a:cubicBezTo>
                  <a:cubicBezTo>
                    <a:pt x="26" y="4402"/>
                    <a:pt x="34" y="4410"/>
                    <a:pt x="34" y="4419"/>
                  </a:cubicBezTo>
                  <a:lnTo>
                    <a:pt x="34" y="4419"/>
                  </a:lnTo>
                  <a:cubicBezTo>
                    <a:pt x="34" y="4428"/>
                    <a:pt x="26" y="4436"/>
                    <a:pt x="17" y="4436"/>
                  </a:cubicBezTo>
                  <a:cubicBezTo>
                    <a:pt x="8" y="4436"/>
                    <a:pt x="0" y="4428"/>
                    <a:pt x="0" y="4419"/>
                  </a:cubicBezTo>
                  <a:close/>
                  <a:moveTo>
                    <a:pt x="0" y="4352"/>
                  </a:moveTo>
                  <a:lnTo>
                    <a:pt x="0" y="4352"/>
                  </a:lnTo>
                  <a:cubicBezTo>
                    <a:pt x="0" y="4343"/>
                    <a:pt x="8" y="4336"/>
                    <a:pt x="17" y="4336"/>
                  </a:cubicBezTo>
                  <a:cubicBezTo>
                    <a:pt x="26" y="4336"/>
                    <a:pt x="34" y="4343"/>
                    <a:pt x="34" y="4352"/>
                  </a:cubicBezTo>
                  <a:lnTo>
                    <a:pt x="34" y="4352"/>
                  </a:lnTo>
                  <a:cubicBezTo>
                    <a:pt x="34" y="4361"/>
                    <a:pt x="26" y="4369"/>
                    <a:pt x="17" y="4369"/>
                  </a:cubicBezTo>
                  <a:cubicBezTo>
                    <a:pt x="8" y="4369"/>
                    <a:pt x="0" y="4361"/>
                    <a:pt x="0" y="4352"/>
                  </a:cubicBezTo>
                  <a:close/>
                  <a:moveTo>
                    <a:pt x="0" y="4286"/>
                  </a:moveTo>
                  <a:lnTo>
                    <a:pt x="0" y="4286"/>
                  </a:lnTo>
                  <a:cubicBezTo>
                    <a:pt x="0" y="4276"/>
                    <a:pt x="8" y="4269"/>
                    <a:pt x="17" y="4269"/>
                  </a:cubicBezTo>
                  <a:cubicBezTo>
                    <a:pt x="26" y="4269"/>
                    <a:pt x="34" y="4276"/>
                    <a:pt x="34" y="4286"/>
                  </a:cubicBezTo>
                  <a:lnTo>
                    <a:pt x="34" y="4286"/>
                  </a:lnTo>
                  <a:cubicBezTo>
                    <a:pt x="34" y="4295"/>
                    <a:pt x="26" y="4302"/>
                    <a:pt x="17" y="4302"/>
                  </a:cubicBezTo>
                  <a:cubicBezTo>
                    <a:pt x="8" y="4302"/>
                    <a:pt x="0" y="4295"/>
                    <a:pt x="0" y="4286"/>
                  </a:cubicBezTo>
                  <a:close/>
                  <a:moveTo>
                    <a:pt x="1" y="4219"/>
                  </a:moveTo>
                  <a:lnTo>
                    <a:pt x="1" y="4219"/>
                  </a:lnTo>
                  <a:cubicBezTo>
                    <a:pt x="1" y="4210"/>
                    <a:pt x="8" y="4202"/>
                    <a:pt x="17" y="4202"/>
                  </a:cubicBezTo>
                  <a:cubicBezTo>
                    <a:pt x="26" y="4202"/>
                    <a:pt x="34" y="4210"/>
                    <a:pt x="34" y="4219"/>
                  </a:cubicBezTo>
                  <a:lnTo>
                    <a:pt x="34" y="4219"/>
                  </a:lnTo>
                  <a:cubicBezTo>
                    <a:pt x="34" y="4228"/>
                    <a:pt x="26" y="4236"/>
                    <a:pt x="17" y="4236"/>
                  </a:cubicBezTo>
                  <a:cubicBezTo>
                    <a:pt x="8" y="4236"/>
                    <a:pt x="1" y="4228"/>
                    <a:pt x="1" y="4219"/>
                  </a:cubicBezTo>
                  <a:close/>
                  <a:moveTo>
                    <a:pt x="1" y="4152"/>
                  </a:moveTo>
                  <a:lnTo>
                    <a:pt x="1" y="4152"/>
                  </a:lnTo>
                  <a:cubicBezTo>
                    <a:pt x="1" y="4143"/>
                    <a:pt x="8" y="4135"/>
                    <a:pt x="17" y="4135"/>
                  </a:cubicBezTo>
                  <a:cubicBezTo>
                    <a:pt x="26" y="4135"/>
                    <a:pt x="34" y="4143"/>
                    <a:pt x="34" y="4152"/>
                  </a:cubicBezTo>
                  <a:lnTo>
                    <a:pt x="34" y="4152"/>
                  </a:lnTo>
                  <a:cubicBezTo>
                    <a:pt x="34" y="4161"/>
                    <a:pt x="26" y="4169"/>
                    <a:pt x="17" y="4169"/>
                  </a:cubicBezTo>
                  <a:cubicBezTo>
                    <a:pt x="8" y="4169"/>
                    <a:pt x="1" y="4161"/>
                    <a:pt x="1" y="4152"/>
                  </a:cubicBezTo>
                  <a:close/>
                  <a:moveTo>
                    <a:pt x="1" y="4085"/>
                  </a:moveTo>
                  <a:lnTo>
                    <a:pt x="1" y="4085"/>
                  </a:lnTo>
                  <a:cubicBezTo>
                    <a:pt x="1" y="4076"/>
                    <a:pt x="8" y="4069"/>
                    <a:pt x="17" y="4069"/>
                  </a:cubicBezTo>
                  <a:cubicBezTo>
                    <a:pt x="27" y="4069"/>
                    <a:pt x="34" y="4076"/>
                    <a:pt x="34" y="4085"/>
                  </a:cubicBezTo>
                  <a:lnTo>
                    <a:pt x="34" y="4085"/>
                  </a:lnTo>
                  <a:cubicBezTo>
                    <a:pt x="34" y="4095"/>
                    <a:pt x="27" y="4102"/>
                    <a:pt x="17" y="4102"/>
                  </a:cubicBezTo>
                  <a:cubicBezTo>
                    <a:pt x="8" y="4102"/>
                    <a:pt x="1" y="4095"/>
                    <a:pt x="1" y="4085"/>
                  </a:cubicBezTo>
                  <a:close/>
                  <a:moveTo>
                    <a:pt x="1" y="4019"/>
                  </a:moveTo>
                  <a:lnTo>
                    <a:pt x="1" y="4019"/>
                  </a:lnTo>
                  <a:cubicBezTo>
                    <a:pt x="1" y="4009"/>
                    <a:pt x="8" y="4002"/>
                    <a:pt x="17" y="4002"/>
                  </a:cubicBezTo>
                  <a:cubicBezTo>
                    <a:pt x="27" y="4002"/>
                    <a:pt x="34" y="4009"/>
                    <a:pt x="34" y="4019"/>
                  </a:cubicBezTo>
                  <a:lnTo>
                    <a:pt x="34" y="4019"/>
                  </a:lnTo>
                  <a:cubicBezTo>
                    <a:pt x="34" y="4028"/>
                    <a:pt x="27" y="4035"/>
                    <a:pt x="17" y="4035"/>
                  </a:cubicBezTo>
                  <a:cubicBezTo>
                    <a:pt x="8" y="4035"/>
                    <a:pt x="1" y="4028"/>
                    <a:pt x="1" y="4019"/>
                  </a:cubicBezTo>
                  <a:close/>
                  <a:moveTo>
                    <a:pt x="1" y="3952"/>
                  </a:moveTo>
                  <a:lnTo>
                    <a:pt x="1" y="3952"/>
                  </a:lnTo>
                  <a:cubicBezTo>
                    <a:pt x="1" y="3943"/>
                    <a:pt x="8" y="3935"/>
                    <a:pt x="18" y="3935"/>
                  </a:cubicBezTo>
                  <a:cubicBezTo>
                    <a:pt x="27" y="3935"/>
                    <a:pt x="34" y="3943"/>
                    <a:pt x="34" y="3952"/>
                  </a:cubicBezTo>
                  <a:lnTo>
                    <a:pt x="34" y="3952"/>
                  </a:lnTo>
                  <a:cubicBezTo>
                    <a:pt x="34" y="3961"/>
                    <a:pt x="27" y="3969"/>
                    <a:pt x="18" y="3969"/>
                  </a:cubicBezTo>
                  <a:cubicBezTo>
                    <a:pt x="8" y="3969"/>
                    <a:pt x="1" y="3961"/>
                    <a:pt x="1" y="3952"/>
                  </a:cubicBezTo>
                  <a:close/>
                  <a:moveTo>
                    <a:pt x="1" y="3885"/>
                  </a:moveTo>
                  <a:lnTo>
                    <a:pt x="1" y="3885"/>
                  </a:lnTo>
                  <a:cubicBezTo>
                    <a:pt x="1" y="3876"/>
                    <a:pt x="8" y="3869"/>
                    <a:pt x="18" y="3869"/>
                  </a:cubicBezTo>
                  <a:cubicBezTo>
                    <a:pt x="27" y="3869"/>
                    <a:pt x="34" y="3876"/>
                    <a:pt x="34" y="3885"/>
                  </a:cubicBezTo>
                  <a:lnTo>
                    <a:pt x="34" y="3885"/>
                  </a:lnTo>
                  <a:cubicBezTo>
                    <a:pt x="34" y="3895"/>
                    <a:pt x="27" y="3902"/>
                    <a:pt x="18" y="3902"/>
                  </a:cubicBezTo>
                  <a:cubicBezTo>
                    <a:pt x="8" y="3902"/>
                    <a:pt x="1" y="3895"/>
                    <a:pt x="1" y="3885"/>
                  </a:cubicBezTo>
                  <a:close/>
                  <a:moveTo>
                    <a:pt x="1" y="3819"/>
                  </a:moveTo>
                  <a:lnTo>
                    <a:pt x="1" y="3819"/>
                  </a:lnTo>
                  <a:cubicBezTo>
                    <a:pt x="1" y="3809"/>
                    <a:pt x="9" y="3802"/>
                    <a:pt x="18" y="3802"/>
                  </a:cubicBezTo>
                  <a:cubicBezTo>
                    <a:pt x="27" y="3802"/>
                    <a:pt x="34" y="3809"/>
                    <a:pt x="34" y="3819"/>
                  </a:cubicBezTo>
                  <a:lnTo>
                    <a:pt x="34" y="3819"/>
                  </a:lnTo>
                  <a:cubicBezTo>
                    <a:pt x="34" y="3828"/>
                    <a:pt x="27" y="3835"/>
                    <a:pt x="18" y="3835"/>
                  </a:cubicBezTo>
                  <a:cubicBezTo>
                    <a:pt x="9" y="3835"/>
                    <a:pt x="1" y="3828"/>
                    <a:pt x="1" y="3819"/>
                  </a:cubicBezTo>
                  <a:close/>
                  <a:moveTo>
                    <a:pt x="1" y="3752"/>
                  </a:moveTo>
                  <a:lnTo>
                    <a:pt x="1" y="3752"/>
                  </a:lnTo>
                  <a:cubicBezTo>
                    <a:pt x="1" y="3743"/>
                    <a:pt x="9" y="3735"/>
                    <a:pt x="18" y="3735"/>
                  </a:cubicBezTo>
                  <a:cubicBezTo>
                    <a:pt x="27" y="3735"/>
                    <a:pt x="35" y="3743"/>
                    <a:pt x="35" y="3752"/>
                  </a:cubicBezTo>
                  <a:lnTo>
                    <a:pt x="35" y="3752"/>
                  </a:lnTo>
                  <a:cubicBezTo>
                    <a:pt x="35" y="3761"/>
                    <a:pt x="27" y="3769"/>
                    <a:pt x="18" y="3769"/>
                  </a:cubicBezTo>
                  <a:cubicBezTo>
                    <a:pt x="9" y="3769"/>
                    <a:pt x="1" y="3761"/>
                    <a:pt x="1" y="3752"/>
                  </a:cubicBezTo>
                  <a:close/>
                  <a:moveTo>
                    <a:pt x="1" y="3685"/>
                  </a:moveTo>
                  <a:lnTo>
                    <a:pt x="1" y="3685"/>
                  </a:lnTo>
                  <a:cubicBezTo>
                    <a:pt x="1" y="3676"/>
                    <a:pt x="9" y="3669"/>
                    <a:pt x="18" y="3669"/>
                  </a:cubicBezTo>
                  <a:cubicBezTo>
                    <a:pt x="27" y="3669"/>
                    <a:pt x="35" y="3676"/>
                    <a:pt x="35" y="3685"/>
                  </a:cubicBezTo>
                  <a:lnTo>
                    <a:pt x="35" y="3685"/>
                  </a:lnTo>
                  <a:cubicBezTo>
                    <a:pt x="35" y="3694"/>
                    <a:pt x="27" y="3702"/>
                    <a:pt x="18" y="3702"/>
                  </a:cubicBezTo>
                  <a:cubicBezTo>
                    <a:pt x="9" y="3702"/>
                    <a:pt x="1" y="3694"/>
                    <a:pt x="1" y="3685"/>
                  </a:cubicBezTo>
                  <a:close/>
                  <a:moveTo>
                    <a:pt x="1" y="3619"/>
                  </a:moveTo>
                  <a:lnTo>
                    <a:pt x="1" y="3618"/>
                  </a:lnTo>
                  <a:cubicBezTo>
                    <a:pt x="1" y="3609"/>
                    <a:pt x="9" y="3602"/>
                    <a:pt x="18" y="3602"/>
                  </a:cubicBezTo>
                  <a:cubicBezTo>
                    <a:pt x="27" y="3602"/>
                    <a:pt x="35" y="3609"/>
                    <a:pt x="35" y="3618"/>
                  </a:cubicBezTo>
                  <a:lnTo>
                    <a:pt x="35" y="3619"/>
                  </a:lnTo>
                  <a:cubicBezTo>
                    <a:pt x="35" y="3628"/>
                    <a:pt x="27" y="3635"/>
                    <a:pt x="18" y="3635"/>
                  </a:cubicBezTo>
                  <a:cubicBezTo>
                    <a:pt x="9" y="3635"/>
                    <a:pt x="1" y="3628"/>
                    <a:pt x="1" y="3619"/>
                  </a:cubicBezTo>
                  <a:close/>
                  <a:moveTo>
                    <a:pt x="1" y="3552"/>
                  </a:moveTo>
                  <a:lnTo>
                    <a:pt x="1" y="3552"/>
                  </a:lnTo>
                  <a:cubicBezTo>
                    <a:pt x="1" y="3543"/>
                    <a:pt x="9" y="3535"/>
                    <a:pt x="18" y="3535"/>
                  </a:cubicBezTo>
                  <a:cubicBezTo>
                    <a:pt x="27" y="3535"/>
                    <a:pt x="35" y="3543"/>
                    <a:pt x="35" y="3552"/>
                  </a:cubicBezTo>
                  <a:lnTo>
                    <a:pt x="35" y="3552"/>
                  </a:lnTo>
                  <a:cubicBezTo>
                    <a:pt x="35" y="3561"/>
                    <a:pt x="27" y="3568"/>
                    <a:pt x="18" y="3568"/>
                  </a:cubicBezTo>
                  <a:cubicBezTo>
                    <a:pt x="9" y="3568"/>
                    <a:pt x="1" y="3561"/>
                    <a:pt x="1" y="3552"/>
                  </a:cubicBezTo>
                  <a:close/>
                  <a:moveTo>
                    <a:pt x="2" y="3485"/>
                  </a:moveTo>
                  <a:lnTo>
                    <a:pt x="2" y="3485"/>
                  </a:lnTo>
                  <a:cubicBezTo>
                    <a:pt x="2" y="3476"/>
                    <a:pt x="9" y="3468"/>
                    <a:pt x="18" y="3468"/>
                  </a:cubicBezTo>
                  <a:cubicBezTo>
                    <a:pt x="27" y="3468"/>
                    <a:pt x="35" y="3476"/>
                    <a:pt x="35" y="3485"/>
                  </a:cubicBezTo>
                  <a:lnTo>
                    <a:pt x="35" y="3485"/>
                  </a:lnTo>
                  <a:cubicBezTo>
                    <a:pt x="35" y="3494"/>
                    <a:pt x="27" y="3502"/>
                    <a:pt x="18" y="3502"/>
                  </a:cubicBezTo>
                  <a:cubicBezTo>
                    <a:pt x="9" y="3502"/>
                    <a:pt x="2" y="3494"/>
                    <a:pt x="2" y="3485"/>
                  </a:cubicBezTo>
                  <a:close/>
                  <a:moveTo>
                    <a:pt x="2" y="3418"/>
                  </a:moveTo>
                  <a:lnTo>
                    <a:pt x="2" y="3418"/>
                  </a:lnTo>
                  <a:cubicBezTo>
                    <a:pt x="2" y="3409"/>
                    <a:pt x="9" y="3402"/>
                    <a:pt x="18" y="3402"/>
                  </a:cubicBezTo>
                  <a:cubicBezTo>
                    <a:pt x="28" y="3402"/>
                    <a:pt x="35" y="3409"/>
                    <a:pt x="35" y="3418"/>
                  </a:cubicBezTo>
                  <a:lnTo>
                    <a:pt x="35" y="3418"/>
                  </a:lnTo>
                  <a:cubicBezTo>
                    <a:pt x="35" y="3428"/>
                    <a:pt x="28" y="3435"/>
                    <a:pt x="18" y="3435"/>
                  </a:cubicBezTo>
                  <a:cubicBezTo>
                    <a:pt x="9" y="3435"/>
                    <a:pt x="2" y="3428"/>
                    <a:pt x="2" y="3418"/>
                  </a:cubicBezTo>
                  <a:close/>
                  <a:moveTo>
                    <a:pt x="2" y="3352"/>
                  </a:moveTo>
                  <a:lnTo>
                    <a:pt x="2" y="3352"/>
                  </a:lnTo>
                  <a:cubicBezTo>
                    <a:pt x="2" y="3342"/>
                    <a:pt x="9" y="3335"/>
                    <a:pt x="18" y="3335"/>
                  </a:cubicBezTo>
                  <a:cubicBezTo>
                    <a:pt x="28" y="3335"/>
                    <a:pt x="35" y="3342"/>
                    <a:pt x="35" y="3352"/>
                  </a:cubicBezTo>
                  <a:lnTo>
                    <a:pt x="35" y="3352"/>
                  </a:lnTo>
                  <a:cubicBezTo>
                    <a:pt x="35" y="3361"/>
                    <a:pt x="28" y="3368"/>
                    <a:pt x="18" y="3368"/>
                  </a:cubicBezTo>
                  <a:cubicBezTo>
                    <a:pt x="9" y="3368"/>
                    <a:pt x="2" y="3361"/>
                    <a:pt x="2" y="3352"/>
                  </a:cubicBezTo>
                  <a:close/>
                  <a:moveTo>
                    <a:pt x="2" y="3285"/>
                  </a:moveTo>
                  <a:lnTo>
                    <a:pt x="2" y="3285"/>
                  </a:lnTo>
                  <a:cubicBezTo>
                    <a:pt x="2" y="3276"/>
                    <a:pt x="9" y="3268"/>
                    <a:pt x="18" y="3268"/>
                  </a:cubicBezTo>
                  <a:cubicBezTo>
                    <a:pt x="28" y="3268"/>
                    <a:pt x="35" y="3276"/>
                    <a:pt x="35" y="3285"/>
                  </a:cubicBezTo>
                  <a:lnTo>
                    <a:pt x="35" y="3285"/>
                  </a:lnTo>
                  <a:cubicBezTo>
                    <a:pt x="35" y="3294"/>
                    <a:pt x="28" y="3302"/>
                    <a:pt x="18" y="3302"/>
                  </a:cubicBezTo>
                  <a:cubicBezTo>
                    <a:pt x="9" y="3302"/>
                    <a:pt x="2" y="3294"/>
                    <a:pt x="2" y="3285"/>
                  </a:cubicBezTo>
                  <a:close/>
                  <a:moveTo>
                    <a:pt x="2" y="3218"/>
                  </a:moveTo>
                  <a:lnTo>
                    <a:pt x="2" y="3218"/>
                  </a:lnTo>
                  <a:cubicBezTo>
                    <a:pt x="2" y="3209"/>
                    <a:pt x="9" y="3202"/>
                    <a:pt x="19" y="3202"/>
                  </a:cubicBezTo>
                  <a:cubicBezTo>
                    <a:pt x="28" y="3202"/>
                    <a:pt x="35" y="3209"/>
                    <a:pt x="35" y="3218"/>
                  </a:cubicBezTo>
                  <a:lnTo>
                    <a:pt x="35" y="3218"/>
                  </a:lnTo>
                  <a:cubicBezTo>
                    <a:pt x="35" y="3228"/>
                    <a:pt x="28" y="3235"/>
                    <a:pt x="19" y="3235"/>
                  </a:cubicBezTo>
                  <a:cubicBezTo>
                    <a:pt x="9" y="3235"/>
                    <a:pt x="2" y="3228"/>
                    <a:pt x="2" y="3218"/>
                  </a:cubicBezTo>
                  <a:close/>
                  <a:moveTo>
                    <a:pt x="2" y="3152"/>
                  </a:moveTo>
                  <a:lnTo>
                    <a:pt x="2" y="3152"/>
                  </a:lnTo>
                  <a:cubicBezTo>
                    <a:pt x="2" y="3142"/>
                    <a:pt x="9" y="3135"/>
                    <a:pt x="19" y="3135"/>
                  </a:cubicBezTo>
                  <a:cubicBezTo>
                    <a:pt x="28" y="3135"/>
                    <a:pt x="35" y="3142"/>
                    <a:pt x="35" y="3152"/>
                  </a:cubicBezTo>
                  <a:lnTo>
                    <a:pt x="35" y="3152"/>
                  </a:lnTo>
                  <a:cubicBezTo>
                    <a:pt x="35" y="3161"/>
                    <a:pt x="28" y="3168"/>
                    <a:pt x="19" y="3168"/>
                  </a:cubicBezTo>
                  <a:cubicBezTo>
                    <a:pt x="9" y="3168"/>
                    <a:pt x="2" y="3161"/>
                    <a:pt x="2" y="3152"/>
                  </a:cubicBezTo>
                  <a:close/>
                  <a:moveTo>
                    <a:pt x="2" y="3085"/>
                  </a:moveTo>
                  <a:lnTo>
                    <a:pt x="2" y="3085"/>
                  </a:lnTo>
                  <a:cubicBezTo>
                    <a:pt x="2" y="3076"/>
                    <a:pt x="10" y="3068"/>
                    <a:pt x="19" y="3068"/>
                  </a:cubicBezTo>
                  <a:cubicBezTo>
                    <a:pt x="28" y="3068"/>
                    <a:pt x="35" y="3076"/>
                    <a:pt x="35" y="3085"/>
                  </a:cubicBezTo>
                  <a:lnTo>
                    <a:pt x="35" y="3085"/>
                  </a:lnTo>
                  <a:cubicBezTo>
                    <a:pt x="35" y="3094"/>
                    <a:pt x="28" y="3102"/>
                    <a:pt x="19" y="3102"/>
                  </a:cubicBezTo>
                  <a:cubicBezTo>
                    <a:pt x="10" y="3102"/>
                    <a:pt x="2" y="3094"/>
                    <a:pt x="2" y="3085"/>
                  </a:cubicBezTo>
                  <a:close/>
                  <a:moveTo>
                    <a:pt x="2" y="3018"/>
                  </a:moveTo>
                  <a:lnTo>
                    <a:pt x="2" y="3018"/>
                  </a:lnTo>
                  <a:cubicBezTo>
                    <a:pt x="2" y="3009"/>
                    <a:pt x="10" y="3002"/>
                    <a:pt x="19" y="3002"/>
                  </a:cubicBezTo>
                  <a:cubicBezTo>
                    <a:pt x="28" y="3002"/>
                    <a:pt x="36" y="3009"/>
                    <a:pt x="36" y="3018"/>
                  </a:cubicBezTo>
                  <a:lnTo>
                    <a:pt x="36" y="3018"/>
                  </a:lnTo>
                  <a:cubicBezTo>
                    <a:pt x="36" y="3027"/>
                    <a:pt x="28" y="3035"/>
                    <a:pt x="19" y="3035"/>
                  </a:cubicBezTo>
                  <a:cubicBezTo>
                    <a:pt x="10" y="3035"/>
                    <a:pt x="2" y="3027"/>
                    <a:pt x="2" y="3018"/>
                  </a:cubicBezTo>
                  <a:close/>
                  <a:moveTo>
                    <a:pt x="2" y="2952"/>
                  </a:moveTo>
                  <a:lnTo>
                    <a:pt x="2" y="2951"/>
                  </a:lnTo>
                  <a:cubicBezTo>
                    <a:pt x="2" y="2942"/>
                    <a:pt x="10" y="2935"/>
                    <a:pt x="19" y="2935"/>
                  </a:cubicBezTo>
                  <a:cubicBezTo>
                    <a:pt x="28" y="2935"/>
                    <a:pt x="36" y="2942"/>
                    <a:pt x="36" y="2951"/>
                  </a:cubicBezTo>
                  <a:lnTo>
                    <a:pt x="36" y="2952"/>
                  </a:lnTo>
                  <a:cubicBezTo>
                    <a:pt x="36" y="2961"/>
                    <a:pt x="28" y="2968"/>
                    <a:pt x="19" y="2968"/>
                  </a:cubicBezTo>
                  <a:cubicBezTo>
                    <a:pt x="10" y="2968"/>
                    <a:pt x="2" y="2961"/>
                    <a:pt x="2" y="2952"/>
                  </a:cubicBezTo>
                  <a:close/>
                  <a:moveTo>
                    <a:pt x="2" y="2885"/>
                  </a:moveTo>
                  <a:lnTo>
                    <a:pt x="2" y="2885"/>
                  </a:lnTo>
                  <a:cubicBezTo>
                    <a:pt x="2" y="2876"/>
                    <a:pt x="10" y="2868"/>
                    <a:pt x="19" y="2868"/>
                  </a:cubicBezTo>
                  <a:cubicBezTo>
                    <a:pt x="28" y="2868"/>
                    <a:pt x="36" y="2876"/>
                    <a:pt x="36" y="2885"/>
                  </a:cubicBezTo>
                  <a:lnTo>
                    <a:pt x="36" y="2885"/>
                  </a:lnTo>
                  <a:cubicBezTo>
                    <a:pt x="36" y="2894"/>
                    <a:pt x="28" y="2901"/>
                    <a:pt x="19" y="2901"/>
                  </a:cubicBezTo>
                  <a:cubicBezTo>
                    <a:pt x="10" y="2901"/>
                    <a:pt x="2" y="2894"/>
                    <a:pt x="2" y="2885"/>
                  </a:cubicBezTo>
                  <a:close/>
                  <a:moveTo>
                    <a:pt x="2" y="2818"/>
                  </a:moveTo>
                  <a:lnTo>
                    <a:pt x="2" y="2818"/>
                  </a:lnTo>
                  <a:cubicBezTo>
                    <a:pt x="2" y="2809"/>
                    <a:pt x="10" y="2801"/>
                    <a:pt x="19" y="2801"/>
                  </a:cubicBezTo>
                  <a:cubicBezTo>
                    <a:pt x="28" y="2801"/>
                    <a:pt x="36" y="2809"/>
                    <a:pt x="36" y="2818"/>
                  </a:cubicBezTo>
                  <a:lnTo>
                    <a:pt x="36" y="2818"/>
                  </a:lnTo>
                  <a:cubicBezTo>
                    <a:pt x="36" y="2827"/>
                    <a:pt x="28" y="2835"/>
                    <a:pt x="19" y="2835"/>
                  </a:cubicBezTo>
                  <a:cubicBezTo>
                    <a:pt x="10" y="2835"/>
                    <a:pt x="2" y="2827"/>
                    <a:pt x="2" y="2818"/>
                  </a:cubicBezTo>
                  <a:close/>
                  <a:moveTo>
                    <a:pt x="3" y="2751"/>
                  </a:moveTo>
                  <a:lnTo>
                    <a:pt x="3" y="2751"/>
                  </a:lnTo>
                  <a:cubicBezTo>
                    <a:pt x="3" y="2742"/>
                    <a:pt x="10" y="2735"/>
                    <a:pt x="19" y="2735"/>
                  </a:cubicBezTo>
                  <a:cubicBezTo>
                    <a:pt x="28" y="2735"/>
                    <a:pt x="36" y="2742"/>
                    <a:pt x="36" y="2751"/>
                  </a:cubicBezTo>
                  <a:lnTo>
                    <a:pt x="36" y="2751"/>
                  </a:lnTo>
                  <a:cubicBezTo>
                    <a:pt x="36" y="2761"/>
                    <a:pt x="28" y="2768"/>
                    <a:pt x="19" y="2768"/>
                  </a:cubicBezTo>
                  <a:cubicBezTo>
                    <a:pt x="10" y="2768"/>
                    <a:pt x="3" y="2761"/>
                    <a:pt x="3" y="2751"/>
                  </a:cubicBezTo>
                  <a:close/>
                  <a:moveTo>
                    <a:pt x="3" y="2685"/>
                  </a:moveTo>
                  <a:lnTo>
                    <a:pt x="3" y="2685"/>
                  </a:lnTo>
                  <a:cubicBezTo>
                    <a:pt x="3" y="2675"/>
                    <a:pt x="10" y="2668"/>
                    <a:pt x="19" y="2668"/>
                  </a:cubicBezTo>
                  <a:cubicBezTo>
                    <a:pt x="29" y="2668"/>
                    <a:pt x="36" y="2675"/>
                    <a:pt x="36" y="2685"/>
                  </a:cubicBezTo>
                  <a:lnTo>
                    <a:pt x="36" y="2685"/>
                  </a:lnTo>
                  <a:cubicBezTo>
                    <a:pt x="36" y="2694"/>
                    <a:pt x="29" y="2701"/>
                    <a:pt x="19" y="2701"/>
                  </a:cubicBezTo>
                  <a:cubicBezTo>
                    <a:pt x="10" y="2701"/>
                    <a:pt x="3" y="2694"/>
                    <a:pt x="3" y="2685"/>
                  </a:cubicBezTo>
                  <a:close/>
                  <a:moveTo>
                    <a:pt x="3" y="2618"/>
                  </a:moveTo>
                  <a:lnTo>
                    <a:pt x="3" y="2618"/>
                  </a:lnTo>
                  <a:cubicBezTo>
                    <a:pt x="3" y="2609"/>
                    <a:pt x="10" y="2601"/>
                    <a:pt x="19" y="2601"/>
                  </a:cubicBezTo>
                  <a:cubicBezTo>
                    <a:pt x="29" y="2601"/>
                    <a:pt x="36" y="2609"/>
                    <a:pt x="36" y="2618"/>
                  </a:cubicBezTo>
                  <a:lnTo>
                    <a:pt x="36" y="2618"/>
                  </a:lnTo>
                  <a:cubicBezTo>
                    <a:pt x="36" y="2627"/>
                    <a:pt x="29" y="2635"/>
                    <a:pt x="19" y="2635"/>
                  </a:cubicBezTo>
                  <a:cubicBezTo>
                    <a:pt x="10" y="2635"/>
                    <a:pt x="3" y="2627"/>
                    <a:pt x="3" y="2618"/>
                  </a:cubicBezTo>
                  <a:close/>
                  <a:moveTo>
                    <a:pt x="3" y="2551"/>
                  </a:moveTo>
                  <a:lnTo>
                    <a:pt x="3" y="2551"/>
                  </a:lnTo>
                  <a:cubicBezTo>
                    <a:pt x="3" y="2542"/>
                    <a:pt x="10" y="2535"/>
                    <a:pt x="19" y="2535"/>
                  </a:cubicBezTo>
                  <a:cubicBezTo>
                    <a:pt x="29" y="2535"/>
                    <a:pt x="36" y="2542"/>
                    <a:pt x="36" y="2551"/>
                  </a:cubicBezTo>
                  <a:lnTo>
                    <a:pt x="36" y="2551"/>
                  </a:lnTo>
                  <a:cubicBezTo>
                    <a:pt x="36" y="2561"/>
                    <a:pt x="29" y="2568"/>
                    <a:pt x="19" y="2568"/>
                  </a:cubicBezTo>
                  <a:cubicBezTo>
                    <a:pt x="10" y="2568"/>
                    <a:pt x="3" y="2561"/>
                    <a:pt x="3" y="2551"/>
                  </a:cubicBezTo>
                  <a:close/>
                  <a:moveTo>
                    <a:pt x="3" y="2485"/>
                  </a:moveTo>
                  <a:lnTo>
                    <a:pt x="3" y="2485"/>
                  </a:lnTo>
                  <a:cubicBezTo>
                    <a:pt x="3" y="2475"/>
                    <a:pt x="10" y="2468"/>
                    <a:pt x="20" y="2468"/>
                  </a:cubicBezTo>
                  <a:cubicBezTo>
                    <a:pt x="29" y="2468"/>
                    <a:pt x="36" y="2475"/>
                    <a:pt x="36" y="2485"/>
                  </a:cubicBezTo>
                  <a:lnTo>
                    <a:pt x="36" y="2485"/>
                  </a:lnTo>
                  <a:cubicBezTo>
                    <a:pt x="36" y="2494"/>
                    <a:pt x="29" y="2501"/>
                    <a:pt x="20" y="2501"/>
                  </a:cubicBezTo>
                  <a:cubicBezTo>
                    <a:pt x="10" y="2501"/>
                    <a:pt x="3" y="2494"/>
                    <a:pt x="3" y="2485"/>
                  </a:cubicBezTo>
                  <a:close/>
                  <a:moveTo>
                    <a:pt x="3" y="2418"/>
                  </a:moveTo>
                  <a:lnTo>
                    <a:pt x="3" y="2418"/>
                  </a:lnTo>
                  <a:cubicBezTo>
                    <a:pt x="3" y="2409"/>
                    <a:pt x="10" y="2401"/>
                    <a:pt x="20" y="2401"/>
                  </a:cubicBezTo>
                  <a:cubicBezTo>
                    <a:pt x="29" y="2401"/>
                    <a:pt x="36" y="2409"/>
                    <a:pt x="36" y="2418"/>
                  </a:cubicBezTo>
                  <a:lnTo>
                    <a:pt x="36" y="2418"/>
                  </a:lnTo>
                  <a:cubicBezTo>
                    <a:pt x="36" y="2427"/>
                    <a:pt x="29" y="2435"/>
                    <a:pt x="20" y="2435"/>
                  </a:cubicBezTo>
                  <a:cubicBezTo>
                    <a:pt x="10" y="2435"/>
                    <a:pt x="3" y="2427"/>
                    <a:pt x="3" y="2418"/>
                  </a:cubicBezTo>
                  <a:close/>
                  <a:moveTo>
                    <a:pt x="3" y="2351"/>
                  </a:moveTo>
                  <a:lnTo>
                    <a:pt x="3" y="2351"/>
                  </a:lnTo>
                  <a:cubicBezTo>
                    <a:pt x="3" y="2342"/>
                    <a:pt x="11" y="2334"/>
                    <a:pt x="20" y="2334"/>
                  </a:cubicBezTo>
                  <a:cubicBezTo>
                    <a:pt x="29" y="2334"/>
                    <a:pt x="36" y="2342"/>
                    <a:pt x="36" y="2351"/>
                  </a:cubicBezTo>
                  <a:lnTo>
                    <a:pt x="36" y="2351"/>
                  </a:lnTo>
                  <a:cubicBezTo>
                    <a:pt x="36" y="2360"/>
                    <a:pt x="29" y="2368"/>
                    <a:pt x="20" y="2368"/>
                  </a:cubicBezTo>
                  <a:cubicBezTo>
                    <a:pt x="11" y="2368"/>
                    <a:pt x="3" y="2360"/>
                    <a:pt x="3" y="2351"/>
                  </a:cubicBezTo>
                  <a:close/>
                  <a:moveTo>
                    <a:pt x="3" y="2285"/>
                  </a:moveTo>
                  <a:lnTo>
                    <a:pt x="3" y="2284"/>
                  </a:lnTo>
                  <a:cubicBezTo>
                    <a:pt x="3" y="2275"/>
                    <a:pt x="11" y="2268"/>
                    <a:pt x="20" y="2268"/>
                  </a:cubicBezTo>
                  <a:cubicBezTo>
                    <a:pt x="29" y="2268"/>
                    <a:pt x="37" y="2275"/>
                    <a:pt x="37" y="2284"/>
                  </a:cubicBezTo>
                  <a:lnTo>
                    <a:pt x="37" y="2285"/>
                  </a:lnTo>
                  <a:cubicBezTo>
                    <a:pt x="37" y="2294"/>
                    <a:pt x="29" y="2301"/>
                    <a:pt x="20" y="2301"/>
                  </a:cubicBezTo>
                  <a:cubicBezTo>
                    <a:pt x="11" y="2301"/>
                    <a:pt x="3" y="2294"/>
                    <a:pt x="3" y="2285"/>
                  </a:cubicBezTo>
                  <a:close/>
                  <a:moveTo>
                    <a:pt x="3" y="2218"/>
                  </a:moveTo>
                  <a:lnTo>
                    <a:pt x="3" y="2218"/>
                  </a:lnTo>
                  <a:cubicBezTo>
                    <a:pt x="3" y="2209"/>
                    <a:pt x="11" y="2201"/>
                    <a:pt x="20" y="2201"/>
                  </a:cubicBezTo>
                  <a:cubicBezTo>
                    <a:pt x="29" y="2201"/>
                    <a:pt x="37" y="2209"/>
                    <a:pt x="37" y="2218"/>
                  </a:cubicBezTo>
                  <a:lnTo>
                    <a:pt x="37" y="2218"/>
                  </a:lnTo>
                  <a:cubicBezTo>
                    <a:pt x="37" y="2227"/>
                    <a:pt x="29" y="2234"/>
                    <a:pt x="20" y="2234"/>
                  </a:cubicBezTo>
                  <a:cubicBezTo>
                    <a:pt x="11" y="2234"/>
                    <a:pt x="3" y="2227"/>
                    <a:pt x="3" y="2218"/>
                  </a:cubicBezTo>
                  <a:close/>
                  <a:moveTo>
                    <a:pt x="3" y="2151"/>
                  </a:moveTo>
                  <a:lnTo>
                    <a:pt x="3" y="2151"/>
                  </a:lnTo>
                  <a:cubicBezTo>
                    <a:pt x="3" y="2142"/>
                    <a:pt x="11" y="2134"/>
                    <a:pt x="20" y="2134"/>
                  </a:cubicBezTo>
                  <a:cubicBezTo>
                    <a:pt x="29" y="2134"/>
                    <a:pt x="37" y="2142"/>
                    <a:pt x="37" y="2151"/>
                  </a:cubicBezTo>
                  <a:lnTo>
                    <a:pt x="37" y="2151"/>
                  </a:lnTo>
                  <a:cubicBezTo>
                    <a:pt x="37" y="2160"/>
                    <a:pt x="29" y="2168"/>
                    <a:pt x="20" y="2168"/>
                  </a:cubicBezTo>
                  <a:cubicBezTo>
                    <a:pt x="11" y="2168"/>
                    <a:pt x="3" y="2160"/>
                    <a:pt x="3" y="2151"/>
                  </a:cubicBezTo>
                  <a:close/>
                  <a:moveTo>
                    <a:pt x="3" y="2084"/>
                  </a:moveTo>
                  <a:lnTo>
                    <a:pt x="3" y="2084"/>
                  </a:lnTo>
                  <a:cubicBezTo>
                    <a:pt x="3" y="2075"/>
                    <a:pt x="11" y="2068"/>
                    <a:pt x="20" y="2068"/>
                  </a:cubicBezTo>
                  <a:cubicBezTo>
                    <a:pt x="29" y="2068"/>
                    <a:pt x="37" y="2075"/>
                    <a:pt x="37" y="2084"/>
                  </a:cubicBezTo>
                  <a:lnTo>
                    <a:pt x="37" y="2084"/>
                  </a:lnTo>
                  <a:cubicBezTo>
                    <a:pt x="37" y="2094"/>
                    <a:pt x="29" y="2101"/>
                    <a:pt x="20" y="2101"/>
                  </a:cubicBezTo>
                  <a:cubicBezTo>
                    <a:pt x="11" y="2101"/>
                    <a:pt x="3" y="2094"/>
                    <a:pt x="3" y="2084"/>
                  </a:cubicBezTo>
                  <a:close/>
                  <a:moveTo>
                    <a:pt x="4" y="2018"/>
                  </a:moveTo>
                  <a:lnTo>
                    <a:pt x="4" y="2018"/>
                  </a:lnTo>
                  <a:cubicBezTo>
                    <a:pt x="4" y="2008"/>
                    <a:pt x="11" y="2001"/>
                    <a:pt x="20" y="2001"/>
                  </a:cubicBezTo>
                  <a:cubicBezTo>
                    <a:pt x="29" y="2001"/>
                    <a:pt x="37" y="2008"/>
                    <a:pt x="37" y="2018"/>
                  </a:cubicBezTo>
                  <a:lnTo>
                    <a:pt x="37" y="2018"/>
                  </a:lnTo>
                  <a:cubicBezTo>
                    <a:pt x="37" y="2027"/>
                    <a:pt x="29" y="2034"/>
                    <a:pt x="20" y="2034"/>
                  </a:cubicBezTo>
                  <a:cubicBezTo>
                    <a:pt x="11" y="2034"/>
                    <a:pt x="4" y="2027"/>
                    <a:pt x="4" y="2018"/>
                  </a:cubicBezTo>
                  <a:close/>
                  <a:moveTo>
                    <a:pt x="4" y="1951"/>
                  </a:moveTo>
                  <a:lnTo>
                    <a:pt x="4" y="1951"/>
                  </a:lnTo>
                  <a:cubicBezTo>
                    <a:pt x="4" y="1942"/>
                    <a:pt x="11" y="1934"/>
                    <a:pt x="20" y="1934"/>
                  </a:cubicBezTo>
                  <a:cubicBezTo>
                    <a:pt x="30" y="1934"/>
                    <a:pt x="37" y="1942"/>
                    <a:pt x="37" y="1951"/>
                  </a:cubicBezTo>
                  <a:lnTo>
                    <a:pt x="37" y="1951"/>
                  </a:lnTo>
                  <a:cubicBezTo>
                    <a:pt x="37" y="1960"/>
                    <a:pt x="30" y="1968"/>
                    <a:pt x="20" y="1968"/>
                  </a:cubicBezTo>
                  <a:cubicBezTo>
                    <a:pt x="11" y="1968"/>
                    <a:pt x="4" y="1960"/>
                    <a:pt x="4" y="1951"/>
                  </a:cubicBezTo>
                  <a:close/>
                  <a:moveTo>
                    <a:pt x="4" y="1884"/>
                  </a:moveTo>
                  <a:lnTo>
                    <a:pt x="4" y="1884"/>
                  </a:lnTo>
                  <a:cubicBezTo>
                    <a:pt x="4" y="1875"/>
                    <a:pt x="11" y="1868"/>
                    <a:pt x="20" y="1868"/>
                  </a:cubicBezTo>
                  <a:cubicBezTo>
                    <a:pt x="30" y="1868"/>
                    <a:pt x="37" y="1875"/>
                    <a:pt x="37" y="1884"/>
                  </a:cubicBezTo>
                  <a:lnTo>
                    <a:pt x="37" y="1884"/>
                  </a:lnTo>
                  <a:cubicBezTo>
                    <a:pt x="37" y="1893"/>
                    <a:pt x="30" y="1901"/>
                    <a:pt x="20" y="1901"/>
                  </a:cubicBezTo>
                  <a:cubicBezTo>
                    <a:pt x="11" y="1901"/>
                    <a:pt x="4" y="1893"/>
                    <a:pt x="4" y="1884"/>
                  </a:cubicBezTo>
                  <a:close/>
                  <a:moveTo>
                    <a:pt x="4" y="1818"/>
                  </a:moveTo>
                  <a:lnTo>
                    <a:pt x="4" y="1818"/>
                  </a:lnTo>
                  <a:cubicBezTo>
                    <a:pt x="4" y="1808"/>
                    <a:pt x="11" y="1801"/>
                    <a:pt x="21" y="1801"/>
                  </a:cubicBezTo>
                  <a:cubicBezTo>
                    <a:pt x="30" y="1801"/>
                    <a:pt x="37" y="1808"/>
                    <a:pt x="37" y="1818"/>
                  </a:cubicBezTo>
                  <a:lnTo>
                    <a:pt x="37" y="1818"/>
                  </a:lnTo>
                  <a:cubicBezTo>
                    <a:pt x="37" y="1827"/>
                    <a:pt x="30" y="1834"/>
                    <a:pt x="21" y="1834"/>
                  </a:cubicBezTo>
                  <a:cubicBezTo>
                    <a:pt x="11" y="1834"/>
                    <a:pt x="4" y="1827"/>
                    <a:pt x="4" y="1818"/>
                  </a:cubicBezTo>
                  <a:close/>
                  <a:moveTo>
                    <a:pt x="4" y="1751"/>
                  </a:moveTo>
                  <a:lnTo>
                    <a:pt x="4" y="1751"/>
                  </a:lnTo>
                  <a:cubicBezTo>
                    <a:pt x="4" y="1742"/>
                    <a:pt x="11" y="1734"/>
                    <a:pt x="21" y="1734"/>
                  </a:cubicBezTo>
                  <a:cubicBezTo>
                    <a:pt x="30" y="1734"/>
                    <a:pt x="37" y="1742"/>
                    <a:pt x="37" y="1751"/>
                  </a:cubicBezTo>
                  <a:lnTo>
                    <a:pt x="37" y="1751"/>
                  </a:lnTo>
                  <a:cubicBezTo>
                    <a:pt x="37" y="1760"/>
                    <a:pt x="30" y="1768"/>
                    <a:pt x="21" y="1768"/>
                  </a:cubicBezTo>
                  <a:cubicBezTo>
                    <a:pt x="11" y="1768"/>
                    <a:pt x="4" y="1760"/>
                    <a:pt x="4" y="1751"/>
                  </a:cubicBezTo>
                  <a:close/>
                  <a:moveTo>
                    <a:pt x="4" y="1684"/>
                  </a:moveTo>
                  <a:lnTo>
                    <a:pt x="4" y="1684"/>
                  </a:lnTo>
                  <a:cubicBezTo>
                    <a:pt x="4" y="1675"/>
                    <a:pt x="11" y="1667"/>
                    <a:pt x="21" y="1667"/>
                  </a:cubicBezTo>
                  <a:cubicBezTo>
                    <a:pt x="30" y="1667"/>
                    <a:pt x="37" y="1675"/>
                    <a:pt x="37" y="1684"/>
                  </a:cubicBezTo>
                  <a:lnTo>
                    <a:pt x="37" y="1684"/>
                  </a:lnTo>
                  <a:cubicBezTo>
                    <a:pt x="37" y="1693"/>
                    <a:pt x="30" y="1701"/>
                    <a:pt x="21" y="1701"/>
                  </a:cubicBezTo>
                  <a:cubicBezTo>
                    <a:pt x="11" y="1701"/>
                    <a:pt x="4" y="1693"/>
                    <a:pt x="4" y="1684"/>
                  </a:cubicBezTo>
                  <a:close/>
                  <a:moveTo>
                    <a:pt x="4" y="1617"/>
                  </a:moveTo>
                  <a:lnTo>
                    <a:pt x="4" y="1617"/>
                  </a:lnTo>
                  <a:cubicBezTo>
                    <a:pt x="4" y="1608"/>
                    <a:pt x="12" y="1601"/>
                    <a:pt x="21" y="1601"/>
                  </a:cubicBezTo>
                  <a:cubicBezTo>
                    <a:pt x="30" y="1601"/>
                    <a:pt x="37" y="1608"/>
                    <a:pt x="37" y="1617"/>
                  </a:cubicBezTo>
                  <a:lnTo>
                    <a:pt x="37" y="1617"/>
                  </a:lnTo>
                  <a:cubicBezTo>
                    <a:pt x="37" y="1627"/>
                    <a:pt x="30" y="1634"/>
                    <a:pt x="21" y="1634"/>
                  </a:cubicBezTo>
                  <a:cubicBezTo>
                    <a:pt x="12" y="1634"/>
                    <a:pt x="4" y="1627"/>
                    <a:pt x="4" y="1617"/>
                  </a:cubicBezTo>
                  <a:close/>
                  <a:moveTo>
                    <a:pt x="4" y="1551"/>
                  </a:moveTo>
                  <a:lnTo>
                    <a:pt x="4" y="1551"/>
                  </a:lnTo>
                  <a:cubicBezTo>
                    <a:pt x="4" y="1542"/>
                    <a:pt x="12" y="1534"/>
                    <a:pt x="21" y="1534"/>
                  </a:cubicBezTo>
                  <a:cubicBezTo>
                    <a:pt x="30" y="1534"/>
                    <a:pt x="38" y="1542"/>
                    <a:pt x="38" y="1551"/>
                  </a:cubicBezTo>
                  <a:lnTo>
                    <a:pt x="38" y="1551"/>
                  </a:lnTo>
                  <a:cubicBezTo>
                    <a:pt x="38" y="1560"/>
                    <a:pt x="30" y="1567"/>
                    <a:pt x="21" y="1567"/>
                  </a:cubicBezTo>
                  <a:cubicBezTo>
                    <a:pt x="12" y="1567"/>
                    <a:pt x="4" y="1560"/>
                    <a:pt x="4" y="1551"/>
                  </a:cubicBezTo>
                  <a:close/>
                  <a:moveTo>
                    <a:pt x="4" y="1484"/>
                  </a:moveTo>
                  <a:lnTo>
                    <a:pt x="4" y="1484"/>
                  </a:lnTo>
                  <a:cubicBezTo>
                    <a:pt x="4" y="1475"/>
                    <a:pt x="12" y="1467"/>
                    <a:pt x="21" y="1467"/>
                  </a:cubicBezTo>
                  <a:cubicBezTo>
                    <a:pt x="30" y="1467"/>
                    <a:pt x="38" y="1475"/>
                    <a:pt x="38" y="1484"/>
                  </a:cubicBezTo>
                  <a:lnTo>
                    <a:pt x="38" y="1484"/>
                  </a:lnTo>
                  <a:cubicBezTo>
                    <a:pt x="38" y="1493"/>
                    <a:pt x="30" y="1501"/>
                    <a:pt x="21" y="1501"/>
                  </a:cubicBezTo>
                  <a:cubicBezTo>
                    <a:pt x="12" y="1501"/>
                    <a:pt x="4" y="1493"/>
                    <a:pt x="4" y="1484"/>
                  </a:cubicBezTo>
                  <a:close/>
                  <a:moveTo>
                    <a:pt x="4" y="1417"/>
                  </a:moveTo>
                  <a:lnTo>
                    <a:pt x="4" y="1417"/>
                  </a:lnTo>
                  <a:cubicBezTo>
                    <a:pt x="4" y="1408"/>
                    <a:pt x="12" y="1401"/>
                    <a:pt x="21" y="1401"/>
                  </a:cubicBezTo>
                  <a:cubicBezTo>
                    <a:pt x="30" y="1401"/>
                    <a:pt x="38" y="1408"/>
                    <a:pt x="38" y="1417"/>
                  </a:cubicBezTo>
                  <a:lnTo>
                    <a:pt x="38" y="1417"/>
                  </a:lnTo>
                  <a:cubicBezTo>
                    <a:pt x="38" y="1427"/>
                    <a:pt x="30" y="1434"/>
                    <a:pt x="21" y="1434"/>
                  </a:cubicBezTo>
                  <a:cubicBezTo>
                    <a:pt x="12" y="1434"/>
                    <a:pt x="4" y="1427"/>
                    <a:pt x="4" y="1417"/>
                  </a:cubicBezTo>
                  <a:close/>
                  <a:moveTo>
                    <a:pt x="5" y="1351"/>
                  </a:moveTo>
                  <a:lnTo>
                    <a:pt x="5" y="1351"/>
                  </a:lnTo>
                  <a:cubicBezTo>
                    <a:pt x="5" y="1341"/>
                    <a:pt x="12" y="1334"/>
                    <a:pt x="21" y="1334"/>
                  </a:cubicBezTo>
                  <a:cubicBezTo>
                    <a:pt x="30" y="1334"/>
                    <a:pt x="38" y="1341"/>
                    <a:pt x="38" y="1351"/>
                  </a:cubicBezTo>
                  <a:lnTo>
                    <a:pt x="38" y="1351"/>
                  </a:lnTo>
                  <a:cubicBezTo>
                    <a:pt x="38" y="1360"/>
                    <a:pt x="30" y="1367"/>
                    <a:pt x="21" y="1367"/>
                  </a:cubicBezTo>
                  <a:cubicBezTo>
                    <a:pt x="12" y="1367"/>
                    <a:pt x="5" y="1360"/>
                    <a:pt x="5" y="1351"/>
                  </a:cubicBezTo>
                  <a:close/>
                  <a:moveTo>
                    <a:pt x="5" y="1284"/>
                  </a:moveTo>
                  <a:lnTo>
                    <a:pt x="5" y="1284"/>
                  </a:lnTo>
                  <a:cubicBezTo>
                    <a:pt x="5" y="1275"/>
                    <a:pt x="12" y="1267"/>
                    <a:pt x="21" y="1267"/>
                  </a:cubicBezTo>
                  <a:cubicBezTo>
                    <a:pt x="30" y="1267"/>
                    <a:pt x="38" y="1275"/>
                    <a:pt x="38" y="1284"/>
                  </a:cubicBezTo>
                  <a:lnTo>
                    <a:pt x="38" y="1284"/>
                  </a:lnTo>
                  <a:cubicBezTo>
                    <a:pt x="38" y="1293"/>
                    <a:pt x="30" y="1301"/>
                    <a:pt x="21" y="1301"/>
                  </a:cubicBezTo>
                  <a:cubicBezTo>
                    <a:pt x="12" y="1301"/>
                    <a:pt x="5" y="1293"/>
                    <a:pt x="5" y="1284"/>
                  </a:cubicBezTo>
                  <a:close/>
                  <a:moveTo>
                    <a:pt x="5" y="1217"/>
                  </a:moveTo>
                  <a:lnTo>
                    <a:pt x="5" y="1217"/>
                  </a:lnTo>
                  <a:cubicBezTo>
                    <a:pt x="5" y="1208"/>
                    <a:pt x="12" y="1201"/>
                    <a:pt x="21" y="1201"/>
                  </a:cubicBezTo>
                  <a:cubicBezTo>
                    <a:pt x="31" y="1201"/>
                    <a:pt x="38" y="1208"/>
                    <a:pt x="38" y="1217"/>
                  </a:cubicBezTo>
                  <a:lnTo>
                    <a:pt x="38" y="1217"/>
                  </a:lnTo>
                  <a:cubicBezTo>
                    <a:pt x="38" y="1227"/>
                    <a:pt x="31" y="1234"/>
                    <a:pt x="21" y="1234"/>
                  </a:cubicBezTo>
                  <a:cubicBezTo>
                    <a:pt x="12" y="1234"/>
                    <a:pt x="5" y="1227"/>
                    <a:pt x="5" y="1217"/>
                  </a:cubicBezTo>
                  <a:close/>
                  <a:moveTo>
                    <a:pt x="5" y="1151"/>
                  </a:moveTo>
                  <a:lnTo>
                    <a:pt x="5" y="1151"/>
                  </a:lnTo>
                  <a:cubicBezTo>
                    <a:pt x="5" y="1141"/>
                    <a:pt x="12" y="1134"/>
                    <a:pt x="21" y="1134"/>
                  </a:cubicBezTo>
                  <a:cubicBezTo>
                    <a:pt x="31" y="1134"/>
                    <a:pt x="38" y="1141"/>
                    <a:pt x="38" y="1151"/>
                  </a:cubicBezTo>
                  <a:lnTo>
                    <a:pt x="38" y="1151"/>
                  </a:lnTo>
                  <a:cubicBezTo>
                    <a:pt x="38" y="1160"/>
                    <a:pt x="31" y="1167"/>
                    <a:pt x="21" y="1167"/>
                  </a:cubicBezTo>
                  <a:cubicBezTo>
                    <a:pt x="12" y="1167"/>
                    <a:pt x="5" y="1160"/>
                    <a:pt x="5" y="1151"/>
                  </a:cubicBezTo>
                  <a:close/>
                  <a:moveTo>
                    <a:pt x="5" y="1084"/>
                  </a:moveTo>
                  <a:lnTo>
                    <a:pt x="5" y="1084"/>
                  </a:lnTo>
                  <a:cubicBezTo>
                    <a:pt x="5" y="1075"/>
                    <a:pt x="12" y="1067"/>
                    <a:pt x="22" y="1067"/>
                  </a:cubicBezTo>
                  <a:cubicBezTo>
                    <a:pt x="31" y="1067"/>
                    <a:pt x="38" y="1075"/>
                    <a:pt x="38" y="1084"/>
                  </a:cubicBezTo>
                  <a:lnTo>
                    <a:pt x="38" y="1084"/>
                  </a:lnTo>
                  <a:cubicBezTo>
                    <a:pt x="38" y="1093"/>
                    <a:pt x="31" y="1101"/>
                    <a:pt x="22" y="1101"/>
                  </a:cubicBezTo>
                  <a:cubicBezTo>
                    <a:pt x="12" y="1101"/>
                    <a:pt x="5" y="1093"/>
                    <a:pt x="5" y="1084"/>
                  </a:cubicBezTo>
                  <a:close/>
                  <a:moveTo>
                    <a:pt x="5" y="1017"/>
                  </a:moveTo>
                  <a:lnTo>
                    <a:pt x="5" y="1017"/>
                  </a:lnTo>
                  <a:cubicBezTo>
                    <a:pt x="5" y="1008"/>
                    <a:pt x="12" y="1000"/>
                    <a:pt x="22" y="1000"/>
                  </a:cubicBezTo>
                  <a:cubicBezTo>
                    <a:pt x="31" y="1000"/>
                    <a:pt x="38" y="1008"/>
                    <a:pt x="38" y="1017"/>
                  </a:cubicBezTo>
                  <a:lnTo>
                    <a:pt x="38" y="1017"/>
                  </a:lnTo>
                  <a:cubicBezTo>
                    <a:pt x="38" y="1026"/>
                    <a:pt x="31" y="1034"/>
                    <a:pt x="22" y="1034"/>
                  </a:cubicBezTo>
                  <a:cubicBezTo>
                    <a:pt x="12" y="1034"/>
                    <a:pt x="5" y="1026"/>
                    <a:pt x="5" y="1017"/>
                  </a:cubicBezTo>
                  <a:close/>
                  <a:moveTo>
                    <a:pt x="5" y="951"/>
                  </a:moveTo>
                  <a:lnTo>
                    <a:pt x="5" y="950"/>
                  </a:lnTo>
                  <a:cubicBezTo>
                    <a:pt x="5" y="941"/>
                    <a:pt x="13" y="934"/>
                    <a:pt x="22" y="934"/>
                  </a:cubicBezTo>
                  <a:cubicBezTo>
                    <a:pt x="31" y="934"/>
                    <a:pt x="38" y="941"/>
                    <a:pt x="38" y="950"/>
                  </a:cubicBezTo>
                  <a:lnTo>
                    <a:pt x="38" y="951"/>
                  </a:lnTo>
                  <a:cubicBezTo>
                    <a:pt x="38" y="960"/>
                    <a:pt x="31" y="967"/>
                    <a:pt x="22" y="967"/>
                  </a:cubicBezTo>
                  <a:cubicBezTo>
                    <a:pt x="13" y="967"/>
                    <a:pt x="5" y="960"/>
                    <a:pt x="5" y="951"/>
                  </a:cubicBezTo>
                  <a:close/>
                  <a:moveTo>
                    <a:pt x="5" y="884"/>
                  </a:moveTo>
                  <a:lnTo>
                    <a:pt x="5" y="884"/>
                  </a:lnTo>
                  <a:cubicBezTo>
                    <a:pt x="5" y="875"/>
                    <a:pt x="13" y="867"/>
                    <a:pt x="22" y="867"/>
                  </a:cubicBezTo>
                  <a:cubicBezTo>
                    <a:pt x="31" y="867"/>
                    <a:pt x="38" y="875"/>
                    <a:pt x="38" y="884"/>
                  </a:cubicBezTo>
                  <a:lnTo>
                    <a:pt x="38" y="884"/>
                  </a:lnTo>
                  <a:cubicBezTo>
                    <a:pt x="38" y="893"/>
                    <a:pt x="31" y="900"/>
                    <a:pt x="22" y="900"/>
                  </a:cubicBezTo>
                  <a:cubicBezTo>
                    <a:pt x="13" y="900"/>
                    <a:pt x="5" y="893"/>
                    <a:pt x="5" y="884"/>
                  </a:cubicBezTo>
                  <a:close/>
                  <a:moveTo>
                    <a:pt x="5" y="817"/>
                  </a:moveTo>
                  <a:lnTo>
                    <a:pt x="5" y="817"/>
                  </a:lnTo>
                  <a:cubicBezTo>
                    <a:pt x="5" y="808"/>
                    <a:pt x="13" y="800"/>
                    <a:pt x="22" y="800"/>
                  </a:cubicBezTo>
                  <a:cubicBezTo>
                    <a:pt x="31" y="800"/>
                    <a:pt x="39" y="808"/>
                    <a:pt x="39" y="817"/>
                  </a:cubicBezTo>
                  <a:lnTo>
                    <a:pt x="39" y="817"/>
                  </a:lnTo>
                  <a:cubicBezTo>
                    <a:pt x="39" y="826"/>
                    <a:pt x="31" y="834"/>
                    <a:pt x="22" y="834"/>
                  </a:cubicBezTo>
                  <a:cubicBezTo>
                    <a:pt x="13" y="834"/>
                    <a:pt x="5" y="826"/>
                    <a:pt x="5" y="817"/>
                  </a:cubicBezTo>
                  <a:close/>
                  <a:moveTo>
                    <a:pt x="5" y="750"/>
                  </a:moveTo>
                  <a:lnTo>
                    <a:pt x="5" y="750"/>
                  </a:lnTo>
                  <a:cubicBezTo>
                    <a:pt x="5" y="741"/>
                    <a:pt x="13" y="734"/>
                    <a:pt x="22" y="734"/>
                  </a:cubicBezTo>
                  <a:cubicBezTo>
                    <a:pt x="31" y="734"/>
                    <a:pt x="39" y="741"/>
                    <a:pt x="39" y="750"/>
                  </a:cubicBezTo>
                  <a:lnTo>
                    <a:pt x="39" y="750"/>
                  </a:lnTo>
                  <a:cubicBezTo>
                    <a:pt x="39" y="760"/>
                    <a:pt x="31" y="767"/>
                    <a:pt x="22" y="767"/>
                  </a:cubicBezTo>
                  <a:cubicBezTo>
                    <a:pt x="13" y="767"/>
                    <a:pt x="5" y="760"/>
                    <a:pt x="5" y="750"/>
                  </a:cubicBezTo>
                  <a:close/>
                  <a:moveTo>
                    <a:pt x="5" y="684"/>
                  </a:moveTo>
                  <a:lnTo>
                    <a:pt x="5" y="684"/>
                  </a:lnTo>
                  <a:cubicBezTo>
                    <a:pt x="5" y="674"/>
                    <a:pt x="13" y="667"/>
                    <a:pt x="22" y="667"/>
                  </a:cubicBezTo>
                  <a:cubicBezTo>
                    <a:pt x="31" y="667"/>
                    <a:pt x="39" y="674"/>
                    <a:pt x="39" y="684"/>
                  </a:cubicBezTo>
                  <a:lnTo>
                    <a:pt x="39" y="684"/>
                  </a:lnTo>
                  <a:cubicBezTo>
                    <a:pt x="39" y="693"/>
                    <a:pt x="31" y="700"/>
                    <a:pt x="22" y="700"/>
                  </a:cubicBezTo>
                  <a:cubicBezTo>
                    <a:pt x="13" y="700"/>
                    <a:pt x="5" y="693"/>
                    <a:pt x="5" y="684"/>
                  </a:cubicBezTo>
                  <a:close/>
                  <a:moveTo>
                    <a:pt x="6" y="617"/>
                  </a:moveTo>
                  <a:lnTo>
                    <a:pt x="6" y="617"/>
                  </a:lnTo>
                  <a:cubicBezTo>
                    <a:pt x="6" y="608"/>
                    <a:pt x="13" y="600"/>
                    <a:pt x="22" y="600"/>
                  </a:cubicBezTo>
                  <a:cubicBezTo>
                    <a:pt x="31" y="600"/>
                    <a:pt x="39" y="608"/>
                    <a:pt x="39" y="617"/>
                  </a:cubicBezTo>
                  <a:lnTo>
                    <a:pt x="39" y="617"/>
                  </a:lnTo>
                  <a:cubicBezTo>
                    <a:pt x="39" y="626"/>
                    <a:pt x="31" y="634"/>
                    <a:pt x="22" y="634"/>
                  </a:cubicBezTo>
                  <a:cubicBezTo>
                    <a:pt x="13" y="634"/>
                    <a:pt x="6" y="626"/>
                    <a:pt x="6" y="617"/>
                  </a:cubicBezTo>
                  <a:close/>
                  <a:moveTo>
                    <a:pt x="6" y="550"/>
                  </a:moveTo>
                  <a:lnTo>
                    <a:pt x="6" y="550"/>
                  </a:lnTo>
                  <a:cubicBezTo>
                    <a:pt x="6" y="541"/>
                    <a:pt x="13" y="534"/>
                    <a:pt x="22" y="534"/>
                  </a:cubicBezTo>
                  <a:cubicBezTo>
                    <a:pt x="31" y="534"/>
                    <a:pt x="39" y="541"/>
                    <a:pt x="39" y="550"/>
                  </a:cubicBezTo>
                  <a:lnTo>
                    <a:pt x="39" y="550"/>
                  </a:lnTo>
                  <a:cubicBezTo>
                    <a:pt x="39" y="560"/>
                    <a:pt x="31" y="567"/>
                    <a:pt x="22" y="567"/>
                  </a:cubicBezTo>
                  <a:cubicBezTo>
                    <a:pt x="13" y="567"/>
                    <a:pt x="6" y="560"/>
                    <a:pt x="6" y="550"/>
                  </a:cubicBezTo>
                  <a:close/>
                  <a:moveTo>
                    <a:pt x="6" y="484"/>
                  </a:moveTo>
                  <a:lnTo>
                    <a:pt x="6" y="484"/>
                  </a:lnTo>
                  <a:cubicBezTo>
                    <a:pt x="6" y="474"/>
                    <a:pt x="13" y="467"/>
                    <a:pt x="22" y="467"/>
                  </a:cubicBezTo>
                  <a:cubicBezTo>
                    <a:pt x="32" y="467"/>
                    <a:pt x="39" y="474"/>
                    <a:pt x="39" y="484"/>
                  </a:cubicBezTo>
                  <a:lnTo>
                    <a:pt x="39" y="484"/>
                  </a:lnTo>
                  <a:cubicBezTo>
                    <a:pt x="39" y="493"/>
                    <a:pt x="32" y="500"/>
                    <a:pt x="22" y="500"/>
                  </a:cubicBezTo>
                  <a:cubicBezTo>
                    <a:pt x="13" y="500"/>
                    <a:pt x="6" y="493"/>
                    <a:pt x="6" y="484"/>
                  </a:cubicBezTo>
                  <a:close/>
                  <a:moveTo>
                    <a:pt x="6" y="417"/>
                  </a:moveTo>
                  <a:lnTo>
                    <a:pt x="6" y="417"/>
                  </a:lnTo>
                  <a:cubicBezTo>
                    <a:pt x="6" y="408"/>
                    <a:pt x="13" y="400"/>
                    <a:pt x="22" y="400"/>
                  </a:cubicBezTo>
                  <a:cubicBezTo>
                    <a:pt x="32" y="400"/>
                    <a:pt x="39" y="408"/>
                    <a:pt x="39" y="417"/>
                  </a:cubicBezTo>
                  <a:lnTo>
                    <a:pt x="39" y="417"/>
                  </a:lnTo>
                  <a:cubicBezTo>
                    <a:pt x="39" y="426"/>
                    <a:pt x="32" y="434"/>
                    <a:pt x="22" y="434"/>
                  </a:cubicBezTo>
                  <a:cubicBezTo>
                    <a:pt x="13" y="434"/>
                    <a:pt x="6" y="426"/>
                    <a:pt x="6" y="417"/>
                  </a:cubicBezTo>
                  <a:close/>
                  <a:moveTo>
                    <a:pt x="6" y="350"/>
                  </a:moveTo>
                  <a:lnTo>
                    <a:pt x="6" y="350"/>
                  </a:lnTo>
                  <a:cubicBezTo>
                    <a:pt x="6" y="341"/>
                    <a:pt x="13" y="334"/>
                    <a:pt x="23" y="334"/>
                  </a:cubicBezTo>
                  <a:cubicBezTo>
                    <a:pt x="32" y="334"/>
                    <a:pt x="39" y="341"/>
                    <a:pt x="39" y="350"/>
                  </a:cubicBezTo>
                  <a:lnTo>
                    <a:pt x="39" y="350"/>
                  </a:lnTo>
                  <a:cubicBezTo>
                    <a:pt x="39" y="359"/>
                    <a:pt x="32" y="367"/>
                    <a:pt x="23" y="367"/>
                  </a:cubicBezTo>
                  <a:cubicBezTo>
                    <a:pt x="13" y="367"/>
                    <a:pt x="6" y="359"/>
                    <a:pt x="6" y="350"/>
                  </a:cubicBezTo>
                  <a:close/>
                  <a:moveTo>
                    <a:pt x="6" y="284"/>
                  </a:moveTo>
                  <a:lnTo>
                    <a:pt x="6" y="283"/>
                  </a:lnTo>
                  <a:cubicBezTo>
                    <a:pt x="6" y="274"/>
                    <a:pt x="13" y="267"/>
                    <a:pt x="23" y="267"/>
                  </a:cubicBezTo>
                  <a:cubicBezTo>
                    <a:pt x="32" y="267"/>
                    <a:pt x="39" y="274"/>
                    <a:pt x="39" y="283"/>
                  </a:cubicBezTo>
                  <a:lnTo>
                    <a:pt x="39" y="284"/>
                  </a:lnTo>
                  <a:cubicBezTo>
                    <a:pt x="39" y="293"/>
                    <a:pt x="32" y="300"/>
                    <a:pt x="23" y="300"/>
                  </a:cubicBezTo>
                  <a:cubicBezTo>
                    <a:pt x="13" y="300"/>
                    <a:pt x="6" y="293"/>
                    <a:pt x="6" y="284"/>
                  </a:cubicBezTo>
                  <a:close/>
                  <a:moveTo>
                    <a:pt x="6" y="217"/>
                  </a:moveTo>
                  <a:lnTo>
                    <a:pt x="6" y="217"/>
                  </a:lnTo>
                  <a:cubicBezTo>
                    <a:pt x="6" y="208"/>
                    <a:pt x="14" y="200"/>
                    <a:pt x="23" y="200"/>
                  </a:cubicBezTo>
                  <a:cubicBezTo>
                    <a:pt x="32" y="200"/>
                    <a:pt x="39" y="208"/>
                    <a:pt x="39" y="217"/>
                  </a:cubicBezTo>
                  <a:lnTo>
                    <a:pt x="39" y="217"/>
                  </a:lnTo>
                  <a:cubicBezTo>
                    <a:pt x="39" y="226"/>
                    <a:pt x="32" y="233"/>
                    <a:pt x="23" y="233"/>
                  </a:cubicBezTo>
                  <a:cubicBezTo>
                    <a:pt x="14" y="233"/>
                    <a:pt x="6" y="226"/>
                    <a:pt x="6" y="217"/>
                  </a:cubicBezTo>
                  <a:close/>
                  <a:moveTo>
                    <a:pt x="6" y="150"/>
                  </a:moveTo>
                  <a:lnTo>
                    <a:pt x="6" y="150"/>
                  </a:lnTo>
                  <a:cubicBezTo>
                    <a:pt x="6" y="141"/>
                    <a:pt x="14" y="133"/>
                    <a:pt x="23" y="133"/>
                  </a:cubicBezTo>
                  <a:cubicBezTo>
                    <a:pt x="32" y="133"/>
                    <a:pt x="40" y="141"/>
                    <a:pt x="40" y="150"/>
                  </a:cubicBezTo>
                  <a:lnTo>
                    <a:pt x="40" y="150"/>
                  </a:lnTo>
                  <a:cubicBezTo>
                    <a:pt x="40" y="159"/>
                    <a:pt x="32" y="167"/>
                    <a:pt x="23" y="167"/>
                  </a:cubicBezTo>
                  <a:cubicBezTo>
                    <a:pt x="14" y="167"/>
                    <a:pt x="6" y="159"/>
                    <a:pt x="6" y="150"/>
                  </a:cubicBezTo>
                  <a:close/>
                  <a:moveTo>
                    <a:pt x="6" y="83"/>
                  </a:moveTo>
                  <a:lnTo>
                    <a:pt x="6" y="83"/>
                  </a:lnTo>
                  <a:cubicBezTo>
                    <a:pt x="6" y="74"/>
                    <a:pt x="14" y="67"/>
                    <a:pt x="23" y="67"/>
                  </a:cubicBezTo>
                  <a:cubicBezTo>
                    <a:pt x="32" y="67"/>
                    <a:pt x="40" y="74"/>
                    <a:pt x="40" y="83"/>
                  </a:cubicBezTo>
                  <a:lnTo>
                    <a:pt x="40" y="83"/>
                  </a:lnTo>
                  <a:cubicBezTo>
                    <a:pt x="40" y="93"/>
                    <a:pt x="32" y="100"/>
                    <a:pt x="23" y="100"/>
                  </a:cubicBezTo>
                  <a:cubicBezTo>
                    <a:pt x="14" y="100"/>
                    <a:pt x="6" y="93"/>
                    <a:pt x="6" y="83"/>
                  </a:cubicBezTo>
                  <a:close/>
                  <a:moveTo>
                    <a:pt x="6" y="17"/>
                  </a:moveTo>
                  <a:lnTo>
                    <a:pt x="6" y="17"/>
                  </a:lnTo>
                  <a:cubicBezTo>
                    <a:pt x="6" y="8"/>
                    <a:pt x="14" y="0"/>
                    <a:pt x="23" y="0"/>
                  </a:cubicBezTo>
                  <a:cubicBezTo>
                    <a:pt x="32" y="0"/>
                    <a:pt x="40" y="8"/>
                    <a:pt x="40" y="17"/>
                  </a:cubicBezTo>
                  <a:lnTo>
                    <a:pt x="40" y="17"/>
                  </a:lnTo>
                  <a:cubicBezTo>
                    <a:pt x="40" y="26"/>
                    <a:pt x="32" y="33"/>
                    <a:pt x="23" y="33"/>
                  </a:cubicBezTo>
                  <a:cubicBezTo>
                    <a:pt x="14" y="33"/>
                    <a:pt x="6" y="26"/>
                    <a:pt x="6" y="17"/>
                  </a:cubicBez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816200" y="4276800"/>
              <a:ext cx="4730760" cy="75960"/>
            </a:xfrm>
            <a:custGeom>
              <a:avLst/>
              <a:gdLst/>
              <a:ahLst/>
              <a:rect l="l" t="t" r="r" b="b"/>
              <a:pathLst>
                <a:path w="24833" h="400">
                  <a:moveTo>
                    <a:pt x="33" y="163"/>
                  </a:moveTo>
                  <a:lnTo>
                    <a:pt x="24500" y="166"/>
                  </a:lnTo>
                  <a:cubicBezTo>
                    <a:pt x="24519" y="166"/>
                    <a:pt x="24534" y="181"/>
                    <a:pt x="24534" y="200"/>
                  </a:cubicBezTo>
                  <a:cubicBezTo>
                    <a:pt x="24534" y="218"/>
                    <a:pt x="24519" y="233"/>
                    <a:pt x="24500" y="233"/>
                  </a:cubicBezTo>
                  <a:lnTo>
                    <a:pt x="33" y="230"/>
                  </a:lnTo>
                  <a:cubicBezTo>
                    <a:pt x="15" y="230"/>
                    <a:pt x="0" y="215"/>
                    <a:pt x="0" y="196"/>
                  </a:cubicBezTo>
                  <a:cubicBezTo>
                    <a:pt x="0" y="178"/>
                    <a:pt x="15" y="163"/>
                    <a:pt x="33" y="163"/>
                  </a:cubicBezTo>
                  <a:close/>
                  <a:moveTo>
                    <a:pt x="24433" y="0"/>
                  </a:moveTo>
                  <a:lnTo>
                    <a:pt x="24833" y="200"/>
                  </a:lnTo>
                  <a:lnTo>
                    <a:pt x="24433" y="400"/>
                  </a:lnTo>
                  <a:lnTo>
                    <a:pt x="24433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784520" y="3284640"/>
              <a:ext cx="75960" cy="1035000"/>
            </a:xfrm>
            <a:custGeom>
              <a:avLst/>
              <a:gdLst/>
              <a:ahLst/>
              <a:rect l="l" t="t" r="r" b="b"/>
              <a:pathLst>
                <a:path w="400" h="5434">
                  <a:moveTo>
                    <a:pt x="163" y="5400"/>
                  </a:moveTo>
                  <a:lnTo>
                    <a:pt x="166" y="334"/>
                  </a:lnTo>
                  <a:cubicBezTo>
                    <a:pt x="166" y="315"/>
                    <a:pt x="181" y="300"/>
                    <a:pt x="200" y="300"/>
                  </a:cubicBezTo>
                  <a:cubicBezTo>
                    <a:pt x="218" y="300"/>
                    <a:pt x="233" y="315"/>
                    <a:pt x="233" y="334"/>
                  </a:cubicBezTo>
                  <a:lnTo>
                    <a:pt x="230" y="5400"/>
                  </a:lnTo>
                  <a:cubicBezTo>
                    <a:pt x="230" y="5419"/>
                    <a:pt x="215" y="5434"/>
                    <a:pt x="196" y="5434"/>
                  </a:cubicBezTo>
                  <a:cubicBezTo>
                    <a:pt x="178" y="5434"/>
                    <a:pt x="163" y="5419"/>
                    <a:pt x="163" y="5400"/>
                  </a:cubicBezTo>
                  <a:close/>
                  <a:moveTo>
                    <a:pt x="0" y="400"/>
                  </a:moveTo>
                  <a:lnTo>
                    <a:pt x="200" y="0"/>
                  </a:lnTo>
                  <a:lnTo>
                    <a:pt x="400" y="401"/>
                  </a:lnTo>
                  <a:lnTo>
                    <a:pt x="0" y="40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967400" y="4362480"/>
              <a:ext cx="2080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201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172600" y="4362480"/>
              <a:ext cx="2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425320" y="4362480"/>
              <a:ext cx="156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20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578680" y="436248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629800" y="4362480"/>
              <a:ext cx="2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881800" y="4362480"/>
              <a:ext cx="2080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201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087000" y="4362480"/>
              <a:ext cx="2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339000" y="4362480"/>
              <a:ext cx="2080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2013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544200" y="4362480"/>
              <a:ext cx="2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796200" y="4362480"/>
              <a:ext cx="2080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201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002840" y="4362480"/>
              <a:ext cx="2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253400" y="4362480"/>
              <a:ext cx="2080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201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460040" y="4362480"/>
              <a:ext cx="2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278080" y="3403440"/>
              <a:ext cx="3240" cy="911520"/>
            </a:xfrm>
            <a:custGeom>
              <a:avLst/>
              <a:gdLst/>
              <a:ahLst/>
              <a:rect l="l" t="t" r="r" b="b"/>
              <a:pathLst>
                <a:path w="20" h="4786">
                  <a:moveTo>
                    <a:pt x="0" y="4777"/>
                  </a:moveTo>
                  <a:lnTo>
                    <a:pt x="0" y="4777"/>
                  </a:lnTo>
                  <a:cubicBezTo>
                    <a:pt x="0" y="4773"/>
                    <a:pt x="4" y="4769"/>
                    <a:pt x="8" y="4769"/>
                  </a:cubicBezTo>
                  <a:cubicBezTo>
                    <a:pt x="13" y="4769"/>
                    <a:pt x="17" y="4773"/>
                    <a:pt x="17" y="4777"/>
                  </a:cubicBezTo>
                  <a:lnTo>
                    <a:pt x="17" y="4777"/>
                  </a:lnTo>
                  <a:cubicBezTo>
                    <a:pt x="17" y="4782"/>
                    <a:pt x="13" y="4786"/>
                    <a:pt x="8" y="4786"/>
                  </a:cubicBezTo>
                  <a:cubicBezTo>
                    <a:pt x="4" y="4786"/>
                    <a:pt x="0" y="4782"/>
                    <a:pt x="0" y="4777"/>
                  </a:cubicBezTo>
                  <a:close/>
                  <a:moveTo>
                    <a:pt x="0" y="4744"/>
                  </a:moveTo>
                  <a:lnTo>
                    <a:pt x="0" y="4744"/>
                  </a:lnTo>
                  <a:cubicBezTo>
                    <a:pt x="0" y="4739"/>
                    <a:pt x="4" y="4736"/>
                    <a:pt x="8" y="4736"/>
                  </a:cubicBezTo>
                  <a:cubicBezTo>
                    <a:pt x="13" y="4736"/>
                    <a:pt x="17" y="4739"/>
                    <a:pt x="17" y="4744"/>
                  </a:cubicBezTo>
                  <a:lnTo>
                    <a:pt x="17" y="4744"/>
                  </a:lnTo>
                  <a:cubicBezTo>
                    <a:pt x="17" y="4749"/>
                    <a:pt x="13" y="4752"/>
                    <a:pt x="8" y="4752"/>
                  </a:cubicBezTo>
                  <a:cubicBezTo>
                    <a:pt x="4" y="4752"/>
                    <a:pt x="0" y="4749"/>
                    <a:pt x="0" y="4744"/>
                  </a:cubicBezTo>
                  <a:close/>
                  <a:moveTo>
                    <a:pt x="0" y="4711"/>
                  </a:moveTo>
                  <a:lnTo>
                    <a:pt x="0" y="4711"/>
                  </a:lnTo>
                  <a:cubicBezTo>
                    <a:pt x="0" y="4706"/>
                    <a:pt x="4" y="4702"/>
                    <a:pt x="9" y="4702"/>
                  </a:cubicBezTo>
                  <a:cubicBezTo>
                    <a:pt x="13" y="4702"/>
                    <a:pt x="17" y="4706"/>
                    <a:pt x="17" y="4711"/>
                  </a:cubicBezTo>
                  <a:lnTo>
                    <a:pt x="17" y="4711"/>
                  </a:lnTo>
                  <a:cubicBezTo>
                    <a:pt x="17" y="4715"/>
                    <a:pt x="13" y="4719"/>
                    <a:pt x="9" y="4719"/>
                  </a:cubicBezTo>
                  <a:cubicBezTo>
                    <a:pt x="4" y="4719"/>
                    <a:pt x="0" y="4715"/>
                    <a:pt x="0" y="4711"/>
                  </a:cubicBezTo>
                  <a:close/>
                  <a:moveTo>
                    <a:pt x="0" y="4677"/>
                  </a:moveTo>
                  <a:lnTo>
                    <a:pt x="0" y="4677"/>
                  </a:lnTo>
                  <a:cubicBezTo>
                    <a:pt x="0" y="4673"/>
                    <a:pt x="4" y="4669"/>
                    <a:pt x="9" y="4669"/>
                  </a:cubicBezTo>
                  <a:cubicBezTo>
                    <a:pt x="13" y="4669"/>
                    <a:pt x="17" y="4673"/>
                    <a:pt x="17" y="4677"/>
                  </a:cubicBezTo>
                  <a:lnTo>
                    <a:pt x="17" y="4677"/>
                  </a:lnTo>
                  <a:cubicBezTo>
                    <a:pt x="17" y="4682"/>
                    <a:pt x="13" y="4686"/>
                    <a:pt x="9" y="4686"/>
                  </a:cubicBezTo>
                  <a:cubicBezTo>
                    <a:pt x="4" y="4686"/>
                    <a:pt x="0" y="4682"/>
                    <a:pt x="0" y="4677"/>
                  </a:cubicBezTo>
                  <a:close/>
                  <a:moveTo>
                    <a:pt x="0" y="4644"/>
                  </a:moveTo>
                  <a:lnTo>
                    <a:pt x="0" y="4644"/>
                  </a:lnTo>
                  <a:cubicBezTo>
                    <a:pt x="0" y="4639"/>
                    <a:pt x="4" y="4636"/>
                    <a:pt x="9" y="4636"/>
                  </a:cubicBezTo>
                  <a:cubicBezTo>
                    <a:pt x="13" y="4636"/>
                    <a:pt x="17" y="4639"/>
                    <a:pt x="17" y="4644"/>
                  </a:cubicBezTo>
                  <a:lnTo>
                    <a:pt x="17" y="4644"/>
                  </a:lnTo>
                  <a:cubicBezTo>
                    <a:pt x="17" y="4649"/>
                    <a:pt x="13" y="4652"/>
                    <a:pt x="9" y="4652"/>
                  </a:cubicBezTo>
                  <a:cubicBezTo>
                    <a:pt x="4" y="4652"/>
                    <a:pt x="0" y="4649"/>
                    <a:pt x="0" y="4644"/>
                  </a:cubicBezTo>
                  <a:close/>
                  <a:moveTo>
                    <a:pt x="0" y="4611"/>
                  </a:moveTo>
                  <a:lnTo>
                    <a:pt x="0" y="4611"/>
                  </a:lnTo>
                  <a:cubicBezTo>
                    <a:pt x="0" y="4606"/>
                    <a:pt x="4" y="4602"/>
                    <a:pt x="9" y="4602"/>
                  </a:cubicBezTo>
                  <a:cubicBezTo>
                    <a:pt x="13" y="4602"/>
                    <a:pt x="17" y="4606"/>
                    <a:pt x="17" y="4611"/>
                  </a:cubicBezTo>
                  <a:lnTo>
                    <a:pt x="17" y="4611"/>
                  </a:lnTo>
                  <a:cubicBezTo>
                    <a:pt x="17" y="4615"/>
                    <a:pt x="13" y="4619"/>
                    <a:pt x="9" y="4619"/>
                  </a:cubicBezTo>
                  <a:cubicBezTo>
                    <a:pt x="4" y="4619"/>
                    <a:pt x="0" y="4615"/>
                    <a:pt x="0" y="4611"/>
                  </a:cubicBezTo>
                  <a:close/>
                  <a:moveTo>
                    <a:pt x="0" y="4577"/>
                  </a:moveTo>
                  <a:lnTo>
                    <a:pt x="0" y="4577"/>
                  </a:lnTo>
                  <a:cubicBezTo>
                    <a:pt x="0" y="4573"/>
                    <a:pt x="4" y="4569"/>
                    <a:pt x="9" y="4569"/>
                  </a:cubicBezTo>
                  <a:cubicBezTo>
                    <a:pt x="13" y="4569"/>
                    <a:pt x="17" y="4573"/>
                    <a:pt x="17" y="4577"/>
                  </a:cubicBezTo>
                  <a:lnTo>
                    <a:pt x="17" y="4577"/>
                  </a:lnTo>
                  <a:cubicBezTo>
                    <a:pt x="17" y="4582"/>
                    <a:pt x="13" y="4586"/>
                    <a:pt x="9" y="4586"/>
                  </a:cubicBezTo>
                  <a:cubicBezTo>
                    <a:pt x="4" y="4586"/>
                    <a:pt x="0" y="4582"/>
                    <a:pt x="0" y="4577"/>
                  </a:cubicBezTo>
                  <a:close/>
                  <a:moveTo>
                    <a:pt x="0" y="4544"/>
                  </a:moveTo>
                  <a:lnTo>
                    <a:pt x="0" y="4544"/>
                  </a:lnTo>
                  <a:cubicBezTo>
                    <a:pt x="0" y="4539"/>
                    <a:pt x="4" y="4536"/>
                    <a:pt x="9" y="4536"/>
                  </a:cubicBezTo>
                  <a:cubicBezTo>
                    <a:pt x="13" y="4536"/>
                    <a:pt x="17" y="4539"/>
                    <a:pt x="17" y="4544"/>
                  </a:cubicBezTo>
                  <a:lnTo>
                    <a:pt x="17" y="4544"/>
                  </a:lnTo>
                  <a:cubicBezTo>
                    <a:pt x="17" y="4549"/>
                    <a:pt x="13" y="4552"/>
                    <a:pt x="9" y="4552"/>
                  </a:cubicBezTo>
                  <a:cubicBezTo>
                    <a:pt x="4" y="4552"/>
                    <a:pt x="0" y="4549"/>
                    <a:pt x="0" y="4544"/>
                  </a:cubicBezTo>
                  <a:close/>
                  <a:moveTo>
                    <a:pt x="0" y="4511"/>
                  </a:moveTo>
                  <a:lnTo>
                    <a:pt x="0" y="4511"/>
                  </a:lnTo>
                  <a:cubicBezTo>
                    <a:pt x="0" y="4506"/>
                    <a:pt x="4" y="4502"/>
                    <a:pt x="9" y="4502"/>
                  </a:cubicBezTo>
                  <a:cubicBezTo>
                    <a:pt x="13" y="4502"/>
                    <a:pt x="17" y="4506"/>
                    <a:pt x="17" y="4511"/>
                  </a:cubicBezTo>
                  <a:lnTo>
                    <a:pt x="17" y="4511"/>
                  </a:lnTo>
                  <a:cubicBezTo>
                    <a:pt x="17" y="4515"/>
                    <a:pt x="13" y="4519"/>
                    <a:pt x="9" y="4519"/>
                  </a:cubicBezTo>
                  <a:cubicBezTo>
                    <a:pt x="4" y="4519"/>
                    <a:pt x="0" y="4515"/>
                    <a:pt x="0" y="4511"/>
                  </a:cubicBezTo>
                  <a:close/>
                  <a:moveTo>
                    <a:pt x="0" y="4477"/>
                  </a:moveTo>
                  <a:lnTo>
                    <a:pt x="0" y="4477"/>
                  </a:lnTo>
                  <a:cubicBezTo>
                    <a:pt x="0" y="4473"/>
                    <a:pt x="4" y="4469"/>
                    <a:pt x="9" y="4469"/>
                  </a:cubicBezTo>
                  <a:cubicBezTo>
                    <a:pt x="13" y="4469"/>
                    <a:pt x="17" y="4473"/>
                    <a:pt x="17" y="4477"/>
                  </a:cubicBezTo>
                  <a:lnTo>
                    <a:pt x="17" y="4477"/>
                  </a:lnTo>
                  <a:cubicBezTo>
                    <a:pt x="17" y="4482"/>
                    <a:pt x="13" y="4486"/>
                    <a:pt x="9" y="4486"/>
                  </a:cubicBezTo>
                  <a:cubicBezTo>
                    <a:pt x="4" y="4486"/>
                    <a:pt x="0" y="4482"/>
                    <a:pt x="0" y="4477"/>
                  </a:cubicBezTo>
                  <a:close/>
                  <a:moveTo>
                    <a:pt x="0" y="4444"/>
                  </a:moveTo>
                  <a:lnTo>
                    <a:pt x="0" y="4444"/>
                  </a:lnTo>
                  <a:cubicBezTo>
                    <a:pt x="0" y="4439"/>
                    <a:pt x="4" y="4436"/>
                    <a:pt x="9" y="4436"/>
                  </a:cubicBezTo>
                  <a:cubicBezTo>
                    <a:pt x="13" y="4436"/>
                    <a:pt x="17" y="4439"/>
                    <a:pt x="17" y="4444"/>
                  </a:cubicBezTo>
                  <a:lnTo>
                    <a:pt x="17" y="4444"/>
                  </a:lnTo>
                  <a:cubicBezTo>
                    <a:pt x="17" y="4449"/>
                    <a:pt x="13" y="4452"/>
                    <a:pt x="9" y="4452"/>
                  </a:cubicBezTo>
                  <a:cubicBezTo>
                    <a:pt x="4" y="4452"/>
                    <a:pt x="0" y="4449"/>
                    <a:pt x="0" y="4444"/>
                  </a:cubicBezTo>
                  <a:close/>
                  <a:moveTo>
                    <a:pt x="0" y="4411"/>
                  </a:moveTo>
                  <a:lnTo>
                    <a:pt x="0" y="4411"/>
                  </a:lnTo>
                  <a:cubicBezTo>
                    <a:pt x="0" y="4406"/>
                    <a:pt x="4" y="4402"/>
                    <a:pt x="9" y="4402"/>
                  </a:cubicBezTo>
                  <a:cubicBezTo>
                    <a:pt x="13" y="4402"/>
                    <a:pt x="17" y="4406"/>
                    <a:pt x="17" y="4411"/>
                  </a:cubicBezTo>
                  <a:lnTo>
                    <a:pt x="17" y="4411"/>
                  </a:lnTo>
                  <a:cubicBezTo>
                    <a:pt x="17" y="4415"/>
                    <a:pt x="13" y="4419"/>
                    <a:pt x="9" y="4419"/>
                  </a:cubicBezTo>
                  <a:cubicBezTo>
                    <a:pt x="4" y="4419"/>
                    <a:pt x="0" y="4415"/>
                    <a:pt x="0" y="4411"/>
                  </a:cubicBezTo>
                  <a:close/>
                  <a:moveTo>
                    <a:pt x="0" y="4377"/>
                  </a:moveTo>
                  <a:lnTo>
                    <a:pt x="0" y="4377"/>
                  </a:lnTo>
                  <a:cubicBezTo>
                    <a:pt x="0" y="4373"/>
                    <a:pt x="4" y="4369"/>
                    <a:pt x="9" y="4369"/>
                  </a:cubicBezTo>
                  <a:cubicBezTo>
                    <a:pt x="13" y="4369"/>
                    <a:pt x="17" y="4373"/>
                    <a:pt x="17" y="4377"/>
                  </a:cubicBezTo>
                  <a:lnTo>
                    <a:pt x="17" y="4377"/>
                  </a:lnTo>
                  <a:cubicBezTo>
                    <a:pt x="17" y="4382"/>
                    <a:pt x="13" y="4386"/>
                    <a:pt x="9" y="4386"/>
                  </a:cubicBezTo>
                  <a:cubicBezTo>
                    <a:pt x="4" y="4386"/>
                    <a:pt x="0" y="4382"/>
                    <a:pt x="0" y="4377"/>
                  </a:cubicBezTo>
                  <a:close/>
                  <a:moveTo>
                    <a:pt x="0" y="4344"/>
                  </a:moveTo>
                  <a:lnTo>
                    <a:pt x="0" y="4344"/>
                  </a:lnTo>
                  <a:cubicBezTo>
                    <a:pt x="0" y="4339"/>
                    <a:pt x="4" y="4336"/>
                    <a:pt x="9" y="4336"/>
                  </a:cubicBezTo>
                  <a:cubicBezTo>
                    <a:pt x="13" y="4336"/>
                    <a:pt x="17" y="4339"/>
                    <a:pt x="17" y="4344"/>
                  </a:cubicBezTo>
                  <a:lnTo>
                    <a:pt x="17" y="4344"/>
                  </a:lnTo>
                  <a:cubicBezTo>
                    <a:pt x="17" y="4349"/>
                    <a:pt x="13" y="4352"/>
                    <a:pt x="9" y="4352"/>
                  </a:cubicBezTo>
                  <a:cubicBezTo>
                    <a:pt x="4" y="4352"/>
                    <a:pt x="0" y="4349"/>
                    <a:pt x="0" y="4344"/>
                  </a:cubicBezTo>
                  <a:close/>
                  <a:moveTo>
                    <a:pt x="0" y="4311"/>
                  </a:moveTo>
                  <a:lnTo>
                    <a:pt x="0" y="4311"/>
                  </a:lnTo>
                  <a:cubicBezTo>
                    <a:pt x="0" y="4306"/>
                    <a:pt x="4" y="4302"/>
                    <a:pt x="9" y="4302"/>
                  </a:cubicBezTo>
                  <a:cubicBezTo>
                    <a:pt x="13" y="4302"/>
                    <a:pt x="17" y="4306"/>
                    <a:pt x="17" y="4311"/>
                  </a:cubicBezTo>
                  <a:lnTo>
                    <a:pt x="17" y="4311"/>
                  </a:lnTo>
                  <a:cubicBezTo>
                    <a:pt x="17" y="4315"/>
                    <a:pt x="13" y="4319"/>
                    <a:pt x="9" y="4319"/>
                  </a:cubicBezTo>
                  <a:cubicBezTo>
                    <a:pt x="4" y="4319"/>
                    <a:pt x="0" y="4315"/>
                    <a:pt x="0" y="4311"/>
                  </a:cubicBezTo>
                  <a:close/>
                  <a:moveTo>
                    <a:pt x="0" y="4277"/>
                  </a:moveTo>
                  <a:lnTo>
                    <a:pt x="0" y="4277"/>
                  </a:lnTo>
                  <a:cubicBezTo>
                    <a:pt x="0" y="4273"/>
                    <a:pt x="4" y="4269"/>
                    <a:pt x="9" y="4269"/>
                  </a:cubicBezTo>
                  <a:cubicBezTo>
                    <a:pt x="13" y="4269"/>
                    <a:pt x="17" y="4273"/>
                    <a:pt x="17" y="4277"/>
                  </a:cubicBezTo>
                  <a:lnTo>
                    <a:pt x="17" y="4277"/>
                  </a:lnTo>
                  <a:cubicBezTo>
                    <a:pt x="17" y="4282"/>
                    <a:pt x="13" y="4286"/>
                    <a:pt x="9" y="4286"/>
                  </a:cubicBezTo>
                  <a:cubicBezTo>
                    <a:pt x="4" y="4286"/>
                    <a:pt x="0" y="4282"/>
                    <a:pt x="0" y="4277"/>
                  </a:cubicBezTo>
                  <a:close/>
                  <a:moveTo>
                    <a:pt x="1" y="4244"/>
                  </a:moveTo>
                  <a:lnTo>
                    <a:pt x="1" y="4244"/>
                  </a:lnTo>
                  <a:cubicBezTo>
                    <a:pt x="1" y="4239"/>
                    <a:pt x="4" y="4235"/>
                    <a:pt x="9" y="4235"/>
                  </a:cubicBezTo>
                  <a:cubicBezTo>
                    <a:pt x="13" y="4235"/>
                    <a:pt x="17" y="4239"/>
                    <a:pt x="17" y="4244"/>
                  </a:cubicBezTo>
                  <a:lnTo>
                    <a:pt x="17" y="4244"/>
                  </a:lnTo>
                  <a:cubicBezTo>
                    <a:pt x="17" y="4248"/>
                    <a:pt x="13" y="4252"/>
                    <a:pt x="9" y="4252"/>
                  </a:cubicBezTo>
                  <a:cubicBezTo>
                    <a:pt x="4" y="4252"/>
                    <a:pt x="1" y="4248"/>
                    <a:pt x="1" y="4244"/>
                  </a:cubicBezTo>
                  <a:close/>
                  <a:moveTo>
                    <a:pt x="1" y="4210"/>
                  </a:moveTo>
                  <a:lnTo>
                    <a:pt x="1" y="4210"/>
                  </a:lnTo>
                  <a:cubicBezTo>
                    <a:pt x="1" y="4206"/>
                    <a:pt x="4" y="4202"/>
                    <a:pt x="9" y="4202"/>
                  </a:cubicBezTo>
                  <a:cubicBezTo>
                    <a:pt x="13" y="4202"/>
                    <a:pt x="17" y="4206"/>
                    <a:pt x="17" y="4210"/>
                  </a:cubicBezTo>
                  <a:lnTo>
                    <a:pt x="17" y="4210"/>
                  </a:lnTo>
                  <a:cubicBezTo>
                    <a:pt x="17" y="4215"/>
                    <a:pt x="13" y="4219"/>
                    <a:pt x="9" y="4219"/>
                  </a:cubicBezTo>
                  <a:cubicBezTo>
                    <a:pt x="4" y="4219"/>
                    <a:pt x="1" y="4215"/>
                    <a:pt x="1" y="4210"/>
                  </a:cubicBezTo>
                  <a:close/>
                  <a:moveTo>
                    <a:pt x="1" y="4177"/>
                  </a:moveTo>
                  <a:lnTo>
                    <a:pt x="1" y="4177"/>
                  </a:lnTo>
                  <a:cubicBezTo>
                    <a:pt x="1" y="4173"/>
                    <a:pt x="4" y="4169"/>
                    <a:pt x="9" y="4169"/>
                  </a:cubicBezTo>
                  <a:cubicBezTo>
                    <a:pt x="13" y="4169"/>
                    <a:pt x="17" y="4173"/>
                    <a:pt x="17" y="4177"/>
                  </a:cubicBezTo>
                  <a:lnTo>
                    <a:pt x="17" y="4177"/>
                  </a:lnTo>
                  <a:cubicBezTo>
                    <a:pt x="17" y="4182"/>
                    <a:pt x="13" y="4185"/>
                    <a:pt x="9" y="4185"/>
                  </a:cubicBezTo>
                  <a:cubicBezTo>
                    <a:pt x="4" y="4185"/>
                    <a:pt x="1" y="4182"/>
                    <a:pt x="1" y="4177"/>
                  </a:cubicBezTo>
                  <a:close/>
                  <a:moveTo>
                    <a:pt x="1" y="4144"/>
                  </a:moveTo>
                  <a:lnTo>
                    <a:pt x="1" y="4144"/>
                  </a:lnTo>
                  <a:cubicBezTo>
                    <a:pt x="1" y="4139"/>
                    <a:pt x="4" y="4135"/>
                    <a:pt x="9" y="4135"/>
                  </a:cubicBezTo>
                  <a:cubicBezTo>
                    <a:pt x="14" y="4135"/>
                    <a:pt x="17" y="4139"/>
                    <a:pt x="17" y="4144"/>
                  </a:cubicBezTo>
                  <a:lnTo>
                    <a:pt x="17" y="4144"/>
                  </a:lnTo>
                  <a:cubicBezTo>
                    <a:pt x="17" y="4148"/>
                    <a:pt x="14" y="4152"/>
                    <a:pt x="9" y="4152"/>
                  </a:cubicBezTo>
                  <a:cubicBezTo>
                    <a:pt x="4" y="4152"/>
                    <a:pt x="1" y="4148"/>
                    <a:pt x="1" y="4144"/>
                  </a:cubicBezTo>
                  <a:close/>
                  <a:moveTo>
                    <a:pt x="1" y="4110"/>
                  </a:moveTo>
                  <a:lnTo>
                    <a:pt x="1" y="4110"/>
                  </a:lnTo>
                  <a:cubicBezTo>
                    <a:pt x="1" y="4106"/>
                    <a:pt x="4" y="4102"/>
                    <a:pt x="9" y="4102"/>
                  </a:cubicBezTo>
                  <a:cubicBezTo>
                    <a:pt x="14" y="4102"/>
                    <a:pt x="17" y="4106"/>
                    <a:pt x="17" y="4110"/>
                  </a:cubicBezTo>
                  <a:lnTo>
                    <a:pt x="17" y="4110"/>
                  </a:lnTo>
                  <a:cubicBezTo>
                    <a:pt x="17" y="4115"/>
                    <a:pt x="14" y="4119"/>
                    <a:pt x="9" y="4119"/>
                  </a:cubicBezTo>
                  <a:cubicBezTo>
                    <a:pt x="4" y="4119"/>
                    <a:pt x="1" y="4115"/>
                    <a:pt x="1" y="4110"/>
                  </a:cubicBezTo>
                  <a:close/>
                  <a:moveTo>
                    <a:pt x="1" y="4077"/>
                  </a:moveTo>
                  <a:lnTo>
                    <a:pt x="1" y="4077"/>
                  </a:lnTo>
                  <a:cubicBezTo>
                    <a:pt x="1" y="4072"/>
                    <a:pt x="4" y="4069"/>
                    <a:pt x="9" y="4069"/>
                  </a:cubicBezTo>
                  <a:cubicBezTo>
                    <a:pt x="14" y="4069"/>
                    <a:pt x="17" y="4072"/>
                    <a:pt x="17" y="4077"/>
                  </a:cubicBezTo>
                  <a:lnTo>
                    <a:pt x="17" y="4077"/>
                  </a:lnTo>
                  <a:cubicBezTo>
                    <a:pt x="17" y="4082"/>
                    <a:pt x="14" y="4085"/>
                    <a:pt x="9" y="4085"/>
                  </a:cubicBezTo>
                  <a:cubicBezTo>
                    <a:pt x="4" y="4085"/>
                    <a:pt x="1" y="4082"/>
                    <a:pt x="1" y="4077"/>
                  </a:cubicBezTo>
                  <a:close/>
                  <a:moveTo>
                    <a:pt x="1" y="4044"/>
                  </a:moveTo>
                  <a:lnTo>
                    <a:pt x="1" y="4044"/>
                  </a:lnTo>
                  <a:cubicBezTo>
                    <a:pt x="1" y="4039"/>
                    <a:pt x="4" y="4035"/>
                    <a:pt x="9" y="4035"/>
                  </a:cubicBezTo>
                  <a:cubicBezTo>
                    <a:pt x="14" y="4035"/>
                    <a:pt x="17" y="4039"/>
                    <a:pt x="17" y="4044"/>
                  </a:cubicBezTo>
                  <a:lnTo>
                    <a:pt x="17" y="4044"/>
                  </a:lnTo>
                  <a:cubicBezTo>
                    <a:pt x="17" y="4048"/>
                    <a:pt x="14" y="4052"/>
                    <a:pt x="9" y="4052"/>
                  </a:cubicBezTo>
                  <a:cubicBezTo>
                    <a:pt x="4" y="4052"/>
                    <a:pt x="1" y="4048"/>
                    <a:pt x="1" y="4044"/>
                  </a:cubicBezTo>
                  <a:close/>
                  <a:moveTo>
                    <a:pt x="1" y="4010"/>
                  </a:moveTo>
                  <a:lnTo>
                    <a:pt x="1" y="4010"/>
                  </a:lnTo>
                  <a:cubicBezTo>
                    <a:pt x="1" y="4006"/>
                    <a:pt x="4" y="4002"/>
                    <a:pt x="9" y="4002"/>
                  </a:cubicBezTo>
                  <a:cubicBezTo>
                    <a:pt x="14" y="4002"/>
                    <a:pt x="17" y="4006"/>
                    <a:pt x="17" y="4010"/>
                  </a:cubicBezTo>
                  <a:lnTo>
                    <a:pt x="17" y="4010"/>
                  </a:lnTo>
                  <a:cubicBezTo>
                    <a:pt x="17" y="4015"/>
                    <a:pt x="14" y="4019"/>
                    <a:pt x="9" y="4019"/>
                  </a:cubicBezTo>
                  <a:cubicBezTo>
                    <a:pt x="4" y="4019"/>
                    <a:pt x="1" y="4015"/>
                    <a:pt x="1" y="4010"/>
                  </a:cubicBezTo>
                  <a:close/>
                  <a:moveTo>
                    <a:pt x="1" y="3977"/>
                  </a:moveTo>
                  <a:lnTo>
                    <a:pt x="1" y="3977"/>
                  </a:lnTo>
                  <a:cubicBezTo>
                    <a:pt x="1" y="3972"/>
                    <a:pt x="4" y="3969"/>
                    <a:pt x="9" y="3969"/>
                  </a:cubicBezTo>
                  <a:cubicBezTo>
                    <a:pt x="14" y="3969"/>
                    <a:pt x="17" y="3972"/>
                    <a:pt x="17" y="3977"/>
                  </a:cubicBezTo>
                  <a:lnTo>
                    <a:pt x="17" y="3977"/>
                  </a:lnTo>
                  <a:cubicBezTo>
                    <a:pt x="17" y="3982"/>
                    <a:pt x="14" y="3985"/>
                    <a:pt x="9" y="3985"/>
                  </a:cubicBezTo>
                  <a:cubicBezTo>
                    <a:pt x="4" y="3985"/>
                    <a:pt x="1" y="3982"/>
                    <a:pt x="1" y="3977"/>
                  </a:cubicBezTo>
                  <a:close/>
                  <a:moveTo>
                    <a:pt x="1" y="3944"/>
                  </a:moveTo>
                  <a:lnTo>
                    <a:pt x="1" y="3944"/>
                  </a:lnTo>
                  <a:cubicBezTo>
                    <a:pt x="1" y="3939"/>
                    <a:pt x="4" y="3935"/>
                    <a:pt x="9" y="3935"/>
                  </a:cubicBezTo>
                  <a:cubicBezTo>
                    <a:pt x="14" y="3935"/>
                    <a:pt x="17" y="3939"/>
                    <a:pt x="17" y="3944"/>
                  </a:cubicBezTo>
                  <a:lnTo>
                    <a:pt x="17" y="3944"/>
                  </a:lnTo>
                  <a:cubicBezTo>
                    <a:pt x="17" y="3948"/>
                    <a:pt x="14" y="3952"/>
                    <a:pt x="9" y="3952"/>
                  </a:cubicBezTo>
                  <a:cubicBezTo>
                    <a:pt x="4" y="3952"/>
                    <a:pt x="1" y="3948"/>
                    <a:pt x="1" y="3944"/>
                  </a:cubicBezTo>
                  <a:close/>
                  <a:moveTo>
                    <a:pt x="1" y="3910"/>
                  </a:moveTo>
                  <a:lnTo>
                    <a:pt x="1" y="3910"/>
                  </a:lnTo>
                  <a:cubicBezTo>
                    <a:pt x="1" y="3906"/>
                    <a:pt x="4" y="3902"/>
                    <a:pt x="9" y="3902"/>
                  </a:cubicBezTo>
                  <a:cubicBezTo>
                    <a:pt x="14" y="3902"/>
                    <a:pt x="17" y="3906"/>
                    <a:pt x="17" y="3910"/>
                  </a:cubicBezTo>
                  <a:lnTo>
                    <a:pt x="17" y="3910"/>
                  </a:lnTo>
                  <a:cubicBezTo>
                    <a:pt x="17" y="3915"/>
                    <a:pt x="14" y="3919"/>
                    <a:pt x="9" y="3919"/>
                  </a:cubicBezTo>
                  <a:cubicBezTo>
                    <a:pt x="4" y="3919"/>
                    <a:pt x="1" y="3915"/>
                    <a:pt x="1" y="3910"/>
                  </a:cubicBezTo>
                  <a:close/>
                  <a:moveTo>
                    <a:pt x="1" y="3877"/>
                  </a:moveTo>
                  <a:lnTo>
                    <a:pt x="1" y="3877"/>
                  </a:lnTo>
                  <a:cubicBezTo>
                    <a:pt x="1" y="3872"/>
                    <a:pt x="4" y="3869"/>
                    <a:pt x="9" y="3869"/>
                  </a:cubicBezTo>
                  <a:cubicBezTo>
                    <a:pt x="14" y="3869"/>
                    <a:pt x="17" y="3872"/>
                    <a:pt x="17" y="3877"/>
                  </a:cubicBezTo>
                  <a:lnTo>
                    <a:pt x="17" y="3877"/>
                  </a:lnTo>
                  <a:cubicBezTo>
                    <a:pt x="17" y="3882"/>
                    <a:pt x="14" y="3885"/>
                    <a:pt x="9" y="3885"/>
                  </a:cubicBezTo>
                  <a:cubicBezTo>
                    <a:pt x="4" y="3885"/>
                    <a:pt x="1" y="3882"/>
                    <a:pt x="1" y="3877"/>
                  </a:cubicBezTo>
                  <a:close/>
                  <a:moveTo>
                    <a:pt x="1" y="3844"/>
                  </a:moveTo>
                  <a:lnTo>
                    <a:pt x="1" y="3844"/>
                  </a:lnTo>
                  <a:cubicBezTo>
                    <a:pt x="1" y="3839"/>
                    <a:pt x="5" y="3835"/>
                    <a:pt x="9" y="3835"/>
                  </a:cubicBezTo>
                  <a:cubicBezTo>
                    <a:pt x="14" y="3835"/>
                    <a:pt x="17" y="3839"/>
                    <a:pt x="17" y="3844"/>
                  </a:cubicBezTo>
                  <a:lnTo>
                    <a:pt x="17" y="3844"/>
                  </a:lnTo>
                  <a:cubicBezTo>
                    <a:pt x="17" y="3848"/>
                    <a:pt x="14" y="3852"/>
                    <a:pt x="9" y="3852"/>
                  </a:cubicBezTo>
                  <a:cubicBezTo>
                    <a:pt x="5" y="3852"/>
                    <a:pt x="1" y="3848"/>
                    <a:pt x="1" y="3844"/>
                  </a:cubicBezTo>
                  <a:close/>
                  <a:moveTo>
                    <a:pt x="1" y="3810"/>
                  </a:moveTo>
                  <a:lnTo>
                    <a:pt x="1" y="3810"/>
                  </a:lnTo>
                  <a:cubicBezTo>
                    <a:pt x="1" y="3806"/>
                    <a:pt x="5" y="3802"/>
                    <a:pt x="9" y="3802"/>
                  </a:cubicBezTo>
                  <a:cubicBezTo>
                    <a:pt x="14" y="3802"/>
                    <a:pt x="17" y="3806"/>
                    <a:pt x="17" y="3810"/>
                  </a:cubicBezTo>
                  <a:lnTo>
                    <a:pt x="17" y="3810"/>
                  </a:lnTo>
                  <a:cubicBezTo>
                    <a:pt x="17" y="3815"/>
                    <a:pt x="14" y="3819"/>
                    <a:pt x="9" y="3819"/>
                  </a:cubicBezTo>
                  <a:cubicBezTo>
                    <a:pt x="5" y="3819"/>
                    <a:pt x="1" y="3815"/>
                    <a:pt x="1" y="3810"/>
                  </a:cubicBezTo>
                  <a:close/>
                  <a:moveTo>
                    <a:pt x="1" y="3777"/>
                  </a:moveTo>
                  <a:lnTo>
                    <a:pt x="1" y="3777"/>
                  </a:lnTo>
                  <a:cubicBezTo>
                    <a:pt x="1" y="3772"/>
                    <a:pt x="5" y="3769"/>
                    <a:pt x="9" y="3769"/>
                  </a:cubicBezTo>
                  <a:cubicBezTo>
                    <a:pt x="14" y="3769"/>
                    <a:pt x="17" y="3772"/>
                    <a:pt x="17" y="3777"/>
                  </a:cubicBezTo>
                  <a:lnTo>
                    <a:pt x="17" y="3777"/>
                  </a:lnTo>
                  <a:cubicBezTo>
                    <a:pt x="17" y="3782"/>
                    <a:pt x="14" y="3785"/>
                    <a:pt x="9" y="3785"/>
                  </a:cubicBezTo>
                  <a:cubicBezTo>
                    <a:pt x="5" y="3785"/>
                    <a:pt x="1" y="3782"/>
                    <a:pt x="1" y="3777"/>
                  </a:cubicBezTo>
                  <a:close/>
                  <a:moveTo>
                    <a:pt x="1" y="3744"/>
                  </a:moveTo>
                  <a:lnTo>
                    <a:pt x="1" y="3744"/>
                  </a:lnTo>
                  <a:cubicBezTo>
                    <a:pt x="1" y="3739"/>
                    <a:pt x="5" y="3735"/>
                    <a:pt x="9" y="3735"/>
                  </a:cubicBezTo>
                  <a:cubicBezTo>
                    <a:pt x="14" y="3735"/>
                    <a:pt x="18" y="3739"/>
                    <a:pt x="18" y="3744"/>
                  </a:cubicBezTo>
                  <a:lnTo>
                    <a:pt x="18" y="3744"/>
                  </a:lnTo>
                  <a:cubicBezTo>
                    <a:pt x="18" y="3748"/>
                    <a:pt x="14" y="3752"/>
                    <a:pt x="9" y="3752"/>
                  </a:cubicBezTo>
                  <a:cubicBezTo>
                    <a:pt x="5" y="3752"/>
                    <a:pt x="1" y="3748"/>
                    <a:pt x="1" y="3744"/>
                  </a:cubicBezTo>
                  <a:close/>
                  <a:moveTo>
                    <a:pt x="1" y="3710"/>
                  </a:moveTo>
                  <a:lnTo>
                    <a:pt x="1" y="3710"/>
                  </a:lnTo>
                  <a:cubicBezTo>
                    <a:pt x="1" y="3706"/>
                    <a:pt x="5" y="3702"/>
                    <a:pt x="9" y="3702"/>
                  </a:cubicBezTo>
                  <a:cubicBezTo>
                    <a:pt x="14" y="3702"/>
                    <a:pt x="18" y="3706"/>
                    <a:pt x="18" y="3710"/>
                  </a:cubicBezTo>
                  <a:lnTo>
                    <a:pt x="18" y="3710"/>
                  </a:lnTo>
                  <a:cubicBezTo>
                    <a:pt x="18" y="3715"/>
                    <a:pt x="14" y="3719"/>
                    <a:pt x="9" y="3719"/>
                  </a:cubicBezTo>
                  <a:cubicBezTo>
                    <a:pt x="5" y="3719"/>
                    <a:pt x="1" y="3715"/>
                    <a:pt x="1" y="3710"/>
                  </a:cubicBezTo>
                  <a:close/>
                  <a:moveTo>
                    <a:pt x="1" y="3677"/>
                  </a:moveTo>
                  <a:lnTo>
                    <a:pt x="1" y="3677"/>
                  </a:lnTo>
                  <a:cubicBezTo>
                    <a:pt x="1" y="3672"/>
                    <a:pt x="5" y="3669"/>
                    <a:pt x="9" y="3669"/>
                  </a:cubicBezTo>
                  <a:cubicBezTo>
                    <a:pt x="14" y="3669"/>
                    <a:pt x="18" y="3672"/>
                    <a:pt x="18" y="3677"/>
                  </a:cubicBezTo>
                  <a:lnTo>
                    <a:pt x="18" y="3677"/>
                  </a:lnTo>
                  <a:cubicBezTo>
                    <a:pt x="18" y="3681"/>
                    <a:pt x="14" y="3685"/>
                    <a:pt x="9" y="3685"/>
                  </a:cubicBezTo>
                  <a:cubicBezTo>
                    <a:pt x="5" y="3685"/>
                    <a:pt x="1" y="3681"/>
                    <a:pt x="1" y="3677"/>
                  </a:cubicBezTo>
                  <a:close/>
                  <a:moveTo>
                    <a:pt x="1" y="3644"/>
                  </a:moveTo>
                  <a:lnTo>
                    <a:pt x="1" y="3643"/>
                  </a:lnTo>
                  <a:cubicBezTo>
                    <a:pt x="1" y="3639"/>
                    <a:pt x="5" y="3635"/>
                    <a:pt x="9" y="3635"/>
                  </a:cubicBezTo>
                  <a:cubicBezTo>
                    <a:pt x="14" y="3635"/>
                    <a:pt x="18" y="3639"/>
                    <a:pt x="18" y="3643"/>
                  </a:cubicBezTo>
                  <a:lnTo>
                    <a:pt x="18" y="3644"/>
                  </a:lnTo>
                  <a:cubicBezTo>
                    <a:pt x="18" y="3648"/>
                    <a:pt x="14" y="3652"/>
                    <a:pt x="9" y="3652"/>
                  </a:cubicBezTo>
                  <a:cubicBezTo>
                    <a:pt x="5" y="3652"/>
                    <a:pt x="1" y="3648"/>
                    <a:pt x="1" y="3644"/>
                  </a:cubicBezTo>
                  <a:close/>
                  <a:moveTo>
                    <a:pt x="1" y="3610"/>
                  </a:moveTo>
                  <a:lnTo>
                    <a:pt x="1" y="3610"/>
                  </a:lnTo>
                  <a:cubicBezTo>
                    <a:pt x="1" y="3606"/>
                    <a:pt x="5" y="3602"/>
                    <a:pt x="9" y="3602"/>
                  </a:cubicBezTo>
                  <a:cubicBezTo>
                    <a:pt x="14" y="3602"/>
                    <a:pt x="18" y="3606"/>
                    <a:pt x="18" y="3610"/>
                  </a:cubicBezTo>
                  <a:lnTo>
                    <a:pt x="18" y="3610"/>
                  </a:lnTo>
                  <a:cubicBezTo>
                    <a:pt x="18" y="3615"/>
                    <a:pt x="14" y="3618"/>
                    <a:pt x="9" y="3618"/>
                  </a:cubicBezTo>
                  <a:cubicBezTo>
                    <a:pt x="5" y="3618"/>
                    <a:pt x="1" y="3615"/>
                    <a:pt x="1" y="3610"/>
                  </a:cubicBezTo>
                  <a:close/>
                  <a:moveTo>
                    <a:pt x="1" y="3577"/>
                  </a:moveTo>
                  <a:lnTo>
                    <a:pt x="1" y="3577"/>
                  </a:lnTo>
                  <a:cubicBezTo>
                    <a:pt x="1" y="3572"/>
                    <a:pt x="5" y="3568"/>
                    <a:pt x="9" y="3568"/>
                  </a:cubicBezTo>
                  <a:cubicBezTo>
                    <a:pt x="14" y="3568"/>
                    <a:pt x="18" y="3572"/>
                    <a:pt x="18" y="3577"/>
                  </a:cubicBezTo>
                  <a:lnTo>
                    <a:pt x="18" y="3577"/>
                  </a:lnTo>
                  <a:cubicBezTo>
                    <a:pt x="18" y="3581"/>
                    <a:pt x="14" y="3585"/>
                    <a:pt x="9" y="3585"/>
                  </a:cubicBezTo>
                  <a:cubicBezTo>
                    <a:pt x="5" y="3585"/>
                    <a:pt x="1" y="3581"/>
                    <a:pt x="1" y="3577"/>
                  </a:cubicBezTo>
                  <a:close/>
                  <a:moveTo>
                    <a:pt x="1" y="3543"/>
                  </a:moveTo>
                  <a:lnTo>
                    <a:pt x="1" y="3543"/>
                  </a:lnTo>
                  <a:cubicBezTo>
                    <a:pt x="1" y="3539"/>
                    <a:pt x="5" y="3535"/>
                    <a:pt x="9" y="3535"/>
                  </a:cubicBezTo>
                  <a:cubicBezTo>
                    <a:pt x="14" y="3535"/>
                    <a:pt x="18" y="3539"/>
                    <a:pt x="18" y="3543"/>
                  </a:cubicBezTo>
                  <a:lnTo>
                    <a:pt x="18" y="3543"/>
                  </a:lnTo>
                  <a:cubicBezTo>
                    <a:pt x="18" y="3548"/>
                    <a:pt x="14" y="3552"/>
                    <a:pt x="9" y="3552"/>
                  </a:cubicBezTo>
                  <a:cubicBezTo>
                    <a:pt x="5" y="3552"/>
                    <a:pt x="1" y="3548"/>
                    <a:pt x="1" y="3543"/>
                  </a:cubicBezTo>
                  <a:close/>
                  <a:moveTo>
                    <a:pt x="1" y="3510"/>
                  </a:moveTo>
                  <a:lnTo>
                    <a:pt x="1" y="3510"/>
                  </a:lnTo>
                  <a:cubicBezTo>
                    <a:pt x="1" y="3505"/>
                    <a:pt x="5" y="3502"/>
                    <a:pt x="9" y="3502"/>
                  </a:cubicBezTo>
                  <a:cubicBezTo>
                    <a:pt x="14" y="3502"/>
                    <a:pt x="18" y="3505"/>
                    <a:pt x="18" y="3510"/>
                  </a:cubicBezTo>
                  <a:lnTo>
                    <a:pt x="18" y="3510"/>
                  </a:lnTo>
                  <a:cubicBezTo>
                    <a:pt x="18" y="3515"/>
                    <a:pt x="14" y="3518"/>
                    <a:pt x="9" y="3518"/>
                  </a:cubicBezTo>
                  <a:cubicBezTo>
                    <a:pt x="5" y="3518"/>
                    <a:pt x="1" y="3515"/>
                    <a:pt x="1" y="3510"/>
                  </a:cubicBezTo>
                  <a:close/>
                  <a:moveTo>
                    <a:pt x="1" y="3477"/>
                  </a:moveTo>
                  <a:lnTo>
                    <a:pt x="1" y="3477"/>
                  </a:lnTo>
                  <a:cubicBezTo>
                    <a:pt x="1" y="3472"/>
                    <a:pt x="5" y="3468"/>
                    <a:pt x="9" y="3468"/>
                  </a:cubicBezTo>
                  <a:cubicBezTo>
                    <a:pt x="14" y="3468"/>
                    <a:pt x="18" y="3472"/>
                    <a:pt x="18" y="3477"/>
                  </a:cubicBezTo>
                  <a:lnTo>
                    <a:pt x="18" y="3477"/>
                  </a:lnTo>
                  <a:cubicBezTo>
                    <a:pt x="18" y="3481"/>
                    <a:pt x="14" y="3485"/>
                    <a:pt x="9" y="3485"/>
                  </a:cubicBezTo>
                  <a:cubicBezTo>
                    <a:pt x="5" y="3485"/>
                    <a:pt x="1" y="3481"/>
                    <a:pt x="1" y="3477"/>
                  </a:cubicBezTo>
                  <a:close/>
                  <a:moveTo>
                    <a:pt x="1" y="3443"/>
                  </a:moveTo>
                  <a:lnTo>
                    <a:pt x="1" y="3443"/>
                  </a:lnTo>
                  <a:cubicBezTo>
                    <a:pt x="1" y="3439"/>
                    <a:pt x="5" y="3435"/>
                    <a:pt x="9" y="3435"/>
                  </a:cubicBezTo>
                  <a:cubicBezTo>
                    <a:pt x="14" y="3435"/>
                    <a:pt x="18" y="3439"/>
                    <a:pt x="18" y="3443"/>
                  </a:cubicBezTo>
                  <a:lnTo>
                    <a:pt x="18" y="3443"/>
                  </a:lnTo>
                  <a:cubicBezTo>
                    <a:pt x="18" y="3448"/>
                    <a:pt x="14" y="3452"/>
                    <a:pt x="9" y="3452"/>
                  </a:cubicBezTo>
                  <a:cubicBezTo>
                    <a:pt x="5" y="3452"/>
                    <a:pt x="1" y="3448"/>
                    <a:pt x="1" y="3443"/>
                  </a:cubicBezTo>
                  <a:close/>
                  <a:moveTo>
                    <a:pt x="1" y="3410"/>
                  </a:moveTo>
                  <a:lnTo>
                    <a:pt x="1" y="3410"/>
                  </a:lnTo>
                  <a:cubicBezTo>
                    <a:pt x="1" y="3405"/>
                    <a:pt x="5" y="3402"/>
                    <a:pt x="9" y="3402"/>
                  </a:cubicBezTo>
                  <a:cubicBezTo>
                    <a:pt x="14" y="3402"/>
                    <a:pt x="18" y="3405"/>
                    <a:pt x="18" y="3410"/>
                  </a:cubicBezTo>
                  <a:lnTo>
                    <a:pt x="18" y="3410"/>
                  </a:lnTo>
                  <a:cubicBezTo>
                    <a:pt x="18" y="3415"/>
                    <a:pt x="14" y="3418"/>
                    <a:pt x="9" y="3418"/>
                  </a:cubicBezTo>
                  <a:cubicBezTo>
                    <a:pt x="5" y="3418"/>
                    <a:pt x="1" y="3415"/>
                    <a:pt x="1" y="3410"/>
                  </a:cubicBezTo>
                  <a:close/>
                  <a:moveTo>
                    <a:pt x="1" y="3377"/>
                  </a:moveTo>
                  <a:lnTo>
                    <a:pt x="1" y="3377"/>
                  </a:lnTo>
                  <a:cubicBezTo>
                    <a:pt x="1" y="3372"/>
                    <a:pt x="5" y="3368"/>
                    <a:pt x="9" y="3368"/>
                  </a:cubicBezTo>
                  <a:cubicBezTo>
                    <a:pt x="14" y="3368"/>
                    <a:pt x="18" y="3372"/>
                    <a:pt x="18" y="3377"/>
                  </a:cubicBezTo>
                  <a:lnTo>
                    <a:pt x="18" y="3377"/>
                  </a:lnTo>
                  <a:cubicBezTo>
                    <a:pt x="18" y="3381"/>
                    <a:pt x="14" y="3385"/>
                    <a:pt x="9" y="3385"/>
                  </a:cubicBezTo>
                  <a:cubicBezTo>
                    <a:pt x="5" y="3385"/>
                    <a:pt x="1" y="3381"/>
                    <a:pt x="1" y="3377"/>
                  </a:cubicBezTo>
                  <a:close/>
                  <a:moveTo>
                    <a:pt x="1" y="3343"/>
                  </a:moveTo>
                  <a:lnTo>
                    <a:pt x="1" y="3343"/>
                  </a:lnTo>
                  <a:cubicBezTo>
                    <a:pt x="1" y="3339"/>
                    <a:pt x="5" y="3335"/>
                    <a:pt x="9" y="3335"/>
                  </a:cubicBezTo>
                  <a:cubicBezTo>
                    <a:pt x="14" y="3335"/>
                    <a:pt x="18" y="3339"/>
                    <a:pt x="18" y="3343"/>
                  </a:cubicBezTo>
                  <a:lnTo>
                    <a:pt x="18" y="3343"/>
                  </a:lnTo>
                  <a:cubicBezTo>
                    <a:pt x="18" y="3348"/>
                    <a:pt x="14" y="3352"/>
                    <a:pt x="9" y="3352"/>
                  </a:cubicBezTo>
                  <a:cubicBezTo>
                    <a:pt x="5" y="3352"/>
                    <a:pt x="1" y="3348"/>
                    <a:pt x="1" y="3343"/>
                  </a:cubicBezTo>
                  <a:close/>
                  <a:moveTo>
                    <a:pt x="1" y="3310"/>
                  </a:moveTo>
                  <a:lnTo>
                    <a:pt x="1" y="3310"/>
                  </a:lnTo>
                  <a:cubicBezTo>
                    <a:pt x="1" y="3305"/>
                    <a:pt x="5" y="3302"/>
                    <a:pt x="9" y="3302"/>
                  </a:cubicBezTo>
                  <a:cubicBezTo>
                    <a:pt x="14" y="3302"/>
                    <a:pt x="18" y="3305"/>
                    <a:pt x="18" y="3310"/>
                  </a:cubicBezTo>
                  <a:lnTo>
                    <a:pt x="18" y="3310"/>
                  </a:lnTo>
                  <a:cubicBezTo>
                    <a:pt x="18" y="3315"/>
                    <a:pt x="14" y="3318"/>
                    <a:pt x="9" y="3318"/>
                  </a:cubicBezTo>
                  <a:cubicBezTo>
                    <a:pt x="5" y="3318"/>
                    <a:pt x="1" y="3315"/>
                    <a:pt x="1" y="3310"/>
                  </a:cubicBezTo>
                  <a:close/>
                  <a:moveTo>
                    <a:pt x="1" y="3277"/>
                  </a:moveTo>
                  <a:lnTo>
                    <a:pt x="1" y="3277"/>
                  </a:lnTo>
                  <a:cubicBezTo>
                    <a:pt x="1" y="3272"/>
                    <a:pt x="5" y="3268"/>
                    <a:pt x="10" y="3268"/>
                  </a:cubicBezTo>
                  <a:cubicBezTo>
                    <a:pt x="14" y="3268"/>
                    <a:pt x="18" y="3272"/>
                    <a:pt x="18" y="3277"/>
                  </a:cubicBezTo>
                  <a:lnTo>
                    <a:pt x="18" y="3277"/>
                  </a:lnTo>
                  <a:cubicBezTo>
                    <a:pt x="18" y="3281"/>
                    <a:pt x="14" y="3285"/>
                    <a:pt x="10" y="3285"/>
                  </a:cubicBezTo>
                  <a:cubicBezTo>
                    <a:pt x="5" y="3285"/>
                    <a:pt x="1" y="3281"/>
                    <a:pt x="1" y="3277"/>
                  </a:cubicBezTo>
                  <a:close/>
                  <a:moveTo>
                    <a:pt x="1" y="3243"/>
                  </a:moveTo>
                  <a:lnTo>
                    <a:pt x="1" y="3243"/>
                  </a:lnTo>
                  <a:cubicBezTo>
                    <a:pt x="1" y="3239"/>
                    <a:pt x="5" y="3235"/>
                    <a:pt x="10" y="3235"/>
                  </a:cubicBezTo>
                  <a:cubicBezTo>
                    <a:pt x="14" y="3235"/>
                    <a:pt x="18" y="3239"/>
                    <a:pt x="18" y="3243"/>
                  </a:cubicBezTo>
                  <a:lnTo>
                    <a:pt x="18" y="3243"/>
                  </a:lnTo>
                  <a:cubicBezTo>
                    <a:pt x="18" y="3248"/>
                    <a:pt x="14" y="3252"/>
                    <a:pt x="10" y="3252"/>
                  </a:cubicBezTo>
                  <a:cubicBezTo>
                    <a:pt x="5" y="3252"/>
                    <a:pt x="1" y="3248"/>
                    <a:pt x="1" y="3243"/>
                  </a:cubicBezTo>
                  <a:close/>
                  <a:moveTo>
                    <a:pt x="1" y="3210"/>
                  </a:moveTo>
                  <a:lnTo>
                    <a:pt x="1" y="3210"/>
                  </a:lnTo>
                  <a:cubicBezTo>
                    <a:pt x="1" y="3205"/>
                    <a:pt x="5" y="3202"/>
                    <a:pt x="10" y="3202"/>
                  </a:cubicBezTo>
                  <a:cubicBezTo>
                    <a:pt x="14" y="3202"/>
                    <a:pt x="18" y="3205"/>
                    <a:pt x="18" y="3210"/>
                  </a:cubicBezTo>
                  <a:lnTo>
                    <a:pt x="18" y="3210"/>
                  </a:lnTo>
                  <a:cubicBezTo>
                    <a:pt x="18" y="3215"/>
                    <a:pt x="14" y="3218"/>
                    <a:pt x="10" y="3218"/>
                  </a:cubicBezTo>
                  <a:cubicBezTo>
                    <a:pt x="5" y="3218"/>
                    <a:pt x="1" y="3215"/>
                    <a:pt x="1" y="3210"/>
                  </a:cubicBezTo>
                  <a:close/>
                  <a:moveTo>
                    <a:pt x="1" y="3177"/>
                  </a:moveTo>
                  <a:lnTo>
                    <a:pt x="1" y="3177"/>
                  </a:lnTo>
                  <a:cubicBezTo>
                    <a:pt x="1" y="3172"/>
                    <a:pt x="5" y="3168"/>
                    <a:pt x="10" y="3168"/>
                  </a:cubicBezTo>
                  <a:cubicBezTo>
                    <a:pt x="14" y="3168"/>
                    <a:pt x="18" y="3172"/>
                    <a:pt x="18" y="3177"/>
                  </a:cubicBezTo>
                  <a:lnTo>
                    <a:pt x="18" y="3177"/>
                  </a:lnTo>
                  <a:cubicBezTo>
                    <a:pt x="18" y="3181"/>
                    <a:pt x="14" y="3185"/>
                    <a:pt x="10" y="3185"/>
                  </a:cubicBezTo>
                  <a:cubicBezTo>
                    <a:pt x="5" y="3185"/>
                    <a:pt x="1" y="3181"/>
                    <a:pt x="1" y="3177"/>
                  </a:cubicBezTo>
                  <a:close/>
                  <a:moveTo>
                    <a:pt x="1" y="3143"/>
                  </a:moveTo>
                  <a:lnTo>
                    <a:pt x="1" y="3143"/>
                  </a:lnTo>
                  <a:cubicBezTo>
                    <a:pt x="1" y="3139"/>
                    <a:pt x="5" y="3135"/>
                    <a:pt x="10" y="3135"/>
                  </a:cubicBezTo>
                  <a:cubicBezTo>
                    <a:pt x="14" y="3135"/>
                    <a:pt x="18" y="3139"/>
                    <a:pt x="18" y="3143"/>
                  </a:cubicBezTo>
                  <a:lnTo>
                    <a:pt x="18" y="3143"/>
                  </a:lnTo>
                  <a:cubicBezTo>
                    <a:pt x="18" y="3148"/>
                    <a:pt x="14" y="3152"/>
                    <a:pt x="10" y="3152"/>
                  </a:cubicBezTo>
                  <a:cubicBezTo>
                    <a:pt x="5" y="3152"/>
                    <a:pt x="1" y="3148"/>
                    <a:pt x="1" y="3143"/>
                  </a:cubicBezTo>
                  <a:close/>
                  <a:moveTo>
                    <a:pt x="1" y="3110"/>
                  </a:moveTo>
                  <a:lnTo>
                    <a:pt x="1" y="3110"/>
                  </a:lnTo>
                  <a:cubicBezTo>
                    <a:pt x="1" y="3105"/>
                    <a:pt x="5" y="3102"/>
                    <a:pt x="10" y="3102"/>
                  </a:cubicBezTo>
                  <a:cubicBezTo>
                    <a:pt x="14" y="3102"/>
                    <a:pt x="18" y="3105"/>
                    <a:pt x="18" y="3110"/>
                  </a:cubicBezTo>
                  <a:lnTo>
                    <a:pt x="18" y="3110"/>
                  </a:lnTo>
                  <a:cubicBezTo>
                    <a:pt x="18" y="3114"/>
                    <a:pt x="14" y="3118"/>
                    <a:pt x="10" y="3118"/>
                  </a:cubicBezTo>
                  <a:cubicBezTo>
                    <a:pt x="5" y="3118"/>
                    <a:pt x="1" y="3114"/>
                    <a:pt x="1" y="3110"/>
                  </a:cubicBezTo>
                  <a:close/>
                  <a:moveTo>
                    <a:pt x="1" y="3077"/>
                  </a:moveTo>
                  <a:lnTo>
                    <a:pt x="1" y="3077"/>
                  </a:lnTo>
                  <a:cubicBezTo>
                    <a:pt x="1" y="3072"/>
                    <a:pt x="5" y="3068"/>
                    <a:pt x="10" y="3068"/>
                  </a:cubicBezTo>
                  <a:cubicBezTo>
                    <a:pt x="14" y="3068"/>
                    <a:pt x="18" y="3072"/>
                    <a:pt x="18" y="3077"/>
                  </a:cubicBezTo>
                  <a:lnTo>
                    <a:pt x="18" y="3077"/>
                  </a:lnTo>
                  <a:cubicBezTo>
                    <a:pt x="18" y="3081"/>
                    <a:pt x="14" y="3085"/>
                    <a:pt x="10" y="3085"/>
                  </a:cubicBezTo>
                  <a:cubicBezTo>
                    <a:pt x="5" y="3085"/>
                    <a:pt x="1" y="3081"/>
                    <a:pt x="1" y="3077"/>
                  </a:cubicBezTo>
                  <a:close/>
                  <a:moveTo>
                    <a:pt x="1" y="3043"/>
                  </a:moveTo>
                  <a:lnTo>
                    <a:pt x="1" y="3043"/>
                  </a:lnTo>
                  <a:cubicBezTo>
                    <a:pt x="1" y="3039"/>
                    <a:pt x="5" y="3035"/>
                    <a:pt x="10" y="3035"/>
                  </a:cubicBezTo>
                  <a:cubicBezTo>
                    <a:pt x="14" y="3035"/>
                    <a:pt x="18" y="3039"/>
                    <a:pt x="18" y="3043"/>
                  </a:cubicBezTo>
                  <a:lnTo>
                    <a:pt x="18" y="3043"/>
                  </a:lnTo>
                  <a:cubicBezTo>
                    <a:pt x="18" y="3048"/>
                    <a:pt x="14" y="3052"/>
                    <a:pt x="10" y="3052"/>
                  </a:cubicBezTo>
                  <a:cubicBezTo>
                    <a:pt x="5" y="3052"/>
                    <a:pt x="1" y="3048"/>
                    <a:pt x="1" y="3043"/>
                  </a:cubicBezTo>
                  <a:close/>
                  <a:moveTo>
                    <a:pt x="1" y="3010"/>
                  </a:moveTo>
                  <a:lnTo>
                    <a:pt x="1" y="3010"/>
                  </a:lnTo>
                  <a:cubicBezTo>
                    <a:pt x="1" y="3005"/>
                    <a:pt x="5" y="3001"/>
                    <a:pt x="10" y="3001"/>
                  </a:cubicBezTo>
                  <a:cubicBezTo>
                    <a:pt x="14" y="3001"/>
                    <a:pt x="18" y="3005"/>
                    <a:pt x="18" y="3010"/>
                  </a:cubicBezTo>
                  <a:lnTo>
                    <a:pt x="18" y="3010"/>
                  </a:lnTo>
                  <a:cubicBezTo>
                    <a:pt x="18" y="3014"/>
                    <a:pt x="14" y="3018"/>
                    <a:pt x="10" y="3018"/>
                  </a:cubicBezTo>
                  <a:cubicBezTo>
                    <a:pt x="5" y="3018"/>
                    <a:pt x="1" y="3014"/>
                    <a:pt x="1" y="3010"/>
                  </a:cubicBezTo>
                  <a:close/>
                  <a:moveTo>
                    <a:pt x="1" y="2976"/>
                  </a:moveTo>
                  <a:lnTo>
                    <a:pt x="1" y="2976"/>
                  </a:lnTo>
                  <a:cubicBezTo>
                    <a:pt x="1" y="2972"/>
                    <a:pt x="5" y="2968"/>
                    <a:pt x="10" y="2968"/>
                  </a:cubicBezTo>
                  <a:cubicBezTo>
                    <a:pt x="14" y="2968"/>
                    <a:pt x="18" y="2972"/>
                    <a:pt x="18" y="2976"/>
                  </a:cubicBezTo>
                  <a:lnTo>
                    <a:pt x="18" y="2976"/>
                  </a:lnTo>
                  <a:cubicBezTo>
                    <a:pt x="18" y="2981"/>
                    <a:pt x="14" y="2985"/>
                    <a:pt x="10" y="2985"/>
                  </a:cubicBezTo>
                  <a:cubicBezTo>
                    <a:pt x="5" y="2985"/>
                    <a:pt x="1" y="2981"/>
                    <a:pt x="1" y="2976"/>
                  </a:cubicBezTo>
                  <a:close/>
                  <a:moveTo>
                    <a:pt x="1" y="2943"/>
                  </a:moveTo>
                  <a:lnTo>
                    <a:pt x="1" y="2943"/>
                  </a:lnTo>
                  <a:cubicBezTo>
                    <a:pt x="1" y="2939"/>
                    <a:pt x="5" y="2935"/>
                    <a:pt x="10" y="2935"/>
                  </a:cubicBezTo>
                  <a:cubicBezTo>
                    <a:pt x="14" y="2935"/>
                    <a:pt x="18" y="2939"/>
                    <a:pt x="18" y="2943"/>
                  </a:cubicBezTo>
                  <a:lnTo>
                    <a:pt x="18" y="2943"/>
                  </a:lnTo>
                  <a:cubicBezTo>
                    <a:pt x="18" y="2948"/>
                    <a:pt x="14" y="2951"/>
                    <a:pt x="10" y="2951"/>
                  </a:cubicBezTo>
                  <a:cubicBezTo>
                    <a:pt x="5" y="2951"/>
                    <a:pt x="1" y="2948"/>
                    <a:pt x="1" y="2943"/>
                  </a:cubicBezTo>
                  <a:close/>
                  <a:moveTo>
                    <a:pt x="1" y="2910"/>
                  </a:moveTo>
                  <a:lnTo>
                    <a:pt x="1" y="2910"/>
                  </a:lnTo>
                  <a:cubicBezTo>
                    <a:pt x="1" y="2905"/>
                    <a:pt x="5" y="2901"/>
                    <a:pt x="10" y="2901"/>
                  </a:cubicBezTo>
                  <a:cubicBezTo>
                    <a:pt x="14" y="2901"/>
                    <a:pt x="18" y="2905"/>
                    <a:pt x="18" y="2910"/>
                  </a:cubicBezTo>
                  <a:lnTo>
                    <a:pt x="18" y="2910"/>
                  </a:lnTo>
                  <a:cubicBezTo>
                    <a:pt x="18" y="2914"/>
                    <a:pt x="14" y="2918"/>
                    <a:pt x="10" y="2918"/>
                  </a:cubicBezTo>
                  <a:cubicBezTo>
                    <a:pt x="5" y="2918"/>
                    <a:pt x="1" y="2914"/>
                    <a:pt x="1" y="2910"/>
                  </a:cubicBezTo>
                  <a:close/>
                  <a:moveTo>
                    <a:pt x="1" y="2876"/>
                  </a:moveTo>
                  <a:lnTo>
                    <a:pt x="1" y="2876"/>
                  </a:lnTo>
                  <a:cubicBezTo>
                    <a:pt x="1" y="2872"/>
                    <a:pt x="5" y="2868"/>
                    <a:pt x="10" y="2868"/>
                  </a:cubicBezTo>
                  <a:cubicBezTo>
                    <a:pt x="14" y="2868"/>
                    <a:pt x="18" y="2872"/>
                    <a:pt x="18" y="2876"/>
                  </a:cubicBezTo>
                  <a:lnTo>
                    <a:pt x="18" y="2876"/>
                  </a:lnTo>
                  <a:cubicBezTo>
                    <a:pt x="18" y="2881"/>
                    <a:pt x="14" y="2885"/>
                    <a:pt x="10" y="2885"/>
                  </a:cubicBezTo>
                  <a:cubicBezTo>
                    <a:pt x="5" y="2885"/>
                    <a:pt x="1" y="2881"/>
                    <a:pt x="1" y="2876"/>
                  </a:cubicBezTo>
                  <a:close/>
                  <a:moveTo>
                    <a:pt x="1" y="2843"/>
                  </a:moveTo>
                  <a:lnTo>
                    <a:pt x="1" y="2843"/>
                  </a:lnTo>
                  <a:cubicBezTo>
                    <a:pt x="1" y="2838"/>
                    <a:pt x="5" y="2835"/>
                    <a:pt x="10" y="2835"/>
                  </a:cubicBezTo>
                  <a:cubicBezTo>
                    <a:pt x="14" y="2835"/>
                    <a:pt x="18" y="2838"/>
                    <a:pt x="18" y="2843"/>
                  </a:cubicBezTo>
                  <a:lnTo>
                    <a:pt x="18" y="2843"/>
                  </a:lnTo>
                  <a:cubicBezTo>
                    <a:pt x="18" y="2848"/>
                    <a:pt x="14" y="2851"/>
                    <a:pt x="10" y="2851"/>
                  </a:cubicBezTo>
                  <a:cubicBezTo>
                    <a:pt x="5" y="2851"/>
                    <a:pt x="1" y="2848"/>
                    <a:pt x="1" y="2843"/>
                  </a:cubicBezTo>
                  <a:close/>
                  <a:moveTo>
                    <a:pt x="1" y="2810"/>
                  </a:moveTo>
                  <a:lnTo>
                    <a:pt x="1" y="2810"/>
                  </a:lnTo>
                  <a:cubicBezTo>
                    <a:pt x="1" y="2805"/>
                    <a:pt x="5" y="2801"/>
                    <a:pt x="10" y="2801"/>
                  </a:cubicBezTo>
                  <a:cubicBezTo>
                    <a:pt x="14" y="2801"/>
                    <a:pt x="18" y="2805"/>
                    <a:pt x="18" y="2810"/>
                  </a:cubicBezTo>
                  <a:lnTo>
                    <a:pt x="18" y="2810"/>
                  </a:lnTo>
                  <a:cubicBezTo>
                    <a:pt x="18" y="2814"/>
                    <a:pt x="14" y="2818"/>
                    <a:pt x="10" y="2818"/>
                  </a:cubicBezTo>
                  <a:cubicBezTo>
                    <a:pt x="5" y="2818"/>
                    <a:pt x="1" y="2814"/>
                    <a:pt x="1" y="2810"/>
                  </a:cubicBezTo>
                  <a:close/>
                  <a:moveTo>
                    <a:pt x="2" y="2776"/>
                  </a:moveTo>
                  <a:lnTo>
                    <a:pt x="2" y="2776"/>
                  </a:lnTo>
                  <a:cubicBezTo>
                    <a:pt x="2" y="2772"/>
                    <a:pt x="5" y="2768"/>
                    <a:pt x="10" y="2768"/>
                  </a:cubicBezTo>
                  <a:cubicBezTo>
                    <a:pt x="14" y="2768"/>
                    <a:pt x="18" y="2772"/>
                    <a:pt x="18" y="2776"/>
                  </a:cubicBezTo>
                  <a:lnTo>
                    <a:pt x="18" y="2776"/>
                  </a:lnTo>
                  <a:cubicBezTo>
                    <a:pt x="18" y="2781"/>
                    <a:pt x="14" y="2785"/>
                    <a:pt x="10" y="2785"/>
                  </a:cubicBezTo>
                  <a:cubicBezTo>
                    <a:pt x="5" y="2785"/>
                    <a:pt x="2" y="2781"/>
                    <a:pt x="2" y="2776"/>
                  </a:cubicBezTo>
                  <a:close/>
                  <a:moveTo>
                    <a:pt x="2" y="2743"/>
                  </a:moveTo>
                  <a:lnTo>
                    <a:pt x="2" y="2743"/>
                  </a:lnTo>
                  <a:cubicBezTo>
                    <a:pt x="2" y="2738"/>
                    <a:pt x="5" y="2735"/>
                    <a:pt x="10" y="2735"/>
                  </a:cubicBezTo>
                  <a:cubicBezTo>
                    <a:pt x="14" y="2735"/>
                    <a:pt x="18" y="2738"/>
                    <a:pt x="18" y="2743"/>
                  </a:cubicBezTo>
                  <a:lnTo>
                    <a:pt x="18" y="2743"/>
                  </a:lnTo>
                  <a:cubicBezTo>
                    <a:pt x="18" y="2748"/>
                    <a:pt x="14" y="2751"/>
                    <a:pt x="10" y="2751"/>
                  </a:cubicBezTo>
                  <a:cubicBezTo>
                    <a:pt x="5" y="2751"/>
                    <a:pt x="2" y="2748"/>
                    <a:pt x="2" y="2743"/>
                  </a:cubicBezTo>
                  <a:close/>
                  <a:moveTo>
                    <a:pt x="2" y="2710"/>
                  </a:moveTo>
                  <a:lnTo>
                    <a:pt x="2" y="2710"/>
                  </a:lnTo>
                  <a:cubicBezTo>
                    <a:pt x="2" y="2705"/>
                    <a:pt x="5" y="2701"/>
                    <a:pt x="10" y="2701"/>
                  </a:cubicBezTo>
                  <a:cubicBezTo>
                    <a:pt x="14" y="2701"/>
                    <a:pt x="18" y="2705"/>
                    <a:pt x="18" y="2710"/>
                  </a:cubicBezTo>
                  <a:lnTo>
                    <a:pt x="18" y="2710"/>
                  </a:lnTo>
                  <a:cubicBezTo>
                    <a:pt x="18" y="2714"/>
                    <a:pt x="14" y="2718"/>
                    <a:pt x="10" y="2718"/>
                  </a:cubicBezTo>
                  <a:cubicBezTo>
                    <a:pt x="5" y="2718"/>
                    <a:pt x="2" y="2714"/>
                    <a:pt x="2" y="2710"/>
                  </a:cubicBezTo>
                  <a:close/>
                  <a:moveTo>
                    <a:pt x="2" y="2676"/>
                  </a:moveTo>
                  <a:lnTo>
                    <a:pt x="2" y="2676"/>
                  </a:lnTo>
                  <a:cubicBezTo>
                    <a:pt x="2" y="2672"/>
                    <a:pt x="5" y="2668"/>
                    <a:pt x="10" y="2668"/>
                  </a:cubicBezTo>
                  <a:cubicBezTo>
                    <a:pt x="15" y="2668"/>
                    <a:pt x="18" y="2672"/>
                    <a:pt x="18" y="2676"/>
                  </a:cubicBezTo>
                  <a:lnTo>
                    <a:pt x="18" y="2676"/>
                  </a:lnTo>
                  <a:cubicBezTo>
                    <a:pt x="18" y="2681"/>
                    <a:pt x="15" y="2685"/>
                    <a:pt x="10" y="2685"/>
                  </a:cubicBezTo>
                  <a:cubicBezTo>
                    <a:pt x="5" y="2685"/>
                    <a:pt x="2" y="2681"/>
                    <a:pt x="2" y="2676"/>
                  </a:cubicBezTo>
                  <a:close/>
                  <a:moveTo>
                    <a:pt x="2" y="2643"/>
                  </a:moveTo>
                  <a:lnTo>
                    <a:pt x="2" y="2643"/>
                  </a:lnTo>
                  <a:cubicBezTo>
                    <a:pt x="2" y="2638"/>
                    <a:pt x="5" y="2635"/>
                    <a:pt x="10" y="2635"/>
                  </a:cubicBezTo>
                  <a:cubicBezTo>
                    <a:pt x="15" y="2635"/>
                    <a:pt x="18" y="2638"/>
                    <a:pt x="18" y="2643"/>
                  </a:cubicBezTo>
                  <a:lnTo>
                    <a:pt x="18" y="2643"/>
                  </a:lnTo>
                  <a:cubicBezTo>
                    <a:pt x="18" y="2648"/>
                    <a:pt x="15" y="2651"/>
                    <a:pt x="10" y="2651"/>
                  </a:cubicBezTo>
                  <a:cubicBezTo>
                    <a:pt x="5" y="2651"/>
                    <a:pt x="2" y="2648"/>
                    <a:pt x="2" y="2643"/>
                  </a:cubicBezTo>
                  <a:close/>
                  <a:moveTo>
                    <a:pt x="2" y="2610"/>
                  </a:moveTo>
                  <a:lnTo>
                    <a:pt x="2" y="2610"/>
                  </a:lnTo>
                  <a:cubicBezTo>
                    <a:pt x="2" y="2605"/>
                    <a:pt x="5" y="2601"/>
                    <a:pt x="10" y="2601"/>
                  </a:cubicBezTo>
                  <a:cubicBezTo>
                    <a:pt x="15" y="2601"/>
                    <a:pt x="18" y="2605"/>
                    <a:pt x="18" y="2610"/>
                  </a:cubicBezTo>
                  <a:lnTo>
                    <a:pt x="18" y="2610"/>
                  </a:lnTo>
                  <a:cubicBezTo>
                    <a:pt x="18" y="2614"/>
                    <a:pt x="15" y="2618"/>
                    <a:pt x="10" y="2618"/>
                  </a:cubicBezTo>
                  <a:cubicBezTo>
                    <a:pt x="5" y="2618"/>
                    <a:pt x="2" y="2614"/>
                    <a:pt x="2" y="2610"/>
                  </a:cubicBezTo>
                  <a:close/>
                  <a:moveTo>
                    <a:pt x="2" y="2576"/>
                  </a:moveTo>
                  <a:lnTo>
                    <a:pt x="2" y="2576"/>
                  </a:lnTo>
                  <a:cubicBezTo>
                    <a:pt x="2" y="2572"/>
                    <a:pt x="5" y="2568"/>
                    <a:pt x="10" y="2568"/>
                  </a:cubicBezTo>
                  <a:cubicBezTo>
                    <a:pt x="15" y="2568"/>
                    <a:pt x="18" y="2572"/>
                    <a:pt x="18" y="2576"/>
                  </a:cubicBezTo>
                  <a:lnTo>
                    <a:pt x="18" y="2576"/>
                  </a:lnTo>
                  <a:cubicBezTo>
                    <a:pt x="18" y="2581"/>
                    <a:pt x="15" y="2585"/>
                    <a:pt x="10" y="2585"/>
                  </a:cubicBezTo>
                  <a:cubicBezTo>
                    <a:pt x="5" y="2585"/>
                    <a:pt x="2" y="2581"/>
                    <a:pt x="2" y="2576"/>
                  </a:cubicBezTo>
                  <a:close/>
                  <a:moveTo>
                    <a:pt x="2" y="2543"/>
                  </a:moveTo>
                  <a:lnTo>
                    <a:pt x="2" y="2543"/>
                  </a:lnTo>
                  <a:cubicBezTo>
                    <a:pt x="2" y="2538"/>
                    <a:pt x="5" y="2535"/>
                    <a:pt x="10" y="2535"/>
                  </a:cubicBezTo>
                  <a:cubicBezTo>
                    <a:pt x="15" y="2535"/>
                    <a:pt x="18" y="2538"/>
                    <a:pt x="18" y="2543"/>
                  </a:cubicBezTo>
                  <a:lnTo>
                    <a:pt x="18" y="2543"/>
                  </a:lnTo>
                  <a:cubicBezTo>
                    <a:pt x="18" y="2548"/>
                    <a:pt x="15" y="2551"/>
                    <a:pt x="10" y="2551"/>
                  </a:cubicBezTo>
                  <a:cubicBezTo>
                    <a:pt x="5" y="2551"/>
                    <a:pt x="2" y="2548"/>
                    <a:pt x="2" y="2543"/>
                  </a:cubicBezTo>
                  <a:close/>
                  <a:moveTo>
                    <a:pt x="2" y="2510"/>
                  </a:moveTo>
                  <a:lnTo>
                    <a:pt x="2" y="2510"/>
                  </a:lnTo>
                  <a:cubicBezTo>
                    <a:pt x="2" y="2505"/>
                    <a:pt x="5" y="2501"/>
                    <a:pt x="10" y="2501"/>
                  </a:cubicBezTo>
                  <a:cubicBezTo>
                    <a:pt x="15" y="2501"/>
                    <a:pt x="18" y="2505"/>
                    <a:pt x="18" y="2510"/>
                  </a:cubicBezTo>
                  <a:lnTo>
                    <a:pt x="18" y="2510"/>
                  </a:lnTo>
                  <a:cubicBezTo>
                    <a:pt x="18" y="2514"/>
                    <a:pt x="15" y="2518"/>
                    <a:pt x="10" y="2518"/>
                  </a:cubicBezTo>
                  <a:cubicBezTo>
                    <a:pt x="5" y="2518"/>
                    <a:pt x="2" y="2514"/>
                    <a:pt x="2" y="2510"/>
                  </a:cubicBezTo>
                  <a:close/>
                  <a:moveTo>
                    <a:pt x="2" y="2476"/>
                  </a:moveTo>
                  <a:lnTo>
                    <a:pt x="2" y="2476"/>
                  </a:lnTo>
                  <a:cubicBezTo>
                    <a:pt x="2" y="2472"/>
                    <a:pt x="5" y="2468"/>
                    <a:pt x="10" y="2468"/>
                  </a:cubicBezTo>
                  <a:cubicBezTo>
                    <a:pt x="15" y="2468"/>
                    <a:pt x="18" y="2472"/>
                    <a:pt x="18" y="2476"/>
                  </a:cubicBezTo>
                  <a:lnTo>
                    <a:pt x="18" y="2476"/>
                  </a:lnTo>
                  <a:cubicBezTo>
                    <a:pt x="18" y="2481"/>
                    <a:pt x="15" y="2485"/>
                    <a:pt x="10" y="2485"/>
                  </a:cubicBezTo>
                  <a:cubicBezTo>
                    <a:pt x="5" y="2485"/>
                    <a:pt x="2" y="2481"/>
                    <a:pt x="2" y="2476"/>
                  </a:cubicBezTo>
                  <a:close/>
                  <a:moveTo>
                    <a:pt x="2" y="2443"/>
                  </a:moveTo>
                  <a:lnTo>
                    <a:pt x="2" y="2443"/>
                  </a:lnTo>
                  <a:cubicBezTo>
                    <a:pt x="2" y="2438"/>
                    <a:pt x="5" y="2435"/>
                    <a:pt x="10" y="2435"/>
                  </a:cubicBezTo>
                  <a:cubicBezTo>
                    <a:pt x="15" y="2435"/>
                    <a:pt x="18" y="2438"/>
                    <a:pt x="18" y="2443"/>
                  </a:cubicBezTo>
                  <a:lnTo>
                    <a:pt x="18" y="2443"/>
                  </a:lnTo>
                  <a:cubicBezTo>
                    <a:pt x="18" y="2447"/>
                    <a:pt x="15" y="2451"/>
                    <a:pt x="10" y="2451"/>
                  </a:cubicBezTo>
                  <a:cubicBezTo>
                    <a:pt x="5" y="2451"/>
                    <a:pt x="2" y="2447"/>
                    <a:pt x="2" y="2443"/>
                  </a:cubicBezTo>
                  <a:close/>
                  <a:moveTo>
                    <a:pt x="2" y="2410"/>
                  </a:moveTo>
                  <a:lnTo>
                    <a:pt x="2" y="2409"/>
                  </a:lnTo>
                  <a:cubicBezTo>
                    <a:pt x="2" y="2405"/>
                    <a:pt x="5" y="2401"/>
                    <a:pt x="10" y="2401"/>
                  </a:cubicBezTo>
                  <a:cubicBezTo>
                    <a:pt x="15" y="2401"/>
                    <a:pt x="18" y="2405"/>
                    <a:pt x="18" y="2409"/>
                  </a:cubicBezTo>
                  <a:lnTo>
                    <a:pt x="18" y="2410"/>
                  </a:lnTo>
                  <a:cubicBezTo>
                    <a:pt x="18" y="2414"/>
                    <a:pt x="15" y="2418"/>
                    <a:pt x="10" y="2418"/>
                  </a:cubicBezTo>
                  <a:cubicBezTo>
                    <a:pt x="5" y="2418"/>
                    <a:pt x="2" y="2414"/>
                    <a:pt x="2" y="2410"/>
                  </a:cubicBezTo>
                  <a:close/>
                  <a:moveTo>
                    <a:pt x="2" y="2376"/>
                  </a:moveTo>
                  <a:lnTo>
                    <a:pt x="2" y="2376"/>
                  </a:lnTo>
                  <a:cubicBezTo>
                    <a:pt x="2" y="2372"/>
                    <a:pt x="6" y="2368"/>
                    <a:pt x="10" y="2368"/>
                  </a:cubicBezTo>
                  <a:cubicBezTo>
                    <a:pt x="15" y="2368"/>
                    <a:pt x="18" y="2372"/>
                    <a:pt x="18" y="2376"/>
                  </a:cubicBezTo>
                  <a:lnTo>
                    <a:pt x="18" y="2376"/>
                  </a:lnTo>
                  <a:cubicBezTo>
                    <a:pt x="18" y="2381"/>
                    <a:pt x="15" y="2384"/>
                    <a:pt x="10" y="2384"/>
                  </a:cubicBezTo>
                  <a:cubicBezTo>
                    <a:pt x="6" y="2384"/>
                    <a:pt x="2" y="2381"/>
                    <a:pt x="2" y="2376"/>
                  </a:cubicBezTo>
                  <a:close/>
                  <a:moveTo>
                    <a:pt x="2" y="2343"/>
                  </a:moveTo>
                  <a:lnTo>
                    <a:pt x="2" y="2343"/>
                  </a:lnTo>
                  <a:cubicBezTo>
                    <a:pt x="2" y="2338"/>
                    <a:pt x="6" y="2334"/>
                    <a:pt x="10" y="2334"/>
                  </a:cubicBezTo>
                  <a:cubicBezTo>
                    <a:pt x="15" y="2334"/>
                    <a:pt x="18" y="2338"/>
                    <a:pt x="18" y="2343"/>
                  </a:cubicBezTo>
                  <a:lnTo>
                    <a:pt x="18" y="2343"/>
                  </a:lnTo>
                  <a:cubicBezTo>
                    <a:pt x="18" y="2347"/>
                    <a:pt x="15" y="2351"/>
                    <a:pt x="10" y="2351"/>
                  </a:cubicBezTo>
                  <a:cubicBezTo>
                    <a:pt x="6" y="2351"/>
                    <a:pt x="2" y="2347"/>
                    <a:pt x="2" y="2343"/>
                  </a:cubicBezTo>
                  <a:close/>
                  <a:moveTo>
                    <a:pt x="2" y="2309"/>
                  </a:moveTo>
                  <a:lnTo>
                    <a:pt x="2" y="2309"/>
                  </a:lnTo>
                  <a:cubicBezTo>
                    <a:pt x="2" y="2305"/>
                    <a:pt x="6" y="2301"/>
                    <a:pt x="10" y="2301"/>
                  </a:cubicBezTo>
                  <a:cubicBezTo>
                    <a:pt x="15" y="2301"/>
                    <a:pt x="19" y="2305"/>
                    <a:pt x="19" y="2309"/>
                  </a:cubicBezTo>
                  <a:lnTo>
                    <a:pt x="19" y="2309"/>
                  </a:lnTo>
                  <a:cubicBezTo>
                    <a:pt x="19" y="2314"/>
                    <a:pt x="15" y="2318"/>
                    <a:pt x="10" y="2318"/>
                  </a:cubicBezTo>
                  <a:cubicBezTo>
                    <a:pt x="6" y="2318"/>
                    <a:pt x="2" y="2314"/>
                    <a:pt x="2" y="2309"/>
                  </a:cubicBezTo>
                  <a:close/>
                  <a:moveTo>
                    <a:pt x="2" y="2276"/>
                  </a:moveTo>
                  <a:lnTo>
                    <a:pt x="2" y="2276"/>
                  </a:lnTo>
                  <a:cubicBezTo>
                    <a:pt x="2" y="2271"/>
                    <a:pt x="6" y="2268"/>
                    <a:pt x="10" y="2268"/>
                  </a:cubicBezTo>
                  <a:cubicBezTo>
                    <a:pt x="15" y="2268"/>
                    <a:pt x="19" y="2271"/>
                    <a:pt x="19" y="2276"/>
                  </a:cubicBezTo>
                  <a:lnTo>
                    <a:pt x="19" y="2276"/>
                  </a:lnTo>
                  <a:cubicBezTo>
                    <a:pt x="19" y="2281"/>
                    <a:pt x="15" y="2284"/>
                    <a:pt x="10" y="2284"/>
                  </a:cubicBezTo>
                  <a:cubicBezTo>
                    <a:pt x="6" y="2284"/>
                    <a:pt x="2" y="2281"/>
                    <a:pt x="2" y="2276"/>
                  </a:cubicBezTo>
                  <a:close/>
                  <a:moveTo>
                    <a:pt x="2" y="2243"/>
                  </a:moveTo>
                  <a:lnTo>
                    <a:pt x="2" y="2243"/>
                  </a:lnTo>
                  <a:cubicBezTo>
                    <a:pt x="2" y="2238"/>
                    <a:pt x="6" y="2234"/>
                    <a:pt x="10" y="2234"/>
                  </a:cubicBezTo>
                  <a:cubicBezTo>
                    <a:pt x="15" y="2234"/>
                    <a:pt x="19" y="2238"/>
                    <a:pt x="19" y="2243"/>
                  </a:cubicBezTo>
                  <a:lnTo>
                    <a:pt x="19" y="2243"/>
                  </a:lnTo>
                  <a:cubicBezTo>
                    <a:pt x="19" y="2247"/>
                    <a:pt x="15" y="2251"/>
                    <a:pt x="10" y="2251"/>
                  </a:cubicBezTo>
                  <a:cubicBezTo>
                    <a:pt x="6" y="2251"/>
                    <a:pt x="2" y="2247"/>
                    <a:pt x="2" y="2243"/>
                  </a:cubicBezTo>
                  <a:close/>
                  <a:moveTo>
                    <a:pt x="2" y="2209"/>
                  </a:moveTo>
                  <a:lnTo>
                    <a:pt x="2" y="2209"/>
                  </a:lnTo>
                  <a:cubicBezTo>
                    <a:pt x="2" y="2205"/>
                    <a:pt x="6" y="2201"/>
                    <a:pt x="10" y="2201"/>
                  </a:cubicBezTo>
                  <a:cubicBezTo>
                    <a:pt x="15" y="2201"/>
                    <a:pt x="19" y="2205"/>
                    <a:pt x="19" y="2209"/>
                  </a:cubicBezTo>
                  <a:lnTo>
                    <a:pt x="19" y="2209"/>
                  </a:lnTo>
                  <a:cubicBezTo>
                    <a:pt x="19" y="2214"/>
                    <a:pt x="15" y="2218"/>
                    <a:pt x="10" y="2218"/>
                  </a:cubicBezTo>
                  <a:cubicBezTo>
                    <a:pt x="6" y="2218"/>
                    <a:pt x="2" y="2214"/>
                    <a:pt x="2" y="2209"/>
                  </a:cubicBezTo>
                  <a:close/>
                  <a:moveTo>
                    <a:pt x="2" y="2176"/>
                  </a:moveTo>
                  <a:lnTo>
                    <a:pt x="2" y="2176"/>
                  </a:lnTo>
                  <a:cubicBezTo>
                    <a:pt x="2" y="2171"/>
                    <a:pt x="6" y="2168"/>
                    <a:pt x="10" y="2168"/>
                  </a:cubicBezTo>
                  <a:cubicBezTo>
                    <a:pt x="15" y="2168"/>
                    <a:pt x="19" y="2171"/>
                    <a:pt x="19" y="2176"/>
                  </a:cubicBezTo>
                  <a:lnTo>
                    <a:pt x="19" y="2176"/>
                  </a:lnTo>
                  <a:cubicBezTo>
                    <a:pt x="19" y="2181"/>
                    <a:pt x="15" y="2184"/>
                    <a:pt x="10" y="2184"/>
                  </a:cubicBezTo>
                  <a:cubicBezTo>
                    <a:pt x="6" y="2184"/>
                    <a:pt x="2" y="2181"/>
                    <a:pt x="2" y="2176"/>
                  </a:cubicBezTo>
                  <a:close/>
                  <a:moveTo>
                    <a:pt x="2" y="2143"/>
                  </a:moveTo>
                  <a:lnTo>
                    <a:pt x="2" y="2143"/>
                  </a:lnTo>
                  <a:cubicBezTo>
                    <a:pt x="2" y="2138"/>
                    <a:pt x="6" y="2134"/>
                    <a:pt x="10" y="2134"/>
                  </a:cubicBezTo>
                  <a:cubicBezTo>
                    <a:pt x="15" y="2134"/>
                    <a:pt x="19" y="2138"/>
                    <a:pt x="19" y="2143"/>
                  </a:cubicBezTo>
                  <a:lnTo>
                    <a:pt x="19" y="2143"/>
                  </a:lnTo>
                  <a:cubicBezTo>
                    <a:pt x="19" y="2147"/>
                    <a:pt x="15" y="2151"/>
                    <a:pt x="10" y="2151"/>
                  </a:cubicBezTo>
                  <a:cubicBezTo>
                    <a:pt x="6" y="2151"/>
                    <a:pt x="2" y="2147"/>
                    <a:pt x="2" y="2143"/>
                  </a:cubicBezTo>
                  <a:close/>
                  <a:moveTo>
                    <a:pt x="2" y="2109"/>
                  </a:moveTo>
                  <a:lnTo>
                    <a:pt x="2" y="2109"/>
                  </a:lnTo>
                  <a:cubicBezTo>
                    <a:pt x="2" y="2105"/>
                    <a:pt x="6" y="2101"/>
                    <a:pt x="10" y="2101"/>
                  </a:cubicBezTo>
                  <a:cubicBezTo>
                    <a:pt x="15" y="2101"/>
                    <a:pt x="19" y="2105"/>
                    <a:pt x="19" y="2109"/>
                  </a:cubicBezTo>
                  <a:lnTo>
                    <a:pt x="19" y="2109"/>
                  </a:lnTo>
                  <a:cubicBezTo>
                    <a:pt x="19" y="2114"/>
                    <a:pt x="15" y="2118"/>
                    <a:pt x="10" y="2118"/>
                  </a:cubicBezTo>
                  <a:cubicBezTo>
                    <a:pt x="6" y="2118"/>
                    <a:pt x="2" y="2114"/>
                    <a:pt x="2" y="2109"/>
                  </a:cubicBezTo>
                  <a:close/>
                  <a:moveTo>
                    <a:pt x="2" y="2076"/>
                  </a:moveTo>
                  <a:lnTo>
                    <a:pt x="2" y="2076"/>
                  </a:lnTo>
                  <a:cubicBezTo>
                    <a:pt x="2" y="2071"/>
                    <a:pt x="6" y="2068"/>
                    <a:pt x="10" y="2068"/>
                  </a:cubicBezTo>
                  <a:cubicBezTo>
                    <a:pt x="15" y="2068"/>
                    <a:pt x="19" y="2071"/>
                    <a:pt x="19" y="2076"/>
                  </a:cubicBezTo>
                  <a:lnTo>
                    <a:pt x="19" y="2076"/>
                  </a:lnTo>
                  <a:cubicBezTo>
                    <a:pt x="19" y="2081"/>
                    <a:pt x="15" y="2084"/>
                    <a:pt x="10" y="2084"/>
                  </a:cubicBezTo>
                  <a:cubicBezTo>
                    <a:pt x="6" y="2084"/>
                    <a:pt x="2" y="2081"/>
                    <a:pt x="2" y="2076"/>
                  </a:cubicBezTo>
                  <a:close/>
                  <a:moveTo>
                    <a:pt x="2" y="2043"/>
                  </a:moveTo>
                  <a:lnTo>
                    <a:pt x="2" y="2043"/>
                  </a:lnTo>
                  <a:cubicBezTo>
                    <a:pt x="2" y="2038"/>
                    <a:pt x="6" y="2034"/>
                    <a:pt x="10" y="2034"/>
                  </a:cubicBezTo>
                  <a:cubicBezTo>
                    <a:pt x="15" y="2034"/>
                    <a:pt x="19" y="2038"/>
                    <a:pt x="19" y="2043"/>
                  </a:cubicBezTo>
                  <a:lnTo>
                    <a:pt x="19" y="2043"/>
                  </a:lnTo>
                  <a:cubicBezTo>
                    <a:pt x="19" y="2047"/>
                    <a:pt x="15" y="2051"/>
                    <a:pt x="10" y="2051"/>
                  </a:cubicBezTo>
                  <a:cubicBezTo>
                    <a:pt x="6" y="2051"/>
                    <a:pt x="2" y="2047"/>
                    <a:pt x="2" y="2043"/>
                  </a:cubicBezTo>
                  <a:close/>
                  <a:moveTo>
                    <a:pt x="2" y="2009"/>
                  </a:moveTo>
                  <a:lnTo>
                    <a:pt x="2" y="2009"/>
                  </a:lnTo>
                  <a:cubicBezTo>
                    <a:pt x="2" y="2005"/>
                    <a:pt x="6" y="2001"/>
                    <a:pt x="10" y="2001"/>
                  </a:cubicBezTo>
                  <a:cubicBezTo>
                    <a:pt x="15" y="2001"/>
                    <a:pt x="19" y="2005"/>
                    <a:pt x="19" y="2009"/>
                  </a:cubicBezTo>
                  <a:lnTo>
                    <a:pt x="19" y="2009"/>
                  </a:lnTo>
                  <a:cubicBezTo>
                    <a:pt x="19" y="2014"/>
                    <a:pt x="15" y="2018"/>
                    <a:pt x="10" y="2018"/>
                  </a:cubicBezTo>
                  <a:cubicBezTo>
                    <a:pt x="6" y="2018"/>
                    <a:pt x="2" y="2014"/>
                    <a:pt x="2" y="2009"/>
                  </a:cubicBezTo>
                  <a:close/>
                  <a:moveTo>
                    <a:pt x="2" y="1976"/>
                  </a:moveTo>
                  <a:lnTo>
                    <a:pt x="2" y="1976"/>
                  </a:lnTo>
                  <a:cubicBezTo>
                    <a:pt x="2" y="1971"/>
                    <a:pt x="6" y="1968"/>
                    <a:pt x="10" y="1968"/>
                  </a:cubicBezTo>
                  <a:cubicBezTo>
                    <a:pt x="15" y="1968"/>
                    <a:pt x="19" y="1971"/>
                    <a:pt x="19" y="1976"/>
                  </a:cubicBezTo>
                  <a:lnTo>
                    <a:pt x="19" y="1976"/>
                  </a:lnTo>
                  <a:cubicBezTo>
                    <a:pt x="19" y="1981"/>
                    <a:pt x="15" y="1984"/>
                    <a:pt x="10" y="1984"/>
                  </a:cubicBezTo>
                  <a:cubicBezTo>
                    <a:pt x="6" y="1984"/>
                    <a:pt x="2" y="1981"/>
                    <a:pt x="2" y="1976"/>
                  </a:cubicBezTo>
                  <a:close/>
                  <a:moveTo>
                    <a:pt x="2" y="1943"/>
                  </a:moveTo>
                  <a:lnTo>
                    <a:pt x="2" y="1943"/>
                  </a:lnTo>
                  <a:cubicBezTo>
                    <a:pt x="2" y="1938"/>
                    <a:pt x="6" y="1934"/>
                    <a:pt x="10" y="1934"/>
                  </a:cubicBezTo>
                  <a:cubicBezTo>
                    <a:pt x="15" y="1934"/>
                    <a:pt x="19" y="1938"/>
                    <a:pt x="19" y="1943"/>
                  </a:cubicBezTo>
                  <a:lnTo>
                    <a:pt x="19" y="1943"/>
                  </a:lnTo>
                  <a:cubicBezTo>
                    <a:pt x="19" y="1947"/>
                    <a:pt x="15" y="1951"/>
                    <a:pt x="10" y="1951"/>
                  </a:cubicBezTo>
                  <a:cubicBezTo>
                    <a:pt x="6" y="1951"/>
                    <a:pt x="2" y="1947"/>
                    <a:pt x="2" y="1943"/>
                  </a:cubicBezTo>
                  <a:close/>
                  <a:moveTo>
                    <a:pt x="2" y="1909"/>
                  </a:moveTo>
                  <a:lnTo>
                    <a:pt x="2" y="1909"/>
                  </a:lnTo>
                  <a:cubicBezTo>
                    <a:pt x="2" y="1905"/>
                    <a:pt x="6" y="1901"/>
                    <a:pt x="10" y="1901"/>
                  </a:cubicBezTo>
                  <a:cubicBezTo>
                    <a:pt x="15" y="1901"/>
                    <a:pt x="19" y="1905"/>
                    <a:pt x="19" y="1909"/>
                  </a:cubicBezTo>
                  <a:lnTo>
                    <a:pt x="19" y="1909"/>
                  </a:lnTo>
                  <a:cubicBezTo>
                    <a:pt x="19" y="1914"/>
                    <a:pt x="15" y="1918"/>
                    <a:pt x="10" y="1918"/>
                  </a:cubicBezTo>
                  <a:cubicBezTo>
                    <a:pt x="6" y="1918"/>
                    <a:pt x="2" y="1914"/>
                    <a:pt x="2" y="1909"/>
                  </a:cubicBezTo>
                  <a:close/>
                  <a:moveTo>
                    <a:pt x="2" y="1876"/>
                  </a:moveTo>
                  <a:lnTo>
                    <a:pt x="2" y="1876"/>
                  </a:lnTo>
                  <a:cubicBezTo>
                    <a:pt x="2" y="1871"/>
                    <a:pt x="6" y="1868"/>
                    <a:pt x="10" y="1868"/>
                  </a:cubicBezTo>
                  <a:cubicBezTo>
                    <a:pt x="15" y="1868"/>
                    <a:pt x="19" y="1871"/>
                    <a:pt x="19" y="1876"/>
                  </a:cubicBezTo>
                  <a:lnTo>
                    <a:pt x="19" y="1876"/>
                  </a:lnTo>
                  <a:cubicBezTo>
                    <a:pt x="19" y="1881"/>
                    <a:pt x="15" y="1884"/>
                    <a:pt x="10" y="1884"/>
                  </a:cubicBezTo>
                  <a:cubicBezTo>
                    <a:pt x="6" y="1884"/>
                    <a:pt x="2" y="1881"/>
                    <a:pt x="2" y="1876"/>
                  </a:cubicBezTo>
                  <a:close/>
                  <a:moveTo>
                    <a:pt x="2" y="1843"/>
                  </a:moveTo>
                  <a:lnTo>
                    <a:pt x="2" y="1843"/>
                  </a:lnTo>
                  <a:cubicBezTo>
                    <a:pt x="2" y="1838"/>
                    <a:pt x="6" y="1834"/>
                    <a:pt x="10" y="1834"/>
                  </a:cubicBezTo>
                  <a:cubicBezTo>
                    <a:pt x="15" y="1834"/>
                    <a:pt x="19" y="1838"/>
                    <a:pt x="19" y="1843"/>
                  </a:cubicBezTo>
                  <a:lnTo>
                    <a:pt x="19" y="1843"/>
                  </a:lnTo>
                  <a:cubicBezTo>
                    <a:pt x="19" y="1847"/>
                    <a:pt x="15" y="1851"/>
                    <a:pt x="10" y="1851"/>
                  </a:cubicBezTo>
                  <a:cubicBezTo>
                    <a:pt x="6" y="1851"/>
                    <a:pt x="2" y="1847"/>
                    <a:pt x="2" y="1843"/>
                  </a:cubicBezTo>
                  <a:close/>
                  <a:moveTo>
                    <a:pt x="2" y="1809"/>
                  </a:moveTo>
                  <a:lnTo>
                    <a:pt x="2" y="1809"/>
                  </a:lnTo>
                  <a:cubicBezTo>
                    <a:pt x="2" y="1805"/>
                    <a:pt x="6" y="1801"/>
                    <a:pt x="11" y="1801"/>
                  </a:cubicBezTo>
                  <a:cubicBezTo>
                    <a:pt x="15" y="1801"/>
                    <a:pt x="19" y="1805"/>
                    <a:pt x="19" y="1809"/>
                  </a:cubicBezTo>
                  <a:lnTo>
                    <a:pt x="19" y="1809"/>
                  </a:lnTo>
                  <a:cubicBezTo>
                    <a:pt x="19" y="1814"/>
                    <a:pt x="15" y="1818"/>
                    <a:pt x="11" y="1818"/>
                  </a:cubicBezTo>
                  <a:cubicBezTo>
                    <a:pt x="6" y="1818"/>
                    <a:pt x="2" y="1814"/>
                    <a:pt x="2" y="1809"/>
                  </a:cubicBezTo>
                  <a:close/>
                  <a:moveTo>
                    <a:pt x="2" y="1776"/>
                  </a:moveTo>
                  <a:lnTo>
                    <a:pt x="2" y="1776"/>
                  </a:lnTo>
                  <a:cubicBezTo>
                    <a:pt x="2" y="1771"/>
                    <a:pt x="6" y="1768"/>
                    <a:pt x="11" y="1768"/>
                  </a:cubicBezTo>
                  <a:cubicBezTo>
                    <a:pt x="15" y="1768"/>
                    <a:pt x="19" y="1771"/>
                    <a:pt x="19" y="1776"/>
                  </a:cubicBezTo>
                  <a:lnTo>
                    <a:pt x="19" y="1776"/>
                  </a:lnTo>
                  <a:cubicBezTo>
                    <a:pt x="19" y="1780"/>
                    <a:pt x="15" y="1784"/>
                    <a:pt x="11" y="1784"/>
                  </a:cubicBezTo>
                  <a:cubicBezTo>
                    <a:pt x="6" y="1784"/>
                    <a:pt x="2" y="1780"/>
                    <a:pt x="2" y="1776"/>
                  </a:cubicBezTo>
                  <a:close/>
                  <a:moveTo>
                    <a:pt x="2" y="1743"/>
                  </a:moveTo>
                  <a:lnTo>
                    <a:pt x="2" y="1742"/>
                  </a:lnTo>
                  <a:cubicBezTo>
                    <a:pt x="2" y="1738"/>
                    <a:pt x="6" y="1734"/>
                    <a:pt x="11" y="1734"/>
                  </a:cubicBezTo>
                  <a:cubicBezTo>
                    <a:pt x="15" y="1734"/>
                    <a:pt x="19" y="1738"/>
                    <a:pt x="19" y="1742"/>
                  </a:cubicBezTo>
                  <a:lnTo>
                    <a:pt x="19" y="1743"/>
                  </a:lnTo>
                  <a:cubicBezTo>
                    <a:pt x="19" y="1747"/>
                    <a:pt x="15" y="1751"/>
                    <a:pt x="11" y="1751"/>
                  </a:cubicBezTo>
                  <a:cubicBezTo>
                    <a:pt x="6" y="1751"/>
                    <a:pt x="2" y="1747"/>
                    <a:pt x="2" y="1743"/>
                  </a:cubicBezTo>
                  <a:close/>
                  <a:moveTo>
                    <a:pt x="2" y="1709"/>
                  </a:moveTo>
                  <a:lnTo>
                    <a:pt x="2" y="1709"/>
                  </a:lnTo>
                  <a:cubicBezTo>
                    <a:pt x="2" y="1705"/>
                    <a:pt x="6" y="1701"/>
                    <a:pt x="11" y="1701"/>
                  </a:cubicBezTo>
                  <a:cubicBezTo>
                    <a:pt x="15" y="1701"/>
                    <a:pt x="19" y="1705"/>
                    <a:pt x="19" y="1709"/>
                  </a:cubicBezTo>
                  <a:lnTo>
                    <a:pt x="19" y="1709"/>
                  </a:lnTo>
                  <a:cubicBezTo>
                    <a:pt x="19" y="1714"/>
                    <a:pt x="15" y="1717"/>
                    <a:pt x="11" y="1717"/>
                  </a:cubicBezTo>
                  <a:cubicBezTo>
                    <a:pt x="6" y="1717"/>
                    <a:pt x="2" y="1714"/>
                    <a:pt x="2" y="1709"/>
                  </a:cubicBezTo>
                  <a:close/>
                  <a:moveTo>
                    <a:pt x="2" y="1676"/>
                  </a:moveTo>
                  <a:lnTo>
                    <a:pt x="2" y="1676"/>
                  </a:lnTo>
                  <a:cubicBezTo>
                    <a:pt x="2" y="1671"/>
                    <a:pt x="6" y="1667"/>
                    <a:pt x="11" y="1667"/>
                  </a:cubicBezTo>
                  <a:cubicBezTo>
                    <a:pt x="15" y="1667"/>
                    <a:pt x="19" y="1671"/>
                    <a:pt x="19" y="1676"/>
                  </a:cubicBezTo>
                  <a:lnTo>
                    <a:pt x="19" y="1676"/>
                  </a:lnTo>
                  <a:cubicBezTo>
                    <a:pt x="19" y="1680"/>
                    <a:pt x="15" y="1684"/>
                    <a:pt x="11" y="1684"/>
                  </a:cubicBezTo>
                  <a:cubicBezTo>
                    <a:pt x="6" y="1684"/>
                    <a:pt x="2" y="1680"/>
                    <a:pt x="2" y="1676"/>
                  </a:cubicBezTo>
                  <a:close/>
                  <a:moveTo>
                    <a:pt x="2" y="1642"/>
                  </a:moveTo>
                  <a:lnTo>
                    <a:pt x="2" y="1642"/>
                  </a:lnTo>
                  <a:cubicBezTo>
                    <a:pt x="2" y="1638"/>
                    <a:pt x="6" y="1634"/>
                    <a:pt x="11" y="1634"/>
                  </a:cubicBezTo>
                  <a:cubicBezTo>
                    <a:pt x="15" y="1634"/>
                    <a:pt x="19" y="1638"/>
                    <a:pt x="19" y="1642"/>
                  </a:cubicBezTo>
                  <a:lnTo>
                    <a:pt x="19" y="1642"/>
                  </a:lnTo>
                  <a:cubicBezTo>
                    <a:pt x="19" y="1647"/>
                    <a:pt x="15" y="1651"/>
                    <a:pt x="11" y="1651"/>
                  </a:cubicBezTo>
                  <a:cubicBezTo>
                    <a:pt x="6" y="1651"/>
                    <a:pt x="2" y="1647"/>
                    <a:pt x="2" y="1642"/>
                  </a:cubicBezTo>
                  <a:close/>
                  <a:moveTo>
                    <a:pt x="2" y="1609"/>
                  </a:moveTo>
                  <a:lnTo>
                    <a:pt x="2" y="1609"/>
                  </a:lnTo>
                  <a:cubicBezTo>
                    <a:pt x="2" y="1604"/>
                    <a:pt x="6" y="1601"/>
                    <a:pt x="11" y="1601"/>
                  </a:cubicBezTo>
                  <a:cubicBezTo>
                    <a:pt x="15" y="1601"/>
                    <a:pt x="19" y="1604"/>
                    <a:pt x="19" y="1609"/>
                  </a:cubicBezTo>
                  <a:lnTo>
                    <a:pt x="19" y="1609"/>
                  </a:lnTo>
                  <a:cubicBezTo>
                    <a:pt x="19" y="1614"/>
                    <a:pt x="15" y="1617"/>
                    <a:pt x="11" y="1617"/>
                  </a:cubicBezTo>
                  <a:cubicBezTo>
                    <a:pt x="6" y="1617"/>
                    <a:pt x="2" y="1614"/>
                    <a:pt x="2" y="1609"/>
                  </a:cubicBezTo>
                  <a:close/>
                  <a:moveTo>
                    <a:pt x="2" y="1576"/>
                  </a:moveTo>
                  <a:lnTo>
                    <a:pt x="2" y="1576"/>
                  </a:lnTo>
                  <a:cubicBezTo>
                    <a:pt x="2" y="1571"/>
                    <a:pt x="6" y="1567"/>
                    <a:pt x="11" y="1567"/>
                  </a:cubicBezTo>
                  <a:cubicBezTo>
                    <a:pt x="15" y="1567"/>
                    <a:pt x="19" y="1571"/>
                    <a:pt x="19" y="1576"/>
                  </a:cubicBezTo>
                  <a:lnTo>
                    <a:pt x="19" y="1576"/>
                  </a:lnTo>
                  <a:cubicBezTo>
                    <a:pt x="19" y="1580"/>
                    <a:pt x="15" y="1584"/>
                    <a:pt x="11" y="1584"/>
                  </a:cubicBezTo>
                  <a:cubicBezTo>
                    <a:pt x="6" y="1584"/>
                    <a:pt x="2" y="1580"/>
                    <a:pt x="2" y="1576"/>
                  </a:cubicBezTo>
                  <a:close/>
                  <a:moveTo>
                    <a:pt x="2" y="1542"/>
                  </a:moveTo>
                  <a:lnTo>
                    <a:pt x="2" y="1542"/>
                  </a:lnTo>
                  <a:cubicBezTo>
                    <a:pt x="2" y="1538"/>
                    <a:pt x="6" y="1534"/>
                    <a:pt x="11" y="1534"/>
                  </a:cubicBezTo>
                  <a:cubicBezTo>
                    <a:pt x="15" y="1534"/>
                    <a:pt x="19" y="1538"/>
                    <a:pt x="19" y="1542"/>
                  </a:cubicBezTo>
                  <a:lnTo>
                    <a:pt x="19" y="1542"/>
                  </a:lnTo>
                  <a:cubicBezTo>
                    <a:pt x="19" y="1547"/>
                    <a:pt x="15" y="1551"/>
                    <a:pt x="11" y="1551"/>
                  </a:cubicBezTo>
                  <a:cubicBezTo>
                    <a:pt x="6" y="1551"/>
                    <a:pt x="2" y="1547"/>
                    <a:pt x="2" y="1542"/>
                  </a:cubicBezTo>
                  <a:close/>
                  <a:moveTo>
                    <a:pt x="2" y="1509"/>
                  </a:moveTo>
                  <a:lnTo>
                    <a:pt x="2" y="1509"/>
                  </a:lnTo>
                  <a:cubicBezTo>
                    <a:pt x="2" y="1504"/>
                    <a:pt x="6" y="1501"/>
                    <a:pt x="11" y="1501"/>
                  </a:cubicBezTo>
                  <a:cubicBezTo>
                    <a:pt x="15" y="1501"/>
                    <a:pt x="19" y="1504"/>
                    <a:pt x="19" y="1509"/>
                  </a:cubicBezTo>
                  <a:lnTo>
                    <a:pt x="19" y="1509"/>
                  </a:lnTo>
                  <a:cubicBezTo>
                    <a:pt x="19" y="1514"/>
                    <a:pt x="15" y="1517"/>
                    <a:pt x="11" y="1517"/>
                  </a:cubicBezTo>
                  <a:cubicBezTo>
                    <a:pt x="6" y="1517"/>
                    <a:pt x="2" y="1514"/>
                    <a:pt x="2" y="1509"/>
                  </a:cubicBezTo>
                  <a:close/>
                  <a:moveTo>
                    <a:pt x="2" y="1476"/>
                  </a:moveTo>
                  <a:lnTo>
                    <a:pt x="2" y="1476"/>
                  </a:lnTo>
                  <a:cubicBezTo>
                    <a:pt x="2" y="1471"/>
                    <a:pt x="6" y="1467"/>
                    <a:pt x="11" y="1467"/>
                  </a:cubicBezTo>
                  <a:cubicBezTo>
                    <a:pt x="15" y="1467"/>
                    <a:pt x="19" y="1471"/>
                    <a:pt x="19" y="1476"/>
                  </a:cubicBezTo>
                  <a:lnTo>
                    <a:pt x="19" y="1476"/>
                  </a:lnTo>
                  <a:cubicBezTo>
                    <a:pt x="19" y="1480"/>
                    <a:pt x="15" y="1484"/>
                    <a:pt x="11" y="1484"/>
                  </a:cubicBezTo>
                  <a:cubicBezTo>
                    <a:pt x="6" y="1484"/>
                    <a:pt x="2" y="1480"/>
                    <a:pt x="2" y="1476"/>
                  </a:cubicBezTo>
                  <a:close/>
                  <a:moveTo>
                    <a:pt x="2" y="1442"/>
                  </a:moveTo>
                  <a:lnTo>
                    <a:pt x="2" y="1442"/>
                  </a:lnTo>
                  <a:cubicBezTo>
                    <a:pt x="2" y="1438"/>
                    <a:pt x="6" y="1434"/>
                    <a:pt x="11" y="1434"/>
                  </a:cubicBezTo>
                  <a:cubicBezTo>
                    <a:pt x="15" y="1434"/>
                    <a:pt x="19" y="1438"/>
                    <a:pt x="19" y="1442"/>
                  </a:cubicBezTo>
                  <a:lnTo>
                    <a:pt x="19" y="1442"/>
                  </a:lnTo>
                  <a:cubicBezTo>
                    <a:pt x="19" y="1447"/>
                    <a:pt x="15" y="1451"/>
                    <a:pt x="11" y="1451"/>
                  </a:cubicBezTo>
                  <a:cubicBezTo>
                    <a:pt x="6" y="1451"/>
                    <a:pt x="2" y="1447"/>
                    <a:pt x="2" y="1442"/>
                  </a:cubicBezTo>
                  <a:close/>
                  <a:moveTo>
                    <a:pt x="2" y="1409"/>
                  </a:moveTo>
                  <a:lnTo>
                    <a:pt x="2" y="1409"/>
                  </a:lnTo>
                  <a:cubicBezTo>
                    <a:pt x="2" y="1404"/>
                    <a:pt x="6" y="1401"/>
                    <a:pt x="11" y="1401"/>
                  </a:cubicBezTo>
                  <a:cubicBezTo>
                    <a:pt x="15" y="1401"/>
                    <a:pt x="19" y="1404"/>
                    <a:pt x="19" y="1409"/>
                  </a:cubicBezTo>
                  <a:lnTo>
                    <a:pt x="19" y="1409"/>
                  </a:lnTo>
                  <a:cubicBezTo>
                    <a:pt x="19" y="1414"/>
                    <a:pt x="15" y="1417"/>
                    <a:pt x="11" y="1417"/>
                  </a:cubicBezTo>
                  <a:cubicBezTo>
                    <a:pt x="6" y="1417"/>
                    <a:pt x="2" y="1414"/>
                    <a:pt x="2" y="1409"/>
                  </a:cubicBezTo>
                  <a:close/>
                  <a:moveTo>
                    <a:pt x="2" y="1376"/>
                  </a:moveTo>
                  <a:lnTo>
                    <a:pt x="2" y="1376"/>
                  </a:lnTo>
                  <a:cubicBezTo>
                    <a:pt x="2" y="1371"/>
                    <a:pt x="6" y="1367"/>
                    <a:pt x="11" y="1367"/>
                  </a:cubicBezTo>
                  <a:cubicBezTo>
                    <a:pt x="15" y="1367"/>
                    <a:pt x="19" y="1371"/>
                    <a:pt x="19" y="1376"/>
                  </a:cubicBezTo>
                  <a:lnTo>
                    <a:pt x="19" y="1376"/>
                  </a:lnTo>
                  <a:cubicBezTo>
                    <a:pt x="19" y="1380"/>
                    <a:pt x="15" y="1384"/>
                    <a:pt x="11" y="1384"/>
                  </a:cubicBezTo>
                  <a:cubicBezTo>
                    <a:pt x="6" y="1384"/>
                    <a:pt x="2" y="1380"/>
                    <a:pt x="2" y="1376"/>
                  </a:cubicBezTo>
                  <a:close/>
                  <a:moveTo>
                    <a:pt x="3" y="1342"/>
                  </a:moveTo>
                  <a:lnTo>
                    <a:pt x="3" y="1342"/>
                  </a:lnTo>
                  <a:cubicBezTo>
                    <a:pt x="3" y="1338"/>
                    <a:pt x="6" y="1334"/>
                    <a:pt x="11" y="1334"/>
                  </a:cubicBezTo>
                  <a:cubicBezTo>
                    <a:pt x="15" y="1334"/>
                    <a:pt x="19" y="1338"/>
                    <a:pt x="19" y="1342"/>
                  </a:cubicBezTo>
                  <a:lnTo>
                    <a:pt x="19" y="1342"/>
                  </a:lnTo>
                  <a:cubicBezTo>
                    <a:pt x="19" y="1347"/>
                    <a:pt x="15" y="1351"/>
                    <a:pt x="11" y="1351"/>
                  </a:cubicBezTo>
                  <a:cubicBezTo>
                    <a:pt x="6" y="1351"/>
                    <a:pt x="3" y="1347"/>
                    <a:pt x="3" y="1342"/>
                  </a:cubicBezTo>
                  <a:close/>
                  <a:moveTo>
                    <a:pt x="3" y="1309"/>
                  </a:moveTo>
                  <a:lnTo>
                    <a:pt x="3" y="1309"/>
                  </a:lnTo>
                  <a:cubicBezTo>
                    <a:pt x="3" y="1304"/>
                    <a:pt x="6" y="1301"/>
                    <a:pt x="11" y="1301"/>
                  </a:cubicBezTo>
                  <a:cubicBezTo>
                    <a:pt x="15" y="1301"/>
                    <a:pt x="19" y="1304"/>
                    <a:pt x="19" y="1309"/>
                  </a:cubicBezTo>
                  <a:lnTo>
                    <a:pt x="19" y="1309"/>
                  </a:lnTo>
                  <a:cubicBezTo>
                    <a:pt x="19" y="1314"/>
                    <a:pt x="15" y="1317"/>
                    <a:pt x="11" y="1317"/>
                  </a:cubicBezTo>
                  <a:cubicBezTo>
                    <a:pt x="6" y="1317"/>
                    <a:pt x="3" y="1314"/>
                    <a:pt x="3" y="1309"/>
                  </a:cubicBezTo>
                  <a:close/>
                  <a:moveTo>
                    <a:pt x="3" y="1276"/>
                  </a:moveTo>
                  <a:lnTo>
                    <a:pt x="3" y="1276"/>
                  </a:lnTo>
                  <a:cubicBezTo>
                    <a:pt x="3" y="1271"/>
                    <a:pt x="6" y="1267"/>
                    <a:pt x="11" y="1267"/>
                  </a:cubicBezTo>
                  <a:cubicBezTo>
                    <a:pt x="15" y="1267"/>
                    <a:pt x="19" y="1271"/>
                    <a:pt x="19" y="1276"/>
                  </a:cubicBezTo>
                  <a:lnTo>
                    <a:pt x="19" y="1276"/>
                  </a:lnTo>
                  <a:cubicBezTo>
                    <a:pt x="19" y="1280"/>
                    <a:pt x="15" y="1284"/>
                    <a:pt x="11" y="1284"/>
                  </a:cubicBezTo>
                  <a:cubicBezTo>
                    <a:pt x="6" y="1284"/>
                    <a:pt x="3" y="1280"/>
                    <a:pt x="3" y="1276"/>
                  </a:cubicBezTo>
                  <a:close/>
                  <a:moveTo>
                    <a:pt x="3" y="1242"/>
                  </a:moveTo>
                  <a:lnTo>
                    <a:pt x="3" y="1242"/>
                  </a:lnTo>
                  <a:cubicBezTo>
                    <a:pt x="3" y="1238"/>
                    <a:pt x="6" y="1234"/>
                    <a:pt x="11" y="1234"/>
                  </a:cubicBezTo>
                  <a:cubicBezTo>
                    <a:pt x="16" y="1234"/>
                    <a:pt x="19" y="1238"/>
                    <a:pt x="19" y="1242"/>
                  </a:cubicBezTo>
                  <a:lnTo>
                    <a:pt x="19" y="1242"/>
                  </a:lnTo>
                  <a:cubicBezTo>
                    <a:pt x="19" y="1247"/>
                    <a:pt x="16" y="1251"/>
                    <a:pt x="11" y="1251"/>
                  </a:cubicBezTo>
                  <a:cubicBezTo>
                    <a:pt x="6" y="1251"/>
                    <a:pt x="3" y="1247"/>
                    <a:pt x="3" y="1242"/>
                  </a:cubicBezTo>
                  <a:close/>
                  <a:moveTo>
                    <a:pt x="3" y="1209"/>
                  </a:moveTo>
                  <a:lnTo>
                    <a:pt x="3" y="1209"/>
                  </a:lnTo>
                  <a:cubicBezTo>
                    <a:pt x="3" y="1204"/>
                    <a:pt x="6" y="1201"/>
                    <a:pt x="11" y="1201"/>
                  </a:cubicBezTo>
                  <a:cubicBezTo>
                    <a:pt x="16" y="1201"/>
                    <a:pt x="19" y="1204"/>
                    <a:pt x="19" y="1209"/>
                  </a:cubicBezTo>
                  <a:lnTo>
                    <a:pt x="19" y="1209"/>
                  </a:lnTo>
                  <a:cubicBezTo>
                    <a:pt x="19" y="1214"/>
                    <a:pt x="16" y="1217"/>
                    <a:pt x="11" y="1217"/>
                  </a:cubicBezTo>
                  <a:cubicBezTo>
                    <a:pt x="6" y="1217"/>
                    <a:pt x="3" y="1214"/>
                    <a:pt x="3" y="1209"/>
                  </a:cubicBezTo>
                  <a:close/>
                  <a:moveTo>
                    <a:pt x="3" y="1176"/>
                  </a:moveTo>
                  <a:lnTo>
                    <a:pt x="3" y="1176"/>
                  </a:lnTo>
                  <a:cubicBezTo>
                    <a:pt x="3" y="1171"/>
                    <a:pt x="6" y="1167"/>
                    <a:pt x="11" y="1167"/>
                  </a:cubicBezTo>
                  <a:cubicBezTo>
                    <a:pt x="16" y="1167"/>
                    <a:pt x="19" y="1171"/>
                    <a:pt x="19" y="1176"/>
                  </a:cubicBezTo>
                  <a:lnTo>
                    <a:pt x="19" y="1176"/>
                  </a:lnTo>
                  <a:cubicBezTo>
                    <a:pt x="19" y="1180"/>
                    <a:pt x="16" y="1184"/>
                    <a:pt x="11" y="1184"/>
                  </a:cubicBezTo>
                  <a:cubicBezTo>
                    <a:pt x="6" y="1184"/>
                    <a:pt x="3" y="1180"/>
                    <a:pt x="3" y="1176"/>
                  </a:cubicBezTo>
                  <a:close/>
                  <a:moveTo>
                    <a:pt x="3" y="1142"/>
                  </a:moveTo>
                  <a:lnTo>
                    <a:pt x="3" y="1142"/>
                  </a:lnTo>
                  <a:cubicBezTo>
                    <a:pt x="3" y="1138"/>
                    <a:pt x="6" y="1134"/>
                    <a:pt x="11" y="1134"/>
                  </a:cubicBezTo>
                  <a:cubicBezTo>
                    <a:pt x="16" y="1134"/>
                    <a:pt x="19" y="1138"/>
                    <a:pt x="19" y="1142"/>
                  </a:cubicBezTo>
                  <a:lnTo>
                    <a:pt x="19" y="1142"/>
                  </a:lnTo>
                  <a:cubicBezTo>
                    <a:pt x="19" y="1147"/>
                    <a:pt x="16" y="1151"/>
                    <a:pt x="11" y="1151"/>
                  </a:cubicBezTo>
                  <a:cubicBezTo>
                    <a:pt x="6" y="1151"/>
                    <a:pt x="3" y="1147"/>
                    <a:pt x="3" y="1142"/>
                  </a:cubicBezTo>
                  <a:close/>
                  <a:moveTo>
                    <a:pt x="3" y="1109"/>
                  </a:moveTo>
                  <a:lnTo>
                    <a:pt x="3" y="1109"/>
                  </a:lnTo>
                  <a:cubicBezTo>
                    <a:pt x="3" y="1104"/>
                    <a:pt x="6" y="1101"/>
                    <a:pt x="11" y="1101"/>
                  </a:cubicBezTo>
                  <a:cubicBezTo>
                    <a:pt x="16" y="1101"/>
                    <a:pt x="19" y="1104"/>
                    <a:pt x="19" y="1109"/>
                  </a:cubicBezTo>
                  <a:lnTo>
                    <a:pt x="19" y="1109"/>
                  </a:lnTo>
                  <a:cubicBezTo>
                    <a:pt x="19" y="1113"/>
                    <a:pt x="16" y="1117"/>
                    <a:pt x="11" y="1117"/>
                  </a:cubicBezTo>
                  <a:cubicBezTo>
                    <a:pt x="6" y="1117"/>
                    <a:pt x="3" y="1113"/>
                    <a:pt x="3" y="1109"/>
                  </a:cubicBezTo>
                  <a:close/>
                  <a:moveTo>
                    <a:pt x="3" y="1076"/>
                  </a:moveTo>
                  <a:lnTo>
                    <a:pt x="3" y="1076"/>
                  </a:lnTo>
                  <a:cubicBezTo>
                    <a:pt x="3" y="1071"/>
                    <a:pt x="6" y="1067"/>
                    <a:pt x="11" y="1067"/>
                  </a:cubicBezTo>
                  <a:cubicBezTo>
                    <a:pt x="16" y="1067"/>
                    <a:pt x="19" y="1071"/>
                    <a:pt x="19" y="1076"/>
                  </a:cubicBezTo>
                  <a:lnTo>
                    <a:pt x="19" y="1076"/>
                  </a:lnTo>
                  <a:cubicBezTo>
                    <a:pt x="19" y="1080"/>
                    <a:pt x="16" y="1084"/>
                    <a:pt x="11" y="1084"/>
                  </a:cubicBezTo>
                  <a:cubicBezTo>
                    <a:pt x="6" y="1084"/>
                    <a:pt x="3" y="1080"/>
                    <a:pt x="3" y="1076"/>
                  </a:cubicBezTo>
                  <a:close/>
                  <a:moveTo>
                    <a:pt x="3" y="1042"/>
                  </a:moveTo>
                  <a:lnTo>
                    <a:pt x="3" y="1042"/>
                  </a:lnTo>
                  <a:cubicBezTo>
                    <a:pt x="3" y="1038"/>
                    <a:pt x="6" y="1034"/>
                    <a:pt x="11" y="1034"/>
                  </a:cubicBezTo>
                  <a:cubicBezTo>
                    <a:pt x="16" y="1034"/>
                    <a:pt x="19" y="1038"/>
                    <a:pt x="19" y="1042"/>
                  </a:cubicBezTo>
                  <a:lnTo>
                    <a:pt x="19" y="1042"/>
                  </a:lnTo>
                  <a:cubicBezTo>
                    <a:pt x="19" y="1047"/>
                    <a:pt x="16" y="1051"/>
                    <a:pt x="11" y="1051"/>
                  </a:cubicBezTo>
                  <a:cubicBezTo>
                    <a:pt x="6" y="1051"/>
                    <a:pt x="3" y="1047"/>
                    <a:pt x="3" y="1042"/>
                  </a:cubicBezTo>
                  <a:close/>
                  <a:moveTo>
                    <a:pt x="3" y="1009"/>
                  </a:moveTo>
                  <a:lnTo>
                    <a:pt x="3" y="1009"/>
                  </a:lnTo>
                  <a:cubicBezTo>
                    <a:pt x="3" y="1004"/>
                    <a:pt x="6" y="1000"/>
                    <a:pt x="11" y="1000"/>
                  </a:cubicBezTo>
                  <a:cubicBezTo>
                    <a:pt x="16" y="1000"/>
                    <a:pt x="19" y="1004"/>
                    <a:pt x="19" y="1009"/>
                  </a:cubicBezTo>
                  <a:lnTo>
                    <a:pt x="19" y="1009"/>
                  </a:lnTo>
                  <a:cubicBezTo>
                    <a:pt x="19" y="1013"/>
                    <a:pt x="16" y="1017"/>
                    <a:pt x="11" y="1017"/>
                  </a:cubicBezTo>
                  <a:cubicBezTo>
                    <a:pt x="6" y="1017"/>
                    <a:pt x="3" y="1013"/>
                    <a:pt x="3" y="1009"/>
                  </a:cubicBezTo>
                  <a:close/>
                  <a:moveTo>
                    <a:pt x="3" y="975"/>
                  </a:moveTo>
                  <a:lnTo>
                    <a:pt x="3" y="975"/>
                  </a:lnTo>
                  <a:cubicBezTo>
                    <a:pt x="3" y="971"/>
                    <a:pt x="6" y="967"/>
                    <a:pt x="11" y="967"/>
                  </a:cubicBezTo>
                  <a:cubicBezTo>
                    <a:pt x="16" y="967"/>
                    <a:pt x="19" y="971"/>
                    <a:pt x="19" y="975"/>
                  </a:cubicBezTo>
                  <a:lnTo>
                    <a:pt x="19" y="975"/>
                  </a:lnTo>
                  <a:cubicBezTo>
                    <a:pt x="19" y="980"/>
                    <a:pt x="16" y="984"/>
                    <a:pt x="11" y="984"/>
                  </a:cubicBezTo>
                  <a:cubicBezTo>
                    <a:pt x="6" y="984"/>
                    <a:pt x="3" y="980"/>
                    <a:pt x="3" y="975"/>
                  </a:cubicBezTo>
                  <a:close/>
                  <a:moveTo>
                    <a:pt x="3" y="942"/>
                  </a:moveTo>
                  <a:lnTo>
                    <a:pt x="3" y="942"/>
                  </a:lnTo>
                  <a:cubicBezTo>
                    <a:pt x="3" y="937"/>
                    <a:pt x="7" y="934"/>
                    <a:pt x="11" y="934"/>
                  </a:cubicBezTo>
                  <a:cubicBezTo>
                    <a:pt x="16" y="934"/>
                    <a:pt x="19" y="937"/>
                    <a:pt x="19" y="942"/>
                  </a:cubicBezTo>
                  <a:lnTo>
                    <a:pt x="19" y="942"/>
                  </a:lnTo>
                  <a:cubicBezTo>
                    <a:pt x="19" y="947"/>
                    <a:pt x="16" y="950"/>
                    <a:pt x="11" y="950"/>
                  </a:cubicBezTo>
                  <a:cubicBezTo>
                    <a:pt x="7" y="950"/>
                    <a:pt x="3" y="947"/>
                    <a:pt x="3" y="942"/>
                  </a:cubicBezTo>
                  <a:close/>
                  <a:moveTo>
                    <a:pt x="3" y="909"/>
                  </a:moveTo>
                  <a:lnTo>
                    <a:pt x="3" y="909"/>
                  </a:lnTo>
                  <a:cubicBezTo>
                    <a:pt x="3" y="904"/>
                    <a:pt x="7" y="900"/>
                    <a:pt x="11" y="900"/>
                  </a:cubicBezTo>
                  <a:cubicBezTo>
                    <a:pt x="16" y="900"/>
                    <a:pt x="19" y="904"/>
                    <a:pt x="19" y="909"/>
                  </a:cubicBezTo>
                  <a:lnTo>
                    <a:pt x="19" y="909"/>
                  </a:lnTo>
                  <a:cubicBezTo>
                    <a:pt x="19" y="913"/>
                    <a:pt x="16" y="917"/>
                    <a:pt x="11" y="917"/>
                  </a:cubicBezTo>
                  <a:cubicBezTo>
                    <a:pt x="7" y="917"/>
                    <a:pt x="3" y="913"/>
                    <a:pt x="3" y="909"/>
                  </a:cubicBezTo>
                  <a:close/>
                  <a:moveTo>
                    <a:pt x="3" y="875"/>
                  </a:moveTo>
                  <a:lnTo>
                    <a:pt x="3" y="875"/>
                  </a:lnTo>
                  <a:cubicBezTo>
                    <a:pt x="3" y="871"/>
                    <a:pt x="7" y="867"/>
                    <a:pt x="11" y="867"/>
                  </a:cubicBezTo>
                  <a:cubicBezTo>
                    <a:pt x="16" y="867"/>
                    <a:pt x="20" y="871"/>
                    <a:pt x="20" y="875"/>
                  </a:cubicBezTo>
                  <a:lnTo>
                    <a:pt x="20" y="875"/>
                  </a:lnTo>
                  <a:cubicBezTo>
                    <a:pt x="20" y="880"/>
                    <a:pt x="16" y="884"/>
                    <a:pt x="11" y="884"/>
                  </a:cubicBezTo>
                  <a:cubicBezTo>
                    <a:pt x="7" y="884"/>
                    <a:pt x="3" y="880"/>
                    <a:pt x="3" y="875"/>
                  </a:cubicBezTo>
                  <a:close/>
                  <a:moveTo>
                    <a:pt x="3" y="842"/>
                  </a:moveTo>
                  <a:lnTo>
                    <a:pt x="3" y="842"/>
                  </a:lnTo>
                  <a:cubicBezTo>
                    <a:pt x="3" y="837"/>
                    <a:pt x="7" y="834"/>
                    <a:pt x="11" y="834"/>
                  </a:cubicBezTo>
                  <a:cubicBezTo>
                    <a:pt x="16" y="834"/>
                    <a:pt x="20" y="837"/>
                    <a:pt x="20" y="842"/>
                  </a:cubicBezTo>
                  <a:lnTo>
                    <a:pt x="20" y="842"/>
                  </a:lnTo>
                  <a:cubicBezTo>
                    <a:pt x="20" y="847"/>
                    <a:pt x="16" y="850"/>
                    <a:pt x="11" y="850"/>
                  </a:cubicBezTo>
                  <a:cubicBezTo>
                    <a:pt x="7" y="850"/>
                    <a:pt x="3" y="847"/>
                    <a:pt x="3" y="842"/>
                  </a:cubicBezTo>
                  <a:close/>
                  <a:moveTo>
                    <a:pt x="3" y="809"/>
                  </a:moveTo>
                  <a:lnTo>
                    <a:pt x="3" y="809"/>
                  </a:lnTo>
                  <a:cubicBezTo>
                    <a:pt x="3" y="804"/>
                    <a:pt x="7" y="800"/>
                    <a:pt x="11" y="800"/>
                  </a:cubicBezTo>
                  <a:cubicBezTo>
                    <a:pt x="16" y="800"/>
                    <a:pt x="20" y="804"/>
                    <a:pt x="20" y="809"/>
                  </a:cubicBezTo>
                  <a:lnTo>
                    <a:pt x="20" y="809"/>
                  </a:lnTo>
                  <a:cubicBezTo>
                    <a:pt x="20" y="813"/>
                    <a:pt x="16" y="817"/>
                    <a:pt x="11" y="817"/>
                  </a:cubicBezTo>
                  <a:cubicBezTo>
                    <a:pt x="7" y="817"/>
                    <a:pt x="3" y="813"/>
                    <a:pt x="3" y="809"/>
                  </a:cubicBezTo>
                  <a:close/>
                  <a:moveTo>
                    <a:pt x="3" y="775"/>
                  </a:moveTo>
                  <a:lnTo>
                    <a:pt x="3" y="775"/>
                  </a:lnTo>
                  <a:cubicBezTo>
                    <a:pt x="3" y="771"/>
                    <a:pt x="7" y="767"/>
                    <a:pt x="11" y="767"/>
                  </a:cubicBezTo>
                  <a:cubicBezTo>
                    <a:pt x="16" y="767"/>
                    <a:pt x="20" y="771"/>
                    <a:pt x="20" y="775"/>
                  </a:cubicBezTo>
                  <a:lnTo>
                    <a:pt x="20" y="775"/>
                  </a:lnTo>
                  <a:cubicBezTo>
                    <a:pt x="20" y="780"/>
                    <a:pt x="16" y="784"/>
                    <a:pt x="11" y="784"/>
                  </a:cubicBezTo>
                  <a:cubicBezTo>
                    <a:pt x="7" y="784"/>
                    <a:pt x="3" y="780"/>
                    <a:pt x="3" y="775"/>
                  </a:cubicBezTo>
                  <a:close/>
                  <a:moveTo>
                    <a:pt x="3" y="742"/>
                  </a:moveTo>
                  <a:lnTo>
                    <a:pt x="3" y="742"/>
                  </a:lnTo>
                  <a:cubicBezTo>
                    <a:pt x="3" y="737"/>
                    <a:pt x="7" y="734"/>
                    <a:pt x="11" y="734"/>
                  </a:cubicBezTo>
                  <a:cubicBezTo>
                    <a:pt x="16" y="734"/>
                    <a:pt x="20" y="737"/>
                    <a:pt x="20" y="742"/>
                  </a:cubicBezTo>
                  <a:lnTo>
                    <a:pt x="20" y="742"/>
                  </a:lnTo>
                  <a:cubicBezTo>
                    <a:pt x="20" y="747"/>
                    <a:pt x="16" y="750"/>
                    <a:pt x="11" y="750"/>
                  </a:cubicBezTo>
                  <a:cubicBezTo>
                    <a:pt x="7" y="750"/>
                    <a:pt x="3" y="747"/>
                    <a:pt x="3" y="742"/>
                  </a:cubicBezTo>
                  <a:close/>
                  <a:moveTo>
                    <a:pt x="3" y="709"/>
                  </a:moveTo>
                  <a:lnTo>
                    <a:pt x="3" y="709"/>
                  </a:lnTo>
                  <a:cubicBezTo>
                    <a:pt x="3" y="704"/>
                    <a:pt x="7" y="700"/>
                    <a:pt x="11" y="700"/>
                  </a:cubicBezTo>
                  <a:cubicBezTo>
                    <a:pt x="16" y="700"/>
                    <a:pt x="20" y="704"/>
                    <a:pt x="20" y="709"/>
                  </a:cubicBezTo>
                  <a:lnTo>
                    <a:pt x="20" y="709"/>
                  </a:lnTo>
                  <a:cubicBezTo>
                    <a:pt x="20" y="713"/>
                    <a:pt x="16" y="717"/>
                    <a:pt x="11" y="717"/>
                  </a:cubicBezTo>
                  <a:cubicBezTo>
                    <a:pt x="7" y="717"/>
                    <a:pt x="3" y="713"/>
                    <a:pt x="3" y="709"/>
                  </a:cubicBezTo>
                  <a:close/>
                  <a:moveTo>
                    <a:pt x="3" y="675"/>
                  </a:moveTo>
                  <a:lnTo>
                    <a:pt x="3" y="675"/>
                  </a:lnTo>
                  <a:cubicBezTo>
                    <a:pt x="3" y="671"/>
                    <a:pt x="7" y="667"/>
                    <a:pt x="11" y="667"/>
                  </a:cubicBezTo>
                  <a:cubicBezTo>
                    <a:pt x="16" y="667"/>
                    <a:pt x="20" y="671"/>
                    <a:pt x="20" y="675"/>
                  </a:cubicBezTo>
                  <a:lnTo>
                    <a:pt x="20" y="675"/>
                  </a:lnTo>
                  <a:cubicBezTo>
                    <a:pt x="20" y="680"/>
                    <a:pt x="16" y="684"/>
                    <a:pt x="11" y="684"/>
                  </a:cubicBezTo>
                  <a:cubicBezTo>
                    <a:pt x="7" y="684"/>
                    <a:pt x="3" y="680"/>
                    <a:pt x="3" y="675"/>
                  </a:cubicBezTo>
                  <a:close/>
                  <a:moveTo>
                    <a:pt x="3" y="642"/>
                  </a:moveTo>
                  <a:lnTo>
                    <a:pt x="3" y="642"/>
                  </a:lnTo>
                  <a:cubicBezTo>
                    <a:pt x="3" y="637"/>
                    <a:pt x="7" y="634"/>
                    <a:pt x="11" y="634"/>
                  </a:cubicBezTo>
                  <a:cubicBezTo>
                    <a:pt x="16" y="634"/>
                    <a:pt x="20" y="637"/>
                    <a:pt x="20" y="642"/>
                  </a:cubicBezTo>
                  <a:lnTo>
                    <a:pt x="20" y="642"/>
                  </a:lnTo>
                  <a:cubicBezTo>
                    <a:pt x="20" y="647"/>
                    <a:pt x="16" y="650"/>
                    <a:pt x="11" y="650"/>
                  </a:cubicBezTo>
                  <a:cubicBezTo>
                    <a:pt x="7" y="650"/>
                    <a:pt x="3" y="647"/>
                    <a:pt x="3" y="642"/>
                  </a:cubicBezTo>
                  <a:close/>
                  <a:moveTo>
                    <a:pt x="3" y="609"/>
                  </a:moveTo>
                  <a:lnTo>
                    <a:pt x="3" y="609"/>
                  </a:lnTo>
                  <a:cubicBezTo>
                    <a:pt x="3" y="604"/>
                    <a:pt x="7" y="600"/>
                    <a:pt x="11" y="600"/>
                  </a:cubicBezTo>
                  <a:cubicBezTo>
                    <a:pt x="16" y="600"/>
                    <a:pt x="20" y="604"/>
                    <a:pt x="20" y="609"/>
                  </a:cubicBezTo>
                  <a:lnTo>
                    <a:pt x="20" y="609"/>
                  </a:lnTo>
                  <a:cubicBezTo>
                    <a:pt x="20" y="613"/>
                    <a:pt x="16" y="617"/>
                    <a:pt x="11" y="617"/>
                  </a:cubicBezTo>
                  <a:cubicBezTo>
                    <a:pt x="7" y="617"/>
                    <a:pt x="3" y="613"/>
                    <a:pt x="3" y="609"/>
                  </a:cubicBezTo>
                  <a:close/>
                  <a:moveTo>
                    <a:pt x="3" y="575"/>
                  </a:moveTo>
                  <a:lnTo>
                    <a:pt x="3" y="575"/>
                  </a:lnTo>
                  <a:cubicBezTo>
                    <a:pt x="3" y="571"/>
                    <a:pt x="7" y="567"/>
                    <a:pt x="11" y="567"/>
                  </a:cubicBezTo>
                  <a:cubicBezTo>
                    <a:pt x="16" y="567"/>
                    <a:pt x="20" y="571"/>
                    <a:pt x="20" y="575"/>
                  </a:cubicBezTo>
                  <a:lnTo>
                    <a:pt x="20" y="575"/>
                  </a:lnTo>
                  <a:cubicBezTo>
                    <a:pt x="20" y="580"/>
                    <a:pt x="16" y="584"/>
                    <a:pt x="11" y="584"/>
                  </a:cubicBezTo>
                  <a:cubicBezTo>
                    <a:pt x="7" y="584"/>
                    <a:pt x="3" y="580"/>
                    <a:pt x="3" y="575"/>
                  </a:cubicBezTo>
                  <a:close/>
                  <a:moveTo>
                    <a:pt x="3" y="542"/>
                  </a:moveTo>
                  <a:lnTo>
                    <a:pt x="3" y="542"/>
                  </a:lnTo>
                  <a:cubicBezTo>
                    <a:pt x="3" y="537"/>
                    <a:pt x="7" y="534"/>
                    <a:pt x="11" y="534"/>
                  </a:cubicBezTo>
                  <a:cubicBezTo>
                    <a:pt x="16" y="534"/>
                    <a:pt x="20" y="537"/>
                    <a:pt x="20" y="542"/>
                  </a:cubicBezTo>
                  <a:lnTo>
                    <a:pt x="20" y="542"/>
                  </a:lnTo>
                  <a:cubicBezTo>
                    <a:pt x="20" y="547"/>
                    <a:pt x="16" y="550"/>
                    <a:pt x="11" y="550"/>
                  </a:cubicBezTo>
                  <a:cubicBezTo>
                    <a:pt x="7" y="550"/>
                    <a:pt x="3" y="547"/>
                    <a:pt x="3" y="542"/>
                  </a:cubicBezTo>
                  <a:close/>
                  <a:moveTo>
                    <a:pt x="3" y="509"/>
                  </a:moveTo>
                  <a:lnTo>
                    <a:pt x="3" y="509"/>
                  </a:lnTo>
                  <a:cubicBezTo>
                    <a:pt x="3" y="504"/>
                    <a:pt x="7" y="500"/>
                    <a:pt x="11" y="500"/>
                  </a:cubicBezTo>
                  <a:cubicBezTo>
                    <a:pt x="16" y="500"/>
                    <a:pt x="20" y="504"/>
                    <a:pt x="20" y="509"/>
                  </a:cubicBezTo>
                  <a:lnTo>
                    <a:pt x="20" y="509"/>
                  </a:lnTo>
                  <a:cubicBezTo>
                    <a:pt x="20" y="513"/>
                    <a:pt x="16" y="517"/>
                    <a:pt x="11" y="517"/>
                  </a:cubicBezTo>
                  <a:cubicBezTo>
                    <a:pt x="7" y="517"/>
                    <a:pt x="3" y="513"/>
                    <a:pt x="3" y="509"/>
                  </a:cubicBezTo>
                  <a:close/>
                  <a:moveTo>
                    <a:pt x="3" y="475"/>
                  </a:moveTo>
                  <a:lnTo>
                    <a:pt x="3" y="475"/>
                  </a:lnTo>
                  <a:cubicBezTo>
                    <a:pt x="3" y="471"/>
                    <a:pt x="7" y="467"/>
                    <a:pt x="11" y="467"/>
                  </a:cubicBezTo>
                  <a:cubicBezTo>
                    <a:pt x="16" y="467"/>
                    <a:pt x="20" y="471"/>
                    <a:pt x="20" y="475"/>
                  </a:cubicBezTo>
                  <a:lnTo>
                    <a:pt x="20" y="475"/>
                  </a:lnTo>
                  <a:cubicBezTo>
                    <a:pt x="20" y="480"/>
                    <a:pt x="16" y="484"/>
                    <a:pt x="11" y="484"/>
                  </a:cubicBezTo>
                  <a:cubicBezTo>
                    <a:pt x="7" y="484"/>
                    <a:pt x="3" y="480"/>
                    <a:pt x="3" y="475"/>
                  </a:cubicBezTo>
                  <a:close/>
                  <a:moveTo>
                    <a:pt x="3" y="442"/>
                  </a:moveTo>
                  <a:lnTo>
                    <a:pt x="3" y="442"/>
                  </a:lnTo>
                  <a:cubicBezTo>
                    <a:pt x="3" y="437"/>
                    <a:pt x="7" y="434"/>
                    <a:pt x="11" y="434"/>
                  </a:cubicBezTo>
                  <a:cubicBezTo>
                    <a:pt x="16" y="434"/>
                    <a:pt x="20" y="437"/>
                    <a:pt x="20" y="442"/>
                  </a:cubicBezTo>
                  <a:lnTo>
                    <a:pt x="20" y="442"/>
                  </a:lnTo>
                  <a:cubicBezTo>
                    <a:pt x="20" y="446"/>
                    <a:pt x="16" y="450"/>
                    <a:pt x="11" y="450"/>
                  </a:cubicBezTo>
                  <a:cubicBezTo>
                    <a:pt x="7" y="450"/>
                    <a:pt x="3" y="446"/>
                    <a:pt x="3" y="442"/>
                  </a:cubicBezTo>
                  <a:close/>
                  <a:moveTo>
                    <a:pt x="3" y="409"/>
                  </a:moveTo>
                  <a:lnTo>
                    <a:pt x="3" y="409"/>
                  </a:lnTo>
                  <a:cubicBezTo>
                    <a:pt x="3" y="404"/>
                    <a:pt x="7" y="400"/>
                    <a:pt x="11" y="400"/>
                  </a:cubicBezTo>
                  <a:cubicBezTo>
                    <a:pt x="16" y="400"/>
                    <a:pt x="20" y="404"/>
                    <a:pt x="20" y="409"/>
                  </a:cubicBezTo>
                  <a:lnTo>
                    <a:pt x="20" y="409"/>
                  </a:lnTo>
                  <a:cubicBezTo>
                    <a:pt x="20" y="413"/>
                    <a:pt x="16" y="417"/>
                    <a:pt x="11" y="417"/>
                  </a:cubicBezTo>
                  <a:cubicBezTo>
                    <a:pt x="7" y="417"/>
                    <a:pt x="3" y="413"/>
                    <a:pt x="3" y="409"/>
                  </a:cubicBezTo>
                  <a:close/>
                  <a:moveTo>
                    <a:pt x="3" y="375"/>
                  </a:moveTo>
                  <a:lnTo>
                    <a:pt x="3" y="375"/>
                  </a:lnTo>
                  <a:cubicBezTo>
                    <a:pt x="3" y="371"/>
                    <a:pt x="7" y="367"/>
                    <a:pt x="12" y="367"/>
                  </a:cubicBezTo>
                  <a:cubicBezTo>
                    <a:pt x="16" y="367"/>
                    <a:pt x="20" y="371"/>
                    <a:pt x="20" y="375"/>
                  </a:cubicBezTo>
                  <a:lnTo>
                    <a:pt x="20" y="375"/>
                  </a:lnTo>
                  <a:cubicBezTo>
                    <a:pt x="20" y="380"/>
                    <a:pt x="16" y="384"/>
                    <a:pt x="12" y="384"/>
                  </a:cubicBezTo>
                  <a:cubicBezTo>
                    <a:pt x="7" y="384"/>
                    <a:pt x="3" y="380"/>
                    <a:pt x="3" y="375"/>
                  </a:cubicBezTo>
                  <a:close/>
                  <a:moveTo>
                    <a:pt x="3" y="342"/>
                  </a:moveTo>
                  <a:lnTo>
                    <a:pt x="3" y="342"/>
                  </a:lnTo>
                  <a:cubicBezTo>
                    <a:pt x="3" y="337"/>
                    <a:pt x="7" y="333"/>
                    <a:pt x="12" y="333"/>
                  </a:cubicBezTo>
                  <a:cubicBezTo>
                    <a:pt x="16" y="333"/>
                    <a:pt x="20" y="337"/>
                    <a:pt x="20" y="342"/>
                  </a:cubicBezTo>
                  <a:lnTo>
                    <a:pt x="20" y="342"/>
                  </a:lnTo>
                  <a:cubicBezTo>
                    <a:pt x="20" y="346"/>
                    <a:pt x="16" y="350"/>
                    <a:pt x="12" y="350"/>
                  </a:cubicBezTo>
                  <a:cubicBezTo>
                    <a:pt x="7" y="350"/>
                    <a:pt x="3" y="346"/>
                    <a:pt x="3" y="342"/>
                  </a:cubicBezTo>
                  <a:close/>
                  <a:moveTo>
                    <a:pt x="3" y="308"/>
                  </a:moveTo>
                  <a:lnTo>
                    <a:pt x="3" y="308"/>
                  </a:lnTo>
                  <a:cubicBezTo>
                    <a:pt x="3" y="304"/>
                    <a:pt x="7" y="300"/>
                    <a:pt x="12" y="300"/>
                  </a:cubicBezTo>
                  <a:cubicBezTo>
                    <a:pt x="16" y="300"/>
                    <a:pt x="20" y="304"/>
                    <a:pt x="20" y="308"/>
                  </a:cubicBezTo>
                  <a:lnTo>
                    <a:pt x="20" y="308"/>
                  </a:lnTo>
                  <a:cubicBezTo>
                    <a:pt x="20" y="313"/>
                    <a:pt x="16" y="317"/>
                    <a:pt x="12" y="317"/>
                  </a:cubicBezTo>
                  <a:cubicBezTo>
                    <a:pt x="7" y="317"/>
                    <a:pt x="3" y="313"/>
                    <a:pt x="3" y="308"/>
                  </a:cubicBezTo>
                  <a:close/>
                  <a:moveTo>
                    <a:pt x="3" y="275"/>
                  </a:moveTo>
                  <a:lnTo>
                    <a:pt x="3" y="275"/>
                  </a:lnTo>
                  <a:cubicBezTo>
                    <a:pt x="3" y="271"/>
                    <a:pt x="7" y="267"/>
                    <a:pt x="12" y="267"/>
                  </a:cubicBezTo>
                  <a:cubicBezTo>
                    <a:pt x="16" y="267"/>
                    <a:pt x="20" y="271"/>
                    <a:pt x="20" y="275"/>
                  </a:cubicBezTo>
                  <a:lnTo>
                    <a:pt x="20" y="275"/>
                  </a:lnTo>
                  <a:cubicBezTo>
                    <a:pt x="20" y="280"/>
                    <a:pt x="16" y="283"/>
                    <a:pt x="12" y="283"/>
                  </a:cubicBezTo>
                  <a:cubicBezTo>
                    <a:pt x="7" y="283"/>
                    <a:pt x="3" y="280"/>
                    <a:pt x="3" y="275"/>
                  </a:cubicBezTo>
                  <a:close/>
                  <a:moveTo>
                    <a:pt x="3" y="242"/>
                  </a:moveTo>
                  <a:lnTo>
                    <a:pt x="3" y="242"/>
                  </a:lnTo>
                  <a:cubicBezTo>
                    <a:pt x="3" y="237"/>
                    <a:pt x="7" y="233"/>
                    <a:pt x="12" y="233"/>
                  </a:cubicBezTo>
                  <a:cubicBezTo>
                    <a:pt x="16" y="233"/>
                    <a:pt x="20" y="237"/>
                    <a:pt x="20" y="242"/>
                  </a:cubicBezTo>
                  <a:lnTo>
                    <a:pt x="20" y="242"/>
                  </a:lnTo>
                  <a:cubicBezTo>
                    <a:pt x="20" y="246"/>
                    <a:pt x="16" y="250"/>
                    <a:pt x="12" y="250"/>
                  </a:cubicBezTo>
                  <a:cubicBezTo>
                    <a:pt x="7" y="250"/>
                    <a:pt x="3" y="246"/>
                    <a:pt x="3" y="242"/>
                  </a:cubicBezTo>
                  <a:close/>
                  <a:moveTo>
                    <a:pt x="3" y="208"/>
                  </a:moveTo>
                  <a:lnTo>
                    <a:pt x="3" y="208"/>
                  </a:lnTo>
                  <a:cubicBezTo>
                    <a:pt x="3" y="204"/>
                    <a:pt x="7" y="200"/>
                    <a:pt x="12" y="200"/>
                  </a:cubicBezTo>
                  <a:cubicBezTo>
                    <a:pt x="16" y="200"/>
                    <a:pt x="20" y="204"/>
                    <a:pt x="20" y="208"/>
                  </a:cubicBezTo>
                  <a:lnTo>
                    <a:pt x="20" y="208"/>
                  </a:lnTo>
                  <a:cubicBezTo>
                    <a:pt x="20" y="213"/>
                    <a:pt x="16" y="217"/>
                    <a:pt x="12" y="217"/>
                  </a:cubicBezTo>
                  <a:cubicBezTo>
                    <a:pt x="7" y="217"/>
                    <a:pt x="3" y="213"/>
                    <a:pt x="3" y="208"/>
                  </a:cubicBezTo>
                  <a:close/>
                  <a:moveTo>
                    <a:pt x="3" y="175"/>
                  </a:moveTo>
                  <a:lnTo>
                    <a:pt x="3" y="175"/>
                  </a:lnTo>
                  <a:cubicBezTo>
                    <a:pt x="3" y="170"/>
                    <a:pt x="7" y="167"/>
                    <a:pt x="12" y="167"/>
                  </a:cubicBezTo>
                  <a:cubicBezTo>
                    <a:pt x="16" y="167"/>
                    <a:pt x="20" y="170"/>
                    <a:pt x="20" y="175"/>
                  </a:cubicBezTo>
                  <a:lnTo>
                    <a:pt x="20" y="175"/>
                  </a:lnTo>
                  <a:cubicBezTo>
                    <a:pt x="20" y="180"/>
                    <a:pt x="16" y="183"/>
                    <a:pt x="12" y="183"/>
                  </a:cubicBezTo>
                  <a:cubicBezTo>
                    <a:pt x="7" y="183"/>
                    <a:pt x="3" y="180"/>
                    <a:pt x="3" y="175"/>
                  </a:cubicBezTo>
                  <a:close/>
                  <a:moveTo>
                    <a:pt x="3" y="142"/>
                  </a:moveTo>
                  <a:lnTo>
                    <a:pt x="3" y="142"/>
                  </a:lnTo>
                  <a:cubicBezTo>
                    <a:pt x="3" y="137"/>
                    <a:pt x="7" y="133"/>
                    <a:pt x="12" y="133"/>
                  </a:cubicBezTo>
                  <a:cubicBezTo>
                    <a:pt x="16" y="133"/>
                    <a:pt x="20" y="137"/>
                    <a:pt x="20" y="142"/>
                  </a:cubicBezTo>
                  <a:lnTo>
                    <a:pt x="20" y="142"/>
                  </a:lnTo>
                  <a:cubicBezTo>
                    <a:pt x="20" y="146"/>
                    <a:pt x="16" y="150"/>
                    <a:pt x="12" y="150"/>
                  </a:cubicBezTo>
                  <a:cubicBezTo>
                    <a:pt x="7" y="150"/>
                    <a:pt x="3" y="146"/>
                    <a:pt x="3" y="142"/>
                  </a:cubicBezTo>
                  <a:close/>
                  <a:moveTo>
                    <a:pt x="3" y="108"/>
                  </a:moveTo>
                  <a:lnTo>
                    <a:pt x="3" y="108"/>
                  </a:lnTo>
                  <a:cubicBezTo>
                    <a:pt x="3" y="104"/>
                    <a:pt x="7" y="100"/>
                    <a:pt x="12" y="100"/>
                  </a:cubicBezTo>
                  <a:cubicBezTo>
                    <a:pt x="16" y="100"/>
                    <a:pt x="20" y="104"/>
                    <a:pt x="20" y="108"/>
                  </a:cubicBezTo>
                  <a:lnTo>
                    <a:pt x="20" y="108"/>
                  </a:lnTo>
                  <a:cubicBezTo>
                    <a:pt x="20" y="113"/>
                    <a:pt x="16" y="117"/>
                    <a:pt x="12" y="117"/>
                  </a:cubicBezTo>
                  <a:cubicBezTo>
                    <a:pt x="7" y="117"/>
                    <a:pt x="3" y="113"/>
                    <a:pt x="3" y="108"/>
                  </a:cubicBezTo>
                  <a:close/>
                  <a:moveTo>
                    <a:pt x="3" y="75"/>
                  </a:moveTo>
                  <a:lnTo>
                    <a:pt x="3" y="75"/>
                  </a:lnTo>
                  <a:cubicBezTo>
                    <a:pt x="3" y="70"/>
                    <a:pt x="7" y="67"/>
                    <a:pt x="12" y="67"/>
                  </a:cubicBezTo>
                  <a:cubicBezTo>
                    <a:pt x="16" y="67"/>
                    <a:pt x="20" y="70"/>
                    <a:pt x="20" y="75"/>
                  </a:cubicBezTo>
                  <a:lnTo>
                    <a:pt x="20" y="75"/>
                  </a:lnTo>
                  <a:cubicBezTo>
                    <a:pt x="20" y="80"/>
                    <a:pt x="16" y="83"/>
                    <a:pt x="12" y="83"/>
                  </a:cubicBezTo>
                  <a:cubicBezTo>
                    <a:pt x="7" y="83"/>
                    <a:pt x="3" y="80"/>
                    <a:pt x="3" y="75"/>
                  </a:cubicBezTo>
                  <a:close/>
                  <a:moveTo>
                    <a:pt x="3" y="42"/>
                  </a:moveTo>
                  <a:lnTo>
                    <a:pt x="3" y="42"/>
                  </a:lnTo>
                  <a:cubicBezTo>
                    <a:pt x="3" y="37"/>
                    <a:pt x="7" y="33"/>
                    <a:pt x="12" y="33"/>
                  </a:cubicBezTo>
                  <a:cubicBezTo>
                    <a:pt x="16" y="33"/>
                    <a:pt x="20" y="37"/>
                    <a:pt x="20" y="42"/>
                  </a:cubicBezTo>
                  <a:lnTo>
                    <a:pt x="20" y="42"/>
                  </a:lnTo>
                  <a:cubicBezTo>
                    <a:pt x="20" y="46"/>
                    <a:pt x="16" y="50"/>
                    <a:pt x="12" y="50"/>
                  </a:cubicBezTo>
                  <a:cubicBezTo>
                    <a:pt x="7" y="50"/>
                    <a:pt x="3" y="46"/>
                    <a:pt x="3" y="42"/>
                  </a:cubicBezTo>
                  <a:close/>
                  <a:moveTo>
                    <a:pt x="3" y="8"/>
                  </a:moveTo>
                  <a:lnTo>
                    <a:pt x="3" y="8"/>
                  </a:lnTo>
                  <a:cubicBezTo>
                    <a:pt x="3" y="4"/>
                    <a:pt x="7" y="0"/>
                    <a:pt x="12" y="0"/>
                  </a:cubicBezTo>
                  <a:cubicBezTo>
                    <a:pt x="16" y="0"/>
                    <a:pt x="20" y="4"/>
                    <a:pt x="20" y="8"/>
                  </a:cubicBezTo>
                  <a:lnTo>
                    <a:pt x="20" y="8"/>
                  </a:lnTo>
                  <a:cubicBezTo>
                    <a:pt x="20" y="13"/>
                    <a:pt x="16" y="17"/>
                    <a:pt x="12" y="17"/>
                  </a:cubicBezTo>
                  <a:cubicBezTo>
                    <a:pt x="7" y="17"/>
                    <a:pt x="3" y="13"/>
                    <a:pt x="3" y="8"/>
                  </a:cubicBez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192480" y="3860640"/>
              <a:ext cx="3240" cy="454320"/>
            </a:xfrm>
            <a:custGeom>
              <a:avLst/>
              <a:gdLst/>
              <a:ahLst/>
              <a:rect l="l" t="t" r="r" b="b"/>
              <a:pathLst>
                <a:path w="20" h="2385">
                  <a:moveTo>
                    <a:pt x="0" y="2376"/>
                  </a:moveTo>
                  <a:lnTo>
                    <a:pt x="0" y="2376"/>
                  </a:lnTo>
                  <a:cubicBezTo>
                    <a:pt x="0" y="2372"/>
                    <a:pt x="4" y="2368"/>
                    <a:pt x="8" y="2368"/>
                  </a:cubicBezTo>
                  <a:cubicBezTo>
                    <a:pt x="13" y="2368"/>
                    <a:pt x="17" y="2372"/>
                    <a:pt x="17" y="2376"/>
                  </a:cubicBezTo>
                  <a:lnTo>
                    <a:pt x="17" y="2376"/>
                  </a:lnTo>
                  <a:cubicBezTo>
                    <a:pt x="17" y="2381"/>
                    <a:pt x="13" y="2385"/>
                    <a:pt x="8" y="2385"/>
                  </a:cubicBezTo>
                  <a:cubicBezTo>
                    <a:pt x="4" y="2385"/>
                    <a:pt x="0" y="2381"/>
                    <a:pt x="0" y="2376"/>
                  </a:cubicBezTo>
                  <a:close/>
                  <a:moveTo>
                    <a:pt x="0" y="2343"/>
                  </a:moveTo>
                  <a:lnTo>
                    <a:pt x="0" y="2343"/>
                  </a:lnTo>
                  <a:cubicBezTo>
                    <a:pt x="0" y="2338"/>
                    <a:pt x="4" y="2335"/>
                    <a:pt x="9" y="2335"/>
                  </a:cubicBezTo>
                  <a:cubicBezTo>
                    <a:pt x="13" y="2335"/>
                    <a:pt x="17" y="2338"/>
                    <a:pt x="17" y="2343"/>
                  </a:cubicBezTo>
                  <a:lnTo>
                    <a:pt x="17" y="2343"/>
                  </a:lnTo>
                  <a:cubicBezTo>
                    <a:pt x="17" y="2348"/>
                    <a:pt x="13" y="2351"/>
                    <a:pt x="9" y="2351"/>
                  </a:cubicBezTo>
                  <a:cubicBezTo>
                    <a:pt x="4" y="2351"/>
                    <a:pt x="0" y="2348"/>
                    <a:pt x="0" y="2343"/>
                  </a:cubicBezTo>
                  <a:close/>
                  <a:moveTo>
                    <a:pt x="0" y="2310"/>
                  </a:moveTo>
                  <a:lnTo>
                    <a:pt x="0" y="2310"/>
                  </a:lnTo>
                  <a:cubicBezTo>
                    <a:pt x="0" y="2305"/>
                    <a:pt x="4" y="2301"/>
                    <a:pt x="9" y="2301"/>
                  </a:cubicBezTo>
                  <a:cubicBezTo>
                    <a:pt x="13" y="2301"/>
                    <a:pt x="17" y="2305"/>
                    <a:pt x="17" y="2310"/>
                  </a:cubicBezTo>
                  <a:lnTo>
                    <a:pt x="17" y="2310"/>
                  </a:lnTo>
                  <a:cubicBezTo>
                    <a:pt x="17" y="2314"/>
                    <a:pt x="13" y="2318"/>
                    <a:pt x="9" y="2318"/>
                  </a:cubicBezTo>
                  <a:cubicBezTo>
                    <a:pt x="4" y="2318"/>
                    <a:pt x="0" y="2314"/>
                    <a:pt x="0" y="2310"/>
                  </a:cubicBezTo>
                  <a:close/>
                  <a:moveTo>
                    <a:pt x="0" y="2276"/>
                  </a:moveTo>
                  <a:lnTo>
                    <a:pt x="0" y="2276"/>
                  </a:lnTo>
                  <a:cubicBezTo>
                    <a:pt x="0" y="2272"/>
                    <a:pt x="4" y="2268"/>
                    <a:pt x="9" y="2268"/>
                  </a:cubicBezTo>
                  <a:cubicBezTo>
                    <a:pt x="13" y="2268"/>
                    <a:pt x="17" y="2272"/>
                    <a:pt x="17" y="2276"/>
                  </a:cubicBezTo>
                  <a:lnTo>
                    <a:pt x="17" y="2276"/>
                  </a:lnTo>
                  <a:cubicBezTo>
                    <a:pt x="17" y="2281"/>
                    <a:pt x="13" y="2285"/>
                    <a:pt x="9" y="2285"/>
                  </a:cubicBezTo>
                  <a:cubicBezTo>
                    <a:pt x="4" y="2285"/>
                    <a:pt x="0" y="2281"/>
                    <a:pt x="0" y="2276"/>
                  </a:cubicBezTo>
                  <a:close/>
                  <a:moveTo>
                    <a:pt x="0" y="2243"/>
                  </a:moveTo>
                  <a:lnTo>
                    <a:pt x="0" y="2243"/>
                  </a:lnTo>
                  <a:cubicBezTo>
                    <a:pt x="0" y="2238"/>
                    <a:pt x="4" y="2235"/>
                    <a:pt x="9" y="2235"/>
                  </a:cubicBezTo>
                  <a:cubicBezTo>
                    <a:pt x="13" y="2235"/>
                    <a:pt x="17" y="2238"/>
                    <a:pt x="17" y="2243"/>
                  </a:cubicBezTo>
                  <a:lnTo>
                    <a:pt x="17" y="2243"/>
                  </a:lnTo>
                  <a:cubicBezTo>
                    <a:pt x="17" y="2248"/>
                    <a:pt x="13" y="2251"/>
                    <a:pt x="9" y="2251"/>
                  </a:cubicBezTo>
                  <a:cubicBezTo>
                    <a:pt x="4" y="2251"/>
                    <a:pt x="0" y="2248"/>
                    <a:pt x="0" y="2243"/>
                  </a:cubicBezTo>
                  <a:close/>
                  <a:moveTo>
                    <a:pt x="0" y="2210"/>
                  </a:moveTo>
                  <a:lnTo>
                    <a:pt x="0" y="2210"/>
                  </a:lnTo>
                  <a:cubicBezTo>
                    <a:pt x="0" y="2205"/>
                    <a:pt x="4" y="2201"/>
                    <a:pt x="9" y="2201"/>
                  </a:cubicBezTo>
                  <a:cubicBezTo>
                    <a:pt x="13" y="2201"/>
                    <a:pt x="17" y="2205"/>
                    <a:pt x="17" y="2210"/>
                  </a:cubicBezTo>
                  <a:lnTo>
                    <a:pt x="17" y="2210"/>
                  </a:lnTo>
                  <a:cubicBezTo>
                    <a:pt x="17" y="2214"/>
                    <a:pt x="13" y="2218"/>
                    <a:pt x="9" y="2218"/>
                  </a:cubicBezTo>
                  <a:cubicBezTo>
                    <a:pt x="4" y="2218"/>
                    <a:pt x="0" y="2214"/>
                    <a:pt x="0" y="2210"/>
                  </a:cubicBezTo>
                  <a:close/>
                  <a:moveTo>
                    <a:pt x="0" y="2176"/>
                  </a:moveTo>
                  <a:lnTo>
                    <a:pt x="0" y="2176"/>
                  </a:lnTo>
                  <a:cubicBezTo>
                    <a:pt x="0" y="2172"/>
                    <a:pt x="4" y="2168"/>
                    <a:pt x="9" y="2168"/>
                  </a:cubicBezTo>
                  <a:cubicBezTo>
                    <a:pt x="13" y="2168"/>
                    <a:pt x="17" y="2172"/>
                    <a:pt x="17" y="2176"/>
                  </a:cubicBezTo>
                  <a:lnTo>
                    <a:pt x="17" y="2176"/>
                  </a:lnTo>
                  <a:cubicBezTo>
                    <a:pt x="17" y="2181"/>
                    <a:pt x="13" y="2185"/>
                    <a:pt x="9" y="2185"/>
                  </a:cubicBezTo>
                  <a:cubicBezTo>
                    <a:pt x="4" y="2185"/>
                    <a:pt x="0" y="2181"/>
                    <a:pt x="0" y="2176"/>
                  </a:cubicBezTo>
                  <a:close/>
                  <a:moveTo>
                    <a:pt x="0" y="2143"/>
                  </a:moveTo>
                  <a:lnTo>
                    <a:pt x="0" y="2143"/>
                  </a:lnTo>
                  <a:cubicBezTo>
                    <a:pt x="0" y="2138"/>
                    <a:pt x="4" y="2135"/>
                    <a:pt x="9" y="2135"/>
                  </a:cubicBezTo>
                  <a:cubicBezTo>
                    <a:pt x="13" y="2135"/>
                    <a:pt x="17" y="2138"/>
                    <a:pt x="17" y="2143"/>
                  </a:cubicBezTo>
                  <a:lnTo>
                    <a:pt x="17" y="2143"/>
                  </a:lnTo>
                  <a:cubicBezTo>
                    <a:pt x="17" y="2148"/>
                    <a:pt x="13" y="2151"/>
                    <a:pt x="9" y="2151"/>
                  </a:cubicBezTo>
                  <a:cubicBezTo>
                    <a:pt x="4" y="2151"/>
                    <a:pt x="0" y="2148"/>
                    <a:pt x="0" y="2143"/>
                  </a:cubicBezTo>
                  <a:close/>
                  <a:moveTo>
                    <a:pt x="1" y="2110"/>
                  </a:moveTo>
                  <a:lnTo>
                    <a:pt x="1" y="2110"/>
                  </a:lnTo>
                  <a:cubicBezTo>
                    <a:pt x="1" y="2105"/>
                    <a:pt x="4" y="2101"/>
                    <a:pt x="9" y="2101"/>
                  </a:cubicBezTo>
                  <a:cubicBezTo>
                    <a:pt x="13" y="2101"/>
                    <a:pt x="17" y="2105"/>
                    <a:pt x="17" y="2110"/>
                  </a:cubicBezTo>
                  <a:lnTo>
                    <a:pt x="17" y="2110"/>
                  </a:lnTo>
                  <a:cubicBezTo>
                    <a:pt x="17" y="2114"/>
                    <a:pt x="13" y="2118"/>
                    <a:pt x="9" y="2118"/>
                  </a:cubicBezTo>
                  <a:cubicBezTo>
                    <a:pt x="4" y="2118"/>
                    <a:pt x="1" y="2114"/>
                    <a:pt x="1" y="2110"/>
                  </a:cubicBezTo>
                  <a:close/>
                  <a:moveTo>
                    <a:pt x="1" y="2076"/>
                  </a:moveTo>
                  <a:lnTo>
                    <a:pt x="1" y="2076"/>
                  </a:lnTo>
                  <a:cubicBezTo>
                    <a:pt x="1" y="2072"/>
                    <a:pt x="4" y="2068"/>
                    <a:pt x="9" y="2068"/>
                  </a:cubicBezTo>
                  <a:cubicBezTo>
                    <a:pt x="13" y="2068"/>
                    <a:pt x="17" y="2072"/>
                    <a:pt x="17" y="2076"/>
                  </a:cubicBezTo>
                  <a:lnTo>
                    <a:pt x="17" y="2076"/>
                  </a:lnTo>
                  <a:cubicBezTo>
                    <a:pt x="17" y="2081"/>
                    <a:pt x="13" y="2085"/>
                    <a:pt x="9" y="2085"/>
                  </a:cubicBezTo>
                  <a:cubicBezTo>
                    <a:pt x="4" y="2085"/>
                    <a:pt x="1" y="2081"/>
                    <a:pt x="1" y="2076"/>
                  </a:cubicBezTo>
                  <a:close/>
                  <a:moveTo>
                    <a:pt x="1" y="2043"/>
                  </a:moveTo>
                  <a:lnTo>
                    <a:pt x="1" y="2043"/>
                  </a:lnTo>
                  <a:cubicBezTo>
                    <a:pt x="1" y="2038"/>
                    <a:pt x="4" y="2035"/>
                    <a:pt x="9" y="2035"/>
                  </a:cubicBezTo>
                  <a:cubicBezTo>
                    <a:pt x="14" y="2035"/>
                    <a:pt x="17" y="2038"/>
                    <a:pt x="17" y="2043"/>
                  </a:cubicBezTo>
                  <a:lnTo>
                    <a:pt x="17" y="2043"/>
                  </a:lnTo>
                  <a:cubicBezTo>
                    <a:pt x="17" y="2048"/>
                    <a:pt x="14" y="2051"/>
                    <a:pt x="9" y="2051"/>
                  </a:cubicBezTo>
                  <a:cubicBezTo>
                    <a:pt x="4" y="2051"/>
                    <a:pt x="1" y="2048"/>
                    <a:pt x="1" y="2043"/>
                  </a:cubicBezTo>
                  <a:close/>
                  <a:moveTo>
                    <a:pt x="1" y="2010"/>
                  </a:moveTo>
                  <a:lnTo>
                    <a:pt x="1" y="2010"/>
                  </a:lnTo>
                  <a:cubicBezTo>
                    <a:pt x="1" y="2005"/>
                    <a:pt x="4" y="2001"/>
                    <a:pt x="9" y="2001"/>
                  </a:cubicBezTo>
                  <a:cubicBezTo>
                    <a:pt x="14" y="2001"/>
                    <a:pt x="17" y="2005"/>
                    <a:pt x="17" y="2010"/>
                  </a:cubicBezTo>
                  <a:lnTo>
                    <a:pt x="17" y="2010"/>
                  </a:lnTo>
                  <a:cubicBezTo>
                    <a:pt x="17" y="2014"/>
                    <a:pt x="14" y="2018"/>
                    <a:pt x="9" y="2018"/>
                  </a:cubicBezTo>
                  <a:cubicBezTo>
                    <a:pt x="4" y="2018"/>
                    <a:pt x="1" y="2014"/>
                    <a:pt x="1" y="2010"/>
                  </a:cubicBezTo>
                  <a:close/>
                  <a:moveTo>
                    <a:pt x="1" y="1976"/>
                  </a:moveTo>
                  <a:lnTo>
                    <a:pt x="1" y="1976"/>
                  </a:lnTo>
                  <a:cubicBezTo>
                    <a:pt x="1" y="1972"/>
                    <a:pt x="4" y="1968"/>
                    <a:pt x="9" y="1968"/>
                  </a:cubicBezTo>
                  <a:cubicBezTo>
                    <a:pt x="14" y="1968"/>
                    <a:pt x="17" y="1972"/>
                    <a:pt x="17" y="1976"/>
                  </a:cubicBezTo>
                  <a:lnTo>
                    <a:pt x="17" y="1976"/>
                  </a:lnTo>
                  <a:cubicBezTo>
                    <a:pt x="17" y="1981"/>
                    <a:pt x="14" y="1985"/>
                    <a:pt x="9" y="1985"/>
                  </a:cubicBezTo>
                  <a:cubicBezTo>
                    <a:pt x="4" y="1985"/>
                    <a:pt x="1" y="1981"/>
                    <a:pt x="1" y="1976"/>
                  </a:cubicBezTo>
                  <a:close/>
                  <a:moveTo>
                    <a:pt x="1" y="1943"/>
                  </a:moveTo>
                  <a:lnTo>
                    <a:pt x="1" y="1943"/>
                  </a:lnTo>
                  <a:cubicBezTo>
                    <a:pt x="1" y="1938"/>
                    <a:pt x="4" y="1935"/>
                    <a:pt x="9" y="1935"/>
                  </a:cubicBezTo>
                  <a:cubicBezTo>
                    <a:pt x="14" y="1935"/>
                    <a:pt x="17" y="1938"/>
                    <a:pt x="17" y="1943"/>
                  </a:cubicBezTo>
                  <a:lnTo>
                    <a:pt x="17" y="1943"/>
                  </a:lnTo>
                  <a:cubicBezTo>
                    <a:pt x="17" y="1948"/>
                    <a:pt x="14" y="1951"/>
                    <a:pt x="9" y="1951"/>
                  </a:cubicBezTo>
                  <a:cubicBezTo>
                    <a:pt x="4" y="1951"/>
                    <a:pt x="1" y="1948"/>
                    <a:pt x="1" y="1943"/>
                  </a:cubicBezTo>
                  <a:close/>
                  <a:moveTo>
                    <a:pt x="1" y="1910"/>
                  </a:moveTo>
                  <a:lnTo>
                    <a:pt x="1" y="1910"/>
                  </a:lnTo>
                  <a:cubicBezTo>
                    <a:pt x="1" y="1905"/>
                    <a:pt x="5" y="1901"/>
                    <a:pt x="9" y="1901"/>
                  </a:cubicBezTo>
                  <a:cubicBezTo>
                    <a:pt x="14" y="1901"/>
                    <a:pt x="17" y="1905"/>
                    <a:pt x="17" y="1910"/>
                  </a:cubicBezTo>
                  <a:lnTo>
                    <a:pt x="17" y="1910"/>
                  </a:lnTo>
                  <a:cubicBezTo>
                    <a:pt x="17" y="1914"/>
                    <a:pt x="14" y="1918"/>
                    <a:pt x="9" y="1918"/>
                  </a:cubicBezTo>
                  <a:cubicBezTo>
                    <a:pt x="5" y="1918"/>
                    <a:pt x="1" y="1914"/>
                    <a:pt x="1" y="1910"/>
                  </a:cubicBezTo>
                  <a:close/>
                  <a:moveTo>
                    <a:pt x="1" y="1876"/>
                  </a:moveTo>
                  <a:lnTo>
                    <a:pt x="1" y="1876"/>
                  </a:lnTo>
                  <a:cubicBezTo>
                    <a:pt x="1" y="1872"/>
                    <a:pt x="5" y="1868"/>
                    <a:pt x="9" y="1868"/>
                  </a:cubicBezTo>
                  <a:cubicBezTo>
                    <a:pt x="14" y="1868"/>
                    <a:pt x="17" y="1872"/>
                    <a:pt x="17" y="1876"/>
                  </a:cubicBezTo>
                  <a:lnTo>
                    <a:pt x="17" y="1876"/>
                  </a:lnTo>
                  <a:cubicBezTo>
                    <a:pt x="17" y="1881"/>
                    <a:pt x="14" y="1885"/>
                    <a:pt x="9" y="1885"/>
                  </a:cubicBezTo>
                  <a:cubicBezTo>
                    <a:pt x="5" y="1885"/>
                    <a:pt x="1" y="1881"/>
                    <a:pt x="1" y="1876"/>
                  </a:cubicBezTo>
                  <a:close/>
                  <a:moveTo>
                    <a:pt x="1" y="1843"/>
                  </a:moveTo>
                  <a:lnTo>
                    <a:pt x="1" y="1843"/>
                  </a:lnTo>
                  <a:cubicBezTo>
                    <a:pt x="1" y="1838"/>
                    <a:pt x="5" y="1834"/>
                    <a:pt x="9" y="1834"/>
                  </a:cubicBezTo>
                  <a:cubicBezTo>
                    <a:pt x="14" y="1834"/>
                    <a:pt x="18" y="1838"/>
                    <a:pt x="18" y="1843"/>
                  </a:cubicBezTo>
                  <a:lnTo>
                    <a:pt x="18" y="1843"/>
                  </a:lnTo>
                  <a:cubicBezTo>
                    <a:pt x="18" y="1847"/>
                    <a:pt x="14" y="1851"/>
                    <a:pt x="9" y="1851"/>
                  </a:cubicBezTo>
                  <a:cubicBezTo>
                    <a:pt x="5" y="1851"/>
                    <a:pt x="1" y="1847"/>
                    <a:pt x="1" y="1843"/>
                  </a:cubicBezTo>
                  <a:close/>
                  <a:moveTo>
                    <a:pt x="1" y="1809"/>
                  </a:moveTo>
                  <a:lnTo>
                    <a:pt x="1" y="1809"/>
                  </a:lnTo>
                  <a:cubicBezTo>
                    <a:pt x="1" y="1805"/>
                    <a:pt x="5" y="1801"/>
                    <a:pt x="9" y="1801"/>
                  </a:cubicBezTo>
                  <a:cubicBezTo>
                    <a:pt x="14" y="1801"/>
                    <a:pt x="18" y="1805"/>
                    <a:pt x="18" y="1809"/>
                  </a:cubicBezTo>
                  <a:lnTo>
                    <a:pt x="18" y="1809"/>
                  </a:lnTo>
                  <a:cubicBezTo>
                    <a:pt x="18" y="1814"/>
                    <a:pt x="14" y="1818"/>
                    <a:pt x="9" y="1818"/>
                  </a:cubicBezTo>
                  <a:cubicBezTo>
                    <a:pt x="5" y="1818"/>
                    <a:pt x="1" y="1814"/>
                    <a:pt x="1" y="1809"/>
                  </a:cubicBezTo>
                  <a:close/>
                  <a:moveTo>
                    <a:pt x="1" y="1776"/>
                  </a:moveTo>
                  <a:lnTo>
                    <a:pt x="1" y="1776"/>
                  </a:lnTo>
                  <a:cubicBezTo>
                    <a:pt x="1" y="1772"/>
                    <a:pt x="5" y="1768"/>
                    <a:pt x="9" y="1768"/>
                  </a:cubicBezTo>
                  <a:cubicBezTo>
                    <a:pt x="14" y="1768"/>
                    <a:pt x="18" y="1772"/>
                    <a:pt x="18" y="1776"/>
                  </a:cubicBezTo>
                  <a:lnTo>
                    <a:pt x="18" y="1776"/>
                  </a:lnTo>
                  <a:cubicBezTo>
                    <a:pt x="18" y="1781"/>
                    <a:pt x="14" y="1784"/>
                    <a:pt x="9" y="1784"/>
                  </a:cubicBezTo>
                  <a:cubicBezTo>
                    <a:pt x="5" y="1784"/>
                    <a:pt x="1" y="1781"/>
                    <a:pt x="1" y="1776"/>
                  </a:cubicBezTo>
                  <a:close/>
                  <a:moveTo>
                    <a:pt x="1" y="1743"/>
                  </a:moveTo>
                  <a:lnTo>
                    <a:pt x="1" y="1743"/>
                  </a:lnTo>
                  <a:cubicBezTo>
                    <a:pt x="1" y="1738"/>
                    <a:pt x="5" y="1734"/>
                    <a:pt x="9" y="1734"/>
                  </a:cubicBezTo>
                  <a:cubicBezTo>
                    <a:pt x="14" y="1734"/>
                    <a:pt x="18" y="1738"/>
                    <a:pt x="18" y="1743"/>
                  </a:cubicBezTo>
                  <a:lnTo>
                    <a:pt x="18" y="1743"/>
                  </a:lnTo>
                  <a:cubicBezTo>
                    <a:pt x="18" y="1747"/>
                    <a:pt x="14" y="1751"/>
                    <a:pt x="9" y="1751"/>
                  </a:cubicBezTo>
                  <a:cubicBezTo>
                    <a:pt x="5" y="1751"/>
                    <a:pt x="1" y="1747"/>
                    <a:pt x="1" y="1743"/>
                  </a:cubicBezTo>
                  <a:close/>
                  <a:moveTo>
                    <a:pt x="1" y="1709"/>
                  </a:moveTo>
                  <a:lnTo>
                    <a:pt x="1" y="1709"/>
                  </a:lnTo>
                  <a:cubicBezTo>
                    <a:pt x="1" y="1705"/>
                    <a:pt x="5" y="1701"/>
                    <a:pt x="9" y="1701"/>
                  </a:cubicBezTo>
                  <a:cubicBezTo>
                    <a:pt x="14" y="1701"/>
                    <a:pt x="18" y="1705"/>
                    <a:pt x="18" y="1709"/>
                  </a:cubicBezTo>
                  <a:lnTo>
                    <a:pt x="18" y="1709"/>
                  </a:lnTo>
                  <a:cubicBezTo>
                    <a:pt x="18" y="1714"/>
                    <a:pt x="14" y="1718"/>
                    <a:pt x="9" y="1718"/>
                  </a:cubicBezTo>
                  <a:cubicBezTo>
                    <a:pt x="5" y="1718"/>
                    <a:pt x="1" y="1714"/>
                    <a:pt x="1" y="1709"/>
                  </a:cubicBezTo>
                  <a:close/>
                  <a:moveTo>
                    <a:pt x="1" y="1676"/>
                  </a:moveTo>
                  <a:lnTo>
                    <a:pt x="1" y="1676"/>
                  </a:lnTo>
                  <a:cubicBezTo>
                    <a:pt x="1" y="1671"/>
                    <a:pt x="5" y="1668"/>
                    <a:pt x="9" y="1668"/>
                  </a:cubicBezTo>
                  <a:cubicBezTo>
                    <a:pt x="14" y="1668"/>
                    <a:pt x="18" y="1671"/>
                    <a:pt x="18" y="1676"/>
                  </a:cubicBezTo>
                  <a:lnTo>
                    <a:pt x="18" y="1676"/>
                  </a:lnTo>
                  <a:cubicBezTo>
                    <a:pt x="18" y="1681"/>
                    <a:pt x="14" y="1684"/>
                    <a:pt x="9" y="1684"/>
                  </a:cubicBezTo>
                  <a:cubicBezTo>
                    <a:pt x="5" y="1684"/>
                    <a:pt x="1" y="1681"/>
                    <a:pt x="1" y="1676"/>
                  </a:cubicBezTo>
                  <a:close/>
                  <a:moveTo>
                    <a:pt x="1" y="1643"/>
                  </a:moveTo>
                  <a:lnTo>
                    <a:pt x="1" y="1643"/>
                  </a:lnTo>
                  <a:cubicBezTo>
                    <a:pt x="1" y="1638"/>
                    <a:pt x="5" y="1634"/>
                    <a:pt x="9" y="1634"/>
                  </a:cubicBezTo>
                  <a:cubicBezTo>
                    <a:pt x="14" y="1634"/>
                    <a:pt x="18" y="1638"/>
                    <a:pt x="18" y="1643"/>
                  </a:cubicBezTo>
                  <a:lnTo>
                    <a:pt x="18" y="1643"/>
                  </a:lnTo>
                  <a:cubicBezTo>
                    <a:pt x="18" y="1647"/>
                    <a:pt x="14" y="1651"/>
                    <a:pt x="9" y="1651"/>
                  </a:cubicBezTo>
                  <a:cubicBezTo>
                    <a:pt x="5" y="1651"/>
                    <a:pt x="1" y="1647"/>
                    <a:pt x="1" y="1643"/>
                  </a:cubicBezTo>
                  <a:close/>
                  <a:moveTo>
                    <a:pt x="1" y="1609"/>
                  </a:moveTo>
                  <a:lnTo>
                    <a:pt x="1" y="1609"/>
                  </a:lnTo>
                  <a:cubicBezTo>
                    <a:pt x="1" y="1605"/>
                    <a:pt x="5" y="1601"/>
                    <a:pt x="10" y="1601"/>
                  </a:cubicBezTo>
                  <a:cubicBezTo>
                    <a:pt x="14" y="1601"/>
                    <a:pt x="18" y="1605"/>
                    <a:pt x="18" y="1609"/>
                  </a:cubicBezTo>
                  <a:lnTo>
                    <a:pt x="18" y="1609"/>
                  </a:lnTo>
                  <a:cubicBezTo>
                    <a:pt x="18" y="1614"/>
                    <a:pt x="14" y="1618"/>
                    <a:pt x="10" y="1618"/>
                  </a:cubicBezTo>
                  <a:cubicBezTo>
                    <a:pt x="5" y="1618"/>
                    <a:pt x="1" y="1614"/>
                    <a:pt x="1" y="1609"/>
                  </a:cubicBezTo>
                  <a:close/>
                  <a:moveTo>
                    <a:pt x="1" y="1576"/>
                  </a:moveTo>
                  <a:lnTo>
                    <a:pt x="1" y="1576"/>
                  </a:lnTo>
                  <a:cubicBezTo>
                    <a:pt x="1" y="1571"/>
                    <a:pt x="5" y="1568"/>
                    <a:pt x="10" y="1568"/>
                  </a:cubicBezTo>
                  <a:cubicBezTo>
                    <a:pt x="14" y="1568"/>
                    <a:pt x="18" y="1571"/>
                    <a:pt x="18" y="1576"/>
                  </a:cubicBezTo>
                  <a:lnTo>
                    <a:pt x="18" y="1576"/>
                  </a:lnTo>
                  <a:cubicBezTo>
                    <a:pt x="18" y="1581"/>
                    <a:pt x="14" y="1584"/>
                    <a:pt x="10" y="1584"/>
                  </a:cubicBezTo>
                  <a:cubicBezTo>
                    <a:pt x="5" y="1584"/>
                    <a:pt x="1" y="1581"/>
                    <a:pt x="1" y="1576"/>
                  </a:cubicBezTo>
                  <a:close/>
                  <a:moveTo>
                    <a:pt x="1" y="1543"/>
                  </a:moveTo>
                  <a:lnTo>
                    <a:pt x="1" y="1543"/>
                  </a:lnTo>
                  <a:cubicBezTo>
                    <a:pt x="1" y="1538"/>
                    <a:pt x="5" y="1534"/>
                    <a:pt x="10" y="1534"/>
                  </a:cubicBezTo>
                  <a:cubicBezTo>
                    <a:pt x="14" y="1534"/>
                    <a:pt x="18" y="1538"/>
                    <a:pt x="18" y="1543"/>
                  </a:cubicBezTo>
                  <a:lnTo>
                    <a:pt x="18" y="1543"/>
                  </a:lnTo>
                  <a:cubicBezTo>
                    <a:pt x="18" y="1547"/>
                    <a:pt x="14" y="1551"/>
                    <a:pt x="10" y="1551"/>
                  </a:cubicBezTo>
                  <a:cubicBezTo>
                    <a:pt x="5" y="1551"/>
                    <a:pt x="1" y="1547"/>
                    <a:pt x="1" y="1543"/>
                  </a:cubicBezTo>
                  <a:close/>
                  <a:moveTo>
                    <a:pt x="1" y="1509"/>
                  </a:moveTo>
                  <a:lnTo>
                    <a:pt x="1" y="1509"/>
                  </a:lnTo>
                  <a:cubicBezTo>
                    <a:pt x="1" y="1505"/>
                    <a:pt x="5" y="1501"/>
                    <a:pt x="10" y="1501"/>
                  </a:cubicBezTo>
                  <a:cubicBezTo>
                    <a:pt x="14" y="1501"/>
                    <a:pt x="18" y="1505"/>
                    <a:pt x="18" y="1509"/>
                  </a:cubicBezTo>
                  <a:lnTo>
                    <a:pt x="18" y="1509"/>
                  </a:lnTo>
                  <a:cubicBezTo>
                    <a:pt x="18" y="1514"/>
                    <a:pt x="14" y="1518"/>
                    <a:pt x="10" y="1518"/>
                  </a:cubicBezTo>
                  <a:cubicBezTo>
                    <a:pt x="5" y="1518"/>
                    <a:pt x="1" y="1514"/>
                    <a:pt x="1" y="1509"/>
                  </a:cubicBezTo>
                  <a:close/>
                  <a:moveTo>
                    <a:pt x="1" y="1476"/>
                  </a:moveTo>
                  <a:lnTo>
                    <a:pt x="1" y="1476"/>
                  </a:lnTo>
                  <a:cubicBezTo>
                    <a:pt x="1" y="1471"/>
                    <a:pt x="5" y="1468"/>
                    <a:pt x="10" y="1468"/>
                  </a:cubicBezTo>
                  <a:cubicBezTo>
                    <a:pt x="14" y="1468"/>
                    <a:pt x="18" y="1471"/>
                    <a:pt x="18" y="1476"/>
                  </a:cubicBezTo>
                  <a:lnTo>
                    <a:pt x="18" y="1476"/>
                  </a:lnTo>
                  <a:cubicBezTo>
                    <a:pt x="18" y="1481"/>
                    <a:pt x="14" y="1484"/>
                    <a:pt x="10" y="1484"/>
                  </a:cubicBezTo>
                  <a:cubicBezTo>
                    <a:pt x="5" y="1484"/>
                    <a:pt x="1" y="1481"/>
                    <a:pt x="1" y="1476"/>
                  </a:cubicBezTo>
                  <a:close/>
                  <a:moveTo>
                    <a:pt x="1" y="1443"/>
                  </a:moveTo>
                  <a:lnTo>
                    <a:pt x="1" y="1443"/>
                  </a:lnTo>
                  <a:cubicBezTo>
                    <a:pt x="1" y="1438"/>
                    <a:pt x="5" y="1434"/>
                    <a:pt x="10" y="1434"/>
                  </a:cubicBezTo>
                  <a:cubicBezTo>
                    <a:pt x="14" y="1434"/>
                    <a:pt x="18" y="1438"/>
                    <a:pt x="18" y="1443"/>
                  </a:cubicBezTo>
                  <a:lnTo>
                    <a:pt x="18" y="1443"/>
                  </a:lnTo>
                  <a:cubicBezTo>
                    <a:pt x="18" y="1447"/>
                    <a:pt x="14" y="1451"/>
                    <a:pt x="10" y="1451"/>
                  </a:cubicBezTo>
                  <a:cubicBezTo>
                    <a:pt x="5" y="1451"/>
                    <a:pt x="1" y="1447"/>
                    <a:pt x="1" y="1443"/>
                  </a:cubicBezTo>
                  <a:close/>
                  <a:moveTo>
                    <a:pt x="1" y="1409"/>
                  </a:moveTo>
                  <a:lnTo>
                    <a:pt x="1" y="1409"/>
                  </a:lnTo>
                  <a:cubicBezTo>
                    <a:pt x="1" y="1405"/>
                    <a:pt x="5" y="1401"/>
                    <a:pt x="10" y="1401"/>
                  </a:cubicBezTo>
                  <a:cubicBezTo>
                    <a:pt x="14" y="1401"/>
                    <a:pt x="18" y="1405"/>
                    <a:pt x="18" y="1409"/>
                  </a:cubicBezTo>
                  <a:lnTo>
                    <a:pt x="18" y="1409"/>
                  </a:lnTo>
                  <a:cubicBezTo>
                    <a:pt x="18" y="1414"/>
                    <a:pt x="14" y="1418"/>
                    <a:pt x="10" y="1418"/>
                  </a:cubicBezTo>
                  <a:cubicBezTo>
                    <a:pt x="5" y="1418"/>
                    <a:pt x="1" y="1414"/>
                    <a:pt x="1" y="1409"/>
                  </a:cubicBezTo>
                  <a:close/>
                  <a:moveTo>
                    <a:pt x="2" y="1376"/>
                  </a:moveTo>
                  <a:lnTo>
                    <a:pt x="2" y="1376"/>
                  </a:lnTo>
                  <a:cubicBezTo>
                    <a:pt x="2" y="1371"/>
                    <a:pt x="5" y="1368"/>
                    <a:pt x="10" y="1368"/>
                  </a:cubicBezTo>
                  <a:cubicBezTo>
                    <a:pt x="14" y="1368"/>
                    <a:pt x="18" y="1371"/>
                    <a:pt x="18" y="1376"/>
                  </a:cubicBezTo>
                  <a:lnTo>
                    <a:pt x="18" y="1376"/>
                  </a:lnTo>
                  <a:cubicBezTo>
                    <a:pt x="18" y="1381"/>
                    <a:pt x="14" y="1384"/>
                    <a:pt x="10" y="1384"/>
                  </a:cubicBezTo>
                  <a:cubicBezTo>
                    <a:pt x="5" y="1384"/>
                    <a:pt x="2" y="1381"/>
                    <a:pt x="2" y="1376"/>
                  </a:cubicBezTo>
                  <a:close/>
                  <a:moveTo>
                    <a:pt x="2" y="1343"/>
                  </a:moveTo>
                  <a:lnTo>
                    <a:pt x="2" y="1343"/>
                  </a:lnTo>
                  <a:cubicBezTo>
                    <a:pt x="2" y="1338"/>
                    <a:pt x="5" y="1334"/>
                    <a:pt x="10" y="1334"/>
                  </a:cubicBezTo>
                  <a:cubicBezTo>
                    <a:pt x="14" y="1334"/>
                    <a:pt x="18" y="1338"/>
                    <a:pt x="18" y="1343"/>
                  </a:cubicBezTo>
                  <a:lnTo>
                    <a:pt x="18" y="1343"/>
                  </a:lnTo>
                  <a:cubicBezTo>
                    <a:pt x="18" y="1347"/>
                    <a:pt x="14" y="1351"/>
                    <a:pt x="10" y="1351"/>
                  </a:cubicBezTo>
                  <a:cubicBezTo>
                    <a:pt x="5" y="1351"/>
                    <a:pt x="2" y="1347"/>
                    <a:pt x="2" y="1343"/>
                  </a:cubicBezTo>
                  <a:close/>
                  <a:moveTo>
                    <a:pt x="2" y="1309"/>
                  </a:moveTo>
                  <a:lnTo>
                    <a:pt x="2" y="1309"/>
                  </a:lnTo>
                  <a:cubicBezTo>
                    <a:pt x="2" y="1305"/>
                    <a:pt x="5" y="1301"/>
                    <a:pt x="10" y="1301"/>
                  </a:cubicBezTo>
                  <a:cubicBezTo>
                    <a:pt x="15" y="1301"/>
                    <a:pt x="18" y="1305"/>
                    <a:pt x="18" y="1309"/>
                  </a:cubicBezTo>
                  <a:lnTo>
                    <a:pt x="18" y="1309"/>
                  </a:lnTo>
                  <a:cubicBezTo>
                    <a:pt x="18" y="1314"/>
                    <a:pt x="15" y="1318"/>
                    <a:pt x="10" y="1318"/>
                  </a:cubicBezTo>
                  <a:cubicBezTo>
                    <a:pt x="5" y="1318"/>
                    <a:pt x="2" y="1314"/>
                    <a:pt x="2" y="1309"/>
                  </a:cubicBezTo>
                  <a:close/>
                  <a:moveTo>
                    <a:pt x="2" y="1276"/>
                  </a:moveTo>
                  <a:lnTo>
                    <a:pt x="2" y="1276"/>
                  </a:lnTo>
                  <a:cubicBezTo>
                    <a:pt x="2" y="1271"/>
                    <a:pt x="5" y="1268"/>
                    <a:pt x="10" y="1268"/>
                  </a:cubicBezTo>
                  <a:cubicBezTo>
                    <a:pt x="15" y="1268"/>
                    <a:pt x="18" y="1271"/>
                    <a:pt x="18" y="1276"/>
                  </a:cubicBezTo>
                  <a:lnTo>
                    <a:pt x="18" y="1276"/>
                  </a:lnTo>
                  <a:cubicBezTo>
                    <a:pt x="18" y="1280"/>
                    <a:pt x="15" y="1284"/>
                    <a:pt x="10" y="1284"/>
                  </a:cubicBezTo>
                  <a:cubicBezTo>
                    <a:pt x="5" y="1284"/>
                    <a:pt x="2" y="1280"/>
                    <a:pt x="2" y="1276"/>
                  </a:cubicBezTo>
                  <a:close/>
                  <a:moveTo>
                    <a:pt x="2" y="1243"/>
                  </a:moveTo>
                  <a:lnTo>
                    <a:pt x="2" y="1242"/>
                  </a:lnTo>
                  <a:cubicBezTo>
                    <a:pt x="2" y="1238"/>
                    <a:pt x="5" y="1234"/>
                    <a:pt x="10" y="1234"/>
                  </a:cubicBezTo>
                  <a:cubicBezTo>
                    <a:pt x="15" y="1234"/>
                    <a:pt x="18" y="1238"/>
                    <a:pt x="18" y="1242"/>
                  </a:cubicBezTo>
                  <a:lnTo>
                    <a:pt x="18" y="1243"/>
                  </a:lnTo>
                  <a:cubicBezTo>
                    <a:pt x="18" y="1247"/>
                    <a:pt x="15" y="1251"/>
                    <a:pt x="10" y="1251"/>
                  </a:cubicBezTo>
                  <a:cubicBezTo>
                    <a:pt x="5" y="1251"/>
                    <a:pt x="2" y="1247"/>
                    <a:pt x="2" y="1243"/>
                  </a:cubicBezTo>
                  <a:close/>
                  <a:moveTo>
                    <a:pt x="2" y="1209"/>
                  </a:moveTo>
                  <a:lnTo>
                    <a:pt x="2" y="1209"/>
                  </a:lnTo>
                  <a:cubicBezTo>
                    <a:pt x="2" y="1205"/>
                    <a:pt x="5" y="1201"/>
                    <a:pt x="10" y="1201"/>
                  </a:cubicBezTo>
                  <a:cubicBezTo>
                    <a:pt x="15" y="1201"/>
                    <a:pt x="18" y="1205"/>
                    <a:pt x="18" y="1209"/>
                  </a:cubicBezTo>
                  <a:lnTo>
                    <a:pt x="18" y="1209"/>
                  </a:lnTo>
                  <a:cubicBezTo>
                    <a:pt x="18" y="1214"/>
                    <a:pt x="15" y="1217"/>
                    <a:pt x="10" y="1217"/>
                  </a:cubicBezTo>
                  <a:cubicBezTo>
                    <a:pt x="5" y="1217"/>
                    <a:pt x="2" y="1214"/>
                    <a:pt x="2" y="1209"/>
                  </a:cubicBezTo>
                  <a:close/>
                  <a:moveTo>
                    <a:pt x="2" y="1176"/>
                  </a:moveTo>
                  <a:lnTo>
                    <a:pt x="2" y="1176"/>
                  </a:lnTo>
                  <a:cubicBezTo>
                    <a:pt x="2" y="1171"/>
                    <a:pt x="6" y="1167"/>
                    <a:pt x="10" y="1167"/>
                  </a:cubicBezTo>
                  <a:cubicBezTo>
                    <a:pt x="15" y="1167"/>
                    <a:pt x="18" y="1171"/>
                    <a:pt x="18" y="1176"/>
                  </a:cubicBezTo>
                  <a:lnTo>
                    <a:pt x="18" y="1176"/>
                  </a:lnTo>
                  <a:cubicBezTo>
                    <a:pt x="18" y="1180"/>
                    <a:pt x="15" y="1184"/>
                    <a:pt x="10" y="1184"/>
                  </a:cubicBezTo>
                  <a:cubicBezTo>
                    <a:pt x="6" y="1184"/>
                    <a:pt x="2" y="1180"/>
                    <a:pt x="2" y="1176"/>
                  </a:cubicBezTo>
                  <a:close/>
                  <a:moveTo>
                    <a:pt x="2" y="1142"/>
                  </a:moveTo>
                  <a:lnTo>
                    <a:pt x="2" y="1142"/>
                  </a:lnTo>
                  <a:cubicBezTo>
                    <a:pt x="2" y="1138"/>
                    <a:pt x="6" y="1134"/>
                    <a:pt x="10" y="1134"/>
                  </a:cubicBezTo>
                  <a:cubicBezTo>
                    <a:pt x="15" y="1134"/>
                    <a:pt x="19" y="1138"/>
                    <a:pt x="19" y="1142"/>
                  </a:cubicBezTo>
                  <a:lnTo>
                    <a:pt x="19" y="1142"/>
                  </a:lnTo>
                  <a:cubicBezTo>
                    <a:pt x="19" y="1147"/>
                    <a:pt x="15" y="1151"/>
                    <a:pt x="10" y="1151"/>
                  </a:cubicBezTo>
                  <a:cubicBezTo>
                    <a:pt x="6" y="1151"/>
                    <a:pt x="2" y="1147"/>
                    <a:pt x="2" y="1142"/>
                  </a:cubicBezTo>
                  <a:close/>
                  <a:moveTo>
                    <a:pt x="2" y="1109"/>
                  </a:moveTo>
                  <a:lnTo>
                    <a:pt x="2" y="1109"/>
                  </a:lnTo>
                  <a:cubicBezTo>
                    <a:pt x="2" y="1104"/>
                    <a:pt x="6" y="1101"/>
                    <a:pt x="10" y="1101"/>
                  </a:cubicBezTo>
                  <a:cubicBezTo>
                    <a:pt x="15" y="1101"/>
                    <a:pt x="19" y="1104"/>
                    <a:pt x="19" y="1109"/>
                  </a:cubicBezTo>
                  <a:lnTo>
                    <a:pt x="19" y="1109"/>
                  </a:lnTo>
                  <a:cubicBezTo>
                    <a:pt x="19" y="1114"/>
                    <a:pt x="15" y="1117"/>
                    <a:pt x="10" y="1117"/>
                  </a:cubicBezTo>
                  <a:cubicBezTo>
                    <a:pt x="6" y="1117"/>
                    <a:pt x="2" y="1114"/>
                    <a:pt x="2" y="1109"/>
                  </a:cubicBezTo>
                  <a:close/>
                  <a:moveTo>
                    <a:pt x="2" y="1076"/>
                  </a:moveTo>
                  <a:lnTo>
                    <a:pt x="2" y="1076"/>
                  </a:lnTo>
                  <a:cubicBezTo>
                    <a:pt x="2" y="1071"/>
                    <a:pt x="6" y="1067"/>
                    <a:pt x="10" y="1067"/>
                  </a:cubicBezTo>
                  <a:cubicBezTo>
                    <a:pt x="15" y="1067"/>
                    <a:pt x="19" y="1071"/>
                    <a:pt x="19" y="1076"/>
                  </a:cubicBezTo>
                  <a:lnTo>
                    <a:pt x="19" y="1076"/>
                  </a:lnTo>
                  <a:cubicBezTo>
                    <a:pt x="19" y="1080"/>
                    <a:pt x="15" y="1084"/>
                    <a:pt x="10" y="1084"/>
                  </a:cubicBezTo>
                  <a:cubicBezTo>
                    <a:pt x="6" y="1084"/>
                    <a:pt x="2" y="1080"/>
                    <a:pt x="2" y="1076"/>
                  </a:cubicBezTo>
                  <a:close/>
                  <a:moveTo>
                    <a:pt x="2" y="1042"/>
                  </a:moveTo>
                  <a:lnTo>
                    <a:pt x="2" y="1042"/>
                  </a:lnTo>
                  <a:cubicBezTo>
                    <a:pt x="2" y="1038"/>
                    <a:pt x="6" y="1034"/>
                    <a:pt x="10" y="1034"/>
                  </a:cubicBezTo>
                  <a:cubicBezTo>
                    <a:pt x="15" y="1034"/>
                    <a:pt x="19" y="1038"/>
                    <a:pt x="19" y="1042"/>
                  </a:cubicBezTo>
                  <a:lnTo>
                    <a:pt x="19" y="1042"/>
                  </a:lnTo>
                  <a:cubicBezTo>
                    <a:pt x="19" y="1047"/>
                    <a:pt x="15" y="1051"/>
                    <a:pt x="10" y="1051"/>
                  </a:cubicBezTo>
                  <a:cubicBezTo>
                    <a:pt x="6" y="1051"/>
                    <a:pt x="2" y="1047"/>
                    <a:pt x="2" y="1042"/>
                  </a:cubicBezTo>
                  <a:close/>
                  <a:moveTo>
                    <a:pt x="2" y="1009"/>
                  </a:moveTo>
                  <a:lnTo>
                    <a:pt x="2" y="1009"/>
                  </a:lnTo>
                  <a:cubicBezTo>
                    <a:pt x="2" y="1004"/>
                    <a:pt x="6" y="1001"/>
                    <a:pt x="10" y="1001"/>
                  </a:cubicBezTo>
                  <a:cubicBezTo>
                    <a:pt x="15" y="1001"/>
                    <a:pt x="19" y="1004"/>
                    <a:pt x="19" y="1009"/>
                  </a:cubicBezTo>
                  <a:lnTo>
                    <a:pt x="19" y="1009"/>
                  </a:lnTo>
                  <a:cubicBezTo>
                    <a:pt x="19" y="1014"/>
                    <a:pt x="15" y="1017"/>
                    <a:pt x="10" y="1017"/>
                  </a:cubicBezTo>
                  <a:cubicBezTo>
                    <a:pt x="6" y="1017"/>
                    <a:pt x="2" y="1014"/>
                    <a:pt x="2" y="1009"/>
                  </a:cubicBezTo>
                  <a:close/>
                  <a:moveTo>
                    <a:pt x="2" y="976"/>
                  </a:moveTo>
                  <a:lnTo>
                    <a:pt x="2" y="976"/>
                  </a:lnTo>
                  <a:cubicBezTo>
                    <a:pt x="2" y="971"/>
                    <a:pt x="6" y="967"/>
                    <a:pt x="10" y="967"/>
                  </a:cubicBezTo>
                  <a:cubicBezTo>
                    <a:pt x="15" y="967"/>
                    <a:pt x="19" y="971"/>
                    <a:pt x="19" y="976"/>
                  </a:cubicBezTo>
                  <a:lnTo>
                    <a:pt x="19" y="976"/>
                  </a:lnTo>
                  <a:cubicBezTo>
                    <a:pt x="19" y="980"/>
                    <a:pt x="15" y="984"/>
                    <a:pt x="10" y="984"/>
                  </a:cubicBezTo>
                  <a:cubicBezTo>
                    <a:pt x="6" y="984"/>
                    <a:pt x="2" y="980"/>
                    <a:pt x="2" y="976"/>
                  </a:cubicBezTo>
                  <a:close/>
                  <a:moveTo>
                    <a:pt x="2" y="942"/>
                  </a:moveTo>
                  <a:lnTo>
                    <a:pt x="2" y="942"/>
                  </a:lnTo>
                  <a:cubicBezTo>
                    <a:pt x="2" y="938"/>
                    <a:pt x="6" y="934"/>
                    <a:pt x="10" y="934"/>
                  </a:cubicBezTo>
                  <a:cubicBezTo>
                    <a:pt x="15" y="934"/>
                    <a:pt x="19" y="938"/>
                    <a:pt x="19" y="942"/>
                  </a:cubicBezTo>
                  <a:lnTo>
                    <a:pt x="19" y="942"/>
                  </a:lnTo>
                  <a:cubicBezTo>
                    <a:pt x="19" y="947"/>
                    <a:pt x="15" y="951"/>
                    <a:pt x="10" y="951"/>
                  </a:cubicBezTo>
                  <a:cubicBezTo>
                    <a:pt x="6" y="951"/>
                    <a:pt x="2" y="947"/>
                    <a:pt x="2" y="942"/>
                  </a:cubicBezTo>
                  <a:close/>
                  <a:moveTo>
                    <a:pt x="2" y="909"/>
                  </a:moveTo>
                  <a:lnTo>
                    <a:pt x="2" y="909"/>
                  </a:lnTo>
                  <a:cubicBezTo>
                    <a:pt x="2" y="904"/>
                    <a:pt x="6" y="901"/>
                    <a:pt x="10" y="901"/>
                  </a:cubicBezTo>
                  <a:cubicBezTo>
                    <a:pt x="15" y="901"/>
                    <a:pt x="19" y="904"/>
                    <a:pt x="19" y="909"/>
                  </a:cubicBezTo>
                  <a:lnTo>
                    <a:pt x="19" y="909"/>
                  </a:lnTo>
                  <a:cubicBezTo>
                    <a:pt x="19" y="914"/>
                    <a:pt x="15" y="917"/>
                    <a:pt x="10" y="917"/>
                  </a:cubicBezTo>
                  <a:cubicBezTo>
                    <a:pt x="6" y="917"/>
                    <a:pt x="2" y="914"/>
                    <a:pt x="2" y="909"/>
                  </a:cubicBezTo>
                  <a:close/>
                  <a:moveTo>
                    <a:pt x="2" y="876"/>
                  </a:moveTo>
                  <a:lnTo>
                    <a:pt x="2" y="876"/>
                  </a:lnTo>
                  <a:cubicBezTo>
                    <a:pt x="2" y="871"/>
                    <a:pt x="6" y="867"/>
                    <a:pt x="11" y="867"/>
                  </a:cubicBezTo>
                  <a:cubicBezTo>
                    <a:pt x="15" y="867"/>
                    <a:pt x="19" y="871"/>
                    <a:pt x="19" y="876"/>
                  </a:cubicBezTo>
                  <a:lnTo>
                    <a:pt x="19" y="876"/>
                  </a:lnTo>
                  <a:cubicBezTo>
                    <a:pt x="19" y="880"/>
                    <a:pt x="15" y="884"/>
                    <a:pt x="11" y="884"/>
                  </a:cubicBezTo>
                  <a:cubicBezTo>
                    <a:pt x="6" y="884"/>
                    <a:pt x="2" y="880"/>
                    <a:pt x="2" y="876"/>
                  </a:cubicBezTo>
                  <a:close/>
                  <a:moveTo>
                    <a:pt x="2" y="842"/>
                  </a:moveTo>
                  <a:lnTo>
                    <a:pt x="2" y="842"/>
                  </a:lnTo>
                  <a:cubicBezTo>
                    <a:pt x="2" y="838"/>
                    <a:pt x="6" y="834"/>
                    <a:pt x="11" y="834"/>
                  </a:cubicBezTo>
                  <a:cubicBezTo>
                    <a:pt x="15" y="834"/>
                    <a:pt x="19" y="838"/>
                    <a:pt x="19" y="842"/>
                  </a:cubicBezTo>
                  <a:lnTo>
                    <a:pt x="19" y="842"/>
                  </a:lnTo>
                  <a:cubicBezTo>
                    <a:pt x="19" y="847"/>
                    <a:pt x="15" y="851"/>
                    <a:pt x="11" y="851"/>
                  </a:cubicBezTo>
                  <a:cubicBezTo>
                    <a:pt x="6" y="851"/>
                    <a:pt x="2" y="847"/>
                    <a:pt x="2" y="842"/>
                  </a:cubicBezTo>
                  <a:close/>
                  <a:moveTo>
                    <a:pt x="2" y="809"/>
                  </a:moveTo>
                  <a:lnTo>
                    <a:pt x="2" y="809"/>
                  </a:lnTo>
                  <a:cubicBezTo>
                    <a:pt x="2" y="804"/>
                    <a:pt x="6" y="801"/>
                    <a:pt x="11" y="801"/>
                  </a:cubicBezTo>
                  <a:cubicBezTo>
                    <a:pt x="15" y="801"/>
                    <a:pt x="19" y="804"/>
                    <a:pt x="19" y="809"/>
                  </a:cubicBezTo>
                  <a:lnTo>
                    <a:pt x="19" y="809"/>
                  </a:lnTo>
                  <a:cubicBezTo>
                    <a:pt x="19" y="814"/>
                    <a:pt x="15" y="817"/>
                    <a:pt x="11" y="817"/>
                  </a:cubicBezTo>
                  <a:cubicBezTo>
                    <a:pt x="6" y="817"/>
                    <a:pt x="2" y="814"/>
                    <a:pt x="2" y="809"/>
                  </a:cubicBezTo>
                  <a:close/>
                  <a:moveTo>
                    <a:pt x="2" y="776"/>
                  </a:moveTo>
                  <a:lnTo>
                    <a:pt x="2" y="776"/>
                  </a:lnTo>
                  <a:cubicBezTo>
                    <a:pt x="2" y="771"/>
                    <a:pt x="6" y="767"/>
                    <a:pt x="11" y="767"/>
                  </a:cubicBezTo>
                  <a:cubicBezTo>
                    <a:pt x="15" y="767"/>
                    <a:pt x="19" y="771"/>
                    <a:pt x="19" y="776"/>
                  </a:cubicBezTo>
                  <a:lnTo>
                    <a:pt x="19" y="776"/>
                  </a:lnTo>
                  <a:cubicBezTo>
                    <a:pt x="19" y="780"/>
                    <a:pt x="15" y="784"/>
                    <a:pt x="11" y="784"/>
                  </a:cubicBezTo>
                  <a:cubicBezTo>
                    <a:pt x="6" y="784"/>
                    <a:pt x="2" y="780"/>
                    <a:pt x="2" y="776"/>
                  </a:cubicBezTo>
                  <a:close/>
                  <a:moveTo>
                    <a:pt x="2" y="742"/>
                  </a:moveTo>
                  <a:lnTo>
                    <a:pt x="2" y="742"/>
                  </a:lnTo>
                  <a:cubicBezTo>
                    <a:pt x="2" y="738"/>
                    <a:pt x="6" y="734"/>
                    <a:pt x="11" y="734"/>
                  </a:cubicBezTo>
                  <a:cubicBezTo>
                    <a:pt x="15" y="734"/>
                    <a:pt x="19" y="738"/>
                    <a:pt x="19" y="742"/>
                  </a:cubicBezTo>
                  <a:lnTo>
                    <a:pt x="19" y="742"/>
                  </a:lnTo>
                  <a:cubicBezTo>
                    <a:pt x="19" y="747"/>
                    <a:pt x="15" y="751"/>
                    <a:pt x="11" y="751"/>
                  </a:cubicBezTo>
                  <a:cubicBezTo>
                    <a:pt x="6" y="751"/>
                    <a:pt x="2" y="747"/>
                    <a:pt x="2" y="742"/>
                  </a:cubicBezTo>
                  <a:close/>
                  <a:moveTo>
                    <a:pt x="2" y="709"/>
                  </a:moveTo>
                  <a:lnTo>
                    <a:pt x="2" y="709"/>
                  </a:lnTo>
                  <a:cubicBezTo>
                    <a:pt x="2" y="704"/>
                    <a:pt x="6" y="701"/>
                    <a:pt x="11" y="701"/>
                  </a:cubicBezTo>
                  <a:cubicBezTo>
                    <a:pt x="15" y="701"/>
                    <a:pt x="19" y="704"/>
                    <a:pt x="19" y="709"/>
                  </a:cubicBezTo>
                  <a:lnTo>
                    <a:pt x="19" y="709"/>
                  </a:lnTo>
                  <a:cubicBezTo>
                    <a:pt x="19" y="714"/>
                    <a:pt x="15" y="717"/>
                    <a:pt x="11" y="717"/>
                  </a:cubicBezTo>
                  <a:cubicBezTo>
                    <a:pt x="6" y="717"/>
                    <a:pt x="2" y="714"/>
                    <a:pt x="2" y="709"/>
                  </a:cubicBezTo>
                  <a:close/>
                  <a:moveTo>
                    <a:pt x="2" y="676"/>
                  </a:moveTo>
                  <a:lnTo>
                    <a:pt x="2" y="676"/>
                  </a:lnTo>
                  <a:cubicBezTo>
                    <a:pt x="2" y="671"/>
                    <a:pt x="6" y="667"/>
                    <a:pt x="11" y="667"/>
                  </a:cubicBezTo>
                  <a:cubicBezTo>
                    <a:pt x="15" y="667"/>
                    <a:pt x="19" y="671"/>
                    <a:pt x="19" y="676"/>
                  </a:cubicBezTo>
                  <a:lnTo>
                    <a:pt x="19" y="676"/>
                  </a:lnTo>
                  <a:cubicBezTo>
                    <a:pt x="19" y="680"/>
                    <a:pt x="15" y="684"/>
                    <a:pt x="11" y="684"/>
                  </a:cubicBezTo>
                  <a:cubicBezTo>
                    <a:pt x="6" y="684"/>
                    <a:pt x="2" y="680"/>
                    <a:pt x="2" y="676"/>
                  </a:cubicBezTo>
                  <a:close/>
                  <a:moveTo>
                    <a:pt x="3" y="642"/>
                  </a:moveTo>
                  <a:lnTo>
                    <a:pt x="3" y="642"/>
                  </a:lnTo>
                  <a:cubicBezTo>
                    <a:pt x="3" y="638"/>
                    <a:pt x="6" y="634"/>
                    <a:pt x="11" y="634"/>
                  </a:cubicBezTo>
                  <a:cubicBezTo>
                    <a:pt x="15" y="634"/>
                    <a:pt x="19" y="638"/>
                    <a:pt x="19" y="642"/>
                  </a:cubicBezTo>
                  <a:lnTo>
                    <a:pt x="19" y="642"/>
                  </a:lnTo>
                  <a:cubicBezTo>
                    <a:pt x="19" y="647"/>
                    <a:pt x="15" y="651"/>
                    <a:pt x="11" y="651"/>
                  </a:cubicBezTo>
                  <a:cubicBezTo>
                    <a:pt x="6" y="651"/>
                    <a:pt x="3" y="647"/>
                    <a:pt x="3" y="642"/>
                  </a:cubicBezTo>
                  <a:close/>
                  <a:moveTo>
                    <a:pt x="3" y="609"/>
                  </a:moveTo>
                  <a:lnTo>
                    <a:pt x="3" y="609"/>
                  </a:lnTo>
                  <a:cubicBezTo>
                    <a:pt x="3" y="604"/>
                    <a:pt x="6" y="601"/>
                    <a:pt x="11" y="601"/>
                  </a:cubicBezTo>
                  <a:cubicBezTo>
                    <a:pt x="16" y="601"/>
                    <a:pt x="19" y="604"/>
                    <a:pt x="19" y="609"/>
                  </a:cubicBezTo>
                  <a:lnTo>
                    <a:pt x="19" y="609"/>
                  </a:lnTo>
                  <a:cubicBezTo>
                    <a:pt x="19" y="613"/>
                    <a:pt x="16" y="617"/>
                    <a:pt x="11" y="617"/>
                  </a:cubicBezTo>
                  <a:cubicBezTo>
                    <a:pt x="6" y="617"/>
                    <a:pt x="3" y="613"/>
                    <a:pt x="3" y="609"/>
                  </a:cubicBezTo>
                  <a:close/>
                  <a:moveTo>
                    <a:pt x="3" y="576"/>
                  </a:moveTo>
                  <a:lnTo>
                    <a:pt x="3" y="576"/>
                  </a:lnTo>
                  <a:cubicBezTo>
                    <a:pt x="3" y="571"/>
                    <a:pt x="6" y="567"/>
                    <a:pt x="11" y="567"/>
                  </a:cubicBezTo>
                  <a:cubicBezTo>
                    <a:pt x="16" y="567"/>
                    <a:pt x="19" y="571"/>
                    <a:pt x="19" y="576"/>
                  </a:cubicBezTo>
                  <a:lnTo>
                    <a:pt x="19" y="576"/>
                  </a:lnTo>
                  <a:cubicBezTo>
                    <a:pt x="19" y="580"/>
                    <a:pt x="16" y="584"/>
                    <a:pt x="11" y="584"/>
                  </a:cubicBezTo>
                  <a:cubicBezTo>
                    <a:pt x="6" y="584"/>
                    <a:pt x="3" y="580"/>
                    <a:pt x="3" y="576"/>
                  </a:cubicBezTo>
                  <a:close/>
                  <a:moveTo>
                    <a:pt x="3" y="542"/>
                  </a:moveTo>
                  <a:lnTo>
                    <a:pt x="3" y="542"/>
                  </a:lnTo>
                  <a:cubicBezTo>
                    <a:pt x="3" y="538"/>
                    <a:pt x="6" y="534"/>
                    <a:pt x="11" y="534"/>
                  </a:cubicBezTo>
                  <a:cubicBezTo>
                    <a:pt x="16" y="534"/>
                    <a:pt x="19" y="538"/>
                    <a:pt x="19" y="542"/>
                  </a:cubicBezTo>
                  <a:lnTo>
                    <a:pt x="19" y="542"/>
                  </a:lnTo>
                  <a:cubicBezTo>
                    <a:pt x="19" y="547"/>
                    <a:pt x="16" y="551"/>
                    <a:pt x="11" y="551"/>
                  </a:cubicBezTo>
                  <a:cubicBezTo>
                    <a:pt x="6" y="551"/>
                    <a:pt x="3" y="547"/>
                    <a:pt x="3" y="542"/>
                  </a:cubicBezTo>
                  <a:close/>
                  <a:moveTo>
                    <a:pt x="3" y="509"/>
                  </a:moveTo>
                  <a:lnTo>
                    <a:pt x="3" y="509"/>
                  </a:lnTo>
                  <a:cubicBezTo>
                    <a:pt x="3" y="504"/>
                    <a:pt x="6" y="500"/>
                    <a:pt x="11" y="500"/>
                  </a:cubicBezTo>
                  <a:cubicBezTo>
                    <a:pt x="16" y="500"/>
                    <a:pt x="19" y="504"/>
                    <a:pt x="19" y="509"/>
                  </a:cubicBezTo>
                  <a:lnTo>
                    <a:pt x="19" y="509"/>
                  </a:lnTo>
                  <a:cubicBezTo>
                    <a:pt x="19" y="513"/>
                    <a:pt x="16" y="517"/>
                    <a:pt x="11" y="517"/>
                  </a:cubicBezTo>
                  <a:cubicBezTo>
                    <a:pt x="6" y="517"/>
                    <a:pt x="3" y="513"/>
                    <a:pt x="3" y="509"/>
                  </a:cubicBezTo>
                  <a:close/>
                  <a:moveTo>
                    <a:pt x="3" y="475"/>
                  </a:moveTo>
                  <a:lnTo>
                    <a:pt x="3" y="475"/>
                  </a:lnTo>
                  <a:cubicBezTo>
                    <a:pt x="3" y="471"/>
                    <a:pt x="6" y="467"/>
                    <a:pt x="11" y="467"/>
                  </a:cubicBezTo>
                  <a:cubicBezTo>
                    <a:pt x="16" y="467"/>
                    <a:pt x="19" y="471"/>
                    <a:pt x="19" y="475"/>
                  </a:cubicBezTo>
                  <a:lnTo>
                    <a:pt x="19" y="475"/>
                  </a:lnTo>
                  <a:cubicBezTo>
                    <a:pt x="19" y="480"/>
                    <a:pt x="16" y="484"/>
                    <a:pt x="11" y="484"/>
                  </a:cubicBezTo>
                  <a:cubicBezTo>
                    <a:pt x="6" y="484"/>
                    <a:pt x="3" y="480"/>
                    <a:pt x="3" y="475"/>
                  </a:cubicBezTo>
                  <a:close/>
                  <a:moveTo>
                    <a:pt x="3" y="442"/>
                  </a:moveTo>
                  <a:lnTo>
                    <a:pt x="3" y="442"/>
                  </a:lnTo>
                  <a:cubicBezTo>
                    <a:pt x="3" y="438"/>
                    <a:pt x="7" y="434"/>
                    <a:pt x="11" y="434"/>
                  </a:cubicBezTo>
                  <a:cubicBezTo>
                    <a:pt x="16" y="434"/>
                    <a:pt x="19" y="438"/>
                    <a:pt x="19" y="442"/>
                  </a:cubicBezTo>
                  <a:lnTo>
                    <a:pt x="19" y="442"/>
                  </a:lnTo>
                  <a:cubicBezTo>
                    <a:pt x="19" y="447"/>
                    <a:pt x="16" y="450"/>
                    <a:pt x="11" y="450"/>
                  </a:cubicBezTo>
                  <a:cubicBezTo>
                    <a:pt x="7" y="450"/>
                    <a:pt x="3" y="447"/>
                    <a:pt x="3" y="442"/>
                  </a:cubicBezTo>
                  <a:close/>
                  <a:moveTo>
                    <a:pt x="3" y="409"/>
                  </a:moveTo>
                  <a:lnTo>
                    <a:pt x="3" y="409"/>
                  </a:lnTo>
                  <a:cubicBezTo>
                    <a:pt x="3" y="404"/>
                    <a:pt x="7" y="400"/>
                    <a:pt x="11" y="400"/>
                  </a:cubicBezTo>
                  <a:cubicBezTo>
                    <a:pt x="16" y="400"/>
                    <a:pt x="20" y="404"/>
                    <a:pt x="20" y="409"/>
                  </a:cubicBezTo>
                  <a:lnTo>
                    <a:pt x="20" y="409"/>
                  </a:lnTo>
                  <a:cubicBezTo>
                    <a:pt x="20" y="413"/>
                    <a:pt x="16" y="417"/>
                    <a:pt x="11" y="417"/>
                  </a:cubicBezTo>
                  <a:cubicBezTo>
                    <a:pt x="7" y="417"/>
                    <a:pt x="3" y="413"/>
                    <a:pt x="3" y="409"/>
                  </a:cubicBezTo>
                  <a:close/>
                  <a:moveTo>
                    <a:pt x="3" y="375"/>
                  </a:moveTo>
                  <a:lnTo>
                    <a:pt x="3" y="375"/>
                  </a:lnTo>
                  <a:cubicBezTo>
                    <a:pt x="3" y="371"/>
                    <a:pt x="7" y="367"/>
                    <a:pt x="11" y="367"/>
                  </a:cubicBezTo>
                  <a:cubicBezTo>
                    <a:pt x="16" y="367"/>
                    <a:pt x="20" y="371"/>
                    <a:pt x="20" y="375"/>
                  </a:cubicBezTo>
                  <a:lnTo>
                    <a:pt x="20" y="375"/>
                  </a:lnTo>
                  <a:cubicBezTo>
                    <a:pt x="20" y="380"/>
                    <a:pt x="16" y="384"/>
                    <a:pt x="11" y="384"/>
                  </a:cubicBezTo>
                  <a:cubicBezTo>
                    <a:pt x="7" y="384"/>
                    <a:pt x="3" y="380"/>
                    <a:pt x="3" y="375"/>
                  </a:cubicBezTo>
                  <a:close/>
                  <a:moveTo>
                    <a:pt x="3" y="342"/>
                  </a:moveTo>
                  <a:lnTo>
                    <a:pt x="3" y="342"/>
                  </a:lnTo>
                  <a:cubicBezTo>
                    <a:pt x="3" y="337"/>
                    <a:pt x="7" y="334"/>
                    <a:pt x="11" y="334"/>
                  </a:cubicBezTo>
                  <a:cubicBezTo>
                    <a:pt x="16" y="334"/>
                    <a:pt x="20" y="337"/>
                    <a:pt x="20" y="342"/>
                  </a:cubicBezTo>
                  <a:lnTo>
                    <a:pt x="20" y="342"/>
                  </a:lnTo>
                  <a:cubicBezTo>
                    <a:pt x="20" y="347"/>
                    <a:pt x="16" y="350"/>
                    <a:pt x="11" y="350"/>
                  </a:cubicBezTo>
                  <a:cubicBezTo>
                    <a:pt x="7" y="350"/>
                    <a:pt x="3" y="347"/>
                    <a:pt x="3" y="342"/>
                  </a:cubicBezTo>
                  <a:close/>
                  <a:moveTo>
                    <a:pt x="3" y="309"/>
                  </a:moveTo>
                  <a:lnTo>
                    <a:pt x="3" y="309"/>
                  </a:lnTo>
                  <a:cubicBezTo>
                    <a:pt x="3" y="304"/>
                    <a:pt x="7" y="300"/>
                    <a:pt x="11" y="300"/>
                  </a:cubicBezTo>
                  <a:cubicBezTo>
                    <a:pt x="16" y="300"/>
                    <a:pt x="20" y="304"/>
                    <a:pt x="20" y="309"/>
                  </a:cubicBezTo>
                  <a:lnTo>
                    <a:pt x="20" y="309"/>
                  </a:lnTo>
                  <a:cubicBezTo>
                    <a:pt x="20" y="313"/>
                    <a:pt x="16" y="317"/>
                    <a:pt x="11" y="317"/>
                  </a:cubicBezTo>
                  <a:cubicBezTo>
                    <a:pt x="7" y="317"/>
                    <a:pt x="3" y="313"/>
                    <a:pt x="3" y="309"/>
                  </a:cubicBezTo>
                  <a:close/>
                  <a:moveTo>
                    <a:pt x="3" y="275"/>
                  </a:moveTo>
                  <a:lnTo>
                    <a:pt x="3" y="275"/>
                  </a:lnTo>
                  <a:cubicBezTo>
                    <a:pt x="3" y="271"/>
                    <a:pt x="7" y="267"/>
                    <a:pt x="11" y="267"/>
                  </a:cubicBezTo>
                  <a:cubicBezTo>
                    <a:pt x="16" y="267"/>
                    <a:pt x="20" y="271"/>
                    <a:pt x="20" y="275"/>
                  </a:cubicBezTo>
                  <a:lnTo>
                    <a:pt x="20" y="275"/>
                  </a:lnTo>
                  <a:cubicBezTo>
                    <a:pt x="20" y="280"/>
                    <a:pt x="16" y="284"/>
                    <a:pt x="11" y="284"/>
                  </a:cubicBezTo>
                  <a:cubicBezTo>
                    <a:pt x="7" y="284"/>
                    <a:pt x="3" y="280"/>
                    <a:pt x="3" y="275"/>
                  </a:cubicBezTo>
                  <a:close/>
                  <a:moveTo>
                    <a:pt x="3" y="242"/>
                  </a:moveTo>
                  <a:lnTo>
                    <a:pt x="3" y="242"/>
                  </a:lnTo>
                  <a:cubicBezTo>
                    <a:pt x="3" y="237"/>
                    <a:pt x="7" y="234"/>
                    <a:pt x="11" y="234"/>
                  </a:cubicBezTo>
                  <a:cubicBezTo>
                    <a:pt x="16" y="234"/>
                    <a:pt x="20" y="237"/>
                    <a:pt x="20" y="242"/>
                  </a:cubicBezTo>
                  <a:lnTo>
                    <a:pt x="20" y="242"/>
                  </a:lnTo>
                  <a:cubicBezTo>
                    <a:pt x="20" y="247"/>
                    <a:pt x="16" y="250"/>
                    <a:pt x="11" y="250"/>
                  </a:cubicBezTo>
                  <a:cubicBezTo>
                    <a:pt x="7" y="250"/>
                    <a:pt x="3" y="247"/>
                    <a:pt x="3" y="242"/>
                  </a:cubicBezTo>
                  <a:close/>
                  <a:moveTo>
                    <a:pt x="3" y="209"/>
                  </a:moveTo>
                  <a:lnTo>
                    <a:pt x="3" y="209"/>
                  </a:lnTo>
                  <a:cubicBezTo>
                    <a:pt x="3" y="204"/>
                    <a:pt x="7" y="200"/>
                    <a:pt x="11" y="200"/>
                  </a:cubicBezTo>
                  <a:cubicBezTo>
                    <a:pt x="16" y="200"/>
                    <a:pt x="20" y="204"/>
                    <a:pt x="20" y="209"/>
                  </a:cubicBezTo>
                  <a:lnTo>
                    <a:pt x="20" y="209"/>
                  </a:lnTo>
                  <a:cubicBezTo>
                    <a:pt x="20" y="213"/>
                    <a:pt x="16" y="217"/>
                    <a:pt x="11" y="217"/>
                  </a:cubicBezTo>
                  <a:cubicBezTo>
                    <a:pt x="7" y="217"/>
                    <a:pt x="3" y="213"/>
                    <a:pt x="3" y="209"/>
                  </a:cubicBezTo>
                  <a:close/>
                  <a:moveTo>
                    <a:pt x="3" y="175"/>
                  </a:moveTo>
                  <a:lnTo>
                    <a:pt x="3" y="175"/>
                  </a:lnTo>
                  <a:cubicBezTo>
                    <a:pt x="3" y="171"/>
                    <a:pt x="7" y="167"/>
                    <a:pt x="12" y="167"/>
                  </a:cubicBezTo>
                  <a:cubicBezTo>
                    <a:pt x="16" y="167"/>
                    <a:pt x="20" y="171"/>
                    <a:pt x="20" y="175"/>
                  </a:cubicBezTo>
                  <a:lnTo>
                    <a:pt x="20" y="175"/>
                  </a:lnTo>
                  <a:cubicBezTo>
                    <a:pt x="20" y="180"/>
                    <a:pt x="16" y="184"/>
                    <a:pt x="12" y="184"/>
                  </a:cubicBezTo>
                  <a:cubicBezTo>
                    <a:pt x="7" y="184"/>
                    <a:pt x="3" y="180"/>
                    <a:pt x="3" y="175"/>
                  </a:cubicBezTo>
                  <a:close/>
                  <a:moveTo>
                    <a:pt x="3" y="142"/>
                  </a:moveTo>
                  <a:lnTo>
                    <a:pt x="3" y="142"/>
                  </a:lnTo>
                  <a:cubicBezTo>
                    <a:pt x="3" y="137"/>
                    <a:pt x="7" y="134"/>
                    <a:pt x="12" y="134"/>
                  </a:cubicBezTo>
                  <a:cubicBezTo>
                    <a:pt x="16" y="134"/>
                    <a:pt x="20" y="137"/>
                    <a:pt x="20" y="142"/>
                  </a:cubicBezTo>
                  <a:lnTo>
                    <a:pt x="20" y="142"/>
                  </a:lnTo>
                  <a:cubicBezTo>
                    <a:pt x="20" y="147"/>
                    <a:pt x="16" y="150"/>
                    <a:pt x="12" y="150"/>
                  </a:cubicBezTo>
                  <a:cubicBezTo>
                    <a:pt x="7" y="150"/>
                    <a:pt x="3" y="147"/>
                    <a:pt x="3" y="142"/>
                  </a:cubicBezTo>
                  <a:close/>
                  <a:moveTo>
                    <a:pt x="3" y="109"/>
                  </a:moveTo>
                  <a:lnTo>
                    <a:pt x="3" y="109"/>
                  </a:lnTo>
                  <a:cubicBezTo>
                    <a:pt x="3" y="104"/>
                    <a:pt x="7" y="100"/>
                    <a:pt x="12" y="100"/>
                  </a:cubicBezTo>
                  <a:cubicBezTo>
                    <a:pt x="16" y="100"/>
                    <a:pt x="20" y="104"/>
                    <a:pt x="20" y="109"/>
                  </a:cubicBezTo>
                  <a:lnTo>
                    <a:pt x="20" y="109"/>
                  </a:lnTo>
                  <a:cubicBezTo>
                    <a:pt x="20" y="113"/>
                    <a:pt x="16" y="117"/>
                    <a:pt x="12" y="117"/>
                  </a:cubicBezTo>
                  <a:cubicBezTo>
                    <a:pt x="7" y="117"/>
                    <a:pt x="3" y="113"/>
                    <a:pt x="3" y="109"/>
                  </a:cubicBezTo>
                  <a:close/>
                  <a:moveTo>
                    <a:pt x="3" y="75"/>
                  </a:moveTo>
                  <a:lnTo>
                    <a:pt x="3" y="75"/>
                  </a:lnTo>
                  <a:cubicBezTo>
                    <a:pt x="3" y="71"/>
                    <a:pt x="7" y="67"/>
                    <a:pt x="12" y="67"/>
                  </a:cubicBezTo>
                  <a:cubicBezTo>
                    <a:pt x="16" y="67"/>
                    <a:pt x="20" y="71"/>
                    <a:pt x="20" y="75"/>
                  </a:cubicBezTo>
                  <a:lnTo>
                    <a:pt x="20" y="75"/>
                  </a:lnTo>
                  <a:cubicBezTo>
                    <a:pt x="20" y="80"/>
                    <a:pt x="16" y="84"/>
                    <a:pt x="12" y="84"/>
                  </a:cubicBezTo>
                  <a:cubicBezTo>
                    <a:pt x="7" y="84"/>
                    <a:pt x="3" y="80"/>
                    <a:pt x="3" y="75"/>
                  </a:cubicBezTo>
                  <a:close/>
                  <a:moveTo>
                    <a:pt x="3" y="42"/>
                  </a:moveTo>
                  <a:lnTo>
                    <a:pt x="3" y="42"/>
                  </a:lnTo>
                  <a:cubicBezTo>
                    <a:pt x="3" y="37"/>
                    <a:pt x="7" y="34"/>
                    <a:pt x="12" y="34"/>
                  </a:cubicBezTo>
                  <a:cubicBezTo>
                    <a:pt x="16" y="34"/>
                    <a:pt x="20" y="37"/>
                    <a:pt x="20" y="42"/>
                  </a:cubicBezTo>
                  <a:lnTo>
                    <a:pt x="20" y="42"/>
                  </a:lnTo>
                  <a:cubicBezTo>
                    <a:pt x="20" y="47"/>
                    <a:pt x="16" y="50"/>
                    <a:pt x="12" y="50"/>
                  </a:cubicBezTo>
                  <a:cubicBezTo>
                    <a:pt x="7" y="50"/>
                    <a:pt x="3" y="47"/>
                    <a:pt x="3" y="42"/>
                  </a:cubicBezTo>
                  <a:close/>
                  <a:moveTo>
                    <a:pt x="3" y="9"/>
                  </a:moveTo>
                  <a:lnTo>
                    <a:pt x="3" y="9"/>
                  </a:lnTo>
                  <a:cubicBezTo>
                    <a:pt x="3" y="4"/>
                    <a:pt x="7" y="0"/>
                    <a:pt x="12" y="0"/>
                  </a:cubicBezTo>
                  <a:cubicBezTo>
                    <a:pt x="16" y="0"/>
                    <a:pt x="20" y="4"/>
                    <a:pt x="20" y="9"/>
                  </a:cubicBezTo>
                  <a:lnTo>
                    <a:pt x="20" y="9"/>
                  </a:lnTo>
                  <a:cubicBezTo>
                    <a:pt x="20" y="13"/>
                    <a:pt x="16" y="17"/>
                    <a:pt x="12" y="17"/>
                  </a:cubicBezTo>
                  <a:cubicBezTo>
                    <a:pt x="7" y="17"/>
                    <a:pt x="3" y="13"/>
                    <a:pt x="3" y="9"/>
                  </a:cubicBez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649680" y="3860640"/>
              <a:ext cx="3240" cy="454320"/>
            </a:xfrm>
            <a:custGeom>
              <a:avLst/>
              <a:gdLst/>
              <a:ahLst/>
              <a:rect l="l" t="t" r="r" b="b"/>
              <a:pathLst>
                <a:path w="20" h="2385">
                  <a:moveTo>
                    <a:pt x="0" y="2376"/>
                  </a:moveTo>
                  <a:lnTo>
                    <a:pt x="0" y="2376"/>
                  </a:lnTo>
                  <a:cubicBezTo>
                    <a:pt x="0" y="2372"/>
                    <a:pt x="4" y="2368"/>
                    <a:pt x="8" y="2368"/>
                  </a:cubicBezTo>
                  <a:cubicBezTo>
                    <a:pt x="13" y="2368"/>
                    <a:pt x="17" y="2372"/>
                    <a:pt x="17" y="2376"/>
                  </a:cubicBezTo>
                  <a:lnTo>
                    <a:pt x="17" y="2376"/>
                  </a:lnTo>
                  <a:cubicBezTo>
                    <a:pt x="17" y="2381"/>
                    <a:pt x="13" y="2385"/>
                    <a:pt x="8" y="2385"/>
                  </a:cubicBezTo>
                  <a:cubicBezTo>
                    <a:pt x="4" y="2385"/>
                    <a:pt x="0" y="2381"/>
                    <a:pt x="0" y="2376"/>
                  </a:cubicBezTo>
                  <a:close/>
                  <a:moveTo>
                    <a:pt x="0" y="2343"/>
                  </a:moveTo>
                  <a:lnTo>
                    <a:pt x="0" y="2343"/>
                  </a:lnTo>
                  <a:cubicBezTo>
                    <a:pt x="0" y="2338"/>
                    <a:pt x="4" y="2335"/>
                    <a:pt x="9" y="2335"/>
                  </a:cubicBezTo>
                  <a:cubicBezTo>
                    <a:pt x="13" y="2335"/>
                    <a:pt x="17" y="2338"/>
                    <a:pt x="17" y="2343"/>
                  </a:cubicBezTo>
                  <a:lnTo>
                    <a:pt x="17" y="2343"/>
                  </a:lnTo>
                  <a:cubicBezTo>
                    <a:pt x="17" y="2348"/>
                    <a:pt x="13" y="2351"/>
                    <a:pt x="9" y="2351"/>
                  </a:cubicBezTo>
                  <a:cubicBezTo>
                    <a:pt x="4" y="2351"/>
                    <a:pt x="0" y="2348"/>
                    <a:pt x="0" y="2343"/>
                  </a:cubicBezTo>
                  <a:close/>
                  <a:moveTo>
                    <a:pt x="0" y="2310"/>
                  </a:moveTo>
                  <a:lnTo>
                    <a:pt x="0" y="2310"/>
                  </a:lnTo>
                  <a:cubicBezTo>
                    <a:pt x="0" y="2305"/>
                    <a:pt x="4" y="2301"/>
                    <a:pt x="9" y="2301"/>
                  </a:cubicBezTo>
                  <a:cubicBezTo>
                    <a:pt x="13" y="2301"/>
                    <a:pt x="17" y="2305"/>
                    <a:pt x="17" y="2310"/>
                  </a:cubicBezTo>
                  <a:lnTo>
                    <a:pt x="17" y="2310"/>
                  </a:lnTo>
                  <a:cubicBezTo>
                    <a:pt x="17" y="2314"/>
                    <a:pt x="13" y="2318"/>
                    <a:pt x="9" y="2318"/>
                  </a:cubicBezTo>
                  <a:cubicBezTo>
                    <a:pt x="4" y="2318"/>
                    <a:pt x="0" y="2314"/>
                    <a:pt x="0" y="2310"/>
                  </a:cubicBezTo>
                  <a:close/>
                  <a:moveTo>
                    <a:pt x="0" y="2276"/>
                  </a:moveTo>
                  <a:lnTo>
                    <a:pt x="0" y="2276"/>
                  </a:lnTo>
                  <a:cubicBezTo>
                    <a:pt x="0" y="2272"/>
                    <a:pt x="4" y="2268"/>
                    <a:pt x="9" y="2268"/>
                  </a:cubicBezTo>
                  <a:cubicBezTo>
                    <a:pt x="13" y="2268"/>
                    <a:pt x="17" y="2272"/>
                    <a:pt x="17" y="2276"/>
                  </a:cubicBezTo>
                  <a:lnTo>
                    <a:pt x="17" y="2276"/>
                  </a:lnTo>
                  <a:cubicBezTo>
                    <a:pt x="17" y="2281"/>
                    <a:pt x="13" y="2285"/>
                    <a:pt x="9" y="2285"/>
                  </a:cubicBezTo>
                  <a:cubicBezTo>
                    <a:pt x="4" y="2285"/>
                    <a:pt x="0" y="2281"/>
                    <a:pt x="0" y="2276"/>
                  </a:cubicBezTo>
                  <a:close/>
                  <a:moveTo>
                    <a:pt x="0" y="2243"/>
                  </a:moveTo>
                  <a:lnTo>
                    <a:pt x="0" y="2243"/>
                  </a:lnTo>
                  <a:cubicBezTo>
                    <a:pt x="0" y="2238"/>
                    <a:pt x="4" y="2235"/>
                    <a:pt x="9" y="2235"/>
                  </a:cubicBezTo>
                  <a:cubicBezTo>
                    <a:pt x="13" y="2235"/>
                    <a:pt x="17" y="2238"/>
                    <a:pt x="17" y="2243"/>
                  </a:cubicBezTo>
                  <a:lnTo>
                    <a:pt x="17" y="2243"/>
                  </a:lnTo>
                  <a:cubicBezTo>
                    <a:pt x="17" y="2248"/>
                    <a:pt x="13" y="2251"/>
                    <a:pt x="9" y="2251"/>
                  </a:cubicBezTo>
                  <a:cubicBezTo>
                    <a:pt x="4" y="2251"/>
                    <a:pt x="0" y="2248"/>
                    <a:pt x="0" y="2243"/>
                  </a:cubicBezTo>
                  <a:close/>
                  <a:moveTo>
                    <a:pt x="0" y="2210"/>
                  </a:moveTo>
                  <a:lnTo>
                    <a:pt x="0" y="2210"/>
                  </a:lnTo>
                  <a:cubicBezTo>
                    <a:pt x="0" y="2205"/>
                    <a:pt x="4" y="2201"/>
                    <a:pt x="9" y="2201"/>
                  </a:cubicBezTo>
                  <a:cubicBezTo>
                    <a:pt x="13" y="2201"/>
                    <a:pt x="17" y="2205"/>
                    <a:pt x="17" y="2210"/>
                  </a:cubicBezTo>
                  <a:lnTo>
                    <a:pt x="17" y="2210"/>
                  </a:lnTo>
                  <a:cubicBezTo>
                    <a:pt x="17" y="2214"/>
                    <a:pt x="13" y="2218"/>
                    <a:pt x="9" y="2218"/>
                  </a:cubicBezTo>
                  <a:cubicBezTo>
                    <a:pt x="4" y="2218"/>
                    <a:pt x="0" y="2214"/>
                    <a:pt x="0" y="2210"/>
                  </a:cubicBezTo>
                  <a:close/>
                  <a:moveTo>
                    <a:pt x="0" y="2176"/>
                  </a:moveTo>
                  <a:lnTo>
                    <a:pt x="0" y="2176"/>
                  </a:lnTo>
                  <a:cubicBezTo>
                    <a:pt x="0" y="2172"/>
                    <a:pt x="4" y="2168"/>
                    <a:pt x="9" y="2168"/>
                  </a:cubicBezTo>
                  <a:cubicBezTo>
                    <a:pt x="13" y="2168"/>
                    <a:pt x="17" y="2172"/>
                    <a:pt x="17" y="2176"/>
                  </a:cubicBezTo>
                  <a:lnTo>
                    <a:pt x="17" y="2176"/>
                  </a:lnTo>
                  <a:cubicBezTo>
                    <a:pt x="17" y="2181"/>
                    <a:pt x="13" y="2185"/>
                    <a:pt x="9" y="2185"/>
                  </a:cubicBezTo>
                  <a:cubicBezTo>
                    <a:pt x="4" y="2185"/>
                    <a:pt x="0" y="2181"/>
                    <a:pt x="0" y="2176"/>
                  </a:cubicBezTo>
                  <a:close/>
                  <a:moveTo>
                    <a:pt x="0" y="2143"/>
                  </a:moveTo>
                  <a:lnTo>
                    <a:pt x="0" y="2143"/>
                  </a:lnTo>
                  <a:cubicBezTo>
                    <a:pt x="0" y="2138"/>
                    <a:pt x="4" y="2135"/>
                    <a:pt x="9" y="2135"/>
                  </a:cubicBezTo>
                  <a:cubicBezTo>
                    <a:pt x="13" y="2135"/>
                    <a:pt x="17" y="2138"/>
                    <a:pt x="17" y="2143"/>
                  </a:cubicBezTo>
                  <a:lnTo>
                    <a:pt x="17" y="2143"/>
                  </a:lnTo>
                  <a:cubicBezTo>
                    <a:pt x="17" y="2148"/>
                    <a:pt x="13" y="2151"/>
                    <a:pt x="9" y="2151"/>
                  </a:cubicBezTo>
                  <a:cubicBezTo>
                    <a:pt x="4" y="2151"/>
                    <a:pt x="0" y="2148"/>
                    <a:pt x="0" y="2143"/>
                  </a:cubicBezTo>
                  <a:close/>
                  <a:moveTo>
                    <a:pt x="1" y="2110"/>
                  </a:moveTo>
                  <a:lnTo>
                    <a:pt x="1" y="2110"/>
                  </a:lnTo>
                  <a:cubicBezTo>
                    <a:pt x="1" y="2105"/>
                    <a:pt x="4" y="2101"/>
                    <a:pt x="9" y="2101"/>
                  </a:cubicBezTo>
                  <a:cubicBezTo>
                    <a:pt x="13" y="2101"/>
                    <a:pt x="17" y="2105"/>
                    <a:pt x="17" y="2110"/>
                  </a:cubicBezTo>
                  <a:lnTo>
                    <a:pt x="17" y="2110"/>
                  </a:lnTo>
                  <a:cubicBezTo>
                    <a:pt x="17" y="2114"/>
                    <a:pt x="13" y="2118"/>
                    <a:pt x="9" y="2118"/>
                  </a:cubicBezTo>
                  <a:cubicBezTo>
                    <a:pt x="4" y="2118"/>
                    <a:pt x="1" y="2114"/>
                    <a:pt x="1" y="2110"/>
                  </a:cubicBezTo>
                  <a:close/>
                  <a:moveTo>
                    <a:pt x="1" y="2076"/>
                  </a:moveTo>
                  <a:lnTo>
                    <a:pt x="1" y="2076"/>
                  </a:lnTo>
                  <a:cubicBezTo>
                    <a:pt x="1" y="2072"/>
                    <a:pt x="4" y="2068"/>
                    <a:pt x="9" y="2068"/>
                  </a:cubicBezTo>
                  <a:cubicBezTo>
                    <a:pt x="13" y="2068"/>
                    <a:pt x="17" y="2072"/>
                    <a:pt x="17" y="2076"/>
                  </a:cubicBezTo>
                  <a:lnTo>
                    <a:pt x="17" y="2076"/>
                  </a:lnTo>
                  <a:cubicBezTo>
                    <a:pt x="17" y="2081"/>
                    <a:pt x="13" y="2085"/>
                    <a:pt x="9" y="2085"/>
                  </a:cubicBezTo>
                  <a:cubicBezTo>
                    <a:pt x="4" y="2085"/>
                    <a:pt x="1" y="2081"/>
                    <a:pt x="1" y="2076"/>
                  </a:cubicBezTo>
                  <a:close/>
                  <a:moveTo>
                    <a:pt x="1" y="2043"/>
                  </a:moveTo>
                  <a:lnTo>
                    <a:pt x="1" y="2043"/>
                  </a:lnTo>
                  <a:cubicBezTo>
                    <a:pt x="1" y="2038"/>
                    <a:pt x="4" y="2035"/>
                    <a:pt x="9" y="2035"/>
                  </a:cubicBezTo>
                  <a:cubicBezTo>
                    <a:pt x="14" y="2035"/>
                    <a:pt x="17" y="2038"/>
                    <a:pt x="17" y="2043"/>
                  </a:cubicBezTo>
                  <a:lnTo>
                    <a:pt x="17" y="2043"/>
                  </a:lnTo>
                  <a:cubicBezTo>
                    <a:pt x="17" y="2048"/>
                    <a:pt x="14" y="2051"/>
                    <a:pt x="9" y="2051"/>
                  </a:cubicBezTo>
                  <a:cubicBezTo>
                    <a:pt x="4" y="2051"/>
                    <a:pt x="1" y="2048"/>
                    <a:pt x="1" y="2043"/>
                  </a:cubicBezTo>
                  <a:close/>
                  <a:moveTo>
                    <a:pt x="1" y="2010"/>
                  </a:moveTo>
                  <a:lnTo>
                    <a:pt x="1" y="2010"/>
                  </a:lnTo>
                  <a:cubicBezTo>
                    <a:pt x="1" y="2005"/>
                    <a:pt x="4" y="2001"/>
                    <a:pt x="9" y="2001"/>
                  </a:cubicBezTo>
                  <a:cubicBezTo>
                    <a:pt x="14" y="2001"/>
                    <a:pt x="17" y="2005"/>
                    <a:pt x="17" y="2010"/>
                  </a:cubicBezTo>
                  <a:lnTo>
                    <a:pt x="17" y="2010"/>
                  </a:lnTo>
                  <a:cubicBezTo>
                    <a:pt x="17" y="2014"/>
                    <a:pt x="14" y="2018"/>
                    <a:pt x="9" y="2018"/>
                  </a:cubicBezTo>
                  <a:cubicBezTo>
                    <a:pt x="4" y="2018"/>
                    <a:pt x="1" y="2014"/>
                    <a:pt x="1" y="2010"/>
                  </a:cubicBezTo>
                  <a:close/>
                  <a:moveTo>
                    <a:pt x="1" y="1976"/>
                  </a:moveTo>
                  <a:lnTo>
                    <a:pt x="1" y="1976"/>
                  </a:lnTo>
                  <a:cubicBezTo>
                    <a:pt x="1" y="1972"/>
                    <a:pt x="4" y="1968"/>
                    <a:pt x="9" y="1968"/>
                  </a:cubicBezTo>
                  <a:cubicBezTo>
                    <a:pt x="14" y="1968"/>
                    <a:pt x="17" y="1972"/>
                    <a:pt x="17" y="1976"/>
                  </a:cubicBezTo>
                  <a:lnTo>
                    <a:pt x="17" y="1976"/>
                  </a:lnTo>
                  <a:cubicBezTo>
                    <a:pt x="17" y="1981"/>
                    <a:pt x="14" y="1985"/>
                    <a:pt x="9" y="1985"/>
                  </a:cubicBezTo>
                  <a:cubicBezTo>
                    <a:pt x="4" y="1985"/>
                    <a:pt x="1" y="1981"/>
                    <a:pt x="1" y="1976"/>
                  </a:cubicBezTo>
                  <a:close/>
                  <a:moveTo>
                    <a:pt x="1" y="1943"/>
                  </a:moveTo>
                  <a:lnTo>
                    <a:pt x="1" y="1943"/>
                  </a:lnTo>
                  <a:cubicBezTo>
                    <a:pt x="1" y="1938"/>
                    <a:pt x="4" y="1935"/>
                    <a:pt x="9" y="1935"/>
                  </a:cubicBezTo>
                  <a:cubicBezTo>
                    <a:pt x="14" y="1935"/>
                    <a:pt x="17" y="1938"/>
                    <a:pt x="17" y="1943"/>
                  </a:cubicBezTo>
                  <a:lnTo>
                    <a:pt x="17" y="1943"/>
                  </a:lnTo>
                  <a:cubicBezTo>
                    <a:pt x="17" y="1948"/>
                    <a:pt x="14" y="1951"/>
                    <a:pt x="9" y="1951"/>
                  </a:cubicBezTo>
                  <a:cubicBezTo>
                    <a:pt x="4" y="1951"/>
                    <a:pt x="1" y="1948"/>
                    <a:pt x="1" y="1943"/>
                  </a:cubicBezTo>
                  <a:close/>
                  <a:moveTo>
                    <a:pt x="1" y="1910"/>
                  </a:moveTo>
                  <a:lnTo>
                    <a:pt x="1" y="1910"/>
                  </a:lnTo>
                  <a:cubicBezTo>
                    <a:pt x="1" y="1905"/>
                    <a:pt x="5" y="1901"/>
                    <a:pt x="9" y="1901"/>
                  </a:cubicBezTo>
                  <a:cubicBezTo>
                    <a:pt x="14" y="1901"/>
                    <a:pt x="17" y="1905"/>
                    <a:pt x="17" y="1910"/>
                  </a:cubicBezTo>
                  <a:lnTo>
                    <a:pt x="17" y="1910"/>
                  </a:lnTo>
                  <a:cubicBezTo>
                    <a:pt x="17" y="1914"/>
                    <a:pt x="14" y="1918"/>
                    <a:pt x="9" y="1918"/>
                  </a:cubicBezTo>
                  <a:cubicBezTo>
                    <a:pt x="5" y="1918"/>
                    <a:pt x="1" y="1914"/>
                    <a:pt x="1" y="1910"/>
                  </a:cubicBezTo>
                  <a:close/>
                  <a:moveTo>
                    <a:pt x="1" y="1876"/>
                  </a:moveTo>
                  <a:lnTo>
                    <a:pt x="1" y="1876"/>
                  </a:lnTo>
                  <a:cubicBezTo>
                    <a:pt x="1" y="1872"/>
                    <a:pt x="5" y="1868"/>
                    <a:pt x="9" y="1868"/>
                  </a:cubicBezTo>
                  <a:cubicBezTo>
                    <a:pt x="14" y="1868"/>
                    <a:pt x="17" y="1872"/>
                    <a:pt x="17" y="1876"/>
                  </a:cubicBezTo>
                  <a:lnTo>
                    <a:pt x="17" y="1876"/>
                  </a:lnTo>
                  <a:cubicBezTo>
                    <a:pt x="17" y="1881"/>
                    <a:pt x="14" y="1885"/>
                    <a:pt x="9" y="1885"/>
                  </a:cubicBezTo>
                  <a:cubicBezTo>
                    <a:pt x="5" y="1885"/>
                    <a:pt x="1" y="1881"/>
                    <a:pt x="1" y="1876"/>
                  </a:cubicBezTo>
                  <a:close/>
                  <a:moveTo>
                    <a:pt x="1" y="1843"/>
                  </a:moveTo>
                  <a:lnTo>
                    <a:pt x="1" y="1843"/>
                  </a:lnTo>
                  <a:cubicBezTo>
                    <a:pt x="1" y="1838"/>
                    <a:pt x="5" y="1834"/>
                    <a:pt x="9" y="1834"/>
                  </a:cubicBezTo>
                  <a:cubicBezTo>
                    <a:pt x="14" y="1834"/>
                    <a:pt x="18" y="1838"/>
                    <a:pt x="18" y="1843"/>
                  </a:cubicBezTo>
                  <a:lnTo>
                    <a:pt x="18" y="1843"/>
                  </a:lnTo>
                  <a:cubicBezTo>
                    <a:pt x="18" y="1847"/>
                    <a:pt x="14" y="1851"/>
                    <a:pt x="9" y="1851"/>
                  </a:cubicBezTo>
                  <a:cubicBezTo>
                    <a:pt x="5" y="1851"/>
                    <a:pt x="1" y="1847"/>
                    <a:pt x="1" y="1843"/>
                  </a:cubicBezTo>
                  <a:close/>
                  <a:moveTo>
                    <a:pt x="1" y="1809"/>
                  </a:moveTo>
                  <a:lnTo>
                    <a:pt x="1" y="1809"/>
                  </a:lnTo>
                  <a:cubicBezTo>
                    <a:pt x="1" y="1805"/>
                    <a:pt x="5" y="1801"/>
                    <a:pt x="9" y="1801"/>
                  </a:cubicBezTo>
                  <a:cubicBezTo>
                    <a:pt x="14" y="1801"/>
                    <a:pt x="18" y="1805"/>
                    <a:pt x="18" y="1809"/>
                  </a:cubicBezTo>
                  <a:lnTo>
                    <a:pt x="18" y="1809"/>
                  </a:lnTo>
                  <a:cubicBezTo>
                    <a:pt x="18" y="1814"/>
                    <a:pt x="14" y="1818"/>
                    <a:pt x="9" y="1818"/>
                  </a:cubicBezTo>
                  <a:cubicBezTo>
                    <a:pt x="5" y="1818"/>
                    <a:pt x="1" y="1814"/>
                    <a:pt x="1" y="1809"/>
                  </a:cubicBezTo>
                  <a:close/>
                  <a:moveTo>
                    <a:pt x="1" y="1776"/>
                  </a:moveTo>
                  <a:lnTo>
                    <a:pt x="1" y="1776"/>
                  </a:lnTo>
                  <a:cubicBezTo>
                    <a:pt x="1" y="1772"/>
                    <a:pt x="5" y="1768"/>
                    <a:pt x="9" y="1768"/>
                  </a:cubicBezTo>
                  <a:cubicBezTo>
                    <a:pt x="14" y="1768"/>
                    <a:pt x="18" y="1772"/>
                    <a:pt x="18" y="1776"/>
                  </a:cubicBezTo>
                  <a:lnTo>
                    <a:pt x="18" y="1776"/>
                  </a:lnTo>
                  <a:cubicBezTo>
                    <a:pt x="18" y="1781"/>
                    <a:pt x="14" y="1784"/>
                    <a:pt x="9" y="1784"/>
                  </a:cubicBezTo>
                  <a:cubicBezTo>
                    <a:pt x="5" y="1784"/>
                    <a:pt x="1" y="1781"/>
                    <a:pt x="1" y="1776"/>
                  </a:cubicBezTo>
                  <a:close/>
                  <a:moveTo>
                    <a:pt x="1" y="1743"/>
                  </a:moveTo>
                  <a:lnTo>
                    <a:pt x="1" y="1743"/>
                  </a:lnTo>
                  <a:cubicBezTo>
                    <a:pt x="1" y="1738"/>
                    <a:pt x="5" y="1734"/>
                    <a:pt x="9" y="1734"/>
                  </a:cubicBezTo>
                  <a:cubicBezTo>
                    <a:pt x="14" y="1734"/>
                    <a:pt x="18" y="1738"/>
                    <a:pt x="18" y="1743"/>
                  </a:cubicBezTo>
                  <a:lnTo>
                    <a:pt x="18" y="1743"/>
                  </a:lnTo>
                  <a:cubicBezTo>
                    <a:pt x="18" y="1747"/>
                    <a:pt x="14" y="1751"/>
                    <a:pt x="9" y="1751"/>
                  </a:cubicBezTo>
                  <a:cubicBezTo>
                    <a:pt x="5" y="1751"/>
                    <a:pt x="1" y="1747"/>
                    <a:pt x="1" y="1743"/>
                  </a:cubicBezTo>
                  <a:close/>
                  <a:moveTo>
                    <a:pt x="1" y="1709"/>
                  </a:moveTo>
                  <a:lnTo>
                    <a:pt x="1" y="1709"/>
                  </a:lnTo>
                  <a:cubicBezTo>
                    <a:pt x="1" y="1705"/>
                    <a:pt x="5" y="1701"/>
                    <a:pt x="9" y="1701"/>
                  </a:cubicBezTo>
                  <a:cubicBezTo>
                    <a:pt x="14" y="1701"/>
                    <a:pt x="18" y="1705"/>
                    <a:pt x="18" y="1709"/>
                  </a:cubicBezTo>
                  <a:lnTo>
                    <a:pt x="18" y="1709"/>
                  </a:lnTo>
                  <a:cubicBezTo>
                    <a:pt x="18" y="1714"/>
                    <a:pt x="14" y="1718"/>
                    <a:pt x="9" y="1718"/>
                  </a:cubicBezTo>
                  <a:cubicBezTo>
                    <a:pt x="5" y="1718"/>
                    <a:pt x="1" y="1714"/>
                    <a:pt x="1" y="1709"/>
                  </a:cubicBezTo>
                  <a:close/>
                  <a:moveTo>
                    <a:pt x="1" y="1676"/>
                  </a:moveTo>
                  <a:lnTo>
                    <a:pt x="1" y="1676"/>
                  </a:lnTo>
                  <a:cubicBezTo>
                    <a:pt x="1" y="1671"/>
                    <a:pt x="5" y="1668"/>
                    <a:pt x="9" y="1668"/>
                  </a:cubicBezTo>
                  <a:cubicBezTo>
                    <a:pt x="14" y="1668"/>
                    <a:pt x="18" y="1671"/>
                    <a:pt x="18" y="1676"/>
                  </a:cubicBezTo>
                  <a:lnTo>
                    <a:pt x="18" y="1676"/>
                  </a:lnTo>
                  <a:cubicBezTo>
                    <a:pt x="18" y="1681"/>
                    <a:pt x="14" y="1684"/>
                    <a:pt x="9" y="1684"/>
                  </a:cubicBezTo>
                  <a:cubicBezTo>
                    <a:pt x="5" y="1684"/>
                    <a:pt x="1" y="1681"/>
                    <a:pt x="1" y="1676"/>
                  </a:cubicBezTo>
                  <a:close/>
                  <a:moveTo>
                    <a:pt x="1" y="1643"/>
                  </a:moveTo>
                  <a:lnTo>
                    <a:pt x="1" y="1643"/>
                  </a:lnTo>
                  <a:cubicBezTo>
                    <a:pt x="1" y="1638"/>
                    <a:pt x="5" y="1634"/>
                    <a:pt x="9" y="1634"/>
                  </a:cubicBezTo>
                  <a:cubicBezTo>
                    <a:pt x="14" y="1634"/>
                    <a:pt x="18" y="1638"/>
                    <a:pt x="18" y="1643"/>
                  </a:cubicBezTo>
                  <a:lnTo>
                    <a:pt x="18" y="1643"/>
                  </a:lnTo>
                  <a:cubicBezTo>
                    <a:pt x="18" y="1647"/>
                    <a:pt x="14" y="1651"/>
                    <a:pt x="9" y="1651"/>
                  </a:cubicBezTo>
                  <a:cubicBezTo>
                    <a:pt x="5" y="1651"/>
                    <a:pt x="1" y="1647"/>
                    <a:pt x="1" y="1643"/>
                  </a:cubicBezTo>
                  <a:close/>
                  <a:moveTo>
                    <a:pt x="1" y="1609"/>
                  </a:moveTo>
                  <a:lnTo>
                    <a:pt x="1" y="1609"/>
                  </a:lnTo>
                  <a:cubicBezTo>
                    <a:pt x="1" y="1605"/>
                    <a:pt x="5" y="1601"/>
                    <a:pt x="10" y="1601"/>
                  </a:cubicBezTo>
                  <a:cubicBezTo>
                    <a:pt x="14" y="1601"/>
                    <a:pt x="18" y="1605"/>
                    <a:pt x="18" y="1609"/>
                  </a:cubicBezTo>
                  <a:lnTo>
                    <a:pt x="18" y="1609"/>
                  </a:lnTo>
                  <a:cubicBezTo>
                    <a:pt x="18" y="1614"/>
                    <a:pt x="14" y="1618"/>
                    <a:pt x="10" y="1618"/>
                  </a:cubicBezTo>
                  <a:cubicBezTo>
                    <a:pt x="5" y="1618"/>
                    <a:pt x="1" y="1614"/>
                    <a:pt x="1" y="1609"/>
                  </a:cubicBezTo>
                  <a:close/>
                  <a:moveTo>
                    <a:pt x="1" y="1576"/>
                  </a:moveTo>
                  <a:lnTo>
                    <a:pt x="1" y="1576"/>
                  </a:lnTo>
                  <a:cubicBezTo>
                    <a:pt x="1" y="1571"/>
                    <a:pt x="5" y="1568"/>
                    <a:pt x="10" y="1568"/>
                  </a:cubicBezTo>
                  <a:cubicBezTo>
                    <a:pt x="14" y="1568"/>
                    <a:pt x="18" y="1571"/>
                    <a:pt x="18" y="1576"/>
                  </a:cubicBezTo>
                  <a:lnTo>
                    <a:pt x="18" y="1576"/>
                  </a:lnTo>
                  <a:cubicBezTo>
                    <a:pt x="18" y="1581"/>
                    <a:pt x="14" y="1584"/>
                    <a:pt x="10" y="1584"/>
                  </a:cubicBezTo>
                  <a:cubicBezTo>
                    <a:pt x="5" y="1584"/>
                    <a:pt x="1" y="1581"/>
                    <a:pt x="1" y="1576"/>
                  </a:cubicBezTo>
                  <a:close/>
                  <a:moveTo>
                    <a:pt x="1" y="1543"/>
                  </a:moveTo>
                  <a:lnTo>
                    <a:pt x="1" y="1543"/>
                  </a:lnTo>
                  <a:cubicBezTo>
                    <a:pt x="1" y="1538"/>
                    <a:pt x="5" y="1534"/>
                    <a:pt x="10" y="1534"/>
                  </a:cubicBezTo>
                  <a:cubicBezTo>
                    <a:pt x="14" y="1534"/>
                    <a:pt x="18" y="1538"/>
                    <a:pt x="18" y="1543"/>
                  </a:cubicBezTo>
                  <a:lnTo>
                    <a:pt x="18" y="1543"/>
                  </a:lnTo>
                  <a:cubicBezTo>
                    <a:pt x="18" y="1547"/>
                    <a:pt x="14" y="1551"/>
                    <a:pt x="10" y="1551"/>
                  </a:cubicBezTo>
                  <a:cubicBezTo>
                    <a:pt x="5" y="1551"/>
                    <a:pt x="1" y="1547"/>
                    <a:pt x="1" y="1543"/>
                  </a:cubicBezTo>
                  <a:close/>
                  <a:moveTo>
                    <a:pt x="1" y="1509"/>
                  </a:moveTo>
                  <a:lnTo>
                    <a:pt x="1" y="1509"/>
                  </a:lnTo>
                  <a:cubicBezTo>
                    <a:pt x="1" y="1505"/>
                    <a:pt x="5" y="1501"/>
                    <a:pt x="10" y="1501"/>
                  </a:cubicBezTo>
                  <a:cubicBezTo>
                    <a:pt x="14" y="1501"/>
                    <a:pt x="18" y="1505"/>
                    <a:pt x="18" y="1509"/>
                  </a:cubicBezTo>
                  <a:lnTo>
                    <a:pt x="18" y="1509"/>
                  </a:lnTo>
                  <a:cubicBezTo>
                    <a:pt x="18" y="1514"/>
                    <a:pt x="14" y="1518"/>
                    <a:pt x="10" y="1518"/>
                  </a:cubicBezTo>
                  <a:cubicBezTo>
                    <a:pt x="5" y="1518"/>
                    <a:pt x="1" y="1514"/>
                    <a:pt x="1" y="1509"/>
                  </a:cubicBezTo>
                  <a:close/>
                  <a:moveTo>
                    <a:pt x="1" y="1476"/>
                  </a:moveTo>
                  <a:lnTo>
                    <a:pt x="1" y="1476"/>
                  </a:lnTo>
                  <a:cubicBezTo>
                    <a:pt x="1" y="1471"/>
                    <a:pt x="5" y="1468"/>
                    <a:pt x="10" y="1468"/>
                  </a:cubicBezTo>
                  <a:cubicBezTo>
                    <a:pt x="14" y="1468"/>
                    <a:pt x="18" y="1471"/>
                    <a:pt x="18" y="1476"/>
                  </a:cubicBezTo>
                  <a:lnTo>
                    <a:pt x="18" y="1476"/>
                  </a:lnTo>
                  <a:cubicBezTo>
                    <a:pt x="18" y="1481"/>
                    <a:pt x="14" y="1484"/>
                    <a:pt x="10" y="1484"/>
                  </a:cubicBezTo>
                  <a:cubicBezTo>
                    <a:pt x="5" y="1484"/>
                    <a:pt x="1" y="1481"/>
                    <a:pt x="1" y="1476"/>
                  </a:cubicBezTo>
                  <a:close/>
                  <a:moveTo>
                    <a:pt x="1" y="1443"/>
                  </a:moveTo>
                  <a:lnTo>
                    <a:pt x="1" y="1443"/>
                  </a:lnTo>
                  <a:cubicBezTo>
                    <a:pt x="1" y="1438"/>
                    <a:pt x="5" y="1434"/>
                    <a:pt x="10" y="1434"/>
                  </a:cubicBezTo>
                  <a:cubicBezTo>
                    <a:pt x="14" y="1434"/>
                    <a:pt x="18" y="1438"/>
                    <a:pt x="18" y="1443"/>
                  </a:cubicBezTo>
                  <a:lnTo>
                    <a:pt x="18" y="1443"/>
                  </a:lnTo>
                  <a:cubicBezTo>
                    <a:pt x="18" y="1447"/>
                    <a:pt x="14" y="1451"/>
                    <a:pt x="10" y="1451"/>
                  </a:cubicBezTo>
                  <a:cubicBezTo>
                    <a:pt x="5" y="1451"/>
                    <a:pt x="1" y="1447"/>
                    <a:pt x="1" y="1443"/>
                  </a:cubicBezTo>
                  <a:close/>
                  <a:moveTo>
                    <a:pt x="1" y="1409"/>
                  </a:moveTo>
                  <a:lnTo>
                    <a:pt x="1" y="1409"/>
                  </a:lnTo>
                  <a:cubicBezTo>
                    <a:pt x="1" y="1405"/>
                    <a:pt x="5" y="1401"/>
                    <a:pt x="10" y="1401"/>
                  </a:cubicBezTo>
                  <a:cubicBezTo>
                    <a:pt x="14" y="1401"/>
                    <a:pt x="18" y="1405"/>
                    <a:pt x="18" y="1409"/>
                  </a:cubicBezTo>
                  <a:lnTo>
                    <a:pt x="18" y="1409"/>
                  </a:lnTo>
                  <a:cubicBezTo>
                    <a:pt x="18" y="1414"/>
                    <a:pt x="14" y="1418"/>
                    <a:pt x="10" y="1418"/>
                  </a:cubicBezTo>
                  <a:cubicBezTo>
                    <a:pt x="5" y="1418"/>
                    <a:pt x="1" y="1414"/>
                    <a:pt x="1" y="1409"/>
                  </a:cubicBezTo>
                  <a:close/>
                  <a:moveTo>
                    <a:pt x="2" y="1376"/>
                  </a:moveTo>
                  <a:lnTo>
                    <a:pt x="2" y="1376"/>
                  </a:lnTo>
                  <a:cubicBezTo>
                    <a:pt x="2" y="1371"/>
                    <a:pt x="5" y="1368"/>
                    <a:pt x="10" y="1368"/>
                  </a:cubicBezTo>
                  <a:cubicBezTo>
                    <a:pt x="14" y="1368"/>
                    <a:pt x="18" y="1371"/>
                    <a:pt x="18" y="1376"/>
                  </a:cubicBezTo>
                  <a:lnTo>
                    <a:pt x="18" y="1376"/>
                  </a:lnTo>
                  <a:cubicBezTo>
                    <a:pt x="18" y="1381"/>
                    <a:pt x="14" y="1384"/>
                    <a:pt x="10" y="1384"/>
                  </a:cubicBezTo>
                  <a:cubicBezTo>
                    <a:pt x="5" y="1384"/>
                    <a:pt x="2" y="1381"/>
                    <a:pt x="2" y="1376"/>
                  </a:cubicBezTo>
                  <a:close/>
                  <a:moveTo>
                    <a:pt x="2" y="1343"/>
                  </a:moveTo>
                  <a:lnTo>
                    <a:pt x="2" y="1343"/>
                  </a:lnTo>
                  <a:cubicBezTo>
                    <a:pt x="2" y="1338"/>
                    <a:pt x="5" y="1334"/>
                    <a:pt x="10" y="1334"/>
                  </a:cubicBezTo>
                  <a:cubicBezTo>
                    <a:pt x="14" y="1334"/>
                    <a:pt x="18" y="1338"/>
                    <a:pt x="18" y="1343"/>
                  </a:cubicBezTo>
                  <a:lnTo>
                    <a:pt x="18" y="1343"/>
                  </a:lnTo>
                  <a:cubicBezTo>
                    <a:pt x="18" y="1347"/>
                    <a:pt x="14" y="1351"/>
                    <a:pt x="10" y="1351"/>
                  </a:cubicBezTo>
                  <a:cubicBezTo>
                    <a:pt x="5" y="1351"/>
                    <a:pt x="2" y="1347"/>
                    <a:pt x="2" y="1343"/>
                  </a:cubicBezTo>
                  <a:close/>
                  <a:moveTo>
                    <a:pt x="2" y="1309"/>
                  </a:moveTo>
                  <a:lnTo>
                    <a:pt x="2" y="1309"/>
                  </a:lnTo>
                  <a:cubicBezTo>
                    <a:pt x="2" y="1305"/>
                    <a:pt x="5" y="1301"/>
                    <a:pt x="10" y="1301"/>
                  </a:cubicBezTo>
                  <a:cubicBezTo>
                    <a:pt x="15" y="1301"/>
                    <a:pt x="18" y="1305"/>
                    <a:pt x="18" y="1309"/>
                  </a:cubicBezTo>
                  <a:lnTo>
                    <a:pt x="18" y="1309"/>
                  </a:lnTo>
                  <a:cubicBezTo>
                    <a:pt x="18" y="1314"/>
                    <a:pt x="15" y="1318"/>
                    <a:pt x="10" y="1318"/>
                  </a:cubicBezTo>
                  <a:cubicBezTo>
                    <a:pt x="5" y="1318"/>
                    <a:pt x="2" y="1314"/>
                    <a:pt x="2" y="1309"/>
                  </a:cubicBezTo>
                  <a:close/>
                  <a:moveTo>
                    <a:pt x="2" y="1276"/>
                  </a:moveTo>
                  <a:lnTo>
                    <a:pt x="2" y="1276"/>
                  </a:lnTo>
                  <a:cubicBezTo>
                    <a:pt x="2" y="1271"/>
                    <a:pt x="5" y="1268"/>
                    <a:pt x="10" y="1268"/>
                  </a:cubicBezTo>
                  <a:cubicBezTo>
                    <a:pt x="15" y="1268"/>
                    <a:pt x="18" y="1271"/>
                    <a:pt x="18" y="1276"/>
                  </a:cubicBezTo>
                  <a:lnTo>
                    <a:pt x="18" y="1276"/>
                  </a:lnTo>
                  <a:cubicBezTo>
                    <a:pt x="18" y="1280"/>
                    <a:pt x="15" y="1284"/>
                    <a:pt x="10" y="1284"/>
                  </a:cubicBezTo>
                  <a:cubicBezTo>
                    <a:pt x="5" y="1284"/>
                    <a:pt x="2" y="1280"/>
                    <a:pt x="2" y="1276"/>
                  </a:cubicBezTo>
                  <a:close/>
                  <a:moveTo>
                    <a:pt x="2" y="1243"/>
                  </a:moveTo>
                  <a:lnTo>
                    <a:pt x="2" y="1242"/>
                  </a:lnTo>
                  <a:cubicBezTo>
                    <a:pt x="2" y="1238"/>
                    <a:pt x="5" y="1234"/>
                    <a:pt x="10" y="1234"/>
                  </a:cubicBezTo>
                  <a:cubicBezTo>
                    <a:pt x="15" y="1234"/>
                    <a:pt x="18" y="1238"/>
                    <a:pt x="18" y="1242"/>
                  </a:cubicBezTo>
                  <a:lnTo>
                    <a:pt x="18" y="1243"/>
                  </a:lnTo>
                  <a:cubicBezTo>
                    <a:pt x="18" y="1247"/>
                    <a:pt x="15" y="1251"/>
                    <a:pt x="10" y="1251"/>
                  </a:cubicBezTo>
                  <a:cubicBezTo>
                    <a:pt x="5" y="1251"/>
                    <a:pt x="2" y="1247"/>
                    <a:pt x="2" y="1243"/>
                  </a:cubicBezTo>
                  <a:close/>
                  <a:moveTo>
                    <a:pt x="2" y="1209"/>
                  </a:moveTo>
                  <a:lnTo>
                    <a:pt x="2" y="1209"/>
                  </a:lnTo>
                  <a:cubicBezTo>
                    <a:pt x="2" y="1205"/>
                    <a:pt x="5" y="1201"/>
                    <a:pt x="10" y="1201"/>
                  </a:cubicBezTo>
                  <a:cubicBezTo>
                    <a:pt x="15" y="1201"/>
                    <a:pt x="18" y="1205"/>
                    <a:pt x="18" y="1209"/>
                  </a:cubicBezTo>
                  <a:lnTo>
                    <a:pt x="18" y="1209"/>
                  </a:lnTo>
                  <a:cubicBezTo>
                    <a:pt x="18" y="1214"/>
                    <a:pt x="15" y="1217"/>
                    <a:pt x="10" y="1217"/>
                  </a:cubicBezTo>
                  <a:cubicBezTo>
                    <a:pt x="5" y="1217"/>
                    <a:pt x="2" y="1214"/>
                    <a:pt x="2" y="1209"/>
                  </a:cubicBezTo>
                  <a:close/>
                  <a:moveTo>
                    <a:pt x="2" y="1176"/>
                  </a:moveTo>
                  <a:lnTo>
                    <a:pt x="2" y="1176"/>
                  </a:lnTo>
                  <a:cubicBezTo>
                    <a:pt x="2" y="1171"/>
                    <a:pt x="6" y="1167"/>
                    <a:pt x="10" y="1167"/>
                  </a:cubicBezTo>
                  <a:cubicBezTo>
                    <a:pt x="15" y="1167"/>
                    <a:pt x="18" y="1171"/>
                    <a:pt x="18" y="1176"/>
                  </a:cubicBezTo>
                  <a:lnTo>
                    <a:pt x="18" y="1176"/>
                  </a:lnTo>
                  <a:cubicBezTo>
                    <a:pt x="18" y="1180"/>
                    <a:pt x="15" y="1184"/>
                    <a:pt x="10" y="1184"/>
                  </a:cubicBezTo>
                  <a:cubicBezTo>
                    <a:pt x="6" y="1184"/>
                    <a:pt x="2" y="1180"/>
                    <a:pt x="2" y="1176"/>
                  </a:cubicBezTo>
                  <a:close/>
                  <a:moveTo>
                    <a:pt x="2" y="1142"/>
                  </a:moveTo>
                  <a:lnTo>
                    <a:pt x="2" y="1142"/>
                  </a:lnTo>
                  <a:cubicBezTo>
                    <a:pt x="2" y="1138"/>
                    <a:pt x="6" y="1134"/>
                    <a:pt x="10" y="1134"/>
                  </a:cubicBezTo>
                  <a:cubicBezTo>
                    <a:pt x="15" y="1134"/>
                    <a:pt x="19" y="1138"/>
                    <a:pt x="19" y="1142"/>
                  </a:cubicBezTo>
                  <a:lnTo>
                    <a:pt x="19" y="1142"/>
                  </a:lnTo>
                  <a:cubicBezTo>
                    <a:pt x="19" y="1147"/>
                    <a:pt x="15" y="1151"/>
                    <a:pt x="10" y="1151"/>
                  </a:cubicBezTo>
                  <a:cubicBezTo>
                    <a:pt x="6" y="1151"/>
                    <a:pt x="2" y="1147"/>
                    <a:pt x="2" y="1142"/>
                  </a:cubicBezTo>
                  <a:close/>
                  <a:moveTo>
                    <a:pt x="2" y="1109"/>
                  </a:moveTo>
                  <a:lnTo>
                    <a:pt x="2" y="1109"/>
                  </a:lnTo>
                  <a:cubicBezTo>
                    <a:pt x="2" y="1104"/>
                    <a:pt x="6" y="1101"/>
                    <a:pt x="10" y="1101"/>
                  </a:cubicBezTo>
                  <a:cubicBezTo>
                    <a:pt x="15" y="1101"/>
                    <a:pt x="19" y="1104"/>
                    <a:pt x="19" y="1109"/>
                  </a:cubicBezTo>
                  <a:lnTo>
                    <a:pt x="19" y="1109"/>
                  </a:lnTo>
                  <a:cubicBezTo>
                    <a:pt x="19" y="1114"/>
                    <a:pt x="15" y="1117"/>
                    <a:pt x="10" y="1117"/>
                  </a:cubicBezTo>
                  <a:cubicBezTo>
                    <a:pt x="6" y="1117"/>
                    <a:pt x="2" y="1114"/>
                    <a:pt x="2" y="1109"/>
                  </a:cubicBezTo>
                  <a:close/>
                  <a:moveTo>
                    <a:pt x="2" y="1076"/>
                  </a:moveTo>
                  <a:lnTo>
                    <a:pt x="2" y="1076"/>
                  </a:lnTo>
                  <a:cubicBezTo>
                    <a:pt x="2" y="1071"/>
                    <a:pt x="6" y="1067"/>
                    <a:pt x="10" y="1067"/>
                  </a:cubicBezTo>
                  <a:cubicBezTo>
                    <a:pt x="15" y="1067"/>
                    <a:pt x="19" y="1071"/>
                    <a:pt x="19" y="1076"/>
                  </a:cubicBezTo>
                  <a:lnTo>
                    <a:pt x="19" y="1076"/>
                  </a:lnTo>
                  <a:cubicBezTo>
                    <a:pt x="19" y="1080"/>
                    <a:pt x="15" y="1084"/>
                    <a:pt x="10" y="1084"/>
                  </a:cubicBezTo>
                  <a:cubicBezTo>
                    <a:pt x="6" y="1084"/>
                    <a:pt x="2" y="1080"/>
                    <a:pt x="2" y="1076"/>
                  </a:cubicBezTo>
                  <a:close/>
                  <a:moveTo>
                    <a:pt x="2" y="1042"/>
                  </a:moveTo>
                  <a:lnTo>
                    <a:pt x="2" y="1042"/>
                  </a:lnTo>
                  <a:cubicBezTo>
                    <a:pt x="2" y="1038"/>
                    <a:pt x="6" y="1034"/>
                    <a:pt x="10" y="1034"/>
                  </a:cubicBezTo>
                  <a:cubicBezTo>
                    <a:pt x="15" y="1034"/>
                    <a:pt x="19" y="1038"/>
                    <a:pt x="19" y="1042"/>
                  </a:cubicBezTo>
                  <a:lnTo>
                    <a:pt x="19" y="1042"/>
                  </a:lnTo>
                  <a:cubicBezTo>
                    <a:pt x="19" y="1047"/>
                    <a:pt x="15" y="1051"/>
                    <a:pt x="10" y="1051"/>
                  </a:cubicBezTo>
                  <a:cubicBezTo>
                    <a:pt x="6" y="1051"/>
                    <a:pt x="2" y="1047"/>
                    <a:pt x="2" y="1042"/>
                  </a:cubicBezTo>
                  <a:close/>
                  <a:moveTo>
                    <a:pt x="2" y="1009"/>
                  </a:moveTo>
                  <a:lnTo>
                    <a:pt x="2" y="1009"/>
                  </a:lnTo>
                  <a:cubicBezTo>
                    <a:pt x="2" y="1004"/>
                    <a:pt x="6" y="1001"/>
                    <a:pt x="10" y="1001"/>
                  </a:cubicBezTo>
                  <a:cubicBezTo>
                    <a:pt x="15" y="1001"/>
                    <a:pt x="19" y="1004"/>
                    <a:pt x="19" y="1009"/>
                  </a:cubicBezTo>
                  <a:lnTo>
                    <a:pt x="19" y="1009"/>
                  </a:lnTo>
                  <a:cubicBezTo>
                    <a:pt x="19" y="1014"/>
                    <a:pt x="15" y="1017"/>
                    <a:pt x="10" y="1017"/>
                  </a:cubicBezTo>
                  <a:cubicBezTo>
                    <a:pt x="6" y="1017"/>
                    <a:pt x="2" y="1014"/>
                    <a:pt x="2" y="1009"/>
                  </a:cubicBezTo>
                  <a:close/>
                  <a:moveTo>
                    <a:pt x="2" y="976"/>
                  </a:moveTo>
                  <a:lnTo>
                    <a:pt x="2" y="976"/>
                  </a:lnTo>
                  <a:cubicBezTo>
                    <a:pt x="2" y="971"/>
                    <a:pt x="6" y="967"/>
                    <a:pt x="10" y="967"/>
                  </a:cubicBezTo>
                  <a:cubicBezTo>
                    <a:pt x="15" y="967"/>
                    <a:pt x="19" y="971"/>
                    <a:pt x="19" y="976"/>
                  </a:cubicBezTo>
                  <a:lnTo>
                    <a:pt x="19" y="976"/>
                  </a:lnTo>
                  <a:cubicBezTo>
                    <a:pt x="19" y="980"/>
                    <a:pt x="15" y="984"/>
                    <a:pt x="10" y="984"/>
                  </a:cubicBezTo>
                  <a:cubicBezTo>
                    <a:pt x="6" y="984"/>
                    <a:pt x="2" y="980"/>
                    <a:pt x="2" y="976"/>
                  </a:cubicBezTo>
                  <a:close/>
                  <a:moveTo>
                    <a:pt x="2" y="942"/>
                  </a:moveTo>
                  <a:lnTo>
                    <a:pt x="2" y="942"/>
                  </a:lnTo>
                  <a:cubicBezTo>
                    <a:pt x="2" y="938"/>
                    <a:pt x="6" y="934"/>
                    <a:pt x="10" y="934"/>
                  </a:cubicBezTo>
                  <a:cubicBezTo>
                    <a:pt x="15" y="934"/>
                    <a:pt x="19" y="938"/>
                    <a:pt x="19" y="942"/>
                  </a:cubicBezTo>
                  <a:lnTo>
                    <a:pt x="19" y="942"/>
                  </a:lnTo>
                  <a:cubicBezTo>
                    <a:pt x="19" y="947"/>
                    <a:pt x="15" y="951"/>
                    <a:pt x="10" y="951"/>
                  </a:cubicBezTo>
                  <a:cubicBezTo>
                    <a:pt x="6" y="951"/>
                    <a:pt x="2" y="947"/>
                    <a:pt x="2" y="942"/>
                  </a:cubicBezTo>
                  <a:close/>
                  <a:moveTo>
                    <a:pt x="2" y="909"/>
                  </a:moveTo>
                  <a:lnTo>
                    <a:pt x="2" y="909"/>
                  </a:lnTo>
                  <a:cubicBezTo>
                    <a:pt x="2" y="904"/>
                    <a:pt x="6" y="901"/>
                    <a:pt x="10" y="901"/>
                  </a:cubicBezTo>
                  <a:cubicBezTo>
                    <a:pt x="15" y="901"/>
                    <a:pt x="19" y="904"/>
                    <a:pt x="19" y="909"/>
                  </a:cubicBezTo>
                  <a:lnTo>
                    <a:pt x="19" y="909"/>
                  </a:lnTo>
                  <a:cubicBezTo>
                    <a:pt x="19" y="914"/>
                    <a:pt x="15" y="917"/>
                    <a:pt x="10" y="917"/>
                  </a:cubicBezTo>
                  <a:cubicBezTo>
                    <a:pt x="6" y="917"/>
                    <a:pt x="2" y="914"/>
                    <a:pt x="2" y="909"/>
                  </a:cubicBezTo>
                  <a:close/>
                  <a:moveTo>
                    <a:pt x="2" y="876"/>
                  </a:moveTo>
                  <a:lnTo>
                    <a:pt x="2" y="876"/>
                  </a:lnTo>
                  <a:cubicBezTo>
                    <a:pt x="2" y="871"/>
                    <a:pt x="6" y="867"/>
                    <a:pt x="11" y="867"/>
                  </a:cubicBezTo>
                  <a:cubicBezTo>
                    <a:pt x="15" y="867"/>
                    <a:pt x="19" y="871"/>
                    <a:pt x="19" y="876"/>
                  </a:cubicBezTo>
                  <a:lnTo>
                    <a:pt x="19" y="876"/>
                  </a:lnTo>
                  <a:cubicBezTo>
                    <a:pt x="19" y="880"/>
                    <a:pt x="15" y="884"/>
                    <a:pt x="11" y="884"/>
                  </a:cubicBezTo>
                  <a:cubicBezTo>
                    <a:pt x="6" y="884"/>
                    <a:pt x="2" y="880"/>
                    <a:pt x="2" y="876"/>
                  </a:cubicBezTo>
                  <a:close/>
                  <a:moveTo>
                    <a:pt x="2" y="842"/>
                  </a:moveTo>
                  <a:lnTo>
                    <a:pt x="2" y="842"/>
                  </a:lnTo>
                  <a:cubicBezTo>
                    <a:pt x="2" y="838"/>
                    <a:pt x="6" y="834"/>
                    <a:pt x="11" y="834"/>
                  </a:cubicBezTo>
                  <a:cubicBezTo>
                    <a:pt x="15" y="834"/>
                    <a:pt x="19" y="838"/>
                    <a:pt x="19" y="842"/>
                  </a:cubicBezTo>
                  <a:lnTo>
                    <a:pt x="19" y="842"/>
                  </a:lnTo>
                  <a:cubicBezTo>
                    <a:pt x="19" y="847"/>
                    <a:pt x="15" y="851"/>
                    <a:pt x="11" y="851"/>
                  </a:cubicBezTo>
                  <a:cubicBezTo>
                    <a:pt x="6" y="851"/>
                    <a:pt x="2" y="847"/>
                    <a:pt x="2" y="842"/>
                  </a:cubicBezTo>
                  <a:close/>
                  <a:moveTo>
                    <a:pt x="2" y="809"/>
                  </a:moveTo>
                  <a:lnTo>
                    <a:pt x="2" y="809"/>
                  </a:lnTo>
                  <a:cubicBezTo>
                    <a:pt x="2" y="804"/>
                    <a:pt x="6" y="801"/>
                    <a:pt x="11" y="801"/>
                  </a:cubicBezTo>
                  <a:cubicBezTo>
                    <a:pt x="15" y="801"/>
                    <a:pt x="19" y="804"/>
                    <a:pt x="19" y="809"/>
                  </a:cubicBezTo>
                  <a:lnTo>
                    <a:pt x="19" y="809"/>
                  </a:lnTo>
                  <a:cubicBezTo>
                    <a:pt x="19" y="814"/>
                    <a:pt x="15" y="817"/>
                    <a:pt x="11" y="817"/>
                  </a:cubicBezTo>
                  <a:cubicBezTo>
                    <a:pt x="6" y="817"/>
                    <a:pt x="2" y="814"/>
                    <a:pt x="2" y="809"/>
                  </a:cubicBezTo>
                  <a:close/>
                  <a:moveTo>
                    <a:pt x="2" y="776"/>
                  </a:moveTo>
                  <a:lnTo>
                    <a:pt x="2" y="776"/>
                  </a:lnTo>
                  <a:cubicBezTo>
                    <a:pt x="2" y="771"/>
                    <a:pt x="6" y="767"/>
                    <a:pt x="11" y="767"/>
                  </a:cubicBezTo>
                  <a:cubicBezTo>
                    <a:pt x="15" y="767"/>
                    <a:pt x="19" y="771"/>
                    <a:pt x="19" y="776"/>
                  </a:cubicBezTo>
                  <a:lnTo>
                    <a:pt x="19" y="776"/>
                  </a:lnTo>
                  <a:cubicBezTo>
                    <a:pt x="19" y="780"/>
                    <a:pt x="15" y="784"/>
                    <a:pt x="11" y="784"/>
                  </a:cubicBezTo>
                  <a:cubicBezTo>
                    <a:pt x="6" y="784"/>
                    <a:pt x="2" y="780"/>
                    <a:pt x="2" y="776"/>
                  </a:cubicBezTo>
                  <a:close/>
                  <a:moveTo>
                    <a:pt x="2" y="742"/>
                  </a:moveTo>
                  <a:lnTo>
                    <a:pt x="2" y="742"/>
                  </a:lnTo>
                  <a:cubicBezTo>
                    <a:pt x="2" y="738"/>
                    <a:pt x="6" y="734"/>
                    <a:pt x="11" y="734"/>
                  </a:cubicBezTo>
                  <a:cubicBezTo>
                    <a:pt x="15" y="734"/>
                    <a:pt x="19" y="738"/>
                    <a:pt x="19" y="742"/>
                  </a:cubicBezTo>
                  <a:lnTo>
                    <a:pt x="19" y="742"/>
                  </a:lnTo>
                  <a:cubicBezTo>
                    <a:pt x="19" y="747"/>
                    <a:pt x="15" y="751"/>
                    <a:pt x="11" y="751"/>
                  </a:cubicBezTo>
                  <a:cubicBezTo>
                    <a:pt x="6" y="751"/>
                    <a:pt x="2" y="747"/>
                    <a:pt x="2" y="742"/>
                  </a:cubicBezTo>
                  <a:close/>
                  <a:moveTo>
                    <a:pt x="2" y="709"/>
                  </a:moveTo>
                  <a:lnTo>
                    <a:pt x="2" y="709"/>
                  </a:lnTo>
                  <a:cubicBezTo>
                    <a:pt x="2" y="704"/>
                    <a:pt x="6" y="701"/>
                    <a:pt x="11" y="701"/>
                  </a:cubicBezTo>
                  <a:cubicBezTo>
                    <a:pt x="15" y="701"/>
                    <a:pt x="19" y="704"/>
                    <a:pt x="19" y="709"/>
                  </a:cubicBezTo>
                  <a:lnTo>
                    <a:pt x="19" y="709"/>
                  </a:lnTo>
                  <a:cubicBezTo>
                    <a:pt x="19" y="714"/>
                    <a:pt x="15" y="717"/>
                    <a:pt x="11" y="717"/>
                  </a:cubicBezTo>
                  <a:cubicBezTo>
                    <a:pt x="6" y="717"/>
                    <a:pt x="2" y="714"/>
                    <a:pt x="2" y="709"/>
                  </a:cubicBezTo>
                  <a:close/>
                  <a:moveTo>
                    <a:pt x="2" y="676"/>
                  </a:moveTo>
                  <a:lnTo>
                    <a:pt x="2" y="676"/>
                  </a:lnTo>
                  <a:cubicBezTo>
                    <a:pt x="2" y="671"/>
                    <a:pt x="6" y="667"/>
                    <a:pt x="11" y="667"/>
                  </a:cubicBezTo>
                  <a:cubicBezTo>
                    <a:pt x="15" y="667"/>
                    <a:pt x="19" y="671"/>
                    <a:pt x="19" y="676"/>
                  </a:cubicBezTo>
                  <a:lnTo>
                    <a:pt x="19" y="676"/>
                  </a:lnTo>
                  <a:cubicBezTo>
                    <a:pt x="19" y="680"/>
                    <a:pt x="15" y="684"/>
                    <a:pt x="11" y="684"/>
                  </a:cubicBezTo>
                  <a:cubicBezTo>
                    <a:pt x="6" y="684"/>
                    <a:pt x="2" y="680"/>
                    <a:pt x="2" y="676"/>
                  </a:cubicBezTo>
                  <a:close/>
                  <a:moveTo>
                    <a:pt x="3" y="642"/>
                  </a:moveTo>
                  <a:lnTo>
                    <a:pt x="3" y="642"/>
                  </a:lnTo>
                  <a:cubicBezTo>
                    <a:pt x="3" y="638"/>
                    <a:pt x="6" y="634"/>
                    <a:pt x="11" y="634"/>
                  </a:cubicBezTo>
                  <a:cubicBezTo>
                    <a:pt x="15" y="634"/>
                    <a:pt x="19" y="638"/>
                    <a:pt x="19" y="642"/>
                  </a:cubicBezTo>
                  <a:lnTo>
                    <a:pt x="19" y="642"/>
                  </a:lnTo>
                  <a:cubicBezTo>
                    <a:pt x="19" y="647"/>
                    <a:pt x="15" y="651"/>
                    <a:pt x="11" y="651"/>
                  </a:cubicBezTo>
                  <a:cubicBezTo>
                    <a:pt x="6" y="651"/>
                    <a:pt x="3" y="647"/>
                    <a:pt x="3" y="642"/>
                  </a:cubicBezTo>
                  <a:close/>
                  <a:moveTo>
                    <a:pt x="3" y="609"/>
                  </a:moveTo>
                  <a:lnTo>
                    <a:pt x="3" y="609"/>
                  </a:lnTo>
                  <a:cubicBezTo>
                    <a:pt x="3" y="604"/>
                    <a:pt x="6" y="601"/>
                    <a:pt x="11" y="601"/>
                  </a:cubicBezTo>
                  <a:cubicBezTo>
                    <a:pt x="16" y="601"/>
                    <a:pt x="19" y="604"/>
                    <a:pt x="19" y="609"/>
                  </a:cubicBezTo>
                  <a:lnTo>
                    <a:pt x="19" y="609"/>
                  </a:lnTo>
                  <a:cubicBezTo>
                    <a:pt x="19" y="613"/>
                    <a:pt x="16" y="617"/>
                    <a:pt x="11" y="617"/>
                  </a:cubicBezTo>
                  <a:cubicBezTo>
                    <a:pt x="6" y="617"/>
                    <a:pt x="3" y="613"/>
                    <a:pt x="3" y="609"/>
                  </a:cubicBezTo>
                  <a:close/>
                  <a:moveTo>
                    <a:pt x="3" y="576"/>
                  </a:moveTo>
                  <a:lnTo>
                    <a:pt x="3" y="576"/>
                  </a:lnTo>
                  <a:cubicBezTo>
                    <a:pt x="3" y="571"/>
                    <a:pt x="6" y="567"/>
                    <a:pt x="11" y="567"/>
                  </a:cubicBezTo>
                  <a:cubicBezTo>
                    <a:pt x="16" y="567"/>
                    <a:pt x="19" y="571"/>
                    <a:pt x="19" y="576"/>
                  </a:cubicBezTo>
                  <a:lnTo>
                    <a:pt x="19" y="576"/>
                  </a:lnTo>
                  <a:cubicBezTo>
                    <a:pt x="19" y="580"/>
                    <a:pt x="16" y="584"/>
                    <a:pt x="11" y="584"/>
                  </a:cubicBezTo>
                  <a:cubicBezTo>
                    <a:pt x="6" y="584"/>
                    <a:pt x="3" y="580"/>
                    <a:pt x="3" y="576"/>
                  </a:cubicBezTo>
                  <a:close/>
                  <a:moveTo>
                    <a:pt x="3" y="542"/>
                  </a:moveTo>
                  <a:lnTo>
                    <a:pt x="3" y="542"/>
                  </a:lnTo>
                  <a:cubicBezTo>
                    <a:pt x="3" y="538"/>
                    <a:pt x="6" y="534"/>
                    <a:pt x="11" y="534"/>
                  </a:cubicBezTo>
                  <a:cubicBezTo>
                    <a:pt x="16" y="534"/>
                    <a:pt x="19" y="538"/>
                    <a:pt x="19" y="542"/>
                  </a:cubicBezTo>
                  <a:lnTo>
                    <a:pt x="19" y="542"/>
                  </a:lnTo>
                  <a:cubicBezTo>
                    <a:pt x="19" y="547"/>
                    <a:pt x="16" y="551"/>
                    <a:pt x="11" y="551"/>
                  </a:cubicBezTo>
                  <a:cubicBezTo>
                    <a:pt x="6" y="551"/>
                    <a:pt x="3" y="547"/>
                    <a:pt x="3" y="542"/>
                  </a:cubicBezTo>
                  <a:close/>
                  <a:moveTo>
                    <a:pt x="3" y="509"/>
                  </a:moveTo>
                  <a:lnTo>
                    <a:pt x="3" y="509"/>
                  </a:lnTo>
                  <a:cubicBezTo>
                    <a:pt x="3" y="504"/>
                    <a:pt x="6" y="500"/>
                    <a:pt x="11" y="500"/>
                  </a:cubicBezTo>
                  <a:cubicBezTo>
                    <a:pt x="16" y="500"/>
                    <a:pt x="19" y="504"/>
                    <a:pt x="19" y="509"/>
                  </a:cubicBezTo>
                  <a:lnTo>
                    <a:pt x="19" y="509"/>
                  </a:lnTo>
                  <a:cubicBezTo>
                    <a:pt x="19" y="513"/>
                    <a:pt x="16" y="517"/>
                    <a:pt x="11" y="517"/>
                  </a:cubicBezTo>
                  <a:cubicBezTo>
                    <a:pt x="6" y="517"/>
                    <a:pt x="3" y="513"/>
                    <a:pt x="3" y="509"/>
                  </a:cubicBezTo>
                  <a:close/>
                  <a:moveTo>
                    <a:pt x="3" y="475"/>
                  </a:moveTo>
                  <a:lnTo>
                    <a:pt x="3" y="475"/>
                  </a:lnTo>
                  <a:cubicBezTo>
                    <a:pt x="3" y="471"/>
                    <a:pt x="6" y="467"/>
                    <a:pt x="11" y="467"/>
                  </a:cubicBezTo>
                  <a:cubicBezTo>
                    <a:pt x="16" y="467"/>
                    <a:pt x="19" y="471"/>
                    <a:pt x="19" y="475"/>
                  </a:cubicBezTo>
                  <a:lnTo>
                    <a:pt x="19" y="475"/>
                  </a:lnTo>
                  <a:cubicBezTo>
                    <a:pt x="19" y="480"/>
                    <a:pt x="16" y="484"/>
                    <a:pt x="11" y="484"/>
                  </a:cubicBezTo>
                  <a:cubicBezTo>
                    <a:pt x="6" y="484"/>
                    <a:pt x="3" y="480"/>
                    <a:pt x="3" y="475"/>
                  </a:cubicBezTo>
                  <a:close/>
                  <a:moveTo>
                    <a:pt x="3" y="442"/>
                  </a:moveTo>
                  <a:lnTo>
                    <a:pt x="3" y="442"/>
                  </a:lnTo>
                  <a:cubicBezTo>
                    <a:pt x="3" y="438"/>
                    <a:pt x="7" y="434"/>
                    <a:pt x="11" y="434"/>
                  </a:cubicBezTo>
                  <a:cubicBezTo>
                    <a:pt x="16" y="434"/>
                    <a:pt x="19" y="438"/>
                    <a:pt x="19" y="442"/>
                  </a:cubicBezTo>
                  <a:lnTo>
                    <a:pt x="19" y="442"/>
                  </a:lnTo>
                  <a:cubicBezTo>
                    <a:pt x="19" y="447"/>
                    <a:pt x="16" y="450"/>
                    <a:pt x="11" y="450"/>
                  </a:cubicBezTo>
                  <a:cubicBezTo>
                    <a:pt x="7" y="450"/>
                    <a:pt x="3" y="447"/>
                    <a:pt x="3" y="442"/>
                  </a:cubicBezTo>
                  <a:close/>
                  <a:moveTo>
                    <a:pt x="3" y="409"/>
                  </a:moveTo>
                  <a:lnTo>
                    <a:pt x="3" y="409"/>
                  </a:lnTo>
                  <a:cubicBezTo>
                    <a:pt x="3" y="404"/>
                    <a:pt x="7" y="400"/>
                    <a:pt x="11" y="400"/>
                  </a:cubicBezTo>
                  <a:cubicBezTo>
                    <a:pt x="16" y="400"/>
                    <a:pt x="20" y="404"/>
                    <a:pt x="20" y="409"/>
                  </a:cubicBezTo>
                  <a:lnTo>
                    <a:pt x="20" y="409"/>
                  </a:lnTo>
                  <a:cubicBezTo>
                    <a:pt x="20" y="413"/>
                    <a:pt x="16" y="417"/>
                    <a:pt x="11" y="417"/>
                  </a:cubicBezTo>
                  <a:cubicBezTo>
                    <a:pt x="7" y="417"/>
                    <a:pt x="3" y="413"/>
                    <a:pt x="3" y="409"/>
                  </a:cubicBezTo>
                  <a:close/>
                  <a:moveTo>
                    <a:pt x="3" y="375"/>
                  </a:moveTo>
                  <a:lnTo>
                    <a:pt x="3" y="375"/>
                  </a:lnTo>
                  <a:cubicBezTo>
                    <a:pt x="3" y="371"/>
                    <a:pt x="7" y="367"/>
                    <a:pt x="11" y="367"/>
                  </a:cubicBezTo>
                  <a:cubicBezTo>
                    <a:pt x="16" y="367"/>
                    <a:pt x="20" y="371"/>
                    <a:pt x="20" y="375"/>
                  </a:cubicBezTo>
                  <a:lnTo>
                    <a:pt x="20" y="375"/>
                  </a:lnTo>
                  <a:cubicBezTo>
                    <a:pt x="20" y="380"/>
                    <a:pt x="16" y="384"/>
                    <a:pt x="11" y="384"/>
                  </a:cubicBezTo>
                  <a:cubicBezTo>
                    <a:pt x="7" y="384"/>
                    <a:pt x="3" y="380"/>
                    <a:pt x="3" y="375"/>
                  </a:cubicBezTo>
                  <a:close/>
                  <a:moveTo>
                    <a:pt x="3" y="342"/>
                  </a:moveTo>
                  <a:lnTo>
                    <a:pt x="3" y="342"/>
                  </a:lnTo>
                  <a:cubicBezTo>
                    <a:pt x="3" y="337"/>
                    <a:pt x="7" y="334"/>
                    <a:pt x="11" y="334"/>
                  </a:cubicBezTo>
                  <a:cubicBezTo>
                    <a:pt x="16" y="334"/>
                    <a:pt x="20" y="337"/>
                    <a:pt x="20" y="342"/>
                  </a:cubicBezTo>
                  <a:lnTo>
                    <a:pt x="20" y="342"/>
                  </a:lnTo>
                  <a:cubicBezTo>
                    <a:pt x="20" y="347"/>
                    <a:pt x="16" y="350"/>
                    <a:pt x="11" y="350"/>
                  </a:cubicBezTo>
                  <a:cubicBezTo>
                    <a:pt x="7" y="350"/>
                    <a:pt x="3" y="347"/>
                    <a:pt x="3" y="342"/>
                  </a:cubicBezTo>
                  <a:close/>
                  <a:moveTo>
                    <a:pt x="3" y="309"/>
                  </a:moveTo>
                  <a:lnTo>
                    <a:pt x="3" y="309"/>
                  </a:lnTo>
                  <a:cubicBezTo>
                    <a:pt x="3" y="304"/>
                    <a:pt x="7" y="300"/>
                    <a:pt x="11" y="300"/>
                  </a:cubicBezTo>
                  <a:cubicBezTo>
                    <a:pt x="16" y="300"/>
                    <a:pt x="20" y="304"/>
                    <a:pt x="20" y="309"/>
                  </a:cubicBezTo>
                  <a:lnTo>
                    <a:pt x="20" y="309"/>
                  </a:lnTo>
                  <a:cubicBezTo>
                    <a:pt x="20" y="313"/>
                    <a:pt x="16" y="317"/>
                    <a:pt x="11" y="317"/>
                  </a:cubicBezTo>
                  <a:cubicBezTo>
                    <a:pt x="7" y="317"/>
                    <a:pt x="3" y="313"/>
                    <a:pt x="3" y="309"/>
                  </a:cubicBezTo>
                  <a:close/>
                  <a:moveTo>
                    <a:pt x="3" y="275"/>
                  </a:moveTo>
                  <a:lnTo>
                    <a:pt x="3" y="275"/>
                  </a:lnTo>
                  <a:cubicBezTo>
                    <a:pt x="3" y="271"/>
                    <a:pt x="7" y="267"/>
                    <a:pt x="11" y="267"/>
                  </a:cubicBezTo>
                  <a:cubicBezTo>
                    <a:pt x="16" y="267"/>
                    <a:pt x="20" y="271"/>
                    <a:pt x="20" y="275"/>
                  </a:cubicBezTo>
                  <a:lnTo>
                    <a:pt x="20" y="275"/>
                  </a:lnTo>
                  <a:cubicBezTo>
                    <a:pt x="20" y="280"/>
                    <a:pt x="16" y="284"/>
                    <a:pt x="11" y="284"/>
                  </a:cubicBezTo>
                  <a:cubicBezTo>
                    <a:pt x="7" y="284"/>
                    <a:pt x="3" y="280"/>
                    <a:pt x="3" y="275"/>
                  </a:cubicBezTo>
                  <a:close/>
                  <a:moveTo>
                    <a:pt x="3" y="242"/>
                  </a:moveTo>
                  <a:lnTo>
                    <a:pt x="3" y="242"/>
                  </a:lnTo>
                  <a:cubicBezTo>
                    <a:pt x="3" y="237"/>
                    <a:pt x="7" y="234"/>
                    <a:pt x="11" y="234"/>
                  </a:cubicBezTo>
                  <a:cubicBezTo>
                    <a:pt x="16" y="234"/>
                    <a:pt x="20" y="237"/>
                    <a:pt x="20" y="242"/>
                  </a:cubicBezTo>
                  <a:lnTo>
                    <a:pt x="20" y="242"/>
                  </a:lnTo>
                  <a:cubicBezTo>
                    <a:pt x="20" y="247"/>
                    <a:pt x="16" y="250"/>
                    <a:pt x="11" y="250"/>
                  </a:cubicBezTo>
                  <a:cubicBezTo>
                    <a:pt x="7" y="250"/>
                    <a:pt x="3" y="247"/>
                    <a:pt x="3" y="242"/>
                  </a:cubicBezTo>
                  <a:close/>
                  <a:moveTo>
                    <a:pt x="3" y="209"/>
                  </a:moveTo>
                  <a:lnTo>
                    <a:pt x="3" y="209"/>
                  </a:lnTo>
                  <a:cubicBezTo>
                    <a:pt x="3" y="204"/>
                    <a:pt x="7" y="200"/>
                    <a:pt x="11" y="200"/>
                  </a:cubicBezTo>
                  <a:cubicBezTo>
                    <a:pt x="16" y="200"/>
                    <a:pt x="20" y="204"/>
                    <a:pt x="20" y="209"/>
                  </a:cubicBezTo>
                  <a:lnTo>
                    <a:pt x="20" y="209"/>
                  </a:lnTo>
                  <a:cubicBezTo>
                    <a:pt x="20" y="213"/>
                    <a:pt x="16" y="217"/>
                    <a:pt x="11" y="217"/>
                  </a:cubicBezTo>
                  <a:cubicBezTo>
                    <a:pt x="7" y="217"/>
                    <a:pt x="3" y="213"/>
                    <a:pt x="3" y="209"/>
                  </a:cubicBezTo>
                  <a:close/>
                  <a:moveTo>
                    <a:pt x="3" y="175"/>
                  </a:moveTo>
                  <a:lnTo>
                    <a:pt x="3" y="175"/>
                  </a:lnTo>
                  <a:cubicBezTo>
                    <a:pt x="3" y="171"/>
                    <a:pt x="7" y="167"/>
                    <a:pt x="12" y="167"/>
                  </a:cubicBezTo>
                  <a:cubicBezTo>
                    <a:pt x="16" y="167"/>
                    <a:pt x="20" y="171"/>
                    <a:pt x="20" y="175"/>
                  </a:cubicBezTo>
                  <a:lnTo>
                    <a:pt x="20" y="175"/>
                  </a:lnTo>
                  <a:cubicBezTo>
                    <a:pt x="20" y="180"/>
                    <a:pt x="16" y="184"/>
                    <a:pt x="12" y="184"/>
                  </a:cubicBezTo>
                  <a:cubicBezTo>
                    <a:pt x="7" y="184"/>
                    <a:pt x="3" y="180"/>
                    <a:pt x="3" y="175"/>
                  </a:cubicBezTo>
                  <a:close/>
                  <a:moveTo>
                    <a:pt x="3" y="142"/>
                  </a:moveTo>
                  <a:lnTo>
                    <a:pt x="3" y="142"/>
                  </a:lnTo>
                  <a:cubicBezTo>
                    <a:pt x="3" y="137"/>
                    <a:pt x="7" y="134"/>
                    <a:pt x="12" y="134"/>
                  </a:cubicBezTo>
                  <a:cubicBezTo>
                    <a:pt x="16" y="134"/>
                    <a:pt x="20" y="137"/>
                    <a:pt x="20" y="142"/>
                  </a:cubicBezTo>
                  <a:lnTo>
                    <a:pt x="20" y="142"/>
                  </a:lnTo>
                  <a:cubicBezTo>
                    <a:pt x="20" y="147"/>
                    <a:pt x="16" y="150"/>
                    <a:pt x="12" y="150"/>
                  </a:cubicBezTo>
                  <a:cubicBezTo>
                    <a:pt x="7" y="150"/>
                    <a:pt x="3" y="147"/>
                    <a:pt x="3" y="142"/>
                  </a:cubicBezTo>
                  <a:close/>
                  <a:moveTo>
                    <a:pt x="3" y="109"/>
                  </a:moveTo>
                  <a:lnTo>
                    <a:pt x="3" y="109"/>
                  </a:lnTo>
                  <a:cubicBezTo>
                    <a:pt x="3" y="104"/>
                    <a:pt x="7" y="100"/>
                    <a:pt x="12" y="100"/>
                  </a:cubicBezTo>
                  <a:cubicBezTo>
                    <a:pt x="16" y="100"/>
                    <a:pt x="20" y="104"/>
                    <a:pt x="20" y="109"/>
                  </a:cubicBezTo>
                  <a:lnTo>
                    <a:pt x="20" y="109"/>
                  </a:lnTo>
                  <a:cubicBezTo>
                    <a:pt x="20" y="113"/>
                    <a:pt x="16" y="117"/>
                    <a:pt x="12" y="117"/>
                  </a:cubicBezTo>
                  <a:cubicBezTo>
                    <a:pt x="7" y="117"/>
                    <a:pt x="3" y="113"/>
                    <a:pt x="3" y="109"/>
                  </a:cubicBezTo>
                  <a:close/>
                  <a:moveTo>
                    <a:pt x="3" y="75"/>
                  </a:moveTo>
                  <a:lnTo>
                    <a:pt x="3" y="75"/>
                  </a:lnTo>
                  <a:cubicBezTo>
                    <a:pt x="3" y="71"/>
                    <a:pt x="7" y="67"/>
                    <a:pt x="12" y="67"/>
                  </a:cubicBezTo>
                  <a:cubicBezTo>
                    <a:pt x="16" y="67"/>
                    <a:pt x="20" y="71"/>
                    <a:pt x="20" y="75"/>
                  </a:cubicBezTo>
                  <a:lnTo>
                    <a:pt x="20" y="75"/>
                  </a:lnTo>
                  <a:cubicBezTo>
                    <a:pt x="20" y="80"/>
                    <a:pt x="16" y="84"/>
                    <a:pt x="12" y="84"/>
                  </a:cubicBezTo>
                  <a:cubicBezTo>
                    <a:pt x="7" y="84"/>
                    <a:pt x="3" y="80"/>
                    <a:pt x="3" y="75"/>
                  </a:cubicBezTo>
                  <a:close/>
                  <a:moveTo>
                    <a:pt x="3" y="42"/>
                  </a:moveTo>
                  <a:lnTo>
                    <a:pt x="3" y="42"/>
                  </a:lnTo>
                  <a:cubicBezTo>
                    <a:pt x="3" y="37"/>
                    <a:pt x="7" y="34"/>
                    <a:pt x="12" y="34"/>
                  </a:cubicBezTo>
                  <a:cubicBezTo>
                    <a:pt x="16" y="34"/>
                    <a:pt x="20" y="37"/>
                    <a:pt x="20" y="42"/>
                  </a:cubicBezTo>
                  <a:lnTo>
                    <a:pt x="20" y="42"/>
                  </a:lnTo>
                  <a:cubicBezTo>
                    <a:pt x="20" y="47"/>
                    <a:pt x="16" y="50"/>
                    <a:pt x="12" y="50"/>
                  </a:cubicBezTo>
                  <a:cubicBezTo>
                    <a:pt x="7" y="50"/>
                    <a:pt x="3" y="47"/>
                    <a:pt x="3" y="42"/>
                  </a:cubicBezTo>
                  <a:close/>
                  <a:moveTo>
                    <a:pt x="3" y="9"/>
                  </a:moveTo>
                  <a:lnTo>
                    <a:pt x="3" y="9"/>
                  </a:lnTo>
                  <a:cubicBezTo>
                    <a:pt x="3" y="4"/>
                    <a:pt x="7" y="0"/>
                    <a:pt x="12" y="0"/>
                  </a:cubicBezTo>
                  <a:cubicBezTo>
                    <a:pt x="16" y="0"/>
                    <a:pt x="20" y="4"/>
                    <a:pt x="20" y="9"/>
                  </a:cubicBezTo>
                  <a:lnTo>
                    <a:pt x="20" y="9"/>
                  </a:lnTo>
                  <a:cubicBezTo>
                    <a:pt x="20" y="13"/>
                    <a:pt x="16" y="17"/>
                    <a:pt x="12" y="17"/>
                  </a:cubicBezTo>
                  <a:cubicBezTo>
                    <a:pt x="7" y="17"/>
                    <a:pt x="3" y="13"/>
                    <a:pt x="3" y="9"/>
                  </a:cubicBez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106880" y="3860640"/>
              <a:ext cx="3240" cy="454320"/>
            </a:xfrm>
            <a:custGeom>
              <a:avLst/>
              <a:gdLst/>
              <a:ahLst/>
              <a:rect l="l" t="t" r="r" b="b"/>
              <a:pathLst>
                <a:path w="20" h="2385">
                  <a:moveTo>
                    <a:pt x="0" y="2376"/>
                  </a:moveTo>
                  <a:lnTo>
                    <a:pt x="0" y="2376"/>
                  </a:lnTo>
                  <a:cubicBezTo>
                    <a:pt x="0" y="2372"/>
                    <a:pt x="4" y="2368"/>
                    <a:pt x="8" y="2368"/>
                  </a:cubicBezTo>
                  <a:cubicBezTo>
                    <a:pt x="13" y="2368"/>
                    <a:pt x="17" y="2372"/>
                    <a:pt x="17" y="2376"/>
                  </a:cubicBezTo>
                  <a:lnTo>
                    <a:pt x="17" y="2376"/>
                  </a:lnTo>
                  <a:cubicBezTo>
                    <a:pt x="17" y="2381"/>
                    <a:pt x="13" y="2385"/>
                    <a:pt x="8" y="2385"/>
                  </a:cubicBezTo>
                  <a:cubicBezTo>
                    <a:pt x="4" y="2385"/>
                    <a:pt x="0" y="2381"/>
                    <a:pt x="0" y="2376"/>
                  </a:cubicBezTo>
                  <a:close/>
                  <a:moveTo>
                    <a:pt x="0" y="2343"/>
                  </a:moveTo>
                  <a:lnTo>
                    <a:pt x="0" y="2343"/>
                  </a:lnTo>
                  <a:cubicBezTo>
                    <a:pt x="0" y="2338"/>
                    <a:pt x="4" y="2335"/>
                    <a:pt x="9" y="2335"/>
                  </a:cubicBezTo>
                  <a:cubicBezTo>
                    <a:pt x="13" y="2335"/>
                    <a:pt x="17" y="2338"/>
                    <a:pt x="17" y="2343"/>
                  </a:cubicBezTo>
                  <a:lnTo>
                    <a:pt x="17" y="2343"/>
                  </a:lnTo>
                  <a:cubicBezTo>
                    <a:pt x="17" y="2348"/>
                    <a:pt x="13" y="2351"/>
                    <a:pt x="9" y="2351"/>
                  </a:cubicBezTo>
                  <a:cubicBezTo>
                    <a:pt x="4" y="2351"/>
                    <a:pt x="0" y="2348"/>
                    <a:pt x="0" y="2343"/>
                  </a:cubicBezTo>
                  <a:close/>
                  <a:moveTo>
                    <a:pt x="0" y="2310"/>
                  </a:moveTo>
                  <a:lnTo>
                    <a:pt x="0" y="2310"/>
                  </a:lnTo>
                  <a:cubicBezTo>
                    <a:pt x="0" y="2305"/>
                    <a:pt x="4" y="2301"/>
                    <a:pt x="9" y="2301"/>
                  </a:cubicBezTo>
                  <a:cubicBezTo>
                    <a:pt x="13" y="2301"/>
                    <a:pt x="17" y="2305"/>
                    <a:pt x="17" y="2310"/>
                  </a:cubicBezTo>
                  <a:lnTo>
                    <a:pt x="17" y="2310"/>
                  </a:lnTo>
                  <a:cubicBezTo>
                    <a:pt x="17" y="2314"/>
                    <a:pt x="13" y="2318"/>
                    <a:pt x="9" y="2318"/>
                  </a:cubicBezTo>
                  <a:cubicBezTo>
                    <a:pt x="4" y="2318"/>
                    <a:pt x="0" y="2314"/>
                    <a:pt x="0" y="2310"/>
                  </a:cubicBezTo>
                  <a:close/>
                  <a:moveTo>
                    <a:pt x="0" y="2276"/>
                  </a:moveTo>
                  <a:lnTo>
                    <a:pt x="0" y="2276"/>
                  </a:lnTo>
                  <a:cubicBezTo>
                    <a:pt x="0" y="2272"/>
                    <a:pt x="4" y="2268"/>
                    <a:pt x="9" y="2268"/>
                  </a:cubicBezTo>
                  <a:cubicBezTo>
                    <a:pt x="13" y="2268"/>
                    <a:pt x="17" y="2272"/>
                    <a:pt x="17" y="2276"/>
                  </a:cubicBezTo>
                  <a:lnTo>
                    <a:pt x="17" y="2276"/>
                  </a:lnTo>
                  <a:cubicBezTo>
                    <a:pt x="17" y="2281"/>
                    <a:pt x="13" y="2285"/>
                    <a:pt x="9" y="2285"/>
                  </a:cubicBezTo>
                  <a:cubicBezTo>
                    <a:pt x="4" y="2285"/>
                    <a:pt x="0" y="2281"/>
                    <a:pt x="0" y="2276"/>
                  </a:cubicBezTo>
                  <a:close/>
                  <a:moveTo>
                    <a:pt x="0" y="2243"/>
                  </a:moveTo>
                  <a:lnTo>
                    <a:pt x="0" y="2243"/>
                  </a:lnTo>
                  <a:cubicBezTo>
                    <a:pt x="0" y="2238"/>
                    <a:pt x="4" y="2235"/>
                    <a:pt x="9" y="2235"/>
                  </a:cubicBezTo>
                  <a:cubicBezTo>
                    <a:pt x="13" y="2235"/>
                    <a:pt x="17" y="2238"/>
                    <a:pt x="17" y="2243"/>
                  </a:cubicBezTo>
                  <a:lnTo>
                    <a:pt x="17" y="2243"/>
                  </a:lnTo>
                  <a:cubicBezTo>
                    <a:pt x="17" y="2248"/>
                    <a:pt x="13" y="2251"/>
                    <a:pt x="9" y="2251"/>
                  </a:cubicBezTo>
                  <a:cubicBezTo>
                    <a:pt x="4" y="2251"/>
                    <a:pt x="0" y="2248"/>
                    <a:pt x="0" y="2243"/>
                  </a:cubicBezTo>
                  <a:close/>
                  <a:moveTo>
                    <a:pt x="0" y="2210"/>
                  </a:moveTo>
                  <a:lnTo>
                    <a:pt x="0" y="2210"/>
                  </a:lnTo>
                  <a:cubicBezTo>
                    <a:pt x="0" y="2205"/>
                    <a:pt x="4" y="2201"/>
                    <a:pt x="9" y="2201"/>
                  </a:cubicBezTo>
                  <a:cubicBezTo>
                    <a:pt x="13" y="2201"/>
                    <a:pt x="17" y="2205"/>
                    <a:pt x="17" y="2210"/>
                  </a:cubicBezTo>
                  <a:lnTo>
                    <a:pt x="17" y="2210"/>
                  </a:lnTo>
                  <a:cubicBezTo>
                    <a:pt x="17" y="2214"/>
                    <a:pt x="13" y="2218"/>
                    <a:pt x="9" y="2218"/>
                  </a:cubicBezTo>
                  <a:cubicBezTo>
                    <a:pt x="4" y="2218"/>
                    <a:pt x="0" y="2214"/>
                    <a:pt x="0" y="2210"/>
                  </a:cubicBezTo>
                  <a:close/>
                  <a:moveTo>
                    <a:pt x="0" y="2176"/>
                  </a:moveTo>
                  <a:lnTo>
                    <a:pt x="0" y="2176"/>
                  </a:lnTo>
                  <a:cubicBezTo>
                    <a:pt x="0" y="2172"/>
                    <a:pt x="4" y="2168"/>
                    <a:pt x="9" y="2168"/>
                  </a:cubicBezTo>
                  <a:cubicBezTo>
                    <a:pt x="13" y="2168"/>
                    <a:pt x="17" y="2172"/>
                    <a:pt x="17" y="2176"/>
                  </a:cubicBezTo>
                  <a:lnTo>
                    <a:pt x="17" y="2176"/>
                  </a:lnTo>
                  <a:cubicBezTo>
                    <a:pt x="17" y="2181"/>
                    <a:pt x="13" y="2185"/>
                    <a:pt x="9" y="2185"/>
                  </a:cubicBezTo>
                  <a:cubicBezTo>
                    <a:pt x="4" y="2185"/>
                    <a:pt x="0" y="2181"/>
                    <a:pt x="0" y="2176"/>
                  </a:cubicBezTo>
                  <a:close/>
                  <a:moveTo>
                    <a:pt x="0" y="2143"/>
                  </a:moveTo>
                  <a:lnTo>
                    <a:pt x="0" y="2143"/>
                  </a:lnTo>
                  <a:cubicBezTo>
                    <a:pt x="0" y="2138"/>
                    <a:pt x="4" y="2135"/>
                    <a:pt x="9" y="2135"/>
                  </a:cubicBezTo>
                  <a:cubicBezTo>
                    <a:pt x="13" y="2135"/>
                    <a:pt x="17" y="2138"/>
                    <a:pt x="17" y="2143"/>
                  </a:cubicBezTo>
                  <a:lnTo>
                    <a:pt x="17" y="2143"/>
                  </a:lnTo>
                  <a:cubicBezTo>
                    <a:pt x="17" y="2148"/>
                    <a:pt x="13" y="2151"/>
                    <a:pt x="9" y="2151"/>
                  </a:cubicBezTo>
                  <a:cubicBezTo>
                    <a:pt x="4" y="2151"/>
                    <a:pt x="0" y="2148"/>
                    <a:pt x="0" y="2143"/>
                  </a:cubicBezTo>
                  <a:close/>
                  <a:moveTo>
                    <a:pt x="0" y="2110"/>
                  </a:moveTo>
                  <a:lnTo>
                    <a:pt x="0" y="2110"/>
                  </a:lnTo>
                  <a:cubicBezTo>
                    <a:pt x="0" y="2105"/>
                    <a:pt x="4" y="2101"/>
                    <a:pt x="9" y="2101"/>
                  </a:cubicBezTo>
                  <a:cubicBezTo>
                    <a:pt x="13" y="2101"/>
                    <a:pt x="17" y="2105"/>
                    <a:pt x="17" y="2110"/>
                  </a:cubicBezTo>
                  <a:lnTo>
                    <a:pt x="17" y="2110"/>
                  </a:lnTo>
                  <a:cubicBezTo>
                    <a:pt x="17" y="2114"/>
                    <a:pt x="13" y="2118"/>
                    <a:pt x="9" y="2118"/>
                  </a:cubicBezTo>
                  <a:cubicBezTo>
                    <a:pt x="4" y="2118"/>
                    <a:pt x="0" y="2114"/>
                    <a:pt x="0" y="2110"/>
                  </a:cubicBezTo>
                  <a:close/>
                  <a:moveTo>
                    <a:pt x="1" y="2076"/>
                  </a:moveTo>
                  <a:lnTo>
                    <a:pt x="1" y="2076"/>
                  </a:lnTo>
                  <a:cubicBezTo>
                    <a:pt x="1" y="2072"/>
                    <a:pt x="4" y="2068"/>
                    <a:pt x="9" y="2068"/>
                  </a:cubicBezTo>
                  <a:cubicBezTo>
                    <a:pt x="13" y="2068"/>
                    <a:pt x="17" y="2072"/>
                    <a:pt x="17" y="2076"/>
                  </a:cubicBezTo>
                  <a:lnTo>
                    <a:pt x="17" y="2076"/>
                  </a:lnTo>
                  <a:cubicBezTo>
                    <a:pt x="17" y="2081"/>
                    <a:pt x="13" y="2085"/>
                    <a:pt x="9" y="2085"/>
                  </a:cubicBezTo>
                  <a:cubicBezTo>
                    <a:pt x="4" y="2085"/>
                    <a:pt x="1" y="2081"/>
                    <a:pt x="1" y="2076"/>
                  </a:cubicBezTo>
                  <a:close/>
                  <a:moveTo>
                    <a:pt x="1" y="2043"/>
                  </a:moveTo>
                  <a:lnTo>
                    <a:pt x="1" y="2043"/>
                  </a:lnTo>
                  <a:cubicBezTo>
                    <a:pt x="1" y="2038"/>
                    <a:pt x="4" y="2035"/>
                    <a:pt x="9" y="2035"/>
                  </a:cubicBezTo>
                  <a:cubicBezTo>
                    <a:pt x="14" y="2035"/>
                    <a:pt x="17" y="2038"/>
                    <a:pt x="17" y="2043"/>
                  </a:cubicBezTo>
                  <a:lnTo>
                    <a:pt x="17" y="2043"/>
                  </a:lnTo>
                  <a:cubicBezTo>
                    <a:pt x="17" y="2048"/>
                    <a:pt x="14" y="2051"/>
                    <a:pt x="9" y="2051"/>
                  </a:cubicBezTo>
                  <a:cubicBezTo>
                    <a:pt x="4" y="2051"/>
                    <a:pt x="1" y="2048"/>
                    <a:pt x="1" y="2043"/>
                  </a:cubicBezTo>
                  <a:close/>
                  <a:moveTo>
                    <a:pt x="1" y="2010"/>
                  </a:moveTo>
                  <a:lnTo>
                    <a:pt x="1" y="2010"/>
                  </a:lnTo>
                  <a:cubicBezTo>
                    <a:pt x="1" y="2005"/>
                    <a:pt x="4" y="2001"/>
                    <a:pt x="9" y="2001"/>
                  </a:cubicBezTo>
                  <a:cubicBezTo>
                    <a:pt x="14" y="2001"/>
                    <a:pt x="17" y="2005"/>
                    <a:pt x="17" y="2010"/>
                  </a:cubicBezTo>
                  <a:lnTo>
                    <a:pt x="17" y="2010"/>
                  </a:lnTo>
                  <a:cubicBezTo>
                    <a:pt x="17" y="2014"/>
                    <a:pt x="14" y="2018"/>
                    <a:pt x="9" y="2018"/>
                  </a:cubicBezTo>
                  <a:cubicBezTo>
                    <a:pt x="4" y="2018"/>
                    <a:pt x="1" y="2014"/>
                    <a:pt x="1" y="2010"/>
                  </a:cubicBezTo>
                  <a:close/>
                  <a:moveTo>
                    <a:pt x="1" y="1976"/>
                  </a:moveTo>
                  <a:lnTo>
                    <a:pt x="1" y="1976"/>
                  </a:lnTo>
                  <a:cubicBezTo>
                    <a:pt x="1" y="1972"/>
                    <a:pt x="4" y="1968"/>
                    <a:pt x="9" y="1968"/>
                  </a:cubicBezTo>
                  <a:cubicBezTo>
                    <a:pt x="14" y="1968"/>
                    <a:pt x="17" y="1972"/>
                    <a:pt x="17" y="1976"/>
                  </a:cubicBezTo>
                  <a:lnTo>
                    <a:pt x="17" y="1976"/>
                  </a:lnTo>
                  <a:cubicBezTo>
                    <a:pt x="17" y="1981"/>
                    <a:pt x="14" y="1985"/>
                    <a:pt x="9" y="1985"/>
                  </a:cubicBezTo>
                  <a:cubicBezTo>
                    <a:pt x="4" y="1985"/>
                    <a:pt x="1" y="1981"/>
                    <a:pt x="1" y="1976"/>
                  </a:cubicBezTo>
                  <a:close/>
                  <a:moveTo>
                    <a:pt x="1" y="1943"/>
                  </a:moveTo>
                  <a:lnTo>
                    <a:pt x="1" y="1943"/>
                  </a:lnTo>
                  <a:cubicBezTo>
                    <a:pt x="1" y="1938"/>
                    <a:pt x="4" y="1935"/>
                    <a:pt x="9" y="1935"/>
                  </a:cubicBezTo>
                  <a:cubicBezTo>
                    <a:pt x="14" y="1935"/>
                    <a:pt x="17" y="1938"/>
                    <a:pt x="17" y="1943"/>
                  </a:cubicBezTo>
                  <a:lnTo>
                    <a:pt x="17" y="1943"/>
                  </a:lnTo>
                  <a:cubicBezTo>
                    <a:pt x="17" y="1948"/>
                    <a:pt x="14" y="1951"/>
                    <a:pt x="9" y="1951"/>
                  </a:cubicBezTo>
                  <a:cubicBezTo>
                    <a:pt x="4" y="1951"/>
                    <a:pt x="1" y="1948"/>
                    <a:pt x="1" y="1943"/>
                  </a:cubicBezTo>
                  <a:close/>
                  <a:moveTo>
                    <a:pt x="1" y="1910"/>
                  </a:moveTo>
                  <a:lnTo>
                    <a:pt x="1" y="1910"/>
                  </a:lnTo>
                  <a:cubicBezTo>
                    <a:pt x="1" y="1905"/>
                    <a:pt x="4" y="1901"/>
                    <a:pt x="9" y="1901"/>
                  </a:cubicBezTo>
                  <a:cubicBezTo>
                    <a:pt x="14" y="1901"/>
                    <a:pt x="17" y="1905"/>
                    <a:pt x="17" y="1910"/>
                  </a:cubicBezTo>
                  <a:lnTo>
                    <a:pt x="17" y="1910"/>
                  </a:lnTo>
                  <a:cubicBezTo>
                    <a:pt x="17" y="1914"/>
                    <a:pt x="14" y="1918"/>
                    <a:pt x="9" y="1918"/>
                  </a:cubicBezTo>
                  <a:cubicBezTo>
                    <a:pt x="4" y="1918"/>
                    <a:pt x="1" y="1914"/>
                    <a:pt x="1" y="1910"/>
                  </a:cubicBezTo>
                  <a:close/>
                  <a:moveTo>
                    <a:pt x="1" y="1876"/>
                  </a:moveTo>
                  <a:lnTo>
                    <a:pt x="1" y="1876"/>
                  </a:lnTo>
                  <a:cubicBezTo>
                    <a:pt x="1" y="1872"/>
                    <a:pt x="5" y="1868"/>
                    <a:pt x="9" y="1868"/>
                  </a:cubicBezTo>
                  <a:cubicBezTo>
                    <a:pt x="14" y="1868"/>
                    <a:pt x="17" y="1872"/>
                    <a:pt x="17" y="1876"/>
                  </a:cubicBezTo>
                  <a:lnTo>
                    <a:pt x="17" y="1876"/>
                  </a:lnTo>
                  <a:cubicBezTo>
                    <a:pt x="17" y="1881"/>
                    <a:pt x="14" y="1885"/>
                    <a:pt x="9" y="1885"/>
                  </a:cubicBezTo>
                  <a:cubicBezTo>
                    <a:pt x="5" y="1885"/>
                    <a:pt x="1" y="1881"/>
                    <a:pt x="1" y="1876"/>
                  </a:cubicBezTo>
                  <a:close/>
                  <a:moveTo>
                    <a:pt x="1" y="1843"/>
                  </a:moveTo>
                  <a:lnTo>
                    <a:pt x="1" y="1843"/>
                  </a:lnTo>
                  <a:cubicBezTo>
                    <a:pt x="1" y="1838"/>
                    <a:pt x="5" y="1834"/>
                    <a:pt x="9" y="1834"/>
                  </a:cubicBezTo>
                  <a:cubicBezTo>
                    <a:pt x="14" y="1834"/>
                    <a:pt x="18" y="1838"/>
                    <a:pt x="18" y="1843"/>
                  </a:cubicBezTo>
                  <a:lnTo>
                    <a:pt x="18" y="1843"/>
                  </a:lnTo>
                  <a:cubicBezTo>
                    <a:pt x="18" y="1847"/>
                    <a:pt x="14" y="1851"/>
                    <a:pt x="9" y="1851"/>
                  </a:cubicBezTo>
                  <a:cubicBezTo>
                    <a:pt x="5" y="1851"/>
                    <a:pt x="1" y="1847"/>
                    <a:pt x="1" y="1843"/>
                  </a:cubicBezTo>
                  <a:close/>
                  <a:moveTo>
                    <a:pt x="1" y="1809"/>
                  </a:moveTo>
                  <a:lnTo>
                    <a:pt x="1" y="1809"/>
                  </a:lnTo>
                  <a:cubicBezTo>
                    <a:pt x="1" y="1805"/>
                    <a:pt x="5" y="1801"/>
                    <a:pt x="9" y="1801"/>
                  </a:cubicBezTo>
                  <a:cubicBezTo>
                    <a:pt x="14" y="1801"/>
                    <a:pt x="18" y="1805"/>
                    <a:pt x="18" y="1809"/>
                  </a:cubicBezTo>
                  <a:lnTo>
                    <a:pt x="18" y="1809"/>
                  </a:lnTo>
                  <a:cubicBezTo>
                    <a:pt x="18" y="1814"/>
                    <a:pt x="14" y="1818"/>
                    <a:pt x="9" y="1818"/>
                  </a:cubicBezTo>
                  <a:cubicBezTo>
                    <a:pt x="5" y="1818"/>
                    <a:pt x="1" y="1814"/>
                    <a:pt x="1" y="1809"/>
                  </a:cubicBezTo>
                  <a:close/>
                  <a:moveTo>
                    <a:pt x="1" y="1776"/>
                  </a:moveTo>
                  <a:lnTo>
                    <a:pt x="1" y="1776"/>
                  </a:lnTo>
                  <a:cubicBezTo>
                    <a:pt x="1" y="1772"/>
                    <a:pt x="5" y="1768"/>
                    <a:pt x="9" y="1768"/>
                  </a:cubicBezTo>
                  <a:cubicBezTo>
                    <a:pt x="14" y="1768"/>
                    <a:pt x="18" y="1772"/>
                    <a:pt x="18" y="1776"/>
                  </a:cubicBezTo>
                  <a:lnTo>
                    <a:pt x="18" y="1776"/>
                  </a:lnTo>
                  <a:cubicBezTo>
                    <a:pt x="18" y="1781"/>
                    <a:pt x="14" y="1784"/>
                    <a:pt x="9" y="1784"/>
                  </a:cubicBezTo>
                  <a:cubicBezTo>
                    <a:pt x="5" y="1784"/>
                    <a:pt x="1" y="1781"/>
                    <a:pt x="1" y="1776"/>
                  </a:cubicBezTo>
                  <a:close/>
                  <a:moveTo>
                    <a:pt x="1" y="1743"/>
                  </a:moveTo>
                  <a:lnTo>
                    <a:pt x="1" y="1743"/>
                  </a:lnTo>
                  <a:cubicBezTo>
                    <a:pt x="1" y="1738"/>
                    <a:pt x="5" y="1734"/>
                    <a:pt x="9" y="1734"/>
                  </a:cubicBezTo>
                  <a:cubicBezTo>
                    <a:pt x="14" y="1734"/>
                    <a:pt x="18" y="1738"/>
                    <a:pt x="18" y="1743"/>
                  </a:cubicBezTo>
                  <a:lnTo>
                    <a:pt x="18" y="1743"/>
                  </a:lnTo>
                  <a:cubicBezTo>
                    <a:pt x="18" y="1747"/>
                    <a:pt x="14" y="1751"/>
                    <a:pt x="9" y="1751"/>
                  </a:cubicBezTo>
                  <a:cubicBezTo>
                    <a:pt x="5" y="1751"/>
                    <a:pt x="1" y="1747"/>
                    <a:pt x="1" y="1743"/>
                  </a:cubicBezTo>
                  <a:close/>
                  <a:moveTo>
                    <a:pt x="1" y="1709"/>
                  </a:moveTo>
                  <a:lnTo>
                    <a:pt x="1" y="1709"/>
                  </a:lnTo>
                  <a:cubicBezTo>
                    <a:pt x="1" y="1705"/>
                    <a:pt x="5" y="1701"/>
                    <a:pt x="9" y="1701"/>
                  </a:cubicBezTo>
                  <a:cubicBezTo>
                    <a:pt x="14" y="1701"/>
                    <a:pt x="18" y="1705"/>
                    <a:pt x="18" y="1709"/>
                  </a:cubicBezTo>
                  <a:lnTo>
                    <a:pt x="18" y="1709"/>
                  </a:lnTo>
                  <a:cubicBezTo>
                    <a:pt x="18" y="1714"/>
                    <a:pt x="14" y="1718"/>
                    <a:pt x="9" y="1718"/>
                  </a:cubicBezTo>
                  <a:cubicBezTo>
                    <a:pt x="5" y="1718"/>
                    <a:pt x="1" y="1714"/>
                    <a:pt x="1" y="1709"/>
                  </a:cubicBezTo>
                  <a:close/>
                  <a:moveTo>
                    <a:pt x="1" y="1676"/>
                  </a:moveTo>
                  <a:lnTo>
                    <a:pt x="1" y="1676"/>
                  </a:lnTo>
                  <a:cubicBezTo>
                    <a:pt x="1" y="1671"/>
                    <a:pt x="5" y="1668"/>
                    <a:pt x="9" y="1668"/>
                  </a:cubicBezTo>
                  <a:cubicBezTo>
                    <a:pt x="14" y="1668"/>
                    <a:pt x="18" y="1671"/>
                    <a:pt x="18" y="1676"/>
                  </a:cubicBezTo>
                  <a:lnTo>
                    <a:pt x="18" y="1676"/>
                  </a:lnTo>
                  <a:cubicBezTo>
                    <a:pt x="18" y="1681"/>
                    <a:pt x="14" y="1684"/>
                    <a:pt x="9" y="1684"/>
                  </a:cubicBezTo>
                  <a:cubicBezTo>
                    <a:pt x="5" y="1684"/>
                    <a:pt x="1" y="1681"/>
                    <a:pt x="1" y="1676"/>
                  </a:cubicBezTo>
                  <a:close/>
                  <a:moveTo>
                    <a:pt x="1" y="1643"/>
                  </a:moveTo>
                  <a:lnTo>
                    <a:pt x="1" y="1643"/>
                  </a:lnTo>
                  <a:cubicBezTo>
                    <a:pt x="1" y="1638"/>
                    <a:pt x="5" y="1634"/>
                    <a:pt x="9" y="1634"/>
                  </a:cubicBezTo>
                  <a:cubicBezTo>
                    <a:pt x="14" y="1634"/>
                    <a:pt x="18" y="1638"/>
                    <a:pt x="18" y="1643"/>
                  </a:cubicBezTo>
                  <a:lnTo>
                    <a:pt x="18" y="1643"/>
                  </a:lnTo>
                  <a:cubicBezTo>
                    <a:pt x="18" y="1647"/>
                    <a:pt x="14" y="1651"/>
                    <a:pt x="9" y="1651"/>
                  </a:cubicBezTo>
                  <a:cubicBezTo>
                    <a:pt x="5" y="1651"/>
                    <a:pt x="1" y="1647"/>
                    <a:pt x="1" y="1643"/>
                  </a:cubicBezTo>
                  <a:close/>
                  <a:moveTo>
                    <a:pt x="1" y="1609"/>
                  </a:moveTo>
                  <a:lnTo>
                    <a:pt x="1" y="1609"/>
                  </a:lnTo>
                  <a:cubicBezTo>
                    <a:pt x="1" y="1605"/>
                    <a:pt x="5" y="1601"/>
                    <a:pt x="10" y="1601"/>
                  </a:cubicBezTo>
                  <a:cubicBezTo>
                    <a:pt x="14" y="1601"/>
                    <a:pt x="18" y="1605"/>
                    <a:pt x="18" y="1609"/>
                  </a:cubicBezTo>
                  <a:lnTo>
                    <a:pt x="18" y="1609"/>
                  </a:lnTo>
                  <a:cubicBezTo>
                    <a:pt x="18" y="1614"/>
                    <a:pt x="14" y="1618"/>
                    <a:pt x="10" y="1618"/>
                  </a:cubicBezTo>
                  <a:cubicBezTo>
                    <a:pt x="5" y="1618"/>
                    <a:pt x="1" y="1614"/>
                    <a:pt x="1" y="1609"/>
                  </a:cubicBezTo>
                  <a:close/>
                  <a:moveTo>
                    <a:pt x="1" y="1576"/>
                  </a:moveTo>
                  <a:lnTo>
                    <a:pt x="1" y="1576"/>
                  </a:lnTo>
                  <a:cubicBezTo>
                    <a:pt x="1" y="1571"/>
                    <a:pt x="5" y="1568"/>
                    <a:pt x="10" y="1568"/>
                  </a:cubicBezTo>
                  <a:cubicBezTo>
                    <a:pt x="14" y="1568"/>
                    <a:pt x="18" y="1571"/>
                    <a:pt x="18" y="1576"/>
                  </a:cubicBezTo>
                  <a:lnTo>
                    <a:pt x="18" y="1576"/>
                  </a:lnTo>
                  <a:cubicBezTo>
                    <a:pt x="18" y="1581"/>
                    <a:pt x="14" y="1584"/>
                    <a:pt x="10" y="1584"/>
                  </a:cubicBezTo>
                  <a:cubicBezTo>
                    <a:pt x="5" y="1584"/>
                    <a:pt x="1" y="1581"/>
                    <a:pt x="1" y="1576"/>
                  </a:cubicBezTo>
                  <a:close/>
                  <a:moveTo>
                    <a:pt x="1" y="1543"/>
                  </a:moveTo>
                  <a:lnTo>
                    <a:pt x="1" y="1543"/>
                  </a:lnTo>
                  <a:cubicBezTo>
                    <a:pt x="1" y="1538"/>
                    <a:pt x="5" y="1534"/>
                    <a:pt x="10" y="1534"/>
                  </a:cubicBezTo>
                  <a:cubicBezTo>
                    <a:pt x="14" y="1534"/>
                    <a:pt x="18" y="1538"/>
                    <a:pt x="18" y="1543"/>
                  </a:cubicBezTo>
                  <a:lnTo>
                    <a:pt x="18" y="1543"/>
                  </a:lnTo>
                  <a:cubicBezTo>
                    <a:pt x="18" y="1547"/>
                    <a:pt x="14" y="1551"/>
                    <a:pt x="10" y="1551"/>
                  </a:cubicBezTo>
                  <a:cubicBezTo>
                    <a:pt x="5" y="1551"/>
                    <a:pt x="1" y="1547"/>
                    <a:pt x="1" y="1543"/>
                  </a:cubicBezTo>
                  <a:close/>
                  <a:moveTo>
                    <a:pt x="1" y="1509"/>
                  </a:moveTo>
                  <a:lnTo>
                    <a:pt x="1" y="1509"/>
                  </a:lnTo>
                  <a:cubicBezTo>
                    <a:pt x="1" y="1505"/>
                    <a:pt x="5" y="1501"/>
                    <a:pt x="10" y="1501"/>
                  </a:cubicBezTo>
                  <a:cubicBezTo>
                    <a:pt x="14" y="1501"/>
                    <a:pt x="18" y="1505"/>
                    <a:pt x="18" y="1509"/>
                  </a:cubicBezTo>
                  <a:lnTo>
                    <a:pt x="18" y="1509"/>
                  </a:lnTo>
                  <a:cubicBezTo>
                    <a:pt x="18" y="1514"/>
                    <a:pt x="14" y="1518"/>
                    <a:pt x="10" y="1518"/>
                  </a:cubicBezTo>
                  <a:cubicBezTo>
                    <a:pt x="5" y="1518"/>
                    <a:pt x="1" y="1514"/>
                    <a:pt x="1" y="1509"/>
                  </a:cubicBezTo>
                  <a:close/>
                  <a:moveTo>
                    <a:pt x="1" y="1476"/>
                  </a:moveTo>
                  <a:lnTo>
                    <a:pt x="1" y="1476"/>
                  </a:lnTo>
                  <a:cubicBezTo>
                    <a:pt x="1" y="1471"/>
                    <a:pt x="5" y="1468"/>
                    <a:pt x="10" y="1468"/>
                  </a:cubicBezTo>
                  <a:cubicBezTo>
                    <a:pt x="14" y="1468"/>
                    <a:pt x="18" y="1471"/>
                    <a:pt x="18" y="1476"/>
                  </a:cubicBezTo>
                  <a:lnTo>
                    <a:pt x="18" y="1476"/>
                  </a:lnTo>
                  <a:cubicBezTo>
                    <a:pt x="18" y="1481"/>
                    <a:pt x="14" y="1484"/>
                    <a:pt x="10" y="1484"/>
                  </a:cubicBezTo>
                  <a:cubicBezTo>
                    <a:pt x="5" y="1484"/>
                    <a:pt x="1" y="1481"/>
                    <a:pt x="1" y="1476"/>
                  </a:cubicBezTo>
                  <a:close/>
                  <a:moveTo>
                    <a:pt x="1" y="1443"/>
                  </a:moveTo>
                  <a:lnTo>
                    <a:pt x="1" y="1443"/>
                  </a:lnTo>
                  <a:cubicBezTo>
                    <a:pt x="1" y="1438"/>
                    <a:pt x="5" y="1434"/>
                    <a:pt x="10" y="1434"/>
                  </a:cubicBezTo>
                  <a:cubicBezTo>
                    <a:pt x="14" y="1434"/>
                    <a:pt x="18" y="1438"/>
                    <a:pt x="18" y="1443"/>
                  </a:cubicBezTo>
                  <a:lnTo>
                    <a:pt x="18" y="1443"/>
                  </a:lnTo>
                  <a:cubicBezTo>
                    <a:pt x="18" y="1447"/>
                    <a:pt x="14" y="1451"/>
                    <a:pt x="10" y="1451"/>
                  </a:cubicBezTo>
                  <a:cubicBezTo>
                    <a:pt x="5" y="1451"/>
                    <a:pt x="1" y="1447"/>
                    <a:pt x="1" y="1443"/>
                  </a:cubicBezTo>
                  <a:close/>
                  <a:moveTo>
                    <a:pt x="1" y="1409"/>
                  </a:moveTo>
                  <a:lnTo>
                    <a:pt x="1" y="1409"/>
                  </a:lnTo>
                  <a:cubicBezTo>
                    <a:pt x="1" y="1405"/>
                    <a:pt x="5" y="1401"/>
                    <a:pt x="10" y="1401"/>
                  </a:cubicBezTo>
                  <a:cubicBezTo>
                    <a:pt x="14" y="1401"/>
                    <a:pt x="18" y="1405"/>
                    <a:pt x="18" y="1409"/>
                  </a:cubicBezTo>
                  <a:lnTo>
                    <a:pt x="18" y="1409"/>
                  </a:lnTo>
                  <a:cubicBezTo>
                    <a:pt x="18" y="1414"/>
                    <a:pt x="14" y="1418"/>
                    <a:pt x="10" y="1418"/>
                  </a:cubicBezTo>
                  <a:cubicBezTo>
                    <a:pt x="5" y="1418"/>
                    <a:pt x="1" y="1414"/>
                    <a:pt x="1" y="1409"/>
                  </a:cubicBezTo>
                  <a:close/>
                  <a:moveTo>
                    <a:pt x="2" y="1376"/>
                  </a:moveTo>
                  <a:lnTo>
                    <a:pt x="2" y="1376"/>
                  </a:lnTo>
                  <a:cubicBezTo>
                    <a:pt x="2" y="1371"/>
                    <a:pt x="5" y="1368"/>
                    <a:pt x="10" y="1368"/>
                  </a:cubicBezTo>
                  <a:cubicBezTo>
                    <a:pt x="14" y="1368"/>
                    <a:pt x="18" y="1371"/>
                    <a:pt x="18" y="1376"/>
                  </a:cubicBezTo>
                  <a:lnTo>
                    <a:pt x="18" y="1376"/>
                  </a:lnTo>
                  <a:cubicBezTo>
                    <a:pt x="18" y="1381"/>
                    <a:pt x="14" y="1384"/>
                    <a:pt x="10" y="1384"/>
                  </a:cubicBezTo>
                  <a:cubicBezTo>
                    <a:pt x="5" y="1384"/>
                    <a:pt x="2" y="1381"/>
                    <a:pt x="2" y="1376"/>
                  </a:cubicBezTo>
                  <a:close/>
                  <a:moveTo>
                    <a:pt x="2" y="1343"/>
                  </a:moveTo>
                  <a:lnTo>
                    <a:pt x="2" y="1343"/>
                  </a:lnTo>
                  <a:cubicBezTo>
                    <a:pt x="2" y="1338"/>
                    <a:pt x="5" y="1334"/>
                    <a:pt x="10" y="1334"/>
                  </a:cubicBezTo>
                  <a:cubicBezTo>
                    <a:pt x="14" y="1334"/>
                    <a:pt x="18" y="1338"/>
                    <a:pt x="18" y="1343"/>
                  </a:cubicBezTo>
                  <a:lnTo>
                    <a:pt x="18" y="1343"/>
                  </a:lnTo>
                  <a:cubicBezTo>
                    <a:pt x="18" y="1347"/>
                    <a:pt x="14" y="1351"/>
                    <a:pt x="10" y="1351"/>
                  </a:cubicBezTo>
                  <a:cubicBezTo>
                    <a:pt x="5" y="1351"/>
                    <a:pt x="2" y="1347"/>
                    <a:pt x="2" y="1343"/>
                  </a:cubicBezTo>
                  <a:close/>
                  <a:moveTo>
                    <a:pt x="2" y="1309"/>
                  </a:moveTo>
                  <a:lnTo>
                    <a:pt x="2" y="1309"/>
                  </a:lnTo>
                  <a:cubicBezTo>
                    <a:pt x="2" y="1305"/>
                    <a:pt x="5" y="1301"/>
                    <a:pt x="10" y="1301"/>
                  </a:cubicBezTo>
                  <a:cubicBezTo>
                    <a:pt x="15" y="1301"/>
                    <a:pt x="18" y="1305"/>
                    <a:pt x="18" y="1309"/>
                  </a:cubicBezTo>
                  <a:lnTo>
                    <a:pt x="18" y="1309"/>
                  </a:lnTo>
                  <a:cubicBezTo>
                    <a:pt x="18" y="1314"/>
                    <a:pt x="15" y="1318"/>
                    <a:pt x="10" y="1318"/>
                  </a:cubicBezTo>
                  <a:cubicBezTo>
                    <a:pt x="5" y="1318"/>
                    <a:pt x="2" y="1314"/>
                    <a:pt x="2" y="1309"/>
                  </a:cubicBezTo>
                  <a:close/>
                  <a:moveTo>
                    <a:pt x="2" y="1276"/>
                  </a:moveTo>
                  <a:lnTo>
                    <a:pt x="2" y="1276"/>
                  </a:lnTo>
                  <a:cubicBezTo>
                    <a:pt x="2" y="1271"/>
                    <a:pt x="5" y="1268"/>
                    <a:pt x="10" y="1268"/>
                  </a:cubicBezTo>
                  <a:cubicBezTo>
                    <a:pt x="15" y="1268"/>
                    <a:pt x="18" y="1271"/>
                    <a:pt x="18" y="1276"/>
                  </a:cubicBezTo>
                  <a:lnTo>
                    <a:pt x="18" y="1276"/>
                  </a:lnTo>
                  <a:cubicBezTo>
                    <a:pt x="18" y="1280"/>
                    <a:pt x="15" y="1284"/>
                    <a:pt x="10" y="1284"/>
                  </a:cubicBezTo>
                  <a:cubicBezTo>
                    <a:pt x="5" y="1284"/>
                    <a:pt x="2" y="1280"/>
                    <a:pt x="2" y="1276"/>
                  </a:cubicBezTo>
                  <a:close/>
                  <a:moveTo>
                    <a:pt x="2" y="1243"/>
                  </a:moveTo>
                  <a:lnTo>
                    <a:pt x="2" y="1242"/>
                  </a:lnTo>
                  <a:cubicBezTo>
                    <a:pt x="2" y="1238"/>
                    <a:pt x="5" y="1234"/>
                    <a:pt x="10" y="1234"/>
                  </a:cubicBezTo>
                  <a:cubicBezTo>
                    <a:pt x="15" y="1234"/>
                    <a:pt x="18" y="1238"/>
                    <a:pt x="18" y="1242"/>
                  </a:cubicBezTo>
                  <a:lnTo>
                    <a:pt x="18" y="1243"/>
                  </a:lnTo>
                  <a:cubicBezTo>
                    <a:pt x="18" y="1247"/>
                    <a:pt x="15" y="1251"/>
                    <a:pt x="10" y="1251"/>
                  </a:cubicBezTo>
                  <a:cubicBezTo>
                    <a:pt x="5" y="1251"/>
                    <a:pt x="2" y="1247"/>
                    <a:pt x="2" y="1243"/>
                  </a:cubicBezTo>
                  <a:close/>
                  <a:moveTo>
                    <a:pt x="2" y="1209"/>
                  </a:moveTo>
                  <a:lnTo>
                    <a:pt x="2" y="1209"/>
                  </a:lnTo>
                  <a:cubicBezTo>
                    <a:pt x="2" y="1205"/>
                    <a:pt x="5" y="1201"/>
                    <a:pt x="10" y="1201"/>
                  </a:cubicBezTo>
                  <a:cubicBezTo>
                    <a:pt x="15" y="1201"/>
                    <a:pt x="18" y="1205"/>
                    <a:pt x="18" y="1209"/>
                  </a:cubicBezTo>
                  <a:lnTo>
                    <a:pt x="18" y="1209"/>
                  </a:lnTo>
                  <a:cubicBezTo>
                    <a:pt x="18" y="1214"/>
                    <a:pt x="15" y="1217"/>
                    <a:pt x="10" y="1217"/>
                  </a:cubicBezTo>
                  <a:cubicBezTo>
                    <a:pt x="5" y="1217"/>
                    <a:pt x="2" y="1214"/>
                    <a:pt x="2" y="1209"/>
                  </a:cubicBezTo>
                  <a:close/>
                  <a:moveTo>
                    <a:pt x="2" y="1176"/>
                  </a:moveTo>
                  <a:lnTo>
                    <a:pt x="2" y="1176"/>
                  </a:lnTo>
                  <a:cubicBezTo>
                    <a:pt x="2" y="1171"/>
                    <a:pt x="6" y="1167"/>
                    <a:pt x="10" y="1167"/>
                  </a:cubicBezTo>
                  <a:cubicBezTo>
                    <a:pt x="15" y="1167"/>
                    <a:pt x="18" y="1171"/>
                    <a:pt x="18" y="1176"/>
                  </a:cubicBezTo>
                  <a:lnTo>
                    <a:pt x="18" y="1176"/>
                  </a:lnTo>
                  <a:cubicBezTo>
                    <a:pt x="18" y="1180"/>
                    <a:pt x="15" y="1184"/>
                    <a:pt x="10" y="1184"/>
                  </a:cubicBezTo>
                  <a:cubicBezTo>
                    <a:pt x="6" y="1184"/>
                    <a:pt x="2" y="1180"/>
                    <a:pt x="2" y="1176"/>
                  </a:cubicBezTo>
                  <a:close/>
                  <a:moveTo>
                    <a:pt x="2" y="1142"/>
                  </a:moveTo>
                  <a:lnTo>
                    <a:pt x="2" y="1142"/>
                  </a:lnTo>
                  <a:cubicBezTo>
                    <a:pt x="2" y="1138"/>
                    <a:pt x="6" y="1134"/>
                    <a:pt x="10" y="1134"/>
                  </a:cubicBezTo>
                  <a:cubicBezTo>
                    <a:pt x="15" y="1134"/>
                    <a:pt x="18" y="1138"/>
                    <a:pt x="18" y="1142"/>
                  </a:cubicBezTo>
                  <a:lnTo>
                    <a:pt x="18" y="1142"/>
                  </a:lnTo>
                  <a:cubicBezTo>
                    <a:pt x="18" y="1147"/>
                    <a:pt x="15" y="1151"/>
                    <a:pt x="10" y="1151"/>
                  </a:cubicBezTo>
                  <a:cubicBezTo>
                    <a:pt x="6" y="1151"/>
                    <a:pt x="2" y="1147"/>
                    <a:pt x="2" y="1142"/>
                  </a:cubicBezTo>
                  <a:close/>
                  <a:moveTo>
                    <a:pt x="2" y="1109"/>
                  </a:moveTo>
                  <a:lnTo>
                    <a:pt x="2" y="1109"/>
                  </a:lnTo>
                  <a:cubicBezTo>
                    <a:pt x="2" y="1104"/>
                    <a:pt x="6" y="1101"/>
                    <a:pt x="10" y="1101"/>
                  </a:cubicBezTo>
                  <a:cubicBezTo>
                    <a:pt x="15" y="1101"/>
                    <a:pt x="19" y="1104"/>
                    <a:pt x="19" y="1109"/>
                  </a:cubicBezTo>
                  <a:lnTo>
                    <a:pt x="19" y="1109"/>
                  </a:lnTo>
                  <a:cubicBezTo>
                    <a:pt x="19" y="1114"/>
                    <a:pt x="15" y="1117"/>
                    <a:pt x="10" y="1117"/>
                  </a:cubicBezTo>
                  <a:cubicBezTo>
                    <a:pt x="6" y="1117"/>
                    <a:pt x="2" y="1114"/>
                    <a:pt x="2" y="1109"/>
                  </a:cubicBezTo>
                  <a:close/>
                  <a:moveTo>
                    <a:pt x="2" y="1076"/>
                  </a:moveTo>
                  <a:lnTo>
                    <a:pt x="2" y="1076"/>
                  </a:lnTo>
                  <a:cubicBezTo>
                    <a:pt x="2" y="1071"/>
                    <a:pt x="6" y="1067"/>
                    <a:pt x="10" y="1067"/>
                  </a:cubicBezTo>
                  <a:cubicBezTo>
                    <a:pt x="15" y="1067"/>
                    <a:pt x="19" y="1071"/>
                    <a:pt x="19" y="1076"/>
                  </a:cubicBezTo>
                  <a:lnTo>
                    <a:pt x="19" y="1076"/>
                  </a:lnTo>
                  <a:cubicBezTo>
                    <a:pt x="19" y="1080"/>
                    <a:pt x="15" y="1084"/>
                    <a:pt x="10" y="1084"/>
                  </a:cubicBezTo>
                  <a:cubicBezTo>
                    <a:pt x="6" y="1084"/>
                    <a:pt x="2" y="1080"/>
                    <a:pt x="2" y="1076"/>
                  </a:cubicBezTo>
                  <a:close/>
                  <a:moveTo>
                    <a:pt x="2" y="1042"/>
                  </a:moveTo>
                  <a:lnTo>
                    <a:pt x="2" y="1042"/>
                  </a:lnTo>
                  <a:cubicBezTo>
                    <a:pt x="2" y="1038"/>
                    <a:pt x="6" y="1034"/>
                    <a:pt x="10" y="1034"/>
                  </a:cubicBezTo>
                  <a:cubicBezTo>
                    <a:pt x="15" y="1034"/>
                    <a:pt x="19" y="1038"/>
                    <a:pt x="19" y="1042"/>
                  </a:cubicBezTo>
                  <a:lnTo>
                    <a:pt x="19" y="1042"/>
                  </a:lnTo>
                  <a:cubicBezTo>
                    <a:pt x="19" y="1047"/>
                    <a:pt x="15" y="1051"/>
                    <a:pt x="10" y="1051"/>
                  </a:cubicBezTo>
                  <a:cubicBezTo>
                    <a:pt x="6" y="1051"/>
                    <a:pt x="2" y="1047"/>
                    <a:pt x="2" y="1042"/>
                  </a:cubicBezTo>
                  <a:close/>
                  <a:moveTo>
                    <a:pt x="2" y="1009"/>
                  </a:moveTo>
                  <a:lnTo>
                    <a:pt x="2" y="1009"/>
                  </a:lnTo>
                  <a:cubicBezTo>
                    <a:pt x="2" y="1004"/>
                    <a:pt x="6" y="1001"/>
                    <a:pt x="10" y="1001"/>
                  </a:cubicBezTo>
                  <a:cubicBezTo>
                    <a:pt x="15" y="1001"/>
                    <a:pt x="19" y="1004"/>
                    <a:pt x="19" y="1009"/>
                  </a:cubicBezTo>
                  <a:lnTo>
                    <a:pt x="19" y="1009"/>
                  </a:lnTo>
                  <a:cubicBezTo>
                    <a:pt x="19" y="1014"/>
                    <a:pt x="15" y="1017"/>
                    <a:pt x="10" y="1017"/>
                  </a:cubicBezTo>
                  <a:cubicBezTo>
                    <a:pt x="6" y="1017"/>
                    <a:pt x="2" y="1014"/>
                    <a:pt x="2" y="1009"/>
                  </a:cubicBezTo>
                  <a:close/>
                  <a:moveTo>
                    <a:pt x="2" y="976"/>
                  </a:moveTo>
                  <a:lnTo>
                    <a:pt x="2" y="976"/>
                  </a:lnTo>
                  <a:cubicBezTo>
                    <a:pt x="2" y="971"/>
                    <a:pt x="6" y="967"/>
                    <a:pt x="10" y="967"/>
                  </a:cubicBezTo>
                  <a:cubicBezTo>
                    <a:pt x="15" y="967"/>
                    <a:pt x="19" y="971"/>
                    <a:pt x="19" y="976"/>
                  </a:cubicBezTo>
                  <a:lnTo>
                    <a:pt x="19" y="976"/>
                  </a:lnTo>
                  <a:cubicBezTo>
                    <a:pt x="19" y="980"/>
                    <a:pt x="15" y="984"/>
                    <a:pt x="10" y="984"/>
                  </a:cubicBezTo>
                  <a:cubicBezTo>
                    <a:pt x="6" y="984"/>
                    <a:pt x="2" y="980"/>
                    <a:pt x="2" y="976"/>
                  </a:cubicBezTo>
                  <a:close/>
                  <a:moveTo>
                    <a:pt x="2" y="942"/>
                  </a:moveTo>
                  <a:lnTo>
                    <a:pt x="2" y="942"/>
                  </a:lnTo>
                  <a:cubicBezTo>
                    <a:pt x="2" y="938"/>
                    <a:pt x="6" y="934"/>
                    <a:pt x="10" y="934"/>
                  </a:cubicBezTo>
                  <a:cubicBezTo>
                    <a:pt x="15" y="934"/>
                    <a:pt x="19" y="938"/>
                    <a:pt x="19" y="942"/>
                  </a:cubicBezTo>
                  <a:lnTo>
                    <a:pt x="19" y="942"/>
                  </a:lnTo>
                  <a:cubicBezTo>
                    <a:pt x="19" y="947"/>
                    <a:pt x="15" y="951"/>
                    <a:pt x="10" y="951"/>
                  </a:cubicBezTo>
                  <a:cubicBezTo>
                    <a:pt x="6" y="951"/>
                    <a:pt x="2" y="947"/>
                    <a:pt x="2" y="942"/>
                  </a:cubicBezTo>
                  <a:close/>
                  <a:moveTo>
                    <a:pt x="2" y="909"/>
                  </a:moveTo>
                  <a:lnTo>
                    <a:pt x="2" y="909"/>
                  </a:lnTo>
                  <a:cubicBezTo>
                    <a:pt x="2" y="904"/>
                    <a:pt x="6" y="901"/>
                    <a:pt x="10" y="901"/>
                  </a:cubicBezTo>
                  <a:cubicBezTo>
                    <a:pt x="15" y="901"/>
                    <a:pt x="19" y="904"/>
                    <a:pt x="19" y="909"/>
                  </a:cubicBezTo>
                  <a:lnTo>
                    <a:pt x="19" y="909"/>
                  </a:lnTo>
                  <a:cubicBezTo>
                    <a:pt x="19" y="914"/>
                    <a:pt x="15" y="917"/>
                    <a:pt x="10" y="917"/>
                  </a:cubicBezTo>
                  <a:cubicBezTo>
                    <a:pt x="6" y="917"/>
                    <a:pt x="2" y="914"/>
                    <a:pt x="2" y="909"/>
                  </a:cubicBezTo>
                  <a:close/>
                  <a:moveTo>
                    <a:pt x="2" y="876"/>
                  </a:moveTo>
                  <a:lnTo>
                    <a:pt x="2" y="876"/>
                  </a:lnTo>
                  <a:cubicBezTo>
                    <a:pt x="2" y="871"/>
                    <a:pt x="6" y="867"/>
                    <a:pt x="11" y="867"/>
                  </a:cubicBezTo>
                  <a:cubicBezTo>
                    <a:pt x="15" y="867"/>
                    <a:pt x="19" y="871"/>
                    <a:pt x="19" y="876"/>
                  </a:cubicBezTo>
                  <a:lnTo>
                    <a:pt x="19" y="876"/>
                  </a:lnTo>
                  <a:cubicBezTo>
                    <a:pt x="19" y="880"/>
                    <a:pt x="15" y="884"/>
                    <a:pt x="11" y="884"/>
                  </a:cubicBezTo>
                  <a:cubicBezTo>
                    <a:pt x="6" y="884"/>
                    <a:pt x="2" y="880"/>
                    <a:pt x="2" y="876"/>
                  </a:cubicBezTo>
                  <a:close/>
                  <a:moveTo>
                    <a:pt x="2" y="842"/>
                  </a:moveTo>
                  <a:lnTo>
                    <a:pt x="2" y="842"/>
                  </a:lnTo>
                  <a:cubicBezTo>
                    <a:pt x="2" y="838"/>
                    <a:pt x="6" y="834"/>
                    <a:pt x="11" y="834"/>
                  </a:cubicBezTo>
                  <a:cubicBezTo>
                    <a:pt x="15" y="834"/>
                    <a:pt x="19" y="838"/>
                    <a:pt x="19" y="842"/>
                  </a:cubicBezTo>
                  <a:lnTo>
                    <a:pt x="19" y="842"/>
                  </a:lnTo>
                  <a:cubicBezTo>
                    <a:pt x="19" y="847"/>
                    <a:pt x="15" y="851"/>
                    <a:pt x="11" y="851"/>
                  </a:cubicBezTo>
                  <a:cubicBezTo>
                    <a:pt x="6" y="851"/>
                    <a:pt x="2" y="847"/>
                    <a:pt x="2" y="842"/>
                  </a:cubicBezTo>
                  <a:close/>
                  <a:moveTo>
                    <a:pt x="2" y="809"/>
                  </a:moveTo>
                  <a:lnTo>
                    <a:pt x="2" y="809"/>
                  </a:lnTo>
                  <a:cubicBezTo>
                    <a:pt x="2" y="804"/>
                    <a:pt x="6" y="801"/>
                    <a:pt x="11" y="801"/>
                  </a:cubicBezTo>
                  <a:cubicBezTo>
                    <a:pt x="15" y="801"/>
                    <a:pt x="19" y="804"/>
                    <a:pt x="19" y="809"/>
                  </a:cubicBezTo>
                  <a:lnTo>
                    <a:pt x="19" y="809"/>
                  </a:lnTo>
                  <a:cubicBezTo>
                    <a:pt x="19" y="814"/>
                    <a:pt x="15" y="817"/>
                    <a:pt x="11" y="817"/>
                  </a:cubicBezTo>
                  <a:cubicBezTo>
                    <a:pt x="6" y="817"/>
                    <a:pt x="2" y="814"/>
                    <a:pt x="2" y="809"/>
                  </a:cubicBezTo>
                  <a:close/>
                  <a:moveTo>
                    <a:pt x="2" y="776"/>
                  </a:moveTo>
                  <a:lnTo>
                    <a:pt x="2" y="776"/>
                  </a:lnTo>
                  <a:cubicBezTo>
                    <a:pt x="2" y="771"/>
                    <a:pt x="6" y="767"/>
                    <a:pt x="11" y="767"/>
                  </a:cubicBezTo>
                  <a:cubicBezTo>
                    <a:pt x="15" y="767"/>
                    <a:pt x="19" y="771"/>
                    <a:pt x="19" y="776"/>
                  </a:cubicBezTo>
                  <a:lnTo>
                    <a:pt x="19" y="776"/>
                  </a:lnTo>
                  <a:cubicBezTo>
                    <a:pt x="19" y="780"/>
                    <a:pt x="15" y="784"/>
                    <a:pt x="11" y="784"/>
                  </a:cubicBezTo>
                  <a:cubicBezTo>
                    <a:pt x="6" y="784"/>
                    <a:pt x="2" y="780"/>
                    <a:pt x="2" y="776"/>
                  </a:cubicBezTo>
                  <a:close/>
                  <a:moveTo>
                    <a:pt x="2" y="742"/>
                  </a:moveTo>
                  <a:lnTo>
                    <a:pt x="2" y="742"/>
                  </a:lnTo>
                  <a:cubicBezTo>
                    <a:pt x="2" y="738"/>
                    <a:pt x="6" y="734"/>
                    <a:pt x="11" y="734"/>
                  </a:cubicBezTo>
                  <a:cubicBezTo>
                    <a:pt x="15" y="734"/>
                    <a:pt x="19" y="738"/>
                    <a:pt x="19" y="742"/>
                  </a:cubicBezTo>
                  <a:lnTo>
                    <a:pt x="19" y="742"/>
                  </a:lnTo>
                  <a:cubicBezTo>
                    <a:pt x="19" y="747"/>
                    <a:pt x="15" y="751"/>
                    <a:pt x="11" y="751"/>
                  </a:cubicBezTo>
                  <a:cubicBezTo>
                    <a:pt x="6" y="751"/>
                    <a:pt x="2" y="747"/>
                    <a:pt x="2" y="742"/>
                  </a:cubicBezTo>
                  <a:close/>
                  <a:moveTo>
                    <a:pt x="2" y="709"/>
                  </a:moveTo>
                  <a:lnTo>
                    <a:pt x="2" y="709"/>
                  </a:lnTo>
                  <a:cubicBezTo>
                    <a:pt x="2" y="704"/>
                    <a:pt x="6" y="701"/>
                    <a:pt x="11" y="701"/>
                  </a:cubicBezTo>
                  <a:cubicBezTo>
                    <a:pt x="15" y="701"/>
                    <a:pt x="19" y="704"/>
                    <a:pt x="19" y="709"/>
                  </a:cubicBezTo>
                  <a:lnTo>
                    <a:pt x="19" y="709"/>
                  </a:lnTo>
                  <a:cubicBezTo>
                    <a:pt x="19" y="714"/>
                    <a:pt x="15" y="717"/>
                    <a:pt x="11" y="717"/>
                  </a:cubicBezTo>
                  <a:cubicBezTo>
                    <a:pt x="6" y="717"/>
                    <a:pt x="2" y="714"/>
                    <a:pt x="2" y="709"/>
                  </a:cubicBezTo>
                  <a:close/>
                  <a:moveTo>
                    <a:pt x="2" y="676"/>
                  </a:moveTo>
                  <a:lnTo>
                    <a:pt x="2" y="676"/>
                  </a:lnTo>
                  <a:cubicBezTo>
                    <a:pt x="2" y="671"/>
                    <a:pt x="6" y="667"/>
                    <a:pt x="11" y="667"/>
                  </a:cubicBezTo>
                  <a:cubicBezTo>
                    <a:pt x="15" y="667"/>
                    <a:pt x="19" y="671"/>
                    <a:pt x="19" y="676"/>
                  </a:cubicBezTo>
                  <a:lnTo>
                    <a:pt x="19" y="676"/>
                  </a:lnTo>
                  <a:cubicBezTo>
                    <a:pt x="19" y="680"/>
                    <a:pt x="15" y="684"/>
                    <a:pt x="11" y="684"/>
                  </a:cubicBezTo>
                  <a:cubicBezTo>
                    <a:pt x="6" y="684"/>
                    <a:pt x="2" y="680"/>
                    <a:pt x="2" y="676"/>
                  </a:cubicBezTo>
                  <a:close/>
                  <a:moveTo>
                    <a:pt x="3" y="642"/>
                  </a:moveTo>
                  <a:lnTo>
                    <a:pt x="3" y="642"/>
                  </a:lnTo>
                  <a:cubicBezTo>
                    <a:pt x="3" y="638"/>
                    <a:pt x="6" y="634"/>
                    <a:pt x="11" y="634"/>
                  </a:cubicBezTo>
                  <a:cubicBezTo>
                    <a:pt x="15" y="634"/>
                    <a:pt x="19" y="638"/>
                    <a:pt x="19" y="642"/>
                  </a:cubicBezTo>
                  <a:lnTo>
                    <a:pt x="19" y="642"/>
                  </a:lnTo>
                  <a:cubicBezTo>
                    <a:pt x="19" y="647"/>
                    <a:pt x="15" y="651"/>
                    <a:pt x="11" y="651"/>
                  </a:cubicBezTo>
                  <a:cubicBezTo>
                    <a:pt x="6" y="651"/>
                    <a:pt x="3" y="647"/>
                    <a:pt x="3" y="642"/>
                  </a:cubicBezTo>
                  <a:close/>
                  <a:moveTo>
                    <a:pt x="3" y="609"/>
                  </a:moveTo>
                  <a:lnTo>
                    <a:pt x="3" y="609"/>
                  </a:lnTo>
                  <a:cubicBezTo>
                    <a:pt x="3" y="604"/>
                    <a:pt x="6" y="601"/>
                    <a:pt x="11" y="601"/>
                  </a:cubicBezTo>
                  <a:cubicBezTo>
                    <a:pt x="16" y="601"/>
                    <a:pt x="19" y="604"/>
                    <a:pt x="19" y="609"/>
                  </a:cubicBezTo>
                  <a:lnTo>
                    <a:pt x="19" y="609"/>
                  </a:lnTo>
                  <a:cubicBezTo>
                    <a:pt x="19" y="613"/>
                    <a:pt x="16" y="617"/>
                    <a:pt x="11" y="617"/>
                  </a:cubicBezTo>
                  <a:cubicBezTo>
                    <a:pt x="6" y="617"/>
                    <a:pt x="3" y="613"/>
                    <a:pt x="3" y="609"/>
                  </a:cubicBezTo>
                  <a:close/>
                  <a:moveTo>
                    <a:pt x="3" y="576"/>
                  </a:moveTo>
                  <a:lnTo>
                    <a:pt x="3" y="576"/>
                  </a:lnTo>
                  <a:cubicBezTo>
                    <a:pt x="3" y="571"/>
                    <a:pt x="6" y="567"/>
                    <a:pt x="11" y="567"/>
                  </a:cubicBezTo>
                  <a:cubicBezTo>
                    <a:pt x="16" y="567"/>
                    <a:pt x="19" y="571"/>
                    <a:pt x="19" y="576"/>
                  </a:cubicBezTo>
                  <a:lnTo>
                    <a:pt x="19" y="576"/>
                  </a:lnTo>
                  <a:cubicBezTo>
                    <a:pt x="19" y="580"/>
                    <a:pt x="16" y="584"/>
                    <a:pt x="11" y="584"/>
                  </a:cubicBezTo>
                  <a:cubicBezTo>
                    <a:pt x="6" y="584"/>
                    <a:pt x="3" y="580"/>
                    <a:pt x="3" y="576"/>
                  </a:cubicBezTo>
                  <a:close/>
                  <a:moveTo>
                    <a:pt x="3" y="542"/>
                  </a:moveTo>
                  <a:lnTo>
                    <a:pt x="3" y="542"/>
                  </a:lnTo>
                  <a:cubicBezTo>
                    <a:pt x="3" y="538"/>
                    <a:pt x="6" y="534"/>
                    <a:pt x="11" y="534"/>
                  </a:cubicBezTo>
                  <a:cubicBezTo>
                    <a:pt x="16" y="534"/>
                    <a:pt x="19" y="538"/>
                    <a:pt x="19" y="542"/>
                  </a:cubicBezTo>
                  <a:lnTo>
                    <a:pt x="19" y="542"/>
                  </a:lnTo>
                  <a:cubicBezTo>
                    <a:pt x="19" y="547"/>
                    <a:pt x="16" y="551"/>
                    <a:pt x="11" y="551"/>
                  </a:cubicBezTo>
                  <a:cubicBezTo>
                    <a:pt x="6" y="551"/>
                    <a:pt x="3" y="547"/>
                    <a:pt x="3" y="542"/>
                  </a:cubicBezTo>
                  <a:close/>
                  <a:moveTo>
                    <a:pt x="3" y="509"/>
                  </a:moveTo>
                  <a:lnTo>
                    <a:pt x="3" y="509"/>
                  </a:lnTo>
                  <a:cubicBezTo>
                    <a:pt x="3" y="504"/>
                    <a:pt x="6" y="500"/>
                    <a:pt x="11" y="500"/>
                  </a:cubicBezTo>
                  <a:cubicBezTo>
                    <a:pt x="16" y="500"/>
                    <a:pt x="19" y="504"/>
                    <a:pt x="19" y="509"/>
                  </a:cubicBezTo>
                  <a:lnTo>
                    <a:pt x="19" y="509"/>
                  </a:lnTo>
                  <a:cubicBezTo>
                    <a:pt x="19" y="513"/>
                    <a:pt x="16" y="517"/>
                    <a:pt x="11" y="517"/>
                  </a:cubicBezTo>
                  <a:cubicBezTo>
                    <a:pt x="6" y="517"/>
                    <a:pt x="3" y="513"/>
                    <a:pt x="3" y="509"/>
                  </a:cubicBezTo>
                  <a:close/>
                  <a:moveTo>
                    <a:pt x="3" y="475"/>
                  </a:moveTo>
                  <a:lnTo>
                    <a:pt x="3" y="475"/>
                  </a:lnTo>
                  <a:cubicBezTo>
                    <a:pt x="3" y="471"/>
                    <a:pt x="6" y="467"/>
                    <a:pt x="11" y="467"/>
                  </a:cubicBezTo>
                  <a:cubicBezTo>
                    <a:pt x="16" y="467"/>
                    <a:pt x="19" y="471"/>
                    <a:pt x="19" y="475"/>
                  </a:cubicBezTo>
                  <a:lnTo>
                    <a:pt x="19" y="475"/>
                  </a:lnTo>
                  <a:cubicBezTo>
                    <a:pt x="19" y="480"/>
                    <a:pt x="16" y="484"/>
                    <a:pt x="11" y="484"/>
                  </a:cubicBezTo>
                  <a:cubicBezTo>
                    <a:pt x="6" y="484"/>
                    <a:pt x="3" y="480"/>
                    <a:pt x="3" y="475"/>
                  </a:cubicBezTo>
                  <a:close/>
                  <a:moveTo>
                    <a:pt x="3" y="442"/>
                  </a:moveTo>
                  <a:lnTo>
                    <a:pt x="3" y="442"/>
                  </a:lnTo>
                  <a:cubicBezTo>
                    <a:pt x="3" y="438"/>
                    <a:pt x="7" y="434"/>
                    <a:pt x="11" y="434"/>
                  </a:cubicBezTo>
                  <a:cubicBezTo>
                    <a:pt x="16" y="434"/>
                    <a:pt x="19" y="438"/>
                    <a:pt x="19" y="442"/>
                  </a:cubicBezTo>
                  <a:lnTo>
                    <a:pt x="19" y="442"/>
                  </a:lnTo>
                  <a:cubicBezTo>
                    <a:pt x="19" y="447"/>
                    <a:pt x="16" y="450"/>
                    <a:pt x="11" y="450"/>
                  </a:cubicBezTo>
                  <a:cubicBezTo>
                    <a:pt x="7" y="450"/>
                    <a:pt x="3" y="447"/>
                    <a:pt x="3" y="442"/>
                  </a:cubicBezTo>
                  <a:close/>
                  <a:moveTo>
                    <a:pt x="3" y="409"/>
                  </a:moveTo>
                  <a:lnTo>
                    <a:pt x="3" y="409"/>
                  </a:lnTo>
                  <a:cubicBezTo>
                    <a:pt x="3" y="404"/>
                    <a:pt x="7" y="400"/>
                    <a:pt x="11" y="400"/>
                  </a:cubicBezTo>
                  <a:cubicBezTo>
                    <a:pt x="16" y="400"/>
                    <a:pt x="20" y="404"/>
                    <a:pt x="20" y="409"/>
                  </a:cubicBezTo>
                  <a:lnTo>
                    <a:pt x="20" y="409"/>
                  </a:lnTo>
                  <a:cubicBezTo>
                    <a:pt x="20" y="413"/>
                    <a:pt x="16" y="417"/>
                    <a:pt x="11" y="417"/>
                  </a:cubicBezTo>
                  <a:cubicBezTo>
                    <a:pt x="7" y="417"/>
                    <a:pt x="3" y="413"/>
                    <a:pt x="3" y="409"/>
                  </a:cubicBezTo>
                  <a:close/>
                  <a:moveTo>
                    <a:pt x="3" y="375"/>
                  </a:moveTo>
                  <a:lnTo>
                    <a:pt x="3" y="375"/>
                  </a:lnTo>
                  <a:cubicBezTo>
                    <a:pt x="3" y="371"/>
                    <a:pt x="7" y="367"/>
                    <a:pt x="11" y="367"/>
                  </a:cubicBezTo>
                  <a:cubicBezTo>
                    <a:pt x="16" y="367"/>
                    <a:pt x="20" y="371"/>
                    <a:pt x="20" y="375"/>
                  </a:cubicBezTo>
                  <a:lnTo>
                    <a:pt x="20" y="375"/>
                  </a:lnTo>
                  <a:cubicBezTo>
                    <a:pt x="20" y="380"/>
                    <a:pt x="16" y="384"/>
                    <a:pt x="11" y="384"/>
                  </a:cubicBezTo>
                  <a:cubicBezTo>
                    <a:pt x="7" y="384"/>
                    <a:pt x="3" y="380"/>
                    <a:pt x="3" y="375"/>
                  </a:cubicBezTo>
                  <a:close/>
                  <a:moveTo>
                    <a:pt x="3" y="342"/>
                  </a:moveTo>
                  <a:lnTo>
                    <a:pt x="3" y="342"/>
                  </a:lnTo>
                  <a:cubicBezTo>
                    <a:pt x="3" y="337"/>
                    <a:pt x="7" y="334"/>
                    <a:pt x="11" y="334"/>
                  </a:cubicBezTo>
                  <a:cubicBezTo>
                    <a:pt x="16" y="334"/>
                    <a:pt x="20" y="337"/>
                    <a:pt x="20" y="342"/>
                  </a:cubicBezTo>
                  <a:lnTo>
                    <a:pt x="20" y="342"/>
                  </a:lnTo>
                  <a:cubicBezTo>
                    <a:pt x="20" y="347"/>
                    <a:pt x="16" y="350"/>
                    <a:pt x="11" y="350"/>
                  </a:cubicBezTo>
                  <a:cubicBezTo>
                    <a:pt x="7" y="350"/>
                    <a:pt x="3" y="347"/>
                    <a:pt x="3" y="342"/>
                  </a:cubicBezTo>
                  <a:close/>
                  <a:moveTo>
                    <a:pt x="3" y="309"/>
                  </a:moveTo>
                  <a:lnTo>
                    <a:pt x="3" y="309"/>
                  </a:lnTo>
                  <a:cubicBezTo>
                    <a:pt x="3" y="304"/>
                    <a:pt x="7" y="300"/>
                    <a:pt x="11" y="300"/>
                  </a:cubicBezTo>
                  <a:cubicBezTo>
                    <a:pt x="16" y="300"/>
                    <a:pt x="20" y="304"/>
                    <a:pt x="20" y="309"/>
                  </a:cubicBezTo>
                  <a:lnTo>
                    <a:pt x="20" y="309"/>
                  </a:lnTo>
                  <a:cubicBezTo>
                    <a:pt x="20" y="313"/>
                    <a:pt x="16" y="317"/>
                    <a:pt x="11" y="317"/>
                  </a:cubicBezTo>
                  <a:cubicBezTo>
                    <a:pt x="7" y="317"/>
                    <a:pt x="3" y="313"/>
                    <a:pt x="3" y="309"/>
                  </a:cubicBezTo>
                  <a:close/>
                  <a:moveTo>
                    <a:pt x="3" y="275"/>
                  </a:moveTo>
                  <a:lnTo>
                    <a:pt x="3" y="275"/>
                  </a:lnTo>
                  <a:cubicBezTo>
                    <a:pt x="3" y="271"/>
                    <a:pt x="7" y="267"/>
                    <a:pt x="11" y="267"/>
                  </a:cubicBezTo>
                  <a:cubicBezTo>
                    <a:pt x="16" y="267"/>
                    <a:pt x="20" y="271"/>
                    <a:pt x="20" y="275"/>
                  </a:cubicBezTo>
                  <a:lnTo>
                    <a:pt x="20" y="275"/>
                  </a:lnTo>
                  <a:cubicBezTo>
                    <a:pt x="20" y="280"/>
                    <a:pt x="16" y="284"/>
                    <a:pt x="11" y="284"/>
                  </a:cubicBezTo>
                  <a:cubicBezTo>
                    <a:pt x="7" y="284"/>
                    <a:pt x="3" y="280"/>
                    <a:pt x="3" y="275"/>
                  </a:cubicBezTo>
                  <a:close/>
                  <a:moveTo>
                    <a:pt x="3" y="242"/>
                  </a:moveTo>
                  <a:lnTo>
                    <a:pt x="3" y="242"/>
                  </a:lnTo>
                  <a:cubicBezTo>
                    <a:pt x="3" y="237"/>
                    <a:pt x="7" y="234"/>
                    <a:pt x="11" y="234"/>
                  </a:cubicBezTo>
                  <a:cubicBezTo>
                    <a:pt x="16" y="234"/>
                    <a:pt x="20" y="237"/>
                    <a:pt x="20" y="242"/>
                  </a:cubicBezTo>
                  <a:lnTo>
                    <a:pt x="20" y="242"/>
                  </a:lnTo>
                  <a:cubicBezTo>
                    <a:pt x="20" y="247"/>
                    <a:pt x="16" y="250"/>
                    <a:pt x="11" y="250"/>
                  </a:cubicBezTo>
                  <a:cubicBezTo>
                    <a:pt x="7" y="250"/>
                    <a:pt x="3" y="247"/>
                    <a:pt x="3" y="242"/>
                  </a:cubicBezTo>
                  <a:close/>
                  <a:moveTo>
                    <a:pt x="3" y="209"/>
                  </a:moveTo>
                  <a:lnTo>
                    <a:pt x="3" y="209"/>
                  </a:lnTo>
                  <a:cubicBezTo>
                    <a:pt x="3" y="204"/>
                    <a:pt x="7" y="200"/>
                    <a:pt x="11" y="200"/>
                  </a:cubicBezTo>
                  <a:cubicBezTo>
                    <a:pt x="16" y="200"/>
                    <a:pt x="20" y="204"/>
                    <a:pt x="20" y="209"/>
                  </a:cubicBezTo>
                  <a:lnTo>
                    <a:pt x="20" y="209"/>
                  </a:lnTo>
                  <a:cubicBezTo>
                    <a:pt x="20" y="213"/>
                    <a:pt x="16" y="217"/>
                    <a:pt x="11" y="217"/>
                  </a:cubicBezTo>
                  <a:cubicBezTo>
                    <a:pt x="7" y="217"/>
                    <a:pt x="3" y="213"/>
                    <a:pt x="3" y="209"/>
                  </a:cubicBezTo>
                  <a:close/>
                  <a:moveTo>
                    <a:pt x="3" y="175"/>
                  </a:moveTo>
                  <a:lnTo>
                    <a:pt x="3" y="175"/>
                  </a:lnTo>
                  <a:cubicBezTo>
                    <a:pt x="3" y="171"/>
                    <a:pt x="7" y="167"/>
                    <a:pt x="12" y="167"/>
                  </a:cubicBezTo>
                  <a:cubicBezTo>
                    <a:pt x="16" y="167"/>
                    <a:pt x="20" y="171"/>
                    <a:pt x="20" y="175"/>
                  </a:cubicBezTo>
                  <a:lnTo>
                    <a:pt x="20" y="175"/>
                  </a:lnTo>
                  <a:cubicBezTo>
                    <a:pt x="20" y="180"/>
                    <a:pt x="16" y="184"/>
                    <a:pt x="12" y="184"/>
                  </a:cubicBezTo>
                  <a:cubicBezTo>
                    <a:pt x="7" y="184"/>
                    <a:pt x="3" y="180"/>
                    <a:pt x="3" y="175"/>
                  </a:cubicBezTo>
                  <a:close/>
                  <a:moveTo>
                    <a:pt x="3" y="142"/>
                  </a:moveTo>
                  <a:lnTo>
                    <a:pt x="3" y="142"/>
                  </a:lnTo>
                  <a:cubicBezTo>
                    <a:pt x="3" y="137"/>
                    <a:pt x="7" y="134"/>
                    <a:pt x="12" y="134"/>
                  </a:cubicBezTo>
                  <a:cubicBezTo>
                    <a:pt x="16" y="134"/>
                    <a:pt x="20" y="137"/>
                    <a:pt x="20" y="142"/>
                  </a:cubicBezTo>
                  <a:lnTo>
                    <a:pt x="20" y="142"/>
                  </a:lnTo>
                  <a:cubicBezTo>
                    <a:pt x="20" y="147"/>
                    <a:pt x="16" y="150"/>
                    <a:pt x="12" y="150"/>
                  </a:cubicBezTo>
                  <a:cubicBezTo>
                    <a:pt x="7" y="150"/>
                    <a:pt x="3" y="147"/>
                    <a:pt x="3" y="142"/>
                  </a:cubicBezTo>
                  <a:close/>
                  <a:moveTo>
                    <a:pt x="3" y="109"/>
                  </a:moveTo>
                  <a:lnTo>
                    <a:pt x="3" y="109"/>
                  </a:lnTo>
                  <a:cubicBezTo>
                    <a:pt x="3" y="104"/>
                    <a:pt x="7" y="100"/>
                    <a:pt x="12" y="100"/>
                  </a:cubicBezTo>
                  <a:cubicBezTo>
                    <a:pt x="16" y="100"/>
                    <a:pt x="20" y="104"/>
                    <a:pt x="20" y="109"/>
                  </a:cubicBezTo>
                  <a:lnTo>
                    <a:pt x="20" y="109"/>
                  </a:lnTo>
                  <a:cubicBezTo>
                    <a:pt x="20" y="113"/>
                    <a:pt x="16" y="117"/>
                    <a:pt x="12" y="117"/>
                  </a:cubicBezTo>
                  <a:cubicBezTo>
                    <a:pt x="7" y="117"/>
                    <a:pt x="3" y="113"/>
                    <a:pt x="3" y="109"/>
                  </a:cubicBezTo>
                  <a:close/>
                  <a:moveTo>
                    <a:pt x="3" y="75"/>
                  </a:moveTo>
                  <a:lnTo>
                    <a:pt x="3" y="75"/>
                  </a:lnTo>
                  <a:cubicBezTo>
                    <a:pt x="3" y="71"/>
                    <a:pt x="7" y="67"/>
                    <a:pt x="12" y="67"/>
                  </a:cubicBezTo>
                  <a:cubicBezTo>
                    <a:pt x="16" y="67"/>
                    <a:pt x="20" y="71"/>
                    <a:pt x="20" y="75"/>
                  </a:cubicBezTo>
                  <a:lnTo>
                    <a:pt x="20" y="75"/>
                  </a:lnTo>
                  <a:cubicBezTo>
                    <a:pt x="20" y="80"/>
                    <a:pt x="16" y="84"/>
                    <a:pt x="12" y="84"/>
                  </a:cubicBezTo>
                  <a:cubicBezTo>
                    <a:pt x="7" y="84"/>
                    <a:pt x="3" y="80"/>
                    <a:pt x="3" y="75"/>
                  </a:cubicBezTo>
                  <a:close/>
                  <a:moveTo>
                    <a:pt x="3" y="42"/>
                  </a:moveTo>
                  <a:lnTo>
                    <a:pt x="3" y="42"/>
                  </a:lnTo>
                  <a:cubicBezTo>
                    <a:pt x="3" y="37"/>
                    <a:pt x="7" y="34"/>
                    <a:pt x="12" y="34"/>
                  </a:cubicBezTo>
                  <a:cubicBezTo>
                    <a:pt x="16" y="34"/>
                    <a:pt x="20" y="37"/>
                    <a:pt x="20" y="42"/>
                  </a:cubicBezTo>
                  <a:lnTo>
                    <a:pt x="20" y="42"/>
                  </a:lnTo>
                  <a:cubicBezTo>
                    <a:pt x="20" y="47"/>
                    <a:pt x="16" y="50"/>
                    <a:pt x="12" y="50"/>
                  </a:cubicBezTo>
                  <a:cubicBezTo>
                    <a:pt x="7" y="50"/>
                    <a:pt x="3" y="47"/>
                    <a:pt x="3" y="42"/>
                  </a:cubicBezTo>
                  <a:close/>
                  <a:moveTo>
                    <a:pt x="3" y="9"/>
                  </a:moveTo>
                  <a:lnTo>
                    <a:pt x="3" y="9"/>
                  </a:lnTo>
                  <a:cubicBezTo>
                    <a:pt x="3" y="4"/>
                    <a:pt x="7" y="0"/>
                    <a:pt x="12" y="0"/>
                  </a:cubicBezTo>
                  <a:cubicBezTo>
                    <a:pt x="16" y="0"/>
                    <a:pt x="20" y="4"/>
                    <a:pt x="20" y="9"/>
                  </a:cubicBezTo>
                  <a:lnTo>
                    <a:pt x="20" y="9"/>
                  </a:lnTo>
                  <a:cubicBezTo>
                    <a:pt x="20" y="13"/>
                    <a:pt x="16" y="17"/>
                    <a:pt x="12" y="17"/>
                  </a:cubicBezTo>
                  <a:cubicBezTo>
                    <a:pt x="7" y="17"/>
                    <a:pt x="3" y="13"/>
                    <a:pt x="3" y="9"/>
                  </a:cubicBez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564080" y="3860640"/>
              <a:ext cx="3240" cy="454320"/>
            </a:xfrm>
            <a:custGeom>
              <a:avLst/>
              <a:gdLst/>
              <a:ahLst/>
              <a:rect l="l" t="t" r="r" b="b"/>
              <a:pathLst>
                <a:path w="20" h="2385">
                  <a:moveTo>
                    <a:pt x="0" y="2376"/>
                  </a:moveTo>
                  <a:lnTo>
                    <a:pt x="0" y="2376"/>
                  </a:lnTo>
                  <a:cubicBezTo>
                    <a:pt x="0" y="2372"/>
                    <a:pt x="4" y="2368"/>
                    <a:pt x="8" y="2368"/>
                  </a:cubicBezTo>
                  <a:cubicBezTo>
                    <a:pt x="13" y="2368"/>
                    <a:pt x="17" y="2372"/>
                    <a:pt x="17" y="2376"/>
                  </a:cubicBezTo>
                  <a:lnTo>
                    <a:pt x="17" y="2376"/>
                  </a:lnTo>
                  <a:cubicBezTo>
                    <a:pt x="17" y="2381"/>
                    <a:pt x="13" y="2385"/>
                    <a:pt x="8" y="2385"/>
                  </a:cubicBezTo>
                  <a:cubicBezTo>
                    <a:pt x="4" y="2385"/>
                    <a:pt x="0" y="2381"/>
                    <a:pt x="0" y="2376"/>
                  </a:cubicBezTo>
                  <a:close/>
                  <a:moveTo>
                    <a:pt x="0" y="2343"/>
                  </a:moveTo>
                  <a:lnTo>
                    <a:pt x="0" y="2343"/>
                  </a:lnTo>
                  <a:cubicBezTo>
                    <a:pt x="0" y="2338"/>
                    <a:pt x="4" y="2335"/>
                    <a:pt x="9" y="2335"/>
                  </a:cubicBezTo>
                  <a:cubicBezTo>
                    <a:pt x="13" y="2335"/>
                    <a:pt x="17" y="2338"/>
                    <a:pt x="17" y="2343"/>
                  </a:cubicBezTo>
                  <a:lnTo>
                    <a:pt x="17" y="2343"/>
                  </a:lnTo>
                  <a:cubicBezTo>
                    <a:pt x="17" y="2348"/>
                    <a:pt x="13" y="2351"/>
                    <a:pt x="9" y="2351"/>
                  </a:cubicBezTo>
                  <a:cubicBezTo>
                    <a:pt x="4" y="2351"/>
                    <a:pt x="0" y="2348"/>
                    <a:pt x="0" y="2343"/>
                  </a:cubicBezTo>
                  <a:close/>
                  <a:moveTo>
                    <a:pt x="0" y="2310"/>
                  </a:moveTo>
                  <a:lnTo>
                    <a:pt x="0" y="2310"/>
                  </a:lnTo>
                  <a:cubicBezTo>
                    <a:pt x="0" y="2305"/>
                    <a:pt x="4" y="2301"/>
                    <a:pt x="9" y="2301"/>
                  </a:cubicBezTo>
                  <a:cubicBezTo>
                    <a:pt x="13" y="2301"/>
                    <a:pt x="17" y="2305"/>
                    <a:pt x="17" y="2310"/>
                  </a:cubicBezTo>
                  <a:lnTo>
                    <a:pt x="17" y="2310"/>
                  </a:lnTo>
                  <a:cubicBezTo>
                    <a:pt x="17" y="2314"/>
                    <a:pt x="13" y="2318"/>
                    <a:pt x="9" y="2318"/>
                  </a:cubicBezTo>
                  <a:cubicBezTo>
                    <a:pt x="4" y="2318"/>
                    <a:pt x="0" y="2314"/>
                    <a:pt x="0" y="2310"/>
                  </a:cubicBezTo>
                  <a:close/>
                  <a:moveTo>
                    <a:pt x="0" y="2276"/>
                  </a:moveTo>
                  <a:lnTo>
                    <a:pt x="0" y="2276"/>
                  </a:lnTo>
                  <a:cubicBezTo>
                    <a:pt x="0" y="2272"/>
                    <a:pt x="4" y="2268"/>
                    <a:pt x="9" y="2268"/>
                  </a:cubicBezTo>
                  <a:cubicBezTo>
                    <a:pt x="13" y="2268"/>
                    <a:pt x="17" y="2272"/>
                    <a:pt x="17" y="2276"/>
                  </a:cubicBezTo>
                  <a:lnTo>
                    <a:pt x="17" y="2276"/>
                  </a:lnTo>
                  <a:cubicBezTo>
                    <a:pt x="17" y="2281"/>
                    <a:pt x="13" y="2285"/>
                    <a:pt x="9" y="2285"/>
                  </a:cubicBezTo>
                  <a:cubicBezTo>
                    <a:pt x="4" y="2285"/>
                    <a:pt x="0" y="2281"/>
                    <a:pt x="0" y="2276"/>
                  </a:cubicBezTo>
                  <a:close/>
                  <a:moveTo>
                    <a:pt x="0" y="2243"/>
                  </a:moveTo>
                  <a:lnTo>
                    <a:pt x="0" y="2243"/>
                  </a:lnTo>
                  <a:cubicBezTo>
                    <a:pt x="0" y="2238"/>
                    <a:pt x="4" y="2235"/>
                    <a:pt x="9" y="2235"/>
                  </a:cubicBezTo>
                  <a:cubicBezTo>
                    <a:pt x="13" y="2235"/>
                    <a:pt x="17" y="2238"/>
                    <a:pt x="17" y="2243"/>
                  </a:cubicBezTo>
                  <a:lnTo>
                    <a:pt x="17" y="2243"/>
                  </a:lnTo>
                  <a:cubicBezTo>
                    <a:pt x="17" y="2248"/>
                    <a:pt x="13" y="2251"/>
                    <a:pt x="9" y="2251"/>
                  </a:cubicBezTo>
                  <a:cubicBezTo>
                    <a:pt x="4" y="2251"/>
                    <a:pt x="0" y="2248"/>
                    <a:pt x="0" y="2243"/>
                  </a:cubicBezTo>
                  <a:close/>
                  <a:moveTo>
                    <a:pt x="0" y="2210"/>
                  </a:moveTo>
                  <a:lnTo>
                    <a:pt x="0" y="2210"/>
                  </a:lnTo>
                  <a:cubicBezTo>
                    <a:pt x="0" y="2205"/>
                    <a:pt x="4" y="2201"/>
                    <a:pt x="9" y="2201"/>
                  </a:cubicBezTo>
                  <a:cubicBezTo>
                    <a:pt x="13" y="2201"/>
                    <a:pt x="17" y="2205"/>
                    <a:pt x="17" y="2210"/>
                  </a:cubicBezTo>
                  <a:lnTo>
                    <a:pt x="17" y="2210"/>
                  </a:lnTo>
                  <a:cubicBezTo>
                    <a:pt x="17" y="2214"/>
                    <a:pt x="13" y="2218"/>
                    <a:pt x="9" y="2218"/>
                  </a:cubicBezTo>
                  <a:cubicBezTo>
                    <a:pt x="4" y="2218"/>
                    <a:pt x="0" y="2214"/>
                    <a:pt x="0" y="2210"/>
                  </a:cubicBezTo>
                  <a:close/>
                  <a:moveTo>
                    <a:pt x="0" y="2176"/>
                  </a:moveTo>
                  <a:lnTo>
                    <a:pt x="0" y="2176"/>
                  </a:lnTo>
                  <a:cubicBezTo>
                    <a:pt x="0" y="2172"/>
                    <a:pt x="4" y="2168"/>
                    <a:pt x="9" y="2168"/>
                  </a:cubicBezTo>
                  <a:cubicBezTo>
                    <a:pt x="13" y="2168"/>
                    <a:pt x="17" y="2172"/>
                    <a:pt x="17" y="2176"/>
                  </a:cubicBezTo>
                  <a:lnTo>
                    <a:pt x="17" y="2176"/>
                  </a:lnTo>
                  <a:cubicBezTo>
                    <a:pt x="17" y="2181"/>
                    <a:pt x="13" y="2185"/>
                    <a:pt x="9" y="2185"/>
                  </a:cubicBezTo>
                  <a:cubicBezTo>
                    <a:pt x="4" y="2185"/>
                    <a:pt x="0" y="2181"/>
                    <a:pt x="0" y="2176"/>
                  </a:cubicBezTo>
                  <a:close/>
                  <a:moveTo>
                    <a:pt x="0" y="2143"/>
                  </a:moveTo>
                  <a:lnTo>
                    <a:pt x="0" y="2143"/>
                  </a:lnTo>
                  <a:cubicBezTo>
                    <a:pt x="0" y="2138"/>
                    <a:pt x="4" y="2135"/>
                    <a:pt x="9" y="2135"/>
                  </a:cubicBezTo>
                  <a:cubicBezTo>
                    <a:pt x="13" y="2135"/>
                    <a:pt x="17" y="2138"/>
                    <a:pt x="17" y="2143"/>
                  </a:cubicBezTo>
                  <a:lnTo>
                    <a:pt x="17" y="2143"/>
                  </a:lnTo>
                  <a:cubicBezTo>
                    <a:pt x="17" y="2148"/>
                    <a:pt x="13" y="2151"/>
                    <a:pt x="9" y="2151"/>
                  </a:cubicBezTo>
                  <a:cubicBezTo>
                    <a:pt x="4" y="2151"/>
                    <a:pt x="0" y="2148"/>
                    <a:pt x="0" y="2143"/>
                  </a:cubicBezTo>
                  <a:close/>
                  <a:moveTo>
                    <a:pt x="0" y="2110"/>
                  </a:moveTo>
                  <a:lnTo>
                    <a:pt x="0" y="2110"/>
                  </a:lnTo>
                  <a:cubicBezTo>
                    <a:pt x="0" y="2105"/>
                    <a:pt x="4" y="2101"/>
                    <a:pt x="9" y="2101"/>
                  </a:cubicBezTo>
                  <a:cubicBezTo>
                    <a:pt x="13" y="2101"/>
                    <a:pt x="17" y="2105"/>
                    <a:pt x="17" y="2110"/>
                  </a:cubicBezTo>
                  <a:lnTo>
                    <a:pt x="17" y="2110"/>
                  </a:lnTo>
                  <a:cubicBezTo>
                    <a:pt x="17" y="2114"/>
                    <a:pt x="13" y="2118"/>
                    <a:pt x="9" y="2118"/>
                  </a:cubicBezTo>
                  <a:cubicBezTo>
                    <a:pt x="4" y="2118"/>
                    <a:pt x="0" y="2114"/>
                    <a:pt x="0" y="2110"/>
                  </a:cubicBezTo>
                  <a:close/>
                  <a:moveTo>
                    <a:pt x="1" y="2076"/>
                  </a:moveTo>
                  <a:lnTo>
                    <a:pt x="1" y="2076"/>
                  </a:lnTo>
                  <a:cubicBezTo>
                    <a:pt x="1" y="2072"/>
                    <a:pt x="4" y="2068"/>
                    <a:pt x="9" y="2068"/>
                  </a:cubicBezTo>
                  <a:cubicBezTo>
                    <a:pt x="13" y="2068"/>
                    <a:pt x="17" y="2072"/>
                    <a:pt x="17" y="2076"/>
                  </a:cubicBezTo>
                  <a:lnTo>
                    <a:pt x="17" y="2076"/>
                  </a:lnTo>
                  <a:cubicBezTo>
                    <a:pt x="17" y="2081"/>
                    <a:pt x="13" y="2085"/>
                    <a:pt x="9" y="2085"/>
                  </a:cubicBezTo>
                  <a:cubicBezTo>
                    <a:pt x="4" y="2085"/>
                    <a:pt x="1" y="2081"/>
                    <a:pt x="1" y="2076"/>
                  </a:cubicBezTo>
                  <a:close/>
                  <a:moveTo>
                    <a:pt x="1" y="2043"/>
                  </a:moveTo>
                  <a:lnTo>
                    <a:pt x="1" y="2043"/>
                  </a:lnTo>
                  <a:cubicBezTo>
                    <a:pt x="1" y="2038"/>
                    <a:pt x="4" y="2035"/>
                    <a:pt x="9" y="2035"/>
                  </a:cubicBezTo>
                  <a:cubicBezTo>
                    <a:pt x="14" y="2035"/>
                    <a:pt x="17" y="2038"/>
                    <a:pt x="17" y="2043"/>
                  </a:cubicBezTo>
                  <a:lnTo>
                    <a:pt x="17" y="2043"/>
                  </a:lnTo>
                  <a:cubicBezTo>
                    <a:pt x="17" y="2048"/>
                    <a:pt x="14" y="2051"/>
                    <a:pt x="9" y="2051"/>
                  </a:cubicBezTo>
                  <a:cubicBezTo>
                    <a:pt x="4" y="2051"/>
                    <a:pt x="1" y="2048"/>
                    <a:pt x="1" y="2043"/>
                  </a:cubicBezTo>
                  <a:close/>
                  <a:moveTo>
                    <a:pt x="1" y="2010"/>
                  </a:moveTo>
                  <a:lnTo>
                    <a:pt x="1" y="2010"/>
                  </a:lnTo>
                  <a:cubicBezTo>
                    <a:pt x="1" y="2005"/>
                    <a:pt x="4" y="2001"/>
                    <a:pt x="9" y="2001"/>
                  </a:cubicBezTo>
                  <a:cubicBezTo>
                    <a:pt x="14" y="2001"/>
                    <a:pt x="17" y="2005"/>
                    <a:pt x="17" y="2010"/>
                  </a:cubicBezTo>
                  <a:lnTo>
                    <a:pt x="17" y="2010"/>
                  </a:lnTo>
                  <a:cubicBezTo>
                    <a:pt x="17" y="2014"/>
                    <a:pt x="14" y="2018"/>
                    <a:pt x="9" y="2018"/>
                  </a:cubicBezTo>
                  <a:cubicBezTo>
                    <a:pt x="4" y="2018"/>
                    <a:pt x="1" y="2014"/>
                    <a:pt x="1" y="2010"/>
                  </a:cubicBezTo>
                  <a:close/>
                  <a:moveTo>
                    <a:pt x="1" y="1976"/>
                  </a:moveTo>
                  <a:lnTo>
                    <a:pt x="1" y="1976"/>
                  </a:lnTo>
                  <a:cubicBezTo>
                    <a:pt x="1" y="1972"/>
                    <a:pt x="4" y="1968"/>
                    <a:pt x="9" y="1968"/>
                  </a:cubicBezTo>
                  <a:cubicBezTo>
                    <a:pt x="14" y="1968"/>
                    <a:pt x="17" y="1972"/>
                    <a:pt x="17" y="1976"/>
                  </a:cubicBezTo>
                  <a:lnTo>
                    <a:pt x="17" y="1976"/>
                  </a:lnTo>
                  <a:cubicBezTo>
                    <a:pt x="17" y="1981"/>
                    <a:pt x="14" y="1985"/>
                    <a:pt x="9" y="1985"/>
                  </a:cubicBezTo>
                  <a:cubicBezTo>
                    <a:pt x="4" y="1985"/>
                    <a:pt x="1" y="1981"/>
                    <a:pt x="1" y="1976"/>
                  </a:cubicBezTo>
                  <a:close/>
                  <a:moveTo>
                    <a:pt x="1" y="1943"/>
                  </a:moveTo>
                  <a:lnTo>
                    <a:pt x="1" y="1943"/>
                  </a:lnTo>
                  <a:cubicBezTo>
                    <a:pt x="1" y="1938"/>
                    <a:pt x="4" y="1935"/>
                    <a:pt x="9" y="1935"/>
                  </a:cubicBezTo>
                  <a:cubicBezTo>
                    <a:pt x="14" y="1935"/>
                    <a:pt x="17" y="1938"/>
                    <a:pt x="17" y="1943"/>
                  </a:cubicBezTo>
                  <a:lnTo>
                    <a:pt x="17" y="1943"/>
                  </a:lnTo>
                  <a:cubicBezTo>
                    <a:pt x="17" y="1948"/>
                    <a:pt x="14" y="1951"/>
                    <a:pt x="9" y="1951"/>
                  </a:cubicBezTo>
                  <a:cubicBezTo>
                    <a:pt x="4" y="1951"/>
                    <a:pt x="1" y="1948"/>
                    <a:pt x="1" y="1943"/>
                  </a:cubicBezTo>
                  <a:close/>
                  <a:moveTo>
                    <a:pt x="1" y="1910"/>
                  </a:moveTo>
                  <a:lnTo>
                    <a:pt x="1" y="1910"/>
                  </a:lnTo>
                  <a:cubicBezTo>
                    <a:pt x="1" y="1905"/>
                    <a:pt x="4" y="1901"/>
                    <a:pt x="9" y="1901"/>
                  </a:cubicBezTo>
                  <a:cubicBezTo>
                    <a:pt x="14" y="1901"/>
                    <a:pt x="17" y="1905"/>
                    <a:pt x="17" y="1910"/>
                  </a:cubicBezTo>
                  <a:lnTo>
                    <a:pt x="17" y="1910"/>
                  </a:lnTo>
                  <a:cubicBezTo>
                    <a:pt x="17" y="1914"/>
                    <a:pt x="14" y="1918"/>
                    <a:pt x="9" y="1918"/>
                  </a:cubicBezTo>
                  <a:cubicBezTo>
                    <a:pt x="4" y="1918"/>
                    <a:pt x="1" y="1914"/>
                    <a:pt x="1" y="1910"/>
                  </a:cubicBezTo>
                  <a:close/>
                  <a:moveTo>
                    <a:pt x="1" y="1876"/>
                  </a:moveTo>
                  <a:lnTo>
                    <a:pt x="1" y="1876"/>
                  </a:lnTo>
                  <a:cubicBezTo>
                    <a:pt x="1" y="1872"/>
                    <a:pt x="5" y="1868"/>
                    <a:pt x="9" y="1868"/>
                  </a:cubicBezTo>
                  <a:cubicBezTo>
                    <a:pt x="14" y="1868"/>
                    <a:pt x="17" y="1872"/>
                    <a:pt x="17" y="1876"/>
                  </a:cubicBezTo>
                  <a:lnTo>
                    <a:pt x="17" y="1876"/>
                  </a:lnTo>
                  <a:cubicBezTo>
                    <a:pt x="17" y="1881"/>
                    <a:pt x="14" y="1885"/>
                    <a:pt x="9" y="1885"/>
                  </a:cubicBezTo>
                  <a:cubicBezTo>
                    <a:pt x="5" y="1885"/>
                    <a:pt x="1" y="1881"/>
                    <a:pt x="1" y="1876"/>
                  </a:cubicBezTo>
                  <a:close/>
                  <a:moveTo>
                    <a:pt x="1" y="1843"/>
                  </a:moveTo>
                  <a:lnTo>
                    <a:pt x="1" y="1843"/>
                  </a:lnTo>
                  <a:cubicBezTo>
                    <a:pt x="1" y="1838"/>
                    <a:pt x="5" y="1834"/>
                    <a:pt x="9" y="1834"/>
                  </a:cubicBezTo>
                  <a:cubicBezTo>
                    <a:pt x="14" y="1834"/>
                    <a:pt x="18" y="1838"/>
                    <a:pt x="18" y="1843"/>
                  </a:cubicBezTo>
                  <a:lnTo>
                    <a:pt x="18" y="1843"/>
                  </a:lnTo>
                  <a:cubicBezTo>
                    <a:pt x="18" y="1847"/>
                    <a:pt x="14" y="1851"/>
                    <a:pt x="9" y="1851"/>
                  </a:cubicBezTo>
                  <a:cubicBezTo>
                    <a:pt x="5" y="1851"/>
                    <a:pt x="1" y="1847"/>
                    <a:pt x="1" y="1843"/>
                  </a:cubicBezTo>
                  <a:close/>
                  <a:moveTo>
                    <a:pt x="1" y="1809"/>
                  </a:moveTo>
                  <a:lnTo>
                    <a:pt x="1" y="1809"/>
                  </a:lnTo>
                  <a:cubicBezTo>
                    <a:pt x="1" y="1805"/>
                    <a:pt x="5" y="1801"/>
                    <a:pt x="9" y="1801"/>
                  </a:cubicBezTo>
                  <a:cubicBezTo>
                    <a:pt x="14" y="1801"/>
                    <a:pt x="18" y="1805"/>
                    <a:pt x="18" y="1809"/>
                  </a:cubicBezTo>
                  <a:lnTo>
                    <a:pt x="18" y="1809"/>
                  </a:lnTo>
                  <a:cubicBezTo>
                    <a:pt x="18" y="1814"/>
                    <a:pt x="14" y="1818"/>
                    <a:pt x="9" y="1818"/>
                  </a:cubicBezTo>
                  <a:cubicBezTo>
                    <a:pt x="5" y="1818"/>
                    <a:pt x="1" y="1814"/>
                    <a:pt x="1" y="1809"/>
                  </a:cubicBezTo>
                  <a:close/>
                  <a:moveTo>
                    <a:pt x="1" y="1776"/>
                  </a:moveTo>
                  <a:lnTo>
                    <a:pt x="1" y="1776"/>
                  </a:lnTo>
                  <a:cubicBezTo>
                    <a:pt x="1" y="1772"/>
                    <a:pt x="5" y="1768"/>
                    <a:pt x="9" y="1768"/>
                  </a:cubicBezTo>
                  <a:cubicBezTo>
                    <a:pt x="14" y="1768"/>
                    <a:pt x="18" y="1772"/>
                    <a:pt x="18" y="1776"/>
                  </a:cubicBezTo>
                  <a:lnTo>
                    <a:pt x="18" y="1776"/>
                  </a:lnTo>
                  <a:cubicBezTo>
                    <a:pt x="18" y="1781"/>
                    <a:pt x="14" y="1784"/>
                    <a:pt x="9" y="1784"/>
                  </a:cubicBezTo>
                  <a:cubicBezTo>
                    <a:pt x="5" y="1784"/>
                    <a:pt x="1" y="1781"/>
                    <a:pt x="1" y="1776"/>
                  </a:cubicBezTo>
                  <a:close/>
                  <a:moveTo>
                    <a:pt x="1" y="1743"/>
                  </a:moveTo>
                  <a:lnTo>
                    <a:pt x="1" y="1743"/>
                  </a:lnTo>
                  <a:cubicBezTo>
                    <a:pt x="1" y="1738"/>
                    <a:pt x="5" y="1734"/>
                    <a:pt x="9" y="1734"/>
                  </a:cubicBezTo>
                  <a:cubicBezTo>
                    <a:pt x="14" y="1734"/>
                    <a:pt x="18" y="1738"/>
                    <a:pt x="18" y="1743"/>
                  </a:cubicBezTo>
                  <a:lnTo>
                    <a:pt x="18" y="1743"/>
                  </a:lnTo>
                  <a:cubicBezTo>
                    <a:pt x="18" y="1747"/>
                    <a:pt x="14" y="1751"/>
                    <a:pt x="9" y="1751"/>
                  </a:cubicBezTo>
                  <a:cubicBezTo>
                    <a:pt x="5" y="1751"/>
                    <a:pt x="1" y="1747"/>
                    <a:pt x="1" y="1743"/>
                  </a:cubicBezTo>
                  <a:close/>
                  <a:moveTo>
                    <a:pt x="1" y="1709"/>
                  </a:moveTo>
                  <a:lnTo>
                    <a:pt x="1" y="1709"/>
                  </a:lnTo>
                  <a:cubicBezTo>
                    <a:pt x="1" y="1705"/>
                    <a:pt x="5" y="1701"/>
                    <a:pt x="9" y="1701"/>
                  </a:cubicBezTo>
                  <a:cubicBezTo>
                    <a:pt x="14" y="1701"/>
                    <a:pt x="18" y="1705"/>
                    <a:pt x="18" y="1709"/>
                  </a:cubicBezTo>
                  <a:lnTo>
                    <a:pt x="18" y="1709"/>
                  </a:lnTo>
                  <a:cubicBezTo>
                    <a:pt x="18" y="1714"/>
                    <a:pt x="14" y="1718"/>
                    <a:pt x="9" y="1718"/>
                  </a:cubicBezTo>
                  <a:cubicBezTo>
                    <a:pt x="5" y="1718"/>
                    <a:pt x="1" y="1714"/>
                    <a:pt x="1" y="1709"/>
                  </a:cubicBezTo>
                  <a:close/>
                  <a:moveTo>
                    <a:pt x="1" y="1676"/>
                  </a:moveTo>
                  <a:lnTo>
                    <a:pt x="1" y="1676"/>
                  </a:lnTo>
                  <a:cubicBezTo>
                    <a:pt x="1" y="1671"/>
                    <a:pt x="5" y="1668"/>
                    <a:pt x="9" y="1668"/>
                  </a:cubicBezTo>
                  <a:cubicBezTo>
                    <a:pt x="14" y="1668"/>
                    <a:pt x="18" y="1671"/>
                    <a:pt x="18" y="1676"/>
                  </a:cubicBezTo>
                  <a:lnTo>
                    <a:pt x="18" y="1676"/>
                  </a:lnTo>
                  <a:cubicBezTo>
                    <a:pt x="18" y="1681"/>
                    <a:pt x="14" y="1684"/>
                    <a:pt x="9" y="1684"/>
                  </a:cubicBezTo>
                  <a:cubicBezTo>
                    <a:pt x="5" y="1684"/>
                    <a:pt x="1" y="1681"/>
                    <a:pt x="1" y="1676"/>
                  </a:cubicBezTo>
                  <a:close/>
                  <a:moveTo>
                    <a:pt x="1" y="1643"/>
                  </a:moveTo>
                  <a:lnTo>
                    <a:pt x="1" y="1643"/>
                  </a:lnTo>
                  <a:cubicBezTo>
                    <a:pt x="1" y="1638"/>
                    <a:pt x="5" y="1634"/>
                    <a:pt x="9" y="1634"/>
                  </a:cubicBezTo>
                  <a:cubicBezTo>
                    <a:pt x="14" y="1634"/>
                    <a:pt x="18" y="1638"/>
                    <a:pt x="18" y="1643"/>
                  </a:cubicBezTo>
                  <a:lnTo>
                    <a:pt x="18" y="1643"/>
                  </a:lnTo>
                  <a:cubicBezTo>
                    <a:pt x="18" y="1647"/>
                    <a:pt x="14" y="1651"/>
                    <a:pt x="9" y="1651"/>
                  </a:cubicBezTo>
                  <a:cubicBezTo>
                    <a:pt x="5" y="1651"/>
                    <a:pt x="1" y="1647"/>
                    <a:pt x="1" y="1643"/>
                  </a:cubicBezTo>
                  <a:close/>
                  <a:moveTo>
                    <a:pt x="1" y="1609"/>
                  </a:moveTo>
                  <a:lnTo>
                    <a:pt x="1" y="1609"/>
                  </a:lnTo>
                  <a:cubicBezTo>
                    <a:pt x="1" y="1605"/>
                    <a:pt x="5" y="1601"/>
                    <a:pt x="10" y="1601"/>
                  </a:cubicBezTo>
                  <a:cubicBezTo>
                    <a:pt x="14" y="1601"/>
                    <a:pt x="18" y="1605"/>
                    <a:pt x="18" y="1609"/>
                  </a:cubicBezTo>
                  <a:lnTo>
                    <a:pt x="18" y="1609"/>
                  </a:lnTo>
                  <a:cubicBezTo>
                    <a:pt x="18" y="1614"/>
                    <a:pt x="14" y="1618"/>
                    <a:pt x="10" y="1618"/>
                  </a:cubicBezTo>
                  <a:cubicBezTo>
                    <a:pt x="5" y="1618"/>
                    <a:pt x="1" y="1614"/>
                    <a:pt x="1" y="1609"/>
                  </a:cubicBezTo>
                  <a:close/>
                  <a:moveTo>
                    <a:pt x="1" y="1576"/>
                  </a:moveTo>
                  <a:lnTo>
                    <a:pt x="1" y="1576"/>
                  </a:lnTo>
                  <a:cubicBezTo>
                    <a:pt x="1" y="1571"/>
                    <a:pt x="5" y="1568"/>
                    <a:pt x="10" y="1568"/>
                  </a:cubicBezTo>
                  <a:cubicBezTo>
                    <a:pt x="14" y="1568"/>
                    <a:pt x="18" y="1571"/>
                    <a:pt x="18" y="1576"/>
                  </a:cubicBezTo>
                  <a:lnTo>
                    <a:pt x="18" y="1576"/>
                  </a:lnTo>
                  <a:cubicBezTo>
                    <a:pt x="18" y="1581"/>
                    <a:pt x="14" y="1584"/>
                    <a:pt x="10" y="1584"/>
                  </a:cubicBezTo>
                  <a:cubicBezTo>
                    <a:pt x="5" y="1584"/>
                    <a:pt x="1" y="1581"/>
                    <a:pt x="1" y="1576"/>
                  </a:cubicBezTo>
                  <a:close/>
                  <a:moveTo>
                    <a:pt x="1" y="1543"/>
                  </a:moveTo>
                  <a:lnTo>
                    <a:pt x="1" y="1543"/>
                  </a:lnTo>
                  <a:cubicBezTo>
                    <a:pt x="1" y="1538"/>
                    <a:pt x="5" y="1534"/>
                    <a:pt x="10" y="1534"/>
                  </a:cubicBezTo>
                  <a:cubicBezTo>
                    <a:pt x="14" y="1534"/>
                    <a:pt x="18" y="1538"/>
                    <a:pt x="18" y="1543"/>
                  </a:cubicBezTo>
                  <a:lnTo>
                    <a:pt x="18" y="1543"/>
                  </a:lnTo>
                  <a:cubicBezTo>
                    <a:pt x="18" y="1547"/>
                    <a:pt x="14" y="1551"/>
                    <a:pt x="10" y="1551"/>
                  </a:cubicBezTo>
                  <a:cubicBezTo>
                    <a:pt x="5" y="1551"/>
                    <a:pt x="1" y="1547"/>
                    <a:pt x="1" y="1543"/>
                  </a:cubicBezTo>
                  <a:close/>
                  <a:moveTo>
                    <a:pt x="1" y="1509"/>
                  </a:moveTo>
                  <a:lnTo>
                    <a:pt x="1" y="1509"/>
                  </a:lnTo>
                  <a:cubicBezTo>
                    <a:pt x="1" y="1505"/>
                    <a:pt x="5" y="1501"/>
                    <a:pt x="10" y="1501"/>
                  </a:cubicBezTo>
                  <a:cubicBezTo>
                    <a:pt x="14" y="1501"/>
                    <a:pt x="18" y="1505"/>
                    <a:pt x="18" y="1509"/>
                  </a:cubicBezTo>
                  <a:lnTo>
                    <a:pt x="18" y="1509"/>
                  </a:lnTo>
                  <a:cubicBezTo>
                    <a:pt x="18" y="1514"/>
                    <a:pt x="14" y="1518"/>
                    <a:pt x="10" y="1518"/>
                  </a:cubicBezTo>
                  <a:cubicBezTo>
                    <a:pt x="5" y="1518"/>
                    <a:pt x="1" y="1514"/>
                    <a:pt x="1" y="1509"/>
                  </a:cubicBezTo>
                  <a:close/>
                  <a:moveTo>
                    <a:pt x="1" y="1476"/>
                  </a:moveTo>
                  <a:lnTo>
                    <a:pt x="1" y="1476"/>
                  </a:lnTo>
                  <a:cubicBezTo>
                    <a:pt x="1" y="1471"/>
                    <a:pt x="5" y="1468"/>
                    <a:pt x="10" y="1468"/>
                  </a:cubicBezTo>
                  <a:cubicBezTo>
                    <a:pt x="14" y="1468"/>
                    <a:pt x="18" y="1471"/>
                    <a:pt x="18" y="1476"/>
                  </a:cubicBezTo>
                  <a:lnTo>
                    <a:pt x="18" y="1476"/>
                  </a:lnTo>
                  <a:cubicBezTo>
                    <a:pt x="18" y="1481"/>
                    <a:pt x="14" y="1484"/>
                    <a:pt x="10" y="1484"/>
                  </a:cubicBezTo>
                  <a:cubicBezTo>
                    <a:pt x="5" y="1484"/>
                    <a:pt x="1" y="1481"/>
                    <a:pt x="1" y="1476"/>
                  </a:cubicBezTo>
                  <a:close/>
                  <a:moveTo>
                    <a:pt x="1" y="1443"/>
                  </a:moveTo>
                  <a:lnTo>
                    <a:pt x="1" y="1443"/>
                  </a:lnTo>
                  <a:cubicBezTo>
                    <a:pt x="1" y="1438"/>
                    <a:pt x="5" y="1434"/>
                    <a:pt x="10" y="1434"/>
                  </a:cubicBezTo>
                  <a:cubicBezTo>
                    <a:pt x="14" y="1434"/>
                    <a:pt x="18" y="1438"/>
                    <a:pt x="18" y="1443"/>
                  </a:cubicBezTo>
                  <a:lnTo>
                    <a:pt x="18" y="1443"/>
                  </a:lnTo>
                  <a:cubicBezTo>
                    <a:pt x="18" y="1447"/>
                    <a:pt x="14" y="1451"/>
                    <a:pt x="10" y="1451"/>
                  </a:cubicBezTo>
                  <a:cubicBezTo>
                    <a:pt x="5" y="1451"/>
                    <a:pt x="1" y="1447"/>
                    <a:pt x="1" y="1443"/>
                  </a:cubicBezTo>
                  <a:close/>
                  <a:moveTo>
                    <a:pt x="1" y="1409"/>
                  </a:moveTo>
                  <a:lnTo>
                    <a:pt x="1" y="1409"/>
                  </a:lnTo>
                  <a:cubicBezTo>
                    <a:pt x="1" y="1405"/>
                    <a:pt x="5" y="1401"/>
                    <a:pt x="10" y="1401"/>
                  </a:cubicBezTo>
                  <a:cubicBezTo>
                    <a:pt x="14" y="1401"/>
                    <a:pt x="18" y="1405"/>
                    <a:pt x="18" y="1409"/>
                  </a:cubicBezTo>
                  <a:lnTo>
                    <a:pt x="18" y="1409"/>
                  </a:lnTo>
                  <a:cubicBezTo>
                    <a:pt x="18" y="1414"/>
                    <a:pt x="14" y="1418"/>
                    <a:pt x="10" y="1418"/>
                  </a:cubicBezTo>
                  <a:cubicBezTo>
                    <a:pt x="5" y="1418"/>
                    <a:pt x="1" y="1414"/>
                    <a:pt x="1" y="1409"/>
                  </a:cubicBezTo>
                  <a:close/>
                  <a:moveTo>
                    <a:pt x="2" y="1376"/>
                  </a:moveTo>
                  <a:lnTo>
                    <a:pt x="2" y="1376"/>
                  </a:lnTo>
                  <a:cubicBezTo>
                    <a:pt x="2" y="1371"/>
                    <a:pt x="5" y="1368"/>
                    <a:pt x="10" y="1368"/>
                  </a:cubicBezTo>
                  <a:cubicBezTo>
                    <a:pt x="14" y="1368"/>
                    <a:pt x="18" y="1371"/>
                    <a:pt x="18" y="1376"/>
                  </a:cubicBezTo>
                  <a:lnTo>
                    <a:pt x="18" y="1376"/>
                  </a:lnTo>
                  <a:cubicBezTo>
                    <a:pt x="18" y="1381"/>
                    <a:pt x="14" y="1384"/>
                    <a:pt x="10" y="1384"/>
                  </a:cubicBezTo>
                  <a:cubicBezTo>
                    <a:pt x="5" y="1384"/>
                    <a:pt x="2" y="1381"/>
                    <a:pt x="2" y="1376"/>
                  </a:cubicBezTo>
                  <a:close/>
                  <a:moveTo>
                    <a:pt x="2" y="1343"/>
                  </a:moveTo>
                  <a:lnTo>
                    <a:pt x="2" y="1343"/>
                  </a:lnTo>
                  <a:cubicBezTo>
                    <a:pt x="2" y="1338"/>
                    <a:pt x="5" y="1334"/>
                    <a:pt x="10" y="1334"/>
                  </a:cubicBezTo>
                  <a:cubicBezTo>
                    <a:pt x="14" y="1334"/>
                    <a:pt x="18" y="1338"/>
                    <a:pt x="18" y="1343"/>
                  </a:cubicBezTo>
                  <a:lnTo>
                    <a:pt x="18" y="1343"/>
                  </a:lnTo>
                  <a:cubicBezTo>
                    <a:pt x="18" y="1347"/>
                    <a:pt x="14" y="1351"/>
                    <a:pt x="10" y="1351"/>
                  </a:cubicBezTo>
                  <a:cubicBezTo>
                    <a:pt x="5" y="1351"/>
                    <a:pt x="2" y="1347"/>
                    <a:pt x="2" y="1343"/>
                  </a:cubicBezTo>
                  <a:close/>
                  <a:moveTo>
                    <a:pt x="2" y="1309"/>
                  </a:moveTo>
                  <a:lnTo>
                    <a:pt x="2" y="1309"/>
                  </a:lnTo>
                  <a:cubicBezTo>
                    <a:pt x="2" y="1305"/>
                    <a:pt x="5" y="1301"/>
                    <a:pt x="10" y="1301"/>
                  </a:cubicBezTo>
                  <a:cubicBezTo>
                    <a:pt x="15" y="1301"/>
                    <a:pt x="18" y="1305"/>
                    <a:pt x="18" y="1309"/>
                  </a:cubicBezTo>
                  <a:lnTo>
                    <a:pt x="18" y="1309"/>
                  </a:lnTo>
                  <a:cubicBezTo>
                    <a:pt x="18" y="1314"/>
                    <a:pt x="15" y="1318"/>
                    <a:pt x="10" y="1318"/>
                  </a:cubicBezTo>
                  <a:cubicBezTo>
                    <a:pt x="5" y="1318"/>
                    <a:pt x="2" y="1314"/>
                    <a:pt x="2" y="1309"/>
                  </a:cubicBezTo>
                  <a:close/>
                  <a:moveTo>
                    <a:pt x="2" y="1276"/>
                  </a:moveTo>
                  <a:lnTo>
                    <a:pt x="2" y="1276"/>
                  </a:lnTo>
                  <a:cubicBezTo>
                    <a:pt x="2" y="1271"/>
                    <a:pt x="5" y="1268"/>
                    <a:pt x="10" y="1268"/>
                  </a:cubicBezTo>
                  <a:cubicBezTo>
                    <a:pt x="15" y="1268"/>
                    <a:pt x="18" y="1271"/>
                    <a:pt x="18" y="1276"/>
                  </a:cubicBezTo>
                  <a:lnTo>
                    <a:pt x="18" y="1276"/>
                  </a:lnTo>
                  <a:cubicBezTo>
                    <a:pt x="18" y="1280"/>
                    <a:pt x="15" y="1284"/>
                    <a:pt x="10" y="1284"/>
                  </a:cubicBezTo>
                  <a:cubicBezTo>
                    <a:pt x="5" y="1284"/>
                    <a:pt x="2" y="1280"/>
                    <a:pt x="2" y="1276"/>
                  </a:cubicBezTo>
                  <a:close/>
                  <a:moveTo>
                    <a:pt x="2" y="1243"/>
                  </a:moveTo>
                  <a:lnTo>
                    <a:pt x="2" y="1242"/>
                  </a:lnTo>
                  <a:cubicBezTo>
                    <a:pt x="2" y="1238"/>
                    <a:pt x="5" y="1234"/>
                    <a:pt x="10" y="1234"/>
                  </a:cubicBezTo>
                  <a:cubicBezTo>
                    <a:pt x="15" y="1234"/>
                    <a:pt x="18" y="1238"/>
                    <a:pt x="18" y="1242"/>
                  </a:cubicBezTo>
                  <a:lnTo>
                    <a:pt x="18" y="1243"/>
                  </a:lnTo>
                  <a:cubicBezTo>
                    <a:pt x="18" y="1247"/>
                    <a:pt x="15" y="1251"/>
                    <a:pt x="10" y="1251"/>
                  </a:cubicBezTo>
                  <a:cubicBezTo>
                    <a:pt x="5" y="1251"/>
                    <a:pt x="2" y="1247"/>
                    <a:pt x="2" y="1243"/>
                  </a:cubicBezTo>
                  <a:close/>
                  <a:moveTo>
                    <a:pt x="2" y="1209"/>
                  </a:moveTo>
                  <a:lnTo>
                    <a:pt x="2" y="1209"/>
                  </a:lnTo>
                  <a:cubicBezTo>
                    <a:pt x="2" y="1205"/>
                    <a:pt x="5" y="1201"/>
                    <a:pt x="10" y="1201"/>
                  </a:cubicBezTo>
                  <a:cubicBezTo>
                    <a:pt x="15" y="1201"/>
                    <a:pt x="18" y="1205"/>
                    <a:pt x="18" y="1209"/>
                  </a:cubicBezTo>
                  <a:lnTo>
                    <a:pt x="18" y="1209"/>
                  </a:lnTo>
                  <a:cubicBezTo>
                    <a:pt x="18" y="1214"/>
                    <a:pt x="15" y="1217"/>
                    <a:pt x="10" y="1217"/>
                  </a:cubicBezTo>
                  <a:cubicBezTo>
                    <a:pt x="5" y="1217"/>
                    <a:pt x="2" y="1214"/>
                    <a:pt x="2" y="1209"/>
                  </a:cubicBezTo>
                  <a:close/>
                  <a:moveTo>
                    <a:pt x="2" y="1176"/>
                  </a:moveTo>
                  <a:lnTo>
                    <a:pt x="2" y="1176"/>
                  </a:lnTo>
                  <a:cubicBezTo>
                    <a:pt x="2" y="1171"/>
                    <a:pt x="6" y="1167"/>
                    <a:pt x="10" y="1167"/>
                  </a:cubicBezTo>
                  <a:cubicBezTo>
                    <a:pt x="15" y="1167"/>
                    <a:pt x="18" y="1171"/>
                    <a:pt x="18" y="1176"/>
                  </a:cubicBezTo>
                  <a:lnTo>
                    <a:pt x="18" y="1176"/>
                  </a:lnTo>
                  <a:cubicBezTo>
                    <a:pt x="18" y="1180"/>
                    <a:pt x="15" y="1184"/>
                    <a:pt x="10" y="1184"/>
                  </a:cubicBezTo>
                  <a:cubicBezTo>
                    <a:pt x="6" y="1184"/>
                    <a:pt x="2" y="1180"/>
                    <a:pt x="2" y="1176"/>
                  </a:cubicBezTo>
                  <a:close/>
                  <a:moveTo>
                    <a:pt x="2" y="1142"/>
                  </a:moveTo>
                  <a:lnTo>
                    <a:pt x="2" y="1142"/>
                  </a:lnTo>
                  <a:cubicBezTo>
                    <a:pt x="2" y="1138"/>
                    <a:pt x="6" y="1134"/>
                    <a:pt x="10" y="1134"/>
                  </a:cubicBezTo>
                  <a:cubicBezTo>
                    <a:pt x="15" y="1134"/>
                    <a:pt x="18" y="1138"/>
                    <a:pt x="18" y="1142"/>
                  </a:cubicBezTo>
                  <a:lnTo>
                    <a:pt x="18" y="1142"/>
                  </a:lnTo>
                  <a:cubicBezTo>
                    <a:pt x="18" y="1147"/>
                    <a:pt x="15" y="1151"/>
                    <a:pt x="10" y="1151"/>
                  </a:cubicBezTo>
                  <a:cubicBezTo>
                    <a:pt x="6" y="1151"/>
                    <a:pt x="2" y="1147"/>
                    <a:pt x="2" y="1142"/>
                  </a:cubicBezTo>
                  <a:close/>
                  <a:moveTo>
                    <a:pt x="2" y="1109"/>
                  </a:moveTo>
                  <a:lnTo>
                    <a:pt x="2" y="1109"/>
                  </a:lnTo>
                  <a:cubicBezTo>
                    <a:pt x="2" y="1104"/>
                    <a:pt x="6" y="1101"/>
                    <a:pt x="10" y="1101"/>
                  </a:cubicBezTo>
                  <a:cubicBezTo>
                    <a:pt x="15" y="1101"/>
                    <a:pt x="19" y="1104"/>
                    <a:pt x="19" y="1109"/>
                  </a:cubicBezTo>
                  <a:lnTo>
                    <a:pt x="19" y="1109"/>
                  </a:lnTo>
                  <a:cubicBezTo>
                    <a:pt x="19" y="1114"/>
                    <a:pt x="15" y="1117"/>
                    <a:pt x="10" y="1117"/>
                  </a:cubicBezTo>
                  <a:cubicBezTo>
                    <a:pt x="6" y="1117"/>
                    <a:pt x="2" y="1114"/>
                    <a:pt x="2" y="1109"/>
                  </a:cubicBezTo>
                  <a:close/>
                  <a:moveTo>
                    <a:pt x="2" y="1076"/>
                  </a:moveTo>
                  <a:lnTo>
                    <a:pt x="2" y="1076"/>
                  </a:lnTo>
                  <a:cubicBezTo>
                    <a:pt x="2" y="1071"/>
                    <a:pt x="6" y="1067"/>
                    <a:pt x="10" y="1067"/>
                  </a:cubicBezTo>
                  <a:cubicBezTo>
                    <a:pt x="15" y="1067"/>
                    <a:pt x="19" y="1071"/>
                    <a:pt x="19" y="1076"/>
                  </a:cubicBezTo>
                  <a:lnTo>
                    <a:pt x="19" y="1076"/>
                  </a:lnTo>
                  <a:cubicBezTo>
                    <a:pt x="19" y="1080"/>
                    <a:pt x="15" y="1084"/>
                    <a:pt x="10" y="1084"/>
                  </a:cubicBezTo>
                  <a:cubicBezTo>
                    <a:pt x="6" y="1084"/>
                    <a:pt x="2" y="1080"/>
                    <a:pt x="2" y="1076"/>
                  </a:cubicBezTo>
                  <a:close/>
                  <a:moveTo>
                    <a:pt x="2" y="1042"/>
                  </a:moveTo>
                  <a:lnTo>
                    <a:pt x="2" y="1042"/>
                  </a:lnTo>
                  <a:cubicBezTo>
                    <a:pt x="2" y="1038"/>
                    <a:pt x="6" y="1034"/>
                    <a:pt x="10" y="1034"/>
                  </a:cubicBezTo>
                  <a:cubicBezTo>
                    <a:pt x="15" y="1034"/>
                    <a:pt x="19" y="1038"/>
                    <a:pt x="19" y="1042"/>
                  </a:cubicBezTo>
                  <a:lnTo>
                    <a:pt x="19" y="1042"/>
                  </a:lnTo>
                  <a:cubicBezTo>
                    <a:pt x="19" y="1047"/>
                    <a:pt x="15" y="1051"/>
                    <a:pt x="10" y="1051"/>
                  </a:cubicBezTo>
                  <a:cubicBezTo>
                    <a:pt x="6" y="1051"/>
                    <a:pt x="2" y="1047"/>
                    <a:pt x="2" y="1042"/>
                  </a:cubicBezTo>
                  <a:close/>
                  <a:moveTo>
                    <a:pt x="2" y="1009"/>
                  </a:moveTo>
                  <a:lnTo>
                    <a:pt x="2" y="1009"/>
                  </a:lnTo>
                  <a:cubicBezTo>
                    <a:pt x="2" y="1004"/>
                    <a:pt x="6" y="1001"/>
                    <a:pt x="10" y="1001"/>
                  </a:cubicBezTo>
                  <a:cubicBezTo>
                    <a:pt x="15" y="1001"/>
                    <a:pt x="19" y="1004"/>
                    <a:pt x="19" y="1009"/>
                  </a:cubicBezTo>
                  <a:lnTo>
                    <a:pt x="19" y="1009"/>
                  </a:lnTo>
                  <a:cubicBezTo>
                    <a:pt x="19" y="1014"/>
                    <a:pt x="15" y="1017"/>
                    <a:pt x="10" y="1017"/>
                  </a:cubicBezTo>
                  <a:cubicBezTo>
                    <a:pt x="6" y="1017"/>
                    <a:pt x="2" y="1014"/>
                    <a:pt x="2" y="1009"/>
                  </a:cubicBezTo>
                  <a:close/>
                  <a:moveTo>
                    <a:pt x="2" y="976"/>
                  </a:moveTo>
                  <a:lnTo>
                    <a:pt x="2" y="976"/>
                  </a:lnTo>
                  <a:cubicBezTo>
                    <a:pt x="2" y="971"/>
                    <a:pt x="6" y="967"/>
                    <a:pt x="10" y="967"/>
                  </a:cubicBezTo>
                  <a:cubicBezTo>
                    <a:pt x="15" y="967"/>
                    <a:pt x="19" y="971"/>
                    <a:pt x="19" y="976"/>
                  </a:cubicBezTo>
                  <a:lnTo>
                    <a:pt x="19" y="976"/>
                  </a:lnTo>
                  <a:cubicBezTo>
                    <a:pt x="19" y="980"/>
                    <a:pt x="15" y="984"/>
                    <a:pt x="10" y="984"/>
                  </a:cubicBezTo>
                  <a:cubicBezTo>
                    <a:pt x="6" y="984"/>
                    <a:pt x="2" y="980"/>
                    <a:pt x="2" y="976"/>
                  </a:cubicBezTo>
                  <a:close/>
                  <a:moveTo>
                    <a:pt x="2" y="942"/>
                  </a:moveTo>
                  <a:lnTo>
                    <a:pt x="2" y="942"/>
                  </a:lnTo>
                  <a:cubicBezTo>
                    <a:pt x="2" y="938"/>
                    <a:pt x="6" y="934"/>
                    <a:pt x="10" y="934"/>
                  </a:cubicBezTo>
                  <a:cubicBezTo>
                    <a:pt x="15" y="934"/>
                    <a:pt x="19" y="938"/>
                    <a:pt x="19" y="942"/>
                  </a:cubicBezTo>
                  <a:lnTo>
                    <a:pt x="19" y="942"/>
                  </a:lnTo>
                  <a:cubicBezTo>
                    <a:pt x="19" y="947"/>
                    <a:pt x="15" y="951"/>
                    <a:pt x="10" y="951"/>
                  </a:cubicBezTo>
                  <a:cubicBezTo>
                    <a:pt x="6" y="951"/>
                    <a:pt x="2" y="947"/>
                    <a:pt x="2" y="942"/>
                  </a:cubicBezTo>
                  <a:close/>
                  <a:moveTo>
                    <a:pt x="2" y="909"/>
                  </a:moveTo>
                  <a:lnTo>
                    <a:pt x="2" y="909"/>
                  </a:lnTo>
                  <a:cubicBezTo>
                    <a:pt x="2" y="904"/>
                    <a:pt x="6" y="901"/>
                    <a:pt x="10" y="901"/>
                  </a:cubicBezTo>
                  <a:cubicBezTo>
                    <a:pt x="15" y="901"/>
                    <a:pt x="19" y="904"/>
                    <a:pt x="19" y="909"/>
                  </a:cubicBezTo>
                  <a:lnTo>
                    <a:pt x="19" y="909"/>
                  </a:lnTo>
                  <a:cubicBezTo>
                    <a:pt x="19" y="914"/>
                    <a:pt x="15" y="917"/>
                    <a:pt x="10" y="917"/>
                  </a:cubicBezTo>
                  <a:cubicBezTo>
                    <a:pt x="6" y="917"/>
                    <a:pt x="2" y="914"/>
                    <a:pt x="2" y="909"/>
                  </a:cubicBezTo>
                  <a:close/>
                  <a:moveTo>
                    <a:pt x="2" y="876"/>
                  </a:moveTo>
                  <a:lnTo>
                    <a:pt x="2" y="876"/>
                  </a:lnTo>
                  <a:cubicBezTo>
                    <a:pt x="2" y="871"/>
                    <a:pt x="6" y="867"/>
                    <a:pt x="11" y="867"/>
                  </a:cubicBezTo>
                  <a:cubicBezTo>
                    <a:pt x="15" y="867"/>
                    <a:pt x="19" y="871"/>
                    <a:pt x="19" y="876"/>
                  </a:cubicBezTo>
                  <a:lnTo>
                    <a:pt x="19" y="876"/>
                  </a:lnTo>
                  <a:cubicBezTo>
                    <a:pt x="19" y="880"/>
                    <a:pt x="15" y="884"/>
                    <a:pt x="11" y="884"/>
                  </a:cubicBezTo>
                  <a:cubicBezTo>
                    <a:pt x="6" y="884"/>
                    <a:pt x="2" y="880"/>
                    <a:pt x="2" y="876"/>
                  </a:cubicBezTo>
                  <a:close/>
                  <a:moveTo>
                    <a:pt x="2" y="842"/>
                  </a:moveTo>
                  <a:lnTo>
                    <a:pt x="2" y="842"/>
                  </a:lnTo>
                  <a:cubicBezTo>
                    <a:pt x="2" y="838"/>
                    <a:pt x="6" y="834"/>
                    <a:pt x="11" y="834"/>
                  </a:cubicBezTo>
                  <a:cubicBezTo>
                    <a:pt x="15" y="834"/>
                    <a:pt x="19" y="838"/>
                    <a:pt x="19" y="842"/>
                  </a:cubicBezTo>
                  <a:lnTo>
                    <a:pt x="19" y="842"/>
                  </a:lnTo>
                  <a:cubicBezTo>
                    <a:pt x="19" y="847"/>
                    <a:pt x="15" y="851"/>
                    <a:pt x="11" y="851"/>
                  </a:cubicBezTo>
                  <a:cubicBezTo>
                    <a:pt x="6" y="851"/>
                    <a:pt x="2" y="847"/>
                    <a:pt x="2" y="842"/>
                  </a:cubicBezTo>
                  <a:close/>
                  <a:moveTo>
                    <a:pt x="2" y="809"/>
                  </a:moveTo>
                  <a:lnTo>
                    <a:pt x="2" y="809"/>
                  </a:lnTo>
                  <a:cubicBezTo>
                    <a:pt x="2" y="804"/>
                    <a:pt x="6" y="801"/>
                    <a:pt x="11" y="801"/>
                  </a:cubicBezTo>
                  <a:cubicBezTo>
                    <a:pt x="15" y="801"/>
                    <a:pt x="19" y="804"/>
                    <a:pt x="19" y="809"/>
                  </a:cubicBezTo>
                  <a:lnTo>
                    <a:pt x="19" y="809"/>
                  </a:lnTo>
                  <a:cubicBezTo>
                    <a:pt x="19" y="814"/>
                    <a:pt x="15" y="817"/>
                    <a:pt x="11" y="817"/>
                  </a:cubicBezTo>
                  <a:cubicBezTo>
                    <a:pt x="6" y="817"/>
                    <a:pt x="2" y="814"/>
                    <a:pt x="2" y="809"/>
                  </a:cubicBezTo>
                  <a:close/>
                  <a:moveTo>
                    <a:pt x="2" y="776"/>
                  </a:moveTo>
                  <a:lnTo>
                    <a:pt x="2" y="776"/>
                  </a:lnTo>
                  <a:cubicBezTo>
                    <a:pt x="2" y="771"/>
                    <a:pt x="6" y="767"/>
                    <a:pt x="11" y="767"/>
                  </a:cubicBezTo>
                  <a:cubicBezTo>
                    <a:pt x="15" y="767"/>
                    <a:pt x="19" y="771"/>
                    <a:pt x="19" y="776"/>
                  </a:cubicBezTo>
                  <a:lnTo>
                    <a:pt x="19" y="776"/>
                  </a:lnTo>
                  <a:cubicBezTo>
                    <a:pt x="19" y="780"/>
                    <a:pt x="15" y="784"/>
                    <a:pt x="11" y="784"/>
                  </a:cubicBezTo>
                  <a:cubicBezTo>
                    <a:pt x="6" y="784"/>
                    <a:pt x="2" y="780"/>
                    <a:pt x="2" y="776"/>
                  </a:cubicBezTo>
                  <a:close/>
                  <a:moveTo>
                    <a:pt x="2" y="742"/>
                  </a:moveTo>
                  <a:lnTo>
                    <a:pt x="2" y="742"/>
                  </a:lnTo>
                  <a:cubicBezTo>
                    <a:pt x="2" y="738"/>
                    <a:pt x="6" y="734"/>
                    <a:pt x="11" y="734"/>
                  </a:cubicBezTo>
                  <a:cubicBezTo>
                    <a:pt x="15" y="734"/>
                    <a:pt x="19" y="738"/>
                    <a:pt x="19" y="742"/>
                  </a:cubicBezTo>
                  <a:lnTo>
                    <a:pt x="19" y="742"/>
                  </a:lnTo>
                  <a:cubicBezTo>
                    <a:pt x="19" y="747"/>
                    <a:pt x="15" y="751"/>
                    <a:pt x="11" y="751"/>
                  </a:cubicBezTo>
                  <a:cubicBezTo>
                    <a:pt x="6" y="751"/>
                    <a:pt x="2" y="747"/>
                    <a:pt x="2" y="742"/>
                  </a:cubicBezTo>
                  <a:close/>
                  <a:moveTo>
                    <a:pt x="2" y="709"/>
                  </a:moveTo>
                  <a:lnTo>
                    <a:pt x="2" y="709"/>
                  </a:lnTo>
                  <a:cubicBezTo>
                    <a:pt x="2" y="704"/>
                    <a:pt x="6" y="701"/>
                    <a:pt x="11" y="701"/>
                  </a:cubicBezTo>
                  <a:cubicBezTo>
                    <a:pt x="15" y="701"/>
                    <a:pt x="19" y="704"/>
                    <a:pt x="19" y="709"/>
                  </a:cubicBezTo>
                  <a:lnTo>
                    <a:pt x="19" y="709"/>
                  </a:lnTo>
                  <a:cubicBezTo>
                    <a:pt x="19" y="714"/>
                    <a:pt x="15" y="717"/>
                    <a:pt x="11" y="717"/>
                  </a:cubicBezTo>
                  <a:cubicBezTo>
                    <a:pt x="6" y="717"/>
                    <a:pt x="2" y="714"/>
                    <a:pt x="2" y="709"/>
                  </a:cubicBezTo>
                  <a:close/>
                  <a:moveTo>
                    <a:pt x="2" y="676"/>
                  </a:moveTo>
                  <a:lnTo>
                    <a:pt x="2" y="676"/>
                  </a:lnTo>
                  <a:cubicBezTo>
                    <a:pt x="2" y="671"/>
                    <a:pt x="6" y="667"/>
                    <a:pt x="11" y="667"/>
                  </a:cubicBezTo>
                  <a:cubicBezTo>
                    <a:pt x="15" y="667"/>
                    <a:pt x="19" y="671"/>
                    <a:pt x="19" y="676"/>
                  </a:cubicBezTo>
                  <a:lnTo>
                    <a:pt x="19" y="676"/>
                  </a:lnTo>
                  <a:cubicBezTo>
                    <a:pt x="19" y="680"/>
                    <a:pt x="15" y="684"/>
                    <a:pt x="11" y="684"/>
                  </a:cubicBezTo>
                  <a:cubicBezTo>
                    <a:pt x="6" y="684"/>
                    <a:pt x="2" y="680"/>
                    <a:pt x="2" y="676"/>
                  </a:cubicBezTo>
                  <a:close/>
                  <a:moveTo>
                    <a:pt x="3" y="642"/>
                  </a:moveTo>
                  <a:lnTo>
                    <a:pt x="3" y="642"/>
                  </a:lnTo>
                  <a:cubicBezTo>
                    <a:pt x="3" y="638"/>
                    <a:pt x="6" y="634"/>
                    <a:pt x="11" y="634"/>
                  </a:cubicBezTo>
                  <a:cubicBezTo>
                    <a:pt x="15" y="634"/>
                    <a:pt x="19" y="638"/>
                    <a:pt x="19" y="642"/>
                  </a:cubicBezTo>
                  <a:lnTo>
                    <a:pt x="19" y="642"/>
                  </a:lnTo>
                  <a:cubicBezTo>
                    <a:pt x="19" y="647"/>
                    <a:pt x="15" y="651"/>
                    <a:pt x="11" y="651"/>
                  </a:cubicBezTo>
                  <a:cubicBezTo>
                    <a:pt x="6" y="651"/>
                    <a:pt x="3" y="647"/>
                    <a:pt x="3" y="642"/>
                  </a:cubicBezTo>
                  <a:close/>
                  <a:moveTo>
                    <a:pt x="3" y="609"/>
                  </a:moveTo>
                  <a:lnTo>
                    <a:pt x="3" y="609"/>
                  </a:lnTo>
                  <a:cubicBezTo>
                    <a:pt x="3" y="604"/>
                    <a:pt x="6" y="601"/>
                    <a:pt x="11" y="601"/>
                  </a:cubicBezTo>
                  <a:cubicBezTo>
                    <a:pt x="16" y="601"/>
                    <a:pt x="19" y="604"/>
                    <a:pt x="19" y="609"/>
                  </a:cubicBezTo>
                  <a:lnTo>
                    <a:pt x="19" y="609"/>
                  </a:lnTo>
                  <a:cubicBezTo>
                    <a:pt x="19" y="613"/>
                    <a:pt x="16" y="617"/>
                    <a:pt x="11" y="617"/>
                  </a:cubicBezTo>
                  <a:cubicBezTo>
                    <a:pt x="6" y="617"/>
                    <a:pt x="3" y="613"/>
                    <a:pt x="3" y="609"/>
                  </a:cubicBezTo>
                  <a:close/>
                  <a:moveTo>
                    <a:pt x="3" y="576"/>
                  </a:moveTo>
                  <a:lnTo>
                    <a:pt x="3" y="576"/>
                  </a:lnTo>
                  <a:cubicBezTo>
                    <a:pt x="3" y="571"/>
                    <a:pt x="6" y="567"/>
                    <a:pt x="11" y="567"/>
                  </a:cubicBezTo>
                  <a:cubicBezTo>
                    <a:pt x="16" y="567"/>
                    <a:pt x="19" y="571"/>
                    <a:pt x="19" y="576"/>
                  </a:cubicBezTo>
                  <a:lnTo>
                    <a:pt x="19" y="576"/>
                  </a:lnTo>
                  <a:cubicBezTo>
                    <a:pt x="19" y="580"/>
                    <a:pt x="16" y="584"/>
                    <a:pt x="11" y="584"/>
                  </a:cubicBezTo>
                  <a:cubicBezTo>
                    <a:pt x="6" y="584"/>
                    <a:pt x="3" y="580"/>
                    <a:pt x="3" y="576"/>
                  </a:cubicBezTo>
                  <a:close/>
                  <a:moveTo>
                    <a:pt x="3" y="542"/>
                  </a:moveTo>
                  <a:lnTo>
                    <a:pt x="3" y="542"/>
                  </a:lnTo>
                  <a:cubicBezTo>
                    <a:pt x="3" y="538"/>
                    <a:pt x="6" y="534"/>
                    <a:pt x="11" y="534"/>
                  </a:cubicBezTo>
                  <a:cubicBezTo>
                    <a:pt x="16" y="534"/>
                    <a:pt x="19" y="538"/>
                    <a:pt x="19" y="542"/>
                  </a:cubicBezTo>
                  <a:lnTo>
                    <a:pt x="19" y="542"/>
                  </a:lnTo>
                  <a:cubicBezTo>
                    <a:pt x="19" y="547"/>
                    <a:pt x="16" y="551"/>
                    <a:pt x="11" y="551"/>
                  </a:cubicBezTo>
                  <a:cubicBezTo>
                    <a:pt x="6" y="551"/>
                    <a:pt x="3" y="547"/>
                    <a:pt x="3" y="542"/>
                  </a:cubicBezTo>
                  <a:close/>
                  <a:moveTo>
                    <a:pt x="3" y="509"/>
                  </a:moveTo>
                  <a:lnTo>
                    <a:pt x="3" y="509"/>
                  </a:lnTo>
                  <a:cubicBezTo>
                    <a:pt x="3" y="504"/>
                    <a:pt x="6" y="500"/>
                    <a:pt x="11" y="500"/>
                  </a:cubicBezTo>
                  <a:cubicBezTo>
                    <a:pt x="16" y="500"/>
                    <a:pt x="19" y="504"/>
                    <a:pt x="19" y="509"/>
                  </a:cubicBezTo>
                  <a:lnTo>
                    <a:pt x="19" y="509"/>
                  </a:lnTo>
                  <a:cubicBezTo>
                    <a:pt x="19" y="513"/>
                    <a:pt x="16" y="517"/>
                    <a:pt x="11" y="517"/>
                  </a:cubicBezTo>
                  <a:cubicBezTo>
                    <a:pt x="6" y="517"/>
                    <a:pt x="3" y="513"/>
                    <a:pt x="3" y="509"/>
                  </a:cubicBezTo>
                  <a:close/>
                  <a:moveTo>
                    <a:pt x="3" y="475"/>
                  </a:moveTo>
                  <a:lnTo>
                    <a:pt x="3" y="475"/>
                  </a:lnTo>
                  <a:cubicBezTo>
                    <a:pt x="3" y="471"/>
                    <a:pt x="6" y="467"/>
                    <a:pt x="11" y="467"/>
                  </a:cubicBezTo>
                  <a:cubicBezTo>
                    <a:pt x="16" y="467"/>
                    <a:pt x="19" y="471"/>
                    <a:pt x="19" y="475"/>
                  </a:cubicBezTo>
                  <a:lnTo>
                    <a:pt x="19" y="475"/>
                  </a:lnTo>
                  <a:cubicBezTo>
                    <a:pt x="19" y="480"/>
                    <a:pt x="16" y="484"/>
                    <a:pt x="11" y="484"/>
                  </a:cubicBezTo>
                  <a:cubicBezTo>
                    <a:pt x="6" y="484"/>
                    <a:pt x="3" y="480"/>
                    <a:pt x="3" y="475"/>
                  </a:cubicBezTo>
                  <a:close/>
                  <a:moveTo>
                    <a:pt x="3" y="442"/>
                  </a:moveTo>
                  <a:lnTo>
                    <a:pt x="3" y="442"/>
                  </a:lnTo>
                  <a:cubicBezTo>
                    <a:pt x="3" y="438"/>
                    <a:pt x="7" y="434"/>
                    <a:pt x="11" y="434"/>
                  </a:cubicBezTo>
                  <a:cubicBezTo>
                    <a:pt x="16" y="434"/>
                    <a:pt x="19" y="438"/>
                    <a:pt x="19" y="442"/>
                  </a:cubicBezTo>
                  <a:lnTo>
                    <a:pt x="19" y="442"/>
                  </a:lnTo>
                  <a:cubicBezTo>
                    <a:pt x="19" y="447"/>
                    <a:pt x="16" y="450"/>
                    <a:pt x="11" y="450"/>
                  </a:cubicBezTo>
                  <a:cubicBezTo>
                    <a:pt x="7" y="450"/>
                    <a:pt x="3" y="447"/>
                    <a:pt x="3" y="442"/>
                  </a:cubicBezTo>
                  <a:close/>
                  <a:moveTo>
                    <a:pt x="3" y="409"/>
                  </a:moveTo>
                  <a:lnTo>
                    <a:pt x="3" y="409"/>
                  </a:lnTo>
                  <a:cubicBezTo>
                    <a:pt x="3" y="404"/>
                    <a:pt x="7" y="400"/>
                    <a:pt x="11" y="400"/>
                  </a:cubicBezTo>
                  <a:cubicBezTo>
                    <a:pt x="16" y="400"/>
                    <a:pt x="20" y="404"/>
                    <a:pt x="20" y="409"/>
                  </a:cubicBezTo>
                  <a:lnTo>
                    <a:pt x="20" y="409"/>
                  </a:lnTo>
                  <a:cubicBezTo>
                    <a:pt x="20" y="413"/>
                    <a:pt x="16" y="417"/>
                    <a:pt x="11" y="417"/>
                  </a:cubicBezTo>
                  <a:cubicBezTo>
                    <a:pt x="7" y="417"/>
                    <a:pt x="3" y="413"/>
                    <a:pt x="3" y="409"/>
                  </a:cubicBezTo>
                  <a:close/>
                  <a:moveTo>
                    <a:pt x="3" y="375"/>
                  </a:moveTo>
                  <a:lnTo>
                    <a:pt x="3" y="375"/>
                  </a:lnTo>
                  <a:cubicBezTo>
                    <a:pt x="3" y="371"/>
                    <a:pt x="7" y="367"/>
                    <a:pt x="11" y="367"/>
                  </a:cubicBezTo>
                  <a:cubicBezTo>
                    <a:pt x="16" y="367"/>
                    <a:pt x="20" y="371"/>
                    <a:pt x="20" y="375"/>
                  </a:cubicBezTo>
                  <a:lnTo>
                    <a:pt x="20" y="375"/>
                  </a:lnTo>
                  <a:cubicBezTo>
                    <a:pt x="20" y="380"/>
                    <a:pt x="16" y="384"/>
                    <a:pt x="11" y="384"/>
                  </a:cubicBezTo>
                  <a:cubicBezTo>
                    <a:pt x="7" y="384"/>
                    <a:pt x="3" y="380"/>
                    <a:pt x="3" y="375"/>
                  </a:cubicBezTo>
                  <a:close/>
                  <a:moveTo>
                    <a:pt x="3" y="342"/>
                  </a:moveTo>
                  <a:lnTo>
                    <a:pt x="3" y="342"/>
                  </a:lnTo>
                  <a:cubicBezTo>
                    <a:pt x="3" y="337"/>
                    <a:pt x="7" y="334"/>
                    <a:pt x="11" y="334"/>
                  </a:cubicBezTo>
                  <a:cubicBezTo>
                    <a:pt x="16" y="334"/>
                    <a:pt x="20" y="337"/>
                    <a:pt x="20" y="342"/>
                  </a:cubicBezTo>
                  <a:lnTo>
                    <a:pt x="20" y="342"/>
                  </a:lnTo>
                  <a:cubicBezTo>
                    <a:pt x="20" y="347"/>
                    <a:pt x="16" y="350"/>
                    <a:pt x="11" y="350"/>
                  </a:cubicBezTo>
                  <a:cubicBezTo>
                    <a:pt x="7" y="350"/>
                    <a:pt x="3" y="347"/>
                    <a:pt x="3" y="342"/>
                  </a:cubicBezTo>
                  <a:close/>
                  <a:moveTo>
                    <a:pt x="3" y="309"/>
                  </a:moveTo>
                  <a:lnTo>
                    <a:pt x="3" y="309"/>
                  </a:lnTo>
                  <a:cubicBezTo>
                    <a:pt x="3" y="304"/>
                    <a:pt x="7" y="300"/>
                    <a:pt x="11" y="300"/>
                  </a:cubicBezTo>
                  <a:cubicBezTo>
                    <a:pt x="16" y="300"/>
                    <a:pt x="20" y="304"/>
                    <a:pt x="20" y="309"/>
                  </a:cubicBezTo>
                  <a:lnTo>
                    <a:pt x="20" y="309"/>
                  </a:lnTo>
                  <a:cubicBezTo>
                    <a:pt x="20" y="313"/>
                    <a:pt x="16" y="317"/>
                    <a:pt x="11" y="317"/>
                  </a:cubicBezTo>
                  <a:cubicBezTo>
                    <a:pt x="7" y="317"/>
                    <a:pt x="3" y="313"/>
                    <a:pt x="3" y="309"/>
                  </a:cubicBezTo>
                  <a:close/>
                  <a:moveTo>
                    <a:pt x="3" y="275"/>
                  </a:moveTo>
                  <a:lnTo>
                    <a:pt x="3" y="275"/>
                  </a:lnTo>
                  <a:cubicBezTo>
                    <a:pt x="3" y="271"/>
                    <a:pt x="7" y="267"/>
                    <a:pt x="11" y="267"/>
                  </a:cubicBezTo>
                  <a:cubicBezTo>
                    <a:pt x="16" y="267"/>
                    <a:pt x="20" y="271"/>
                    <a:pt x="20" y="275"/>
                  </a:cubicBezTo>
                  <a:lnTo>
                    <a:pt x="20" y="275"/>
                  </a:lnTo>
                  <a:cubicBezTo>
                    <a:pt x="20" y="280"/>
                    <a:pt x="16" y="284"/>
                    <a:pt x="11" y="284"/>
                  </a:cubicBezTo>
                  <a:cubicBezTo>
                    <a:pt x="7" y="284"/>
                    <a:pt x="3" y="280"/>
                    <a:pt x="3" y="275"/>
                  </a:cubicBezTo>
                  <a:close/>
                  <a:moveTo>
                    <a:pt x="3" y="242"/>
                  </a:moveTo>
                  <a:lnTo>
                    <a:pt x="3" y="242"/>
                  </a:lnTo>
                  <a:cubicBezTo>
                    <a:pt x="3" y="237"/>
                    <a:pt x="7" y="234"/>
                    <a:pt x="11" y="234"/>
                  </a:cubicBezTo>
                  <a:cubicBezTo>
                    <a:pt x="16" y="234"/>
                    <a:pt x="20" y="237"/>
                    <a:pt x="20" y="242"/>
                  </a:cubicBezTo>
                  <a:lnTo>
                    <a:pt x="20" y="242"/>
                  </a:lnTo>
                  <a:cubicBezTo>
                    <a:pt x="20" y="247"/>
                    <a:pt x="16" y="250"/>
                    <a:pt x="11" y="250"/>
                  </a:cubicBezTo>
                  <a:cubicBezTo>
                    <a:pt x="7" y="250"/>
                    <a:pt x="3" y="247"/>
                    <a:pt x="3" y="242"/>
                  </a:cubicBezTo>
                  <a:close/>
                  <a:moveTo>
                    <a:pt x="3" y="209"/>
                  </a:moveTo>
                  <a:lnTo>
                    <a:pt x="3" y="209"/>
                  </a:lnTo>
                  <a:cubicBezTo>
                    <a:pt x="3" y="204"/>
                    <a:pt x="7" y="200"/>
                    <a:pt x="11" y="200"/>
                  </a:cubicBezTo>
                  <a:cubicBezTo>
                    <a:pt x="16" y="200"/>
                    <a:pt x="20" y="204"/>
                    <a:pt x="20" y="209"/>
                  </a:cubicBezTo>
                  <a:lnTo>
                    <a:pt x="20" y="209"/>
                  </a:lnTo>
                  <a:cubicBezTo>
                    <a:pt x="20" y="213"/>
                    <a:pt x="16" y="217"/>
                    <a:pt x="11" y="217"/>
                  </a:cubicBezTo>
                  <a:cubicBezTo>
                    <a:pt x="7" y="217"/>
                    <a:pt x="3" y="213"/>
                    <a:pt x="3" y="209"/>
                  </a:cubicBezTo>
                  <a:close/>
                  <a:moveTo>
                    <a:pt x="3" y="175"/>
                  </a:moveTo>
                  <a:lnTo>
                    <a:pt x="3" y="175"/>
                  </a:lnTo>
                  <a:cubicBezTo>
                    <a:pt x="3" y="171"/>
                    <a:pt x="7" y="167"/>
                    <a:pt x="12" y="167"/>
                  </a:cubicBezTo>
                  <a:cubicBezTo>
                    <a:pt x="16" y="167"/>
                    <a:pt x="20" y="171"/>
                    <a:pt x="20" y="175"/>
                  </a:cubicBezTo>
                  <a:lnTo>
                    <a:pt x="20" y="175"/>
                  </a:lnTo>
                  <a:cubicBezTo>
                    <a:pt x="20" y="180"/>
                    <a:pt x="16" y="184"/>
                    <a:pt x="12" y="184"/>
                  </a:cubicBezTo>
                  <a:cubicBezTo>
                    <a:pt x="7" y="184"/>
                    <a:pt x="3" y="180"/>
                    <a:pt x="3" y="175"/>
                  </a:cubicBezTo>
                  <a:close/>
                  <a:moveTo>
                    <a:pt x="3" y="142"/>
                  </a:moveTo>
                  <a:lnTo>
                    <a:pt x="3" y="142"/>
                  </a:lnTo>
                  <a:cubicBezTo>
                    <a:pt x="3" y="137"/>
                    <a:pt x="7" y="134"/>
                    <a:pt x="12" y="134"/>
                  </a:cubicBezTo>
                  <a:cubicBezTo>
                    <a:pt x="16" y="134"/>
                    <a:pt x="20" y="137"/>
                    <a:pt x="20" y="142"/>
                  </a:cubicBezTo>
                  <a:lnTo>
                    <a:pt x="20" y="142"/>
                  </a:lnTo>
                  <a:cubicBezTo>
                    <a:pt x="20" y="147"/>
                    <a:pt x="16" y="150"/>
                    <a:pt x="12" y="150"/>
                  </a:cubicBezTo>
                  <a:cubicBezTo>
                    <a:pt x="7" y="150"/>
                    <a:pt x="3" y="147"/>
                    <a:pt x="3" y="142"/>
                  </a:cubicBezTo>
                  <a:close/>
                  <a:moveTo>
                    <a:pt x="3" y="109"/>
                  </a:moveTo>
                  <a:lnTo>
                    <a:pt x="3" y="109"/>
                  </a:lnTo>
                  <a:cubicBezTo>
                    <a:pt x="3" y="104"/>
                    <a:pt x="7" y="100"/>
                    <a:pt x="12" y="100"/>
                  </a:cubicBezTo>
                  <a:cubicBezTo>
                    <a:pt x="16" y="100"/>
                    <a:pt x="20" y="104"/>
                    <a:pt x="20" y="109"/>
                  </a:cubicBezTo>
                  <a:lnTo>
                    <a:pt x="20" y="109"/>
                  </a:lnTo>
                  <a:cubicBezTo>
                    <a:pt x="20" y="113"/>
                    <a:pt x="16" y="117"/>
                    <a:pt x="12" y="117"/>
                  </a:cubicBezTo>
                  <a:cubicBezTo>
                    <a:pt x="7" y="117"/>
                    <a:pt x="3" y="113"/>
                    <a:pt x="3" y="109"/>
                  </a:cubicBezTo>
                  <a:close/>
                  <a:moveTo>
                    <a:pt x="3" y="75"/>
                  </a:moveTo>
                  <a:lnTo>
                    <a:pt x="3" y="75"/>
                  </a:lnTo>
                  <a:cubicBezTo>
                    <a:pt x="3" y="71"/>
                    <a:pt x="7" y="67"/>
                    <a:pt x="12" y="67"/>
                  </a:cubicBezTo>
                  <a:cubicBezTo>
                    <a:pt x="16" y="67"/>
                    <a:pt x="20" y="71"/>
                    <a:pt x="20" y="75"/>
                  </a:cubicBezTo>
                  <a:lnTo>
                    <a:pt x="20" y="75"/>
                  </a:lnTo>
                  <a:cubicBezTo>
                    <a:pt x="20" y="80"/>
                    <a:pt x="16" y="84"/>
                    <a:pt x="12" y="84"/>
                  </a:cubicBezTo>
                  <a:cubicBezTo>
                    <a:pt x="7" y="84"/>
                    <a:pt x="3" y="80"/>
                    <a:pt x="3" y="75"/>
                  </a:cubicBezTo>
                  <a:close/>
                  <a:moveTo>
                    <a:pt x="3" y="42"/>
                  </a:moveTo>
                  <a:lnTo>
                    <a:pt x="3" y="42"/>
                  </a:lnTo>
                  <a:cubicBezTo>
                    <a:pt x="3" y="37"/>
                    <a:pt x="7" y="34"/>
                    <a:pt x="12" y="34"/>
                  </a:cubicBezTo>
                  <a:cubicBezTo>
                    <a:pt x="16" y="34"/>
                    <a:pt x="20" y="37"/>
                    <a:pt x="20" y="42"/>
                  </a:cubicBezTo>
                  <a:lnTo>
                    <a:pt x="20" y="42"/>
                  </a:lnTo>
                  <a:cubicBezTo>
                    <a:pt x="20" y="47"/>
                    <a:pt x="16" y="50"/>
                    <a:pt x="12" y="50"/>
                  </a:cubicBezTo>
                  <a:cubicBezTo>
                    <a:pt x="7" y="50"/>
                    <a:pt x="3" y="47"/>
                    <a:pt x="3" y="42"/>
                  </a:cubicBezTo>
                  <a:close/>
                  <a:moveTo>
                    <a:pt x="3" y="9"/>
                  </a:moveTo>
                  <a:lnTo>
                    <a:pt x="3" y="9"/>
                  </a:lnTo>
                  <a:cubicBezTo>
                    <a:pt x="3" y="4"/>
                    <a:pt x="7" y="0"/>
                    <a:pt x="12" y="0"/>
                  </a:cubicBezTo>
                  <a:cubicBezTo>
                    <a:pt x="16" y="0"/>
                    <a:pt x="20" y="4"/>
                    <a:pt x="20" y="9"/>
                  </a:cubicBezTo>
                  <a:lnTo>
                    <a:pt x="20" y="9"/>
                  </a:lnTo>
                  <a:cubicBezTo>
                    <a:pt x="20" y="13"/>
                    <a:pt x="16" y="17"/>
                    <a:pt x="12" y="17"/>
                  </a:cubicBezTo>
                  <a:cubicBezTo>
                    <a:pt x="7" y="17"/>
                    <a:pt x="3" y="13"/>
                    <a:pt x="3" y="9"/>
                  </a:cubicBez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021280" y="3860640"/>
              <a:ext cx="3240" cy="454320"/>
            </a:xfrm>
            <a:custGeom>
              <a:avLst/>
              <a:gdLst/>
              <a:ahLst/>
              <a:rect l="l" t="t" r="r" b="b"/>
              <a:pathLst>
                <a:path w="20" h="2385">
                  <a:moveTo>
                    <a:pt x="0" y="2376"/>
                  </a:moveTo>
                  <a:lnTo>
                    <a:pt x="0" y="2376"/>
                  </a:lnTo>
                  <a:cubicBezTo>
                    <a:pt x="0" y="2372"/>
                    <a:pt x="4" y="2368"/>
                    <a:pt x="8" y="2368"/>
                  </a:cubicBezTo>
                  <a:cubicBezTo>
                    <a:pt x="13" y="2368"/>
                    <a:pt x="17" y="2372"/>
                    <a:pt x="17" y="2376"/>
                  </a:cubicBezTo>
                  <a:lnTo>
                    <a:pt x="17" y="2376"/>
                  </a:lnTo>
                  <a:cubicBezTo>
                    <a:pt x="17" y="2381"/>
                    <a:pt x="13" y="2385"/>
                    <a:pt x="8" y="2385"/>
                  </a:cubicBezTo>
                  <a:cubicBezTo>
                    <a:pt x="4" y="2385"/>
                    <a:pt x="0" y="2381"/>
                    <a:pt x="0" y="2376"/>
                  </a:cubicBezTo>
                  <a:close/>
                  <a:moveTo>
                    <a:pt x="0" y="2343"/>
                  </a:moveTo>
                  <a:lnTo>
                    <a:pt x="0" y="2343"/>
                  </a:lnTo>
                  <a:cubicBezTo>
                    <a:pt x="0" y="2338"/>
                    <a:pt x="4" y="2335"/>
                    <a:pt x="9" y="2335"/>
                  </a:cubicBezTo>
                  <a:cubicBezTo>
                    <a:pt x="13" y="2335"/>
                    <a:pt x="17" y="2338"/>
                    <a:pt x="17" y="2343"/>
                  </a:cubicBezTo>
                  <a:lnTo>
                    <a:pt x="17" y="2343"/>
                  </a:lnTo>
                  <a:cubicBezTo>
                    <a:pt x="17" y="2348"/>
                    <a:pt x="13" y="2351"/>
                    <a:pt x="9" y="2351"/>
                  </a:cubicBezTo>
                  <a:cubicBezTo>
                    <a:pt x="4" y="2351"/>
                    <a:pt x="0" y="2348"/>
                    <a:pt x="0" y="2343"/>
                  </a:cubicBezTo>
                  <a:close/>
                  <a:moveTo>
                    <a:pt x="0" y="2310"/>
                  </a:moveTo>
                  <a:lnTo>
                    <a:pt x="0" y="2310"/>
                  </a:lnTo>
                  <a:cubicBezTo>
                    <a:pt x="0" y="2305"/>
                    <a:pt x="4" y="2301"/>
                    <a:pt x="9" y="2301"/>
                  </a:cubicBezTo>
                  <a:cubicBezTo>
                    <a:pt x="13" y="2301"/>
                    <a:pt x="17" y="2305"/>
                    <a:pt x="17" y="2310"/>
                  </a:cubicBezTo>
                  <a:lnTo>
                    <a:pt x="17" y="2310"/>
                  </a:lnTo>
                  <a:cubicBezTo>
                    <a:pt x="17" y="2314"/>
                    <a:pt x="13" y="2318"/>
                    <a:pt x="9" y="2318"/>
                  </a:cubicBezTo>
                  <a:cubicBezTo>
                    <a:pt x="4" y="2318"/>
                    <a:pt x="0" y="2314"/>
                    <a:pt x="0" y="2310"/>
                  </a:cubicBezTo>
                  <a:close/>
                  <a:moveTo>
                    <a:pt x="0" y="2276"/>
                  </a:moveTo>
                  <a:lnTo>
                    <a:pt x="0" y="2276"/>
                  </a:lnTo>
                  <a:cubicBezTo>
                    <a:pt x="0" y="2272"/>
                    <a:pt x="4" y="2268"/>
                    <a:pt x="9" y="2268"/>
                  </a:cubicBezTo>
                  <a:cubicBezTo>
                    <a:pt x="13" y="2268"/>
                    <a:pt x="17" y="2272"/>
                    <a:pt x="17" y="2276"/>
                  </a:cubicBezTo>
                  <a:lnTo>
                    <a:pt x="17" y="2276"/>
                  </a:lnTo>
                  <a:cubicBezTo>
                    <a:pt x="17" y="2281"/>
                    <a:pt x="13" y="2285"/>
                    <a:pt x="9" y="2285"/>
                  </a:cubicBezTo>
                  <a:cubicBezTo>
                    <a:pt x="4" y="2285"/>
                    <a:pt x="0" y="2281"/>
                    <a:pt x="0" y="2276"/>
                  </a:cubicBezTo>
                  <a:close/>
                  <a:moveTo>
                    <a:pt x="0" y="2243"/>
                  </a:moveTo>
                  <a:lnTo>
                    <a:pt x="0" y="2243"/>
                  </a:lnTo>
                  <a:cubicBezTo>
                    <a:pt x="0" y="2238"/>
                    <a:pt x="4" y="2235"/>
                    <a:pt x="9" y="2235"/>
                  </a:cubicBezTo>
                  <a:cubicBezTo>
                    <a:pt x="13" y="2235"/>
                    <a:pt x="17" y="2238"/>
                    <a:pt x="17" y="2243"/>
                  </a:cubicBezTo>
                  <a:lnTo>
                    <a:pt x="17" y="2243"/>
                  </a:lnTo>
                  <a:cubicBezTo>
                    <a:pt x="17" y="2248"/>
                    <a:pt x="13" y="2251"/>
                    <a:pt x="9" y="2251"/>
                  </a:cubicBezTo>
                  <a:cubicBezTo>
                    <a:pt x="4" y="2251"/>
                    <a:pt x="0" y="2248"/>
                    <a:pt x="0" y="2243"/>
                  </a:cubicBezTo>
                  <a:close/>
                  <a:moveTo>
                    <a:pt x="0" y="2210"/>
                  </a:moveTo>
                  <a:lnTo>
                    <a:pt x="0" y="2210"/>
                  </a:lnTo>
                  <a:cubicBezTo>
                    <a:pt x="0" y="2205"/>
                    <a:pt x="4" y="2201"/>
                    <a:pt x="9" y="2201"/>
                  </a:cubicBezTo>
                  <a:cubicBezTo>
                    <a:pt x="13" y="2201"/>
                    <a:pt x="17" y="2205"/>
                    <a:pt x="17" y="2210"/>
                  </a:cubicBezTo>
                  <a:lnTo>
                    <a:pt x="17" y="2210"/>
                  </a:lnTo>
                  <a:cubicBezTo>
                    <a:pt x="17" y="2214"/>
                    <a:pt x="13" y="2218"/>
                    <a:pt x="9" y="2218"/>
                  </a:cubicBezTo>
                  <a:cubicBezTo>
                    <a:pt x="4" y="2218"/>
                    <a:pt x="0" y="2214"/>
                    <a:pt x="0" y="2210"/>
                  </a:cubicBezTo>
                  <a:close/>
                  <a:moveTo>
                    <a:pt x="0" y="2176"/>
                  </a:moveTo>
                  <a:lnTo>
                    <a:pt x="0" y="2176"/>
                  </a:lnTo>
                  <a:cubicBezTo>
                    <a:pt x="0" y="2172"/>
                    <a:pt x="4" y="2168"/>
                    <a:pt x="9" y="2168"/>
                  </a:cubicBezTo>
                  <a:cubicBezTo>
                    <a:pt x="13" y="2168"/>
                    <a:pt x="17" y="2172"/>
                    <a:pt x="17" y="2176"/>
                  </a:cubicBezTo>
                  <a:lnTo>
                    <a:pt x="17" y="2176"/>
                  </a:lnTo>
                  <a:cubicBezTo>
                    <a:pt x="17" y="2181"/>
                    <a:pt x="13" y="2185"/>
                    <a:pt x="9" y="2185"/>
                  </a:cubicBezTo>
                  <a:cubicBezTo>
                    <a:pt x="4" y="2185"/>
                    <a:pt x="0" y="2181"/>
                    <a:pt x="0" y="2176"/>
                  </a:cubicBezTo>
                  <a:close/>
                  <a:moveTo>
                    <a:pt x="0" y="2143"/>
                  </a:moveTo>
                  <a:lnTo>
                    <a:pt x="0" y="2143"/>
                  </a:lnTo>
                  <a:cubicBezTo>
                    <a:pt x="0" y="2138"/>
                    <a:pt x="4" y="2135"/>
                    <a:pt x="9" y="2135"/>
                  </a:cubicBezTo>
                  <a:cubicBezTo>
                    <a:pt x="13" y="2135"/>
                    <a:pt x="17" y="2138"/>
                    <a:pt x="17" y="2143"/>
                  </a:cubicBezTo>
                  <a:lnTo>
                    <a:pt x="17" y="2143"/>
                  </a:lnTo>
                  <a:cubicBezTo>
                    <a:pt x="17" y="2148"/>
                    <a:pt x="13" y="2151"/>
                    <a:pt x="9" y="2151"/>
                  </a:cubicBezTo>
                  <a:cubicBezTo>
                    <a:pt x="4" y="2151"/>
                    <a:pt x="0" y="2148"/>
                    <a:pt x="0" y="2143"/>
                  </a:cubicBezTo>
                  <a:close/>
                  <a:moveTo>
                    <a:pt x="0" y="2110"/>
                  </a:moveTo>
                  <a:lnTo>
                    <a:pt x="0" y="2110"/>
                  </a:lnTo>
                  <a:cubicBezTo>
                    <a:pt x="0" y="2105"/>
                    <a:pt x="4" y="2101"/>
                    <a:pt x="9" y="2101"/>
                  </a:cubicBezTo>
                  <a:cubicBezTo>
                    <a:pt x="13" y="2101"/>
                    <a:pt x="17" y="2105"/>
                    <a:pt x="17" y="2110"/>
                  </a:cubicBezTo>
                  <a:lnTo>
                    <a:pt x="17" y="2110"/>
                  </a:lnTo>
                  <a:cubicBezTo>
                    <a:pt x="17" y="2114"/>
                    <a:pt x="13" y="2118"/>
                    <a:pt x="9" y="2118"/>
                  </a:cubicBezTo>
                  <a:cubicBezTo>
                    <a:pt x="4" y="2118"/>
                    <a:pt x="0" y="2114"/>
                    <a:pt x="0" y="2110"/>
                  </a:cubicBezTo>
                  <a:close/>
                  <a:moveTo>
                    <a:pt x="1" y="2076"/>
                  </a:moveTo>
                  <a:lnTo>
                    <a:pt x="1" y="2076"/>
                  </a:lnTo>
                  <a:cubicBezTo>
                    <a:pt x="1" y="2072"/>
                    <a:pt x="4" y="2068"/>
                    <a:pt x="9" y="2068"/>
                  </a:cubicBezTo>
                  <a:cubicBezTo>
                    <a:pt x="13" y="2068"/>
                    <a:pt x="17" y="2072"/>
                    <a:pt x="17" y="2076"/>
                  </a:cubicBezTo>
                  <a:lnTo>
                    <a:pt x="17" y="2076"/>
                  </a:lnTo>
                  <a:cubicBezTo>
                    <a:pt x="17" y="2081"/>
                    <a:pt x="13" y="2085"/>
                    <a:pt x="9" y="2085"/>
                  </a:cubicBezTo>
                  <a:cubicBezTo>
                    <a:pt x="4" y="2085"/>
                    <a:pt x="1" y="2081"/>
                    <a:pt x="1" y="2076"/>
                  </a:cubicBezTo>
                  <a:close/>
                  <a:moveTo>
                    <a:pt x="1" y="2043"/>
                  </a:moveTo>
                  <a:lnTo>
                    <a:pt x="1" y="2043"/>
                  </a:lnTo>
                  <a:cubicBezTo>
                    <a:pt x="1" y="2038"/>
                    <a:pt x="4" y="2035"/>
                    <a:pt x="9" y="2035"/>
                  </a:cubicBezTo>
                  <a:cubicBezTo>
                    <a:pt x="14" y="2035"/>
                    <a:pt x="17" y="2038"/>
                    <a:pt x="17" y="2043"/>
                  </a:cubicBezTo>
                  <a:lnTo>
                    <a:pt x="17" y="2043"/>
                  </a:lnTo>
                  <a:cubicBezTo>
                    <a:pt x="17" y="2048"/>
                    <a:pt x="14" y="2051"/>
                    <a:pt x="9" y="2051"/>
                  </a:cubicBezTo>
                  <a:cubicBezTo>
                    <a:pt x="4" y="2051"/>
                    <a:pt x="1" y="2048"/>
                    <a:pt x="1" y="2043"/>
                  </a:cubicBezTo>
                  <a:close/>
                  <a:moveTo>
                    <a:pt x="1" y="2010"/>
                  </a:moveTo>
                  <a:lnTo>
                    <a:pt x="1" y="2010"/>
                  </a:lnTo>
                  <a:cubicBezTo>
                    <a:pt x="1" y="2005"/>
                    <a:pt x="4" y="2001"/>
                    <a:pt x="9" y="2001"/>
                  </a:cubicBezTo>
                  <a:cubicBezTo>
                    <a:pt x="14" y="2001"/>
                    <a:pt x="17" y="2005"/>
                    <a:pt x="17" y="2010"/>
                  </a:cubicBezTo>
                  <a:lnTo>
                    <a:pt x="17" y="2010"/>
                  </a:lnTo>
                  <a:cubicBezTo>
                    <a:pt x="17" y="2014"/>
                    <a:pt x="14" y="2018"/>
                    <a:pt x="9" y="2018"/>
                  </a:cubicBezTo>
                  <a:cubicBezTo>
                    <a:pt x="4" y="2018"/>
                    <a:pt x="1" y="2014"/>
                    <a:pt x="1" y="2010"/>
                  </a:cubicBezTo>
                  <a:close/>
                  <a:moveTo>
                    <a:pt x="1" y="1976"/>
                  </a:moveTo>
                  <a:lnTo>
                    <a:pt x="1" y="1976"/>
                  </a:lnTo>
                  <a:cubicBezTo>
                    <a:pt x="1" y="1972"/>
                    <a:pt x="4" y="1968"/>
                    <a:pt x="9" y="1968"/>
                  </a:cubicBezTo>
                  <a:cubicBezTo>
                    <a:pt x="14" y="1968"/>
                    <a:pt x="17" y="1972"/>
                    <a:pt x="17" y="1976"/>
                  </a:cubicBezTo>
                  <a:lnTo>
                    <a:pt x="17" y="1976"/>
                  </a:lnTo>
                  <a:cubicBezTo>
                    <a:pt x="17" y="1981"/>
                    <a:pt x="14" y="1985"/>
                    <a:pt x="9" y="1985"/>
                  </a:cubicBezTo>
                  <a:cubicBezTo>
                    <a:pt x="4" y="1985"/>
                    <a:pt x="1" y="1981"/>
                    <a:pt x="1" y="1976"/>
                  </a:cubicBezTo>
                  <a:close/>
                  <a:moveTo>
                    <a:pt x="1" y="1943"/>
                  </a:moveTo>
                  <a:lnTo>
                    <a:pt x="1" y="1943"/>
                  </a:lnTo>
                  <a:cubicBezTo>
                    <a:pt x="1" y="1938"/>
                    <a:pt x="4" y="1935"/>
                    <a:pt x="9" y="1935"/>
                  </a:cubicBezTo>
                  <a:cubicBezTo>
                    <a:pt x="14" y="1935"/>
                    <a:pt x="17" y="1938"/>
                    <a:pt x="17" y="1943"/>
                  </a:cubicBezTo>
                  <a:lnTo>
                    <a:pt x="17" y="1943"/>
                  </a:lnTo>
                  <a:cubicBezTo>
                    <a:pt x="17" y="1948"/>
                    <a:pt x="14" y="1951"/>
                    <a:pt x="9" y="1951"/>
                  </a:cubicBezTo>
                  <a:cubicBezTo>
                    <a:pt x="4" y="1951"/>
                    <a:pt x="1" y="1948"/>
                    <a:pt x="1" y="1943"/>
                  </a:cubicBezTo>
                  <a:close/>
                  <a:moveTo>
                    <a:pt x="1" y="1910"/>
                  </a:moveTo>
                  <a:lnTo>
                    <a:pt x="1" y="1910"/>
                  </a:lnTo>
                  <a:cubicBezTo>
                    <a:pt x="1" y="1905"/>
                    <a:pt x="4" y="1901"/>
                    <a:pt x="9" y="1901"/>
                  </a:cubicBezTo>
                  <a:cubicBezTo>
                    <a:pt x="14" y="1901"/>
                    <a:pt x="17" y="1905"/>
                    <a:pt x="17" y="1910"/>
                  </a:cubicBezTo>
                  <a:lnTo>
                    <a:pt x="17" y="1910"/>
                  </a:lnTo>
                  <a:cubicBezTo>
                    <a:pt x="17" y="1914"/>
                    <a:pt x="14" y="1918"/>
                    <a:pt x="9" y="1918"/>
                  </a:cubicBezTo>
                  <a:cubicBezTo>
                    <a:pt x="4" y="1918"/>
                    <a:pt x="1" y="1914"/>
                    <a:pt x="1" y="1910"/>
                  </a:cubicBezTo>
                  <a:close/>
                  <a:moveTo>
                    <a:pt x="1" y="1876"/>
                  </a:moveTo>
                  <a:lnTo>
                    <a:pt x="1" y="1876"/>
                  </a:lnTo>
                  <a:cubicBezTo>
                    <a:pt x="1" y="1872"/>
                    <a:pt x="5" y="1868"/>
                    <a:pt x="9" y="1868"/>
                  </a:cubicBezTo>
                  <a:cubicBezTo>
                    <a:pt x="14" y="1868"/>
                    <a:pt x="17" y="1872"/>
                    <a:pt x="17" y="1876"/>
                  </a:cubicBezTo>
                  <a:lnTo>
                    <a:pt x="17" y="1876"/>
                  </a:lnTo>
                  <a:cubicBezTo>
                    <a:pt x="17" y="1881"/>
                    <a:pt x="14" y="1885"/>
                    <a:pt x="9" y="1885"/>
                  </a:cubicBezTo>
                  <a:cubicBezTo>
                    <a:pt x="5" y="1885"/>
                    <a:pt x="1" y="1881"/>
                    <a:pt x="1" y="1876"/>
                  </a:cubicBezTo>
                  <a:close/>
                  <a:moveTo>
                    <a:pt x="1" y="1843"/>
                  </a:moveTo>
                  <a:lnTo>
                    <a:pt x="1" y="1843"/>
                  </a:lnTo>
                  <a:cubicBezTo>
                    <a:pt x="1" y="1838"/>
                    <a:pt x="5" y="1834"/>
                    <a:pt x="9" y="1834"/>
                  </a:cubicBezTo>
                  <a:cubicBezTo>
                    <a:pt x="14" y="1834"/>
                    <a:pt x="18" y="1838"/>
                    <a:pt x="18" y="1843"/>
                  </a:cubicBezTo>
                  <a:lnTo>
                    <a:pt x="18" y="1843"/>
                  </a:lnTo>
                  <a:cubicBezTo>
                    <a:pt x="18" y="1847"/>
                    <a:pt x="14" y="1851"/>
                    <a:pt x="9" y="1851"/>
                  </a:cubicBezTo>
                  <a:cubicBezTo>
                    <a:pt x="5" y="1851"/>
                    <a:pt x="1" y="1847"/>
                    <a:pt x="1" y="1843"/>
                  </a:cubicBezTo>
                  <a:close/>
                  <a:moveTo>
                    <a:pt x="1" y="1809"/>
                  </a:moveTo>
                  <a:lnTo>
                    <a:pt x="1" y="1809"/>
                  </a:lnTo>
                  <a:cubicBezTo>
                    <a:pt x="1" y="1805"/>
                    <a:pt x="5" y="1801"/>
                    <a:pt x="9" y="1801"/>
                  </a:cubicBezTo>
                  <a:cubicBezTo>
                    <a:pt x="14" y="1801"/>
                    <a:pt x="18" y="1805"/>
                    <a:pt x="18" y="1809"/>
                  </a:cubicBezTo>
                  <a:lnTo>
                    <a:pt x="18" y="1809"/>
                  </a:lnTo>
                  <a:cubicBezTo>
                    <a:pt x="18" y="1814"/>
                    <a:pt x="14" y="1818"/>
                    <a:pt x="9" y="1818"/>
                  </a:cubicBezTo>
                  <a:cubicBezTo>
                    <a:pt x="5" y="1818"/>
                    <a:pt x="1" y="1814"/>
                    <a:pt x="1" y="1809"/>
                  </a:cubicBezTo>
                  <a:close/>
                  <a:moveTo>
                    <a:pt x="1" y="1776"/>
                  </a:moveTo>
                  <a:lnTo>
                    <a:pt x="1" y="1776"/>
                  </a:lnTo>
                  <a:cubicBezTo>
                    <a:pt x="1" y="1772"/>
                    <a:pt x="5" y="1768"/>
                    <a:pt x="9" y="1768"/>
                  </a:cubicBezTo>
                  <a:cubicBezTo>
                    <a:pt x="14" y="1768"/>
                    <a:pt x="18" y="1772"/>
                    <a:pt x="18" y="1776"/>
                  </a:cubicBezTo>
                  <a:lnTo>
                    <a:pt x="18" y="1776"/>
                  </a:lnTo>
                  <a:cubicBezTo>
                    <a:pt x="18" y="1781"/>
                    <a:pt x="14" y="1784"/>
                    <a:pt x="9" y="1784"/>
                  </a:cubicBezTo>
                  <a:cubicBezTo>
                    <a:pt x="5" y="1784"/>
                    <a:pt x="1" y="1781"/>
                    <a:pt x="1" y="1776"/>
                  </a:cubicBezTo>
                  <a:close/>
                  <a:moveTo>
                    <a:pt x="1" y="1743"/>
                  </a:moveTo>
                  <a:lnTo>
                    <a:pt x="1" y="1743"/>
                  </a:lnTo>
                  <a:cubicBezTo>
                    <a:pt x="1" y="1738"/>
                    <a:pt x="5" y="1734"/>
                    <a:pt x="9" y="1734"/>
                  </a:cubicBezTo>
                  <a:cubicBezTo>
                    <a:pt x="14" y="1734"/>
                    <a:pt x="18" y="1738"/>
                    <a:pt x="18" y="1743"/>
                  </a:cubicBezTo>
                  <a:lnTo>
                    <a:pt x="18" y="1743"/>
                  </a:lnTo>
                  <a:cubicBezTo>
                    <a:pt x="18" y="1747"/>
                    <a:pt x="14" y="1751"/>
                    <a:pt x="9" y="1751"/>
                  </a:cubicBezTo>
                  <a:cubicBezTo>
                    <a:pt x="5" y="1751"/>
                    <a:pt x="1" y="1747"/>
                    <a:pt x="1" y="1743"/>
                  </a:cubicBezTo>
                  <a:close/>
                  <a:moveTo>
                    <a:pt x="1" y="1709"/>
                  </a:moveTo>
                  <a:lnTo>
                    <a:pt x="1" y="1709"/>
                  </a:lnTo>
                  <a:cubicBezTo>
                    <a:pt x="1" y="1705"/>
                    <a:pt x="5" y="1701"/>
                    <a:pt x="9" y="1701"/>
                  </a:cubicBezTo>
                  <a:cubicBezTo>
                    <a:pt x="14" y="1701"/>
                    <a:pt x="18" y="1705"/>
                    <a:pt x="18" y="1709"/>
                  </a:cubicBezTo>
                  <a:lnTo>
                    <a:pt x="18" y="1709"/>
                  </a:lnTo>
                  <a:cubicBezTo>
                    <a:pt x="18" y="1714"/>
                    <a:pt x="14" y="1718"/>
                    <a:pt x="9" y="1718"/>
                  </a:cubicBezTo>
                  <a:cubicBezTo>
                    <a:pt x="5" y="1718"/>
                    <a:pt x="1" y="1714"/>
                    <a:pt x="1" y="1709"/>
                  </a:cubicBezTo>
                  <a:close/>
                  <a:moveTo>
                    <a:pt x="1" y="1676"/>
                  </a:moveTo>
                  <a:lnTo>
                    <a:pt x="1" y="1676"/>
                  </a:lnTo>
                  <a:cubicBezTo>
                    <a:pt x="1" y="1671"/>
                    <a:pt x="5" y="1668"/>
                    <a:pt x="9" y="1668"/>
                  </a:cubicBezTo>
                  <a:cubicBezTo>
                    <a:pt x="14" y="1668"/>
                    <a:pt x="18" y="1671"/>
                    <a:pt x="18" y="1676"/>
                  </a:cubicBezTo>
                  <a:lnTo>
                    <a:pt x="18" y="1676"/>
                  </a:lnTo>
                  <a:cubicBezTo>
                    <a:pt x="18" y="1681"/>
                    <a:pt x="14" y="1684"/>
                    <a:pt x="9" y="1684"/>
                  </a:cubicBezTo>
                  <a:cubicBezTo>
                    <a:pt x="5" y="1684"/>
                    <a:pt x="1" y="1681"/>
                    <a:pt x="1" y="1676"/>
                  </a:cubicBezTo>
                  <a:close/>
                  <a:moveTo>
                    <a:pt x="1" y="1643"/>
                  </a:moveTo>
                  <a:lnTo>
                    <a:pt x="1" y="1643"/>
                  </a:lnTo>
                  <a:cubicBezTo>
                    <a:pt x="1" y="1638"/>
                    <a:pt x="5" y="1634"/>
                    <a:pt x="9" y="1634"/>
                  </a:cubicBezTo>
                  <a:cubicBezTo>
                    <a:pt x="14" y="1634"/>
                    <a:pt x="18" y="1638"/>
                    <a:pt x="18" y="1643"/>
                  </a:cubicBezTo>
                  <a:lnTo>
                    <a:pt x="18" y="1643"/>
                  </a:lnTo>
                  <a:cubicBezTo>
                    <a:pt x="18" y="1647"/>
                    <a:pt x="14" y="1651"/>
                    <a:pt x="9" y="1651"/>
                  </a:cubicBezTo>
                  <a:cubicBezTo>
                    <a:pt x="5" y="1651"/>
                    <a:pt x="1" y="1647"/>
                    <a:pt x="1" y="1643"/>
                  </a:cubicBezTo>
                  <a:close/>
                  <a:moveTo>
                    <a:pt x="1" y="1609"/>
                  </a:moveTo>
                  <a:lnTo>
                    <a:pt x="1" y="1609"/>
                  </a:lnTo>
                  <a:cubicBezTo>
                    <a:pt x="1" y="1605"/>
                    <a:pt x="5" y="1601"/>
                    <a:pt x="10" y="1601"/>
                  </a:cubicBezTo>
                  <a:cubicBezTo>
                    <a:pt x="14" y="1601"/>
                    <a:pt x="18" y="1605"/>
                    <a:pt x="18" y="1609"/>
                  </a:cubicBezTo>
                  <a:lnTo>
                    <a:pt x="18" y="1609"/>
                  </a:lnTo>
                  <a:cubicBezTo>
                    <a:pt x="18" y="1614"/>
                    <a:pt x="14" y="1618"/>
                    <a:pt x="10" y="1618"/>
                  </a:cubicBezTo>
                  <a:cubicBezTo>
                    <a:pt x="5" y="1618"/>
                    <a:pt x="1" y="1614"/>
                    <a:pt x="1" y="1609"/>
                  </a:cubicBezTo>
                  <a:close/>
                  <a:moveTo>
                    <a:pt x="1" y="1576"/>
                  </a:moveTo>
                  <a:lnTo>
                    <a:pt x="1" y="1576"/>
                  </a:lnTo>
                  <a:cubicBezTo>
                    <a:pt x="1" y="1571"/>
                    <a:pt x="5" y="1568"/>
                    <a:pt x="10" y="1568"/>
                  </a:cubicBezTo>
                  <a:cubicBezTo>
                    <a:pt x="14" y="1568"/>
                    <a:pt x="18" y="1571"/>
                    <a:pt x="18" y="1576"/>
                  </a:cubicBezTo>
                  <a:lnTo>
                    <a:pt x="18" y="1576"/>
                  </a:lnTo>
                  <a:cubicBezTo>
                    <a:pt x="18" y="1581"/>
                    <a:pt x="14" y="1584"/>
                    <a:pt x="10" y="1584"/>
                  </a:cubicBezTo>
                  <a:cubicBezTo>
                    <a:pt x="5" y="1584"/>
                    <a:pt x="1" y="1581"/>
                    <a:pt x="1" y="1576"/>
                  </a:cubicBezTo>
                  <a:close/>
                  <a:moveTo>
                    <a:pt x="1" y="1543"/>
                  </a:moveTo>
                  <a:lnTo>
                    <a:pt x="1" y="1543"/>
                  </a:lnTo>
                  <a:cubicBezTo>
                    <a:pt x="1" y="1538"/>
                    <a:pt x="5" y="1534"/>
                    <a:pt x="10" y="1534"/>
                  </a:cubicBezTo>
                  <a:cubicBezTo>
                    <a:pt x="14" y="1534"/>
                    <a:pt x="18" y="1538"/>
                    <a:pt x="18" y="1543"/>
                  </a:cubicBezTo>
                  <a:lnTo>
                    <a:pt x="18" y="1543"/>
                  </a:lnTo>
                  <a:cubicBezTo>
                    <a:pt x="18" y="1547"/>
                    <a:pt x="14" y="1551"/>
                    <a:pt x="10" y="1551"/>
                  </a:cubicBezTo>
                  <a:cubicBezTo>
                    <a:pt x="5" y="1551"/>
                    <a:pt x="1" y="1547"/>
                    <a:pt x="1" y="1543"/>
                  </a:cubicBezTo>
                  <a:close/>
                  <a:moveTo>
                    <a:pt x="1" y="1509"/>
                  </a:moveTo>
                  <a:lnTo>
                    <a:pt x="1" y="1509"/>
                  </a:lnTo>
                  <a:cubicBezTo>
                    <a:pt x="1" y="1505"/>
                    <a:pt x="5" y="1501"/>
                    <a:pt x="10" y="1501"/>
                  </a:cubicBezTo>
                  <a:cubicBezTo>
                    <a:pt x="14" y="1501"/>
                    <a:pt x="18" y="1505"/>
                    <a:pt x="18" y="1509"/>
                  </a:cubicBezTo>
                  <a:lnTo>
                    <a:pt x="18" y="1509"/>
                  </a:lnTo>
                  <a:cubicBezTo>
                    <a:pt x="18" y="1514"/>
                    <a:pt x="14" y="1518"/>
                    <a:pt x="10" y="1518"/>
                  </a:cubicBezTo>
                  <a:cubicBezTo>
                    <a:pt x="5" y="1518"/>
                    <a:pt x="1" y="1514"/>
                    <a:pt x="1" y="1509"/>
                  </a:cubicBezTo>
                  <a:close/>
                  <a:moveTo>
                    <a:pt x="1" y="1476"/>
                  </a:moveTo>
                  <a:lnTo>
                    <a:pt x="1" y="1476"/>
                  </a:lnTo>
                  <a:cubicBezTo>
                    <a:pt x="1" y="1471"/>
                    <a:pt x="5" y="1468"/>
                    <a:pt x="10" y="1468"/>
                  </a:cubicBezTo>
                  <a:cubicBezTo>
                    <a:pt x="14" y="1468"/>
                    <a:pt x="18" y="1471"/>
                    <a:pt x="18" y="1476"/>
                  </a:cubicBezTo>
                  <a:lnTo>
                    <a:pt x="18" y="1476"/>
                  </a:lnTo>
                  <a:cubicBezTo>
                    <a:pt x="18" y="1481"/>
                    <a:pt x="14" y="1484"/>
                    <a:pt x="10" y="1484"/>
                  </a:cubicBezTo>
                  <a:cubicBezTo>
                    <a:pt x="5" y="1484"/>
                    <a:pt x="1" y="1481"/>
                    <a:pt x="1" y="1476"/>
                  </a:cubicBezTo>
                  <a:close/>
                  <a:moveTo>
                    <a:pt x="1" y="1443"/>
                  </a:moveTo>
                  <a:lnTo>
                    <a:pt x="1" y="1443"/>
                  </a:lnTo>
                  <a:cubicBezTo>
                    <a:pt x="1" y="1438"/>
                    <a:pt x="5" y="1434"/>
                    <a:pt x="10" y="1434"/>
                  </a:cubicBezTo>
                  <a:cubicBezTo>
                    <a:pt x="14" y="1434"/>
                    <a:pt x="18" y="1438"/>
                    <a:pt x="18" y="1443"/>
                  </a:cubicBezTo>
                  <a:lnTo>
                    <a:pt x="18" y="1443"/>
                  </a:lnTo>
                  <a:cubicBezTo>
                    <a:pt x="18" y="1447"/>
                    <a:pt x="14" y="1451"/>
                    <a:pt x="10" y="1451"/>
                  </a:cubicBezTo>
                  <a:cubicBezTo>
                    <a:pt x="5" y="1451"/>
                    <a:pt x="1" y="1447"/>
                    <a:pt x="1" y="1443"/>
                  </a:cubicBezTo>
                  <a:close/>
                  <a:moveTo>
                    <a:pt x="1" y="1409"/>
                  </a:moveTo>
                  <a:lnTo>
                    <a:pt x="1" y="1409"/>
                  </a:lnTo>
                  <a:cubicBezTo>
                    <a:pt x="1" y="1405"/>
                    <a:pt x="5" y="1401"/>
                    <a:pt x="10" y="1401"/>
                  </a:cubicBezTo>
                  <a:cubicBezTo>
                    <a:pt x="14" y="1401"/>
                    <a:pt x="18" y="1405"/>
                    <a:pt x="18" y="1409"/>
                  </a:cubicBezTo>
                  <a:lnTo>
                    <a:pt x="18" y="1409"/>
                  </a:lnTo>
                  <a:cubicBezTo>
                    <a:pt x="18" y="1414"/>
                    <a:pt x="14" y="1418"/>
                    <a:pt x="10" y="1418"/>
                  </a:cubicBezTo>
                  <a:cubicBezTo>
                    <a:pt x="5" y="1418"/>
                    <a:pt x="1" y="1414"/>
                    <a:pt x="1" y="1409"/>
                  </a:cubicBezTo>
                  <a:close/>
                  <a:moveTo>
                    <a:pt x="2" y="1376"/>
                  </a:moveTo>
                  <a:lnTo>
                    <a:pt x="2" y="1376"/>
                  </a:lnTo>
                  <a:cubicBezTo>
                    <a:pt x="2" y="1371"/>
                    <a:pt x="5" y="1368"/>
                    <a:pt x="10" y="1368"/>
                  </a:cubicBezTo>
                  <a:cubicBezTo>
                    <a:pt x="14" y="1368"/>
                    <a:pt x="18" y="1371"/>
                    <a:pt x="18" y="1376"/>
                  </a:cubicBezTo>
                  <a:lnTo>
                    <a:pt x="18" y="1376"/>
                  </a:lnTo>
                  <a:cubicBezTo>
                    <a:pt x="18" y="1381"/>
                    <a:pt x="14" y="1384"/>
                    <a:pt x="10" y="1384"/>
                  </a:cubicBezTo>
                  <a:cubicBezTo>
                    <a:pt x="5" y="1384"/>
                    <a:pt x="2" y="1381"/>
                    <a:pt x="2" y="1376"/>
                  </a:cubicBezTo>
                  <a:close/>
                  <a:moveTo>
                    <a:pt x="2" y="1343"/>
                  </a:moveTo>
                  <a:lnTo>
                    <a:pt x="2" y="1343"/>
                  </a:lnTo>
                  <a:cubicBezTo>
                    <a:pt x="2" y="1338"/>
                    <a:pt x="5" y="1334"/>
                    <a:pt x="10" y="1334"/>
                  </a:cubicBezTo>
                  <a:cubicBezTo>
                    <a:pt x="14" y="1334"/>
                    <a:pt x="18" y="1338"/>
                    <a:pt x="18" y="1343"/>
                  </a:cubicBezTo>
                  <a:lnTo>
                    <a:pt x="18" y="1343"/>
                  </a:lnTo>
                  <a:cubicBezTo>
                    <a:pt x="18" y="1347"/>
                    <a:pt x="14" y="1351"/>
                    <a:pt x="10" y="1351"/>
                  </a:cubicBezTo>
                  <a:cubicBezTo>
                    <a:pt x="5" y="1351"/>
                    <a:pt x="2" y="1347"/>
                    <a:pt x="2" y="1343"/>
                  </a:cubicBezTo>
                  <a:close/>
                  <a:moveTo>
                    <a:pt x="2" y="1309"/>
                  </a:moveTo>
                  <a:lnTo>
                    <a:pt x="2" y="1309"/>
                  </a:lnTo>
                  <a:cubicBezTo>
                    <a:pt x="2" y="1305"/>
                    <a:pt x="5" y="1301"/>
                    <a:pt x="10" y="1301"/>
                  </a:cubicBezTo>
                  <a:cubicBezTo>
                    <a:pt x="15" y="1301"/>
                    <a:pt x="18" y="1305"/>
                    <a:pt x="18" y="1309"/>
                  </a:cubicBezTo>
                  <a:lnTo>
                    <a:pt x="18" y="1309"/>
                  </a:lnTo>
                  <a:cubicBezTo>
                    <a:pt x="18" y="1314"/>
                    <a:pt x="15" y="1318"/>
                    <a:pt x="10" y="1318"/>
                  </a:cubicBezTo>
                  <a:cubicBezTo>
                    <a:pt x="5" y="1318"/>
                    <a:pt x="2" y="1314"/>
                    <a:pt x="2" y="1309"/>
                  </a:cubicBezTo>
                  <a:close/>
                  <a:moveTo>
                    <a:pt x="2" y="1276"/>
                  </a:moveTo>
                  <a:lnTo>
                    <a:pt x="2" y="1276"/>
                  </a:lnTo>
                  <a:cubicBezTo>
                    <a:pt x="2" y="1271"/>
                    <a:pt x="5" y="1268"/>
                    <a:pt x="10" y="1268"/>
                  </a:cubicBezTo>
                  <a:cubicBezTo>
                    <a:pt x="15" y="1268"/>
                    <a:pt x="18" y="1271"/>
                    <a:pt x="18" y="1276"/>
                  </a:cubicBezTo>
                  <a:lnTo>
                    <a:pt x="18" y="1276"/>
                  </a:lnTo>
                  <a:cubicBezTo>
                    <a:pt x="18" y="1280"/>
                    <a:pt x="15" y="1284"/>
                    <a:pt x="10" y="1284"/>
                  </a:cubicBezTo>
                  <a:cubicBezTo>
                    <a:pt x="5" y="1284"/>
                    <a:pt x="2" y="1280"/>
                    <a:pt x="2" y="1276"/>
                  </a:cubicBezTo>
                  <a:close/>
                  <a:moveTo>
                    <a:pt x="2" y="1243"/>
                  </a:moveTo>
                  <a:lnTo>
                    <a:pt x="2" y="1242"/>
                  </a:lnTo>
                  <a:cubicBezTo>
                    <a:pt x="2" y="1238"/>
                    <a:pt x="5" y="1234"/>
                    <a:pt x="10" y="1234"/>
                  </a:cubicBezTo>
                  <a:cubicBezTo>
                    <a:pt x="15" y="1234"/>
                    <a:pt x="18" y="1238"/>
                    <a:pt x="18" y="1242"/>
                  </a:cubicBezTo>
                  <a:lnTo>
                    <a:pt x="18" y="1243"/>
                  </a:lnTo>
                  <a:cubicBezTo>
                    <a:pt x="18" y="1247"/>
                    <a:pt x="15" y="1251"/>
                    <a:pt x="10" y="1251"/>
                  </a:cubicBezTo>
                  <a:cubicBezTo>
                    <a:pt x="5" y="1251"/>
                    <a:pt x="2" y="1247"/>
                    <a:pt x="2" y="1243"/>
                  </a:cubicBezTo>
                  <a:close/>
                  <a:moveTo>
                    <a:pt x="2" y="1209"/>
                  </a:moveTo>
                  <a:lnTo>
                    <a:pt x="2" y="1209"/>
                  </a:lnTo>
                  <a:cubicBezTo>
                    <a:pt x="2" y="1205"/>
                    <a:pt x="5" y="1201"/>
                    <a:pt x="10" y="1201"/>
                  </a:cubicBezTo>
                  <a:cubicBezTo>
                    <a:pt x="15" y="1201"/>
                    <a:pt x="18" y="1205"/>
                    <a:pt x="18" y="1209"/>
                  </a:cubicBezTo>
                  <a:lnTo>
                    <a:pt x="18" y="1209"/>
                  </a:lnTo>
                  <a:cubicBezTo>
                    <a:pt x="18" y="1214"/>
                    <a:pt x="15" y="1217"/>
                    <a:pt x="10" y="1217"/>
                  </a:cubicBezTo>
                  <a:cubicBezTo>
                    <a:pt x="5" y="1217"/>
                    <a:pt x="2" y="1214"/>
                    <a:pt x="2" y="1209"/>
                  </a:cubicBezTo>
                  <a:close/>
                  <a:moveTo>
                    <a:pt x="2" y="1176"/>
                  </a:moveTo>
                  <a:lnTo>
                    <a:pt x="2" y="1176"/>
                  </a:lnTo>
                  <a:cubicBezTo>
                    <a:pt x="2" y="1171"/>
                    <a:pt x="6" y="1167"/>
                    <a:pt x="10" y="1167"/>
                  </a:cubicBezTo>
                  <a:cubicBezTo>
                    <a:pt x="15" y="1167"/>
                    <a:pt x="18" y="1171"/>
                    <a:pt x="18" y="1176"/>
                  </a:cubicBezTo>
                  <a:lnTo>
                    <a:pt x="18" y="1176"/>
                  </a:lnTo>
                  <a:cubicBezTo>
                    <a:pt x="18" y="1180"/>
                    <a:pt x="15" y="1184"/>
                    <a:pt x="10" y="1184"/>
                  </a:cubicBezTo>
                  <a:cubicBezTo>
                    <a:pt x="6" y="1184"/>
                    <a:pt x="2" y="1180"/>
                    <a:pt x="2" y="1176"/>
                  </a:cubicBezTo>
                  <a:close/>
                  <a:moveTo>
                    <a:pt x="2" y="1142"/>
                  </a:moveTo>
                  <a:lnTo>
                    <a:pt x="2" y="1142"/>
                  </a:lnTo>
                  <a:cubicBezTo>
                    <a:pt x="2" y="1138"/>
                    <a:pt x="6" y="1134"/>
                    <a:pt x="10" y="1134"/>
                  </a:cubicBezTo>
                  <a:cubicBezTo>
                    <a:pt x="15" y="1134"/>
                    <a:pt x="18" y="1138"/>
                    <a:pt x="18" y="1142"/>
                  </a:cubicBezTo>
                  <a:lnTo>
                    <a:pt x="18" y="1142"/>
                  </a:lnTo>
                  <a:cubicBezTo>
                    <a:pt x="18" y="1147"/>
                    <a:pt x="15" y="1151"/>
                    <a:pt x="10" y="1151"/>
                  </a:cubicBezTo>
                  <a:cubicBezTo>
                    <a:pt x="6" y="1151"/>
                    <a:pt x="2" y="1147"/>
                    <a:pt x="2" y="1142"/>
                  </a:cubicBezTo>
                  <a:close/>
                  <a:moveTo>
                    <a:pt x="2" y="1109"/>
                  </a:moveTo>
                  <a:lnTo>
                    <a:pt x="2" y="1109"/>
                  </a:lnTo>
                  <a:cubicBezTo>
                    <a:pt x="2" y="1104"/>
                    <a:pt x="6" y="1101"/>
                    <a:pt x="10" y="1101"/>
                  </a:cubicBezTo>
                  <a:cubicBezTo>
                    <a:pt x="15" y="1101"/>
                    <a:pt x="19" y="1104"/>
                    <a:pt x="19" y="1109"/>
                  </a:cubicBezTo>
                  <a:lnTo>
                    <a:pt x="19" y="1109"/>
                  </a:lnTo>
                  <a:cubicBezTo>
                    <a:pt x="19" y="1114"/>
                    <a:pt x="15" y="1117"/>
                    <a:pt x="10" y="1117"/>
                  </a:cubicBezTo>
                  <a:cubicBezTo>
                    <a:pt x="6" y="1117"/>
                    <a:pt x="2" y="1114"/>
                    <a:pt x="2" y="1109"/>
                  </a:cubicBezTo>
                  <a:close/>
                  <a:moveTo>
                    <a:pt x="2" y="1076"/>
                  </a:moveTo>
                  <a:lnTo>
                    <a:pt x="2" y="1076"/>
                  </a:lnTo>
                  <a:cubicBezTo>
                    <a:pt x="2" y="1071"/>
                    <a:pt x="6" y="1067"/>
                    <a:pt x="10" y="1067"/>
                  </a:cubicBezTo>
                  <a:cubicBezTo>
                    <a:pt x="15" y="1067"/>
                    <a:pt x="19" y="1071"/>
                    <a:pt x="19" y="1076"/>
                  </a:cubicBezTo>
                  <a:lnTo>
                    <a:pt x="19" y="1076"/>
                  </a:lnTo>
                  <a:cubicBezTo>
                    <a:pt x="19" y="1080"/>
                    <a:pt x="15" y="1084"/>
                    <a:pt x="10" y="1084"/>
                  </a:cubicBezTo>
                  <a:cubicBezTo>
                    <a:pt x="6" y="1084"/>
                    <a:pt x="2" y="1080"/>
                    <a:pt x="2" y="1076"/>
                  </a:cubicBezTo>
                  <a:close/>
                  <a:moveTo>
                    <a:pt x="2" y="1042"/>
                  </a:moveTo>
                  <a:lnTo>
                    <a:pt x="2" y="1042"/>
                  </a:lnTo>
                  <a:cubicBezTo>
                    <a:pt x="2" y="1038"/>
                    <a:pt x="6" y="1034"/>
                    <a:pt x="10" y="1034"/>
                  </a:cubicBezTo>
                  <a:cubicBezTo>
                    <a:pt x="15" y="1034"/>
                    <a:pt x="19" y="1038"/>
                    <a:pt x="19" y="1042"/>
                  </a:cubicBezTo>
                  <a:lnTo>
                    <a:pt x="19" y="1042"/>
                  </a:lnTo>
                  <a:cubicBezTo>
                    <a:pt x="19" y="1047"/>
                    <a:pt x="15" y="1051"/>
                    <a:pt x="10" y="1051"/>
                  </a:cubicBezTo>
                  <a:cubicBezTo>
                    <a:pt x="6" y="1051"/>
                    <a:pt x="2" y="1047"/>
                    <a:pt x="2" y="1042"/>
                  </a:cubicBezTo>
                  <a:close/>
                  <a:moveTo>
                    <a:pt x="2" y="1009"/>
                  </a:moveTo>
                  <a:lnTo>
                    <a:pt x="2" y="1009"/>
                  </a:lnTo>
                  <a:cubicBezTo>
                    <a:pt x="2" y="1004"/>
                    <a:pt x="6" y="1001"/>
                    <a:pt x="10" y="1001"/>
                  </a:cubicBezTo>
                  <a:cubicBezTo>
                    <a:pt x="15" y="1001"/>
                    <a:pt x="19" y="1004"/>
                    <a:pt x="19" y="1009"/>
                  </a:cubicBezTo>
                  <a:lnTo>
                    <a:pt x="19" y="1009"/>
                  </a:lnTo>
                  <a:cubicBezTo>
                    <a:pt x="19" y="1014"/>
                    <a:pt x="15" y="1017"/>
                    <a:pt x="10" y="1017"/>
                  </a:cubicBezTo>
                  <a:cubicBezTo>
                    <a:pt x="6" y="1017"/>
                    <a:pt x="2" y="1014"/>
                    <a:pt x="2" y="1009"/>
                  </a:cubicBezTo>
                  <a:close/>
                  <a:moveTo>
                    <a:pt x="2" y="976"/>
                  </a:moveTo>
                  <a:lnTo>
                    <a:pt x="2" y="976"/>
                  </a:lnTo>
                  <a:cubicBezTo>
                    <a:pt x="2" y="971"/>
                    <a:pt x="6" y="967"/>
                    <a:pt x="10" y="967"/>
                  </a:cubicBezTo>
                  <a:cubicBezTo>
                    <a:pt x="15" y="967"/>
                    <a:pt x="19" y="971"/>
                    <a:pt x="19" y="976"/>
                  </a:cubicBezTo>
                  <a:lnTo>
                    <a:pt x="19" y="976"/>
                  </a:lnTo>
                  <a:cubicBezTo>
                    <a:pt x="19" y="980"/>
                    <a:pt x="15" y="984"/>
                    <a:pt x="10" y="984"/>
                  </a:cubicBezTo>
                  <a:cubicBezTo>
                    <a:pt x="6" y="984"/>
                    <a:pt x="2" y="980"/>
                    <a:pt x="2" y="976"/>
                  </a:cubicBezTo>
                  <a:close/>
                  <a:moveTo>
                    <a:pt x="2" y="942"/>
                  </a:moveTo>
                  <a:lnTo>
                    <a:pt x="2" y="942"/>
                  </a:lnTo>
                  <a:cubicBezTo>
                    <a:pt x="2" y="938"/>
                    <a:pt x="6" y="934"/>
                    <a:pt x="10" y="934"/>
                  </a:cubicBezTo>
                  <a:cubicBezTo>
                    <a:pt x="15" y="934"/>
                    <a:pt x="19" y="938"/>
                    <a:pt x="19" y="942"/>
                  </a:cubicBezTo>
                  <a:lnTo>
                    <a:pt x="19" y="942"/>
                  </a:lnTo>
                  <a:cubicBezTo>
                    <a:pt x="19" y="947"/>
                    <a:pt x="15" y="951"/>
                    <a:pt x="10" y="951"/>
                  </a:cubicBezTo>
                  <a:cubicBezTo>
                    <a:pt x="6" y="951"/>
                    <a:pt x="2" y="947"/>
                    <a:pt x="2" y="942"/>
                  </a:cubicBezTo>
                  <a:close/>
                  <a:moveTo>
                    <a:pt x="2" y="909"/>
                  </a:moveTo>
                  <a:lnTo>
                    <a:pt x="2" y="909"/>
                  </a:lnTo>
                  <a:cubicBezTo>
                    <a:pt x="2" y="904"/>
                    <a:pt x="6" y="901"/>
                    <a:pt x="10" y="901"/>
                  </a:cubicBezTo>
                  <a:cubicBezTo>
                    <a:pt x="15" y="901"/>
                    <a:pt x="19" y="904"/>
                    <a:pt x="19" y="909"/>
                  </a:cubicBezTo>
                  <a:lnTo>
                    <a:pt x="19" y="909"/>
                  </a:lnTo>
                  <a:cubicBezTo>
                    <a:pt x="19" y="914"/>
                    <a:pt x="15" y="917"/>
                    <a:pt x="10" y="917"/>
                  </a:cubicBezTo>
                  <a:cubicBezTo>
                    <a:pt x="6" y="917"/>
                    <a:pt x="2" y="914"/>
                    <a:pt x="2" y="909"/>
                  </a:cubicBezTo>
                  <a:close/>
                  <a:moveTo>
                    <a:pt x="2" y="876"/>
                  </a:moveTo>
                  <a:lnTo>
                    <a:pt x="2" y="876"/>
                  </a:lnTo>
                  <a:cubicBezTo>
                    <a:pt x="2" y="871"/>
                    <a:pt x="6" y="867"/>
                    <a:pt x="11" y="867"/>
                  </a:cubicBezTo>
                  <a:cubicBezTo>
                    <a:pt x="15" y="867"/>
                    <a:pt x="19" y="871"/>
                    <a:pt x="19" y="876"/>
                  </a:cubicBezTo>
                  <a:lnTo>
                    <a:pt x="19" y="876"/>
                  </a:lnTo>
                  <a:cubicBezTo>
                    <a:pt x="19" y="880"/>
                    <a:pt x="15" y="884"/>
                    <a:pt x="11" y="884"/>
                  </a:cubicBezTo>
                  <a:cubicBezTo>
                    <a:pt x="6" y="884"/>
                    <a:pt x="2" y="880"/>
                    <a:pt x="2" y="876"/>
                  </a:cubicBezTo>
                  <a:close/>
                  <a:moveTo>
                    <a:pt x="2" y="842"/>
                  </a:moveTo>
                  <a:lnTo>
                    <a:pt x="2" y="842"/>
                  </a:lnTo>
                  <a:cubicBezTo>
                    <a:pt x="2" y="838"/>
                    <a:pt x="6" y="834"/>
                    <a:pt x="11" y="834"/>
                  </a:cubicBezTo>
                  <a:cubicBezTo>
                    <a:pt x="15" y="834"/>
                    <a:pt x="19" y="838"/>
                    <a:pt x="19" y="842"/>
                  </a:cubicBezTo>
                  <a:lnTo>
                    <a:pt x="19" y="842"/>
                  </a:lnTo>
                  <a:cubicBezTo>
                    <a:pt x="19" y="847"/>
                    <a:pt x="15" y="851"/>
                    <a:pt x="11" y="851"/>
                  </a:cubicBezTo>
                  <a:cubicBezTo>
                    <a:pt x="6" y="851"/>
                    <a:pt x="2" y="847"/>
                    <a:pt x="2" y="842"/>
                  </a:cubicBezTo>
                  <a:close/>
                  <a:moveTo>
                    <a:pt x="2" y="809"/>
                  </a:moveTo>
                  <a:lnTo>
                    <a:pt x="2" y="809"/>
                  </a:lnTo>
                  <a:cubicBezTo>
                    <a:pt x="2" y="804"/>
                    <a:pt x="6" y="801"/>
                    <a:pt x="11" y="801"/>
                  </a:cubicBezTo>
                  <a:cubicBezTo>
                    <a:pt x="15" y="801"/>
                    <a:pt x="19" y="804"/>
                    <a:pt x="19" y="809"/>
                  </a:cubicBezTo>
                  <a:lnTo>
                    <a:pt x="19" y="809"/>
                  </a:lnTo>
                  <a:cubicBezTo>
                    <a:pt x="19" y="814"/>
                    <a:pt x="15" y="817"/>
                    <a:pt x="11" y="817"/>
                  </a:cubicBezTo>
                  <a:cubicBezTo>
                    <a:pt x="6" y="817"/>
                    <a:pt x="2" y="814"/>
                    <a:pt x="2" y="809"/>
                  </a:cubicBezTo>
                  <a:close/>
                  <a:moveTo>
                    <a:pt x="2" y="776"/>
                  </a:moveTo>
                  <a:lnTo>
                    <a:pt x="2" y="776"/>
                  </a:lnTo>
                  <a:cubicBezTo>
                    <a:pt x="2" y="771"/>
                    <a:pt x="6" y="767"/>
                    <a:pt x="11" y="767"/>
                  </a:cubicBezTo>
                  <a:cubicBezTo>
                    <a:pt x="15" y="767"/>
                    <a:pt x="19" y="771"/>
                    <a:pt x="19" y="776"/>
                  </a:cubicBezTo>
                  <a:lnTo>
                    <a:pt x="19" y="776"/>
                  </a:lnTo>
                  <a:cubicBezTo>
                    <a:pt x="19" y="780"/>
                    <a:pt x="15" y="784"/>
                    <a:pt x="11" y="784"/>
                  </a:cubicBezTo>
                  <a:cubicBezTo>
                    <a:pt x="6" y="784"/>
                    <a:pt x="2" y="780"/>
                    <a:pt x="2" y="776"/>
                  </a:cubicBezTo>
                  <a:close/>
                  <a:moveTo>
                    <a:pt x="2" y="742"/>
                  </a:moveTo>
                  <a:lnTo>
                    <a:pt x="2" y="742"/>
                  </a:lnTo>
                  <a:cubicBezTo>
                    <a:pt x="2" y="738"/>
                    <a:pt x="6" y="734"/>
                    <a:pt x="11" y="734"/>
                  </a:cubicBezTo>
                  <a:cubicBezTo>
                    <a:pt x="15" y="734"/>
                    <a:pt x="19" y="738"/>
                    <a:pt x="19" y="742"/>
                  </a:cubicBezTo>
                  <a:lnTo>
                    <a:pt x="19" y="742"/>
                  </a:lnTo>
                  <a:cubicBezTo>
                    <a:pt x="19" y="747"/>
                    <a:pt x="15" y="751"/>
                    <a:pt x="11" y="751"/>
                  </a:cubicBezTo>
                  <a:cubicBezTo>
                    <a:pt x="6" y="751"/>
                    <a:pt x="2" y="747"/>
                    <a:pt x="2" y="742"/>
                  </a:cubicBezTo>
                  <a:close/>
                  <a:moveTo>
                    <a:pt x="2" y="709"/>
                  </a:moveTo>
                  <a:lnTo>
                    <a:pt x="2" y="709"/>
                  </a:lnTo>
                  <a:cubicBezTo>
                    <a:pt x="2" y="704"/>
                    <a:pt x="6" y="701"/>
                    <a:pt x="11" y="701"/>
                  </a:cubicBezTo>
                  <a:cubicBezTo>
                    <a:pt x="15" y="701"/>
                    <a:pt x="19" y="704"/>
                    <a:pt x="19" y="709"/>
                  </a:cubicBezTo>
                  <a:lnTo>
                    <a:pt x="19" y="709"/>
                  </a:lnTo>
                  <a:cubicBezTo>
                    <a:pt x="19" y="714"/>
                    <a:pt x="15" y="717"/>
                    <a:pt x="11" y="717"/>
                  </a:cubicBezTo>
                  <a:cubicBezTo>
                    <a:pt x="6" y="717"/>
                    <a:pt x="2" y="714"/>
                    <a:pt x="2" y="709"/>
                  </a:cubicBezTo>
                  <a:close/>
                  <a:moveTo>
                    <a:pt x="2" y="676"/>
                  </a:moveTo>
                  <a:lnTo>
                    <a:pt x="2" y="676"/>
                  </a:lnTo>
                  <a:cubicBezTo>
                    <a:pt x="2" y="671"/>
                    <a:pt x="6" y="667"/>
                    <a:pt x="11" y="667"/>
                  </a:cubicBezTo>
                  <a:cubicBezTo>
                    <a:pt x="15" y="667"/>
                    <a:pt x="19" y="671"/>
                    <a:pt x="19" y="676"/>
                  </a:cubicBezTo>
                  <a:lnTo>
                    <a:pt x="19" y="676"/>
                  </a:lnTo>
                  <a:cubicBezTo>
                    <a:pt x="19" y="680"/>
                    <a:pt x="15" y="684"/>
                    <a:pt x="11" y="684"/>
                  </a:cubicBezTo>
                  <a:cubicBezTo>
                    <a:pt x="6" y="684"/>
                    <a:pt x="2" y="680"/>
                    <a:pt x="2" y="676"/>
                  </a:cubicBezTo>
                  <a:close/>
                  <a:moveTo>
                    <a:pt x="3" y="642"/>
                  </a:moveTo>
                  <a:lnTo>
                    <a:pt x="3" y="642"/>
                  </a:lnTo>
                  <a:cubicBezTo>
                    <a:pt x="3" y="638"/>
                    <a:pt x="6" y="634"/>
                    <a:pt x="11" y="634"/>
                  </a:cubicBezTo>
                  <a:cubicBezTo>
                    <a:pt x="15" y="634"/>
                    <a:pt x="19" y="638"/>
                    <a:pt x="19" y="642"/>
                  </a:cubicBezTo>
                  <a:lnTo>
                    <a:pt x="19" y="642"/>
                  </a:lnTo>
                  <a:cubicBezTo>
                    <a:pt x="19" y="647"/>
                    <a:pt x="15" y="651"/>
                    <a:pt x="11" y="651"/>
                  </a:cubicBezTo>
                  <a:cubicBezTo>
                    <a:pt x="6" y="651"/>
                    <a:pt x="3" y="647"/>
                    <a:pt x="3" y="642"/>
                  </a:cubicBezTo>
                  <a:close/>
                  <a:moveTo>
                    <a:pt x="3" y="609"/>
                  </a:moveTo>
                  <a:lnTo>
                    <a:pt x="3" y="609"/>
                  </a:lnTo>
                  <a:cubicBezTo>
                    <a:pt x="3" y="604"/>
                    <a:pt x="6" y="601"/>
                    <a:pt x="11" y="601"/>
                  </a:cubicBezTo>
                  <a:cubicBezTo>
                    <a:pt x="16" y="601"/>
                    <a:pt x="19" y="604"/>
                    <a:pt x="19" y="609"/>
                  </a:cubicBezTo>
                  <a:lnTo>
                    <a:pt x="19" y="609"/>
                  </a:lnTo>
                  <a:cubicBezTo>
                    <a:pt x="19" y="613"/>
                    <a:pt x="16" y="617"/>
                    <a:pt x="11" y="617"/>
                  </a:cubicBezTo>
                  <a:cubicBezTo>
                    <a:pt x="6" y="617"/>
                    <a:pt x="3" y="613"/>
                    <a:pt x="3" y="609"/>
                  </a:cubicBezTo>
                  <a:close/>
                  <a:moveTo>
                    <a:pt x="3" y="576"/>
                  </a:moveTo>
                  <a:lnTo>
                    <a:pt x="3" y="576"/>
                  </a:lnTo>
                  <a:cubicBezTo>
                    <a:pt x="3" y="571"/>
                    <a:pt x="6" y="567"/>
                    <a:pt x="11" y="567"/>
                  </a:cubicBezTo>
                  <a:cubicBezTo>
                    <a:pt x="16" y="567"/>
                    <a:pt x="19" y="571"/>
                    <a:pt x="19" y="576"/>
                  </a:cubicBezTo>
                  <a:lnTo>
                    <a:pt x="19" y="576"/>
                  </a:lnTo>
                  <a:cubicBezTo>
                    <a:pt x="19" y="580"/>
                    <a:pt x="16" y="584"/>
                    <a:pt x="11" y="584"/>
                  </a:cubicBezTo>
                  <a:cubicBezTo>
                    <a:pt x="6" y="584"/>
                    <a:pt x="3" y="580"/>
                    <a:pt x="3" y="576"/>
                  </a:cubicBezTo>
                  <a:close/>
                  <a:moveTo>
                    <a:pt x="3" y="542"/>
                  </a:moveTo>
                  <a:lnTo>
                    <a:pt x="3" y="542"/>
                  </a:lnTo>
                  <a:cubicBezTo>
                    <a:pt x="3" y="538"/>
                    <a:pt x="6" y="534"/>
                    <a:pt x="11" y="534"/>
                  </a:cubicBezTo>
                  <a:cubicBezTo>
                    <a:pt x="16" y="534"/>
                    <a:pt x="19" y="538"/>
                    <a:pt x="19" y="542"/>
                  </a:cubicBezTo>
                  <a:lnTo>
                    <a:pt x="19" y="542"/>
                  </a:lnTo>
                  <a:cubicBezTo>
                    <a:pt x="19" y="547"/>
                    <a:pt x="16" y="551"/>
                    <a:pt x="11" y="551"/>
                  </a:cubicBezTo>
                  <a:cubicBezTo>
                    <a:pt x="6" y="551"/>
                    <a:pt x="3" y="547"/>
                    <a:pt x="3" y="542"/>
                  </a:cubicBezTo>
                  <a:close/>
                  <a:moveTo>
                    <a:pt x="3" y="509"/>
                  </a:moveTo>
                  <a:lnTo>
                    <a:pt x="3" y="509"/>
                  </a:lnTo>
                  <a:cubicBezTo>
                    <a:pt x="3" y="504"/>
                    <a:pt x="6" y="500"/>
                    <a:pt x="11" y="500"/>
                  </a:cubicBezTo>
                  <a:cubicBezTo>
                    <a:pt x="16" y="500"/>
                    <a:pt x="19" y="504"/>
                    <a:pt x="19" y="509"/>
                  </a:cubicBezTo>
                  <a:lnTo>
                    <a:pt x="19" y="509"/>
                  </a:lnTo>
                  <a:cubicBezTo>
                    <a:pt x="19" y="513"/>
                    <a:pt x="16" y="517"/>
                    <a:pt x="11" y="517"/>
                  </a:cubicBezTo>
                  <a:cubicBezTo>
                    <a:pt x="6" y="517"/>
                    <a:pt x="3" y="513"/>
                    <a:pt x="3" y="509"/>
                  </a:cubicBezTo>
                  <a:close/>
                  <a:moveTo>
                    <a:pt x="3" y="475"/>
                  </a:moveTo>
                  <a:lnTo>
                    <a:pt x="3" y="475"/>
                  </a:lnTo>
                  <a:cubicBezTo>
                    <a:pt x="3" y="471"/>
                    <a:pt x="6" y="467"/>
                    <a:pt x="11" y="467"/>
                  </a:cubicBezTo>
                  <a:cubicBezTo>
                    <a:pt x="16" y="467"/>
                    <a:pt x="19" y="471"/>
                    <a:pt x="19" y="475"/>
                  </a:cubicBezTo>
                  <a:lnTo>
                    <a:pt x="19" y="475"/>
                  </a:lnTo>
                  <a:cubicBezTo>
                    <a:pt x="19" y="480"/>
                    <a:pt x="16" y="484"/>
                    <a:pt x="11" y="484"/>
                  </a:cubicBezTo>
                  <a:cubicBezTo>
                    <a:pt x="6" y="484"/>
                    <a:pt x="3" y="480"/>
                    <a:pt x="3" y="475"/>
                  </a:cubicBezTo>
                  <a:close/>
                  <a:moveTo>
                    <a:pt x="3" y="442"/>
                  </a:moveTo>
                  <a:lnTo>
                    <a:pt x="3" y="442"/>
                  </a:lnTo>
                  <a:cubicBezTo>
                    <a:pt x="3" y="438"/>
                    <a:pt x="7" y="434"/>
                    <a:pt x="11" y="434"/>
                  </a:cubicBezTo>
                  <a:cubicBezTo>
                    <a:pt x="16" y="434"/>
                    <a:pt x="19" y="438"/>
                    <a:pt x="19" y="442"/>
                  </a:cubicBezTo>
                  <a:lnTo>
                    <a:pt x="19" y="442"/>
                  </a:lnTo>
                  <a:cubicBezTo>
                    <a:pt x="19" y="447"/>
                    <a:pt x="16" y="450"/>
                    <a:pt x="11" y="450"/>
                  </a:cubicBezTo>
                  <a:cubicBezTo>
                    <a:pt x="7" y="450"/>
                    <a:pt x="3" y="447"/>
                    <a:pt x="3" y="442"/>
                  </a:cubicBezTo>
                  <a:close/>
                  <a:moveTo>
                    <a:pt x="3" y="409"/>
                  </a:moveTo>
                  <a:lnTo>
                    <a:pt x="3" y="409"/>
                  </a:lnTo>
                  <a:cubicBezTo>
                    <a:pt x="3" y="404"/>
                    <a:pt x="7" y="400"/>
                    <a:pt x="11" y="400"/>
                  </a:cubicBezTo>
                  <a:cubicBezTo>
                    <a:pt x="16" y="400"/>
                    <a:pt x="20" y="404"/>
                    <a:pt x="20" y="409"/>
                  </a:cubicBezTo>
                  <a:lnTo>
                    <a:pt x="20" y="409"/>
                  </a:lnTo>
                  <a:cubicBezTo>
                    <a:pt x="20" y="413"/>
                    <a:pt x="16" y="417"/>
                    <a:pt x="11" y="417"/>
                  </a:cubicBezTo>
                  <a:cubicBezTo>
                    <a:pt x="7" y="417"/>
                    <a:pt x="3" y="413"/>
                    <a:pt x="3" y="409"/>
                  </a:cubicBezTo>
                  <a:close/>
                  <a:moveTo>
                    <a:pt x="3" y="375"/>
                  </a:moveTo>
                  <a:lnTo>
                    <a:pt x="3" y="375"/>
                  </a:lnTo>
                  <a:cubicBezTo>
                    <a:pt x="3" y="371"/>
                    <a:pt x="7" y="367"/>
                    <a:pt x="11" y="367"/>
                  </a:cubicBezTo>
                  <a:cubicBezTo>
                    <a:pt x="16" y="367"/>
                    <a:pt x="20" y="371"/>
                    <a:pt x="20" y="375"/>
                  </a:cubicBezTo>
                  <a:lnTo>
                    <a:pt x="20" y="375"/>
                  </a:lnTo>
                  <a:cubicBezTo>
                    <a:pt x="20" y="380"/>
                    <a:pt x="16" y="384"/>
                    <a:pt x="11" y="384"/>
                  </a:cubicBezTo>
                  <a:cubicBezTo>
                    <a:pt x="7" y="384"/>
                    <a:pt x="3" y="380"/>
                    <a:pt x="3" y="375"/>
                  </a:cubicBezTo>
                  <a:close/>
                  <a:moveTo>
                    <a:pt x="3" y="342"/>
                  </a:moveTo>
                  <a:lnTo>
                    <a:pt x="3" y="342"/>
                  </a:lnTo>
                  <a:cubicBezTo>
                    <a:pt x="3" y="337"/>
                    <a:pt x="7" y="334"/>
                    <a:pt x="11" y="334"/>
                  </a:cubicBezTo>
                  <a:cubicBezTo>
                    <a:pt x="16" y="334"/>
                    <a:pt x="20" y="337"/>
                    <a:pt x="20" y="342"/>
                  </a:cubicBezTo>
                  <a:lnTo>
                    <a:pt x="20" y="342"/>
                  </a:lnTo>
                  <a:cubicBezTo>
                    <a:pt x="20" y="347"/>
                    <a:pt x="16" y="350"/>
                    <a:pt x="11" y="350"/>
                  </a:cubicBezTo>
                  <a:cubicBezTo>
                    <a:pt x="7" y="350"/>
                    <a:pt x="3" y="347"/>
                    <a:pt x="3" y="342"/>
                  </a:cubicBezTo>
                  <a:close/>
                  <a:moveTo>
                    <a:pt x="3" y="309"/>
                  </a:moveTo>
                  <a:lnTo>
                    <a:pt x="3" y="309"/>
                  </a:lnTo>
                  <a:cubicBezTo>
                    <a:pt x="3" y="304"/>
                    <a:pt x="7" y="300"/>
                    <a:pt x="11" y="300"/>
                  </a:cubicBezTo>
                  <a:cubicBezTo>
                    <a:pt x="16" y="300"/>
                    <a:pt x="20" y="304"/>
                    <a:pt x="20" y="309"/>
                  </a:cubicBezTo>
                  <a:lnTo>
                    <a:pt x="20" y="309"/>
                  </a:lnTo>
                  <a:cubicBezTo>
                    <a:pt x="20" y="313"/>
                    <a:pt x="16" y="317"/>
                    <a:pt x="11" y="317"/>
                  </a:cubicBezTo>
                  <a:cubicBezTo>
                    <a:pt x="7" y="317"/>
                    <a:pt x="3" y="313"/>
                    <a:pt x="3" y="309"/>
                  </a:cubicBezTo>
                  <a:close/>
                  <a:moveTo>
                    <a:pt x="3" y="275"/>
                  </a:moveTo>
                  <a:lnTo>
                    <a:pt x="3" y="275"/>
                  </a:lnTo>
                  <a:cubicBezTo>
                    <a:pt x="3" y="271"/>
                    <a:pt x="7" y="267"/>
                    <a:pt x="11" y="267"/>
                  </a:cubicBezTo>
                  <a:cubicBezTo>
                    <a:pt x="16" y="267"/>
                    <a:pt x="20" y="271"/>
                    <a:pt x="20" y="275"/>
                  </a:cubicBezTo>
                  <a:lnTo>
                    <a:pt x="20" y="275"/>
                  </a:lnTo>
                  <a:cubicBezTo>
                    <a:pt x="20" y="280"/>
                    <a:pt x="16" y="284"/>
                    <a:pt x="11" y="284"/>
                  </a:cubicBezTo>
                  <a:cubicBezTo>
                    <a:pt x="7" y="284"/>
                    <a:pt x="3" y="280"/>
                    <a:pt x="3" y="275"/>
                  </a:cubicBezTo>
                  <a:close/>
                  <a:moveTo>
                    <a:pt x="3" y="242"/>
                  </a:moveTo>
                  <a:lnTo>
                    <a:pt x="3" y="242"/>
                  </a:lnTo>
                  <a:cubicBezTo>
                    <a:pt x="3" y="237"/>
                    <a:pt x="7" y="234"/>
                    <a:pt x="11" y="234"/>
                  </a:cubicBezTo>
                  <a:cubicBezTo>
                    <a:pt x="16" y="234"/>
                    <a:pt x="20" y="237"/>
                    <a:pt x="20" y="242"/>
                  </a:cubicBezTo>
                  <a:lnTo>
                    <a:pt x="20" y="242"/>
                  </a:lnTo>
                  <a:cubicBezTo>
                    <a:pt x="20" y="247"/>
                    <a:pt x="16" y="250"/>
                    <a:pt x="11" y="250"/>
                  </a:cubicBezTo>
                  <a:cubicBezTo>
                    <a:pt x="7" y="250"/>
                    <a:pt x="3" y="247"/>
                    <a:pt x="3" y="242"/>
                  </a:cubicBezTo>
                  <a:close/>
                  <a:moveTo>
                    <a:pt x="3" y="209"/>
                  </a:moveTo>
                  <a:lnTo>
                    <a:pt x="3" y="209"/>
                  </a:lnTo>
                  <a:cubicBezTo>
                    <a:pt x="3" y="204"/>
                    <a:pt x="7" y="200"/>
                    <a:pt x="11" y="200"/>
                  </a:cubicBezTo>
                  <a:cubicBezTo>
                    <a:pt x="16" y="200"/>
                    <a:pt x="20" y="204"/>
                    <a:pt x="20" y="209"/>
                  </a:cubicBezTo>
                  <a:lnTo>
                    <a:pt x="20" y="209"/>
                  </a:lnTo>
                  <a:cubicBezTo>
                    <a:pt x="20" y="213"/>
                    <a:pt x="16" y="217"/>
                    <a:pt x="11" y="217"/>
                  </a:cubicBezTo>
                  <a:cubicBezTo>
                    <a:pt x="7" y="217"/>
                    <a:pt x="3" y="213"/>
                    <a:pt x="3" y="209"/>
                  </a:cubicBezTo>
                  <a:close/>
                  <a:moveTo>
                    <a:pt x="3" y="175"/>
                  </a:moveTo>
                  <a:lnTo>
                    <a:pt x="3" y="175"/>
                  </a:lnTo>
                  <a:cubicBezTo>
                    <a:pt x="3" y="171"/>
                    <a:pt x="7" y="167"/>
                    <a:pt x="12" y="167"/>
                  </a:cubicBezTo>
                  <a:cubicBezTo>
                    <a:pt x="16" y="167"/>
                    <a:pt x="20" y="171"/>
                    <a:pt x="20" y="175"/>
                  </a:cubicBezTo>
                  <a:lnTo>
                    <a:pt x="20" y="175"/>
                  </a:lnTo>
                  <a:cubicBezTo>
                    <a:pt x="20" y="180"/>
                    <a:pt x="16" y="184"/>
                    <a:pt x="12" y="184"/>
                  </a:cubicBezTo>
                  <a:cubicBezTo>
                    <a:pt x="7" y="184"/>
                    <a:pt x="3" y="180"/>
                    <a:pt x="3" y="175"/>
                  </a:cubicBezTo>
                  <a:close/>
                  <a:moveTo>
                    <a:pt x="3" y="142"/>
                  </a:moveTo>
                  <a:lnTo>
                    <a:pt x="3" y="142"/>
                  </a:lnTo>
                  <a:cubicBezTo>
                    <a:pt x="3" y="137"/>
                    <a:pt x="7" y="134"/>
                    <a:pt x="12" y="134"/>
                  </a:cubicBezTo>
                  <a:cubicBezTo>
                    <a:pt x="16" y="134"/>
                    <a:pt x="20" y="137"/>
                    <a:pt x="20" y="142"/>
                  </a:cubicBezTo>
                  <a:lnTo>
                    <a:pt x="20" y="142"/>
                  </a:lnTo>
                  <a:cubicBezTo>
                    <a:pt x="20" y="147"/>
                    <a:pt x="16" y="150"/>
                    <a:pt x="12" y="150"/>
                  </a:cubicBezTo>
                  <a:cubicBezTo>
                    <a:pt x="7" y="150"/>
                    <a:pt x="3" y="147"/>
                    <a:pt x="3" y="142"/>
                  </a:cubicBezTo>
                  <a:close/>
                  <a:moveTo>
                    <a:pt x="3" y="109"/>
                  </a:moveTo>
                  <a:lnTo>
                    <a:pt x="3" y="109"/>
                  </a:lnTo>
                  <a:cubicBezTo>
                    <a:pt x="3" y="104"/>
                    <a:pt x="7" y="100"/>
                    <a:pt x="12" y="100"/>
                  </a:cubicBezTo>
                  <a:cubicBezTo>
                    <a:pt x="16" y="100"/>
                    <a:pt x="20" y="104"/>
                    <a:pt x="20" y="109"/>
                  </a:cubicBezTo>
                  <a:lnTo>
                    <a:pt x="20" y="109"/>
                  </a:lnTo>
                  <a:cubicBezTo>
                    <a:pt x="20" y="113"/>
                    <a:pt x="16" y="117"/>
                    <a:pt x="12" y="117"/>
                  </a:cubicBezTo>
                  <a:cubicBezTo>
                    <a:pt x="7" y="117"/>
                    <a:pt x="3" y="113"/>
                    <a:pt x="3" y="109"/>
                  </a:cubicBezTo>
                  <a:close/>
                  <a:moveTo>
                    <a:pt x="3" y="75"/>
                  </a:moveTo>
                  <a:lnTo>
                    <a:pt x="3" y="75"/>
                  </a:lnTo>
                  <a:cubicBezTo>
                    <a:pt x="3" y="71"/>
                    <a:pt x="7" y="67"/>
                    <a:pt x="12" y="67"/>
                  </a:cubicBezTo>
                  <a:cubicBezTo>
                    <a:pt x="16" y="67"/>
                    <a:pt x="20" y="71"/>
                    <a:pt x="20" y="75"/>
                  </a:cubicBezTo>
                  <a:lnTo>
                    <a:pt x="20" y="75"/>
                  </a:lnTo>
                  <a:cubicBezTo>
                    <a:pt x="20" y="80"/>
                    <a:pt x="16" y="84"/>
                    <a:pt x="12" y="84"/>
                  </a:cubicBezTo>
                  <a:cubicBezTo>
                    <a:pt x="7" y="84"/>
                    <a:pt x="3" y="80"/>
                    <a:pt x="3" y="75"/>
                  </a:cubicBezTo>
                  <a:close/>
                  <a:moveTo>
                    <a:pt x="3" y="42"/>
                  </a:moveTo>
                  <a:lnTo>
                    <a:pt x="3" y="42"/>
                  </a:lnTo>
                  <a:cubicBezTo>
                    <a:pt x="3" y="37"/>
                    <a:pt x="7" y="34"/>
                    <a:pt x="12" y="34"/>
                  </a:cubicBezTo>
                  <a:cubicBezTo>
                    <a:pt x="16" y="34"/>
                    <a:pt x="20" y="37"/>
                    <a:pt x="20" y="42"/>
                  </a:cubicBezTo>
                  <a:lnTo>
                    <a:pt x="20" y="42"/>
                  </a:lnTo>
                  <a:cubicBezTo>
                    <a:pt x="20" y="47"/>
                    <a:pt x="16" y="50"/>
                    <a:pt x="12" y="50"/>
                  </a:cubicBezTo>
                  <a:cubicBezTo>
                    <a:pt x="7" y="50"/>
                    <a:pt x="3" y="47"/>
                    <a:pt x="3" y="42"/>
                  </a:cubicBezTo>
                  <a:close/>
                  <a:moveTo>
                    <a:pt x="3" y="9"/>
                  </a:moveTo>
                  <a:lnTo>
                    <a:pt x="3" y="9"/>
                  </a:lnTo>
                  <a:cubicBezTo>
                    <a:pt x="3" y="4"/>
                    <a:pt x="7" y="0"/>
                    <a:pt x="12" y="0"/>
                  </a:cubicBezTo>
                  <a:cubicBezTo>
                    <a:pt x="16" y="0"/>
                    <a:pt x="20" y="4"/>
                    <a:pt x="20" y="9"/>
                  </a:cubicBezTo>
                  <a:lnTo>
                    <a:pt x="20" y="9"/>
                  </a:lnTo>
                  <a:cubicBezTo>
                    <a:pt x="20" y="13"/>
                    <a:pt x="16" y="17"/>
                    <a:pt x="12" y="17"/>
                  </a:cubicBezTo>
                  <a:cubicBezTo>
                    <a:pt x="7" y="17"/>
                    <a:pt x="3" y="13"/>
                    <a:pt x="3" y="9"/>
                  </a:cubicBez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478480" y="3860640"/>
              <a:ext cx="3240" cy="454320"/>
            </a:xfrm>
            <a:custGeom>
              <a:avLst/>
              <a:gdLst/>
              <a:ahLst/>
              <a:rect l="l" t="t" r="r" b="b"/>
              <a:pathLst>
                <a:path w="20" h="2385">
                  <a:moveTo>
                    <a:pt x="0" y="2376"/>
                  </a:moveTo>
                  <a:lnTo>
                    <a:pt x="0" y="2376"/>
                  </a:lnTo>
                  <a:cubicBezTo>
                    <a:pt x="0" y="2372"/>
                    <a:pt x="4" y="2368"/>
                    <a:pt x="8" y="2368"/>
                  </a:cubicBezTo>
                  <a:cubicBezTo>
                    <a:pt x="13" y="2368"/>
                    <a:pt x="17" y="2372"/>
                    <a:pt x="17" y="2376"/>
                  </a:cubicBezTo>
                  <a:lnTo>
                    <a:pt x="17" y="2376"/>
                  </a:lnTo>
                  <a:cubicBezTo>
                    <a:pt x="17" y="2381"/>
                    <a:pt x="13" y="2385"/>
                    <a:pt x="8" y="2385"/>
                  </a:cubicBezTo>
                  <a:cubicBezTo>
                    <a:pt x="4" y="2385"/>
                    <a:pt x="0" y="2381"/>
                    <a:pt x="0" y="2376"/>
                  </a:cubicBezTo>
                  <a:close/>
                  <a:moveTo>
                    <a:pt x="0" y="2343"/>
                  </a:moveTo>
                  <a:lnTo>
                    <a:pt x="0" y="2343"/>
                  </a:lnTo>
                  <a:cubicBezTo>
                    <a:pt x="0" y="2338"/>
                    <a:pt x="4" y="2335"/>
                    <a:pt x="9" y="2335"/>
                  </a:cubicBezTo>
                  <a:cubicBezTo>
                    <a:pt x="13" y="2335"/>
                    <a:pt x="17" y="2338"/>
                    <a:pt x="17" y="2343"/>
                  </a:cubicBezTo>
                  <a:lnTo>
                    <a:pt x="17" y="2343"/>
                  </a:lnTo>
                  <a:cubicBezTo>
                    <a:pt x="17" y="2348"/>
                    <a:pt x="13" y="2351"/>
                    <a:pt x="9" y="2351"/>
                  </a:cubicBezTo>
                  <a:cubicBezTo>
                    <a:pt x="4" y="2351"/>
                    <a:pt x="0" y="2348"/>
                    <a:pt x="0" y="2343"/>
                  </a:cubicBezTo>
                  <a:close/>
                  <a:moveTo>
                    <a:pt x="0" y="2310"/>
                  </a:moveTo>
                  <a:lnTo>
                    <a:pt x="0" y="2310"/>
                  </a:lnTo>
                  <a:cubicBezTo>
                    <a:pt x="0" y="2305"/>
                    <a:pt x="4" y="2301"/>
                    <a:pt x="9" y="2301"/>
                  </a:cubicBezTo>
                  <a:cubicBezTo>
                    <a:pt x="13" y="2301"/>
                    <a:pt x="17" y="2305"/>
                    <a:pt x="17" y="2310"/>
                  </a:cubicBezTo>
                  <a:lnTo>
                    <a:pt x="17" y="2310"/>
                  </a:lnTo>
                  <a:cubicBezTo>
                    <a:pt x="17" y="2314"/>
                    <a:pt x="13" y="2318"/>
                    <a:pt x="9" y="2318"/>
                  </a:cubicBezTo>
                  <a:cubicBezTo>
                    <a:pt x="4" y="2318"/>
                    <a:pt x="0" y="2314"/>
                    <a:pt x="0" y="2310"/>
                  </a:cubicBezTo>
                  <a:close/>
                  <a:moveTo>
                    <a:pt x="0" y="2276"/>
                  </a:moveTo>
                  <a:lnTo>
                    <a:pt x="0" y="2276"/>
                  </a:lnTo>
                  <a:cubicBezTo>
                    <a:pt x="0" y="2272"/>
                    <a:pt x="4" y="2268"/>
                    <a:pt x="9" y="2268"/>
                  </a:cubicBezTo>
                  <a:cubicBezTo>
                    <a:pt x="13" y="2268"/>
                    <a:pt x="17" y="2272"/>
                    <a:pt x="17" y="2276"/>
                  </a:cubicBezTo>
                  <a:lnTo>
                    <a:pt x="17" y="2276"/>
                  </a:lnTo>
                  <a:cubicBezTo>
                    <a:pt x="17" y="2281"/>
                    <a:pt x="13" y="2285"/>
                    <a:pt x="9" y="2285"/>
                  </a:cubicBezTo>
                  <a:cubicBezTo>
                    <a:pt x="4" y="2285"/>
                    <a:pt x="0" y="2281"/>
                    <a:pt x="0" y="2276"/>
                  </a:cubicBezTo>
                  <a:close/>
                  <a:moveTo>
                    <a:pt x="0" y="2243"/>
                  </a:moveTo>
                  <a:lnTo>
                    <a:pt x="0" y="2243"/>
                  </a:lnTo>
                  <a:cubicBezTo>
                    <a:pt x="0" y="2238"/>
                    <a:pt x="4" y="2235"/>
                    <a:pt x="9" y="2235"/>
                  </a:cubicBezTo>
                  <a:cubicBezTo>
                    <a:pt x="13" y="2235"/>
                    <a:pt x="17" y="2238"/>
                    <a:pt x="17" y="2243"/>
                  </a:cubicBezTo>
                  <a:lnTo>
                    <a:pt x="17" y="2243"/>
                  </a:lnTo>
                  <a:cubicBezTo>
                    <a:pt x="17" y="2248"/>
                    <a:pt x="13" y="2251"/>
                    <a:pt x="9" y="2251"/>
                  </a:cubicBezTo>
                  <a:cubicBezTo>
                    <a:pt x="4" y="2251"/>
                    <a:pt x="0" y="2248"/>
                    <a:pt x="0" y="2243"/>
                  </a:cubicBezTo>
                  <a:close/>
                  <a:moveTo>
                    <a:pt x="0" y="2210"/>
                  </a:moveTo>
                  <a:lnTo>
                    <a:pt x="0" y="2210"/>
                  </a:lnTo>
                  <a:cubicBezTo>
                    <a:pt x="0" y="2205"/>
                    <a:pt x="4" y="2201"/>
                    <a:pt x="9" y="2201"/>
                  </a:cubicBezTo>
                  <a:cubicBezTo>
                    <a:pt x="13" y="2201"/>
                    <a:pt x="17" y="2205"/>
                    <a:pt x="17" y="2210"/>
                  </a:cubicBezTo>
                  <a:lnTo>
                    <a:pt x="17" y="2210"/>
                  </a:lnTo>
                  <a:cubicBezTo>
                    <a:pt x="17" y="2214"/>
                    <a:pt x="13" y="2218"/>
                    <a:pt x="9" y="2218"/>
                  </a:cubicBezTo>
                  <a:cubicBezTo>
                    <a:pt x="4" y="2218"/>
                    <a:pt x="0" y="2214"/>
                    <a:pt x="0" y="2210"/>
                  </a:cubicBezTo>
                  <a:close/>
                  <a:moveTo>
                    <a:pt x="0" y="2176"/>
                  </a:moveTo>
                  <a:lnTo>
                    <a:pt x="0" y="2176"/>
                  </a:lnTo>
                  <a:cubicBezTo>
                    <a:pt x="0" y="2172"/>
                    <a:pt x="4" y="2168"/>
                    <a:pt x="9" y="2168"/>
                  </a:cubicBezTo>
                  <a:cubicBezTo>
                    <a:pt x="13" y="2168"/>
                    <a:pt x="17" y="2172"/>
                    <a:pt x="17" y="2176"/>
                  </a:cubicBezTo>
                  <a:lnTo>
                    <a:pt x="17" y="2176"/>
                  </a:lnTo>
                  <a:cubicBezTo>
                    <a:pt x="17" y="2181"/>
                    <a:pt x="13" y="2185"/>
                    <a:pt x="9" y="2185"/>
                  </a:cubicBezTo>
                  <a:cubicBezTo>
                    <a:pt x="4" y="2185"/>
                    <a:pt x="0" y="2181"/>
                    <a:pt x="0" y="2176"/>
                  </a:cubicBezTo>
                  <a:close/>
                  <a:moveTo>
                    <a:pt x="0" y="2143"/>
                  </a:moveTo>
                  <a:lnTo>
                    <a:pt x="0" y="2143"/>
                  </a:lnTo>
                  <a:cubicBezTo>
                    <a:pt x="0" y="2138"/>
                    <a:pt x="4" y="2135"/>
                    <a:pt x="9" y="2135"/>
                  </a:cubicBezTo>
                  <a:cubicBezTo>
                    <a:pt x="13" y="2135"/>
                    <a:pt x="17" y="2138"/>
                    <a:pt x="17" y="2143"/>
                  </a:cubicBezTo>
                  <a:lnTo>
                    <a:pt x="17" y="2143"/>
                  </a:lnTo>
                  <a:cubicBezTo>
                    <a:pt x="17" y="2148"/>
                    <a:pt x="13" y="2151"/>
                    <a:pt x="9" y="2151"/>
                  </a:cubicBezTo>
                  <a:cubicBezTo>
                    <a:pt x="4" y="2151"/>
                    <a:pt x="0" y="2148"/>
                    <a:pt x="0" y="2143"/>
                  </a:cubicBezTo>
                  <a:close/>
                  <a:moveTo>
                    <a:pt x="0" y="2110"/>
                  </a:moveTo>
                  <a:lnTo>
                    <a:pt x="0" y="2110"/>
                  </a:lnTo>
                  <a:cubicBezTo>
                    <a:pt x="0" y="2105"/>
                    <a:pt x="4" y="2101"/>
                    <a:pt x="9" y="2101"/>
                  </a:cubicBezTo>
                  <a:cubicBezTo>
                    <a:pt x="13" y="2101"/>
                    <a:pt x="17" y="2105"/>
                    <a:pt x="17" y="2110"/>
                  </a:cubicBezTo>
                  <a:lnTo>
                    <a:pt x="17" y="2110"/>
                  </a:lnTo>
                  <a:cubicBezTo>
                    <a:pt x="17" y="2114"/>
                    <a:pt x="13" y="2118"/>
                    <a:pt x="9" y="2118"/>
                  </a:cubicBezTo>
                  <a:cubicBezTo>
                    <a:pt x="4" y="2118"/>
                    <a:pt x="0" y="2114"/>
                    <a:pt x="0" y="2110"/>
                  </a:cubicBezTo>
                  <a:close/>
                  <a:moveTo>
                    <a:pt x="1" y="2076"/>
                  </a:moveTo>
                  <a:lnTo>
                    <a:pt x="1" y="2076"/>
                  </a:lnTo>
                  <a:cubicBezTo>
                    <a:pt x="1" y="2072"/>
                    <a:pt x="4" y="2068"/>
                    <a:pt x="9" y="2068"/>
                  </a:cubicBezTo>
                  <a:cubicBezTo>
                    <a:pt x="13" y="2068"/>
                    <a:pt x="17" y="2072"/>
                    <a:pt x="17" y="2076"/>
                  </a:cubicBezTo>
                  <a:lnTo>
                    <a:pt x="17" y="2076"/>
                  </a:lnTo>
                  <a:cubicBezTo>
                    <a:pt x="17" y="2081"/>
                    <a:pt x="13" y="2085"/>
                    <a:pt x="9" y="2085"/>
                  </a:cubicBezTo>
                  <a:cubicBezTo>
                    <a:pt x="4" y="2085"/>
                    <a:pt x="1" y="2081"/>
                    <a:pt x="1" y="2076"/>
                  </a:cubicBezTo>
                  <a:close/>
                  <a:moveTo>
                    <a:pt x="1" y="2043"/>
                  </a:moveTo>
                  <a:lnTo>
                    <a:pt x="1" y="2043"/>
                  </a:lnTo>
                  <a:cubicBezTo>
                    <a:pt x="1" y="2038"/>
                    <a:pt x="4" y="2035"/>
                    <a:pt x="9" y="2035"/>
                  </a:cubicBezTo>
                  <a:cubicBezTo>
                    <a:pt x="14" y="2035"/>
                    <a:pt x="17" y="2038"/>
                    <a:pt x="17" y="2043"/>
                  </a:cubicBezTo>
                  <a:lnTo>
                    <a:pt x="17" y="2043"/>
                  </a:lnTo>
                  <a:cubicBezTo>
                    <a:pt x="17" y="2048"/>
                    <a:pt x="14" y="2051"/>
                    <a:pt x="9" y="2051"/>
                  </a:cubicBezTo>
                  <a:cubicBezTo>
                    <a:pt x="4" y="2051"/>
                    <a:pt x="1" y="2048"/>
                    <a:pt x="1" y="2043"/>
                  </a:cubicBezTo>
                  <a:close/>
                  <a:moveTo>
                    <a:pt x="1" y="2010"/>
                  </a:moveTo>
                  <a:lnTo>
                    <a:pt x="1" y="2010"/>
                  </a:lnTo>
                  <a:cubicBezTo>
                    <a:pt x="1" y="2005"/>
                    <a:pt x="4" y="2001"/>
                    <a:pt x="9" y="2001"/>
                  </a:cubicBezTo>
                  <a:cubicBezTo>
                    <a:pt x="14" y="2001"/>
                    <a:pt x="17" y="2005"/>
                    <a:pt x="17" y="2010"/>
                  </a:cubicBezTo>
                  <a:lnTo>
                    <a:pt x="17" y="2010"/>
                  </a:lnTo>
                  <a:cubicBezTo>
                    <a:pt x="17" y="2014"/>
                    <a:pt x="14" y="2018"/>
                    <a:pt x="9" y="2018"/>
                  </a:cubicBezTo>
                  <a:cubicBezTo>
                    <a:pt x="4" y="2018"/>
                    <a:pt x="1" y="2014"/>
                    <a:pt x="1" y="2010"/>
                  </a:cubicBezTo>
                  <a:close/>
                  <a:moveTo>
                    <a:pt x="1" y="1976"/>
                  </a:moveTo>
                  <a:lnTo>
                    <a:pt x="1" y="1976"/>
                  </a:lnTo>
                  <a:cubicBezTo>
                    <a:pt x="1" y="1972"/>
                    <a:pt x="4" y="1968"/>
                    <a:pt x="9" y="1968"/>
                  </a:cubicBezTo>
                  <a:cubicBezTo>
                    <a:pt x="14" y="1968"/>
                    <a:pt x="17" y="1972"/>
                    <a:pt x="17" y="1976"/>
                  </a:cubicBezTo>
                  <a:lnTo>
                    <a:pt x="17" y="1976"/>
                  </a:lnTo>
                  <a:cubicBezTo>
                    <a:pt x="17" y="1981"/>
                    <a:pt x="14" y="1985"/>
                    <a:pt x="9" y="1985"/>
                  </a:cubicBezTo>
                  <a:cubicBezTo>
                    <a:pt x="4" y="1985"/>
                    <a:pt x="1" y="1981"/>
                    <a:pt x="1" y="1976"/>
                  </a:cubicBezTo>
                  <a:close/>
                  <a:moveTo>
                    <a:pt x="1" y="1943"/>
                  </a:moveTo>
                  <a:lnTo>
                    <a:pt x="1" y="1943"/>
                  </a:lnTo>
                  <a:cubicBezTo>
                    <a:pt x="1" y="1938"/>
                    <a:pt x="4" y="1935"/>
                    <a:pt x="9" y="1935"/>
                  </a:cubicBezTo>
                  <a:cubicBezTo>
                    <a:pt x="14" y="1935"/>
                    <a:pt x="17" y="1938"/>
                    <a:pt x="17" y="1943"/>
                  </a:cubicBezTo>
                  <a:lnTo>
                    <a:pt x="17" y="1943"/>
                  </a:lnTo>
                  <a:cubicBezTo>
                    <a:pt x="17" y="1948"/>
                    <a:pt x="14" y="1951"/>
                    <a:pt x="9" y="1951"/>
                  </a:cubicBezTo>
                  <a:cubicBezTo>
                    <a:pt x="4" y="1951"/>
                    <a:pt x="1" y="1948"/>
                    <a:pt x="1" y="1943"/>
                  </a:cubicBezTo>
                  <a:close/>
                  <a:moveTo>
                    <a:pt x="1" y="1910"/>
                  </a:moveTo>
                  <a:lnTo>
                    <a:pt x="1" y="1910"/>
                  </a:lnTo>
                  <a:cubicBezTo>
                    <a:pt x="1" y="1905"/>
                    <a:pt x="4" y="1901"/>
                    <a:pt x="9" y="1901"/>
                  </a:cubicBezTo>
                  <a:cubicBezTo>
                    <a:pt x="14" y="1901"/>
                    <a:pt x="17" y="1905"/>
                    <a:pt x="17" y="1910"/>
                  </a:cubicBezTo>
                  <a:lnTo>
                    <a:pt x="17" y="1910"/>
                  </a:lnTo>
                  <a:cubicBezTo>
                    <a:pt x="17" y="1914"/>
                    <a:pt x="14" y="1918"/>
                    <a:pt x="9" y="1918"/>
                  </a:cubicBezTo>
                  <a:cubicBezTo>
                    <a:pt x="4" y="1918"/>
                    <a:pt x="1" y="1914"/>
                    <a:pt x="1" y="1910"/>
                  </a:cubicBezTo>
                  <a:close/>
                  <a:moveTo>
                    <a:pt x="1" y="1876"/>
                  </a:moveTo>
                  <a:lnTo>
                    <a:pt x="1" y="1876"/>
                  </a:lnTo>
                  <a:cubicBezTo>
                    <a:pt x="1" y="1872"/>
                    <a:pt x="5" y="1868"/>
                    <a:pt x="9" y="1868"/>
                  </a:cubicBezTo>
                  <a:cubicBezTo>
                    <a:pt x="14" y="1868"/>
                    <a:pt x="17" y="1872"/>
                    <a:pt x="17" y="1876"/>
                  </a:cubicBezTo>
                  <a:lnTo>
                    <a:pt x="17" y="1876"/>
                  </a:lnTo>
                  <a:cubicBezTo>
                    <a:pt x="17" y="1881"/>
                    <a:pt x="14" y="1885"/>
                    <a:pt x="9" y="1885"/>
                  </a:cubicBezTo>
                  <a:cubicBezTo>
                    <a:pt x="5" y="1885"/>
                    <a:pt x="1" y="1881"/>
                    <a:pt x="1" y="1876"/>
                  </a:cubicBezTo>
                  <a:close/>
                  <a:moveTo>
                    <a:pt x="1" y="1843"/>
                  </a:moveTo>
                  <a:lnTo>
                    <a:pt x="1" y="1843"/>
                  </a:lnTo>
                  <a:cubicBezTo>
                    <a:pt x="1" y="1838"/>
                    <a:pt x="5" y="1834"/>
                    <a:pt x="9" y="1834"/>
                  </a:cubicBezTo>
                  <a:cubicBezTo>
                    <a:pt x="14" y="1834"/>
                    <a:pt x="18" y="1838"/>
                    <a:pt x="18" y="1843"/>
                  </a:cubicBezTo>
                  <a:lnTo>
                    <a:pt x="18" y="1843"/>
                  </a:lnTo>
                  <a:cubicBezTo>
                    <a:pt x="18" y="1847"/>
                    <a:pt x="14" y="1851"/>
                    <a:pt x="9" y="1851"/>
                  </a:cubicBezTo>
                  <a:cubicBezTo>
                    <a:pt x="5" y="1851"/>
                    <a:pt x="1" y="1847"/>
                    <a:pt x="1" y="1843"/>
                  </a:cubicBezTo>
                  <a:close/>
                  <a:moveTo>
                    <a:pt x="1" y="1809"/>
                  </a:moveTo>
                  <a:lnTo>
                    <a:pt x="1" y="1809"/>
                  </a:lnTo>
                  <a:cubicBezTo>
                    <a:pt x="1" y="1805"/>
                    <a:pt x="5" y="1801"/>
                    <a:pt x="9" y="1801"/>
                  </a:cubicBezTo>
                  <a:cubicBezTo>
                    <a:pt x="14" y="1801"/>
                    <a:pt x="18" y="1805"/>
                    <a:pt x="18" y="1809"/>
                  </a:cubicBezTo>
                  <a:lnTo>
                    <a:pt x="18" y="1809"/>
                  </a:lnTo>
                  <a:cubicBezTo>
                    <a:pt x="18" y="1814"/>
                    <a:pt x="14" y="1818"/>
                    <a:pt x="9" y="1818"/>
                  </a:cubicBezTo>
                  <a:cubicBezTo>
                    <a:pt x="5" y="1818"/>
                    <a:pt x="1" y="1814"/>
                    <a:pt x="1" y="1809"/>
                  </a:cubicBezTo>
                  <a:close/>
                  <a:moveTo>
                    <a:pt x="1" y="1776"/>
                  </a:moveTo>
                  <a:lnTo>
                    <a:pt x="1" y="1776"/>
                  </a:lnTo>
                  <a:cubicBezTo>
                    <a:pt x="1" y="1772"/>
                    <a:pt x="5" y="1768"/>
                    <a:pt x="9" y="1768"/>
                  </a:cubicBezTo>
                  <a:cubicBezTo>
                    <a:pt x="14" y="1768"/>
                    <a:pt x="18" y="1772"/>
                    <a:pt x="18" y="1776"/>
                  </a:cubicBezTo>
                  <a:lnTo>
                    <a:pt x="18" y="1776"/>
                  </a:lnTo>
                  <a:cubicBezTo>
                    <a:pt x="18" y="1781"/>
                    <a:pt x="14" y="1784"/>
                    <a:pt x="9" y="1784"/>
                  </a:cubicBezTo>
                  <a:cubicBezTo>
                    <a:pt x="5" y="1784"/>
                    <a:pt x="1" y="1781"/>
                    <a:pt x="1" y="1776"/>
                  </a:cubicBezTo>
                  <a:close/>
                  <a:moveTo>
                    <a:pt x="1" y="1743"/>
                  </a:moveTo>
                  <a:lnTo>
                    <a:pt x="1" y="1743"/>
                  </a:lnTo>
                  <a:cubicBezTo>
                    <a:pt x="1" y="1738"/>
                    <a:pt x="5" y="1734"/>
                    <a:pt x="9" y="1734"/>
                  </a:cubicBezTo>
                  <a:cubicBezTo>
                    <a:pt x="14" y="1734"/>
                    <a:pt x="18" y="1738"/>
                    <a:pt x="18" y="1743"/>
                  </a:cubicBezTo>
                  <a:lnTo>
                    <a:pt x="18" y="1743"/>
                  </a:lnTo>
                  <a:cubicBezTo>
                    <a:pt x="18" y="1747"/>
                    <a:pt x="14" y="1751"/>
                    <a:pt x="9" y="1751"/>
                  </a:cubicBezTo>
                  <a:cubicBezTo>
                    <a:pt x="5" y="1751"/>
                    <a:pt x="1" y="1747"/>
                    <a:pt x="1" y="1743"/>
                  </a:cubicBezTo>
                  <a:close/>
                  <a:moveTo>
                    <a:pt x="1" y="1709"/>
                  </a:moveTo>
                  <a:lnTo>
                    <a:pt x="1" y="1709"/>
                  </a:lnTo>
                  <a:cubicBezTo>
                    <a:pt x="1" y="1705"/>
                    <a:pt x="5" y="1701"/>
                    <a:pt x="9" y="1701"/>
                  </a:cubicBezTo>
                  <a:cubicBezTo>
                    <a:pt x="14" y="1701"/>
                    <a:pt x="18" y="1705"/>
                    <a:pt x="18" y="1709"/>
                  </a:cubicBezTo>
                  <a:lnTo>
                    <a:pt x="18" y="1709"/>
                  </a:lnTo>
                  <a:cubicBezTo>
                    <a:pt x="18" y="1714"/>
                    <a:pt x="14" y="1718"/>
                    <a:pt x="9" y="1718"/>
                  </a:cubicBezTo>
                  <a:cubicBezTo>
                    <a:pt x="5" y="1718"/>
                    <a:pt x="1" y="1714"/>
                    <a:pt x="1" y="1709"/>
                  </a:cubicBezTo>
                  <a:close/>
                  <a:moveTo>
                    <a:pt x="1" y="1676"/>
                  </a:moveTo>
                  <a:lnTo>
                    <a:pt x="1" y="1676"/>
                  </a:lnTo>
                  <a:cubicBezTo>
                    <a:pt x="1" y="1671"/>
                    <a:pt x="5" y="1668"/>
                    <a:pt x="9" y="1668"/>
                  </a:cubicBezTo>
                  <a:cubicBezTo>
                    <a:pt x="14" y="1668"/>
                    <a:pt x="18" y="1671"/>
                    <a:pt x="18" y="1676"/>
                  </a:cubicBezTo>
                  <a:lnTo>
                    <a:pt x="18" y="1676"/>
                  </a:lnTo>
                  <a:cubicBezTo>
                    <a:pt x="18" y="1681"/>
                    <a:pt x="14" y="1684"/>
                    <a:pt x="9" y="1684"/>
                  </a:cubicBezTo>
                  <a:cubicBezTo>
                    <a:pt x="5" y="1684"/>
                    <a:pt x="1" y="1681"/>
                    <a:pt x="1" y="1676"/>
                  </a:cubicBezTo>
                  <a:close/>
                  <a:moveTo>
                    <a:pt x="1" y="1643"/>
                  </a:moveTo>
                  <a:lnTo>
                    <a:pt x="1" y="1643"/>
                  </a:lnTo>
                  <a:cubicBezTo>
                    <a:pt x="1" y="1638"/>
                    <a:pt x="5" y="1634"/>
                    <a:pt x="9" y="1634"/>
                  </a:cubicBezTo>
                  <a:cubicBezTo>
                    <a:pt x="14" y="1634"/>
                    <a:pt x="18" y="1638"/>
                    <a:pt x="18" y="1643"/>
                  </a:cubicBezTo>
                  <a:lnTo>
                    <a:pt x="18" y="1643"/>
                  </a:lnTo>
                  <a:cubicBezTo>
                    <a:pt x="18" y="1647"/>
                    <a:pt x="14" y="1651"/>
                    <a:pt x="9" y="1651"/>
                  </a:cubicBezTo>
                  <a:cubicBezTo>
                    <a:pt x="5" y="1651"/>
                    <a:pt x="1" y="1647"/>
                    <a:pt x="1" y="1643"/>
                  </a:cubicBezTo>
                  <a:close/>
                  <a:moveTo>
                    <a:pt x="1" y="1609"/>
                  </a:moveTo>
                  <a:lnTo>
                    <a:pt x="1" y="1609"/>
                  </a:lnTo>
                  <a:cubicBezTo>
                    <a:pt x="1" y="1605"/>
                    <a:pt x="5" y="1601"/>
                    <a:pt x="10" y="1601"/>
                  </a:cubicBezTo>
                  <a:cubicBezTo>
                    <a:pt x="14" y="1601"/>
                    <a:pt x="18" y="1605"/>
                    <a:pt x="18" y="1609"/>
                  </a:cubicBezTo>
                  <a:lnTo>
                    <a:pt x="18" y="1609"/>
                  </a:lnTo>
                  <a:cubicBezTo>
                    <a:pt x="18" y="1614"/>
                    <a:pt x="14" y="1618"/>
                    <a:pt x="10" y="1618"/>
                  </a:cubicBezTo>
                  <a:cubicBezTo>
                    <a:pt x="5" y="1618"/>
                    <a:pt x="1" y="1614"/>
                    <a:pt x="1" y="1609"/>
                  </a:cubicBezTo>
                  <a:close/>
                  <a:moveTo>
                    <a:pt x="1" y="1576"/>
                  </a:moveTo>
                  <a:lnTo>
                    <a:pt x="1" y="1576"/>
                  </a:lnTo>
                  <a:cubicBezTo>
                    <a:pt x="1" y="1571"/>
                    <a:pt x="5" y="1568"/>
                    <a:pt x="10" y="1568"/>
                  </a:cubicBezTo>
                  <a:cubicBezTo>
                    <a:pt x="14" y="1568"/>
                    <a:pt x="18" y="1571"/>
                    <a:pt x="18" y="1576"/>
                  </a:cubicBezTo>
                  <a:lnTo>
                    <a:pt x="18" y="1576"/>
                  </a:lnTo>
                  <a:cubicBezTo>
                    <a:pt x="18" y="1581"/>
                    <a:pt x="14" y="1584"/>
                    <a:pt x="10" y="1584"/>
                  </a:cubicBezTo>
                  <a:cubicBezTo>
                    <a:pt x="5" y="1584"/>
                    <a:pt x="1" y="1581"/>
                    <a:pt x="1" y="1576"/>
                  </a:cubicBezTo>
                  <a:close/>
                  <a:moveTo>
                    <a:pt x="1" y="1543"/>
                  </a:moveTo>
                  <a:lnTo>
                    <a:pt x="1" y="1543"/>
                  </a:lnTo>
                  <a:cubicBezTo>
                    <a:pt x="1" y="1538"/>
                    <a:pt x="5" y="1534"/>
                    <a:pt x="10" y="1534"/>
                  </a:cubicBezTo>
                  <a:cubicBezTo>
                    <a:pt x="14" y="1534"/>
                    <a:pt x="18" y="1538"/>
                    <a:pt x="18" y="1543"/>
                  </a:cubicBezTo>
                  <a:lnTo>
                    <a:pt x="18" y="1543"/>
                  </a:lnTo>
                  <a:cubicBezTo>
                    <a:pt x="18" y="1547"/>
                    <a:pt x="14" y="1551"/>
                    <a:pt x="10" y="1551"/>
                  </a:cubicBezTo>
                  <a:cubicBezTo>
                    <a:pt x="5" y="1551"/>
                    <a:pt x="1" y="1547"/>
                    <a:pt x="1" y="1543"/>
                  </a:cubicBezTo>
                  <a:close/>
                  <a:moveTo>
                    <a:pt x="1" y="1509"/>
                  </a:moveTo>
                  <a:lnTo>
                    <a:pt x="1" y="1509"/>
                  </a:lnTo>
                  <a:cubicBezTo>
                    <a:pt x="1" y="1505"/>
                    <a:pt x="5" y="1501"/>
                    <a:pt x="10" y="1501"/>
                  </a:cubicBezTo>
                  <a:cubicBezTo>
                    <a:pt x="14" y="1501"/>
                    <a:pt x="18" y="1505"/>
                    <a:pt x="18" y="1509"/>
                  </a:cubicBezTo>
                  <a:lnTo>
                    <a:pt x="18" y="1509"/>
                  </a:lnTo>
                  <a:cubicBezTo>
                    <a:pt x="18" y="1514"/>
                    <a:pt x="14" y="1518"/>
                    <a:pt x="10" y="1518"/>
                  </a:cubicBezTo>
                  <a:cubicBezTo>
                    <a:pt x="5" y="1518"/>
                    <a:pt x="1" y="1514"/>
                    <a:pt x="1" y="1509"/>
                  </a:cubicBezTo>
                  <a:close/>
                  <a:moveTo>
                    <a:pt x="1" y="1476"/>
                  </a:moveTo>
                  <a:lnTo>
                    <a:pt x="1" y="1476"/>
                  </a:lnTo>
                  <a:cubicBezTo>
                    <a:pt x="1" y="1471"/>
                    <a:pt x="5" y="1468"/>
                    <a:pt x="10" y="1468"/>
                  </a:cubicBezTo>
                  <a:cubicBezTo>
                    <a:pt x="14" y="1468"/>
                    <a:pt x="18" y="1471"/>
                    <a:pt x="18" y="1476"/>
                  </a:cubicBezTo>
                  <a:lnTo>
                    <a:pt x="18" y="1476"/>
                  </a:lnTo>
                  <a:cubicBezTo>
                    <a:pt x="18" y="1481"/>
                    <a:pt x="14" y="1484"/>
                    <a:pt x="10" y="1484"/>
                  </a:cubicBezTo>
                  <a:cubicBezTo>
                    <a:pt x="5" y="1484"/>
                    <a:pt x="1" y="1481"/>
                    <a:pt x="1" y="1476"/>
                  </a:cubicBezTo>
                  <a:close/>
                  <a:moveTo>
                    <a:pt x="1" y="1443"/>
                  </a:moveTo>
                  <a:lnTo>
                    <a:pt x="1" y="1443"/>
                  </a:lnTo>
                  <a:cubicBezTo>
                    <a:pt x="1" y="1438"/>
                    <a:pt x="5" y="1434"/>
                    <a:pt x="10" y="1434"/>
                  </a:cubicBezTo>
                  <a:cubicBezTo>
                    <a:pt x="14" y="1434"/>
                    <a:pt x="18" y="1438"/>
                    <a:pt x="18" y="1443"/>
                  </a:cubicBezTo>
                  <a:lnTo>
                    <a:pt x="18" y="1443"/>
                  </a:lnTo>
                  <a:cubicBezTo>
                    <a:pt x="18" y="1447"/>
                    <a:pt x="14" y="1451"/>
                    <a:pt x="10" y="1451"/>
                  </a:cubicBezTo>
                  <a:cubicBezTo>
                    <a:pt x="5" y="1451"/>
                    <a:pt x="1" y="1447"/>
                    <a:pt x="1" y="1443"/>
                  </a:cubicBezTo>
                  <a:close/>
                  <a:moveTo>
                    <a:pt x="1" y="1409"/>
                  </a:moveTo>
                  <a:lnTo>
                    <a:pt x="1" y="1409"/>
                  </a:lnTo>
                  <a:cubicBezTo>
                    <a:pt x="1" y="1405"/>
                    <a:pt x="5" y="1401"/>
                    <a:pt x="10" y="1401"/>
                  </a:cubicBezTo>
                  <a:cubicBezTo>
                    <a:pt x="14" y="1401"/>
                    <a:pt x="18" y="1405"/>
                    <a:pt x="18" y="1409"/>
                  </a:cubicBezTo>
                  <a:lnTo>
                    <a:pt x="18" y="1409"/>
                  </a:lnTo>
                  <a:cubicBezTo>
                    <a:pt x="18" y="1414"/>
                    <a:pt x="14" y="1418"/>
                    <a:pt x="10" y="1418"/>
                  </a:cubicBezTo>
                  <a:cubicBezTo>
                    <a:pt x="5" y="1418"/>
                    <a:pt x="1" y="1414"/>
                    <a:pt x="1" y="1409"/>
                  </a:cubicBezTo>
                  <a:close/>
                  <a:moveTo>
                    <a:pt x="2" y="1376"/>
                  </a:moveTo>
                  <a:lnTo>
                    <a:pt x="2" y="1376"/>
                  </a:lnTo>
                  <a:cubicBezTo>
                    <a:pt x="2" y="1371"/>
                    <a:pt x="5" y="1368"/>
                    <a:pt x="10" y="1368"/>
                  </a:cubicBezTo>
                  <a:cubicBezTo>
                    <a:pt x="14" y="1368"/>
                    <a:pt x="18" y="1371"/>
                    <a:pt x="18" y="1376"/>
                  </a:cubicBezTo>
                  <a:lnTo>
                    <a:pt x="18" y="1376"/>
                  </a:lnTo>
                  <a:cubicBezTo>
                    <a:pt x="18" y="1381"/>
                    <a:pt x="14" y="1384"/>
                    <a:pt x="10" y="1384"/>
                  </a:cubicBezTo>
                  <a:cubicBezTo>
                    <a:pt x="5" y="1384"/>
                    <a:pt x="2" y="1381"/>
                    <a:pt x="2" y="1376"/>
                  </a:cubicBezTo>
                  <a:close/>
                  <a:moveTo>
                    <a:pt x="2" y="1343"/>
                  </a:moveTo>
                  <a:lnTo>
                    <a:pt x="2" y="1343"/>
                  </a:lnTo>
                  <a:cubicBezTo>
                    <a:pt x="2" y="1338"/>
                    <a:pt x="5" y="1334"/>
                    <a:pt x="10" y="1334"/>
                  </a:cubicBezTo>
                  <a:cubicBezTo>
                    <a:pt x="14" y="1334"/>
                    <a:pt x="18" y="1338"/>
                    <a:pt x="18" y="1343"/>
                  </a:cubicBezTo>
                  <a:lnTo>
                    <a:pt x="18" y="1343"/>
                  </a:lnTo>
                  <a:cubicBezTo>
                    <a:pt x="18" y="1347"/>
                    <a:pt x="14" y="1351"/>
                    <a:pt x="10" y="1351"/>
                  </a:cubicBezTo>
                  <a:cubicBezTo>
                    <a:pt x="5" y="1351"/>
                    <a:pt x="2" y="1347"/>
                    <a:pt x="2" y="1343"/>
                  </a:cubicBezTo>
                  <a:close/>
                  <a:moveTo>
                    <a:pt x="2" y="1309"/>
                  </a:moveTo>
                  <a:lnTo>
                    <a:pt x="2" y="1309"/>
                  </a:lnTo>
                  <a:cubicBezTo>
                    <a:pt x="2" y="1305"/>
                    <a:pt x="5" y="1301"/>
                    <a:pt x="10" y="1301"/>
                  </a:cubicBezTo>
                  <a:cubicBezTo>
                    <a:pt x="15" y="1301"/>
                    <a:pt x="18" y="1305"/>
                    <a:pt x="18" y="1309"/>
                  </a:cubicBezTo>
                  <a:lnTo>
                    <a:pt x="18" y="1309"/>
                  </a:lnTo>
                  <a:cubicBezTo>
                    <a:pt x="18" y="1314"/>
                    <a:pt x="15" y="1318"/>
                    <a:pt x="10" y="1318"/>
                  </a:cubicBezTo>
                  <a:cubicBezTo>
                    <a:pt x="5" y="1318"/>
                    <a:pt x="2" y="1314"/>
                    <a:pt x="2" y="1309"/>
                  </a:cubicBezTo>
                  <a:close/>
                  <a:moveTo>
                    <a:pt x="2" y="1276"/>
                  </a:moveTo>
                  <a:lnTo>
                    <a:pt x="2" y="1276"/>
                  </a:lnTo>
                  <a:cubicBezTo>
                    <a:pt x="2" y="1271"/>
                    <a:pt x="5" y="1268"/>
                    <a:pt x="10" y="1268"/>
                  </a:cubicBezTo>
                  <a:cubicBezTo>
                    <a:pt x="15" y="1268"/>
                    <a:pt x="18" y="1271"/>
                    <a:pt x="18" y="1276"/>
                  </a:cubicBezTo>
                  <a:lnTo>
                    <a:pt x="18" y="1276"/>
                  </a:lnTo>
                  <a:cubicBezTo>
                    <a:pt x="18" y="1280"/>
                    <a:pt x="15" y="1284"/>
                    <a:pt x="10" y="1284"/>
                  </a:cubicBezTo>
                  <a:cubicBezTo>
                    <a:pt x="5" y="1284"/>
                    <a:pt x="2" y="1280"/>
                    <a:pt x="2" y="1276"/>
                  </a:cubicBezTo>
                  <a:close/>
                  <a:moveTo>
                    <a:pt x="2" y="1243"/>
                  </a:moveTo>
                  <a:lnTo>
                    <a:pt x="2" y="1242"/>
                  </a:lnTo>
                  <a:cubicBezTo>
                    <a:pt x="2" y="1238"/>
                    <a:pt x="5" y="1234"/>
                    <a:pt x="10" y="1234"/>
                  </a:cubicBezTo>
                  <a:cubicBezTo>
                    <a:pt x="15" y="1234"/>
                    <a:pt x="18" y="1238"/>
                    <a:pt x="18" y="1242"/>
                  </a:cubicBezTo>
                  <a:lnTo>
                    <a:pt x="18" y="1243"/>
                  </a:lnTo>
                  <a:cubicBezTo>
                    <a:pt x="18" y="1247"/>
                    <a:pt x="15" y="1251"/>
                    <a:pt x="10" y="1251"/>
                  </a:cubicBezTo>
                  <a:cubicBezTo>
                    <a:pt x="5" y="1251"/>
                    <a:pt x="2" y="1247"/>
                    <a:pt x="2" y="1243"/>
                  </a:cubicBezTo>
                  <a:close/>
                  <a:moveTo>
                    <a:pt x="2" y="1209"/>
                  </a:moveTo>
                  <a:lnTo>
                    <a:pt x="2" y="1209"/>
                  </a:lnTo>
                  <a:cubicBezTo>
                    <a:pt x="2" y="1205"/>
                    <a:pt x="5" y="1201"/>
                    <a:pt x="10" y="1201"/>
                  </a:cubicBezTo>
                  <a:cubicBezTo>
                    <a:pt x="15" y="1201"/>
                    <a:pt x="18" y="1205"/>
                    <a:pt x="18" y="1209"/>
                  </a:cubicBezTo>
                  <a:lnTo>
                    <a:pt x="18" y="1209"/>
                  </a:lnTo>
                  <a:cubicBezTo>
                    <a:pt x="18" y="1214"/>
                    <a:pt x="15" y="1217"/>
                    <a:pt x="10" y="1217"/>
                  </a:cubicBezTo>
                  <a:cubicBezTo>
                    <a:pt x="5" y="1217"/>
                    <a:pt x="2" y="1214"/>
                    <a:pt x="2" y="1209"/>
                  </a:cubicBezTo>
                  <a:close/>
                  <a:moveTo>
                    <a:pt x="2" y="1176"/>
                  </a:moveTo>
                  <a:lnTo>
                    <a:pt x="2" y="1176"/>
                  </a:lnTo>
                  <a:cubicBezTo>
                    <a:pt x="2" y="1171"/>
                    <a:pt x="6" y="1167"/>
                    <a:pt x="10" y="1167"/>
                  </a:cubicBezTo>
                  <a:cubicBezTo>
                    <a:pt x="15" y="1167"/>
                    <a:pt x="18" y="1171"/>
                    <a:pt x="18" y="1176"/>
                  </a:cubicBezTo>
                  <a:lnTo>
                    <a:pt x="18" y="1176"/>
                  </a:lnTo>
                  <a:cubicBezTo>
                    <a:pt x="18" y="1180"/>
                    <a:pt x="15" y="1184"/>
                    <a:pt x="10" y="1184"/>
                  </a:cubicBezTo>
                  <a:cubicBezTo>
                    <a:pt x="6" y="1184"/>
                    <a:pt x="2" y="1180"/>
                    <a:pt x="2" y="1176"/>
                  </a:cubicBezTo>
                  <a:close/>
                  <a:moveTo>
                    <a:pt x="2" y="1142"/>
                  </a:moveTo>
                  <a:lnTo>
                    <a:pt x="2" y="1142"/>
                  </a:lnTo>
                  <a:cubicBezTo>
                    <a:pt x="2" y="1138"/>
                    <a:pt x="6" y="1134"/>
                    <a:pt x="10" y="1134"/>
                  </a:cubicBezTo>
                  <a:cubicBezTo>
                    <a:pt x="15" y="1134"/>
                    <a:pt x="18" y="1138"/>
                    <a:pt x="18" y="1142"/>
                  </a:cubicBezTo>
                  <a:lnTo>
                    <a:pt x="18" y="1142"/>
                  </a:lnTo>
                  <a:cubicBezTo>
                    <a:pt x="18" y="1147"/>
                    <a:pt x="15" y="1151"/>
                    <a:pt x="10" y="1151"/>
                  </a:cubicBezTo>
                  <a:cubicBezTo>
                    <a:pt x="6" y="1151"/>
                    <a:pt x="2" y="1147"/>
                    <a:pt x="2" y="1142"/>
                  </a:cubicBezTo>
                  <a:close/>
                  <a:moveTo>
                    <a:pt x="2" y="1109"/>
                  </a:moveTo>
                  <a:lnTo>
                    <a:pt x="2" y="1109"/>
                  </a:lnTo>
                  <a:cubicBezTo>
                    <a:pt x="2" y="1104"/>
                    <a:pt x="6" y="1101"/>
                    <a:pt x="10" y="1101"/>
                  </a:cubicBezTo>
                  <a:cubicBezTo>
                    <a:pt x="15" y="1101"/>
                    <a:pt x="19" y="1104"/>
                    <a:pt x="19" y="1109"/>
                  </a:cubicBezTo>
                  <a:lnTo>
                    <a:pt x="19" y="1109"/>
                  </a:lnTo>
                  <a:cubicBezTo>
                    <a:pt x="19" y="1114"/>
                    <a:pt x="15" y="1117"/>
                    <a:pt x="10" y="1117"/>
                  </a:cubicBezTo>
                  <a:cubicBezTo>
                    <a:pt x="6" y="1117"/>
                    <a:pt x="2" y="1114"/>
                    <a:pt x="2" y="1109"/>
                  </a:cubicBezTo>
                  <a:close/>
                  <a:moveTo>
                    <a:pt x="2" y="1076"/>
                  </a:moveTo>
                  <a:lnTo>
                    <a:pt x="2" y="1076"/>
                  </a:lnTo>
                  <a:cubicBezTo>
                    <a:pt x="2" y="1071"/>
                    <a:pt x="6" y="1067"/>
                    <a:pt x="10" y="1067"/>
                  </a:cubicBezTo>
                  <a:cubicBezTo>
                    <a:pt x="15" y="1067"/>
                    <a:pt x="19" y="1071"/>
                    <a:pt x="19" y="1076"/>
                  </a:cubicBezTo>
                  <a:lnTo>
                    <a:pt x="19" y="1076"/>
                  </a:lnTo>
                  <a:cubicBezTo>
                    <a:pt x="19" y="1080"/>
                    <a:pt x="15" y="1084"/>
                    <a:pt x="10" y="1084"/>
                  </a:cubicBezTo>
                  <a:cubicBezTo>
                    <a:pt x="6" y="1084"/>
                    <a:pt x="2" y="1080"/>
                    <a:pt x="2" y="1076"/>
                  </a:cubicBezTo>
                  <a:close/>
                  <a:moveTo>
                    <a:pt x="2" y="1042"/>
                  </a:moveTo>
                  <a:lnTo>
                    <a:pt x="2" y="1042"/>
                  </a:lnTo>
                  <a:cubicBezTo>
                    <a:pt x="2" y="1038"/>
                    <a:pt x="6" y="1034"/>
                    <a:pt x="10" y="1034"/>
                  </a:cubicBezTo>
                  <a:cubicBezTo>
                    <a:pt x="15" y="1034"/>
                    <a:pt x="19" y="1038"/>
                    <a:pt x="19" y="1042"/>
                  </a:cubicBezTo>
                  <a:lnTo>
                    <a:pt x="19" y="1042"/>
                  </a:lnTo>
                  <a:cubicBezTo>
                    <a:pt x="19" y="1047"/>
                    <a:pt x="15" y="1051"/>
                    <a:pt x="10" y="1051"/>
                  </a:cubicBezTo>
                  <a:cubicBezTo>
                    <a:pt x="6" y="1051"/>
                    <a:pt x="2" y="1047"/>
                    <a:pt x="2" y="1042"/>
                  </a:cubicBezTo>
                  <a:close/>
                  <a:moveTo>
                    <a:pt x="2" y="1009"/>
                  </a:moveTo>
                  <a:lnTo>
                    <a:pt x="2" y="1009"/>
                  </a:lnTo>
                  <a:cubicBezTo>
                    <a:pt x="2" y="1004"/>
                    <a:pt x="6" y="1001"/>
                    <a:pt x="10" y="1001"/>
                  </a:cubicBezTo>
                  <a:cubicBezTo>
                    <a:pt x="15" y="1001"/>
                    <a:pt x="19" y="1004"/>
                    <a:pt x="19" y="1009"/>
                  </a:cubicBezTo>
                  <a:lnTo>
                    <a:pt x="19" y="1009"/>
                  </a:lnTo>
                  <a:cubicBezTo>
                    <a:pt x="19" y="1014"/>
                    <a:pt x="15" y="1017"/>
                    <a:pt x="10" y="1017"/>
                  </a:cubicBezTo>
                  <a:cubicBezTo>
                    <a:pt x="6" y="1017"/>
                    <a:pt x="2" y="1014"/>
                    <a:pt x="2" y="1009"/>
                  </a:cubicBezTo>
                  <a:close/>
                  <a:moveTo>
                    <a:pt x="2" y="976"/>
                  </a:moveTo>
                  <a:lnTo>
                    <a:pt x="2" y="976"/>
                  </a:lnTo>
                  <a:cubicBezTo>
                    <a:pt x="2" y="971"/>
                    <a:pt x="6" y="967"/>
                    <a:pt x="10" y="967"/>
                  </a:cubicBezTo>
                  <a:cubicBezTo>
                    <a:pt x="15" y="967"/>
                    <a:pt x="19" y="971"/>
                    <a:pt x="19" y="976"/>
                  </a:cubicBezTo>
                  <a:lnTo>
                    <a:pt x="19" y="976"/>
                  </a:lnTo>
                  <a:cubicBezTo>
                    <a:pt x="19" y="980"/>
                    <a:pt x="15" y="984"/>
                    <a:pt x="10" y="984"/>
                  </a:cubicBezTo>
                  <a:cubicBezTo>
                    <a:pt x="6" y="984"/>
                    <a:pt x="2" y="980"/>
                    <a:pt x="2" y="976"/>
                  </a:cubicBezTo>
                  <a:close/>
                  <a:moveTo>
                    <a:pt x="2" y="942"/>
                  </a:moveTo>
                  <a:lnTo>
                    <a:pt x="2" y="942"/>
                  </a:lnTo>
                  <a:cubicBezTo>
                    <a:pt x="2" y="938"/>
                    <a:pt x="6" y="934"/>
                    <a:pt x="10" y="934"/>
                  </a:cubicBezTo>
                  <a:cubicBezTo>
                    <a:pt x="15" y="934"/>
                    <a:pt x="19" y="938"/>
                    <a:pt x="19" y="942"/>
                  </a:cubicBezTo>
                  <a:lnTo>
                    <a:pt x="19" y="942"/>
                  </a:lnTo>
                  <a:cubicBezTo>
                    <a:pt x="19" y="947"/>
                    <a:pt x="15" y="951"/>
                    <a:pt x="10" y="951"/>
                  </a:cubicBezTo>
                  <a:cubicBezTo>
                    <a:pt x="6" y="951"/>
                    <a:pt x="2" y="947"/>
                    <a:pt x="2" y="942"/>
                  </a:cubicBezTo>
                  <a:close/>
                  <a:moveTo>
                    <a:pt x="2" y="909"/>
                  </a:moveTo>
                  <a:lnTo>
                    <a:pt x="2" y="909"/>
                  </a:lnTo>
                  <a:cubicBezTo>
                    <a:pt x="2" y="904"/>
                    <a:pt x="6" y="901"/>
                    <a:pt x="10" y="901"/>
                  </a:cubicBezTo>
                  <a:cubicBezTo>
                    <a:pt x="15" y="901"/>
                    <a:pt x="19" y="904"/>
                    <a:pt x="19" y="909"/>
                  </a:cubicBezTo>
                  <a:lnTo>
                    <a:pt x="19" y="909"/>
                  </a:lnTo>
                  <a:cubicBezTo>
                    <a:pt x="19" y="914"/>
                    <a:pt x="15" y="917"/>
                    <a:pt x="10" y="917"/>
                  </a:cubicBezTo>
                  <a:cubicBezTo>
                    <a:pt x="6" y="917"/>
                    <a:pt x="2" y="914"/>
                    <a:pt x="2" y="909"/>
                  </a:cubicBezTo>
                  <a:close/>
                  <a:moveTo>
                    <a:pt x="2" y="876"/>
                  </a:moveTo>
                  <a:lnTo>
                    <a:pt x="2" y="876"/>
                  </a:lnTo>
                  <a:cubicBezTo>
                    <a:pt x="2" y="871"/>
                    <a:pt x="6" y="867"/>
                    <a:pt x="11" y="867"/>
                  </a:cubicBezTo>
                  <a:cubicBezTo>
                    <a:pt x="15" y="867"/>
                    <a:pt x="19" y="871"/>
                    <a:pt x="19" y="876"/>
                  </a:cubicBezTo>
                  <a:lnTo>
                    <a:pt x="19" y="876"/>
                  </a:lnTo>
                  <a:cubicBezTo>
                    <a:pt x="19" y="880"/>
                    <a:pt x="15" y="884"/>
                    <a:pt x="11" y="884"/>
                  </a:cubicBezTo>
                  <a:cubicBezTo>
                    <a:pt x="6" y="884"/>
                    <a:pt x="2" y="880"/>
                    <a:pt x="2" y="876"/>
                  </a:cubicBezTo>
                  <a:close/>
                  <a:moveTo>
                    <a:pt x="2" y="842"/>
                  </a:moveTo>
                  <a:lnTo>
                    <a:pt x="2" y="842"/>
                  </a:lnTo>
                  <a:cubicBezTo>
                    <a:pt x="2" y="838"/>
                    <a:pt x="6" y="834"/>
                    <a:pt x="11" y="834"/>
                  </a:cubicBezTo>
                  <a:cubicBezTo>
                    <a:pt x="15" y="834"/>
                    <a:pt x="19" y="838"/>
                    <a:pt x="19" y="842"/>
                  </a:cubicBezTo>
                  <a:lnTo>
                    <a:pt x="19" y="842"/>
                  </a:lnTo>
                  <a:cubicBezTo>
                    <a:pt x="19" y="847"/>
                    <a:pt x="15" y="851"/>
                    <a:pt x="11" y="851"/>
                  </a:cubicBezTo>
                  <a:cubicBezTo>
                    <a:pt x="6" y="851"/>
                    <a:pt x="2" y="847"/>
                    <a:pt x="2" y="842"/>
                  </a:cubicBezTo>
                  <a:close/>
                  <a:moveTo>
                    <a:pt x="2" y="809"/>
                  </a:moveTo>
                  <a:lnTo>
                    <a:pt x="2" y="809"/>
                  </a:lnTo>
                  <a:cubicBezTo>
                    <a:pt x="2" y="804"/>
                    <a:pt x="6" y="801"/>
                    <a:pt x="11" y="801"/>
                  </a:cubicBezTo>
                  <a:cubicBezTo>
                    <a:pt x="15" y="801"/>
                    <a:pt x="19" y="804"/>
                    <a:pt x="19" y="809"/>
                  </a:cubicBezTo>
                  <a:lnTo>
                    <a:pt x="19" y="809"/>
                  </a:lnTo>
                  <a:cubicBezTo>
                    <a:pt x="19" y="814"/>
                    <a:pt x="15" y="817"/>
                    <a:pt x="11" y="817"/>
                  </a:cubicBezTo>
                  <a:cubicBezTo>
                    <a:pt x="6" y="817"/>
                    <a:pt x="2" y="814"/>
                    <a:pt x="2" y="809"/>
                  </a:cubicBezTo>
                  <a:close/>
                  <a:moveTo>
                    <a:pt x="2" y="776"/>
                  </a:moveTo>
                  <a:lnTo>
                    <a:pt x="2" y="776"/>
                  </a:lnTo>
                  <a:cubicBezTo>
                    <a:pt x="2" y="771"/>
                    <a:pt x="6" y="767"/>
                    <a:pt x="11" y="767"/>
                  </a:cubicBezTo>
                  <a:cubicBezTo>
                    <a:pt x="15" y="767"/>
                    <a:pt x="19" y="771"/>
                    <a:pt x="19" y="776"/>
                  </a:cubicBezTo>
                  <a:lnTo>
                    <a:pt x="19" y="776"/>
                  </a:lnTo>
                  <a:cubicBezTo>
                    <a:pt x="19" y="780"/>
                    <a:pt x="15" y="784"/>
                    <a:pt x="11" y="784"/>
                  </a:cubicBezTo>
                  <a:cubicBezTo>
                    <a:pt x="6" y="784"/>
                    <a:pt x="2" y="780"/>
                    <a:pt x="2" y="776"/>
                  </a:cubicBezTo>
                  <a:close/>
                  <a:moveTo>
                    <a:pt x="2" y="742"/>
                  </a:moveTo>
                  <a:lnTo>
                    <a:pt x="2" y="742"/>
                  </a:lnTo>
                  <a:cubicBezTo>
                    <a:pt x="2" y="738"/>
                    <a:pt x="6" y="734"/>
                    <a:pt x="11" y="734"/>
                  </a:cubicBezTo>
                  <a:cubicBezTo>
                    <a:pt x="15" y="734"/>
                    <a:pt x="19" y="738"/>
                    <a:pt x="19" y="742"/>
                  </a:cubicBezTo>
                  <a:lnTo>
                    <a:pt x="19" y="742"/>
                  </a:lnTo>
                  <a:cubicBezTo>
                    <a:pt x="19" y="747"/>
                    <a:pt x="15" y="751"/>
                    <a:pt x="11" y="751"/>
                  </a:cubicBezTo>
                  <a:cubicBezTo>
                    <a:pt x="6" y="751"/>
                    <a:pt x="2" y="747"/>
                    <a:pt x="2" y="742"/>
                  </a:cubicBezTo>
                  <a:close/>
                  <a:moveTo>
                    <a:pt x="2" y="709"/>
                  </a:moveTo>
                  <a:lnTo>
                    <a:pt x="2" y="709"/>
                  </a:lnTo>
                  <a:cubicBezTo>
                    <a:pt x="2" y="704"/>
                    <a:pt x="6" y="701"/>
                    <a:pt x="11" y="701"/>
                  </a:cubicBezTo>
                  <a:cubicBezTo>
                    <a:pt x="15" y="701"/>
                    <a:pt x="19" y="704"/>
                    <a:pt x="19" y="709"/>
                  </a:cubicBezTo>
                  <a:lnTo>
                    <a:pt x="19" y="709"/>
                  </a:lnTo>
                  <a:cubicBezTo>
                    <a:pt x="19" y="714"/>
                    <a:pt x="15" y="717"/>
                    <a:pt x="11" y="717"/>
                  </a:cubicBezTo>
                  <a:cubicBezTo>
                    <a:pt x="6" y="717"/>
                    <a:pt x="2" y="714"/>
                    <a:pt x="2" y="709"/>
                  </a:cubicBezTo>
                  <a:close/>
                  <a:moveTo>
                    <a:pt x="2" y="676"/>
                  </a:moveTo>
                  <a:lnTo>
                    <a:pt x="2" y="676"/>
                  </a:lnTo>
                  <a:cubicBezTo>
                    <a:pt x="2" y="671"/>
                    <a:pt x="6" y="667"/>
                    <a:pt x="11" y="667"/>
                  </a:cubicBezTo>
                  <a:cubicBezTo>
                    <a:pt x="15" y="667"/>
                    <a:pt x="19" y="671"/>
                    <a:pt x="19" y="676"/>
                  </a:cubicBezTo>
                  <a:lnTo>
                    <a:pt x="19" y="676"/>
                  </a:lnTo>
                  <a:cubicBezTo>
                    <a:pt x="19" y="680"/>
                    <a:pt x="15" y="684"/>
                    <a:pt x="11" y="684"/>
                  </a:cubicBezTo>
                  <a:cubicBezTo>
                    <a:pt x="6" y="684"/>
                    <a:pt x="2" y="680"/>
                    <a:pt x="2" y="676"/>
                  </a:cubicBezTo>
                  <a:close/>
                  <a:moveTo>
                    <a:pt x="3" y="642"/>
                  </a:moveTo>
                  <a:lnTo>
                    <a:pt x="3" y="642"/>
                  </a:lnTo>
                  <a:cubicBezTo>
                    <a:pt x="3" y="638"/>
                    <a:pt x="6" y="634"/>
                    <a:pt x="11" y="634"/>
                  </a:cubicBezTo>
                  <a:cubicBezTo>
                    <a:pt x="15" y="634"/>
                    <a:pt x="19" y="638"/>
                    <a:pt x="19" y="642"/>
                  </a:cubicBezTo>
                  <a:lnTo>
                    <a:pt x="19" y="642"/>
                  </a:lnTo>
                  <a:cubicBezTo>
                    <a:pt x="19" y="647"/>
                    <a:pt x="15" y="651"/>
                    <a:pt x="11" y="651"/>
                  </a:cubicBezTo>
                  <a:cubicBezTo>
                    <a:pt x="6" y="651"/>
                    <a:pt x="3" y="647"/>
                    <a:pt x="3" y="642"/>
                  </a:cubicBezTo>
                  <a:close/>
                  <a:moveTo>
                    <a:pt x="3" y="609"/>
                  </a:moveTo>
                  <a:lnTo>
                    <a:pt x="3" y="609"/>
                  </a:lnTo>
                  <a:cubicBezTo>
                    <a:pt x="3" y="604"/>
                    <a:pt x="6" y="601"/>
                    <a:pt x="11" y="601"/>
                  </a:cubicBezTo>
                  <a:cubicBezTo>
                    <a:pt x="16" y="601"/>
                    <a:pt x="19" y="604"/>
                    <a:pt x="19" y="609"/>
                  </a:cubicBezTo>
                  <a:lnTo>
                    <a:pt x="19" y="609"/>
                  </a:lnTo>
                  <a:cubicBezTo>
                    <a:pt x="19" y="613"/>
                    <a:pt x="16" y="617"/>
                    <a:pt x="11" y="617"/>
                  </a:cubicBezTo>
                  <a:cubicBezTo>
                    <a:pt x="6" y="617"/>
                    <a:pt x="3" y="613"/>
                    <a:pt x="3" y="609"/>
                  </a:cubicBezTo>
                  <a:close/>
                  <a:moveTo>
                    <a:pt x="3" y="576"/>
                  </a:moveTo>
                  <a:lnTo>
                    <a:pt x="3" y="576"/>
                  </a:lnTo>
                  <a:cubicBezTo>
                    <a:pt x="3" y="571"/>
                    <a:pt x="6" y="567"/>
                    <a:pt x="11" y="567"/>
                  </a:cubicBezTo>
                  <a:cubicBezTo>
                    <a:pt x="16" y="567"/>
                    <a:pt x="19" y="571"/>
                    <a:pt x="19" y="576"/>
                  </a:cubicBezTo>
                  <a:lnTo>
                    <a:pt x="19" y="576"/>
                  </a:lnTo>
                  <a:cubicBezTo>
                    <a:pt x="19" y="580"/>
                    <a:pt x="16" y="584"/>
                    <a:pt x="11" y="584"/>
                  </a:cubicBezTo>
                  <a:cubicBezTo>
                    <a:pt x="6" y="584"/>
                    <a:pt x="3" y="580"/>
                    <a:pt x="3" y="576"/>
                  </a:cubicBezTo>
                  <a:close/>
                  <a:moveTo>
                    <a:pt x="3" y="542"/>
                  </a:moveTo>
                  <a:lnTo>
                    <a:pt x="3" y="542"/>
                  </a:lnTo>
                  <a:cubicBezTo>
                    <a:pt x="3" y="538"/>
                    <a:pt x="6" y="534"/>
                    <a:pt x="11" y="534"/>
                  </a:cubicBezTo>
                  <a:cubicBezTo>
                    <a:pt x="16" y="534"/>
                    <a:pt x="19" y="538"/>
                    <a:pt x="19" y="542"/>
                  </a:cubicBezTo>
                  <a:lnTo>
                    <a:pt x="19" y="542"/>
                  </a:lnTo>
                  <a:cubicBezTo>
                    <a:pt x="19" y="547"/>
                    <a:pt x="16" y="551"/>
                    <a:pt x="11" y="551"/>
                  </a:cubicBezTo>
                  <a:cubicBezTo>
                    <a:pt x="6" y="551"/>
                    <a:pt x="3" y="547"/>
                    <a:pt x="3" y="542"/>
                  </a:cubicBezTo>
                  <a:close/>
                  <a:moveTo>
                    <a:pt x="3" y="509"/>
                  </a:moveTo>
                  <a:lnTo>
                    <a:pt x="3" y="509"/>
                  </a:lnTo>
                  <a:cubicBezTo>
                    <a:pt x="3" y="504"/>
                    <a:pt x="6" y="500"/>
                    <a:pt x="11" y="500"/>
                  </a:cubicBezTo>
                  <a:cubicBezTo>
                    <a:pt x="16" y="500"/>
                    <a:pt x="19" y="504"/>
                    <a:pt x="19" y="509"/>
                  </a:cubicBezTo>
                  <a:lnTo>
                    <a:pt x="19" y="509"/>
                  </a:lnTo>
                  <a:cubicBezTo>
                    <a:pt x="19" y="513"/>
                    <a:pt x="16" y="517"/>
                    <a:pt x="11" y="517"/>
                  </a:cubicBezTo>
                  <a:cubicBezTo>
                    <a:pt x="6" y="517"/>
                    <a:pt x="3" y="513"/>
                    <a:pt x="3" y="509"/>
                  </a:cubicBezTo>
                  <a:close/>
                  <a:moveTo>
                    <a:pt x="3" y="475"/>
                  </a:moveTo>
                  <a:lnTo>
                    <a:pt x="3" y="475"/>
                  </a:lnTo>
                  <a:cubicBezTo>
                    <a:pt x="3" y="471"/>
                    <a:pt x="6" y="467"/>
                    <a:pt x="11" y="467"/>
                  </a:cubicBezTo>
                  <a:cubicBezTo>
                    <a:pt x="16" y="467"/>
                    <a:pt x="19" y="471"/>
                    <a:pt x="19" y="475"/>
                  </a:cubicBezTo>
                  <a:lnTo>
                    <a:pt x="19" y="475"/>
                  </a:lnTo>
                  <a:cubicBezTo>
                    <a:pt x="19" y="480"/>
                    <a:pt x="16" y="484"/>
                    <a:pt x="11" y="484"/>
                  </a:cubicBezTo>
                  <a:cubicBezTo>
                    <a:pt x="6" y="484"/>
                    <a:pt x="3" y="480"/>
                    <a:pt x="3" y="475"/>
                  </a:cubicBezTo>
                  <a:close/>
                  <a:moveTo>
                    <a:pt x="3" y="442"/>
                  </a:moveTo>
                  <a:lnTo>
                    <a:pt x="3" y="442"/>
                  </a:lnTo>
                  <a:cubicBezTo>
                    <a:pt x="3" y="438"/>
                    <a:pt x="7" y="434"/>
                    <a:pt x="11" y="434"/>
                  </a:cubicBezTo>
                  <a:cubicBezTo>
                    <a:pt x="16" y="434"/>
                    <a:pt x="19" y="438"/>
                    <a:pt x="19" y="442"/>
                  </a:cubicBezTo>
                  <a:lnTo>
                    <a:pt x="19" y="442"/>
                  </a:lnTo>
                  <a:cubicBezTo>
                    <a:pt x="19" y="447"/>
                    <a:pt x="16" y="450"/>
                    <a:pt x="11" y="450"/>
                  </a:cubicBezTo>
                  <a:cubicBezTo>
                    <a:pt x="7" y="450"/>
                    <a:pt x="3" y="447"/>
                    <a:pt x="3" y="442"/>
                  </a:cubicBezTo>
                  <a:close/>
                  <a:moveTo>
                    <a:pt x="3" y="409"/>
                  </a:moveTo>
                  <a:lnTo>
                    <a:pt x="3" y="409"/>
                  </a:lnTo>
                  <a:cubicBezTo>
                    <a:pt x="3" y="404"/>
                    <a:pt x="7" y="400"/>
                    <a:pt x="11" y="400"/>
                  </a:cubicBezTo>
                  <a:cubicBezTo>
                    <a:pt x="16" y="400"/>
                    <a:pt x="20" y="404"/>
                    <a:pt x="20" y="409"/>
                  </a:cubicBezTo>
                  <a:lnTo>
                    <a:pt x="20" y="409"/>
                  </a:lnTo>
                  <a:cubicBezTo>
                    <a:pt x="20" y="413"/>
                    <a:pt x="16" y="417"/>
                    <a:pt x="11" y="417"/>
                  </a:cubicBezTo>
                  <a:cubicBezTo>
                    <a:pt x="7" y="417"/>
                    <a:pt x="3" y="413"/>
                    <a:pt x="3" y="409"/>
                  </a:cubicBezTo>
                  <a:close/>
                  <a:moveTo>
                    <a:pt x="3" y="375"/>
                  </a:moveTo>
                  <a:lnTo>
                    <a:pt x="3" y="375"/>
                  </a:lnTo>
                  <a:cubicBezTo>
                    <a:pt x="3" y="371"/>
                    <a:pt x="7" y="367"/>
                    <a:pt x="11" y="367"/>
                  </a:cubicBezTo>
                  <a:cubicBezTo>
                    <a:pt x="16" y="367"/>
                    <a:pt x="20" y="371"/>
                    <a:pt x="20" y="375"/>
                  </a:cubicBezTo>
                  <a:lnTo>
                    <a:pt x="20" y="375"/>
                  </a:lnTo>
                  <a:cubicBezTo>
                    <a:pt x="20" y="380"/>
                    <a:pt x="16" y="384"/>
                    <a:pt x="11" y="384"/>
                  </a:cubicBezTo>
                  <a:cubicBezTo>
                    <a:pt x="7" y="384"/>
                    <a:pt x="3" y="380"/>
                    <a:pt x="3" y="375"/>
                  </a:cubicBezTo>
                  <a:close/>
                  <a:moveTo>
                    <a:pt x="3" y="342"/>
                  </a:moveTo>
                  <a:lnTo>
                    <a:pt x="3" y="342"/>
                  </a:lnTo>
                  <a:cubicBezTo>
                    <a:pt x="3" y="337"/>
                    <a:pt x="7" y="334"/>
                    <a:pt x="11" y="334"/>
                  </a:cubicBezTo>
                  <a:cubicBezTo>
                    <a:pt x="16" y="334"/>
                    <a:pt x="20" y="337"/>
                    <a:pt x="20" y="342"/>
                  </a:cubicBezTo>
                  <a:lnTo>
                    <a:pt x="20" y="342"/>
                  </a:lnTo>
                  <a:cubicBezTo>
                    <a:pt x="20" y="347"/>
                    <a:pt x="16" y="350"/>
                    <a:pt x="11" y="350"/>
                  </a:cubicBezTo>
                  <a:cubicBezTo>
                    <a:pt x="7" y="350"/>
                    <a:pt x="3" y="347"/>
                    <a:pt x="3" y="342"/>
                  </a:cubicBezTo>
                  <a:close/>
                  <a:moveTo>
                    <a:pt x="3" y="309"/>
                  </a:moveTo>
                  <a:lnTo>
                    <a:pt x="3" y="309"/>
                  </a:lnTo>
                  <a:cubicBezTo>
                    <a:pt x="3" y="304"/>
                    <a:pt x="7" y="300"/>
                    <a:pt x="11" y="300"/>
                  </a:cubicBezTo>
                  <a:cubicBezTo>
                    <a:pt x="16" y="300"/>
                    <a:pt x="20" y="304"/>
                    <a:pt x="20" y="309"/>
                  </a:cubicBezTo>
                  <a:lnTo>
                    <a:pt x="20" y="309"/>
                  </a:lnTo>
                  <a:cubicBezTo>
                    <a:pt x="20" y="313"/>
                    <a:pt x="16" y="317"/>
                    <a:pt x="11" y="317"/>
                  </a:cubicBezTo>
                  <a:cubicBezTo>
                    <a:pt x="7" y="317"/>
                    <a:pt x="3" y="313"/>
                    <a:pt x="3" y="309"/>
                  </a:cubicBezTo>
                  <a:close/>
                  <a:moveTo>
                    <a:pt x="3" y="275"/>
                  </a:moveTo>
                  <a:lnTo>
                    <a:pt x="3" y="275"/>
                  </a:lnTo>
                  <a:cubicBezTo>
                    <a:pt x="3" y="271"/>
                    <a:pt x="7" y="267"/>
                    <a:pt x="11" y="267"/>
                  </a:cubicBezTo>
                  <a:cubicBezTo>
                    <a:pt x="16" y="267"/>
                    <a:pt x="20" y="271"/>
                    <a:pt x="20" y="275"/>
                  </a:cubicBezTo>
                  <a:lnTo>
                    <a:pt x="20" y="275"/>
                  </a:lnTo>
                  <a:cubicBezTo>
                    <a:pt x="20" y="280"/>
                    <a:pt x="16" y="284"/>
                    <a:pt x="11" y="284"/>
                  </a:cubicBezTo>
                  <a:cubicBezTo>
                    <a:pt x="7" y="284"/>
                    <a:pt x="3" y="280"/>
                    <a:pt x="3" y="275"/>
                  </a:cubicBezTo>
                  <a:close/>
                  <a:moveTo>
                    <a:pt x="3" y="242"/>
                  </a:moveTo>
                  <a:lnTo>
                    <a:pt x="3" y="242"/>
                  </a:lnTo>
                  <a:cubicBezTo>
                    <a:pt x="3" y="237"/>
                    <a:pt x="7" y="234"/>
                    <a:pt x="11" y="234"/>
                  </a:cubicBezTo>
                  <a:cubicBezTo>
                    <a:pt x="16" y="234"/>
                    <a:pt x="20" y="237"/>
                    <a:pt x="20" y="242"/>
                  </a:cubicBezTo>
                  <a:lnTo>
                    <a:pt x="20" y="242"/>
                  </a:lnTo>
                  <a:cubicBezTo>
                    <a:pt x="20" y="247"/>
                    <a:pt x="16" y="250"/>
                    <a:pt x="11" y="250"/>
                  </a:cubicBezTo>
                  <a:cubicBezTo>
                    <a:pt x="7" y="250"/>
                    <a:pt x="3" y="247"/>
                    <a:pt x="3" y="242"/>
                  </a:cubicBezTo>
                  <a:close/>
                  <a:moveTo>
                    <a:pt x="3" y="209"/>
                  </a:moveTo>
                  <a:lnTo>
                    <a:pt x="3" y="209"/>
                  </a:lnTo>
                  <a:cubicBezTo>
                    <a:pt x="3" y="204"/>
                    <a:pt x="7" y="200"/>
                    <a:pt x="11" y="200"/>
                  </a:cubicBezTo>
                  <a:cubicBezTo>
                    <a:pt x="16" y="200"/>
                    <a:pt x="20" y="204"/>
                    <a:pt x="20" y="209"/>
                  </a:cubicBezTo>
                  <a:lnTo>
                    <a:pt x="20" y="209"/>
                  </a:lnTo>
                  <a:cubicBezTo>
                    <a:pt x="20" y="213"/>
                    <a:pt x="16" y="217"/>
                    <a:pt x="11" y="217"/>
                  </a:cubicBezTo>
                  <a:cubicBezTo>
                    <a:pt x="7" y="217"/>
                    <a:pt x="3" y="213"/>
                    <a:pt x="3" y="209"/>
                  </a:cubicBezTo>
                  <a:close/>
                  <a:moveTo>
                    <a:pt x="3" y="175"/>
                  </a:moveTo>
                  <a:lnTo>
                    <a:pt x="3" y="175"/>
                  </a:lnTo>
                  <a:cubicBezTo>
                    <a:pt x="3" y="171"/>
                    <a:pt x="7" y="167"/>
                    <a:pt x="12" y="167"/>
                  </a:cubicBezTo>
                  <a:cubicBezTo>
                    <a:pt x="16" y="167"/>
                    <a:pt x="20" y="171"/>
                    <a:pt x="20" y="175"/>
                  </a:cubicBezTo>
                  <a:lnTo>
                    <a:pt x="20" y="175"/>
                  </a:lnTo>
                  <a:cubicBezTo>
                    <a:pt x="20" y="180"/>
                    <a:pt x="16" y="184"/>
                    <a:pt x="12" y="184"/>
                  </a:cubicBezTo>
                  <a:cubicBezTo>
                    <a:pt x="7" y="184"/>
                    <a:pt x="3" y="180"/>
                    <a:pt x="3" y="175"/>
                  </a:cubicBezTo>
                  <a:close/>
                  <a:moveTo>
                    <a:pt x="3" y="142"/>
                  </a:moveTo>
                  <a:lnTo>
                    <a:pt x="3" y="142"/>
                  </a:lnTo>
                  <a:cubicBezTo>
                    <a:pt x="3" y="137"/>
                    <a:pt x="7" y="134"/>
                    <a:pt x="12" y="134"/>
                  </a:cubicBezTo>
                  <a:cubicBezTo>
                    <a:pt x="16" y="134"/>
                    <a:pt x="20" y="137"/>
                    <a:pt x="20" y="142"/>
                  </a:cubicBezTo>
                  <a:lnTo>
                    <a:pt x="20" y="142"/>
                  </a:lnTo>
                  <a:cubicBezTo>
                    <a:pt x="20" y="147"/>
                    <a:pt x="16" y="150"/>
                    <a:pt x="12" y="150"/>
                  </a:cubicBezTo>
                  <a:cubicBezTo>
                    <a:pt x="7" y="150"/>
                    <a:pt x="3" y="147"/>
                    <a:pt x="3" y="142"/>
                  </a:cubicBezTo>
                  <a:close/>
                  <a:moveTo>
                    <a:pt x="3" y="109"/>
                  </a:moveTo>
                  <a:lnTo>
                    <a:pt x="3" y="109"/>
                  </a:lnTo>
                  <a:cubicBezTo>
                    <a:pt x="3" y="104"/>
                    <a:pt x="7" y="100"/>
                    <a:pt x="12" y="100"/>
                  </a:cubicBezTo>
                  <a:cubicBezTo>
                    <a:pt x="16" y="100"/>
                    <a:pt x="20" y="104"/>
                    <a:pt x="20" y="109"/>
                  </a:cubicBezTo>
                  <a:lnTo>
                    <a:pt x="20" y="109"/>
                  </a:lnTo>
                  <a:cubicBezTo>
                    <a:pt x="20" y="113"/>
                    <a:pt x="16" y="117"/>
                    <a:pt x="12" y="117"/>
                  </a:cubicBezTo>
                  <a:cubicBezTo>
                    <a:pt x="7" y="117"/>
                    <a:pt x="3" y="113"/>
                    <a:pt x="3" y="109"/>
                  </a:cubicBezTo>
                  <a:close/>
                  <a:moveTo>
                    <a:pt x="3" y="75"/>
                  </a:moveTo>
                  <a:lnTo>
                    <a:pt x="3" y="75"/>
                  </a:lnTo>
                  <a:cubicBezTo>
                    <a:pt x="3" y="71"/>
                    <a:pt x="7" y="67"/>
                    <a:pt x="12" y="67"/>
                  </a:cubicBezTo>
                  <a:cubicBezTo>
                    <a:pt x="16" y="67"/>
                    <a:pt x="20" y="71"/>
                    <a:pt x="20" y="75"/>
                  </a:cubicBezTo>
                  <a:lnTo>
                    <a:pt x="20" y="75"/>
                  </a:lnTo>
                  <a:cubicBezTo>
                    <a:pt x="20" y="80"/>
                    <a:pt x="16" y="84"/>
                    <a:pt x="12" y="84"/>
                  </a:cubicBezTo>
                  <a:cubicBezTo>
                    <a:pt x="7" y="84"/>
                    <a:pt x="3" y="80"/>
                    <a:pt x="3" y="75"/>
                  </a:cubicBezTo>
                  <a:close/>
                  <a:moveTo>
                    <a:pt x="3" y="42"/>
                  </a:moveTo>
                  <a:lnTo>
                    <a:pt x="3" y="42"/>
                  </a:lnTo>
                  <a:cubicBezTo>
                    <a:pt x="3" y="37"/>
                    <a:pt x="7" y="34"/>
                    <a:pt x="12" y="34"/>
                  </a:cubicBezTo>
                  <a:cubicBezTo>
                    <a:pt x="16" y="34"/>
                    <a:pt x="20" y="37"/>
                    <a:pt x="20" y="42"/>
                  </a:cubicBezTo>
                  <a:lnTo>
                    <a:pt x="20" y="42"/>
                  </a:lnTo>
                  <a:cubicBezTo>
                    <a:pt x="20" y="47"/>
                    <a:pt x="16" y="50"/>
                    <a:pt x="12" y="50"/>
                  </a:cubicBezTo>
                  <a:cubicBezTo>
                    <a:pt x="7" y="50"/>
                    <a:pt x="3" y="47"/>
                    <a:pt x="3" y="42"/>
                  </a:cubicBezTo>
                  <a:close/>
                  <a:moveTo>
                    <a:pt x="3" y="9"/>
                  </a:moveTo>
                  <a:lnTo>
                    <a:pt x="3" y="9"/>
                  </a:lnTo>
                  <a:cubicBezTo>
                    <a:pt x="3" y="4"/>
                    <a:pt x="7" y="0"/>
                    <a:pt x="12" y="0"/>
                  </a:cubicBezTo>
                  <a:cubicBezTo>
                    <a:pt x="16" y="0"/>
                    <a:pt x="20" y="4"/>
                    <a:pt x="20" y="9"/>
                  </a:cubicBezTo>
                  <a:lnTo>
                    <a:pt x="20" y="9"/>
                  </a:lnTo>
                  <a:cubicBezTo>
                    <a:pt x="20" y="13"/>
                    <a:pt x="16" y="17"/>
                    <a:pt x="12" y="17"/>
                  </a:cubicBezTo>
                  <a:cubicBezTo>
                    <a:pt x="7" y="17"/>
                    <a:pt x="3" y="13"/>
                    <a:pt x="3" y="9"/>
                  </a:cubicBez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935680" y="3860640"/>
              <a:ext cx="3240" cy="454320"/>
            </a:xfrm>
            <a:custGeom>
              <a:avLst/>
              <a:gdLst/>
              <a:ahLst/>
              <a:rect l="l" t="t" r="r" b="b"/>
              <a:pathLst>
                <a:path w="20" h="2385">
                  <a:moveTo>
                    <a:pt x="0" y="2376"/>
                  </a:moveTo>
                  <a:lnTo>
                    <a:pt x="0" y="2376"/>
                  </a:lnTo>
                  <a:cubicBezTo>
                    <a:pt x="0" y="2372"/>
                    <a:pt x="4" y="2368"/>
                    <a:pt x="8" y="2368"/>
                  </a:cubicBezTo>
                  <a:cubicBezTo>
                    <a:pt x="13" y="2368"/>
                    <a:pt x="17" y="2372"/>
                    <a:pt x="17" y="2376"/>
                  </a:cubicBezTo>
                  <a:lnTo>
                    <a:pt x="17" y="2376"/>
                  </a:lnTo>
                  <a:cubicBezTo>
                    <a:pt x="17" y="2381"/>
                    <a:pt x="13" y="2385"/>
                    <a:pt x="8" y="2385"/>
                  </a:cubicBezTo>
                  <a:cubicBezTo>
                    <a:pt x="4" y="2385"/>
                    <a:pt x="0" y="2381"/>
                    <a:pt x="0" y="2376"/>
                  </a:cubicBezTo>
                  <a:close/>
                  <a:moveTo>
                    <a:pt x="0" y="2343"/>
                  </a:moveTo>
                  <a:lnTo>
                    <a:pt x="0" y="2343"/>
                  </a:lnTo>
                  <a:cubicBezTo>
                    <a:pt x="0" y="2338"/>
                    <a:pt x="4" y="2335"/>
                    <a:pt x="9" y="2335"/>
                  </a:cubicBezTo>
                  <a:cubicBezTo>
                    <a:pt x="13" y="2335"/>
                    <a:pt x="17" y="2338"/>
                    <a:pt x="17" y="2343"/>
                  </a:cubicBezTo>
                  <a:lnTo>
                    <a:pt x="17" y="2343"/>
                  </a:lnTo>
                  <a:cubicBezTo>
                    <a:pt x="17" y="2348"/>
                    <a:pt x="13" y="2351"/>
                    <a:pt x="9" y="2351"/>
                  </a:cubicBezTo>
                  <a:cubicBezTo>
                    <a:pt x="4" y="2351"/>
                    <a:pt x="0" y="2348"/>
                    <a:pt x="0" y="2343"/>
                  </a:cubicBezTo>
                  <a:close/>
                  <a:moveTo>
                    <a:pt x="0" y="2310"/>
                  </a:moveTo>
                  <a:lnTo>
                    <a:pt x="0" y="2310"/>
                  </a:lnTo>
                  <a:cubicBezTo>
                    <a:pt x="0" y="2305"/>
                    <a:pt x="4" y="2301"/>
                    <a:pt x="9" y="2301"/>
                  </a:cubicBezTo>
                  <a:cubicBezTo>
                    <a:pt x="13" y="2301"/>
                    <a:pt x="17" y="2305"/>
                    <a:pt x="17" y="2310"/>
                  </a:cubicBezTo>
                  <a:lnTo>
                    <a:pt x="17" y="2310"/>
                  </a:lnTo>
                  <a:cubicBezTo>
                    <a:pt x="17" y="2314"/>
                    <a:pt x="13" y="2318"/>
                    <a:pt x="9" y="2318"/>
                  </a:cubicBezTo>
                  <a:cubicBezTo>
                    <a:pt x="4" y="2318"/>
                    <a:pt x="0" y="2314"/>
                    <a:pt x="0" y="2310"/>
                  </a:cubicBezTo>
                  <a:close/>
                  <a:moveTo>
                    <a:pt x="0" y="2276"/>
                  </a:moveTo>
                  <a:lnTo>
                    <a:pt x="0" y="2276"/>
                  </a:lnTo>
                  <a:cubicBezTo>
                    <a:pt x="0" y="2272"/>
                    <a:pt x="4" y="2268"/>
                    <a:pt x="9" y="2268"/>
                  </a:cubicBezTo>
                  <a:cubicBezTo>
                    <a:pt x="13" y="2268"/>
                    <a:pt x="17" y="2272"/>
                    <a:pt x="17" y="2276"/>
                  </a:cubicBezTo>
                  <a:lnTo>
                    <a:pt x="17" y="2276"/>
                  </a:lnTo>
                  <a:cubicBezTo>
                    <a:pt x="17" y="2281"/>
                    <a:pt x="13" y="2285"/>
                    <a:pt x="9" y="2285"/>
                  </a:cubicBezTo>
                  <a:cubicBezTo>
                    <a:pt x="4" y="2285"/>
                    <a:pt x="0" y="2281"/>
                    <a:pt x="0" y="2276"/>
                  </a:cubicBezTo>
                  <a:close/>
                  <a:moveTo>
                    <a:pt x="0" y="2243"/>
                  </a:moveTo>
                  <a:lnTo>
                    <a:pt x="0" y="2243"/>
                  </a:lnTo>
                  <a:cubicBezTo>
                    <a:pt x="0" y="2238"/>
                    <a:pt x="4" y="2235"/>
                    <a:pt x="9" y="2235"/>
                  </a:cubicBezTo>
                  <a:cubicBezTo>
                    <a:pt x="13" y="2235"/>
                    <a:pt x="17" y="2238"/>
                    <a:pt x="17" y="2243"/>
                  </a:cubicBezTo>
                  <a:lnTo>
                    <a:pt x="17" y="2243"/>
                  </a:lnTo>
                  <a:cubicBezTo>
                    <a:pt x="17" y="2248"/>
                    <a:pt x="13" y="2251"/>
                    <a:pt x="9" y="2251"/>
                  </a:cubicBezTo>
                  <a:cubicBezTo>
                    <a:pt x="4" y="2251"/>
                    <a:pt x="0" y="2248"/>
                    <a:pt x="0" y="2243"/>
                  </a:cubicBezTo>
                  <a:close/>
                  <a:moveTo>
                    <a:pt x="0" y="2210"/>
                  </a:moveTo>
                  <a:lnTo>
                    <a:pt x="0" y="2210"/>
                  </a:lnTo>
                  <a:cubicBezTo>
                    <a:pt x="0" y="2205"/>
                    <a:pt x="4" y="2201"/>
                    <a:pt x="9" y="2201"/>
                  </a:cubicBezTo>
                  <a:cubicBezTo>
                    <a:pt x="13" y="2201"/>
                    <a:pt x="17" y="2205"/>
                    <a:pt x="17" y="2210"/>
                  </a:cubicBezTo>
                  <a:lnTo>
                    <a:pt x="17" y="2210"/>
                  </a:lnTo>
                  <a:cubicBezTo>
                    <a:pt x="17" y="2214"/>
                    <a:pt x="13" y="2218"/>
                    <a:pt x="9" y="2218"/>
                  </a:cubicBezTo>
                  <a:cubicBezTo>
                    <a:pt x="4" y="2218"/>
                    <a:pt x="0" y="2214"/>
                    <a:pt x="0" y="2210"/>
                  </a:cubicBezTo>
                  <a:close/>
                  <a:moveTo>
                    <a:pt x="0" y="2176"/>
                  </a:moveTo>
                  <a:lnTo>
                    <a:pt x="0" y="2176"/>
                  </a:lnTo>
                  <a:cubicBezTo>
                    <a:pt x="0" y="2172"/>
                    <a:pt x="4" y="2168"/>
                    <a:pt x="9" y="2168"/>
                  </a:cubicBezTo>
                  <a:cubicBezTo>
                    <a:pt x="13" y="2168"/>
                    <a:pt x="17" y="2172"/>
                    <a:pt x="17" y="2176"/>
                  </a:cubicBezTo>
                  <a:lnTo>
                    <a:pt x="17" y="2176"/>
                  </a:lnTo>
                  <a:cubicBezTo>
                    <a:pt x="17" y="2181"/>
                    <a:pt x="13" y="2185"/>
                    <a:pt x="9" y="2185"/>
                  </a:cubicBezTo>
                  <a:cubicBezTo>
                    <a:pt x="4" y="2185"/>
                    <a:pt x="0" y="2181"/>
                    <a:pt x="0" y="2176"/>
                  </a:cubicBezTo>
                  <a:close/>
                  <a:moveTo>
                    <a:pt x="0" y="2143"/>
                  </a:moveTo>
                  <a:lnTo>
                    <a:pt x="0" y="2143"/>
                  </a:lnTo>
                  <a:cubicBezTo>
                    <a:pt x="0" y="2138"/>
                    <a:pt x="4" y="2135"/>
                    <a:pt x="9" y="2135"/>
                  </a:cubicBezTo>
                  <a:cubicBezTo>
                    <a:pt x="13" y="2135"/>
                    <a:pt x="17" y="2138"/>
                    <a:pt x="17" y="2143"/>
                  </a:cubicBezTo>
                  <a:lnTo>
                    <a:pt x="17" y="2143"/>
                  </a:lnTo>
                  <a:cubicBezTo>
                    <a:pt x="17" y="2148"/>
                    <a:pt x="13" y="2151"/>
                    <a:pt x="9" y="2151"/>
                  </a:cubicBezTo>
                  <a:cubicBezTo>
                    <a:pt x="4" y="2151"/>
                    <a:pt x="0" y="2148"/>
                    <a:pt x="0" y="2143"/>
                  </a:cubicBezTo>
                  <a:close/>
                  <a:moveTo>
                    <a:pt x="0" y="2110"/>
                  </a:moveTo>
                  <a:lnTo>
                    <a:pt x="0" y="2110"/>
                  </a:lnTo>
                  <a:cubicBezTo>
                    <a:pt x="0" y="2105"/>
                    <a:pt x="4" y="2101"/>
                    <a:pt x="9" y="2101"/>
                  </a:cubicBezTo>
                  <a:cubicBezTo>
                    <a:pt x="13" y="2101"/>
                    <a:pt x="17" y="2105"/>
                    <a:pt x="17" y="2110"/>
                  </a:cubicBezTo>
                  <a:lnTo>
                    <a:pt x="17" y="2110"/>
                  </a:lnTo>
                  <a:cubicBezTo>
                    <a:pt x="17" y="2114"/>
                    <a:pt x="13" y="2118"/>
                    <a:pt x="9" y="2118"/>
                  </a:cubicBezTo>
                  <a:cubicBezTo>
                    <a:pt x="4" y="2118"/>
                    <a:pt x="0" y="2114"/>
                    <a:pt x="0" y="2110"/>
                  </a:cubicBezTo>
                  <a:close/>
                  <a:moveTo>
                    <a:pt x="1" y="2076"/>
                  </a:moveTo>
                  <a:lnTo>
                    <a:pt x="1" y="2076"/>
                  </a:lnTo>
                  <a:cubicBezTo>
                    <a:pt x="1" y="2072"/>
                    <a:pt x="4" y="2068"/>
                    <a:pt x="9" y="2068"/>
                  </a:cubicBezTo>
                  <a:cubicBezTo>
                    <a:pt x="13" y="2068"/>
                    <a:pt x="17" y="2072"/>
                    <a:pt x="17" y="2076"/>
                  </a:cubicBezTo>
                  <a:lnTo>
                    <a:pt x="17" y="2076"/>
                  </a:lnTo>
                  <a:cubicBezTo>
                    <a:pt x="17" y="2081"/>
                    <a:pt x="13" y="2085"/>
                    <a:pt x="9" y="2085"/>
                  </a:cubicBezTo>
                  <a:cubicBezTo>
                    <a:pt x="4" y="2085"/>
                    <a:pt x="1" y="2081"/>
                    <a:pt x="1" y="2076"/>
                  </a:cubicBezTo>
                  <a:close/>
                  <a:moveTo>
                    <a:pt x="1" y="2043"/>
                  </a:moveTo>
                  <a:lnTo>
                    <a:pt x="1" y="2043"/>
                  </a:lnTo>
                  <a:cubicBezTo>
                    <a:pt x="1" y="2038"/>
                    <a:pt x="4" y="2035"/>
                    <a:pt x="9" y="2035"/>
                  </a:cubicBezTo>
                  <a:cubicBezTo>
                    <a:pt x="14" y="2035"/>
                    <a:pt x="17" y="2038"/>
                    <a:pt x="17" y="2043"/>
                  </a:cubicBezTo>
                  <a:lnTo>
                    <a:pt x="17" y="2043"/>
                  </a:lnTo>
                  <a:cubicBezTo>
                    <a:pt x="17" y="2048"/>
                    <a:pt x="14" y="2051"/>
                    <a:pt x="9" y="2051"/>
                  </a:cubicBezTo>
                  <a:cubicBezTo>
                    <a:pt x="4" y="2051"/>
                    <a:pt x="1" y="2048"/>
                    <a:pt x="1" y="2043"/>
                  </a:cubicBezTo>
                  <a:close/>
                  <a:moveTo>
                    <a:pt x="1" y="2010"/>
                  </a:moveTo>
                  <a:lnTo>
                    <a:pt x="1" y="2010"/>
                  </a:lnTo>
                  <a:cubicBezTo>
                    <a:pt x="1" y="2005"/>
                    <a:pt x="4" y="2001"/>
                    <a:pt x="9" y="2001"/>
                  </a:cubicBezTo>
                  <a:cubicBezTo>
                    <a:pt x="14" y="2001"/>
                    <a:pt x="17" y="2005"/>
                    <a:pt x="17" y="2010"/>
                  </a:cubicBezTo>
                  <a:lnTo>
                    <a:pt x="17" y="2010"/>
                  </a:lnTo>
                  <a:cubicBezTo>
                    <a:pt x="17" y="2014"/>
                    <a:pt x="14" y="2018"/>
                    <a:pt x="9" y="2018"/>
                  </a:cubicBezTo>
                  <a:cubicBezTo>
                    <a:pt x="4" y="2018"/>
                    <a:pt x="1" y="2014"/>
                    <a:pt x="1" y="2010"/>
                  </a:cubicBezTo>
                  <a:close/>
                  <a:moveTo>
                    <a:pt x="1" y="1976"/>
                  </a:moveTo>
                  <a:lnTo>
                    <a:pt x="1" y="1976"/>
                  </a:lnTo>
                  <a:cubicBezTo>
                    <a:pt x="1" y="1972"/>
                    <a:pt x="4" y="1968"/>
                    <a:pt x="9" y="1968"/>
                  </a:cubicBezTo>
                  <a:cubicBezTo>
                    <a:pt x="14" y="1968"/>
                    <a:pt x="17" y="1972"/>
                    <a:pt x="17" y="1976"/>
                  </a:cubicBezTo>
                  <a:lnTo>
                    <a:pt x="17" y="1976"/>
                  </a:lnTo>
                  <a:cubicBezTo>
                    <a:pt x="17" y="1981"/>
                    <a:pt x="14" y="1985"/>
                    <a:pt x="9" y="1985"/>
                  </a:cubicBezTo>
                  <a:cubicBezTo>
                    <a:pt x="4" y="1985"/>
                    <a:pt x="1" y="1981"/>
                    <a:pt x="1" y="1976"/>
                  </a:cubicBezTo>
                  <a:close/>
                  <a:moveTo>
                    <a:pt x="1" y="1943"/>
                  </a:moveTo>
                  <a:lnTo>
                    <a:pt x="1" y="1943"/>
                  </a:lnTo>
                  <a:cubicBezTo>
                    <a:pt x="1" y="1938"/>
                    <a:pt x="4" y="1935"/>
                    <a:pt x="9" y="1935"/>
                  </a:cubicBezTo>
                  <a:cubicBezTo>
                    <a:pt x="14" y="1935"/>
                    <a:pt x="17" y="1938"/>
                    <a:pt x="17" y="1943"/>
                  </a:cubicBezTo>
                  <a:lnTo>
                    <a:pt x="17" y="1943"/>
                  </a:lnTo>
                  <a:cubicBezTo>
                    <a:pt x="17" y="1948"/>
                    <a:pt x="14" y="1951"/>
                    <a:pt x="9" y="1951"/>
                  </a:cubicBezTo>
                  <a:cubicBezTo>
                    <a:pt x="4" y="1951"/>
                    <a:pt x="1" y="1948"/>
                    <a:pt x="1" y="1943"/>
                  </a:cubicBezTo>
                  <a:close/>
                  <a:moveTo>
                    <a:pt x="1" y="1910"/>
                  </a:moveTo>
                  <a:lnTo>
                    <a:pt x="1" y="1910"/>
                  </a:lnTo>
                  <a:cubicBezTo>
                    <a:pt x="1" y="1905"/>
                    <a:pt x="4" y="1901"/>
                    <a:pt x="9" y="1901"/>
                  </a:cubicBezTo>
                  <a:cubicBezTo>
                    <a:pt x="14" y="1901"/>
                    <a:pt x="17" y="1905"/>
                    <a:pt x="17" y="1910"/>
                  </a:cubicBezTo>
                  <a:lnTo>
                    <a:pt x="17" y="1910"/>
                  </a:lnTo>
                  <a:cubicBezTo>
                    <a:pt x="17" y="1914"/>
                    <a:pt x="14" y="1918"/>
                    <a:pt x="9" y="1918"/>
                  </a:cubicBezTo>
                  <a:cubicBezTo>
                    <a:pt x="4" y="1918"/>
                    <a:pt x="1" y="1914"/>
                    <a:pt x="1" y="1910"/>
                  </a:cubicBezTo>
                  <a:close/>
                  <a:moveTo>
                    <a:pt x="1" y="1876"/>
                  </a:moveTo>
                  <a:lnTo>
                    <a:pt x="1" y="1876"/>
                  </a:lnTo>
                  <a:cubicBezTo>
                    <a:pt x="1" y="1872"/>
                    <a:pt x="5" y="1868"/>
                    <a:pt x="9" y="1868"/>
                  </a:cubicBezTo>
                  <a:cubicBezTo>
                    <a:pt x="14" y="1868"/>
                    <a:pt x="17" y="1872"/>
                    <a:pt x="17" y="1876"/>
                  </a:cubicBezTo>
                  <a:lnTo>
                    <a:pt x="17" y="1876"/>
                  </a:lnTo>
                  <a:cubicBezTo>
                    <a:pt x="17" y="1881"/>
                    <a:pt x="14" y="1885"/>
                    <a:pt x="9" y="1885"/>
                  </a:cubicBezTo>
                  <a:cubicBezTo>
                    <a:pt x="5" y="1885"/>
                    <a:pt x="1" y="1881"/>
                    <a:pt x="1" y="1876"/>
                  </a:cubicBezTo>
                  <a:close/>
                  <a:moveTo>
                    <a:pt x="1" y="1843"/>
                  </a:moveTo>
                  <a:lnTo>
                    <a:pt x="1" y="1843"/>
                  </a:lnTo>
                  <a:cubicBezTo>
                    <a:pt x="1" y="1838"/>
                    <a:pt x="5" y="1834"/>
                    <a:pt x="9" y="1834"/>
                  </a:cubicBezTo>
                  <a:cubicBezTo>
                    <a:pt x="14" y="1834"/>
                    <a:pt x="18" y="1838"/>
                    <a:pt x="18" y="1843"/>
                  </a:cubicBezTo>
                  <a:lnTo>
                    <a:pt x="18" y="1843"/>
                  </a:lnTo>
                  <a:cubicBezTo>
                    <a:pt x="18" y="1847"/>
                    <a:pt x="14" y="1851"/>
                    <a:pt x="9" y="1851"/>
                  </a:cubicBezTo>
                  <a:cubicBezTo>
                    <a:pt x="5" y="1851"/>
                    <a:pt x="1" y="1847"/>
                    <a:pt x="1" y="1843"/>
                  </a:cubicBezTo>
                  <a:close/>
                  <a:moveTo>
                    <a:pt x="1" y="1809"/>
                  </a:moveTo>
                  <a:lnTo>
                    <a:pt x="1" y="1809"/>
                  </a:lnTo>
                  <a:cubicBezTo>
                    <a:pt x="1" y="1805"/>
                    <a:pt x="5" y="1801"/>
                    <a:pt x="9" y="1801"/>
                  </a:cubicBezTo>
                  <a:cubicBezTo>
                    <a:pt x="14" y="1801"/>
                    <a:pt x="18" y="1805"/>
                    <a:pt x="18" y="1809"/>
                  </a:cubicBezTo>
                  <a:lnTo>
                    <a:pt x="18" y="1809"/>
                  </a:lnTo>
                  <a:cubicBezTo>
                    <a:pt x="18" y="1814"/>
                    <a:pt x="14" y="1818"/>
                    <a:pt x="9" y="1818"/>
                  </a:cubicBezTo>
                  <a:cubicBezTo>
                    <a:pt x="5" y="1818"/>
                    <a:pt x="1" y="1814"/>
                    <a:pt x="1" y="1809"/>
                  </a:cubicBezTo>
                  <a:close/>
                  <a:moveTo>
                    <a:pt x="1" y="1776"/>
                  </a:moveTo>
                  <a:lnTo>
                    <a:pt x="1" y="1776"/>
                  </a:lnTo>
                  <a:cubicBezTo>
                    <a:pt x="1" y="1772"/>
                    <a:pt x="5" y="1768"/>
                    <a:pt x="9" y="1768"/>
                  </a:cubicBezTo>
                  <a:cubicBezTo>
                    <a:pt x="14" y="1768"/>
                    <a:pt x="18" y="1772"/>
                    <a:pt x="18" y="1776"/>
                  </a:cubicBezTo>
                  <a:lnTo>
                    <a:pt x="18" y="1776"/>
                  </a:lnTo>
                  <a:cubicBezTo>
                    <a:pt x="18" y="1781"/>
                    <a:pt x="14" y="1784"/>
                    <a:pt x="9" y="1784"/>
                  </a:cubicBezTo>
                  <a:cubicBezTo>
                    <a:pt x="5" y="1784"/>
                    <a:pt x="1" y="1781"/>
                    <a:pt x="1" y="1776"/>
                  </a:cubicBezTo>
                  <a:close/>
                  <a:moveTo>
                    <a:pt x="1" y="1743"/>
                  </a:moveTo>
                  <a:lnTo>
                    <a:pt x="1" y="1743"/>
                  </a:lnTo>
                  <a:cubicBezTo>
                    <a:pt x="1" y="1738"/>
                    <a:pt x="5" y="1734"/>
                    <a:pt x="9" y="1734"/>
                  </a:cubicBezTo>
                  <a:cubicBezTo>
                    <a:pt x="14" y="1734"/>
                    <a:pt x="18" y="1738"/>
                    <a:pt x="18" y="1743"/>
                  </a:cubicBezTo>
                  <a:lnTo>
                    <a:pt x="18" y="1743"/>
                  </a:lnTo>
                  <a:cubicBezTo>
                    <a:pt x="18" y="1747"/>
                    <a:pt x="14" y="1751"/>
                    <a:pt x="9" y="1751"/>
                  </a:cubicBezTo>
                  <a:cubicBezTo>
                    <a:pt x="5" y="1751"/>
                    <a:pt x="1" y="1747"/>
                    <a:pt x="1" y="1743"/>
                  </a:cubicBezTo>
                  <a:close/>
                  <a:moveTo>
                    <a:pt x="1" y="1709"/>
                  </a:moveTo>
                  <a:lnTo>
                    <a:pt x="1" y="1709"/>
                  </a:lnTo>
                  <a:cubicBezTo>
                    <a:pt x="1" y="1705"/>
                    <a:pt x="5" y="1701"/>
                    <a:pt x="9" y="1701"/>
                  </a:cubicBezTo>
                  <a:cubicBezTo>
                    <a:pt x="14" y="1701"/>
                    <a:pt x="18" y="1705"/>
                    <a:pt x="18" y="1709"/>
                  </a:cubicBezTo>
                  <a:lnTo>
                    <a:pt x="18" y="1709"/>
                  </a:lnTo>
                  <a:cubicBezTo>
                    <a:pt x="18" y="1714"/>
                    <a:pt x="14" y="1718"/>
                    <a:pt x="9" y="1718"/>
                  </a:cubicBezTo>
                  <a:cubicBezTo>
                    <a:pt x="5" y="1718"/>
                    <a:pt x="1" y="1714"/>
                    <a:pt x="1" y="1709"/>
                  </a:cubicBezTo>
                  <a:close/>
                  <a:moveTo>
                    <a:pt x="1" y="1676"/>
                  </a:moveTo>
                  <a:lnTo>
                    <a:pt x="1" y="1676"/>
                  </a:lnTo>
                  <a:cubicBezTo>
                    <a:pt x="1" y="1671"/>
                    <a:pt x="5" y="1668"/>
                    <a:pt x="9" y="1668"/>
                  </a:cubicBezTo>
                  <a:cubicBezTo>
                    <a:pt x="14" y="1668"/>
                    <a:pt x="18" y="1671"/>
                    <a:pt x="18" y="1676"/>
                  </a:cubicBezTo>
                  <a:lnTo>
                    <a:pt x="18" y="1676"/>
                  </a:lnTo>
                  <a:cubicBezTo>
                    <a:pt x="18" y="1681"/>
                    <a:pt x="14" y="1684"/>
                    <a:pt x="9" y="1684"/>
                  </a:cubicBezTo>
                  <a:cubicBezTo>
                    <a:pt x="5" y="1684"/>
                    <a:pt x="1" y="1681"/>
                    <a:pt x="1" y="1676"/>
                  </a:cubicBezTo>
                  <a:close/>
                  <a:moveTo>
                    <a:pt x="1" y="1643"/>
                  </a:moveTo>
                  <a:lnTo>
                    <a:pt x="1" y="1643"/>
                  </a:lnTo>
                  <a:cubicBezTo>
                    <a:pt x="1" y="1638"/>
                    <a:pt x="5" y="1634"/>
                    <a:pt x="9" y="1634"/>
                  </a:cubicBezTo>
                  <a:cubicBezTo>
                    <a:pt x="14" y="1634"/>
                    <a:pt x="18" y="1638"/>
                    <a:pt x="18" y="1643"/>
                  </a:cubicBezTo>
                  <a:lnTo>
                    <a:pt x="18" y="1643"/>
                  </a:lnTo>
                  <a:cubicBezTo>
                    <a:pt x="18" y="1647"/>
                    <a:pt x="14" y="1651"/>
                    <a:pt x="9" y="1651"/>
                  </a:cubicBezTo>
                  <a:cubicBezTo>
                    <a:pt x="5" y="1651"/>
                    <a:pt x="1" y="1647"/>
                    <a:pt x="1" y="1643"/>
                  </a:cubicBezTo>
                  <a:close/>
                  <a:moveTo>
                    <a:pt x="1" y="1609"/>
                  </a:moveTo>
                  <a:lnTo>
                    <a:pt x="1" y="1609"/>
                  </a:lnTo>
                  <a:cubicBezTo>
                    <a:pt x="1" y="1605"/>
                    <a:pt x="5" y="1601"/>
                    <a:pt x="10" y="1601"/>
                  </a:cubicBezTo>
                  <a:cubicBezTo>
                    <a:pt x="14" y="1601"/>
                    <a:pt x="18" y="1605"/>
                    <a:pt x="18" y="1609"/>
                  </a:cubicBezTo>
                  <a:lnTo>
                    <a:pt x="18" y="1609"/>
                  </a:lnTo>
                  <a:cubicBezTo>
                    <a:pt x="18" y="1614"/>
                    <a:pt x="14" y="1618"/>
                    <a:pt x="10" y="1618"/>
                  </a:cubicBezTo>
                  <a:cubicBezTo>
                    <a:pt x="5" y="1618"/>
                    <a:pt x="1" y="1614"/>
                    <a:pt x="1" y="1609"/>
                  </a:cubicBezTo>
                  <a:close/>
                  <a:moveTo>
                    <a:pt x="1" y="1576"/>
                  </a:moveTo>
                  <a:lnTo>
                    <a:pt x="1" y="1576"/>
                  </a:lnTo>
                  <a:cubicBezTo>
                    <a:pt x="1" y="1571"/>
                    <a:pt x="5" y="1568"/>
                    <a:pt x="10" y="1568"/>
                  </a:cubicBezTo>
                  <a:cubicBezTo>
                    <a:pt x="14" y="1568"/>
                    <a:pt x="18" y="1571"/>
                    <a:pt x="18" y="1576"/>
                  </a:cubicBezTo>
                  <a:lnTo>
                    <a:pt x="18" y="1576"/>
                  </a:lnTo>
                  <a:cubicBezTo>
                    <a:pt x="18" y="1581"/>
                    <a:pt x="14" y="1584"/>
                    <a:pt x="10" y="1584"/>
                  </a:cubicBezTo>
                  <a:cubicBezTo>
                    <a:pt x="5" y="1584"/>
                    <a:pt x="1" y="1581"/>
                    <a:pt x="1" y="1576"/>
                  </a:cubicBezTo>
                  <a:close/>
                  <a:moveTo>
                    <a:pt x="1" y="1543"/>
                  </a:moveTo>
                  <a:lnTo>
                    <a:pt x="1" y="1543"/>
                  </a:lnTo>
                  <a:cubicBezTo>
                    <a:pt x="1" y="1538"/>
                    <a:pt x="5" y="1534"/>
                    <a:pt x="10" y="1534"/>
                  </a:cubicBezTo>
                  <a:cubicBezTo>
                    <a:pt x="14" y="1534"/>
                    <a:pt x="18" y="1538"/>
                    <a:pt x="18" y="1543"/>
                  </a:cubicBezTo>
                  <a:lnTo>
                    <a:pt x="18" y="1543"/>
                  </a:lnTo>
                  <a:cubicBezTo>
                    <a:pt x="18" y="1547"/>
                    <a:pt x="14" y="1551"/>
                    <a:pt x="10" y="1551"/>
                  </a:cubicBezTo>
                  <a:cubicBezTo>
                    <a:pt x="5" y="1551"/>
                    <a:pt x="1" y="1547"/>
                    <a:pt x="1" y="1543"/>
                  </a:cubicBezTo>
                  <a:close/>
                  <a:moveTo>
                    <a:pt x="1" y="1509"/>
                  </a:moveTo>
                  <a:lnTo>
                    <a:pt x="1" y="1509"/>
                  </a:lnTo>
                  <a:cubicBezTo>
                    <a:pt x="1" y="1505"/>
                    <a:pt x="5" y="1501"/>
                    <a:pt x="10" y="1501"/>
                  </a:cubicBezTo>
                  <a:cubicBezTo>
                    <a:pt x="14" y="1501"/>
                    <a:pt x="18" y="1505"/>
                    <a:pt x="18" y="1509"/>
                  </a:cubicBezTo>
                  <a:lnTo>
                    <a:pt x="18" y="1509"/>
                  </a:lnTo>
                  <a:cubicBezTo>
                    <a:pt x="18" y="1514"/>
                    <a:pt x="14" y="1518"/>
                    <a:pt x="10" y="1518"/>
                  </a:cubicBezTo>
                  <a:cubicBezTo>
                    <a:pt x="5" y="1518"/>
                    <a:pt x="1" y="1514"/>
                    <a:pt x="1" y="1509"/>
                  </a:cubicBezTo>
                  <a:close/>
                  <a:moveTo>
                    <a:pt x="1" y="1476"/>
                  </a:moveTo>
                  <a:lnTo>
                    <a:pt x="1" y="1476"/>
                  </a:lnTo>
                  <a:cubicBezTo>
                    <a:pt x="1" y="1471"/>
                    <a:pt x="5" y="1468"/>
                    <a:pt x="10" y="1468"/>
                  </a:cubicBezTo>
                  <a:cubicBezTo>
                    <a:pt x="14" y="1468"/>
                    <a:pt x="18" y="1471"/>
                    <a:pt x="18" y="1476"/>
                  </a:cubicBezTo>
                  <a:lnTo>
                    <a:pt x="18" y="1476"/>
                  </a:lnTo>
                  <a:cubicBezTo>
                    <a:pt x="18" y="1481"/>
                    <a:pt x="14" y="1484"/>
                    <a:pt x="10" y="1484"/>
                  </a:cubicBezTo>
                  <a:cubicBezTo>
                    <a:pt x="5" y="1484"/>
                    <a:pt x="1" y="1481"/>
                    <a:pt x="1" y="1476"/>
                  </a:cubicBezTo>
                  <a:close/>
                  <a:moveTo>
                    <a:pt x="1" y="1443"/>
                  </a:moveTo>
                  <a:lnTo>
                    <a:pt x="1" y="1443"/>
                  </a:lnTo>
                  <a:cubicBezTo>
                    <a:pt x="1" y="1438"/>
                    <a:pt x="5" y="1434"/>
                    <a:pt x="10" y="1434"/>
                  </a:cubicBezTo>
                  <a:cubicBezTo>
                    <a:pt x="14" y="1434"/>
                    <a:pt x="18" y="1438"/>
                    <a:pt x="18" y="1443"/>
                  </a:cubicBezTo>
                  <a:lnTo>
                    <a:pt x="18" y="1443"/>
                  </a:lnTo>
                  <a:cubicBezTo>
                    <a:pt x="18" y="1447"/>
                    <a:pt x="14" y="1451"/>
                    <a:pt x="10" y="1451"/>
                  </a:cubicBezTo>
                  <a:cubicBezTo>
                    <a:pt x="5" y="1451"/>
                    <a:pt x="1" y="1447"/>
                    <a:pt x="1" y="1443"/>
                  </a:cubicBezTo>
                  <a:close/>
                  <a:moveTo>
                    <a:pt x="1" y="1409"/>
                  </a:moveTo>
                  <a:lnTo>
                    <a:pt x="1" y="1409"/>
                  </a:lnTo>
                  <a:cubicBezTo>
                    <a:pt x="1" y="1405"/>
                    <a:pt x="5" y="1401"/>
                    <a:pt x="10" y="1401"/>
                  </a:cubicBezTo>
                  <a:cubicBezTo>
                    <a:pt x="14" y="1401"/>
                    <a:pt x="18" y="1405"/>
                    <a:pt x="18" y="1409"/>
                  </a:cubicBezTo>
                  <a:lnTo>
                    <a:pt x="18" y="1409"/>
                  </a:lnTo>
                  <a:cubicBezTo>
                    <a:pt x="18" y="1414"/>
                    <a:pt x="14" y="1418"/>
                    <a:pt x="10" y="1418"/>
                  </a:cubicBezTo>
                  <a:cubicBezTo>
                    <a:pt x="5" y="1418"/>
                    <a:pt x="1" y="1414"/>
                    <a:pt x="1" y="1409"/>
                  </a:cubicBezTo>
                  <a:close/>
                  <a:moveTo>
                    <a:pt x="2" y="1376"/>
                  </a:moveTo>
                  <a:lnTo>
                    <a:pt x="2" y="1376"/>
                  </a:lnTo>
                  <a:cubicBezTo>
                    <a:pt x="2" y="1371"/>
                    <a:pt x="5" y="1368"/>
                    <a:pt x="10" y="1368"/>
                  </a:cubicBezTo>
                  <a:cubicBezTo>
                    <a:pt x="14" y="1368"/>
                    <a:pt x="18" y="1371"/>
                    <a:pt x="18" y="1376"/>
                  </a:cubicBezTo>
                  <a:lnTo>
                    <a:pt x="18" y="1376"/>
                  </a:lnTo>
                  <a:cubicBezTo>
                    <a:pt x="18" y="1381"/>
                    <a:pt x="14" y="1384"/>
                    <a:pt x="10" y="1384"/>
                  </a:cubicBezTo>
                  <a:cubicBezTo>
                    <a:pt x="5" y="1384"/>
                    <a:pt x="2" y="1381"/>
                    <a:pt x="2" y="1376"/>
                  </a:cubicBezTo>
                  <a:close/>
                  <a:moveTo>
                    <a:pt x="2" y="1343"/>
                  </a:moveTo>
                  <a:lnTo>
                    <a:pt x="2" y="1343"/>
                  </a:lnTo>
                  <a:cubicBezTo>
                    <a:pt x="2" y="1338"/>
                    <a:pt x="5" y="1334"/>
                    <a:pt x="10" y="1334"/>
                  </a:cubicBezTo>
                  <a:cubicBezTo>
                    <a:pt x="14" y="1334"/>
                    <a:pt x="18" y="1338"/>
                    <a:pt x="18" y="1343"/>
                  </a:cubicBezTo>
                  <a:lnTo>
                    <a:pt x="18" y="1343"/>
                  </a:lnTo>
                  <a:cubicBezTo>
                    <a:pt x="18" y="1347"/>
                    <a:pt x="14" y="1351"/>
                    <a:pt x="10" y="1351"/>
                  </a:cubicBezTo>
                  <a:cubicBezTo>
                    <a:pt x="5" y="1351"/>
                    <a:pt x="2" y="1347"/>
                    <a:pt x="2" y="1343"/>
                  </a:cubicBezTo>
                  <a:close/>
                  <a:moveTo>
                    <a:pt x="2" y="1309"/>
                  </a:moveTo>
                  <a:lnTo>
                    <a:pt x="2" y="1309"/>
                  </a:lnTo>
                  <a:cubicBezTo>
                    <a:pt x="2" y="1305"/>
                    <a:pt x="5" y="1301"/>
                    <a:pt x="10" y="1301"/>
                  </a:cubicBezTo>
                  <a:cubicBezTo>
                    <a:pt x="15" y="1301"/>
                    <a:pt x="18" y="1305"/>
                    <a:pt x="18" y="1309"/>
                  </a:cubicBezTo>
                  <a:lnTo>
                    <a:pt x="18" y="1309"/>
                  </a:lnTo>
                  <a:cubicBezTo>
                    <a:pt x="18" y="1314"/>
                    <a:pt x="15" y="1318"/>
                    <a:pt x="10" y="1318"/>
                  </a:cubicBezTo>
                  <a:cubicBezTo>
                    <a:pt x="5" y="1318"/>
                    <a:pt x="2" y="1314"/>
                    <a:pt x="2" y="1309"/>
                  </a:cubicBezTo>
                  <a:close/>
                  <a:moveTo>
                    <a:pt x="2" y="1276"/>
                  </a:moveTo>
                  <a:lnTo>
                    <a:pt x="2" y="1276"/>
                  </a:lnTo>
                  <a:cubicBezTo>
                    <a:pt x="2" y="1271"/>
                    <a:pt x="5" y="1268"/>
                    <a:pt x="10" y="1268"/>
                  </a:cubicBezTo>
                  <a:cubicBezTo>
                    <a:pt x="15" y="1268"/>
                    <a:pt x="18" y="1271"/>
                    <a:pt x="18" y="1276"/>
                  </a:cubicBezTo>
                  <a:lnTo>
                    <a:pt x="18" y="1276"/>
                  </a:lnTo>
                  <a:cubicBezTo>
                    <a:pt x="18" y="1280"/>
                    <a:pt x="15" y="1284"/>
                    <a:pt x="10" y="1284"/>
                  </a:cubicBezTo>
                  <a:cubicBezTo>
                    <a:pt x="5" y="1284"/>
                    <a:pt x="2" y="1280"/>
                    <a:pt x="2" y="1276"/>
                  </a:cubicBezTo>
                  <a:close/>
                  <a:moveTo>
                    <a:pt x="2" y="1243"/>
                  </a:moveTo>
                  <a:lnTo>
                    <a:pt x="2" y="1242"/>
                  </a:lnTo>
                  <a:cubicBezTo>
                    <a:pt x="2" y="1238"/>
                    <a:pt x="5" y="1234"/>
                    <a:pt x="10" y="1234"/>
                  </a:cubicBezTo>
                  <a:cubicBezTo>
                    <a:pt x="15" y="1234"/>
                    <a:pt x="18" y="1238"/>
                    <a:pt x="18" y="1242"/>
                  </a:cubicBezTo>
                  <a:lnTo>
                    <a:pt x="18" y="1243"/>
                  </a:lnTo>
                  <a:cubicBezTo>
                    <a:pt x="18" y="1247"/>
                    <a:pt x="15" y="1251"/>
                    <a:pt x="10" y="1251"/>
                  </a:cubicBezTo>
                  <a:cubicBezTo>
                    <a:pt x="5" y="1251"/>
                    <a:pt x="2" y="1247"/>
                    <a:pt x="2" y="1243"/>
                  </a:cubicBezTo>
                  <a:close/>
                  <a:moveTo>
                    <a:pt x="2" y="1209"/>
                  </a:moveTo>
                  <a:lnTo>
                    <a:pt x="2" y="1209"/>
                  </a:lnTo>
                  <a:cubicBezTo>
                    <a:pt x="2" y="1205"/>
                    <a:pt x="5" y="1201"/>
                    <a:pt x="10" y="1201"/>
                  </a:cubicBezTo>
                  <a:cubicBezTo>
                    <a:pt x="15" y="1201"/>
                    <a:pt x="18" y="1205"/>
                    <a:pt x="18" y="1209"/>
                  </a:cubicBezTo>
                  <a:lnTo>
                    <a:pt x="18" y="1209"/>
                  </a:lnTo>
                  <a:cubicBezTo>
                    <a:pt x="18" y="1214"/>
                    <a:pt x="15" y="1217"/>
                    <a:pt x="10" y="1217"/>
                  </a:cubicBezTo>
                  <a:cubicBezTo>
                    <a:pt x="5" y="1217"/>
                    <a:pt x="2" y="1214"/>
                    <a:pt x="2" y="1209"/>
                  </a:cubicBezTo>
                  <a:close/>
                  <a:moveTo>
                    <a:pt x="2" y="1176"/>
                  </a:moveTo>
                  <a:lnTo>
                    <a:pt x="2" y="1176"/>
                  </a:lnTo>
                  <a:cubicBezTo>
                    <a:pt x="2" y="1171"/>
                    <a:pt x="6" y="1167"/>
                    <a:pt x="10" y="1167"/>
                  </a:cubicBezTo>
                  <a:cubicBezTo>
                    <a:pt x="15" y="1167"/>
                    <a:pt x="18" y="1171"/>
                    <a:pt x="18" y="1176"/>
                  </a:cubicBezTo>
                  <a:lnTo>
                    <a:pt x="18" y="1176"/>
                  </a:lnTo>
                  <a:cubicBezTo>
                    <a:pt x="18" y="1180"/>
                    <a:pt x="15" y="1184"/>
                    <a:pt x="10" y="1184"/>
                  </a:cubicBezTo>
                  <a:cubicBezTo>
                    <a:pt x="6" y="1184"/>
                    <a:pt x="2" y="1180"/>
                    <a:pt x="2" y="1176"/>
                  </a:cubicBezTo>
                  <a:close/>
                  <a:moveTo>
                    <a:pt x="2" y="1142"/>
                  </a:moveTo>
                  <a:lnTo>
                    <a:pt x="2" y="1142"/>
                  </a:lnTo>
                  <a:cubicBezTo>
                    <a:pt x="2" y="1138"/>
                    <a:pt x="6" y="1134"/>
                    <a:pt x="10" y="1134"/>
                  </a:cubicBezTo>
                  <a:cubicBezTo>
                    <a:pt x="15" y="1134"/>
                    <a:pt x="18" y="1138"/>
                    <a:pt x="18" y="1142"/>
                  </a:cubicBezTo>
                  <a:lnTo>
                    <a:pt x="18" y="1142"/>
                  </a:lnTo>
                  <a:cubicBezTo>
                    <a:pt x="18" y="1147"/>
                    <a:pt x="15" y="1151"/>
                    <a:pt x="10" y="1151"/>
                  </a:cubicBezTo>
                  <a:cubicBezTo>
                    <a:pt x="6" y="1151"/>
                    <a:pt x="2" y="1147"/>
                    <a:pt x="2" y="1142"/>
                  </a:cubicBezTo>
                  <a:close/>
                  <a:moveTo>
                    <a:pt x="2" y="1109"/>
                  </a:moveTo>
                  <a:lnTo>
                    <a:pt x="2" y="1109"/>
                  </a:lnTo>
                  <a:cubicBezTo>
                    <a:pt x="2" y="1104"/>
                    <a:pt x="6" y="1101"/>
                    <a:pt x="10" y="1101"/>
                  </a:cubicBezTo>
                  <a:cubicBezTo>
                    <a:pt x="15" y="1101"/>
                    <a:pt x="19" y="1104"/>
                    <a:pt x="19" y="1109"/>
                  </a:cubicBezTo>
                  <a:lnTo>
                    <a:pt x="19" y="1109"/>
                  </a:lnTo>
                  <a:cubicBezTo>
                    <a:pt x="19" y="1114"/>
                    <a:pt x="15" y="1117"/>
                    <a:pt x="10" y="1117"/>
                  </a:cubicBezTo>
                  <a:cubicBezTo>
                    <a:pt x="6" y="1117"/>
                    <a:pt x="2" y="1114"/>
                    <a:pt x="2" y="1109"/>
                  </a:cubicBezTo>
                  <a:close/>
                  <a:moveTo>
                    <a:pt x="2" y="1076"/>
                  </a:moveTo>
                  <a:lnTo>
                    <a:pt x="2" y="1076"/>
                  </a:lnTo>
                  <a:cubicBezTo>
                    <a:pt x="2" y="1071"/>
                    <a:pt x="6" y="1067"/>
                    <a:pt x="10" y="1067"/>
                  </a:cubicBezTo>
                  <a:cubicBezTo>
                    <a:pt x="15" y="1067"/>
                    <a:pt x="19" y="1071"/>
                    <a:pt x="19" y="1076"/>
                  </a:cubicBezTo>
                  <a:lnTo>
                    <a:pt x="19" y="1076"/>
                  </a:lnTo>
                  <a:cubicBezTo>
                    <a:pt x="19" y="1080"/>
                    <a:pt x="15" y="1084"/>
                    <a:pt x="10" y="1084"/>
                  </a:cubicBezTo>
                  <a:cubicBezTo>
                    <a:pt x="6" y="1084"/>
                    <a:pt x="2" y="1080"/>
                    <a:pt x="2" y="1076"/>
                  </a:cubicBezTo>
                  <a:close/>
                  <a:moveTo>
                    <a:pt x="2" y="1042"/>
                  </a:moveTo>
                  <a:lnTo>
                    <a:pt x="2" y="1042"/>
                  </a:lnTo>
                  <a:cubicBezTo>
                    <a:pt x="2" y="1038"/>
                    <a:pt x="6" y="1034"/>
                    <a:pt x="10" y="1034"/>
                  </a:cubicBezTo>
                  <a:cubicBezTo>
                    <a:pt x="15" y="1034"/>
                    <a:pt x="19" y="1038"/>
                    <a:pt x="19" y="1042"/>
                  </a:cubicBezTo>
                  <a:lnTo>
                    <a:pt x="19" y="1042"/>
                  </a:lnTo>
                  <a:cubicBezTo>
                    <a:pt x="19" y="1047"/>
                    <a:pt x="15" y="1051"/>
                    <a:pt x="10" y="1051"/>
                  </a:cubicBezTo>
                  <a:cubicBezTo>
                    <a:pt x="6" y="1051"/>
                    <a:pt x="2" y="1047"/>
                    <a:pt x="2" y="1042"/>
                  </a:cubicBezTo>
                  <a:close/>
                  <a:moveTo>
                    <a:pt x="2" y="1009"/>
                  </a:moveTo>
                  <a:lnTo>
                    <a:pt x="2" y="1009"/>
                  </a:lnTo>
                  <a:cubicBezTo>
                    <a:pt x="2" y="1004"/>
                    <a:pt x="6" y="1001"/>
                    <a:pt x="10" y="1001"/>
                  </a:cubicBezTo>
                  <a:cubicBezTo>
                    <a:pt x="15" y="1001"/>
                    <a:pt x="19" y="1004"/>
                    <a:pt x="19" y="1009"/>
                  </a:cubicBezTo>
                  <a:lnTo>
                    <a:pt x="19" y="1009"/>
                  </a:lnTo>
                  <a:cubicBezTo>
                    <a:pt x="19" y="1014"/>
                    <a:pt x="15" y="1017"/>
                    <a:pt x="10" y="1017"/>
                  </a:cubicBezTo>
                  <a:cubicBezTo>
                    <a:pt x="6" y="1017"/>
                    <a:pt x="2" y="1014"/>
                    <a:pt x="2" y="1009"/>
                  </a:cubicBezTo>
                  <a:close/>
                  <a:moveTo>
                    <a:pt x="2" y="976"/>
                  </a:moveTo>
                  <a:lnTo>
                    <a:pt x="2" y="976"/>
                  </a:lnTo>
                  <a:cubicBezTo>
                    <a:pt x="2" y="971"/>
                    <a:pt x="6" y="967"/>
                    <a:pt x="10" y="967"/>
                  </a:cubicBezTo>
                  <a:cubicBezTo>
                    <a:pt x="15" y="967"/>
                    <a:pt x="19" y="971"/>
                    <a:pt x="19" y="976"/>
                  </a:cubicBezTo>
                  <a:lnTo>
                    <a:pt x="19" y="976"/>
                  </a:lnTo>
                  <a:cubicBezTo>
                    <a:pt x="19" y="980"/>
                    <a:pt x="15" y="984"/>
                    <a:pt x="10" y="984"/>
                  </a:cubicBezTo>
                  <a:cubicBezTo>
                    <a:pt x="6" y="984"/>
                    <a:pt x="2" y="980"/>
                    <a:pt x="2" y="976"/>
                  </a:cubicBezTo>
                  <a:close/>
                  <a:moveTo>
                    <a:pt x="2" y="942"/>
                  </a:moveTo>
                  <a:lnTo>
                    <a:pt x="2" y="942"/>
                  </a:lnTo>
                  <a:cubicBezTo>
                    <a:pt x="2" y="938"/>
                    <a:pt x="6" y="934"/>
                    <a:pt x="10" y="934"/>
                  </a:cubicBezTo>
                  <a:cubicBezTo>
                    <a:pt x="15" y="934"/>
                    <a:pt x="19" y="938"/>
                    <a:pt x="19" y="942"/>
                  </a:cubicBezTo>
                  <a:lnTo>
                    <a:pt x="19" y="942"/>
                  </a:lnTo>
                  <a:cubicBezTo>
                    <a:pt x="19" y="947"/>
                    <a:pt x="15" y="951"/>
                    <a:pt x="10" y="951"/>
                  </a:cubicBezTo>
                  <a:cubicBezTo>
                    <a:pt x="6" y="951"/>
                    <a:pt x="2" y="947"/>
                    <a:pt x="2" y="942"/>
                  </a:cubicBezTo>
                  <a:close/>
                  <a:moveTo>
                    <a:pt x="2" y="909"/>
                  </a:moveTo>
                  <a:lnTo>
                    <a:pt x="2" y="909"/>
                  </a:lnTo>
                  <a:cubicBezTo>
                    <a:pt x="2" y="904"/>
                    <a:pt x="6" y="901"/>
                    <a:pt x="10" y="901"/>
                  </a:cubicBezTo>
                  <a:cubicBezTo>
                    <a:pt x="15" y="901"/>
                    <a:pt x="19" y="904"/>
                    <a:pt x="19" y="909"/>
                  </a:cubicBezTo>
                  <a:lnTo>
                    <a:pt x="19" y="909"/>
                  </a:lnTo>
                  <a:cubicBezTo>
                    <a:pt x="19" y="914"/>
                    <a:pt x="15" y="917"/>
                    <a:pt x="10" y="917"/>
                  </a:cubicBezTo>
                  <a:cubicBezTo>
                    <a:pt x="6" y="917"/>
                    <a:pt x="2" y="914"/>
                    <a:pt x="2" y="909"/>
                  </a:cubicBezTo>
                  <a:close/>
                  <a:moveTo>
                    <a:pt x="2" y="876"/>
                  </a:moveTo>
                  <a:lnTo>
                    <a:pt x="2" y="876"/>
                  </a:lnTo>
                  <a:cubicBezTo>
                    <a:pt x="2" y="871"/>
                    <a:pt x="6" y="867"/>
                    <a:pt x="11" y="867"/>
                  </a:cubicBezTo>
                  <a:cubicBezTo>
                    <a:pt x="15" y="867"/>
                    <a:pt x="19" y="871"/>
                    <a:pt x="19" y="876"/>
                  </a:cubicBezTo>
                  <a:lnTo>
                    <a:pt x="19" y="876"/>
                  </a:lnTo>
                  <a:cubicBezTo>
                    <a:pt x="19" y="880"/>
                    <a:pt x="15" y="884"/>
                    <a:pt x="11" y="884"/>
                  </a:cubicBezTo>
                  <a:cubicBezTo>
                    <a:pt x="6" y="884"/>
                    <a:pt x="2" y="880"/>
                    <a:pt x="2" y="876"/>
                  </a:cubicBezTo>
                  <a:close/>
                  <a:moveTo>
                    <a:pt x="2" y="842"/>
                  </a:moveTo>
                  <a:lnTo>
                    <a:pt x="2" y="842"/>
                  </a:lnTo>
                  <a:cubicBezTo>
                    <a:pt x="2" y="838"/>
                    <a:pt x="6" y="834"/>
                    <a:pt x="11" y="834"/>
                  </a:cubicBezTo>
                  <a:cubicBezTo>
                    <a:pt x="15" y="834"/>
                    <a:pt x="19" y="838"/>
                    <a:pt x="19" y="842"/>
                  </a:cubicBezTo>
                  <a:lnTo>
                    <a:pt x="19" y="842"/>
                  </a:lnTo>
                  <a:cubicBezTo>
                    <a:pt x="19" y="847"/>
                    <a:pt x="15" y="851"/>
                    <a:pt x="11" y="851"/>
                  </a:cubicBezTo>
                  <a:cubicBezTo>
                    <a:pt x="6" y="851"/>
                    <a:pt x="2" y="847"/>
                    <a:pt x="2" y="842"/>
                  </a:cubicBezTo>
                  <a:close/>
                  <a:moveTo>
                    <a:pt x="2" y="809"/>
                  </a:moveTo>
                  <a:lnTo>
                    <a:pt x="2" y="809"/>
                  </a:lnTo>
                  <a:cubicBezTo>
                    <a:pt x="2" y="804"/>
                    <a:pt x="6" y="801"/>
                    <a:pt x="11" y="801"/>
                  </a:cubicBezTo>
                  <a:cubicBezTo>
                    <a:pt x="15" y="801"/>
                    <a:pt x="19" y="804"/>
                    <a:pt x="19" y="809"/>
                  </a:cubicBezTo>
                  <a:lnTo>
                    <a:pt x="19" y="809"/>
                  </a:lnTo>
                  <a:cubicBezTo>
                    <a:pt x="19" y="814"/>
                    <a:pt x="15" y="817"/>
                    <a:pt x="11" y="817"/>
                  </a:cubicBezTo>
                  <a:cubicBezTo>
                    <a:pt x="6" y="817"/>
                    <a:pt x="2" y="814"/>
                    <a:pt x="2" y="809"/>
                  </a:cubicBezTo>
                  <a:close/>
                  <a:moveTo>
                    <a:pt x="2" y="776"/>
                  </a:moveTo>
                  <a:lnTo>
                    <a:pt x="2" y="776"/>
                  </a:lnTo>
                  <a:cubicBezTo>
                    <a:pt x="2" y="771"/>
                    <a:pt x="6" y="767"/>
                    <a:pt x="11" y="767"/>
                  </a:cubicBezTo>
                  <a:cubicBezTo>
                    <a:pt x="15" y="767"/>
                    <a:pt x="19" y="771"/>
                    <a:pt x="19" y="776"/>
                  </a:cubicBezTo>
                  <a:lnTo>
                    <a:pt x="19" y="776"/>
                  </a:lnTo>
                  <a:cubicBezTo>
                    <a:pt x="19" y="780"/>
                    <a:pt x="15" y="784"/>
                    <a:pt x="11" y="784"/>
                  </a:cubicBezTo>
                  <a:cubicBezTo>
                    <a:pt x="6" y="784"/>
                    <a:pt x="2" y="780"/>
                    <a:pt x="2" y="776"/>
                  </a:cubicBezTo>
                  <a:close/>
                  <a:moveTo>
                    <a:pt x="2" y="742"/>
                  </a:moveTo>
                  <a:lnTo>
                    <a:pt x="2" y="742"/>
                  </a:lnTo>
                  <a:cubicBezTo>
                    <a:pt x="2" y="738"/>
                    <a:pt x="6" y="734"/>
                    <a:pt x="11" y="734"/>
                  </a:cubicBezTo>
                  <a:cubicBezTo>
                    <a:pt x="15" y="734"/>
                    <a:pt x="19" y="738"/>
                    <a:pt x="19" y="742"/>
                  </a:cubicBezTo>
                  <a:lnTo>
                    <a:pt x="19" y="742"/>
                  </a:lnTo>
                  <a:cubicBezTo>
                    <a:pt x="19" y="747"/>
                    <a:pt x="15" y="751"/>
                    <a:pt x="11" y="751"/>
                  </a:cubicBezTo>
                  <a:cubicBezTo>
                    <a:pt x="6" y="751"/>
                    <a:pt x="2" y="747"/>
                    <a:pt x="2" y="742"/>
                  </a:cubicBezTo>
                  <a:close/>
                  <a:moveTo>
                    <a:pt x="2" y="709"/>
                  </a:moveTo>
                  <a:lnTo>
                    <a:pt x="2" y="709"/>
                  </a:lnTo>
                  <a:cubicBezTo>
                    <a:pt x="2" y="704"/>
                    <a:pt x="6" y="701"/>
                    <a:pt x="11" y="701"/>
                  </a:cubicBezTo>
                  <a:cubicBezTo>
                    <a:pt x="15" y="701"/>
                    <a:pt x="19" y="704"/>
                    <a:pt x="19" y="709"/>
                  </a:cubicBezTo>
                  <a:lnTo>
                    <a:pt x="19" y="709"/>
                  </a:lnTo>
                  <a:cubicBezTo>
                    <a:pt x="19" y="714"/>
                    <a:pt x="15" y="717"/>
                    <a:pt x="11" y="717"/>
                  </a:cubicBezTo>
                  <a:cubicBezTo>
                    <a:pt x="6" y="717"/>
                    <a:pt x="2" y="714"/>
                    <a:pt x="2" y="709"/>
                  </a:cubicBezTo>
                  <a:close/>
                  <a:moveTo>
                    <a:pt x="2" y="676"/>
                  </a:moveTo>
                  <a:lnTo>
                    <a:pt x="2" y="676"/>
                  </a:lnTo>
                  <a:cubicBezTo>
                    <a:pt x="2" y="671"/>
                    <a:pt x="6" y="667"/>
                    <a:pt x="11" y="667"/>
                  </a:cubicBezTo>
                  <a:cubicBezTo>
                    <a:pt x="15" y="667"/>
                    <a:pt x="19" y="671"/>
                    <a:pt x="19" y="676"/>
                  </a:cubicBezTo>
                  <a:lnTo>
                    <a:pt x="19" y="676"/>
                  </a:lnTo>
                  <a:cubicBezTo>
                    <a:pt x="19" y="680"/>
                    <a:pt x="15" y="684"/>
                    <a:pt x="11" y="684"/>
                  </a:cubicBezTo>
                  <a:cubicBezTo>
                    <a:pt x="6" y="684"/>
                    <a:pt x="2" y="680"/>
                    <a:pt x="2" y="676"/>
                  </a:cubicBezTo>
                  <a:close/>
                  <a:moveTo>
                    <a:pt x="3" y="642"/>
                  </a:moveTo>
                  <a:lnTo>
                    <a:pt x="3" y="642"/>
                  </a:lnTo>
                  <a:cubicBezTo>
                    <a:pt x="3" y="638"/>
                    <a:pt x="6" y="634"/>
                    <a:pt x="11" y="634"/>
                  </a:cubicBezTo>
                  <a:cubicBezTo>
                    <a:pt x="15" y="634"/>
                    <a:pt x="19" y="638"/>
                    <a:pt x="19" y="642"/>
                  </a:cubicBezTo>
                  <a:lnTo>
                    <a:pt x="19" y="642"/>
                  </a:lnTo>
                  <a:cubicBezTo>
                    <a:pt x="19" y="647"/>
                    <a:pt x="15" y="651"/>
                    <a:pt x="11" y="651"/>
                  </a:cubicBezTo>
                  <a:cubicBezTo>
                    <a:pt x="6" y="651"/>
                    <a:pt x="3" y="647"/>
                    <a:pt x="3" y="642"/>
                  </a:cubicBezTo>
                  <a:close/>
                  <a:moveTo>
                    <a:pt x="3" y="609"/>
                  </a:moveTo>
                  <a:lnTo>
                    <a:pt x="3" y="609"/>
                  </a:lnTo>
                  <a:cubicBezTo>
                    <a:pt x="3" y="604"/>
                    <a:pt x="6" y="601"/>
                    <a:pt x="11" y="601"/>
                  </a:cubicBezTo>
                  <a:cubicBezTo>
                    <a:pt x="16" y="601"/>
                    <a:pt x="19" y="604"/>
                    <a:pt x="19" y="609"/>
                  </a:cubicBezTo>
                  <a:lnTo>
                    <a:pt x="19" y="609"/>
                  </a:lnTo>
                  <a:cubicBezTo>
                    <a:pt x="19" y="613"/>
                    <a:pt x="16" y="617"/>
                    <a:pt x="11" y="617"/>
                  </a:cubicBezTo>
                  <a:cubicBezTo>
                    <a:pt x="6" y="617"/>
                    <a:pt x="3" y="613"/>
                    <a:pt x="3" y="609"/>
                  </a:cubicBezTo>
                  <a:close/>
                  <a:moveTo>
                    <a:pt x="3" y="576"/>
                  </a:moveTo>
                  <a:lnTo>
                    <a:pt x="3" y="576"/>
                  </a:lnTo>
                  <a:cubicBezTo>
                    <a:pt x="3" y="571"/>
                    <a:pt x="6" y="567"/>
                    <a:pt x="11" y="567"/>
                  </a:cubicBezTo>
                  <a:cubicBezTo>
                    <a:pt x="16" y="567"/>
                    <a:pt x="19" y="571"/>
                    <a:pt x="19" y="576"/>
                  </a:cubicBezTo>
                  <a:lnTo>
                    <a:pt x="19" y="576"/>
                  </a:lnTo>
                  <a:cubicBezTo>
                    <a:pt x="19" y="580"/>
                    <a:pt x="16" y="584"/>
                    <a:pt x="11" y="584"/>
                  </a:cubicBezTo>
                  <a:cubicBezTo>
                    <a:pt x="6" y="584"/>
                    <a:pt x="3" y="580"/>
                    <a:pt x="3" y="576"/>
                  </a:cubicBezTo>
                  <a:close/>
                  <a:moveTo>
                    <a:pt x="3" y="542"/>
                  </a:moveTo>
                  <a:lnTo>
                    <a:pt x="3" y="542"/>
                  </a:lnTo>
                  <a:cubicBezTo>
                    <a:pt x="3" y="538"/>
                    <a:pt x="6" y="534"/>
                    <a:pt x="11" y="534"/>
                  </a:cubicBezTo>
                  <a:cubicBezTo>
                    <a:pt x="16" y="534"/>
                    <a:pt x="19" y="538"/>
                    <a:pt x="19" y="542"/>
                  </a:cubicBezTo>
                  <a:lnTo>
                    <a:pt x="19" y="542"/>
                  </a:lnTo>
                  <a:cubicBezTo>
                    <a:pt x="19" y="547"/>
                    <a:pt x="16" y="551"/>
                    <a:pt x="11" y="551"/>
                  </a:cubicBezTo>
                  <a:cubicBezTo>
                    <a:pt x="6" y="551"/>
                    <a:pt x="3" y="547"/>
                    <a:pt x="3" y="542"/>
                  </a:cubicBezTo>
                  <a:close/>
                  <a:moveTo>
                    <a:pt x="3" y="509"/>
                  </a:moveTo>
                  <a:lnTo>
                    <a:pt x="3" y="509"/>
                  </a:lnTo>
                  <a:cubicBezTo>
                    <a:pt x="3" y="504"/>
                    <a:pt x="6" y="500"/>
                    <a:pt x="11" y="500"/>
                  </a:cubicBezTo>
                  <a:cubicBezTo>
                    <a:pt x="16" y="500"/>
                    <a:pt x="19" y="504"/>
                    <a:pt x="19" y="509"/>
                  </a:cubicBezTo>
                  <a:lnTo>
                    <a:pt x="19" y="509"/>
                  </a:lnTo>
                  <a:cubicBezTo>
                    <a:pt x="19" y="513"/>
                    <a:pt x="16" y="517"/>
                    <a:pt x="11" y="517"/>
                  </a:cubicBezTo>
                  <a:cubicBezTo>
                    <a:pt x="6" y="517"/>
                    <a:pt x="3" y="513"/>
                    <a:pt x="3" y="509"/>
                  </a:cubicBezTo>
                  <a:close/>
                  <a:moveTo>
                    <a:pt x="3" y="475"/>
                  </a:moveTo>
                  <a:lnTo>
                    <a:pt x="3" y="475"/>
                  </a:lnTo>
                  <a:cubicBezTo>
                    <a:pt x="3" y="471"/>
                    <a:pt x="6" y="467"/>
                    <a:pt x="11" y="467"/>
                  </a:cubicBezTo>
                  <a:cubicBezTo>
                    <a:pt x="16" y="467"/>
                    <a:pt x="19" y="471"/>
                    <a:pt x="19" y="475"/>
                  </a:cubicBezTo>
                  <a:lnTo>
                    <a:pt x="19" y="475"/>
                  </a:lnTo>
                  <a:cubicBezTo>
                    <a:pt x="19" y="480"/>
                    <a:pt x="16" y="484"/>
                    <a:pt x="11" y="484"/>
                  </a:cubicBezTo>
                  <a:cubicBezTo>
                    <a:pt x="6" y="484"/>
                    <a:pt x="3" y="480"/>
                    <a:pt x="3" y="475"/>
                  </a:cubicBezTo>
                  <a:close/>
                  <a:moveTo>
                    <a:pt x="3" y="442"/>
                  </a:moveTo>
                  <a:lnTo>
                    <a:pt x="3" y="442"/>
                  </a:lnTo>
                  <a:cubicBezTo>
                    <a:pt x="3" y="438"/>
                    <a:pt x="7" y="434"/>
                    <a:pt x="11" y="434"/>
                  </a:cubicBezTo>
                  <a:cubicBezTo>
                    <a:pt x="16" y="434"/>
                    <a:pt x="19" y="438"/>
                    <a:pt x="19" y="442"/>
                  </a:cubicBezTo>
                  <a:lnTo>
                    <a:pt x="19" y="442"/>
                  </a:lnTo>
                  <a:cubicBezTo>
                    <a:pt x="19" y="447"/>
                    <a:pt x="16" y="450"/>
                    <a:pt x="11" y="450"/>
                  </a:cubicBezTo>
                  <a:cubicBezTo>
                    <a:pt x="7" y="450"/>
                    <a:pt x="3" y="447"/>
                    <a:pt x="3" y="442"/>
                  </a:cubicBezTo>
                  <a:close/>
                  <a:moveTo>
                    <a:pt x="3" y="409"/>
                  </a:moveTo>
                  <a:lnTo>
                    <a:pt x="3" y="409"/>
                  </a:lnTo>
                  <a:cubicBezTo>
                    <a:pt x="3" y="404"/>
                    <a:pt x="7" y="400"/>
                    <a:pt x="11" y="400"/>
                  </a:cubicBezTo>
                  <a:cubicBezTo>
                    <a:pt x="16" y="400"/>
                    <a:pt x="20" y="404"/>
                    <a:pt x="20" y="409"/>
                  </a:cubicBezTo>
                  <a:lnTo>
                    <a:pt x="20" y="409"/>
                  </a:lnTo>
                  <a:cubicBezTo>
                    <a:pt x="20" y="413"/>
                    <a:pt x="16" y="417"/>
                    <a:pt x="11" y="417"/>
                  </a:cubicBezTo>
                  <a:cubicBezTo>
                    <a:pt x="7" y="417"/>
                    <a:pt x="3" y="413"/>
                    <a:pt x="3" y="409"/>
                  </a:cubicBezTo>
                  <a:close/>
                  <a:moveTo>
                    <a:pt x="3" y="375"/>
                  </a:moveTo>
                  <a:lnTo>
                    <a:pt x="3" y="375"/>
                  </a:lnTo>
                  <a:cubicBezTo>
                    <a:pt x="3" y="371"/>
                    <a:pt x="7" y="367"/>
                    <a:pt x="11" y="367"/>
                  </a:cubicBezTo>
                  <a:cubicBezTo>
                    <a:pt x="16" y="367"/>
                    <a:pt x="20" y="371"/>
                    <a:pt x="20" y="375"/>
                  </a:cubicBezTo>
                  <a:lnTo>
                    <a:pt x="20" y="375"/>
                  </a:lnTo>
                  <a:cubicBezTo>
                    <a:pt x="20" y="380"/>
                    <a:pt x="16" y="384"/>
                    <a:pt x="11" y="384"/>
                  </a:cubicBezTo>
                  <a:cubicBezTo>
                    <a:pt x="7" y="384"/>
                    <a:pt x="3" y="380"/>
                    <a:pt x="3" y="375"/>
                  </a:cubicBezTo>
                  <a:close/>
                  <a:moveTo>
                    <a:pt x="3" y="342"/>
                  </a:moveTo>
                  <a:lnTo>
                    <a:pt x="3" y="342"/>
                  </a:lnTo>
                  <a:cubicBezTo>
                    <a:pt x="3" y="337"/>
                    <a:pt x="7" y="334"/>
                    <a:pt x="11" y="334"/>
                  </a:cubicBezTo>
                  <a:cubicBezTo>
                    <a:pt x="16" y="334"/>
                    <a:pt x="20" y="337"/>
                    <a:pt x="20" y="342"/>
                  </a:cubicBezTo>
                  <a:lnTo>
                    <a:pt x="20" y="342"/>
                  </a:lnTo>
                  <a:cubicBezTo>
                    <a:pt x="20" y="347"/>
                    <a:pt x="16" y="350"/>
                    <a:pt x="11" y="350"/>
                  </a:cubicBezTo>
                  <a:cubicBezTo>
                    <a:pt x="7" y="350"/>
                    <a:pt x="3" y="347"/>
                    <a:pt x="3" y="342"/>
                  </a:cubicBezTo>
                  <a:close/>
                  <a:moveTo>
                    <a:pt x="3" y="309"/>
                  </a:moveTo>
                  <a:lnTo>
                    <a:pt x="3" y="309"/>
                  </a:lnTo>
                  <a:cubicBezTo>
                    <a:pt x="3" y="304"/>
                    <a:pt x="7" y="300"/>
                    <a:pt x="11" y="300"/>
                  </a:cubicBezTo>
                  <a:cubicBezTo>
                    <a:pt x="16" y="300"/>
                    <a:pt x="20" y="304"/>
                    <a:pt x="20" y="309"/>
                  </a:cubicBezTo>
                  <a:lnTo>
                    <a:pt x="20" y="309"/>
                  </a:lnTo>
                  <a:cubicBezTo>
                    <a:pt x="20" y="313"/>
                    <a:pt x="16" y="317"/>
                    <a:pt x="11" y="317"/>
                  </a:cubicBezTo>
                  <a:cubicBezTo>
                    <a:pt x="7" y="317"/>
                    <a:pt x="3" y="313"/>
                    <a:pt x="3" y="309"/>
                  </a:cubicBezTo>
                  <a:close/>
                  <a:moveTo>
                    <a:pt x="3" y="275"/>
                  </a:moveTo>
                  <a:lnTo>
                    <a:pt x="3" y="275"/>
                  </a:lnTo>
                  <a:cubicBezTo>
                    <a:pt x="3" y="271"/>
                    <a:pt x="7" y="267"/>
                    <a:pt x="11" y="267"/>
                  </a:cubicBezTo>
                  <a:cubicBezTo>
                    <a:pt x="16" y="267"/>
                    <a:pt x="20" y="271"/>
                    <a:pt x="20" y="275"/>
                  </a:cubicBezTo>
                  <a:lnTo>
                    <a:pt x="20" y="275"/>
                  </a:lnTo>
                  <a:cubicBezTo>
                    <a:pt x="20" y="280"/>
                    <a:pt x="16" y="284"/>
                    <a:pt x="11" y="284"/>
                  </a:cubicBezTo>
                  <a:cubicBezTo>
                    <a:pt x="7" y="284"/>
                    <a:pt x="3" y="280"/>
                    <a:pt x="3" y="275"/>
                  </a:cubicBezTo>
                  <a:close/>
                  <a:moveTo>
                    <a:pt x="3" y="242"/>
                  </a:moveTo>
                  <a:lnTo>
                    <a:pt x="3" y="242"/>
                  </a:lnTo>
                  <a:cubicBezTo>
                    <a:pt x="3" y="237"/>
                    <a:pt x="7" y="234"/>
                    <a:pt x="11" y="234"/>
                  </a:cubicBezTo>
                  <a:cubicBezTo>
                    <a:pt x="16" y="234"/>
                    <a:pt x="20" y="237"/>
                    <a:pt x="20" y="242"/>
                  </a:cubicBezTo>
                  <a:lnTo>
                    <a:pt x="20" y="242"/>
                  </a:lnTo>
                  <a:cubicBezTo>
                    <a:pt x="20" y="247"/>
                    <a:pt x="16" y="250"/>
                    <a:pt x="11" y="250"/>
                  </a:cubicBezTo>
                  <a:cubicBezTo>
                    <a:pt x="7" y="250"/>
                    <a:pt x="3" y="247"/>
                    <a:pt x="3" y="242"/>
                  </a:cubicBezTo>
                  <a:close/>
                  <a:moveTo>
                    <a:pt x="3" y="209"/>
                  </a:moveTo>
                  <a:lnTo>
                    <a:pt x="3" y="209"/>
                  </a:lnTo>
                  <a:cubicBezTo>
                    <a:pt x="3" y="204"/>
                    <a:pt x="7" y="200"/>
                    <a:pt x="11" y="200"/>
                  </a:cubicBezTo>
                  <a:cubicBezTo>
                    <a:pt x="16" y="200"/>
                    <a:pt x="20" y="204"/>
                    <a:pt x="20" y="209"/>
                  </a:cubicBezTo>
                  <a:lnTo>
                    <a:pt x="20" y="209"/>
                  </a:lnTo>
                  <a:cubicBezTo>
                    <a:pt x="20" y="213"/>
                    <a:pt x="16" y="217"/>
                    <a:pt x="11" y="217"/>
                  </a:cubicBezTo>
                  <a:cubicBezTo>
                    <a:pt x="7" y="217"/>
                    <a:pt x="3" y="213"/>
                    <a:pt x="3" y="209"/>
                  </a:cubicBezTo>
                  <a:close/>
                  <a:moveTo>
                    <a:pt x="3" y="175"/>
                  </a:moveTo>
                  <a:lnTo>
                    <a:pt x="3" y="175"/>
                  </a:lnTo>
                  <a:cubicBezTo>
                    <a:pt x="3" y="171"/>
                    <a:pt x="7" y="167"/>
                    <a:pt x="12" y="167"/>
                  </a:cubicBezTo>
                  <a:cubicBezTo>
                    <a:pt x="16" y="167"/>
                    <a:pt x="20" y="171"/>
                    <a:pt x="20" y="175"/>
                  </a:cubicBezTo>
                  <a:lnTo>
                    <a:pt x="20" y="175"/>
                  </a:lnTo>
                  <a:cubicBezTo>
                    <a:pt x="20" y="180"/>
                    <a:pt x="16" y="184"/>
                    <a:pt x="12" y="184"/>
                  </a:cubicBezTo>
                  <a:cubicBezTo>
                    <a:pt x="7" y="184"/>
                    <a:pt x="3" y="180"/>
                    <a:pt x="3" y="175"/>
                  </a:cubicBezTo>
                  <a:close/>
                  <a:moveTo>
                    <a:pt x="3" y="142"/>
                  </a:moveTo>
                  <a:lnTo>
                    <a:pt x="3" y="142"/>
                  </a:lnTo>
                  <a:cubicBezTo>
                    <a:pt x="3" y="137"/>
                    <a:pt x="7" y="134"/>
                    <a:pt x="12" y="134"/>
                  </a:cubicBezTo>
                  <a:cubicBezTo>
                    <a:pt x="16" y="134"/>
                    <a:pt x="20" y="137"/>
                    <a:pt x="20" y="142"/>
                  </a:cubicBezTo>
                  <a:lnTo>
                    <a:pt x="20" y="142"/>
                  </a:lnTo>
                  <a:cubicBezTo>
                    <a:pt x="20" y="147"/>
                    <a:pt x="16" y="150"/>
                    <a:pt x="12" y="150"/>
                  </a:cubicBezTo>
                  <a:cubicBezTo>
                    <a:pt x="7" y="150"/>
                    <a:pt x="3" y="147"/>
                    <a:pt x="3" y="142"/>
                  </a:cubicBezTo>
                  <a:close/>
                  <a:moveTo>
                    <a:pt x="3" y="109"/>
                  </a:moveTo>
                  <a:lnTo>
                    <a:pt x="3" y="109"/>
                  </a:lnTo>
                  <a:cubicBezTo>
                    <a:pt x="3" y="104"/>
                    <a:pt x="7" y="100"/>
                    <a:pt x="12" y="100"/>
                  </a:cubicBezTo>
                  <a:cubicBezTo>
                    <a:pt x="16" y="100"/>
                    <a:pt x="20" y="104"/>
                    <a:pt x="20" y="109"/>
                  </a:cubicBezTo>
                  <a:lnTo>
                    <a:pt x="20" y="109"/>
                  </a:lnTo>
                  <a:cubicBezTo>
                    <a:pt x="20" y="113"/>
                    <a:pt x="16" y="117"/>
                    <a:pt x="12" y="117"/>
                  </a:cubicBezTo>
                  <a:cubicBezTo>
                    <a:pt x="7" y="117"/>
                    <a:pt x="3" y="113"/>
                    <a:pt x="3" y="109"/>
                  </a:cubicBezTo>
                  <a:close/>
                  <a:moveTo>
                    <a:pt x="3" y="75"/>
                  </a:moveTo>
                  <a:lnTo>
                    <a:pt x="3" y="75"/>
                  </a:lnTo>
                  <a:cubicBezTo>
                    <a:pt x="3" y="71"/>
                    <a:pt x="7" y="67"/>
                    <a:pt x="12" y="67"/>
                  </a:cubicBezTo>
                  <a:cubicBezTo>
                    <a:pt x="16" y="67"/>
                    <a:pt x="20" y="71"/>
                    <a:pt x="20" y="75"/>
                  </a:cubicBezTo>
                  <a:lnTo>
                    <a:pt x="20" y="75"/>
                  </a:lnTo>
                  <a:cubicBezTo>
                    <a:pt x="20" y="80"/>
                    <a:pt x="16" y="84"/>
                    <a:pt x="12" y="84"/>
                  </a:cubicBezTo>
                  <a:cubicBezTo>
                    <a:pt x="7" y="84"/>
                    <a:pt x="3" y="80"/>
                    <a:pt x="3" y="75"/>
                  </a:cubicBezTo>
                  <a:close/>
                  <a:moveTo>
                    <a:pt x="3" y="42"/>
                  </a:moveTo>
                  <a:lnTo>
                    <a:pt x="3" y="42"/>
                  </a:lnTo>
                  <a:cubicBezTo>
                    <a:pt x="3" y="37"/>
                    <a:pt x="7" y="34"/>
                    <a:pt x="12" y="34"/>
                  </a:cubicBezTo>
                  <a:cubicBezTo>
                    <a:pt x="16" y="34"/>
                    <a:pt x="20" y="37"/>
                    <a:pt x="20" y="42"/>
                  </a:cubicBezTo>
                  <a:lnTo>
                    <a:pt x="20" y="42"/>
                  </a:lnTo>
                  <a:cubicBezTo>
                    <a:pt x="20" y="47"/>
                    <a:pt x="16" y="50"/>
                    <a:pt x="12" y="50"/>
                  </a:cubicBezTo>
                  <a:cubicBezTo>
                    <a:pt x="7" y="50"/>
                    <a:pt x="3" y="47"/>
                    <a:pt x="3" y="42"/>
                  </a:cubicBezTo>
                  <a:close/>
                  <a:moveTo>
                    <a:pt x="3" y="9"/>
                  </a:moveTo>
                  <a:lnTo>
                    <a:pt x="3" y="9"/>
                  </a:lnTo>
                  <a:cubicBezTo>
                    <a:pt x="3" y="4"/>
                    <a:pt x="7" y="0"/>
                    <a:pt x="12" y="0"/>
                  </a:cubicBezTo>
                  <a:cubicBezTo>
                    <a:pt x="16" y="0"/>
                    <a:pt x="20" y="4"/>
                    <a:pt x="20" y="9"/>
                  </a:cubicBezTo>
                  <a:lnTo>
                    <a:pt x="20" y="9"/>
                  </a:lnTo>
                  <a:cubicBezTo>
                    <a:pt x="20" y="13"/>
                    <a:pt x="16" y="17"/>
                    <a:pt x="12" y="17"/>
                  </a:cubicBezTo>
                  <a:cubicBezTo>
                    <a:pt x="7" y="17"/>
                    <a:pt x="3" y="13"/>
                    <a:pt x="3" y="9"/>
                  </a:cubicBez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735280" y="4089240"/>
              <a:ext cx="3240" cy="225720"/>
            </a:xfrm>
            <a:custGeom>
              <a:avLst/>
              <a:gdLst/>
              <a:ahLst/>
              <a:rect l="l" t="t" r="r" b="b"/>
              <a:pathLst>
                <a:path w="20" h="1184">
                  <a:moveTo>
                    <a:pt x="0" y="1175"/>
                  </a:moveTo>
                  <a:lnTo>
                    <a:pt x="0" y="1175"/>
                  </a:lnTo>
                  <a:cubicBezTo>
                    <a:pt x="0" y="1171"/>
                    <a:pt x="4" y="1167"/>
                    <a:pt x="8" y="1167"/>
                  </a:cubicBezTo>
                  <a:cubicBezTo>
                    <a:pt x="13" y="1167"/>
                    <a:pt x="17" y="1171"/>
                    <a:pt x="17" y="1175"/>
                  </a:cubicBezTo>
                  <a:lnTo>
                    <a:pt x="17" y="1175"/>
                  </a:lnTo>
                  <a:cubicBezTo>
                    <a:pt x="17" y="1180"/>
                    <a:pt x="13" y="1184"/>
                    <a:pt x="8" y="1184"/>
                  </a:cubicBezTo>
                  <a:cubicBezTo>
                    <a:pt x="4" y="1184"/>
                    <a:pt x="0" y="1180"/>
                    <a:pt x="0" y="1175"/>
                  </a:cubicBezTo>
                  <a:close/>
                  <a:moveTo>
                    <a:pt x="0" y="1142"/>
                  </a:moveTo>
                  <a:lnTo>
                    <a:pt x="0" y="1142"/>
                  </a:lnTo>
                  <a:cubicBezTo>
                    <a:pt x="0" y="1137"/>
                    <a:pt x="4" y="1134"/>
                    <a:pt x="9" y="1134"/>
                  </a:cubicBezTo>
                  <a:cubicBezTo>
                    <a:pt x="13" y="1134"/>
                    <a:pt x="17" y="1137"/>
                    <a:pt x="17" y="1142"/>
                  </a:cubicBezTo>
                  <a:lnTo>
                    <a:pt x="17" y="1142"/>
                  </a:lnTo>
                  <a:cubicBezTo>
                    <a:pt x="17" y="1147"/>
                    <a:pt x="13" y="1150"/>
                    <a:pt x="9" y="1150"/>
                  </a:cubicBezTo>
                  <a:cubicBezTo>
                    <a:pt x="4" y="1150"/>
                    <a:pt x="0" y="1147"/>
                    <a:pt x="0" y="1142"/>
                  </a:cubicBezTo>
                  <a:close/>
                  <a:moveTo>
                    <a:pt x="0" y="1109"/>
                  </a:moveTo>
                  <a:lnTo>
                    <a:pt x="0" y="1109"/>
                  </a:lnTo>
                  <a:cubicBezTo>
                    <a:pt x="0" y="1104"/>
                    <a:pt x="4" y="1100"/>
                    <a:pt x="9" y="1100"/>
                  </a:cubicBezTo>
                  <a:cubicBezTo>
                    <a:pt x="13" y="1100"/>
                    <a:pt x="17" y="1104"/>
                    <a:pt x="17" y="1109"/>
                  </a:cubicBezTo>
                  <a:lnTo>
                    <a:pt x="17" y="1109"/>
                  </a:lnTo>
                  <a:cubicBezTo>
                    <a:pt x="17" y="1113"/>
                    <a:pt x="13" y="1117"/>
                    <a:pt x="9" y="1117"/>
                  </a:cubicBezTo>
                  <a:cubicBezTo>
                    <a:pt x="4" y="1117"/>
                    <a:pt x="0" y="1113"/>
                    <a:pt x="0" y="1109"/>
                  </a:cubicBezTo>
                  <a:close/>
                  <a:moveTo>
                    <a:pt x="0" y="1075"/>
                  </a:moveTo>
                  <a:lnTo>
                    <a:pt x="0" y="1075"/>
                  </a:lnTo>
                  <a:cubicBezTo>
                    <a:pt x="0" y="1071"/>
                    <a:pt x="4" y="1067"/>
                    <a:pt x="9" y="1067"/>
                  </a:cubicBezTo>
                  <a:cubicBezTo>
                    <a:pt x="13" y="1067"/>
                    <a:pt x="17" y="1071"/>
                    <a:pt x="17" y="1075"/>
                  </a:cubicBezTo>
                  <a:lnTo>
                    <a:pt x="17" y="1075"/>
                  </a:lnTo>
                  <a:cubicBezTo>
                    <a:pt x="17" y="1080"/>
                    <a:pt x="13" y="1084"/>
                    <a:pt x="9" y="1084"/>
                  </a:cubicBezTo>
                  <a:cubicBezTo>
                    <a:pt x="4" y="1084"/>
                    <a:pt x="0" y="1080"/>
                    <a:pt x="0" y="1075"/>
                  </a:cubicBezTo>
                  <a:close/>
                  <a:moveTo>
                    <a:pt x="1" y="1042"/>
                  </a:moveTo>
                  <a:lnTo>
                    <a:pt x="1" y="1042"/>
                  </a:lnTo>
                  <a:cubicBezTo>
                    <a:pt x="1" y="1037"/>
                    <a:pt x="4" y="1034"/>
                    <a:pt x="9" y="1034"/>
                  </a:cubicBezTo>
                  <a:cubicBezTo>
                    <a:pt x="13" y="1034"/>
                    <a:pt x="17" y="1037"/>
                    <a:pt x="17" y="1042"/>
                  </a:cubicBezTo>
                  <a:lnTo>
                    <a:pt x="17" y="1042"/>
                  </a:lnTo>
                  <a:cubicBezTo>
                    <a:pt x="17" y="1047"/>
                    <a:pt x="13" y="1050"/>
                    <a:pt x="9" y="1050"/>
                  </a:cubicBezTo>
                  <a:cubicBezTo>
                    <a:pt x="4" y="1050"/>
                    <a:pt x="1" y="1047"/>
                    <a:pt x="1" y="1042"/>
                  </a:cubicBezTo>
                  <a:close/>
                  <a:moveTo>
                    <a:pt x="1" y="1009"/>
                  </a:moveTo>
                  <a:lnTo>
                    <a:pt x="1" y="1009"/>
                  </a:lnTo>
                  <a:cubicBezTo>
                    <a:pt x="1" y="1004"/>
                    <a:pt x="4" y="1000"/>
                    <a:pt x="9" y="1000"/>
                  </a:cubicBezTo>
                  <a:cubicBezTo>
                    <a:pt x="14" y="1000"/>
                    <a:pt x="17" y="1004"/>
                    <a:pt x="17" y="1009"/>
                  </a:cubicBezTo>
                  <a:lnTo>
                    <a:pt x="17" y="1009"/>
                  </a:lnTo>
                  <a:cubicBezTo>
                    <a:pt x="17" y="1013"/>
                    <a:pt x="14" y="1017"/>
                    <a:pt x="9" y="1017"/>
                  </a:cubicBezTo>
                  <a:cubicBezTo>
                    <a:pt x="4" y="1017"/>
                    <a:pt x="1" y="1013"/>
                    <a:pt x="1" y="1009"/>
                  </a:cubicBezTo>
                  <a:close/>
                  <a:moveTo>
                    <a:pt x="1" y="975"/>
                  </a:moveTo>
                  <a:lnTo>
                    <a:pt x="1" y="975"/>
                  </a:lnTo>
                  <a:cubicBezTo>
                    <a:pt x="1" y="971"/>
                    <a:pt x="4" y="967"/>
                    <a:pt x="9" y="967"/>
                  </a:cubicBezTo>
                  <a:cubicBezTo>
                    <a:pt x="14" y="967"/>
                    <a:pt x="17" y="971"/>
                    <a:pt x="17" y="975"/>
                  </a:cubicBezTo>
                  <a:lnTo>
                    <a:pt x="17" y="975"/>
                  </a:lnTo>
                  <a:cubicBezTo>
                    <a:pt x="17" y="980"/>
                    <a:pt x="14" y="984"/>
                    <a:pt x="9" y="984"/>
                  </a:cubicBezTo>
                  <a:cubicBezTo>
                    <a:pt x="4" y="984"/>
                    <a:pt x="1" y="980"/>
                    <a:pt x="1" y="975"/>
                  </a:cubicBezTo>
                  <a:close/>
                  <a:moveTo>
                    <a:pt x="1" y="942"/>
                  </a:moveTo>
                  <a:lnTo>
                    <a:pt x="1" y="942"/>
                  </a:lnTo>
                  <a:cubicBezTo>
                    <a:pt x="1" y="937"/>
                    <a:pt x="5" y="934"/>
                    <a:pt x="9" y="934"/>
                  </a:cubicBezTo>
                  <a:cubicBezTo>
                    <a:pt x="14" y="934"/>
                    <a:pt x="17" y="937"/>
                    <a:pt x="17" y="942"/>
                  </a:cubicBezTo>
                  <a:lnTo>
                    <a:pt x="17" y="942"/>
                  </a:lnTo>
                  <a:cubicBezTo>
                    <a:pt x="17" y="947"/>
                    <a:pt x="14" y="950"/>
                    <a:pt x="9" y="950"/>
                  </a:cubicBezTo>
                  <a:cubicBezTo>
                    <a:pt x="5" y="950"/>
                    <a:pt x="1" y="947"/>
                    <a:pt x="1" y="942"/>
                  </a:cubicBezTo>
                  <a:close/>
                  <a:moveTo>
                    <a:pt x="1" y="909"/>
                  </a:moveTo>
                  <a:lnTo>
                    <a:pt x="1" y="909"/>
                  </a:lnTo>
                  <a:cubicBezTo>
                    <a:pt x="1" y="904"/>
                    <a:pt x="5" y="900"/>
                    <a:pt x="9" y="900"/>
                  </a:cubicBezTo>
                  <a:cubicBezTo>
                    <a:pt x="14" y="900"/>
                    <a:pt x="18" y="904"/>
                    <a:pt x="18" y="909"/>
                  </a:cubicBezTo>
                  <a:lnTo>
                    <a:pt x="18" y="909"/>
                  </a:lnTo>
                  <a:cubicBezTo>
                    <a:pt x="18" y="913"/>
                    <a:pt x="14" y="917"/>
                    <a:pt x="9" y="917"/>
                  </a:cubicBezTo>
                  <a:cubicBezTo>
                    <a:pt x="5" y="917"/>
                    <a:pt x="1" y="913"/>
                    <a:pt x="1" y="909"/>
                  </a:cubicBezTo>
                  <a:close/>
                  <a:moveTo>
                    <a:pt x="1" y="875"/>
                  </a:moveTo>
                  <a:lnTo>
                    <a:pt x="1" y="875"/>
                  </a:lnTo>
                  <a:cubicBezTo>
                    <a:pt x="1" y="871"/>
                    <a:pt x="5" y="867"/>
                    <a:pt x="9" y="867"/>
                  </a:cubicBezTo>
                  <a:cubicBezTo>
                    <a:pt x="14" y="867"/>
                    <a:pt x="18" y="871"/>
                    <a:pt x="18" y="875"/>
                  </a:cubicBezTo>
                  <a:lnTo>
                    <a:pt x="18" y="875"/>
                  </a:lnTo>
                  <a:cubicBezTo>
                    <a:pt x="18" y="880"/>
                    <a:pt x="14" y="884"/>
                    <a:pt x="9" y="884"/>
                  </a:cubicBezTo>
                  <a:cubicBezTo>
                    <a:pt x="5" y="884"/>
                    <a:pt x="1" y="880"/>
                    <a:pt x="1" y="875"/>
                  </a:cubicBezTo>
                  <a:close/>
                  <a:moveTo>
                    <a:pt x="1" y="842"/>
                  </a:moveTo>
                  <a:lnTo>
                    <a:pt x="1" y="842"/>
                  </a:lnTo>
                  <a:cubicBezTo>
                    <a:pt x="1" y="837"/>
                    <a:pt x="5" y="834"/>
                    <a:pt x="9" y="834"/>
                  </a:cubicBezTo>
                  <a:cubicBezTo>
                    <a:pt x="14" y="834"/>
                    <a:pt x="18" y="837"/>
                    <a:pt x="18" y="842"/>
                  </a:cubicBezTo>
                  <a:lnTo>
                    <a:pt x="18" y="842"/>
                  </a:lnTo>
                  <a:cubicBezTo>
                    <a:pt x="18" y="847"/>
                    <a:pt x="14" y="850"/>
                    <a:pt x="9" y="850"/>
                  </a:cubicBezTo>
                  <a:cubicBezTo>
                    <a:pt x="5" y="850"/>
                    <a:pt x="1" y="847"/>
                    <a:pt x="1" y="842"/>
                  </a:cubicBezTo>
                  <a:close/>
                  <a:moveTo>
                    <a:pt x="1" y="809"/>
                  </a:moveTo>
                  <a:lnTo>
                    <a:pt x="1" y="809"/>
                  </a:lnTo>
                  <a:cubicBezTo>
                    <a:pt x="1" y="804"/>
                    <a:pt x="5" y="800"/>
                    <a:pt x="9" y="800"/>
                  </a:cubicBezTo>
                  <a:cubicBezTo>
                    <a:pt x="14" y="800"/>
                    <a:pt x="18" y="804"/>
                    <a:pt x="18" y="809"/>
                  </a:cubicBezTo>
                  <a:lnTo>
                    <a:pt x="18" y="809"/>
                  </a:lnTo>
                  <a:cubicBezTo>
                    <a:pt x="18" y="813"/>
                    <a:pt x="14" y="817"/>
                    <a:pt x="9" y="817"/>
                  </a:cubicBezTo>
                  <a:cubicBezTo>
                    <a:pt x="5" y="817"/>
                    <a:pt x="1" y="813"/>
                    <a:pt x="1" y="809"/>
                  </a:cubicBezTo>
                  <a:close/>
                  <a:moveTo>
                    <a:pt x="1" y="775"/>
                  </a:moveTo>
                  <a:lnTo>
                    <a:pt x="1" y="775"/>
                  </a:lnTo>
                  <a:cubicBezTo>
                    <a:pt x="1" y="771"/>
                    <a:pt x="5" y="767"/>
                    <a:pt x="10" y="767"/>
                  </a:cubicBezTo>
                  <a:cubicBezTo>
                    <a:pt x="14" y="767"/>
                    <a:pt x="18" y="771"/>
                    <a:pt x="18" y="775"/>
                  </a:cubicBezTo>
                  <a:lnTo>
                    <a:pt x="18" y="775"/>
                  </a:lnTo>
                  <a:cubicBezTo>
                    <a:pt x="18" y="780"/>
                    <a:pt x="14" y="784"/>
                    <a:pt x="10" y="784"/>
                  </a:cubicBezTo>
                  <a:cubicBezTo>
                    <a:pt x="5" y="784"/>
                    <a:pt x="1" y="780"/>
                    <a:pt x="1" y="775"/>
                  </a:cubicBezTo>
                  <a:close/>
                  <a:moveTo>
                    <a:pt x="1" y="742"/>
                  </a:moveTo>
                  <a:lnTo>
                    <a:pt x="1" y="742"/>
                  </a:lnTo>
                  <a:cubicBezTo>
                    <a:pt x="1" y="737"/>
                    <a:pt x="5" y="734"/>
                    <a:pt x="10" y="734"/>
                  </a:cubicBezTo>
                  <a:cubicBezTo>
                    <a:pt x="14" y="734"/>
                    <a:pt x="18" y="737"/>
                    <a:pt x="18" y="742"/>
                  </a:cubicBezTo>
                  <a:lnTo>
                    <a:pt x="18" y="742"/>
                  </a:lnTo>
                  <a:cubicBezTo>
                    <a:pt x="18" y="747"/>
                    <a:pt x="14" y="750"/>
                    <a:pt x="10" y="750"/>
                  </a:cubicBezTo>
                  <a:cubicBezTo>
                    <a:pt x="5" y="750"/>
                    <a:pt x="1" y="747"/>
                    <a:pt x="1" y="742"/>
                  </a:cubicBezTo>
                  <a:close/>
                  <a:moveTo>
                    <a:pt x="1" y="709"/>
                  </a:moveTo>
                  <a:lnTo>
                    <a:pt x="1" y="709"/>
                  </a:lnTo>
                  <a:cubicBezTo>
                    <a:pt x="1" y="704"/>
                    <a:pt x="5" y="700"/>
                    <a:pt x="10" y="700"/>
                  </a:cubicBezTo>
                  <a:cubicBezTo>
                    <a:pt x="14" y="700"/>
                    <a:pt x="18" y="704"/>
                    <a:pt x="18" y="709"/>
                  </a:cubicBezTo>
                  <a:lnTo>
                    <a:pt x="18" y="709"/>
                  </a:lnTo>
                  <a:cubicBezTo>
                    <a:pt x="18" y="713"/>
                    <a:pt x="14" y="717"/>
                    <a:pt x="10" y="717"/>
                  </a:cubicBezTo>
                  <a:cubicBezTo>
                    <a:pt x="5" y="717"/>
                    <a:pt x="1" y="713"/>
                    <a:pt x="1" y="709"/>
                  </a:cubicBezTo>
                  <a:close/>
                  <a:moveTo>
                    <a:pt x="2" y="675"/>
                  </a:moveTo>
                  <a:lnTo>
                    <a:pt x="2" y="675"/>
                  </a:lnTo>
                  <a:cubicBezTo>
                    <a:pt x="2" y="671"/>
                    <a:pt x="5" y="667"/>
                    <a:pt x="10" y="667"/>
                  </a:cubicBezTo>
                  <a:cubicBezTo>
                    <a:pt x="14" y="667"/>
                    <a:pt x="18" y="671"/>
                    <a:pt x="18" y="675"/>
                  </a:cubicBezTo>
                  <a:lnTo>
                    <a:pt x="18" y="675"/>
                  </a:lnTo>
                  <a:cubicBezTo>
                    <a:pt x="18" y="680"/>
                    <a:pt x="14" y="684"/>
                    <a:pt x="10" y="684"/>
                  </a:cubicBezTo>
                  <a:cubicBezTo>
                    <a:pt x="5" y="684"/>
                    <a:pt x="2" y="680"/>
                    <a:pt x="2" y="675"/>
                  </a:cubicBezTo>
                  <a:close/>
                  <a:moveTo>
                    <a:pt x="2" y="642"/>
                  </a:moveTo>
                  <a:lnTo>
                    <a:pt x="2" y="642"/>
                  </a:lnTo>
                  <a:cubicBezTo>
                    <a:pt x="2" y="637"/>
                    <a:pt x="5" y="633"/>
                    <a:pt x="10" y="633"/>
                  </a:cubicBezTo>
                  <a:cubicBezTo>
                    <a:pt x="15" y="633"/>
                    <a:pt x="18" y="637"/>
                    <a:pt x="18" y="642"/>
                  </a:cubicBezTo>
                  <a:lnTo>
                    <a:pt x="18" y="642"/>
                  </a:lnTo>
                  <a:cubicBezTo>
                    <a:pt x="18" y="646"/>
                    <a:pt x="15" y="650"/>
                    <a:pt x="10" y="650"/>
                  </a:cubicBezTo>
                  <a:cubicBezTo>
                    <a:pt x="5" y="650"/>
                    <a:pt x="2" y="646"/>
                    <a:pt x="2" y="642"/>
                  </a:cubicBezTo>
                  <a:close/>
                  <a:moveTo>
                    <a:pt x="2" y="608"/>
                  </a:moveTo>
                  <a:lnTo>
                    <a:pt x="2" y="608"/>
                  </a:lnTo>
                  <a:cubicBezTo>
                    <a:pt x="2" y="604"/>
                    <a:pt x="5" y="600"/>
                    <a:pt x="10" y="600"/>
                  </a:cubicBezTo>
                  <a:cubicBezTo>
                    <a:pt x="15" y="600"/>
                    <a:pt x="18" y="604"/>
                    <a:pt x="18" y="608"/>
                  </a:cubicBezTo>
                  <a:lnTo>
                    <a:pt x="18" y="608"/>
                  </a:lnTo>
                  <a:cubicBezTo>
                    <a:pt x="18" y="613"/>
                    <a:pt x="15" y="617"/>
                    <a:pt x="10" y="617"/>
                  </a:cubicBezTo>
                  <a:cubicBezTo>
                    <a:pt x="5" y="617"/>
                    <a:pt x="2" y="613"/>
                    <a:pt x="2" y="608"/>
                  </a:cubicBezTo>
                  <a:close/>
                  <a:moveTo>
                    <a:pt x="2" y="575"/>
                  </a:moveTo>
                  <a:lnTo>
                    <a:pt x="2" y="575"/>
                  </a:lnTo>
                  <a:cubicBezTo>
                    <a:pt x="2" y="571"/>
                    <a:pt x="6" y="567"/>
                    <a:pt x="10" y="567"/>
                  </a:cubicBezTo>
                  <a:cubicBezTo>
                    <a:pt x="15" y="567"/>
                    <a:pt x="18" y="571"/>
                    <a:pt x="18" y="575"/>
                  </a:cubicBezTo>
                  <a:lnTo>
                    <a:pt x="18" y="575"/>
                  </a:lnTo>
                  <a:cubicBezTo>
                    <a:pt x="18" y="580"/>
                    <a:pt x="15" y="583"/>
                    <a:pt x="10" y="583"/>
                  </a:cubicBezTo>
                  <a:cubicBezTo>
                    <a:pt x="6" y="583"/>
                    <a:pt x="2" y="580"/>
                    <a:pt x="2" y="575"/>
                  </a:cubicBezTo>
                  <a:close/>
                  <a:moveTo>
                    <a:pt x="2" y="542"/>
                  </a:moveTo>
                  <a:lnTo>
                    <a:pt x="2" y="542"/>
                  </a:lnTo>
                  <a:cubicBezTo>
                    <a:pt x="2" y="537"/>
                    <a:pt x="6" y="533"/>
                    <a:pt x="10" y="533"/>
                  </a:cubicBezTo>
                  <a:cubicBezTo>
                    <a:pt x="15" y="533"/>
                    <a:pt x="19" y="537"/>
                    <a:pt x="19" y="542"/>
                  </a:cubicBezTo>
                  <a:lnTo>
                    <a:pt x="19" y="542"/>
                  </a:lnTo>
                  <a:cubicBezTo>
                    <a:pt x="19" y="546"/>
                    <a:pt x="15" y="550"/>
                    <a:pt x="10" y="550"/>
                  </a:cubicBezTo>
                  <a:cubicBezTo>
                    <a:pt x="6" y="550"/>
                    <a:pt x="2" y="546"/>
                    <a:pt x="2" y="542"/>
                  </a:cubicBezTo>
                  <a:close/>
                  <a:moveTo>
                    <a:pt x="2" y="508"/>
                  </a:moveTo>
                  <a:lnTo>
                    <a:pt x="2" y="508"/>
                  </a:lnTo>
                  <a:cubicBezTo>
                    <a:pt x="2" y="504"/>
                    <a:pt x="6" y="500"/>
                    <a:pt x="10" y="500"/>
                  </a:cubicBezTo>
                  <a:cubicBezTo>
                    <a:pt x="15" y="500"/>
                    <a:pt x="19" y="504"/>
                    <a:pt x="19" y="508"/>
                  </a:cubicBezTo>
                  <a:lnTo>
                    <a:pt x="19" y="508"/>
                  </a:lnTo>
                  <a:cubicBezTo>
                    <a:pt x="19" y="513"/>
                    <a:pt x="15" y="517"/>
                    <a:pt x="10" y="517"/>
                  </a:cubicBezTo>
                  <a:cubicBezTo>
                    <a:pt x="6" y="517"/>
                    <a:pt x="2" y="513"/>
                    <a:pt x="2" y="508"/>
                  </a:cubicBezTo>
                  <a:close/>
                  <a:moveTo>
                    <a:pt x="2" y="475"/>
                  </a:moveTo>
                  <a:lnTo>
                    <a:pt x="2" y="475"/>
                  </a:lnTo>
                  <a:cubicBezTo>
                    <a:pt x="2" y="470"/>
                    <a:pt x="6" y="467"/>
                    <a:pt x="10" y="467"/>
                  </a:cubicBezTo>
                  <a:cubicBezTo>
                    <a:pt x="15" y="467"/>
                    <a:pt x="19" y="470"/>
                    <a:pt x="19" y="475"/>
                  </a:cubicBezTo>
                  <a:lnTo>
                    <a:pt x="19" y="475"/>
                  </a:lnTo>
                  <a:cubicBezTo>
                    <a:pt x="19" y="480"/>
                    <a:pt x="15" y="483"/>
                    <a:pt x="10" y="483"/>
                  </a:cubicBezTo>
                  <a:cubicBezTo>
                    <a:pt x="6" y="483"/>
                    <a:pt x="2" y="480"/>
                    <a:pt x="2" y="475"/>
                  </a:cubicBezTo>
                  <a:close/>
                  <a:moveTo>
                    <a:pt x="2" y="442"/>
                  </a:moveTo>
                  <a:lnTo>
                    <a:pt x="2" y="442"/>
                  </a:lnTo>
                  <a:cubicBezTo>
                    <a:pt x="2" y="437"/>
                    <a:pt x="6" y="433"/>
                    <a:pt x="11" y="433"/>
                  </a:cubicBezTo>
                  <a:cubicBezTo>
                    <a:pt x="15" y="433"/>
                    <a:pt x="19" y="437"/>
                    <a:pt x="19" y="442"/>
                  </a:cubicBezTo>
                  <a:lnTo>
                    <a:pt x="19" y="442"/>
                  </a:lnTo>
                  <a:cubicBezTo>
                    <a:pt x="19" y="446"/>
                    <a:pt x="15" y="450"/>
                    <a:pt x="11" y="450"/>
                  </a:cubicBezTo>
                  <a:cubicBezTo>
                    <a:pt x="6" y="450"/>
                    <a:pt x="2" y="446"/>
                    <a:pt x="2" y="442"/>
                  </a:cubicBezTo>
                  <a:close/>
                  <a:moveTo>
                    <a:pt x="2" y="408"/>
                  </a:moveTo>
                  <a:lnTo>
                    <a:pt x="2" y="408"/>
                  </a:lnTo>
                  <a:cubicBezTo>
                    <a:pt x="2" y="404"/>
                    <a:pt x="6" y="400"/>
                    <a:pt x="11" y="400"/>
                  </a:cubicBezTo>
                  <a:cubicBezTo>
                    <a:pt x="15" y="400"/>
                    <a:pt x="19" y="404"/>
                    <a:pt x="19" y="408"/>
                  </a:cubicBezTo>
                  <a:lnTo>
                    <a:pt x="19" y="408"/>
                  </a:lnTo>
                  <a:cubicBezTo>
                    <a:pt x="19" y="413"/>
                    <a:pt x="15" y="417"/>
                    <a:pt x="11" y="417"/>
                  </a:cubicBezTo>
                  <a:cubicBezTo>
                    <a:pt x="6" y="417"/>
                    <a:pt x="2" y="413"/>
                    <a:pt x="2" y="408"/>
                  </a:cubicBezTo>
                  <a:close/>
                  <a:moveTo>
                    <a:pt x="2" y="375"/>
                  </a:moveTo>
                  <a:lnTo>
                    <a:pt x="2" y="375"/>
                  </a:lnTo>
                  <a:cubicBezTo>
                    <a:pt x="2" y="370"/>
                    <a:pt x="6" y="367"/>
                    <a:pt x="11" y="367"/>
                  </a:cubicBezTo>
                  <a:cubicBezTo>
                    <a:pt x="15" y="367"/>
                    <a:pt x="19" y="370"/>
                    <a:pt x="19" y="375"/>
                  </a:cubicBezTo>
                  <a:lnTo>
                    <a:pt x="19" y="375"/>
                  </a:lnTo>
                  <a:cubicBezTo>
                    <a:pt x="19" y="380"/>
                    <a:pt x="15" y="383"/>
                    <a:pt x="11" y="383"/>
                  </a:cubicBezTo>
                  <a:cubicBezTo>
                    <a:pt x="6" y="383"/>
                    <a:pt x="2" y="380"/>
                    <a:pt x="2" y="375"/>
                  </a:cubicBezTo>
                  <a:close/>
                  <a:moveTo>
                    <a:pt x="2" y="342"/>
                  </a:moveTo>
                  <a:lnTo>
                    <a:pt x="2" y="342"/>
                  </a:lnTo>
                  <a:cubicBezTo>
                    <a:pt x="2" y="337"/>
                    <a:pt x="6" y="333"/>
                    <a:pt x="11" y="333"/>
                  </a:cubicBezTo>
                  <a:cubicBezTo>
                    <a:pt x="15" y="333"/>
                    <a:pt x="19" y="337"/>
                    <a:pt x="19" y="342"/>
                  </a:cubicBezTo>
                  <a:lnTo>
                    <a:pt x="19" y="342"/>
                  </a:lnTo>
                  <a:cubicBezTo>
                    <a:pt x="19" y="346"/>
                    <a:pt x="15" y="350"/>
                    <a:pt x="11" y="350"/>
                  </a:cubicBezTo>
                  <a:cubicBezTo>
                    <a:pt x="6" y="350"/>
                    <a:pt x="2" y="346"/>
                    <a:pt x="2" y="342"/>
                  </a:cubicBezTo>
                  <a:close/>
                  <a:moveTo>
                    <a:pt x="3" y="308"/>
                  </a:moveTo>
                  <a:lnTo>
                    <a:pt x="3" y="308"/>
                  </a:lnTo>
                  <a:cubicBezTo>
                    <a:pt x="3" y="304"/>
                    <a:pt x="6" y="300"/>
                    <a:pt x="11" y="300"/>
                  </a:cubicBezTo>
                  <a:cubicBezTo>
                    <a:pt x="15" y="300"/>
                    <a:pt x="19" y="304"/>
                    <a:pt x="19" y="308"/>
                  </a:cubicBezTo>
                  <a:lnTo>
                    <a:pt x="19" y="308"/>
                  </a:lnTo>
                  <a:cubicBezTo>
                    <a:pt x="19" y="313"/>
                    <a:pt x="15" y="317"/>
                    <a:pt x="11" y="317"/>
                  </a:cubicBezTo>
                  <a:cubicBezTo>
                    <a:pt x="6" y="317"/>
                    <a:pt x="3" y="313"/>
                    <a:pt x="3" y="308"/>
                  </a:cubicBezTo>
                  <a:close/>
                  <a:moveTo>
                    <a:pt x="3" y="275"/>
                  </a:moveTo>
                  <a:lnTo>
                    <a:pt x="3" y="275"/>
                  </a:lnTo>
                  <a:cubicBezTo>
                    <a:pt x="3" y="270"/>
                    <a:pt x="6" y="267"/>
                    <a:pt x="11" y="267"/>
                  </a:cubicBezTo>
                  <a:cubicBezTo>
                    <a:pt x="16" y="267"/>
                    <a:pt x="19" y="270"/>
                    <a:pt x="19" y="275"/>
                  </a:cubicBezTo>
                  <a:lnTo>
                    <a:pt x="19" y="275"/>
                  </a:lnTo>
                  <a:cubicBezTo>
                    <a:pt x="19" y="280"/>
                    <a:pt x="16" y="283"/>
                    <a:pt x="11" y="283"/>
                  </a:cubicBezTo>
                  <a:cubicBezTo>
                    <a:pt x="6" y="283"/>
                    <a:pt x="3" y="280"/>
                    <a:pt x="3" y="275"/>
                  </a:cubicBezTo>
                  <a:close/>
                  <a:moveTo>
                    <a:pt x="3" y="242"/>
                  </a:moveTo>
                  <a:lnTo>
                    <a:pt x="3" y="242"/>
                  </a:lnTo>
                  <a:cubicBezTo>
                    <a:pt x="3" y="237"/>
                    <a:pt x="6" y="233"/>
                    <a:pt x="11" y="233"/>
                  </a:cubicBezTo>
                  <a:cubicBezTo>
                    <a:pt x="16" y="233"/>
                    <a:pt x="19" y="237"/>
                    <a:pt x="19" y="242"/>
                  </a:cubicBezTo>
                  <a:lnTo>
                    <a:pt x="19" y="242"/>
                  </a:lnTo>
                  <a:cubicBezTo>
                    <a:pt x="19" y="246"/>
                    <a:pt x="16" y="250"/>
                    <a:pt x="11" y="250"/>
                  </a:cubicBezTo>
                  <a:cubicBezTo>
                    <a:pt x="6" y="250"/>
                    <a:pt x="3" y="246"/>
                    <a:pt x="3" y="242"/>
                  </a:cubicBezTo>
                  <a:close/>
                  <a:moveTo>
                    <a:pt x="3" y="208"/>
                  </a:moveTo>
                  <a:lnTo>
                    <a:pt x="3" y="208"/>
                  </a:lnTo>
                  <a:cubicBezTo>
                    <a:pt x="3" y="204"/>
                    <a:pt x="7" y="200"/>
                    <a:pt x="11" y="200"/>
                  </a:cubicBezTo>
                  <a:cubicBezTo>
                    <a:pt x="16" y="200"/>
                    <a:pt x="19" y="204"/>
                    <a:pt x="19" y="208"/>
                  </a:cubicBezTo>
                  <a:lnTo>
                    <a:pt x="19" y="208"/>
                  </a:lnTo>
                  <a:cubicBezTo>
                    <a:pt x="19" y="213"/>
                    <a:pt x="16" y="217"/>
                    <a:pt x="11" y="217"/>
                  </a:cubicBezTo>
                  <a:cubicBezTo>
                    <a:pt x="7" y="217"/>
                    <a:pt x="3" y="213"/>
                    <a:pt x="3" y="208"/>
                  </a:cubicBezTo>
                  <a:close/>
                  <a:moveTo>
                    <a:pt x="3" y="175"/>
                  </a:moveTo>
                  <a:lnTo>
                    <a:pt x="3" y="175"/>
                  </a:lnTo>
                  <a:cubicBezTo>
                    <a:pt x="3" y="170"/>
                    <a:pt x="7" y="167"/>
                    <a:pt x="11" y="167"/>
                  </a:cubicBezTo>
                  <a:cubicBezTo>
                    <a:pt x="16" y="167"/>
                    <a:pt x="20" y="170"/>
                    <a:pt x="20" y="175"/>
                  </a:cubicBezTo>
                  <a:lnTo>
                    <a:pt x="20" y="175"/>
                  </a:lnTo>
                  <a:cubicBezTo>
                    <a:pt x="20" y="180"/>
                    <a:pt x="16" y="183"/>
                    <a:pt x="11" y="183"/>
                  </a:cubicBezTo>
                  <a:cubicBezTo>
                    <a:pt x="7" y="183"/>
                    <a:pt x="3" y="180"/>
                    <a:pt x="3" y="175"/>
                  </a:cubicBezTo>
                  <a:close/>
                  <a:moveTo>
                    <a:pt x="3" y="142"/>
                  </a:moveTo>
                  <a:lnTo>
                    <a:pt x="3" y="142"/>
                  </a:lnTo>
                  <a:cubicBezTo>
                    <a:pt x="3" y="137"/>
                    <a:pt x="7" y="133"/>
                    <a:pt x="11" y="133"/>
                  </a:cubicBezTo>
                  <a:cubicBezTo>
                    <a:pt x="16" y="133"/>
                    <a:pt x="20" y="137"/>
                    <a:pt x="20" y="142"/>
                  </a:cubicBezTo>
                  <a:lnTo>
                    <a:pt x="20" y="142"/>
                  </a:lnTo>
                  <a:cubicBezTo>
                    <a:pt x="20" y="146"/>
                    <a:pt x="16" y="150"/>
                    <a:pt x="11" y="150"/>
                  </a:cubicBezTo>
                  <a:cubicBezTo>
                    <a:pt x="7" y="150"/>
                    <a:pt x="3" y="146"/>
                    <a:pt x="3" y="142"/>
                  </a:cubicBezTo>
                  <a:close/>
                  <a:moveTo>
                    <a:pt x="3" y="108"/>
                  </a:moveTo>
                  <a:lnTo>
                    <a:pt x="3" y="108"/>
                  </a:lnTo>
                  <a:cubicBezTo>
                    <a:pt x="3" y="104"/>
                    <a:pt x="7" y="100"/>
                    <a:pt x="11" y="100"/>
                  </a:cubicBezTo>
                  <a:cubicBezTo>
                    <a:pt x="16" y="100"/>
                    <a:pt x="20" y="104"/>
                    <a:pt x="20" y="108"/>
                  </a:cubicBezTo>
                  <a:lnTo>
                    <a:pt x="20" y="108"/>
                  </a:lnTo>
                  <a:cubicBezTo>
                    <a:pt x="20" y="113"/>
                    <a:pt x="16" y="117"/>
                    <a:pt x="11" y="117"/>
                  </a:cubicBezTo>
                  <a:cubicBezTo>
                    <a:pt x="7" y="117"/>
                    <a:pt x="3" y="113"/>
                    <a:pt x="3" y="108"/>
                  </a:cubicBezTo>
                  <a:close/>
                  <a:moveTo>
                    <a:pt x="3" y="75"/>
                  </a:moveTo>
                  <a:lnTo>
                    <a:pt x="3" y="75"/>
                  </a:lnTo>
                  <a:cubicBezTo>
                    <a:pt x="3" y="70"/>
                    <a:pt x="7" y="67"/>
                    <a:pt x="12" y="67"/>
                  </a:cubicBezTo>
                  <a:cubicBezTo>
                    <a:pt x="16" y="67"/>
                    <a:pt x="20" y="70"/>
                    <a:pt x="20" y="75"/>
                  </a:cubicBezTo>
                  <a:lnTo>
                    <a:pt x="20" y="75"/>
                  </a:lnTo>
                  <a:cubicBezTo>
                    <a:pt x="20" y="80"/>
                    <a:pt x="16" y="83"/>
                    <a:pt x="12" y="83"/>
                  </a:cubicBezTo>
                  <a:cubicBezTo>
                    <a:pt x="7" y="83"/>
                    <a:pt x="3" y="80"/>
                    <a:pt x="3" y="75"/>
                  </a:cubicBezTo>
                  <a:close/>
                  <a:moveTo>
                    <a:pt x="3" y="42"/>
                  </a:moveTo>
                  <a:lnTo>
                    <a:pt x="3" y="42"/>
                  </a:lnTo>
                  <a:cubicBezTo>
                    <a:pt x="3" y="37"/>
                    <a:pt x="7" y="33"/>
                    <a:pt x="12" y="33"/>
                  </a:cubicBezTo>
                  <a:cubicBezTo>
                    <a:pt x="16" y="33"/>
                    <a:pt x="20" y="37"/>
                    <a:pt x="20" y="42"/>
                  </a:cubicBezTo>
                  <a:lnTo>
                    <a:pt x="20" y="42"/>
                  </a:lnTo>
                  <a:cubicBezTo>
                    <a:pt x="20" y="46"/>
                    <a:pt x="16" y="50"/>
                    <a:pt x="12" y="50"/>
                  </a:cubicBezTo>
                  <a:cubicBezTo>
                    <a:pt x="7" y="50"/>
                    <a:pt x="3" y="46"/>
                    <a:pt x="3" y="42"/>
                  </a:cubicBezTo>
                  <a:close/>
                  <a:moveTo>
                    <a:pt x="3" y="8"/>
                  </a:moveTo>
                  <a:lnTo>
                    <a:pt x="3" y="8"/>
                  </a:lnTo>
                  <a:cubicBezTo>
                    <a:pt x="3" y="4"/>
                    <a:pt x="7" y="0"/>
                    <a:pt x="12" y="0"/>
                  </a:cubicBezTo>
                  <a:cubicBezTo>
                    <a:pt x="16" y="0"/>
                    <a:pt x="20" y="4"/>
                    <a:pt x="20" y="8"/>
                  </a:cubicBezTo>
                  <a:lnTo>
                    <a:pt x="20" y="8"/>
                  </a:lnTo>
                  <a:cubicBezTo>
                    <a:pt x="20" y="13"/>
                    <a:pt x="16" y="17"/>
                    <a:pt x="12" y="17"/>
                  </a:cubicBezTo>
                  <a:cubicBezTo>
                    <a:pt x="7" y="17"/>
                    <a:pt x="3" y="13"/>
                    <a:pt x="3" y="8"/>
                  </a:cubicBez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634640" y="4362480"/>
              <a:ext cx="2080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2016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841280" y="4362480"/>
              <a:ext cx="2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167800" y="4362480"/>
              <a:ext cx="2080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2017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374440" y="4362480"/>
              <a:ext cx="2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625000" y="4362480"/>
              <a:ext cx="2080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2018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831640" y="4362480"/>
              <a:ext cx="2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082200" y="4362480"/>
              <a:ext cx="2080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2019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288840" y="4362480"/>
              <a:ext cx="2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915200" y="4132440"/>
              <a:ext cx="4791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CH" sz="700" spc="-1" strike="noStrike">
                  <a:solidFill>
                    <a:srgbClr val="000000"/>
                  </a:solidFill>
                  <a:latin typeface="Times New Roman"/>
                </a:rPr>
                <a:t>Offre de bas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369160" y="4132440"/>
              <a:ext cx="237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917000" y="3903840"/>
              <a:ext cx="4777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CH" sz="700" spc="-1" strike="noStrike">
                  <a:solidFill>
                    <a:srgbClr val="000000"/>
                  </a:solidFill>
                  <a:latin typeface="Times New Roman"/>
                </a:rPr>
                <a:t>Densifica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356560" y="3903840"/>
              <a:ext cx="237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400760" y="379080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450440" y="3790800"/>
              <a:ext cx="29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00’0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740600" y="3790800"/>
              <a:ext cx="2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400760" y="333360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450440" y="3333600"/>
              <a:ext cx="29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00’0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740600" y="3333600"/>
              <a:ext cx="2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400760" y="401940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450440" y="4019400"/>
              <a:ext cx="29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00’0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740600" y="4019400"/>
              <a:ext cx="2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801040" y="4589640"/>
              <a:ext cx="531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CH" sz="700" spc="-1" strike="noStrike">
                  <a:solidFill>
                    <a:srgbClr val="000000"/>
                  </a:solidFill>
                  <a:latin typeface="Times New Roman"/>
                </a:rPr>
                <a:t>Année enquêt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296760" y="4589640"/>
              <a:ext cx="237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 rot="16200000">
              <a:off x="906840" y="3718800"/>
              <a:ext cx="750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CH" sz="700" spc="-1" strike="noStrike">
                  <a:solidFill>
                    <a:srgbClr val="000000"/>
                  </a:solidFill>
                  <a:latin typeface="Times New Roman"/>
                </a:rPr>
                <a:t>Grandeur échantill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 rot="16200000">
              <a:off x="1270080" y="3462480"/>
              <a:ext cx="237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816200" y="5762520"/>
              <a:ext cx="4730760" cy="76320"/>
            </a:xfrm>
            <a:custGeom>
              <a:avLst/>
              <a:gdLst/>
              <a:ahLst/>
              <a:rect l="l" t="t" r="r" b="b"/>
              <a:pathLst>
                <a:path w="24833" h="400">
                  <a:moveTo>
                    <a:pt x="33" y="163"/>
                  </a:moveTo>
                  <a:lnTo>
                    <a:pt x="24500" y="166"/>
                  </a:lnTo>
                  <a:cubicBezTo>
                    <a:pt x="24519" y="166"/>
                    <a:pt x="24534" y="181"/>
                    <a:pt x="24534" y="200"/>
                  </a:cubicBezTo>
                  <a:cubicBezTo>
                    <a:pt x="24534" y="218"/>
                    <a:pt x="24519" y="233"/>
                    <a:pt x="24500" y="233"/>
                  </a:cubicBezTo>
                  <a:lnTo>
                    <a:pt x="33" y="230"/>
                  </a:lnTo>
                  <a:cubicBezTo>
                    <a:pt x="15" y="230"/>
                    <a:pt x="0" y="215"/>
                    <a:pt x="0" y="196"/>
                  </a:cubicBezTo>
                  <a:cubicBezTo>
                    <a:pt x="0" y="178"/>
                    <a:pt x="15" y="163"/>
                    <a:pt x="33" y="163"/>
                  </a:cubicBezTo>
                  <a:close/>
                  <a:moveTo>
                    <a:pt x="24433" y="0"/>
                  </a:moveTo>
                  <a:lnTo>
                    <a:pt x="24833" y="200"/>
                  </a:lnTo>
                  <a:lnTo>
                    <a:pt x="24433" y="400"/>
                  </a:lnTo>
                  <a:lnTo>
                    <a:pt x="24433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8" name=""/>
            <p:cNvGrpSpPr/>
            <p:nvPr/>
          </p:nvGrpSpPr>
          <p:grpSpPr>
            <a:xfrm>
              <a:off x="5935680" y="5342040"/>
              <a:ext cx="458640" cy="228600"/>
              <a:chOff x="5935680" y="5342040"/>
              <a:chExt cx="458640" cy="228600"/>
            </a:xfrm>
          </p:grpSpPr>
          <p:sp>
            <p:nvSpPr>
              <p:cNvPr id="249" name=""/>
              <p:cNvSpPr/>
              <p:nvPr/>
            </p:nvSpPr>
            <p:spPr>
              <a:xfrm>
                <a:off x="5935680" y="5342040"/>
                <a:ext cx="457200" cy="2286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250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5937120" y="5342040"/>
                <a:ext cx="457200" cy="228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1" name=""/>
              <p:cNvSpPr/>
              <p:nvPr/>
            </p:nvSpPr>
            <p:spPr>
              <a:xfrm>
                <a:off x="5935680" y="5342040"/>
                <a:ext cx="457200" cy="2286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2" name=""/>
            <p:cNvSpPr/>
            <p:nvPr/>
          </p:nvSpPr>
          <p:spPr>
            <a:xfrm>
              <a:off x="1784520" y="5113440"/>
              <a:ext cx="75960" cy="691920"/>
            </a:xfrm>
            <a:custGeom>
              <a:avLst/>
              <a:gdLst/>
              <a:ahLst/>
              <a:rect l="l" t="t" r="r" b="b"/>
              <a:pathLst>
                <a:path w="400" h="3634">
                  <a:moveTo>
                    <a:pt x="164" y="3600"/>
                  </a:moveTo>
                  <a:lnTo>
                    <a:pt x="167" y="334"/>
                  </a:lnTo>
                  <a:cubicBezTo>
                    <a:pt x="167" y="315"/>
                    <a:pt x="182" y="300"/>
                    <a:pt x="201" y="300"/>
                  </a:cubicBezTo>
                  <a:cubicBezTo>
                    <a:pt x="219" y="300"/>
                    <a:pt x="234" y="315"/>
                    <a:pt x="234" y="334"/>
                  </a:cubicBezTo>
                  <a:lnTo>
                    <a:pt x="231" y="3600"/>
                  </a:lnTo>
                  <a:cubicBezTo>
                    <a:pt x="231" y="3619"/>
                    <a:pt x="216" y="3634"/>
                    <a:pt x="197" y="3634"/>
                  </a:cubicBezTo>
                  <a:cubicBezTo>
                    <a:pt x="179" y="3634"/>
                    <a:pt x="164" y="3619"/>
                    <a:pt x="164" y="3600"/>
                  </a:cubicBezTo>
                  <a:close/>
                  <a:moveTo>
                    <a:pt x="0" y="400"/>
                  </a:moveTo>
                  <a:lnTo>
                    <a:pt x="201" y="0"/>
                  </a:lnTo>
                  <a:lnTo>
                    <a:pt x="400" y="401"/>
                  </a:lnTo>
                  <a:lnTo>
                    <a:pt x="0" y="40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278080" y="5346720"/>
              <a:ext cx="3240" cy="453960"/>
            </a:xfrm>
            <a:custGeom>
              <a:avLst/>
              <a:gdLst/>
              <a:ahLst/>
              <a:rect l="l" t="t" r="r" b="b"/>
              <a:pathLst>
                <a:path w="20" h="2385">
                  <a:moveTo>
                    <a:pt x="0" y="2376"/>
                  </a:moveTo>
                  <a:lnTo>
                    <a:pt x="0" y="2376"/>
                  </a:lnTo>
                  <a:cubicBezTo>
                    <a:pt x="0" y="2372"/>
                    <a:pt x="4" y="2368"/>
                    <a:pt x="8" y="2368"/>
                  </a:cubicBezTo>
                  <a:cubicBezTo>
                    <a:pt x="13" y="2368"/>
                    <a:pt x="17" y="2372"/>
                    <a:pt x="17" y="2376"/>
                  </a:cubicBezTo>
                  <a:lnTo>
                    <a:pt x="17" y="2376"/>
                  </a:lnTo>
                  <a:cubicBezTo>
                    <a:pt x="17" y="2381"/>
                    <a:pt x="13" y="2385"/>
                    <a:pt x="8" y="2385"/>
                  </a:cubicBezTo>
                  <a:cubicBezTo>
                    <a:pt x="4" y="2385"/>
                    <a:pt x="0" y="2381"/>
                    <a:pt x="0" y="2376"/>
                  </a:cubicBezTo>
                  <a:close/>
                  <a:moveTo>
                    <a:pt x="0" y="2343"/>
                  </a:moveTo>
                  <a:lnTo>
                    <a:pt x="0" y="2343"/>
                  </a:lnTo>
                  <a:cubicBezTo>
                    <a:pt x="0" y="2338"/>
                    <a:pt x="4" y="2335"/>
                    <a:pt x="9" y="2335"/>
                  </a:cubicBezTo>
                  <a:cubicBezTo>
                    <a:pt x="13" y="2335"/>
                    <a:pt x="17" y="2338"/>
                    <a:pt x="17" y="2343"/>
                  </a:cubicBezTo>
                  <a:lnTo>
                    <a:pt x="17" y="2343"/>
                  </a:lnTo>
                  <a:cubicBezTo>
                    <a:pt x="17" y="2348"/>
                    <a:pt x="13" y="2351"/>
                    <a:pt x="9" y="2351"/>
                  </a:cubicBezTo>
                  <a:cubicBezTo>
                    <a:pt x="4" y="2351"/>
                    <a:pt x="0" y="2348"/>
                    <a:pt x="0" y="2343"/>
                  </a:cubicBezTo>
                  <a:close/>
                  <a:moveTo>
                    <a:pt x="0" y="2310"/>
                  </a:moveTo>
                  <a:lnTo>
                    <a:pt x="0" y="2310"/>
                  </a:lnTo>
                  <a:cubicBezTo>
                    <a:pt x="0" y="2305"/>
                    <a:pt x="4" y="2301"/>
                    <a:pt x="9" y="2301"/>
                  </a:cubicBezTo>
                  <a:cubicBezTo>
                    <a:pt x="13" y="2301"/>
                    <a:pt x="17" y="2305"/>
                    <a:pt x="17" y="2310"/>
                  </a:cubicBezTo>
                  <a:lnTo>
                    <a:pt x="17" y="2310"/>
                  </a:lnTo>
                  <a:cubicBezTo>
                    <a:pt x="17" y="2314"/>
                    <a:pt x="13" y="2318"/>
                    <a:pt x="9" y="2318"/>
                  </a:cubicBezTo>
                  <a:cubicBezTo>
                    <a:pt x="4" y="2318"/>
                    <a:pt x="0" y="2314"/>
                    <a:pt x="0" y="2310"/>
                  </a:cubicBezTo>
                  <a:close/>
                  <a:moveTo>
                    <a:pt x="0" y="2276"/>
                  </a:moveTo>
                  <a:lnTo>
                    <a:pt x="0" y="2276"/>
                  </a:lnTo>
                  <a:cubicBezTo>
                    <a:pt x="0" y="2272"/>
                    <a:pt x="4" y="2268"/>
                    <a:pt x="9" y="2268"/>
                  </a:cubicBezTo>
                  <a:cubicBezTo>
                    <a:pt x="13" y="2268"/>
                    <a:pt x="17" y="2272"/>
                    <a:pt x="17" y="2276"/>
                  </a:cubicBezTo>
                  <a:lnTo>
                    <a:pt x="17" y="2276"/>
                  </a:lnTo>
                  <a:cubicBezTo>
                    <a:pt x="17" y="2281"/>
                    <a:pt x="13" y="2285"/>
                    <a:pt x="9" y="2285"/>
                  </a:cubicBezTo>
                  <a:cubicBezTo>
                    <a:pt x="4" y="2285"/>
                    <a:pt x="0" y="2281"/>
                    <a:pt x="0" y="2276"/>
                  </a:cubicBezTo>
                  <a:close/>
                  <a:moveTo>
                    <a:pt x="0" y="2243"/>
                  </a:moveTo>
                  <a:lnTo>
                    <a:pt x="0" y="2243"/>
                  </a:lnTo>
                  <a:cubicBezTo>
                    <a:pt x="0" y="2238"/>
                    <a:pt x="4" y="2235"/>
                    <a:pt x="9" y="2235"/>
                  </a:cubicBezTo>
                  <a:cubicBezTo>
                    <a:pt x="13" y="2235"/>
                    <a:pt x="17" y="2238"/>
                    <a:pt x="17" y="2243"/>
                  </a:cubicBezTo>
                  <a:lnTo>
                    <a:pt x="17" y="2243"/>
                  </a:lnTo>
                  <a:cubicBezTo>
                    <a:pt x="17" y="2248"/>
                    <a:pt x="13" y="2251"/>
                    <a:pt x="9" y="2251"/>
                  </a:cubicBezTo>
                  <a:cubicBezTo>
                    <a:pt x="4" y="2251"/>
                    <a:pt x="0" y="2248"/>
                    <a:pt x="0" y="2243"/>
                  </a:cubicBezTo>
                  <a:close/>
                  <a:moveTo>
                    <a:pt x="0" y="2210"/>
                  </a:moveTo>
                  <a:lnTo>
                    <a:pt x="0" y="2210"/>
                  </a:lnTo>
                  <a:cubicBezTo>
                    <a:pt x="0" y="2205"/>
                    <a:pt x="4" y="2201"/>
                    <a:pt x="9" y="2201"/>
                  </a:cubicBezTo>
                  <a:cubicBezTo>
                    <a:pt x="13" y="2201"/>
                    <a:pt x="17" y="2205"/>
                    <a:pt x="17" y="2210"/>
                  </a:cubicBezTo>
                  <a:lnTo>
                    <a:pt x="17" y="2210"/>
                  </a:lnTo>
                  <a:cubicBezTo>
                    <a:pt x="17" y="2214"/>
                    <a:pt x="13" y="2218"/>
                    <a:pt x="9" y="2218"/>
                  </a:cubicBezTo>
                  <a:cubicBezTo>
                    <a:pt x="4" y="2218"/>
                    <a:pt x="0" y="2214"/>
                    <a:pt x="0" y="2210"/>
                  </a:cubicBezTo>
                  <a:close/>
                  <a:moveTo>
                    <a:pt x="0" y="2176"/>
                  </a:moveTo>
                  <a:lnTo>
                    <a:pt x="0" y="2176"/>
                  </a:lnTo>
                  <a:cubicBezTo>
                    <a:pt x="0" y="2172"/>
                    <a:pt x="4" y="2168"/>
                    <a:pt x="9" y="2168"/>
                  </a:cubicBezTo>
                  <a:cubicBezTo>
                    <a:pt x="13" y="2168"/>
                    <a:pt x="17" y="2172"/>
                    <a:pt x="17" y="2176"/>
                  </a:cubicBezTo>
                  <a:lnTo>
                    <a:pt x="17" y="2176"/>
                  </a:lnTo>
                  <a:cubicBezTo>
                    <a:pt x="17" y="2181"/>
                    <a:pt x="13" y="2185"/>
                    <a:pt x="9" y="2185"/>
                  </a:cubicBezTo>
                  <a:cubicBezTo>
                    <a:pt x="4" y="2185"/>
                    <a:pt x="0" y="2181"/>
                    <a:pt x="0" y="2176"/>
                  </a:cubicBezTo>
                  <a:close/>
                  <a:moveTo>
                    <a:pt x="0" y="2143"/>
                  </a:moveTo>
                  <a:lnTo>
                    <a:pt x="0" y="2143"/>
                  </a:lnTo>
                  <a:cubicBezTo>
                    <a:pt x="0" y="2138"/>
                    <a:pt x="4" y="2135"/>
                    <a:pt x="9" y="2135"/>
                  </a:cubicBezTo>
                  <a:cubicBezTo>
                    <a:pt x="13" y="2135"/>
                    <a:pt x="17" y="2138"/>
                    <a:pt x="17" y="2143"/>
                  </a:cubicBezTo>
                  <a:lnTo>
                    <a:pt x="17" y="2143"/>
                  </a:lnTo>
                  <a:cubicBezTo>
                    <a:pt x="17" y="2148"/>
                    <a:pt x="13" y="2151"/>
                    <a:pt x="9" y="2151"/>
                  </a:cubicBezTo>
                  <a:cubicBezTo>
                    <a:pt x="4" y="2151"/>
                    <a:pt x="0" y="2148"/>
                    <a:pt x="0" y="2143"/>
                  </a:cubicBezTo>
                  <a:close/>
                  <a:moveTo>
                    <a:pt x="1" y="2110"/>
                  </a:moveTo>
                  <a:lnTo>
                    <a:pt x="1" y="2110"/>
                  </a:lnTo>
                  <a:cubicBezTo>
                    <a:pt x="1" y="2105"/>
                    <a:pt x="4" y="2101"/>
                    <a:pt x="9" y="2101"/>
                  </a:cubicBezTo>
                  <a:cubicBezTo>
                    <a:pt x="13" y="2101"/>
                    <a:pt x="17" y="2105"/>
                    <a:pt x="17" y="2110"/>
                  </a:cubicBezTo>
                  <a:lnTo>
                    <a:pt x="17" y="2110"/>
                  </a:lnTo>
                  <a:cubicBezTo>
                    <a:pt x="17" y="2114"/>
                    <a:pt x="13" y="2118"/>
                    <a:pt x="9" y="2118"/>
                  </a:cubicBezTo>
                  <a:cubicBezTo>
                    <a:pt x="4" y="2118"/>
                    <a:pt x="1" y="2114"/>
                    <a:pt x="1" y="2110"/>
                  </a:cubicBezTo>
                  <a:close/>
                  <a:moveTo>
                    <a:pt x="1" y="2076"/>
                  </a:moveTo>
                  <a:lnTo>
                    <a:pt x="1" y="2076"/>
                  </a:lnTo>
                  <a:cubicBezTo>
                    <a:pt x="1" y="2072"/>
                    <a:pt x="4" y="2068"/>
                    <a:pt x="9" y="2068"/>
                  </a:cubicBezTo>
                  <a:cubicBezTo>
                    <a:pt x="13" y="2068"/>
                    <a:pt x="17" y="2072"/>
                    <a:pt x="17" y="2076"/>
                  </a:cubicBezTo>
                  <a:lnTo>
                    <a:pt x="17" y="2076"/>
                  </a:lnTo>
                  <a:cubicBezTo>
                    <a:pt x="17" y="2081"/>
                    <a:pt x="13" y="2085"/>
                    <a:pt x="9" y="2085"/>
                  </a:cubicBezTo>
                  <a:cubicBezTo>
                    <a:pt x="4" y="2085"/>
                    <a:pt x="1" y="2081"/>
                    <a:pt x="1" y="2076"/>
                  </a:cubicBezTo>
                  <a:close/>
                  <a:moveTo>
                    <a:pt x="1" y="2043"/>
                  </a:moveTo>
                  <a:lnTo>
                    <a:pt x="1" y="2043"/>
                  </a:lnTo>
                  <a:cubicBezTo>
                    <a:pt x="1" y="2038"/>
                    <a:pt x="4" y="2035"/>
                    <a:pt x="9" y="2035"/>
                  </a:cubicBezTo>
                  <a:cubicBezTo>
                    <a:pt x="14" y="2035"/>
                    <a:pt x="17" y="2038"/>
                    <a:pt x="17" y="2043"/>
                  </a:cubicBezTo>
                  <a:lnTo>
                    <a:pt x="17" y="2043"/>
                  </a:lnTo>
                  <a:cubicBezTo>
                    <a:pt x="17" y="2048"/>
                    <a:pt x="14" y="2051"/>
                    <a:pt x="9" y="2051"/>
                  </a:cubicBezTo>
                  <a:cubicBezTo>
                    <a:pt x="4" y="2051"/>
                    <a:pt x="1" y="2048"/>
                    <a:pt x="1" y="2043"/>
                  </a:cubicBezTo>
                  <a:close/>
                  <a:moveTo>
                    <a:pt x="1" y="2010"/>
                  </a:moveTo>
                  <a:lnTo>
                    <a:pt x="1" y="2010"/>
                  </a:lnTo>
                  <a:cubicBezTo>
                    <a:pt x="1" y="2005"/>
                    <a:pt x="4" y="2001"/>
                    <a:pt x="9" y="2001"/>
                  </a:cubicBezTo>
                  <a:cubicBezTo>
                    <a:pt x="14" y="2001"/>
                    <a:pt x="17" y="2005"/>
                    <a:pt x="17" y="2010"/>
                  </a:cubicBezTo>
                  <a:lnTo>
                    <a:pt x="17" y="2010"/>
                  </a:lnTo>
                  <a:cubicBezTo>
                    <a:pt x="17" y="2014"/>
                    <a:pt x="14" y="2018"/>
                    <a:pt x="9" y="2018"/>
                  </a:cubicBezTo>
                  <a:cubicBezTo>
                    <a:pt x="4" y="2018"/>
                    <a:pt x="1" y="2014"/>
                    <a:pt x="1" y="2010"/>
                  </a:cubicBezTo>
                  <a:close/>
                  <a:moveTo>
                    <a:pt x="1" y="1976"/>
                  </a:moveTo>
                  <a:lnTo>
                    <a:pt x="1" y="1976"/>
                  </a:lnTo>
                  <a:cubicBezTo>
                    <a:pt x="1" y="1972"/>
                    <a:pt x="4" y="1968"/>
                    <a:pt x="9" y="1968"/>
                  </a:cubicBezTo>
                  <a:cubicBezTo>
                    <a:pt x="14" y="1968"/>
                    <a:pt x="17" y="1972"/>
                    <a:pt x="17" y="1976"/>
                  </a:cubicBezTo>
                  <a:lnTo>
                    <a:pt x="17" y="1976"/>
                  </a:lnTo>
                  <a:cubicBezTo>
                    <a:pt x="17" y="1981"/>
                    <a:pt x="14" y="1985"/>
                    <a:pt x="9" y="1985"/>
                  </a:cubicBezTo>
                  <a:cubicBezTo>
                    <a:pt x="4" y="1985"/>
                    <a:pt x="1" y="1981"/>
                    <a:pt x="1" y="1976"/>
                  </a:cubicBezTo>
                  <a:close/>
                  <a:moveTo>
                    <a:pt x="1" y="1943"/>
                  </a:moveTo>
                  <a:lnTo>
                    <a:pt x="1" y="1943"/>
                  </a:lnTo>
                  <a:cubicBezTo>
                    <a:pt x="1" y="1938"/>
                    <a:pt x="4" y="1935"/>
                    <a:pt x="9" y="1935"/>
                  </a:cubicBezTo>
                  <a:cubicBezTo>
                    <a:pt x="14" y="1935"/>
                    <a:pt x="17" y="1938"/>
                    <a:pt x="17" y="1943"/>
                  </a:cubicBezTo>
                  <a:lnTo>
                    <a:pt x="17" y="1943"/>
                  </a:lnTo>
                  <a:cubicBezTo>
                    <a:pt x="17" y="1948"/>
                    <a:pt x="14" y="1951"/>
                    <a:pt x="9" y="1951"/>
                  </a:cubicBezTo>
                  <a:cubicBezTo>
                    <a:pt x="4" y="1951"/>
                    <a:pt x="1" y="1948"/>
                    <a:pt x="1" y="1943"/>
                  </a:cubicBezTo>
                  <a:close/>
                  <a:moveTo>
                    <a:pt x="1" y="1910"/>
                  </a:moveTo>
                  <a:lnTo>
                    <a:pt x="1" y="1910"/>
                  </a:lnTo>
                  <a:cubicBezTo>
                    <a:pt x="1" y="1905"/>
                    <a:pt x="5" y="1901"/>
                    <a:pt x="9" y="1901"/>
                  </a:cubicBezTo>
                  <a:cubicBezTo>
                    <a:pt x="14" y="1901"/>
                    <a:pt x="17" y="1905"/>
                    <a:pt x="17" y="1910"/>
                  </a:cubicBezTo>
                  <a:lnTo>
                    <a:pt x="17" y="1910"/>
                  </a:lnTo>
                  <a:cubicBezTo>
                    <a:pt x="17" y="1914"/>
                    <a:pt x="14" y="1918"/>
                    <a:pt x="9" y="1918"/>
                  </a:cubicBezTo>
                  <a:cubicBezTo>
                    <a:pt x="5" y="1918"/>
                    <a:pt x="1" y="1914"/>
                    <a:pt x="1" y="1910"/>
                  </a:cubicBezTo>
                  <a:close/>
                  <a:moveTo>
                    <a:pt x="1" y="1876"/>
                  </a:moveTo>
                  <a:lnTo>
                    <a:pt x="1" y="1876"/>
                  </a:lnTo>
                  <a:cubicBezTo>
                    <a:pt x="1" y="1872"/>
                    <a:pt x="5" y="1868"/>
                    <a:pt x="9" y="1868"/>
                  </a:cubicBezTo>
                  <a:cubicBezTo>
                    <a:pt x="14" y="1868"/>
                    <a:pt x="17" y="1872"/>
                    <a:pt x="17" y="1876"/>
                  </a:cubicBezTo>
                  <a:lnTo>
                    <a:pt x="17" y="1876"/>
                  </a:lnTo>
                  <a:cubicBezTo>
                    <a:pt x="17" y="1881"/>
                    <a:pt x="14" y="1885"/>
                    <a:pt x="9" y="1885"/>
                  </a:cubicBezTo>
                  <a:cubicBezTo>
                    <a:pt x="5" y="1885"/>
                    <a:pt x="1" y="1881"/>
                    <a:pt x="1" y="1876"/>
                  </a:cubicBezTo>
                  <a:close/>
                  <a:moveTo>
                    <a:pt x="1" y="1843"/>
                  </a:moveTo>
                  <a:lnTo>
                    <a:pt x="1" y="1843"/>
                  </a:lnTo>
                  <a:cubicBezTo>
                    <a:pt x="1" y="1838"/>
                    <a:pt x="5" y="1834"/>
                    <a:pt x="9" y="1834"/>
                  </a:cubicBezTo>
                  <a:cubicBezTo>
                    <a:pt x="14" y="1834"/>
                    <a:pt x="18" y="1838"/>
                    <a:pt x="18" y="1843"/>
                  </a:cubicBezTo>
                  <a:lnTo>
                    <a:pt x="18" y="1843"/>
                  </a:lnTo>
                  <a:cubicBezTo>
                    <a:pt x="18" y="1847"/>
                    <a:pt x="14" y="1851"/>
                    <a:pt x="9" y="1851"/>
                  </a:cubicBezTo>
                  <a:cubicBezTo>
                    <a:pt x="5" y="1851"/>
                    <a:pt x="1" y="1847"/>
                    <a:pt x="1" y="1843"/>
                  </a:cubicBezTo>
                  <a:close/>
                  <a:moveTo>
                    <a:pt x="1" y="1809"/>
                  </a:moveTo>
                  <a:lnTo>
                    <a:pt x="1" y="1809"/>
                  </a:lnTo>
                  <a:cubicBezTo>
                    <a:pt x="1" y="1805"/>
                    <a:pt x="5" y="1801"/>
                    <a:pt x="9" y="1801"/>
                  </a:cubicBezTo>
                  <a:cubicBezTo>
                    <a:pt x="14" y="1801"/>
                    <a:pt x="18" y="1805"/>
                    <a:pt x="18" y="1809"/>
                  </a:cubicBezTo>
                  <a:lnTo>
                    <a:pt x="18" y="1809"/>
                  </a:lnTo>
                  <a:cubicBezTo>
                    <a:pt x="18" y="1814"/>
                    <a:pt x="14" y="1818"/>
                    <a:pt x="9" y="1818"/>
                  </a:cubicBezTo>
                  <a:cubicBezTo>
                    <a:pt x="5" y="1818"/>
                    <a:pt x="1" y="1814"/>
                    <a:pt x="1" y="1809"/>
                  </a:cubicBezTo>
                  <a:close/>
                  <a:moveTo>
                    <a:pt x="1" y="1776"/>
                  </a:moveTo>
                  <a:lnTo>
                    <a:pt x="1" y="1776"/>
                  </a:lnTo>
                  <a:cubicBezTo>
                    <a:pt x="1" y="1772"/>
                    <a:pt x="5" y="1768"/>
                    <a:pt x="9" y="1768"/>
                  </a:cubicBezTo>
                  <a:cubicBezTo>
                    <a:pt x="14" y="1768"/>
                    <a:pt x="18" y="1772"/>
                    <a:pt x="18" y="1776"/>
                  </a:cubicBezTo>
                  <a:lnTo>
                    <a:pt x="18" y="1776"/>
                  </a:lnTo>
                  <a:cubicBezTo>
                    <a:pt x="18" y="1781"/>
                    <a:pt x="14" y="1784"/>
                    <a:pt x="9" y="1784"/>
                  </a:cubicBezTo>
                  <a:cubicBezTo>
                    <a:pt x="5" y="1784"/>
                    <a:pt x="1" y="1781"/>
                    <a:pt x="1" y="1776"/>
                  </a:cubicBezTo>
                  <a:close/>
                  <a:moveTo>
                    <a:pt x="1" y="1743"/>
                  </a:moveTo>
                  <a:lnTo>
                    <a:pt x="1" y="1743"/>
                  </a:lnTo>
                  <a:cubicBezTo>
                    <a:pt x="1" y="1738"/>
                    <a:pt x="5" y="1734"/>
                    <a:pt x="9" y="1734"/>
                  </a:cubicBezTo>
                  <a:cubicBezTo>
                    <a:pt x="14" y="1734"/>
                    <a:pt x="18" y="1738"/>
                    <a:pt x="18" y="1743"/>
                  </a:cubicBezTo>
                  <a:lnTo>
                    <a:pt x="18" y="1743"/>
                  </a:lnTo>
                  <a:cubicBezTo>
                    <a:pt x="18" y="1747"/>
                    <a:pt x="14" y="1751"/>
                    <a:pt x="9" y="1751"/>
                  </a:cubicBezTo>
                  <a:cubicBezTo>
                    <a:pt x="5" y="1751"/>
                    <a:pt x="1" y="1747"/>
                    <a:pt x="1" y="1743"/>
                  </a:cubicBezTo>
                  <a:close/>
                  <a:moveTo>
                    <a:pt x="1" y="1709"/>
                  </a:moveTo>
                  <a:lnTo>
                    <a:pt x="1" y="1709"/>
                  </a:lnTo>
                  <a:cubicBezTo>
                    <a:pt x="1" y="1705"/>
                    <a:pt x="5" y="1701"/>
                    <a:pt x="9" y="1701"/>
                  </a:cubicBezTo>
                  <a:cubicBezTo>
                    <a:pt x="14" y="1701"/>
                    <a:pt x="18" y="1705"/>
                    <a:pt x="18" y="1709"/>
                  </a:cubicBezTo>
                  <a:lnTo>
                    <a:pt x="18" y="1709"/>
                  </a:lnTo>
                  <a:cubicBezTo>
                    <a:pt x="18" y="1714"/>
                    <a:pt x="14" y="1718"/>
                    <a:pt x="9" y="1718"/>
                  </a:cubicBezTo>
                  <a:cubicBezTo>
                    <a:pt x="5" y="1718"/>
                    <a:pt x="1" y="1714"/>
                    <a:pt x="1" y="1709"/>
                  </a:cubicBezTo>
                  <a:close/>
                  <a:moveTo>
                    <a:pt x="1" y="1676"/>
                  </a:moveTo>
                  <a:lnTo>
                    <a:pt x="1" y="1676"/>
                  </a:lnTo>
                  <a:cubicBezTo>
                    <a:pt x="1" y="1671"/>
                    <a:pt x="5" y="1668"/>
                    <a:pt x="9" y="1668"/>
                  </a:cubicBezTo>
                  <a:cubicBezTo>
                    <a:pt x="14" y="1668"/>
                    <a:pt x="18" y="1671"/>
                    <a:pt x="18" y="1676"/>
                  </a:cubicBezTo>
                  <a:lnTo>
                    <a:pt x="18" y="1676"/>
                  </a:lnTo>
                  <a:cubicBezTo>
                    <a:pt x="18" y="1681"/>
                    <a:pt x="14" y="1684"/>
                    <a:pt x="9" y="1684"/>
                  </a:cubicBezTo>
                  <a:cubicBezTo>
                    <a:pt x="5" y="1684"/>
                    <a:pt x="1" y="1681"/>
                    <a:pt x="1" y="1676"/>
                  </a:cubicBezTo>
                  <a:close/>
                  <a:moveTo>
                    <a:pt x="1" y="1643"/>
                  </a:moveTo>
                  <a:lnTo>
                    <a:pt x="1" y="1643"/>
                  </a:lnTo>
                  <a:cubicBezTo>
                    <a:pt x="1" y="1638"/>
                    <a:pt x="5" y="1634"/>
                    <a:pt x="9" y="1634"/>
                  </a:cubicBezTo>
                  <a:cubicBezTo>
                    <a:pt x="14" y="1634"/>
                    <a:pt x="18" y="1638"/>
                    <a:pt x="18" y="1643"/>
                  </a:cubicBezTo>
                  <a:lnTo>
                    <a:pt x="18" y="1643"/>
                  </a:lnTo>
                  <a:cubicBezTo>
                    <a:pt x="18" y="1647"/>
                    <a:pt x="14" y="1651"/>
                    <a:pt x="9" y="1651"/>
                  </a:cubicBezTo>
                  <a:cubicBezTo>
                    <a:pt x="5" y="1651"/>
                    <a:pt x="1" y="1647"/>
                    <a:pt x="1" y="1643"/>
                  </a:cubicBezTo>
                  <a:close/>
                  <a:moveTo>
                    <a:pt x="1" y="1609"/>
                  </a:moveTo>
                  <a:lnTo>
                    <a:pt x="1" y="1609"/>
                  </a:lnTo>
                  <a:cubicBezTo>
                    <a:pt x="1" y="1605"/>
                    <a:pt x="5" y="1601"/>
                    <a:pt x="10" y="1601"/>
                  </a:cubicBezTo>
                  <a:cubicBezTo>
                    <a:pt x="14" y="1601"/>
                    <a:pt x="18" y="1605"/>
                    <a:pt x="18" y="1609"/>
                  </a:cubicBezTo>
                  <a:lnTo>
                    <a:pt x="18" y="1609"/>
                  </a:lnTo>
                  <a:cubicBezTo>
                    <a:pt x="18" y="1614"/>
                    <a:pt x="14" y="1618"/>
                    <a:pt x="10" y="1618"/>
                  </a:cubicBezTo>
                  <a:cubicBezTo>
                    <a:pt x="5" y="1618"/>
                    <a:pt x="1" y="1614"/>
                    <a:pt x="1" y="1609"/>
                  </a:cubicBezTo>
                  <a:close/>
                  <a:moveTo>
                    <a:pt x="1" y="1576"/>
                  </a:moveTo>
                  <a:lnTo>
                    <a:pt x="1" y="1576"/>
                  </a:lnTo>
                  <a:cubicBezTo>
                    <a:pt x="1" y="1571"/>
                    <a:pt x="5" y="1568"/>
                    <a:pt x="10" y="1568"/>
                  </a:cubicBezTo>
                  <a:cubicBezTo>
                    <a:pt x="14" y="1568"/>
                    <a:pt x="18" y="1571"/>
                    <a:pt x="18" y="1576"/>
                  </a:cubicBezTo>
                  <a:lnTo>
                    <a:pt x="18" y="1576"/>
                  </a:lnTo>
                  <a:cubicBezTo>
                    <a:pt x="18" y="1581"/>
                    <a:pt x="14" y="1584"/>
                    <a:pt x="10" y="1584"/>
                  </a:cubicBezTo>
                  <a:cubicBezTo>
                    <a:pt x="5" y="1584"/>
                    <a:pt x="1" y="1581"/>
                    <a:pt x="1" y="1576"/>
                  </a:cubicBezTo>
                  <a:close/>
                  <a:moveTo>
                    <a:pt x="1" y="1543"/>
                  </a:moveTo>
                  <a:lnTo>
                    <a:pt x="1" y="1543"/>
                  </a:lnTo>
                  <a:cubicBezTo>
                    <a:pt x="1" y="1538"/>
                    <a:pt x="5" y="1534"/>
                    <a:pt x="10" y="1534"/>
                  </a:cubicBezTo>
                  <a:cubicBezTo>
                    <a:pt x="14" y="1534"/>
                    <a:pt x="18" y="1538"/>
                    <a:pt x="18" y="1543"/>
                  </a:cubicBezTo>
                  <a:lnTo>
                    <a:pt x="18" y="1543"/>
                  </a:lnTo>
                  <a:cubicBezTo>
                    <a:pt x="18" y="1547"/>
                    <a:pt x="14" y="1551"/>
                    <a:pt x="10" y="1551"/>
                  </a:cubicBezTo>
                  <a:cubicBezTo>
                    <a:pt x="5" y="1551"/>
                    <a:pt x="1" y="1547"/>
                    <a:pt x="1" y="1543"/>
                  </a:cubicBezTo>
                  <a:close/>
                  <a:moveTo>
                    <a:pt x="1" y="1509"/>
                  </a:moveTo>
                  <a:lnTo>
                    <a:pt x="1" y="1509"/>
                  </a:lnTo>
                  <a:cubicBezTo>
                    <a:pt x="1" y="1505"/>
                    <a:pt x="5" y="1501"/>
                    <a:pt x="10" y="1501"/>
                  </a:cubicBezTo>
                  <a:cubicBezTo>
                    <a:pt x="14" y="1501"/>
                    <a:pt x="18" y="1505"/>
                    <a:pt x="18" y="1509"/>
                  </a:cubicBezTo>
                  <a:lnTo>
                    <a:pt x="18" y="1509"/>
                  </a:lnTo>
                  <a:cubicBezTo>
                    <a:pt x="18" y="1514"/>
                    <a:pt x="14" y="1518"/>
                    <a:pt x="10" y="1518"/>
                  </a:cubicBezTo>
                  <a:cubicBezTo>
                    <a:pt x="5" y="1518"/>
                    <a:pt x="1" y="1514"/>
                    <a:pt x="1" y="1509"/>
                  </a:cubicBezTo>
                  <a:close/>
                  <a:moveTo>
                    <a:pt x="1" y="1476"/>
                  </a:moveTo>
                  <a:lnTo>
                    <a:pt x="1" y="1476"/>
                  </a:lnTo>
                  <a:cubicBezTo>
                    <a:pt x="1" y="1471"/>
                    <a:pt x="5" y="1468"/>
                    <a:pt x="10" y="1468"/>
                  </a:cubicBezTo>
                  <a:cubicBezTo>
                    <a:pt x="14" y="1468"/>
                    <a:pt x="18" y="1471"/>
                    <a:pt x="18" y="1476"/>
                  </a:cubicBezTo>
                  <a:lnTo>
                    <a:pt x="18" y="1476"/>
                  </a:lnTo>
                  <a:cubicBezTo>
                    <a:pt x="18" y="1481"/>
                    <a:pt x="14" y="1484"/>
                    <a:pt x="10" y="1484"/>
                  </a:cubicBezTo>
                  <a:cubicBezTo>
                    <a:pt x="5" y="1484"/>
                    <a:pt x="1" y="1481"/>
                    <a:pt x="1" y="1476"/>
                  </a:cubicBezTo>
                  <a:close/>
                  <a:moveTo>
                    <a:pt x="1" y="1443"/>
                  </a:moveTo>
                  <a:lnTo>
                    <a:pt x="1" y="1443"/>
                  </a:lnTo>
                  <a:cubicBezTo>
                    <a:pt x="1" y="1438"/>
                    <a:pt x="5" y="1434"/>
                    <a:pt x="10" y="1434"/>
                  </a:cubicBezTo>
                  <a:cubicBezTo>
                    <a:pt x="14" y="1434"/>
                    <a:pt x="18" y="1438"/>
                    <a:pt x="18" y="1443"/>
                  </a:cubicBezTo>
                  <a:lnTo>
                    <a:pt x="18" y="1443"/>
                  </a:lnTo>
                  <a:cubicBezTo>
                    <a:pt x="18" y="1447"/>
                    <a:pt x="14" y="1451"/>
                    <a:pt x="10" y="1451"/>
                  </a:cubicBezTo>
                  <a:cubicBezTo>
                    <a:pt x="5" y="1451"/>
                    <a:pt x="1" y="1447"/>
                    <a:pt x="1" y="1443"/>
                  </a:cubicBezTo>
                  <a:close/>
                  <a:moveTo>
                    <a:pt x="1" y="1409"/>
                  </a:moveTo>
                  <a:lnTo>
                    <a:pt x="1" y="1409"/>
                  </a:lnTo>
                  <a:cubicBezTo>
                    <a:pt x="1" y="1405"/>
                    <a:pt x="5" y="1401"/>
                    <a:pt x="10" y="1401"/>
                  </a:cubicBezTo>
                  <a:cubicBezTo>
                    <a:pt x="14" y="1401"/>
                    <a:pt x="18" y="1405"/>
                    <a:pt x="18" y="1409"/>
                  </a:cubicBezTo>
                  <a:lnTo>
                    <a:pt x="18" y="1409"/>
                  </a:lnTo>
                  <a:cubicBezTo>
                    <a:pt x="18" y="1414"/>
                    <a:pt x="14" y="1418"/>
                    <a:pt x="10" y="1418"/>
                  </a:cubicBezTo>
                  <a:cubicBezTo>
                    <a:pt x="5" y="1418"/>
                    <a:pt x="1" y="1414"/>
                    <a:pt x="1" y="1409"/>
                  </a:cubicBezTo>
                  <a:close/>
                  <a:moveTo>
                    <a:pt x="2" y="1376"/>
                  </a:moveTo>
                  <a:lnTo>
                    <a:pt x="2" y="1376"/>
                  </a:lnTo>
                  <a:cubicBezTo>
                    <a:pt x="2" y="1371"/>
                    <a:pt x="5" y="1368"/>
                    <a:pt x="10" y="1368"/>
                  </a:cubicBezTo>
                  <a:cubicBezTo>
                    <a:pt x="14" y="1368"/>
                    <a:pt x="18" y="1371"/>
                    <a:pt x="18" y="1376"/>
                  </a:cubicBezTo>
                  <a:lnTo>
                    <a:pt x="18" y="1376"/>
                  </a:lnTo>
                  <a:cubicBezTo>
                    <a:pt x="18" y="1381"/>
                    <a:pt x="14" y="1384"/>
                    <a:pt x="10" y="1384"/>
                  </a:cubicBezTo>
                  <a:cubicBezTo>
                    <a:pt x="5" y="1384"/>
                    <a:pt x="2" y="1381"/>
                    <a:pt x="2" y="1376"/>
                  </a:cubicBezTo>
                  <a:close/>
                  <a:moveTo>
                    <a:pt x="2" y="1343"/>
                  </a:moveTo>
                  <a:lnTo>
                    <a:pt x="2" y="1343"/>
                  </a:lnTo>
                  <a:cubicBezTo>
                    <a:pt x="2" y="1338"/>
                    <a:pt x="5" y="1334"/>
                    <a:pt x="10" y="1334"/>
                  </a:cubicBezTo>
                  <a:cubicBezTo>
                    <a:pt x="15" y="1334"/>
                    <a:pt x="18" y="1338"/>
                    <a:pt x="18" y="1343"/>
                  </a:cubicBezTo>
                  <a:lnTo>
                    <a:pt x="18" y="1343"/>
                  </a:lnTo>
                  <a:cubicBezTo>
                    <a:pt x="18" y="1347"/>
                    <a:pt x="15" y="1351"/>
                    <a:pt x="10" y="1351"/>
                  </a:cubicBezTo>
                  <a:cubicBezTo>
                    <a:pt x="5" y="1351"/>
                    <a:pt x="2" y="1347"/>
                    <a:pt x="2" y="1343"/>
                  </a:cubicBezTo>
                  <a:close/>
                  <a:moveTo>
                    <a:pt x="2" y="1309"/>
                  </a:moveTo>
                  <a:lnTo>
                    <a:pt x="2" y="1309"/>
                  </a:lnTo>
                  <a:cubicBezTo>
                    <a:pt x="2" y="1305"/>
                    <a:pt x="5" y="1301"/>
                    <a:pt x="10" y="1301"/>
                  </a:cubicBezTo>
                  <a:cubicBezTo>
                    <a:pt x="15" y="1301"/>
                    <a:pt x="18" y="1305"/>
                    <a:pt x="18" y="1309"/>
                  </a:cubicBezTo>
                  <a:lnTo>
                    <a:pt x="18" y="1309"/>
                  </a:lnTo>
                  <a:cubicBezTo>
                    <a:pt x="18" y="1314"/>
                    <a:pt x="15" y="1318"/>
                    <a:pt x="10" y="1318"/>
                  </a:cubicBezTo>
                  <a:cubicBezTo>
                    <a:pt x="5" y="1318"/>
                    <a:pt x="2" y="1314"/>
                    <a:pt x="2" y="1309"/>
                  </a:cubicBezTo>
                  <a:close/>
                  <a:moveTo>
                    <a:pt x="2" y="1276"/>
                  </a:moveTo>
                  <a:lnTo>
                    <a:pt x="2" y="1276"/>
                  </a:lnTo>
                  <a:cubicBezTo>
                    <a:pt x="2" y="1271"/>
                    <a:pt x="5" y="1268"/>
                    <a:pt x="10" y="1268"/>
                  </a:cubicBezTo>
                  <a:cubicBezTo>
                    <a:pt x="15" y="1268"/>
                    <a:pt x="18" y="1271"/>
                    <a:pt x="18" y="1276"/>
                  </a:cubicBezTo>
                  <a:lnTo>
                    <a:pt x="18" y="1276"/>
                  </a:lnTo>
                  <a:cubicBezTo>
                    <a:pt x="18" y="1280"/>
                    <a:pt x="15" y="1284"/>
                    <a:pt x="10" y="1284"/>
                  </a:cubicBezTo>
                  <a:cubicBezTo>
                    <a:pt x="5" y="1284"/>
                    <a:pt x="2" y="1280"/>
                    <a:pt x="2" y="1276"/>
                  </a:cubicBezTo>
                  <a:close/>
                  <a:moveTo>
                    <a:pt x="2" y="1243"/>
                  </a:moveTo>
                  <a:lnTo>
                    <a:pt x="2" y="1242"/>
                  </a:lnTo>
                  <a:cubicBezTo>
                    <a:pt x="2" y="1238"/>
                    <a:pt x="5" y="1234"/>
                    <a:pt x="10" y="1234"/>
                  </a:cubicBezTo>
                  <a:cubicBezTo>
                    <a:pt x="15" y="1234"/>
                    <a:pt x="18" y="1238"/>
                    <a:pt x="18" y="1242"/>
                  </a:cubicBezTo>
                  <a:lnTo>
                    <a:pt x="18" y="1243"/>
                  </a:lnTo>
                  <a:cubicBezTo>
                    <a:pt x="18" y="1247"/>
                    <a:pt x="15" y="1251"/>
                    <a:pt x="10" y="1251"/>
                  </a:cubicBezTo>
                  <a:cubicBezTo>
                    <a:pt x="5" y="1251"/>
                    <a:pt x="2" y="1247"/>
                    <a:pt x="2" y="1243"/>
                  </a:cubicBezTo>
                  <a:close/>
                  <a:moveTo>
                    <a:pt x="2" y="1209"/>
                  </a:moveTo>
                  <a:lnTo>
                    <a:pt x="2" y="1209"/>
                  </a:lnTo>
                  <a:cubicBezTo>
                    <a:pt x="2" y="1205"/>
                    <a:pt x="5" y="1201"/>
                    <a:pt x="10" y="1201"/>
                  </a:cubicBezTo>
                  <a:cubicBezTo>
                    <a:pt x="15" y="1201"/>
                    <a:pt x="18" y="1205"/>
                    <a:pt x="18" y="1209"/>
                  </a:cubicBezTo>
                  <a:lnTo>
                    <a:pt x="18" y="1209"/>
                  </a:lnTo>
                  <a:cubicBezTo>
                    <a:pt x="18" y="1214"/>
                    <a:pt x="15" y="1217"/>
                    <a:pt x="10" y="1217"/>
                  </a:cubicBezTo>
                  <a:cubicBezTo>
                    <a:pt x="5" y="1217"/>
                    <a:pt x="2" y="1214"/>
                    <a:pt x="2" y="1209"/>
                  </a:cubicBezTo>
                  <a:close/>
                  <a:moveTo>
                    <a:pt x="2" y="1176"/>
                  </a:moveTo>
                  <a:lnTo>
                    <a:pt x="2" y="1176"/>
                  </a:lnTo>
                  <a:cubicBezTo>
                    <a:pt x="2" y="1171"/>
                    <a:pt x="6" y="1167"/>
                    <a:pt x="10" y="1167"/>
                  </a:cubicBezTo>
                  <a:cubicBezTo>
                    <a:pt x="15" y="1167"/>
                    <a:pt x="18" y="1171"/>
                    <a:pt x="18" y="1176"/>
                  </a:cubicBezTo>
                  <a:lnTo>
                    <a:pt x="18" y="1176"/>
                  </a:lnTo>
                  <a:cubicBezTo>
                    <a:pt x="18" y="1180"/>
                    <a:pt x="15" y="1184"/>
                    <a:pt x="10" y="1184"/>
                  </a:cubicBezTo>
                  <a:cubicBezTo>
                    <a:pt x="6" y="1184"/>
                    <a:pt x="2" y="1180"/>
                    <a:pt x="2" y="1176"/>
                  </a:cubicBezTo>
                  <a:close/>
                  <a:moveTo>
                    <a:pt x="2" y="1142"/>
                  </a:moveTo>
                  <a:lnTo>
                    <a:pt x="2" y="1142"/>
                  </a:lnTo>
                  <a:cubicBezTo>
                    <a:pt x="2" y="1138"/>
                    <a:pt x="6" y="1134"/>
                    <a:pt x="10" y="1134"/>
                  </a:cubicBezTo>
                  <a:cubicBezTo>
                    <a:pt x="15" y="1134"/>
                    <a:pt x="19" y="1138"/>
                    <a:pt x="19" y="1142"/>
                  </a:cubicBezTo>
                  <a:lnTo>
                    <a:pt x="19" y="1142"/>
                  </a:lnTo>
                  <a:cubicBezTo>
                    <a:pt x="19" y="1147"/>
                    <a:pt x="15" y="1151"/>
                    <a:pt x="10" y="1151"/>
                  </a:cubicBezTo>
                  <a:cubicBezTo>
                    <a:pt x="6" y="1151"/>
                    <a:pt x="2" y="1147"/>
                    <a:pt x="2" y="1142"/>
                  </a:cubicBezTo>
                  <a:close/>
                  <a:moveTo>
                    <a:pt x="2" y="1109"/>
                  </a:moveTo>
                  <a:lnTo>
                    <a:pt x="2" y="1109"/>
                  </a:lnTo>
                  <a:cubicBezTo>
                    <a:pt x="2" y="1104"/>
                    <a:pt x="6" y="1101"/>
                    <a:pt x="10" y="1101"/>
                  </a:cubicBezTo>
                  <a:cubicBezTo>
                    <a:pt x="15" y="1101"/>
                    <a:pt x="19" y="1104"/>
                    <a:pt x="19" y="1109"/>
                  </a:cubicBezTo>
                  <a:lnTo>
                    <a:pt x="19" y="1109"/>
                  </a:lnTo>
                  <a:cubicBezTo>
                    <a:pt x="19" y="1114"/>
                    <a:pt x="15" y="1117"/>
                    <a:pt x="10" y="1117"/>
                  </a:cubicBezTo>
                  <a:cubicBezTo>
                    <a:pt x="6" y="1117"/>
                    <a:pt x="2" y="1114"/>
                    <a:pt x="2" y="1109"/>
                  </a:cubicBezTo>
                  <a:close/>
                  <a:moveTo>
                    <a:pt x="2" y="1076"/>
                  </a:moveTo>
                  <a:lnTo>
                    <a:pt x="2" y="1076"/>
                  </a:lnTo>
                  <a:cubicBezTo>
                    <a:pt x="2" y="1071"/>
                    <a:pt x="6" y="1067"/>
                    <a:pt x="10" y="1067"/>
                  </a:cubicBezTo>
                  <a:cubicBezTo>
                    <a:pt x="15" y="1067"/>
                    <a:pt x="19" y="1071"/>
                    <a:pt x="19" y="1076"/>
                  </a:cubicBezTo>
                  <a:lnTo>
                    <a:pt x="19" y="1076"/>
                  </a:lnTo>
                  <a:cubicBezTo>
                    <a:pt x="19" y="1080"/>
                    <a:pt x="15" y="1084"/>
                    <a:pt x="10" y="1084"/>
                  </a:cubicBezTo>
                  <a:cubicBezTo>
                    <a:pt x="6" y="1084"/>
                    <a:pt x="2" y="1080"/>
                    <a:pt x="2" y="1076"/>
                  </a:cubicBezTo>
                  <a:close/>
                  <a:moveTo>
                    <a:pt x="2" y="1042"/>
                  </a:moveTo>
                  <a:lnTo>
                    <a:pt x="2" y="1042"/>
                  </a:lnTo>
                  <a:cubicBezTo>
                    <a:pt x="2" y="1038"/>
                    <a:pt x="6" y="1034"/>
                    <a:pt x="10" y="1034"/>
                  </a:cubicBezTo>
                  <a:cubicBezTo>
                    <a:pt x="15" y="1034"/>
                    <a:pt x="19" y="1038"/>
                    <a:pt x="19" y="1042"/>
                  </a:cubicBezTo>
                  <a:lnTo>
                    <a:pt x="19" y="1042"/>
                  </a:lnTo>
                  <a:cubicBezTo>
                    <a:pt x="19" y="1047"/>
                    <a:pt x="15" y="1051"/>
                    <a:pt x="10" y="1051"/>
                  </a:cubicBezTo>
                  <a:cubicBezTo>
                    <a:pt x="6" y="1051"/>
                    <a:pt x="2" y="1047"/>
                    <a:pt x="2" y="1042"/>
                  </a:cubicBezTo>
                  <a:close/>
                  <a:moveTo>
                    <a:pt x="2" y="1009"/>
                  </a:moveTo>
                  <a:lnTo>
                    <a:pt x="2" y="1009"/>
                  </a:lnTo>
                  <a:cubicBezTo>
                    <a:pt x="2" y="1004"/>
                    <a:pt x="6" y="1001"/>
                    <a:pt x="10" y="1001"/>
                  </a:cubicBezTo>
                  <a:cubicBezTo>
                    <a:pt x="15" y="1001"/>
                    <a:pt x="19" y="1004"/>
                    <a:pt x="19" y="1009"/>
                  </a:cubicBezTo>
                  <a:lnTo>
                    <a:pt x="19" y="1009"/>
                  </a:lnTo>
                  <a:cubicBezTo>
                    <a:pt x="19" y="1014"/>
                    <a:pt x="15" y="1017"/>
                    <a:pt x="10" y="1017"/>
                  </a:cubicBezTo>
                  <a:cubicBezTo>
                    <a:pt x="6" y="1017"/>
                    <a:pt x="2" y="1014"/>
                    <a:pt x="2" y="1009"/>
                  </a:cubicBezTo>
                  <a:close/>
                  <a:moveTo>
                    <a:pt x="2" y="976"/>
                  </a:moveTo>
                  <a:lnTo>
                    <a:pt x="2" y="976"/>
                  </a:lnTo>
                  <a:cubicBezTo>
                    <a:pt x="2" y="971"/>
                    <a:pt x="6" y="967"/>
                    <a:pt x="10" y="967"/>
                  </a:cubicBezTo>
                  <a:cubicBezTo>
                    <a:pt x="15" y="967"/>
                    <a:pt x="19" y="971"/>
                    <a:pt x="19" y="976"/>
                  </a:cubicBezTo>
                  <a:lnTo>
                    <a:pt x="19" y="976"/>
                  </a:lnTo>
                  <a:cubicBezTo>
                    <a:pt x="19" y="980"/>
                    <a:pt x="15" y="984"/>
                    <a:pt x="10" y="984"/>
                  </a:cubicBezTo>
                  <a:cubicBezTo>
                    <a:pt x="6" y="984"/>
                    <a:pt x="2" y="980"/>
                    <a:pt x="2" y="976"/>
                  </a:cubicBezTo>
                  <a:close/>
                  <a:moveTo>
                    <a:pt x="2" y="942"/>
                  </a:moveTo>
                  <a:lnTo>
                    <a:pt x="2" y="942"/>
                  </a:lnTo>
                  <a:cubicBezTo>
                    <a:pt x="2" y="938"/>
                    <a:pt x="6" y="934"/>
                    <a:pt x="10" y="934"/>
                  </a:cubicBezTo>
                  <a:cubicBezTo>
                    <a:pt x="15" y="934"/>
                    <a:pt x="19" y="938"/>
                    <a:pt x="19" y="942"/>
                  </a:cubicBezTo>
                  <a:lnTo>
                    <a:pt x="19" y="942"/>
                  </a:lnTo>
                  <a:cubicBezTo>
                    <a:pt x="19" y="947"/>
                    <a:pt x="15" y="951"/>
                    <a:pt x="10" y="951"/>
                  </a:cubicBezTo>
                  <a:cubicBezTo>
                    <a:pt x="6" y="951"/>
                    <a:pt x="2" y="947"/>
                    <a:pt x="2" y="942"/>
                  </a:cubicBezTo>
                  <a:close/>
                  <a:moveTo>
                    <a:pt x="2" y="909"/>
                  </a:moveTo>
                  <a:lnTo>
                    <a:pt x="2" y="909"/>
                  </a:lnTo>
                  <a:cubicBezTo>
                    <a:pt x="2" y="904"/>
                    <a:pt x="6" y="901"/>
                    <a:pt x="11" y="901"/>
                  </a:cubicBezTo>
                  <a:cubicBezTo>
                    <a:pt x="15" y="901"/>
                    <a:pt x="19" y="904"/>
                    <a:pt x="19" y="909"/>
                  </a:cubicBezTo>
                  <a:lnTo>
                    <a:pt x="19" y="909"/>
                  </a:lnTo>
                  <a:cubicBezTo>
                    <a:pt x="19" y="914"/>
                    <a:pt x="15" y="917"/>
                    <a:pt x="11" y="917"/>
                  </a:cubicBezTo>
                  <a:cubicBezTo>
                    <a:pt x="6" y="917"/>
                    <a:pt x="2" y="914"/>
                    <a:pt x="2" y="909"/>
                  </a:cubicBezTo>
                  <a:close/>
                  <a:moveTo>
                    <a:pt x="2" y="876"/>
                  </a:moveTo>
                  <a:lnTo>
                    <a:pt x="2" y="876"/>
                  </a:lnTo>
                  <a:cubicBezTo>
                    <a:pt x="2" y="871"/>
                    <a:pt x="6" y="867"/>
                    <a:pt x="11" y="867"/>
                  </a:cubicBezTo>
                  <a:cubicBezTo>
                    <a:pt x="15" y="867"/>
                    <a:pt x="19" y="871"/>
                    <a:pt x="19" y="876"/>
                  </a:cubicBezTo>
                  <a:lnTo>
                    <a:pt x="19" y="876"/>
                  </a:lnTo>
                  <a:cubicBezTo>
                    <a:pt x="19" y="880"/>
                    <a:pt x="15" y="884"/>
                    <a:pt x="11" y="884"/>
                  </a:cubicBezTo>
                  <a:cubicBezTo>
                    <a:pt x="6" y="884"/>
                    <a:pt x="2" y="880"/>
                    <a:pt x="2" y="876"/>
                  </a:cubicBezTo>
                  <a:close/>
                  <a:moveTo>
                    <a:pt x="2" y="842"/>
                  </a:moveTo>
                  <a:lnTo>
                    <a:pt x="2" y="842"/>
                  </a:lnTo>
                  <a:cubicBezTo>
                    <a:pt x="2" y="838"/>
                    <a:pt x="6" y="834"/>
                    <a:pt x="11" y="834"/>
                  </a:cubicBezTo>
                  <a:cubicBezTo>
                    <a:pt x="15" y="834"/>
                    <a:pt x="19" y="838"/>
                    <a:pt x="19" y="842"/>
                  </a:cubicBezTo>
                  <a:lnTo>
                    <a:pt x="19" y="842"/>
                  </a:lnTo>
                  <a:cubicBezTo>
                    <a:pt x="19" y="847"/>
                    <a:pt x="15" y="851"/>
                    <a:pt x="11" y="851"/>
                  </a:cubicBezTo>
                  <a:cubicBezTo>
                    <a:pt x="6" y="851"/>
                    <a:pt x="2" y="847"/>
                    <a:pt x="2" y="842"/>
                  </a:cubicBezTo>
                  <a:close/>
                  <a:moveTo>
                    <a:pt x="2" y="809"/>
                  </a:moveTo>
                  <a:lnTo>
                    <a:pt x="2" y="809"/>
                  </a:lnTo>
                  <a:cubicBezTo>
                    <a:pt x="2" y="804"/>
                    <a:pt x="6" y="801"/>
                    <a:pt x="11" y="801"/>
                  </a:cubicBezTo>
                  <a:cubicBezTo>
                    <a:pt x="15" y="801"/>
                    <a:pt x="19" y="804"/>
                    <a:pt x="19" y="809"/>
                  </a:cubicBezTo>
                  <a:lnTo>
                    <a:pt x="19" y="809"/>
                  </a:lnTo>
                  <a:cubicBezTo>
                    <a:pt x="19" y="814"/>
                    <a:pt x="15" y="817"/>
                    <a:pt x="11" y="817"/>
                  </a:cubicBezTo>
                  <a:cubicBezTo>
                    <a:pt x="6" y="817"/>
                    <a:pt x="2" y="814"/>
                    <a:pt x="2" y="809"/>
                  </a:cubicBezTo>
                  <a:close/>
                  <a:moveTo>
                    <a:pt x="2" y="776"/>
                  </a:moveTo>
                  <a:lnTo>
                    <a:pt x="2" y="776"/>
                  </a:lnTo>
                  <a:cubicBezTo>
                    <a:pt x="2" y="771"/>
                    <a:pt x="6" y="767"/>
                    <a:pt x="11" y="767"/>
                  </a:cubicBezTo>
                  <a:cubicBezTo>
                    <a:pt x="15" y="767"/>
                    <a:pt x="19" y="771"/>
                    <a:pt x="19" y="776"/>
                  </a:cubicBezTo>
                  <a:lnTo>
                    <a:pt x="19" y="776"/>
                  </a:lnTo>
                  <a:cubicBezTo>
                    <a:pt x="19" y="780"/>
                    <a:pt x="15" y="784"/>
                    <a:pt x="11" y="784"/>
                  </a:cubicBezTo>
                  <a:cubicBezTo>
                    <a:pt x="6" y="784"/>
                    <a:pt x="2" y="780"/>
                    <a:pt x="2" y="776"/>
                  </a:cubicBezTo>
                  <a:close/>
                  <a:moveTo>
                    <a:pt x="2" y="742"/>
                  </a:moveTo>
                  <a:lnTo>
                    <a:pt x="2" y="742"/>
                  </a:lnTo>
                  <a:cubicBezTo>
                    <a:pt x="2" y="738"/>
                    <a:pt x="6" y="734"/>
                    <a:pt x="11" y="734"/>
                  </a:cubicBezTo>
                  <a:cubicBezTo>
                    <a:pt x="15" y="734"/>
                    <a:pt x="19" y="738"/>
                    <a:pt x="19" y="742"/>
                  </a:cubicBezTo>
                  <a:lnTo>
                    <a:pt x="19" y="742"/>
                  </a:lnTo>
                  <a:cubicBezTo>
                    <a:pt x="19" y="747"/>
                    <a:pt x="15" y="751"/>
                    <a:pt x="11" y="751"/>
                  </a:cubicBezTo>
                  <a:cubicBezTo>
                    <a:pt x="6" y="751"/>
                    <a:pt x="2" y="747"/>
                    <a:pt x="2" y="742"/>
                  </a:cubicBezTo>
                  <a:close/>
                  <a:moveTo>
                    <a:pt x="2" y="709"/>
                  </a:moveTo>
                  <a:lnTo>
                    <a:pt x="2" y="709"/>
                  </a:lnTo>
                  <a:cubicBezTo>
                    <a:pt x="2" y="704"/>
                    <a:pt x="6" y="701"/>
                    <a:pt x="11" y="701"/>
                  </a:cubicBezTo>
                  <a:cubicBezTo>
                    <a:pt x="15" y="701"/>
                    <a:pt x="19" y="704"/>
                    <a:pt x="19" y="709"/>
                  </a:cubicBezTo>
                  <a:lnTo>
                    <a:pt x="19" y="709"/>
                  </a:lnTo>
                  <a:cubicBezTo>
                    <a:pt x="19" y="714"/>
                    <a:pt x="15" y="717"/>
                    <a:pt x="11" y="717"/>
                  </a:cubicBezTo>
                  <a:cubicBezTo>
                    <a:pt x="6" y="717"/>
                    <a:pt x="2" y="714"/>
                    <a:pt x="2" y="709"/>
                  </a:cubicBezTo>
                  <a:close/>
                  <a:moveTo>
                    <a:pt x="2" y="676"/>
                  </a:moveTo>
                  <a:lnTo>
                    <a:pt x="2" y="676"/>
                  </a:lnTo>
                  <a:cubicBezTo>
                    <a:pt x="2" y="671"/>
                    <a:pt x="6" y="667"/>
                    <a:pt x="11" y="667"/>
                  </a:cubicBezTo>
                  <a:cubicBezTo>
                    <a:pt x="15" y="667"/>
                    <a:pt x="19" y="671"/>
                    <a:pt x="19" y="676"/>
                  </a:cubicBezTo>
                  <a:lnTo>
                    <a:pt x="19" y="676"/>
                  </a:lnTo>
                  <a:cubicBezTo>
                    <a:pt x="19" y="680"/>
                    <a:pt x="15" y="684"/>
                    <a:pt x="11" y="684"/>
                  </a:cubicBezTo>
                  <a:cubicBezTo>
                    <a:pt x="6" y="684"/>
                    <a:pt x="2" y="680"/>
                    <a:pt x="2" y="676"/>
                  </a:cubicBezTo>
                  <a:close/>
                  <a:moveTo>
                    <a:pt x="3" y="642"/>
                  </a:moveTo>
                  <a:lnTo>
                    <a:pt x="3" y="642"/>
                  </a:lnTo>
                  <a:cubicBezTo>
                    <a:pt x="3" y="638"/>
                    <a:pt x="6" y="634"/>
                    <a:pt x="11" y="634"/>
                  </a:cubicBezTo>
                  <a:cubicBezTo>
                    <a:pt x="15" y="634"/>
                    <a:pt x="19" y="638"/>
                    <a:pt x="19" y="642"/>
                  </a:cubicBezTo>
                  <a:lnTo>
                    <a:pt x="19" y="642"/>
                  </a:lnTo>
                  <a:cubicBezTo>
                    <a:pt x="19" y="647"/>
                    <a:pt x="15" y="651"/>
                    <a:pt x="11" y="651"/>
                  </a:cubicBezTo>
                  <a:cubicBezTo>
                    <a:pt x="6" y="651"/>
                    <a:pt x="3" y="647"/>
                    <a:pt x="3" y="642"/>
                  </a:cubicBezTo>
                  <a:close/>
                  <a:moveTo>
                    <a:pt x="3" y="609"/>
                  </a:moveTo>
                  <a:lnTo>
                    <a:pt x="3" y="609"/>
                  </a:lnTo>
                  <a:cubicBezTo>
                    <a:pt x="3" y="604"/>
                    <a:pt x="6" y="601"/>
                    <a:pt x="11" y="601"/>
                  </a:cubicBezTo>
                  <a:cubicBezTo>
                    <a:pt x="16" y="601"/>
                    <a:pt x="19" y="604"/>
                    <a:pt x="19" y="609"/>
                  </a:cubicBezTo>
                  <a:lnTo>
                    <a:pt x="19" y="609"/>
                  </a:lnTo>
                  <a:cubicBezTo>
                    <a:pt x="19" y="613"/>
                    <a:pt x="16" y="617"/>
                    <a:pt x="11" y="617"/>
                  </a:cubicBezTo>
                  <a:cubicBezTo>
                    <a:pt x="6" y="617"/>
                    <a:pt x="3" y="613"/>
                    <a:pt x="3" y="609"/>
                  </a:cubicBezTo>
                  <a:close/>
                  <a:moveTo>
                    <a:pt x="3" y="576"/>
                  </a:moveTo>
                  <a:lnTo>
                    <a:pt x="3" y="576"/>
                  </a:lnTo>
                  <a:cubicBezTo>
                    <a:pt x="3" y="571"/>
                    <a:pt x="6" y="567"/>
                    <a:pt x="11" y="567"/>
                  </a:cubicBezTo>
                  <a:cubicBezTo>
                    <a:pt x="16" y="567"/>
                    <a:pt x="19" y="571"/>
                    <a:pt x="19" y="576"/>
                  </a:cubicBezTo>
                  <a:lnTo>
                    <a:pt x="19" y="576"/>
                  </a:lnTo>
                  <a:cubicBezTo>
                    <a:pt x="19" y="580"/>
                    <a:pt x="16" y="584"/>
                    <a:pt x="11" y="584"/>
                  </a:cubicBezTo>
                  <a:cubicBezTo>
                    <a:pt x="6" y="584"/>
                    <a:pt x="3" y="580"/>
                    <a:pt x="3" y="576"/>
                  </a:cubicBezTo>
                  <a:close/>
                  <a:moveTo>
                    <a:pt x="3" y="542"/>
                  </a:moveTo>
                  <a:lnTo>
                    <a:pt x="3" y="542"/>
                  </a:lnTo>
                  <a:cubicBezTo>
                    <a:pt x="3" y="538"/>
                    <a:pt x="6" y="534"/>
                    <a:pt x="11" y="534"/>
                  </a:cubicBezTo>
                  <a:cubicBezTo>
                    <a:pt x="16" y="534"/>
                    <a:pt x="19" y="538"/>
                    <a:pt x="19" y="542"/>
                  </a:cubicBezTo>
                  <a:lnTo>
                    <a:pt x="19" y="542"/>
                  </a:lnTo>
                  <a:cubicBezTo>
                    <a:pt x="19" y="547"/>
                    <a:pt x="16" y="551"/>
                    <a:pt x="11" y="551"/>
                  </a:cubicBezTo>
                  <a:cubicBezTo>
                    <a:pt x="6" y="551"/>
                    <a:pt x="3" y="547"/>
                    <a:pt x="3" y="542"/>
                  </a:cubicBezTo>
                  <a:close/>
                  <a:moveTo>
                    <a:pt x="3" y="509"/>
                  </a:moveTo>
                  <a:lnTo>
                    <a:pt x="3" y="509"/>
                  </a:lnTo>
                  <a:cubicBezTo>
                    <a:pt x="3" y="504"/>
                    <a:pt x="6" y="500"/>
                    <a:pt x="11" y="500"/>
                  </a:cubicBezTo>
                  <a:cubicBezTo>
                    <a:pt x="16" y="500"/>
                    <a:pt x="19" y="504"/>
                    <a:pt x="19" y="509"/>
                  </a:cubicBezTo>
                  <a:lnTo>
                    <a:pt x="19" y="509"/>
                  </a:lnTo>
                  <a:cubicBezTo>
                    <a:pt x="19" y="513"/>
                    <a:pt x="16" y="517"/>
                    <a:pt x="11" y="517"/>
                  </a:cubicBezTo>
                  <a:cubicBezTo>
                    <a:pt x="6" y="517"/>
                    <a:pt x="3" y="513"/>
                    <a:pt x="3" y="509"/>
                  </a:cubicBezTo>
                  <a:close/>
                  <a:moveTo>
                    <a:pt x="3" y="475"/>
                  </a:moveTo>
                  <a:lnTo>
                    <a:pt x="3" y="475"/>
                  </a:lnTo>
                  <a:cubicBezTo>
                    <a:pt x="3" y="471"/>
                    <a:pt x="7" y="467"/>
                    <a:pt x="11" y="467"/>
                  </a:cubicBezTo>
                  <a:cubicBezTo>
                    <a:pt x="16" y="467"/>
                    <a:pt x="19" y="471"/>
                    <a:pt x="19" y="475"/>
                  </a:cubicBezTo>
                  <a:lnTo>
                    <a:pt x="19" y="475"/>
                  </a:lnTo>
                  <a:cubicBezTo>
                    <a:pt x="19" y="480"/>
                    <a:pt x="16" y="484"/>
                    <a:pt x="11" y="484"/>
                  </a:cubicBezTo>
                  <a:cubicBezTo>
                    <a:pt x="7" y="484"/>
                    <a:pt x="3" y="480"/>
                    <a:pt x="3" y="475"/>
                  </a:cubicBezTo>
                  <a:close/>
                  <a:moveTo>
                    <a:pt x="3" y="442"/>
                  </a:moveTo>
                  <a:lnTo>
                    <a:pt x="3" y="442"/>
                  </a:lnTo>
                  <a:cubicBezTo>
                    <a:pt x="3" y="438"/>
                    <a:pt x="7" y="434"/>
                    <a:pt x="11" y="434"/>
                  </a:cubicBezTo>
                  <a:cubicBezTo>
                    <a:pt x="16" y="434"/>
                    <a:pt x="19" y="438"/>
                    <a:pt x="19" y="442"/>
                  </a:cubicBezTo>
                  <a:lnTo>
                    <a:pt x="19" y="442"/>
                  </a:lnTo>
                  <a:cubicBezTo>
                    <a:pt x="19" y="447"/>
                    <a:pt x="16" y="450"/>
                    <a:pt x="11" y="450"/>
                  </a:cubicBezTo>
                  <a:cubicBezTo>
                    <a:pt x="7" y="450"/>
                    <a:pt x="3" y="447"/>
                    <a:pt x="3" y="442"/>
                  </a:cubicBezTo>
                  <a:close/>
                  <a:moveTo>
                    <a:pt x="3" y="409"/>
                  </a:moveTo>
                  <a:lnTo>
                    <a:pt x="3" y="409"/>
                  </a:lnTo>
                  <a:cubicBezTo>
                    <a:pt x="3" y="404"/>
                    <a:pt x="7" y="400"/>
                    <a:pt x="11" y="400"/>
                  </a:cubicBezTo>
                  <a:cubicBezTo>
                    <a:pt x="16" y="400"/>
                    <a:pt x="20" y="404"/>
                    <a:pt x="20" y="409"/>
                  </a:cubicBezTo>
                  <a:lnTo>
                    <a:pt x="20" y="409"/>
                  </a:lnTo>
                  <a:cubicBezTo>
                    <a:pt x="20" y="413"/>
                    <a:pt x="16" y="417"/>
                    <a:pt x="11" y="417"/>
                  </a:cubicBezTo>
                  <a:cubicBezTo>
                    <a:pt x="7" y="417"/>
                    <a:pt x="3" y="413"/>
                    <a:pt x="3" y="409"/>
                  </a:cubicBezTo>
                  <a:close/>
                  <a:moveTo>
                    <a:pt x="3" y="375"/>
                  </a:moveTo>
                  <a:lnTo>
                    <a:pt x="3" y="375"/>
                  </a:lnTo>
                  <a:cubicBezTo>
                    <a:pt x="3" y="371"/>
                    <a:pt x="7" y="367"/>
                    <a:pt x="11" y="367"/>
                  </a:cubicBezTo>
                  <a:cubicBezTo>
                    <a:pt x="16" y="367"/>
                    <a:pt x="20" y="371"/>
                    <a:pt x="20" y="375"/>
                  </a:cubicBezTo>
                  <a:lnTo>
                    <a:pt x="20" y="375"/>
                  </a:lnTo>
                  <a:cubicBezTo>
                    <a:pt x="20" y="380"/>
                    <a:pt x="16" y="384"/>
                    <a:pt x="11" y="384"/>
                  </a:cubicBezTo>
                  <a:cubicBezTo>
                    <a:pt x="7" y="384"/>
                    <a:pt x="3" y="380"/>
                    <a:pt x="3" y="375"/>
                  </a:cubicBezTo>
                  <a:close/>
                  <a:moveTo>
                    <a:pt x="3" y="342"/>
                  </a:moveTo>
                  <a:lnTo>
                    <a:pt x="3" y="342"/>
                  </a:lnTo>
                  <a:cubicBezTo>
                    <a:pt x="3" y="337"/>
                    <a:pt x="7" y="334"/>
                    <a:pt x="11" y="334"/>
                  </a:cubicBezTo>
                  <a:cubicBezTo>
                    <a:pt x="16" y="334"/>
                    <a:pt x="20" y="337"/>
                    <a:pt x="20" y="342"/>
                  </a:cubicBezTo>
                  <a:lnTo>
                    <a:pt x="20" y="342"/>
                  </a:lnTo>
                  <a:cubicBezTo>
                    <a:pt x="20" y="347"/>
                    <a:pt x="16" y="350"/>
                    <a:pt x="11" y="350"/>
                  </a:cubicBezTo>
                  <a:cubicBezTo>
                    <a:pt x="7" y="350"/>
                    <a:pt x="3" y="347"/>
                    <a:pt x="3" y="342"/>
                  </a:cubicBezTo>
                  <a:close/>
                  <a:moveTo>
                    <a:pt x="3" y="309"/>
                  </a:moveTo>
                  <a:lnTo>
                    <a:pt x="3" y="309"/>
                  </a:lnTo>
                  <a:cubicBezTo>
                    <a:pt x="3" y="304"/>
                    <a:pt x="7" y="300"/>
                    <a:pt x="11" y="300"/>
                  </a:cubicBezTo>
                  <a:cubicBezTo>
                    <a:pt x="16" y="300"/>
                    <a:pt x="20" y="304"/>
                    <a:pt x="20" y="309"/>
                  </a:cubicBezTo>
                  <a:lnTo>
                    <a:pt x="20" y="309"/>
                  </a:lnTo>
                  <a:cubicBezTo>
                    <a:pt x="20" y="313"/>
                    <a:pt x="16" y="317"/>
                    <a:pt x="11" y="317"/>
                  </a:cubicBezTo>
                  <a:cubicBezTo>
                    <a:pt x="7" y="317"/>
                    <a:pt x="3" y="313"/>
                    <a:pt x="3" y="309"/>
                  </a:cubicBezTo>
                  <a:close/>
                  <a:moveTo>
                    <a:pt x="3" y="275"/>
                  </a:moveTo>
                  <a:lnTo>
                    <a:pt x="3" y="275"/>
                  </a:lnTo>
                  <a:cubicBezTo>
                    <a:pt x="3" y="271"/>
                    <a:pt x="7" y="267"/>
                    <a:pt x="11" y="267"/>
                  </a:cubicBezTo>
                  <a:cubicBezTo>
                    <a:pt x="16" y="267"/>
                    <a:pt x="20" y="271"/>
                    <a:pt x="20" y="275"/>
                  </a:cubicBezTo>
                  <a:lnTo>
                    <a:pt x="20" y="275"/>
                  </a:lnTo>
                  <a:cubicBezTo>
                    <a:pt x="20" y="280"/>
                    <a:pt x="16" y="284"/>
                    <a:pt x="11" y="284"/>
                  </a:cubicBezTo>
                  <a:cubicBezTo>
                    <a:pt x="7" y="284"/>
                    <a:pt x="3" y="280"/>
                    <a:pt x="3" y="275"/>
                  </a:cubicBezTo>
                  <a:close/>
                  <a:moveTo>
                    <a:pt x="3" y="242"/>
                  </a:moveTo>
                  <a:lnTo>
                    <a:pt x="3" y="242"/>
                  </a:lnTo>
                  <a:cubicBezTo>
                    <a:pt x="3" y="237"/>
                    <a:pt x="7" y="234"/>
                    <a:pt x="11" y="234"/>
                  </a:cubicBezTo>
                  <a:cubicBezTo>
                    <a:pt x="16" y="234"/>
                    <a:pt x="20" y="237"/>
                    <a:pt x="20" y="242"/>
                  </a:cubicBezTo>
                  <a:lnTo>
                    <a:pt x="20" y="242"/>
                  </a:lnTo>
                  <a:cubicBezTo>
                    <a:pt x="20" y="247"/>
                    <a:pt x="16" y="250"/>
                    <a:pt x="11" y="250"/>
                  </a:cubicBezTo>
                  <a:cubicBezTo>
                    <a:pt x="7" y="250"/>
                    <a:pt x="3" y="247"/>
                    <a:pt x="3" y="242"/>
                  </a:cubicBezTo>
                  <a:close/>
                  <a:moveTo>
                    <a:pt x="3" y="209"/>
                  </a:moveTo>
                  <a:lnTo>
                    <a:pt x="3" y="209"/>
                  </a:lnTo>
                  <a:cubicBezTo>
                    <a:pt x="3" y="204"/>
                    <a:pt x="7" y="200"/>
                    <a:pt x="11" y="200"/>
                  </a:cubicBezTo>
                  <a:cubicBezTo>
                    <a:pt x="16" y="200"/>
                    <a:pt x="20" y="204"/>
                    <a:pt x="20" y="209"/>
                  </a:cubicBezTo>
                  <a:lnTo>
                    <a:pt x="20" y="209"/>
                  </a:lnTo>
                  <a:cubicBezTo>
                    <a:pt x="20" y="213"/>
                    <a:pt x="16" y="217"/>
                    <a:pt x="11" y="217"/>
                  </a:cubicBezTo>
                  <a:cubicBezTo>
                    <a:pt x="7" y="217"/>
                    <a:pt x="3" y="213"/>
                    <a:pt x="3" y="209"/>
                  </a:cubicBezTo>
                  <a:close/>
                  <a:moveTo>
                    <a:pt x="3" y="175"/>
                  </a:moveTo>
                  <a:lnTo>
                    <a:pt x="3" y="175"/>
                  </a:lnTo>
                  <a:cubicBezTo>
                    <a:pt x="3" y="171"/>
                    <a:pt x="7" y="167"/>
                    <a:pt x="12" y="167"/>
                  </a:cubicBezTo>
                  <a:cubicBezTo>
                    <a:pt x="16" y="167"/>
                    <a:pt x="20" y="171"/>
                    <a:pt x="20" y="175"/>
                  </a:cubicBezTo>
                  <a:lnTo>
                    <a:pt x="20" y="175"/>
                  </a:lnTo>
                  <a:cubicBezTo>
                    <a:pt x="20" y="180"/>
                    <a:pt x="16" y="184"/>
                    <a:pt x="12" y="184"/>
                  </a:cubicBezTo>
                  <a:cubicBezTo>
                    <a:pt x="7" y="184"/>
                    <a:pt x="3" y="180"/>
                    <a:pt x="3" y="175"/>
                  </a:cubicBezTo>
                  <a:close/>
                  <a:moveTo>
                    <a:pt x="3" y="142"/>
                  </a:moveTo>
                  <a:lnTo>
                    <a:pt x="3" y="142"/>
                  </a:lnTo>
                  <a:cubicBezTo>
                    <a:pt x="3" y="137"/>
                    <a:pt x="7" y="134"/>
                    <a:pt x="12" y="134"/>
                  </a:cubicBezTo>
                  <a:cubicBezTo>
                    <a:pt x="16" y="134"/>
                    <a:pt x="20" y="137"/>
                    <a:pt x="20" y="142"/>
                  </a:cubicBezTo>
                  <a:lnTo>
                    <a:pt x="20" y="142"/>
                  </a:lnTo>
                  <a:cubicBezTo>
                    <a:pt x="20" y="147"/>
                    <a:pt x="16" y="150"/>
                    <a:pt x="12" y="150"/>
                  </a:cubicBezTo>
                  <a:cubicBezTo>
                    <a:pt x="7" y="150"/>
                    <a:pt x="3" y="147"/>
                    <a:pt x="3" y="142"/>
                  </a:cubicBezTo>
                  <a:close/>
                  <a:moveTo>
                    <a:pt x="3" y="109"/>
                  </a:moveTo>
                  <a:lnTo>
                    <a:pt x="3" y="109"/>
                  </a:lnTo>
                  <a:cubicBezTo>
                    <a:pt x="3" y="104"/>
                    <a:pt x="7" y="100"/>
                    <a:pt x="12" y="100"/>
                  </a:cubicBezTo>
                  <a:cubicBezTo>
                    <a:pt x="16" y="100"/>
                    <a:pt x="20" y="104"/>
                    <a:pt x="20" y="109"/>
                  </a:cubicBezTo>
                  <a:lnTo>
                    <a:pt x="20" y="109"/>
                  </a:lnTo>
                  <a:cubicBezTo>
                    <a:pt x="20" y="113"/>
                    <a:pt x="16" y="117"/>
                    <a:pt x="12" y="117"/>
                  </a:cubicBezTo>
                  <a:cubicBezTo>
                    <a:pt x="7" y="117"/>
                    <a:pt x="3" y="113"/>
                    <a:pt x="3" y="109"/>
                  </a:cubicBezTo>
                  <a:close/>
                  <a:moveTo>
                    <a:pt x="3" y="75"/>
                  </a:moveTo>
                  <a:lnTo>
                    <a:pt x="3" y="75"/>
                  </a:lnTo>
                  <a:cubicBezTo>
                    <a:pt x="3" y="71"/>
                    <a:pt x="7" y="67"/>
                    <a:pt x="12" y="67"/>
                  </a:cubicBezTo>
                  <a:cubicBezTo>
                    <a:pt x="16" y="67"/>
                    <a:pt x="20" y="71"/>
                    <a:pt x="20" y="75"/>
                  </a:cubicBezTo>
                  <a:lnTo>
                    <a:pt x="20" y="75"/>
                  </a:lnTo>
                  <a:cubicBezTo>
                    <a:pt x="20" y="80"/>
                    <a:pt x="16" y="84"/>
                    <a:pt x="12" y="84"/>
                  </a:cubicBezTo>
                  <a:cubicBezTo>
                    <a:pt x="7" y="84"/>
                    <a:pt x="3" y="80"/>
                    <a:pt x="3" y="75"/>
                  </a:cubicBezTo>
                  <a:close/>
                  <a:moveTo>
                    <a:pt x="3" y="42"/>
                  </a:moveTo>
                  <a:lnTo>
                    <a:pt x="3" y="42"/>
                  </a:lnTo>
                  <a:cubicBezTo>
                    <a:pt x="3" y="37"/>
                    <a:pt x="7" y="34"/>
                    <a:pt x="12" y="34"/>
                  </a:cubicBezTo>
                  <a:cubicBezTo>
                    <a:pt x="16" y="34"/>
                    <a:pt x="20" y="37"/>
                    <a:pt x="20" y="42"/>
                  </a:cubicBezTo>
                  <a:lnTo>
                    <a:pt x="20" y="42"/>
                  </a:lnTo>
                  <a:cubicBezTo>
                    <a:pt x="20" y="47"/>
                    <a:pt x="16" y="50"/>
                    <a:pt x="12" y="50"/>
                  </a:cubicBezTo>
                  <a:cubicBezTo>
                    <a:pt x="7" y="50"/>
                    <a:pt x="3" y="47"/>
                    <a:pt x="3" y="42"/>
                  </a:cubicBezTo>
                  <a:close/>
                  <a:moveTo>
                    <a:pt x="3" y="9"/>
                  </a:moveTo>
                  <a:lnTo>
                    <a:pt x="3" y="9"/>
                  </a:lnTo>
                  <a:cubicBezTo>
                    <a:pt x="3" y="4"/>
                    <a:pt x="7" y="0"/>
                    <a:pt x="12" y="0"/>
                  </a:cubicBezTo>
                  <a:cubicBezTo>
                    <a:pt x="16" y="0"/>
                    <a:pt x="20" y="4"/>
                    <a:pt x="20" y="9"/>
                  </a:cubicBezTo>
                  <a:lnTo>
                    <a:pt x="20" y="9"/>
                  </a:lnTo>
                  <a:cubicBezTo>
                    <a:pt x="20" y="13"/>
                    <a:pt x="16" y="17"/>
                    <a:pt x="12" y="17"/>
                  </a:cubicBezTo>
                  <a:cubicBezTo>
                    <a:pt x="7" y="17"/>
                    <a:pt x="3" y="13"/>
                    <a:pt x="3" y="9"/>
                  </a:cubicBez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735280" y="5346720"/>
              <a:ext cx="3240" cy="453960"/>
            </a:xfrm>
            <a:custGeom>
              <a:avLst/>
              <a:gdLst/>
              <a:ahLst/>
              <a:rect l="l" t="t" r="r" b="b"/>
              <a:pathLst>
                <a:path w="20" h="2385">
                  <a:moveTo>
                    <a:pt x="0" y="2376"/>
                  </a:moveTo>
                  <a:lnTo>
                    <a:pt x="0" y="2376"/>
                  </a:lnTo>
                  <a:cubicBezTo>
                    <a:pt x="0" y="2372"/>
                    <a:pt x="4" y="2368"/>
                    <a:pt x="8" y="2368"/>
                  </a:cubicBezTo>
                  <a:cubicBezTo>
                    <a:pt x="13" y="2368"/>
                    <a:pt x="17" y="2372"/>
                    <a:pt x="17" y="2376"/>
                  </a:cubicBezTo>
                  <a:lnTo>
                    <a:pt x="17" y="2376"/>
                  </a:lnTo>
                  <a:cubicBezTo>
                    <a:pt x="17" y="2381"/>
                    <a:pt x="13" y="2385"/>
                    <a:pt x="8" y="2385"/>
                  </a:cubicBezTo>
                  <a:cubicBezTo>
                    <a:pt x="4" y="2385"/>
                    <a:pt x="0" y="2381"/>
                    <a:pt x="0" y="2376"/>
                  </a:cubicBezTo>
                  <a:close/>
                  <a:moveTo>
                    <a:pt x="0" y="2343"/>
                  </a:moveTo>
                  <a:lnTo>
                    <a:pt x="0" y="2343"/>
                  </a:lnTo>
                  <a:cubicBezTo>
                    <a:pt x="0" y="2338"/>
                    <a:pt x="4" y="2335"/>
                    <a:pt x="9" y="2335"/>
                  </a:cubicBezTo>
                  <a:cubicBezTo>
                    <a:pt x="13" y="2335"/>
                    <a:pt x="17" y="2338"/>
                    <a:pt x="17" y="2343"/>
                  </a:cubicBezTo>
                  <a:lnTo>
                    <a:pt x="17" y="2343"/>
                  </a:lnTo>
                  <a:cubicBezTo>
                    <a:pt x="17" y="2348"/>
                    <a:pt x="13" y="2351"/>
                    <a:pt x="9" y="2351"/>
                  </a:cubicBezTo>
                  <a:cubicBezTo>
                    <a:pt x="4" y="2351"/>
                    <a:pt x="0" y="2348"/>
                    <a:pt x="0" y="2343"/>
                  </a:cubicBezTo>
                  <a:close/>
                  <a:moveTo>
                    <a:pt x="0" y="2310"/>
                  </a:moveTo>
                  <a:lnTo>
                    <a:pt x="0" y="2310"/>
                  </a:lnTo>
                  <a:cubicBezTo>
                    <a:pt x="0" y="2305"/>
                    <a:pt x="4" y="2301"/>
                    <a:pt x="9" y="2301"/>
                  </a:cubicBezTo>
                  <a:cubicBezTo>
                    <a:pt x="13" y="2301"/>
                    <a:pt x="17" y="2305"/>
                    <a:pt x="17" y="2310"/>
                  </a:cubicBezTo>
                  <a:lnTo>
                    <a:pt x="17" y="2310"/>
                  </a:lnTo>
                  <a:cubicBezTo>
                    <a:pt x="17" y="2314"/>
                    <a:pt x="13" y="2318"/>
                    <a:pt x="9" y="2318"/>
                  </a:cubicBezTo>
                  <a:cubicBezTo>
                    <a:pt x="4" y="2318"/>
                    <a:pt x="0" y="2314"/>
                    <a:pt x="0" y="2310"/>
                  </a:cubicBezTo>
                  <a:close/>
                  <a:moveTo>
                    <a:pt x="0" y="2276"/>
                  </a:moveTo>
                  <a:lnTo>
                    <a:pt x="0" y="2276"/>
                  </a:lnTo>
                  <a:cubicBezTo>
                    <a:pt x="0" y="2272"/>
                    <a:pt x="4" y="2268"/>
                    <a:pt x="9" y="2268"/>
                  </a:cubicBezTo>
                  <a:cubicBezTo>
                    <a:pt x="13" y="2268"/>
                    <a:pt x="17" y="2272"/>
                    <a:pt x="17" y="2276"/>
                  </a:cubicBezTo>
                  <a:lnTo>
                    <a:pt x="17" y="2276"/>
                  </a:lnTo>
                  <a:cubicBezTo>
                    <a:pt x="17" y="2281"/>
                    <a:pt x="13" y="2285"/>
                    <a:pt x="9" y="2285"/>
                  </a:cubicBezTo>
                  <a:cubicBezTo>
                    <a:pt x="4" y="2285"/>
                    <a:pt x="0" y="2281"/>
                    <a:pt x="0" y="2276"/>
                  </a:cubicBezTo>
                  <a:close/>
                  <a:moveTo>
                    <a:pt x="0" y="2243"/>
                  </a:moveTo>
                  <a:lnTo>
                    <a:pt x="0" y="2243"/>
                  </a:lnTo>
                  <a:cubicBezTo>
                    <a:pt x="0" y="2238"/>
                    <a:pt x="4" y="2235"/>
                    <a:pt x="9" y="2235"/>
                  </a:cubicBezTo>
                  <a:cubicBezTo>
                    <a:pt x="13" y="2235"/>
                    <a:pt x="17" y="2238"/>
                    <a:pt x="17" y="2243"/>
                  </a:cubicBezTo>
                  <a:lnTo>
                    <a:pt x="17" y="2243"/>
                  </a:lnTo>
                  <a:cubicBezTo>
                    <a:pt x="17" y="2248"/>
                    <a:pt x="13" y="2251"/>
                    <a:pt x="9" y="2251"/>
                  </a:cubicBezTo>
                  <a:cubicBezTo>
                    <a:pt x="4" y="2251"/>
                    <a:pt x="0" y="2248"/>
                    <a:pt x="0" y="2243"/>
                  </a:cubicBezTo>
                  <a:close/>
                  <a:moveTo>
                    <a:pt x="0" y="2210"/>
                  </a:moveTo>
                  <a:lnTo>
                    <a:pt x="0" y="2210"/>
                  </a:lnTo>
                  <a:cubicBezTo>
                    <a:pt x="0" y="2205"/>
                    <a:pt x="4" y="2201"/>
                    <a:pt x="9" y="2201"/>
                  </a:cubicBezTo>
                  <a:cubicBezTo>
                    <a:pt x="13" y="2201"/>
                    <a:pt x="17" y="2205"/>
                    <a:pt x="17" y="2210"/>
                  </a:cubicBezTo>
                  <a:lnTo>
                    <a:pt x="17" y="2210"/>
                  </a:lnTo>
                  <a:cubicBezTo>
                    <a:pt x="17" y="2214"/>
                    <a:pt x="13" y="2218"/>
                    <a:pt x="9" y="2218"/>
                  </a:cubicBezTo>
                  <a:cubicBezTo>
                    <a:pt x="4" y="2218"/>
                    <a:pt x="0" y="2214"/>
                    <a:pt x="0" y="2210"/>
                  </a:cubicBezTo>
                  <a:close/>
                  <a:moveTo>
                    <a:pt x="0" y="2176"/>
                  </a:moveTo>
                  <a:lnTo>
                    <a:pt x="0" y="2176"/>
                  </a:lnTo>
                  <a:cubicBezTo>
                    <a:pt x="0" y="2172"/>
                    <a:pt x="4" y="2168"/>
                    <a:pt x="9" y="2168"/>
                  </a:cubicBezTo>
                  <a:cubicBezTo>
                    <a:pt x="13" y="2168"/>
                    <a:pt x="17" y="2172"/>
                    <a:pt x="17" y="2176"/>
                  </a:cubicBezTo>
                  <a:lnTo>
                    <a:pt x="17" y="2176"/>
                  </a:lnTo>
                  <a:cubicBezTo>
                    <a:pt x="17" y="2181"/>
                    <a:pt x="13" y="2185"/>
                    <a:pt x="9" y="2185"/>
                  </a:cubicBezTo>
                  <a:cubicBezTo>
                    <a:pt x="4" y="2185"/>
                    <a:pt x="0" y="2181"/>
                    <a:pt x="0" y="2176"/>
                  </a:cubicBezTo>
                  <a:close/>
                  <a:moveTo>
                    <a:pt x="0" y="2143"/>
                  </a:moveTo>
                  <a:lnTo>
                    <a:pt x="0" y="2143"/>
                  </a:lnTo>
                  <a:cubicBezTo>
                    <a:pt x="0" y="2138"/>
                    <a:pt x="4" y="2135"/>
                    <a:pt x="9" y="2135"/>
                  </a:cubicBezTo>
                  <a:cubicBezTo>
                    <a:pt x="13" y="2135"/>
                    <a:pt x="17" y="2138"/>
                    <a:pt x="17" y="2143"/>
                  </a:cubicBezTo>
                  <a:lnTo>
                    <a:pt x="17" y="2143"/>
                  </a:lnTo>
                  <a:cubicBezTo>
                    <a:pt x="17" y="2148"/>
                    <a:pt x="13" y="2151"/>
                    <a:pt x="9" y="2151"/>
                  </a:cubicBezTo>
                  <a:cubicBezTo>
                    <a:pt x="4" y="2151"/>
                    <a:pt x="0" y="2148"/>
                    <a:pt x="0" y="2143"/>
                  </a:cubicBezTo>
                  <a:close/>
                  <a:moveTo>
                    <a:pt x="1" y="2110"/>
                  </a:moveTo>
                  <a:lnTo>
                    <a:pt x="1" y="2110"/>
                  </a:lnTo>
                  <a:cubicBezTo>
                    <a:pt x="1" y="2105"/>
                    <a:pt x="4" y="2101"/>
                    <a:pt x="9" y="2101"/>
                  </a:cubicBezTo>
                  <a:cubicBezTo>
                    <a:pt x="13" y="2101"/>
                    <a:pt x="17" y="2105"/>
                    <a:pt x="17" y="2110"/>
                  </a:cubicBezTo>
                  <a:lnTo>
                    <a:pt x="17" y="2110"/>
                  </a:lnTo>
                  <a:cubicBezTo>
                    <a:pt x="17" y="2114"/>
                    <a:pt x="13" y="2118"/>
                    <a:pt x="9" y="2118"/>
                  </a:cubicBezTo>
                  <a:cubicBezTo>
                    <a:pt x="4" y="2118"/>
                    <a:pt x="1" y="2114"/>
                    <a:pt x="1" y="2110"/>
                  </a:cubicBezTo>
                  <a:close/>
                  <a:moveTo>
                    <a:pt x="1" y="2076"/>
                  </a:moveTo>
                  <a:lnTo>
                    <a:pt x="1" y="2076"/>
                  </a:lnTo>
                  <a:cubicBezTo>
                    <a:pt x="1" y="2072"/>
                    <a:pt x="4" y="2068"/>
                    <a:pt x="9" y="2068"/>
                  </a:cubicBezTo>
                  <a:cubicBezTo>
                    <a:pt x="13" y="2068"/>
                    <a:pt x="17" y="2072"/>
                    <a:pt x="17" y="2076"/>
                  </a:cubicBezTo>
                  <a:lnTo>
                    <a:pt x="17" y="2076"/>
                  </a:lnTo>
                  <a:cubicBezTo>
                    <a:pt x="17" y="2081"/>
                    <a:pt x="13" y="2085"/>
                    <a:pt x="9" y="2085"/>
                  </a:cubicBezTo>
                  <a:cubicBezTo>
                    <a:pt x="4" y="2085"/>
                    <a:pt x="1" y="2081"/>
                    <a:pt x="1" y="2076"/>
                  </a:cubicBezTo>
                  <a:close/>
                  <a:moveTo>
                    <a:pt x="1" y="2043"/>
                  </a:moveTo>
                  <a:lnTo>
                    <a:pt x="1" y="2043"/>
                  </a:lnTo>
                  <a:cubicBezTo>
                    <a:pt x="1" y="2038"/>
                    <a:pt x="4" y="2035"/>
                    <a:pt x="9" y="2035"/>
                  </a:cubicBezTo>
                  <a:cubicBezTo>
                    <a:pt x="14" y="2035"/>
                    <a:pt x="17" y="2038"/>
                    <a:pt x="17" y="2043"/>
                  </a:cubicBezTo>
                  <a:lnTo>
                    <a:pt x="17" y="2043"/>
                  </a:lnTo>
                  <a:cubicBezTo>
                    <a:pt x="17" y="2048"/>
                    <a:pt x="14" y="2051"/>
                    <a:pt x="9" y="2051"/>
                  </a:cubicBezTo>
                  <a:cubicBezTo>
                    <a:pt x="4" y="2051"/>
                    <a:pt x="1" y="2048"/>
                    <a:pt x="1" y="2043"/>
                  </a:cubicBezTo>
                  <a:close/>
                  <a:moveTo>
                    <a:pt x="1" y="2010"/>
                  </a:moveTo>
                  <a:lnTo>
                    <a:pt x="1" y="2010"/>
                  </a:lnTo>
                  <a:cubicBezTo>
                    <a:pt x="1" y="2005"/>
                    <a:pt x="4" y="2001"/>
                    <a:pt x="9" y="2001"/>
                  </a:cubicBezTo>
                  <a:cubicBezTo>
                    <a:pt x="14" y="2001"/>
                    <a:pt x="17" y="2005"/>
                    <a:pt x="17" y="2010"/>
                  </a:cubicBezTo>
                  <a:lnTo>
                    <a:pt x="17" y="2010"/>
                  </a:lnTo>
                  <a:cubicBezTo>
                    <a:pt x="17" y="2014"/>
                    <a:pt x="14" y="2018"/>
                    <a:pt x="9" y="2018"/>
                  </a:cubicBezTo>
                  <a:cubicBezTo>
                    <a:pt x="4" y="2018"/>
                    <a:pt x="1" y="2014"/>
                    <a:pt x="1" y="2010"/>
                  </a:cubicBezTo>
                  <a:close/>
                  <a:moveTo>
                    <a:pt x="1" y="1976"/>
                  </a:moveTo>
                  <a:lnTo>
                    <a:pt x="1" y="1976"/>
                  </a:lnTo>
                  <a:cubicBezTo>
                    <a:pt x="1" y="1972"/>
                    <a:pt x="4" y="1968"/>
                    <a:pt x="9" y="1968"/>
                  </a:cubicBezTo>
                  <a:cubicBezTo>
                    <a:pt x="14" y="1968"/>
                    <a:pt x="17" y="1972"/>
                    <a:pt x="17" y="1976"/>
                  </a:cubicBezTo>
                  <a:lnTo>
                    <a:pt x="17" y="1976"/>
                  </a:lnTo>
                  <a:cubicBezTo>
                    <a:pt x="17" y="1981"/>
                    <a:pt x="14" y="1985"/>
                    <a:pt x="9" y="1985"/>
                  </a:cubicBezTo>
                  <a:cubicBezTo>
                    <a:pt x="4" y="1985"/>
                    <a:pt x="1" y="1981"/>
                    <a:pt x="1" y="1976"/>
                  </a:cubicBezTo>
                  <a:close/>
                  <a:moveTo>
                    <a:pt x="1" y="1943"/>
                  </a:moveTo>
                  <a:lnTo>
                    <a:pt x="1" y="1943"/>
                  </a:lnTo>
                  <a:cubicBezTo>
                    <a:pt x="1" y="1938"/>
                    <a:pt x="4" y="1935"/>
                    <a:pt x="9" y="1935"/>
                  </a:cubicBezTo>
                  <a:cubicBezTo>
                    <a:pt x="14" y="1935"/>
                    <a:pt x="17" y="1938"/>
                    <a:pt x="17" y="1943"/>
                  </a:cubicBezTo>
                  <a:lnTo>
                    <a:pt x="17" y="1943"/>
                  </a:lnTo>
                  <a:cubicBezTo>
                    <a:pt x="17" y="1948"/>
                    <a:pt x="14" y="1951"/>
                    <a:pt x="9" y="1951"/>
                  </a:cubicBezTo>
                  <a:cubicBezTo>
                    <a:pt x="4" y="1951"/>
                    <a:pt x="1" y="1948"/>
                    <a:pt x="1" y="1943"/>
                  </a:cubicBezTo>
                  <a:close/>
                  <a:moveTo>
                    <a:pt x="1" y="1910"/>
                  </a:moveTo>
                  <a:lnTo>
                    <a:pt x="1" y="1910"/>
                  </a:lnTo>
                  <a:cubicBezTo>
                    <a:pt x="1" y="1905"/>
                    <a:pt x="5" y="1901"/>
                    <a:pt x="9" y="1901"/>
                  </a:cubicBezTo>
                  <a:cubicBezTo>
                    <a:pt x="14" y="1901"/>
                    <a:pt x="17" y="1905"/>
                    <a:pt x="17" y="1910"/>
                  </a:cubicBezTo>
                  <a:lnTo>
                    <a:pt x="17" y="1910"/>
                  </a:lnTo>
                  <a:cubicBezTo>
                    <a:pt x="17" y="1914"/>
                    <a:pt x="14" y="1918"/>
                    <a:pt x="9" y="1918"/>
                  </a:cubicBezTo>
                  <a:cubicBezTo>
                    <a:pt x="5" y="1918"/>
                    <a:pt x="1" y="1914"/>
                    <a:pt x="1" y="1910"/>
                  </a:cubicBezTo>
                  <a:close/>
                  <a:moveTo>
                    <a:pt x="1" y="1876"/>
                  </a:moveTo>
                  <a:lnTo>
                    <a:pt x="1" y="1876"/>
                  </a:lnTo>
                  <a:cubicBezTo>
                    <a:pt x="1" y="1872"/>
                    <a:pt x="5" y="1868"/>
                    <a:pt x="9" y="1868"/>
                  </a:cubicBezTo>
                  <a:cubicBezTo>
                    <a:pt x="14" y="1868"/>
                    <a:pt x="17" y="1872"/>
                    <a:pt x="17" y="1876"/>
                  </a:cubicBezTo>
                  <a:lnTo>
                    <a:pt x="17" y="1876"/>
                  </a:lnTo>
                  <a:cubicBezTo>
                    <a:pt x="17" y="1881"/>
                    <a:pt x="14" y="1885"/>
                    <a:pt x="9" y="1885"/>
                  </a:cubicBezTo>
                  <a:cubicBezTo>
                    <a:pt x="5" y="1885"/>
                    <a:pt x="1" y="1881"/>
                    <a:pt x="1" y="1876"/>
                  </a:cubicBezTo>
                  <a:close/>
                  <a:moveTo>
                    <a:pt x="1" y="1843"/>
                  </a:moveTo>
                  <a:lnTo>
                    <a:pt x="1" y="1843"/>
                  </a:lnTo>
                  <a:cubicBezTo>
                    <a:pt x="1" y="1838"/>
                    <a:pt x="5" y="1834"/>
                    <a:pt x="9" y="1834"/>
                  </a:cubicBezTo>
                  <a:cubicBezTo>
                    <a:pt x="14" y="1834"/>
                    <a:pt x="18" y="1838"/>
                    <a:pt x="18" y="1843"/>
                  </a:cubicBezTo>
                  <a:lnTo>
                    <a:pt x="18" y="1843"/>
                  </a:lnTo>
                  <a:cubicBezTo>
                    <a:pt x="18" y="1847"/>
                    <a:pt x="14" y="1851"/>
                    <a:pt x="9" y="1851"/>
                  </a:cubicBezTo>
                  <a:cubicBezTo>
                    <a:pt x="5" y="1851"/>
                    <a:pt x="1" y="1847"/>
                    <a:pt x="1" y="1843"/>
                  </a:cubicBezTo>
                  <a:close/>
                  <a:moveTo>
                    <a:pt x="1" y="1809"/>
                  </a:moveTo>
                  <a:lnTo>
                    <a:pt x="1" y="1809"/>
                  </a:lnTo>
                  <a:cubicBezTo>
                    <a:pt x="1" y="1805"/>
                    <a:pt x="5" y="1801"/>
                    <a:pt x="9" y="1801"/>
                  </a:cubicBezTo>
                  <a:cubicBezTo>
                    <a:pt x="14" y="1801"/>
                    <a:pt x="18" y="1805"/>
                    <a:pt x="18" y="1809"/>
                  </a:cubicBezTo>
                  <a:lnTo>
                    <a:pt x="18" y="1809"/>
                  </a:lnTo>
                  <a:cubicBezTo>
                    <a:pt x="18" y="1814"/>
                    <a:pt x="14" y="1818"/>
                    <a:pt x="9" y="1818"/>
                  </a:cubicBezTo>
                  <a:cubicBezTo>
                    <a:pt x="5" y="1818"/>
                    <a:pt x="1" y="1814"/>
                    <a:pt x="1" y="1809"/>
                  </a:cubicBezTo>
                  <a:close/>
                  <a:moveTo>
                    <a:pt x="1" y="1776"/>
                  </a:moveTo>
                  <a:lnTo>
                    <a:pt x="1" y="1776"/>
                  </a:lnTo>
                  <a:cubicBezTo>
                    <a:pt x="1" y="1772"/>
                    <a:pt x="5" y="1768"/>
                    <a:pt x="9" y="1768"/>
                  </a:cubicBezTo>
                  <a:cubicBezTo>
                    <a:pt x="14" y="1768"/>
                    <a:pt x="18" y="1772"/>
                    <a:pt x="18" y="1776"/>
                  </a:cubicBezTo>
                  <a:lnTo>
                    <a:pt x="18" y="1776"/>
                  </a:lnTo>
                  <a:cubicBezTo>
                    <a:pt x="18" y="1781"/>
                    <a:pt x="14" y="1784"/>
                    <a:pt x="9" y="1784"/>
                  </a:cubicBezTo>
                  <a:cubicBezTo>
                    <a:pt x="5" y="1784"/>
                    <a:pt x="1" y="1781"/>
                    <a:pt x="1" y="1776"/>
                  </a:cubicBezTo>
                  <a:close/>
                  <a:moveTo>
                    <a:pt x="1" y="1743"/>
                  </a:moveTo>
                  <a:lnTo>
                    <a:pt x="1" y="1743"/>
                  </a:lnTo>
                  <a:cubicBezTo>
                    <a:pt x="1" y="1738"/>
                    <a:pt x="5" y="1734"/>
                    <a:pt x="9" y="1734"/>
                  </a:cubicBezTo>
                  <a:cubicBezTo>
                    <a:pt x="14" y="1734"/>
                    <a:pt x="18" y="1738"/>
                    <a:pt x="18" y="1743"/>
                  </a:cubicBezTo>
                  <a:lnTo>
                    <a:pt x="18" y="1743"/>
                  </a:lnTo>
                  <a:cubicBezTo>
                    <a:pt x="18" y="1747"/>
                    <a:pt x="14" y="1751"/>
                    <a:pt x="9" y="1751"/>
                  </a:cubicBezTo>
                  <a:cubicBezTo>
                    <a:pt x="5" y="1751"/>
                    <a:pt x="1" y="1747"/>
                    <a:pt x="1" y="1743"/>
                  </a:cubicBezTo>
                  <a:close/>
                  <a:moveTo>
                    <a:pt x="1" y="1709"/>
                  </a:moveTo>
                  <a:lnTo>
                    <a:pt x="1" y="1709"/>
                  </a:lnTo>
                  <a:cubicBezTo>
                    <a:pt x="1" y="1705"/>
                    <a:pt x="5" y="1701"/>
                    <a:pt x="9" y="1701"/>
                  </a:cubicBezTo>
                  <a:cubicBezTo>
                    <a:pt x="14" y="1701"/>
                    <a:pt x="18" y="1705"/>
                    <a:pt x="18" y="1709"/>
                  </a:cubicBezTo>
                  <a:lnTo>
                    <a:pt x="18" y="1709"/>
                  </a:lnTo>
                  <a:cubicBezTo>
                    <a:pt x="18" y="1714"/>
                    <a:pt x="14" y="1718"/>
                    <a:pt x="9" y="1718"/>
                  </a:cubicBezTo>
                  <a:cubicBezTo>
                    <a:pt x="5" y="1718"/>
                    <a:pt x="1" y="1714"/>
                    <a:pt x="1" y="1709"/>
                  </a:cubicBezTo>
                  <a:close/>
                  <a:moveTo>
                    <a:pt x="1" y="1676"/>
                  </a:moveTo>
                  <a:lnTo>
                    <a:pt x="1" y="1676"/>
                  </a:lnTo>
                  <a:cubicBezTo>
                    <a:pt x="1" y="1671"/>
                    <a:pt x="5" y="1668"/>
                    <a:pt x="9" y="1668"/>
                  </a:cubicBezTo>
                  <a:cubicBezTo>
                    <a:pt x="14" y="1668"/>
                    <a:pt x="18" y="1671"/>
                    <a:pt x="18" y="1676"/>
                  </a:cubicBezTo>
                  <a:lnTo>
                    <a:pt x="18" y="1676"/>
                  </a:lnTo>
                  <a:cubicBezTo>
                    <a:pt x="18" y="1681"/>
                    <a:pt x="14" y="1684"/>
                    <a:pt x="9" y="1684"/>
                  </a:cubicBezTo>
                  <a:cubicBezTo>
                    <a:pt x="5" y="1684"/>
                    <a:pt x="1" y="1681"/>
                    <a:pt x="1" y="1676"/>
                  </a:cubicBezTo>
                  <a:close/>
                  <a:moveTo>
                    <a:pt x="1" y="1643"/>
                  </a:moveTo>
                  <a:lnTo>
                    <a:pt x="1" y="1643"/>
                  </a:lnTo>
                  <a:cubicBezTo>
                    <a:pt x="1" y="1638"/>
                    <a:pt x="5" y="1634"/>
                    <a:pt x="9" y="1634"/>
                  </a:cubicBezTo>
                  <a:cubicBezTo>
                    <a:pt x="14" y="1634"/>
                    <a:pt x="18" y="1638"/>
                    <a:pt x="18" y="1643"/>
                  </a:cubicBezTo>
                  <a:lnTo>
                    <a:pt x="18" y="1643"/>
                  </a:lnTo>
                  <a:cubicBezTo>
                    <a:pt x="18" y="1647"/>
                    <a:pt x="14" y="1651"/>
                    <a:pt x="9" y="1651"/>
                  </a:cubicBezTo>
                  <a:cubicBezTo>
                    <a:pt x="5" y="1651"/>
                    <a:pt x="1" y="1647"/>
                    <a:pt x="1" y="1643"/>
                  </a:cubicBezTo>
                  <a:close/>
                  <a:moveTo>
                    <a:pt x="1" y="1609"/>
                  </a:moveTo>
                  <a:lnTo>
                    <a:pt x="1" y="1609"/>
                  </a:lnTo>
                  <a:cubicBezTo>
                    <a:pt x="1" y="1605"/>
                    <a:pt x="5" y="1601"/>
                    <a:pt x="10" y="1601"/>
                  </a:cubicBezTo>
                  <a:cubicBezTo>
                    <a:pt x="14" y="1601"/>
                    <a:pt x="18" y="1605"/>
                    <a:pt x="18" y="1609"/>
                  </a:cubicBezTo>
                  <a:lnTo>
                    <a:pt x="18" y="1609"/>
                  </a:lnTo>
                  <a:cubicBezTo>
                    <a:pt x="18" y="1614"/>
                    <a:pt x="14" y="1618"/>
                    <a:pt x="10" y="1618"/>
                  </a:cubicBezTo>
                  <a:cubicBezTo>
                    <a:pt x="5" y="1618"/>
                    <a:pt x="1" y="1614"/>
                    <a:pt x="1" y="1609"/>
                  </a:cubicBezTo>
                  <a:close/>
                  <a:moveTo>
                    <a:pt x="1" y="1576"/>
                  </a:moveTo>
                  <a:lnTo>
                    <a:pt x="1" y="1576"/>
                  </a:lnTo>
                  <a:cubicBezTo>
                    <a:pt x="1" y="1571"/>
                    <a:pt x="5" y="1568"/>
                    <a:pt x="10" y="1568"/>
                  </a:cubicBezTo>
                  <a:cubicBezTo>
                    <a:pt x="14" y="1568"/>
                    <a:pt x="18" y="1571"/>
                    <a:pt x="18" y="1576"/>
                  </a:cubicBezTo>
                  <a:lnTo>
                    <a:pt x="18" y="1576"/>
                  </a:lnTo>
                  <a:cubicBezTo>
                    <a:pt x="18" y="1581"/>
                    <a:pt x="14" y="1584"/>
                    <a:pt x="10" y="1584"/>
                  </a:cubicBezTo>
                  <a:cubicBezTo>
                    <a:pt x="5" y="1584"/>
                    <a:pt x="1" y="1581"/>
                    <a:pt x="1" y="1576"/>
                  </a:cubicBezTo>
                  <a:close/>
                  <a:moveTo>
                    <a:pt x="1" y="1543"/>
                  </a:moveTo>
                  <a:lnTo>
                    <a:pt x="1" y="1543"/>
                  </a:lnTo>
                  <a:cubicBezTo>
                    <a:pt x="1" y="1538"/>
                    <a:pt x="5" y="1534"/>
                    <a:pt x="10" y="1534"/>
                  </a:cubicBezTo>
                  <a:cubicBezTo>
                    <a:pt x="14" y="1534"/>
                    <a:pt x="18" y="1538"/>
                    <a:pt x="18" y="1543"/>
                  </a:cubicBezTo>
                  <a:lnTo>
                    <a:pt x="18" y="1543"/>
                  </a:lnTo>
                  <a:cubicBezTo>
                    <a:pt x="18" y="1547"/>
                    <a:pt x="14" y="1551"/>
                    <a:pt x="10" y="1551"/>
                  </a:cubicBezTo>
                  <a:cubicBezTo>
                    <a:pt x="5" y="1551"/>
                    <a:pt x="1" y="1547"/>
                    <a:pt x="1" y="1543"/>
                  </a:cubicBezTo>
                  <a:close/>
                  <a:moveTo>
                    <a:pt x="1" y="1509"/>
                  </a:moveTo>
                  <a:lnTo>
                    <a:pt x="1" y="1509"/>
                  </a:lnTo>
                  <a:cubicBezTo>
                    <a:pt x="1" y="1505"/>
                    <a:pt x="5" y="1501"/>
                    <a:pt x="10" y="1501"/>
                  </a:cubicBezTo>
                  <a:cubicBezTo>
                    <a:pt x="14" y="1501"/>
                    <a:pt x="18" y="1505"/>
                    <a:pt x="18" y="1509"/>
                  </a:cubicBezTo>
                  <a:lnTo>
                    <a:pt x="18" y="1509"/>
                  </a:lnTo>
                  <a:cubicBezTo>
                    <a:pt x="18" y="1514"/>
                    <a:pt x="14" y="1518"/>
                    <a:pt x="10" y="1518"/>
                  </a:cubicBezTo>
                  <a:cubicBezTo>
                    <a:pt x="5" y="1518"/>
                    <a:pt x="1" y="1514"/>
                    <a:pt x="1" y="1509"/>
                  </a:cubicBezTo>
                  <a:close/>
                  <a:moveTo>
                    <a:pt x="1" y="1476"/>
                  </a:moveTo>
                  <a:lnTo>
                    <a:pt x="1" y="1476"/>
                  </a:lnTo>
                  <a:cubicBezTo>
                    <a:pt x="1" y="1471"/>
                    <a:pt x="5" y="1468"/>
                    <a:pt x="10" y="1468"/>
                  </a:cubicBezTo>
                  <a:cubicBezTo>
                    <a:pt x="14" y="1468"/>
                    <a:pt x="18" y="1471"/>
                    <a:pt x="18" y="1476"/>
                  </a:cubicBezTo>
                  <a:lnTo>
                    <a:pt x="18" y="1476"/>
                  </a:lnTo>
                  <a:cubicBezTo>
                    <a:pt x="18" y="1481"/>
                    <a:pt x="14" y="1484"/>
                    <a:pt x="10" y="1484"/>
                  </a:cubicBezTo>
                  <a:cubicBezTo>
                    <a:pt x="5" y="1484"/>
                    <a:pt x="1" y="1481"/>
                    <a:pt x="1" y="1476"/>
                  </a:cubicBezTo>
                  <a:close/>
                  <a:moveTo>
                    <a:pt x="1" y="1443"/>
                  </a:moveTo>
                  <a:lnTo>
                    <a:pt x="1" y="1443"/>
                  </a:lnTo>
                  <a:cubicBezTo>
                    <a:pt x="1" y="1438"/>
                    <a:pt x="5" y="1434"/>
                    <a:pt x="10" y="1434"/>
                  </a:cubicBezTo>
                  <a:cubicBezTo>
                    <a:pt x="14" y="1434"/>
                    <a:pt x="18" y="1438"/>
                    <a:pt x="18" y="1443"/>
                  </a:cubicBezTo>
                  <a:lnTo>
                    <a:pt x="18" y="1443"/>
                  </a:lnTo>
                  <a:cubicBezTo>
                    <a:pt x="18" y="1447"/>
                    <a:pt x="14" y="1451"/>
                    <a:pt x="10" y="1451"/>
                  </a:cubicBezTo>
                  <a:cubicBezTo>
                    <a:pt x="5" y="1451"/>
                    <a:pt x="1" y="1447"/>
                    <a:pt x="1" y="1443"/>
                  </a:cubicBezTo>
                  <a:close/>
                  <a:moveTo>
                    <a:pt x="1" y="1409"/>
                  </a:moveTo>
                  <a:lnTo>
                    <a:pt x="1" y="1409"/>
                  </a:lnTo>
                  <a:cubicBezTo>
                    <a:pt x="1" y="1405"/>
                    <a:pt x="5" y="1401"/>
                    <a:pt x="10" y="1401"/>
                  </a:cubicBezTo>
                  <a:cubicBezTo>
                    <a:pt x="14" y="1401"/>
                    <a:pt x="18" y="1405"/>
                    <a:pt x="18" y="1409"/>
                  </a:cubicBezTo>
                  <a:lnTo>
                    <a:pt x="18" y="1409"/>
                  </a:lnTo>
                  <a:cubicBezTo>
                    <a:pt x="18" y="1414"/>
                    <a:pt x="14" y="1418"/>
                    <a:pt x="10" y="1418"/>
                  </a:cubicBezTo>
                  <a:cubicBezTo>
                    <a:pt x="5" y="1418"/>
                    <a:pt x="1" y="1414"/>
                    <a:pt x="1" y="1409"/>
                  </a:cubicBezTo>
                  <a:close/>
                  <a:moveTo>
                    <a:pt x="2" y="1376"/>
                  </a:moveTo>
                  <a:lnTo>
                    <a:pt x="2" y="1376"/>
                  </a:lnTo>
                  <a:cubicBezTo>
                    <a:pt x="2" y="1371"/>
                    <a:pt x="5" y="1368"/>
                    <a:pt x="10" y="1368"/>
                  </a:cubicBezTo>
                  <a:cubicBezTo>
                    <a:pt x="14" y="1368"/>
                    <a:pt x="18" y="1371"/>
                    <a:pt x="18" y="1376"/>
                  </a:cubicBezTo>
                  <a:lnTo>
                    <a:pt x="18" y="1376"/>
                  </a:lnTo>
                  <a:cubicBezTo>
                    <a:pt x="18" y="1381"/>
                    <a:pt x="14" y="1384"/>
                    <a:pt x="10" y="1384"/>
                  </a:cubicBezTo>
                  <a:cubicBezTo>
                    <a:pt x="5" y="1384"/>
                    <a:pt x="2" y="1381"/>
                    <a:pt x="2" y="1376"/>
                  </a:cubicBezTo>
                  <a:close/>
                  <a:moveTo>
                    <a:pt x="2" y="1343"/>
                  </a:moveTo>
                  <a:lnTo>
                    <a:pt x="2" y="1343"/>
                  </a:lnTo>
                  <a:cubicBezTo>
                    <a:pt x="2" y="1338"/>
                    <a:pt x="5" y="1334"/>
                    <a:pt x="10" y="1334"/>
                  </a:cubicBezTo>
                  <a:cubicBezTo>
                    <a:pt x="14" y="1334"/>
                    <a:pt x="18" y="1338"/>
                    <a:pt x="18" y="1343"/>
                  </a:cubicBezTo>
                  <a:lnTo>
                    <a:pt x="18" y="1343"/>
                  </a:lnTo>
                  <a:cubicBezTo>
                    <a:pt x="18" y="1347"/>
                    <a:pt x="14" y="1351"/>
                    <a:pt x="10" y="1351"/>
                  </a:cubicBezTo>
                  <a:cubicBezTo>
                    <a:pt x="5" y="1351"/>
                    <a:pt x="2" y="1347"/>
                    <a:pt x="2" y="1343"/>
                  </a:cubicBezTo>
                  <a:close/>
                  <a:moveTo>
                    <a:pt x="2" y="1309"/>
                  </a:moveTo>
                  <a:lnTo>
                    <a:pt x="2" y="1309"/>
                  </a:lnTo>
                  <a:cubicBezTo>
                    <a:pt x="2" y="1305"/>
                    <a:pt x="5" y="1301"/>
                    <a:pt x="10" y="1301"/>
                  </a:cubicBezTo>
                  <a:cubicBezTo>
                    <a:pt x="15" y="1301"/>
                    <a:pt x="18" y="1305"/>
                    <a:pt x="18" y="1309"/>
                  </a:cubicBezTo>
                  <a:lnTo>
                    <a:pt x="18" y="1309"/>
                  </a:lnTo>
                  <a:cubicBezTo>
                    <a:pt x="18" y="1314"/>
                    <a:pt x="15" y="1318"/>
                    <a:pt x="10" y="1318"/>
                  </a:cubicBezTo>
                  <a:cubicBezTo>
                    <a:pt x="5" y="1318"/>
                    <a:pt x="2" y="1314"/>
                    <a:pt x="2" y="1309"/>
                  </a:cubicBezTo>
                  <a:close/>
                  <a:moveTo>
                    <a:pt x="2" y="1276"/>
                  </a:moveTo>
                  <a:lnTo>
                    <a:pt x="2" y="1276"/>
                  </a:lnTo>
                  <a:cubicBezTo>
                    <a:pt x="2" y="1271"/>
                    <a:pt x="5" y="1268"/>
                    <a:pt x="10" y="1268"/>
                  </a:cubicBezTo>
                  <a:cubicBezTo>
                    <a:pt x="15" y="1268"/>
                    <a:pt x="18" y="1271"/>
                    <a:pt x="18" y="1276"/>
                  </a:cubicBezTo>
                  <a:lnTo>
                    <a:pt x="18" y="1276"/>
                  </a:lnTo>
                  <a:cubicBezTo>
                    <a:pt x="18" y="1280"/>
                    <a:pt x="15" y="1284"/>
                    <a:pt x="10" y="1284"/>
                  </a:cubicBezTo>
                  <a:cubicBezTo>
                    <a:pt x="5" y="1284"/>
                    <a:pt x="2" y="1280"/>
                    <a:pt x="2" y="1276"/>
                  </a:cubicBezTo>
                  <a:close/>
                  <a:moveTo>
                    <a:pt x="2" y="1243"/>
                  </a:moveTo>
                  <a:lnTo>
                    <a:pt x="2" y="1242"/>
                  </a:lnTo>
                  <a:cubicBezTo>
                    <a:pt x="2" y="1238"/>
                    <a:pt x="5" y="1234"/>
                    <a:pt x="10" y="1234"/>
                  </a:cubicBezTo>
                  <a:cubicBezTo>
                    <a:pt x="15" y="1234"/>
                    <a:pt x="18" y="1238"/>
                    <a:pt x="18" y="1242"/>
                  </a:cubicBezTo>
                  <a:lnTo>
                    <a:pt x="18" y="1243"/>
                  </a:lnTo>
                  <a:cubicBezTo>
                    <a:pt x="18" y="1247"/>
                    <a:pt x="15" y="1251"/>
                    <a:pt x="10" y="1251"/>
                  </a:cubicBezTo>
                  <a:cubicBezTo>
                    <a:pt x="5" y="1251"/>
                    <a:pt x="2" y="1247"/>
                    <a:pt x="2" y="1243"/>
                  </a:cubicBezTo>
                  <a:close/>
                  <a:moveTo>
                    <a:pt x="2" y="1209"/>
                  </a:moveTo>
                  <a:lnTo>
                    <a:pt x="2" y="1209"/>
                  </a:lnTo>
                  <a:cubicBezTo>
                    <a:pt x="2" y="1205"/>
                    <a:pt x="5" y="1201"/>
                    <a:pt x="10" y="1201"/>
                  </a:cubicBezTo>
                  <a:cubicBezTo>
                    <a:pt x="15" y="1201"/>
                    <a:pt x="18" y="1205"/>
                    <a:pt x="18" y="1209"/>
                  </a:cubicBezTo>
                  <a:lnTo>
                    <a:pt x="18" y="1209"/>
                  </a:lnTo>
                  <a:cubicBezTo>
                    <a:pt x="18" y="1214"/>
                    <a:pt x="15" y="1217"/>
                    <a:pt x="10" y="1217"/>
                  </a:cubicBezTo>
                  <a:cubicBezTo>
                    <a:pt x="5" y="1217"/>
                    <a:pt x="2" y="1214"/>
                    <a:pt x="2" y="1209"/>
                  </a:cubicBezTo>
                  <a:close/>
                  <a:moveTo>
                    <a:pt x="2" y="1176"/>
                  </a:moveTo>
                  <a:lnTo>
                    <a:pt x="2" y="1176"/>
                  </a:lnTo>
                  <a:cubicBezTo>
                    <a:pt x="2" y="1171"/>
                    <a:pt x="6" y="1167"/>
                    <a:pt x="10" y="1167"/>
                  </a:cubicBezTo>
                  <a:cubicBezTo>
                    <a:pt x="15" y="1167"/>
                    <a:pt x="18" y="1171"/>
                    <a:pt x="18" y="1176"/>
                  </a:cubicBezTo>
                  <a:lnTo>
                    <a:pt x="18" y="1176"/>
                  </a:lnTo>
                  <a:cubicBezTo>
                    <a:pt x="18" y="1180"/>
                    <a:pt x="15" y="1184"/>
                    <a:pt x="10" y="1184"/>
                  </a:cubicBezTo>
                  <a:cubicBezTo>
                    <a:pt x="6" y="1184"/>
                    <a:pt x="2" y="1180"/>
                    <a:pt x="2" y="1176"/>
                  </a:cubicBezTo>
                  <a:close/>
                  <a:moveTo>
                    <a:pt x="2" y="1142"/>
                  </a:moveTo>
                  <a:lnTo>
                    <a:pt x="2" y="1142"/>
                  </a:lnTo>
                  <a:cubicBezTo>
                    <a:pt x="2" y="1138"/>
                    <a:pt x="6" y="1134"/>
                    <a:pt x="10" y="1134"/>
                  </a:cubicBezTo>
                  <a:cubicBezTo>
                    <a:pt x="15" y="1134"/>
                    <a:pt x="19" y="1138"/>
                    <a:pt x="19" y="1142"/>
                  </a:cubicBezTo>
                  <a:lnTo>
                    <a:pt x="19" y="1142"/>
                  </a:lnTo>
                  <a:cubicBezTo>
                    <a:pt x="19" y="1147"/>
                    <a:pt x="15" y="1151"/>
                    <a:pt x="10" y="1151"/>
                  </a:cubicBezTo>
                  <a:cubicBezTo>
                    <a:pt x="6" y="1151"/>
                    <a:pt x="2" y="1147"/>
                    <a:pt x="2" y="1142"/>
                  </a:cubicBezTo>
                  <a:close/>
                  <a:moveTo>
                    <a:pt x="2" y="1109"/>
                  </a:moveTo>
                  <a:lnTo>
                    <a:pt x="2" y="1109"/>
                  </a:lnTo>
                  <a:cubicBezTo>
                    <a:pt x="2" y="1104"/>
                    <a:pt x="6" y="1101"/>
                    <a:pt x="10" y="1101"/>
                  </a:cubicBezTo>
                  <a:cubicBezTo>
                    <a:pt x="15" y="1101"/>
                    <a:pt x="19" y="1104"/>
                    <a:pt x="19" y="1109"/>
                  </a:cubicBezTo>
                  <a:lnTo>
                    <a:pt x="19" y="1109"/>
                  </a:lnTo>
                  <a:cubicBezTo>
                    <a:pt x="19" y="1114"/>
                    <a:pt x="15" y="1117"/>
                    <a:pt x="10" y="1117"/>
                  </a:cubicBezTo>
                  <a:cubicBezTo>
                    <a:pt x="6" y="1117"/>
                    <a:pt x="2" y="1114"/>
                    <a:pt x="2" y="1109"/>
                  </a:cubicBezTo>
                  <a:close/>
                  <a:moveTo>
                    <a:pt x="2" y="1076"/>
                  </a:moveTo>
                  <a:lnTo>
                    <a:pt x="2" y="1076"/>
                  </a:lnTo>
                  <a:cubicBezTo>
                    <a:pt x="2" y="1071"/>
                    <a:pt x="6" y="1067"/>
                    <a:pt x="10" y="1067"/>
                  </a:cubicBezTo>
                  <a:cubicBezTo>
                    <a:pt x="15" y="1067"/>
                    <a:pt x="19" y="1071"/>
                    <a:pt x="19" y="1076"/>
                  </a:cubicBezTo>
                  <a:lnTo>
                    <a:pt x="19" y="1076"/>
                  </a:lnTo>
                  <a:cubicBezTo>
                    <a:pt x="19" y="1080"/>
                    <a:pt x="15" y="1084"/>
                    <a:pt x="10" y="1084"/>
                  </a:cubicBezTo>
                  <a:cubicBezTo>
                    <a:pt x="6" y="1084"/>
                    <a:pt x="2" y="1080"/>
                    <a:pt x="2" y="1076"/>
                  </a:cubicBezTo>
                  <a:close/>
                  <a:moveTo>
                    <a:pt x="2" y="1042"/>
                  </a:moveTo>
                  <a:lnTo>
                    <a:pt x="2" y="1042"/>
                  </a:lnTo>
                  <a:cubicBezTo>
                    <a:pt x="2" y="1038"/>
                    <a:pt x="6" y="1034"/>
                    <a:pt x="10" y="1034"/>
                  </a:cubicBezTo>
                  <a:cubicBezTo>
                    <a:pt x="15" y="1034"/>
                    <a:pt x="19" y="1038"/>
                    <a:pt x="19" y="1042"/>
                  </a:cubicBezTo>
                  <a:lnTo>
                    <a:pt x="19" y="1042"/>
                  </a:lnTo>
                  <a:cubicBezTo>
                    <a:pt x="19" y="1047"/>
                    <a:pt x="15" y="1051"/>
                    <a:pt x="10" y="1051"/>
                  </a:cubicBezTo>
                  <a:cubicBezTo>
                    <a:pt x="6" y="1051"/>
                    <a:pt x="2" y="1047"/>
                    <a:pt x="2" y="1042"/>
                  </a:cubicBezTo>
                  <a:close/>
                  <a:moveTo>
                    <a:pt x="2" y="1009"/>
                  </a:moveTo>
                  <a:lnTo>
                    <a:pt x="2" y="1009"/>
                  </a:lnTo>
                  <a:cubicBezTo>
                    <a:pt x="2" y="1004"/>
                    <a:pt x="6" y="1001"/>
                    <a:pt x="10" y="1001"/>
                  </a:cubicBezTo>
                  <a:cubicBezTo>
                    <a:pt x="15" y="1001"/>
                    <a:pt x="19" y="1004"/>
                    <a:pt x="19" y="1009"/>
                  </a:cubicBezTo>
                  <a:lnTo>
                    <a:pt x="19" y="1009"/>
                  </a:lnTo>
                  <a:cubicBezTo>
                    <a:pt x="19" y="1014"/>
                    <a:pt x="15" y="1017"/>
                    <a:pt x="10" y="1017"/>
                  </a:cubicBezTo>
                  <a:cubicBezTo>
                    <a:pt x="6" y="1017"/>
                    <a:pt x="2" y="1014"/>
                    <a:pt x="2" y="1009"/>
                  </a:cubicBezTo>
                  <a:close/>
                  <a:moveTo>
                    <a:pt x="2" y="976"/>
                  </a:moveTo>
                  <a:lnTo>
                    <a:pt x="2" y="976"/>
                  </a:lnTo>
                  <a:cubicBezTo>
                    <a:pt x="2" y="971"/>
                    <a:pt x="6" y="967"/>
                    <a:pt x="10" y="967"/>
                  </a:cubicBezTo>
                  <a:cubicBezTo>
                    <a:pt x="15" y="967"/>
                    <a:pt x="19" y="971"/>
                    <a:pt x="19" y="976"/>
                  </a:cubicBezTo>
                  <a:lnTo>
                    <a:pt x="19" y="976"/>
                  </a:lnTo>
                  <a:cubicBezTo>
                    <a:pt x="19" y="980"/>
                    <a:pt x="15" y="984"/>
                    <a:pt x="10" y="984"/>
                  </a:cubicBezTo>
                  <a:cubicBezTo>
                    <a:pt x="6" y="984"/>
                    <a:pt x="2" y="980"/>
                    <a:pt x="2" y="976"/>
                  </a:cubicBezTo>
                  <a:close/>
                  <a:moveTo>
                    <a:pt x="2" y="942"/>
                  </a:moveTo>
                  <a:lnTo>
                    <a:pt x="2" y="942"/>
                  </a:lnTo>
                  <a:cubicBezTo>
                    <a:pt x="2" y="938"/>
                    <a:pt x="6" y="934"/>
                    <a:pt x="10" y="934"/>
                  </a:cubicBezTo>
                  <a:cubicBezTo>
                    <a:pt x="15" y="934"/>
                    <a:pt x="19" y="938"/>
                    <a:pt x="19" y="942"/>
                  </a:cubicBezTo>
                  <a:lnTo>
                    <a:pt x="19" y="942"/>
                  </a:lnTo>
                  <a:cubicBezTo>
                    <a:pt x="19" y="947"/>
                    <a:pt x="15" y="951"/>
                    <a:pt x="10" y="951"/>
                  </a:cubicBezTo>
                  <a:cubicBezTo>
                    <a:pt x="6" y="951"/>
                    <a:pt x="2" y="947"/>
                    <a:pt x="2" y="942"/>
                  </a:cubicBezTo>
                  <a:close/>
                  <a:moveTo>
                    <a:pt x="2" y="909"/>
                  </a:moveTo>
                  <a:lnTo>
                    <a:pt x="2" y="909"/>
                  </a:lnTo>
                  <a:cubicBezTo>
                    <a:pt x="2" y="904"/>
                    <a:pt x="6" y="901"/>
                    <a:pt x="10" y="901"/>
                  </a:cubicBezTo>
                  <a:cubicBezTo>
                    <a:pt x="15" y="901"/>
                    <a:pt x="19" y="904"/>
                    <a:pt x="19" y="909"/>
                  </a:cubicBezTo>
                  <a:lnTo>
                    <a:pt x="19" y="909"/>
                  </a:lnTo>
                  <a:cubicBezTo>
                    <a:pt x="19" y="914"/>
                    <a:pt x="15" y="917"/>
                    <a:pt x="10" y="917"/>
                  </a:cubicBezTo>
                  <a:cubicBezTo>
                    <a:pt x="6" y="917"/>
                    <a:pt x="2" y="914"/>
                    <a:pt x="2" y="909"/>
                  </a:cubicBezTo>
                  <a:close/>
                  <a:moveTo>
                    <a:pt x="2" y="876"/>
                  </a:moveTo>
                  <a:lnTo>
                    <a:pt x="2" y="876"/>
                  </a:lnTo>
                  <a:cubicBezTo>
                    <a:pt x="2" y="871"/>
                    <a:pt x="6" y="867"/>
                    <a:pt x="11" y="867"/>
                  </a:cubicBezTo>
                  <a:cubicBezTo>
                    <a:pt x="15" y="867"/>
                    <a:pt x="19" y="871"/>
                    <a:pt x="19" y="876"/>
                  </a:cubicBezTo>
                  <a:lnTo>
                    <a:pt x="19" y="876"/>
                  </a:lnTo>
                  <a:cubicBezTo>
                    <a:pt x="19" y="880"/>
                    <a:pt x="15" y="884"/>
                    <a:pt x="11" y="884"/>
                  </a:cubicBezTo>
                  <a:cubicBezTo>
                    <a:pt x="6" y="884"/>
                    <a:pt x="2" y="880"/>
                    <a:pt x="2" y="876"/>
                  </a:cubicBezTo>
                  <a:close/>
                  <a:moveTo>
                    <a:pt x="2" y="842"/>
                  </a:moveTo>
                  <a:lnTo>
                    <a:pt x="2" y="842"/>
                  </a:lnTo>
                  <a:cubicBezTo>
                    <a:pt x="2" y="838"/>
                    <a:pt x="6" y="834"/>
                    <a:pt x="11" y="834"/>
                  </a:cubicBezTo>
                  <a:cubicBezTo>
                    <a:pt x="15" y="834"/>
                    <a:pt x="19" y="838"/>
                    <a:pt x="19" y="842"/>
                  </a:cubicBezTo>
                  <a:lnTo>
                    <a:pt x="19" y="842"/>
                  </a:lnTo>
                  <a:cubicBezTo>
                    <a:pt x="19" y="847"/>
                    <a:pt x="15" y="851"/>
                    <a:pt x="11" y="851"/>
                  </a:cubicBezTo>
                  <a:cubicBezTo>
                    <a:pt x="6" y="851"/>
                    <a:pt x="2" y="847"/>
                    <a:pt x="2" y="842"/>
                  </a:cubicBezTo>
                  <a:close/>
                  <a:moveTo>
                    <a:pt x="2" y="809"/>
                  </a:moveTo>
                  <a:lnTo>
                    <a:pt x="2" y="809"/>
                  </a:lnTo>
                  <a:cubicBezTo>
                    <a:pt x="2" y="804"/>
                    <a:pt x="6" y="801"/>
                    <a:pt x="11" y="801"/>
                  </a:cubicBezTo>
                  <a:cubicBezTo>
                    <a:pt x="15" y="801"/>
                    <a:pt x="19" y="804"/>
                    <a:pt x="19" y="809"/>
                  </a:cubicBezTo>
                  <a:lnTo>
                    <a:pt x="19" y="809"/>
                  </a:lnTo>
                  <a:cubicBezTo>
                    <a:pt x="19" y="814"/>
                    <a:pt x="15" y="817"/>
                    <a:pt x="11" y="817"/>
                  </a:cubicBezTo>
                  <a:cubicBezTo>
                    <a:pt x="6" y="817"/>
                    <a:pt x="2" y="814"/>
                    <a:pt x="2" y="809"/>
                  </a:cubicBezTo>
                  <a:close/>
                  <a:moveTo>
                    <a:pt x="2" y="776"/>
                  </a:moveTo>
                  <a:lnTo>
                    <a:pt x="2" y="776"/>
                  </a:lnTo>
                  <a:cubicBezTo>
                    <a:pt x="2" y="771"/>
                    <a:pt x="6" y="767"/>
                    <a:pt x="11" y="767"/>
                  </a:cubicBezTo>
                  <a:cubicBezTo>
                    <a:pt x="15" y="767"/>
                    <a:pt x="19" y="771"/>
                    <a:pt x="19" y="776"/>
                  </a:cubicBezTo>
                  <a:lnTo>
                    <a:pt x="19" y="776"/>
                  </a:lnTo>
                  <a:cubicBezTo>
                    <a:pt x="19" y="780"/>
                    <a:pt x="15" y="784"/>
                    <a:pt x="11" y="784"/>
                  </a:cubicBezTo>
                  <a:cubicBezTo>
                    <a:pt x="6" y="784"/>
                    <a:pt x="2" y="780"/>
                    <a:pt x="2" y="776"/>
                  </a:cubicBezTo>
                  <a:close/>
                  <a:moveTo>
                    <a:pt x="2" y="742"/>
                  </a:moveTo>
                  <a:lnTo>
                    <a:pt x="2" y="742"/>
                  </a:lnTo>
                  <a:cubicBezTo>
                    <a:pt x="2" y="738"/>
                    <a:pt x="6" y="734"/>
                    <a:pt x="11" y="734"/>
                  </a:cubicBezTo>
                  <a:cubicBezTo>
                    <a:pt x="15" y="734"/>
                    <a:pt x="19" y="738"/>
                    <a:pt x="19" y="742"/>
                  </a:cubicBezTo>
                  <a:lnTo>
                    <a:pt x="19" y="742"/>
                  </a:lnTo>
                  <a:cubicBezTo>
                    <a:pt x="19" y="747"/>
                    <a:pt x="15" y="751"/>
                    <a:pt x="11" y="751"/>
                  </a:cubicBezTo>
                  <a:cubicBezTo>
                    <a:pt x="6" y="751"/>
                    <a:pt x="2" y="747"/>
                    <a:pt x="2" y="742"/>
                  </a:cubicBezTo>
                  <a:close/>
                  <a:moveTo>
                    <a:pt x="2" y="709"/>
                  </a:moveTo>
                  <a:lnTo>
                    <a:pt x="2" y="709"/>
                  </a:lnTo>
                  <a:cubicBezTo>
                    <a:pt x="2" y="704"/>
                    <a:pt x="6" y="701"/>
                    <a:pt x="11" y="701"/>
                  </a:cubicBezTo>
                  <a:cubicBezTo>
                    <a:pt x="15" y="701"/>
                    <a:pt x="19" y="704"/>
                    <a:pt x="19" y="709"/>
                  </a:cubicBezTo>
                  <a:lnTo>
                    <a:pt x="19" y="709"/>
                  </a:lnTo>
                  <a:cubicBezTo>
                    <a:pt x="19" y="714"/>
                    <a:pt x="15" y="717"/>
                    <a:pt x="11" y="717"/>
                  </a:cubicBezTo>
                  <a:cubicBezTo>
                    <a:pt x="6" y="717"/>
                    <a:pt x="2" y="714"/>
                    <a:pt x="2" y="709"/>
                  </a:cubicBezTo>
                  <a:close/>
                  <a:moveTo>
                    <a:pt x="2" y="676"/>
                  </a:moveTo>
                  <a:lnTo>
                    <a:pt x="2" y="676"/>
                  </a:lnTo>
                  <a:cubicBezTo>
                    <a:pt x="2" y="671"/>
                    <a:pt x="6" y="667"/>
                    <a:pt x="11" y="667"/>
                  </a:cubicBezTo>
                  <a:cubicBezTo>
                    <a:pt x="15" y="667"/>
                    <a:pt x="19" y="671"/>
                    <a:pt x="19" y="676"/>
                  </a:cubicBezTo>
                  <a:lnTo>
                    <a:pt x="19" y="676"/>
                  </a:lnTo>
                  <a:cubicBezTo>
                    <a:pt x="19" y="680"/>
                    <a:pt x="15" y="684"/>
                    <a:pt x="11" y="684"/>
                  </a:cubicBezTo>
                  <a:cubicBezTo>
                    <a:pt x="6" y="684"/>
                    <a:pt x="2" y="680"/>
                    <a:pt x="2" y="676"/>
                  </a:cubicBezTo>
                  <a:close/>
                  <a:moveTo>
                    <a:pt x="3" y="642"/>
                  </a:moveTo>
                  <a:lnTo>
                    <a:pt x="3" y="642"/>
                  </a:lnTo>
                  <a:cubicBezTo>
                    <a:pt x="3" y="638"/>
                    <a:pt x="6" y="634"/>
                    <a:pt x="11" y="634"/>
                  </a:cubicBezTo>
                  <a:cubicBezTo>
                    <a:pt x="15" y="634"/>
                    <a:pt x="19" y="638"/>
                    <a:pt x="19" y="642"/>
                  </a:cubicBezTo>
                  <a:lnTo>
                    <a:pt x="19" y="642"/>
                  </a:lnTo>
                  <a:cubicBezTo>
                    <a:pt x="19" y="647"/>
                    <a:pt x="15" y="651"/>
                    <a:pt x="11" y="651"/>
                  </a:cubicBezTo>
                  <a:cubicBezTo>
                    <a:pt x="6" y="651"/>
                    <a:pt x="3" y="647"/>
                    <a:pt x="3" y="642"/>
                  </a:cubicBezTo>
                  <a:close/>
                  <a:moveTo>
                    <a:pt x="3" y="609"/>
                  </a:moveTo>
                  <a:lnTo>
                    <a:pt x="3" y="609"/>
                  </a:lnTo>
                  <a:cubicBezTo>
                    <a:pt x="3" y="604"/>
                    <a:pt x="6" y="601"/>
                    <a:pt x="11" y="601"/>
                  </a:cubicBezTo>
                  <a:cubicBezTo>
                    <a:pt x="16" y="601"/>
                    <a:pt x="19" y="604"/>
                    <a:pt x="19" y="609"/>
                  </a:cubicBezTo>
                  <a:lnTo>
                    <a:pt x="19" y="609"/>
                  </a:lnTo>
                  <a:cubicBezTo>
                    <a:pt x="19" y="613"/>
                    <a:pt x="16" y="617"/>
                    <a:pt x="11" y="617"/>
                  </a:cubicBezTo>
                  <a:cubicBezTo>
                    <a:pt x="6" y="617"/>
                    <a:pt x="3" y="613"/>
                    <a:pt x="3" y="609"/>
                  </a:cubicBezTo>
                  <a:close/>
                  <a:moveTo>
                    <a:pt x="3" y="576"/>
                  </a:moveTo>
                  <a:lnTo>
                    <a:pt x="3" y="576"/>
                  </a:lnTo>
                  <a:cubicBezTo>
                    <a:pt x="3" y="571"/>
                    <a:pt x="6" y="567"/>
                    <a:pt x="11" y="567"/>
                  </a:cubicBezTo>
                  <a:cubicBezTo>
                    <a:pt x="16" y="567"/>
                    <a:pt x="19" y="571"/>
                    <a:pt x="19" y="576"/>
                  </a:cubicBezTo>
                  <a:lnTo>
                    <a:pt x="19" y="576"/>
                  </a:lnTo>
                  <a:cubicBezTo>
                    <a:pt x="19" y="580"/>
                    <a:pt x="16" y="584"/>
                    <a:pt x="11" y="584"/>
                  </a:cubicBezTo>
                  <a:cubicBezTo>
                    <a:pt x="6" y="584"/>
                    <a:pt x="3" y="580"/>
                    <a:pt x="3" y="576"/>
                  </a:cubicBezTo>
                  <a:close/>
                  <a:moveTo>
                    <a:pt x="3" y="542"/>
                  </a:moveTo>
                  <a:lnTo>
                    <a:pt x="3" y="542"/>
                  </a:lnTo>
                  <a:cubicBezTo>
                    <a:pt x="3" y="538"/>
                    <a:pt x="6" y="534"/>
                    <a:pt x="11" y="534"/>
                  </a:cubicBezTo>
                  <a:cubicBezTo>
                    <a:pt x="16" y="534"/>
                    <a:pt x="19" y="538"/>
                    <a:pt x="19" y="542"/>
                  </a:cubicBezTo>
                  <a:lnTo>
                    <a:pt x="19" y="542"/>
                  </a:lnTo>
                  <a:cubicBezTo>
                    <a:pt x="19" y="547"/>
                    <a:pt x="16" y="551"/>
                    <a:pt x="11" y="551"/>
                  </a:cubicBezTo>
                  <a:cubicBezTo>
                    <a:pt x="6" y="551"/>
                    <a:pt x="3" y="547"/>
                    <a:pt x="3" y="542"/>
                  </a:cubicBezTo>
                  <a:close/>
                  <a:moveTo>
                    <a:pt x="3" y="509"/>
                  </a:moveTo>
                  <a:lnTo>
                    <a:pt x="3" y="509"/>
                  </a:lnTo>
                  <a:cubicBezTo>
                    <a:pt x="3" y="504"/>
                    <a:pt x="6" y="500"/>
                    <a:pt x="11" y="500"/>
                  </a:cubicBezTo>
                  <a:cubicBezTo>
                    <a:pt x="16" y="500"/>
                    <a:pt x="19" y="504"/>
                    <a:pt x="19" y="509"/>
                  </a:cubicBezTo>
                  <a:lnTo>
                    <a:pt x="19" y="509"/>
                  </a:lnTo>
                  <a:cubicBezTo>
                    <a:pt x="19" y="513"/>
                    <a:pt x="16" y="517"/>
                    <a:pt x="11" y="517"/>
                  </a:cubicBezTo>
                  <a:cubicBezTo>
                    <a:pt x="6" y="517"/>
                    <a:pt x="3" y="513"/>
                    <a:pt x="3" y="509"/>
                  </a:cubicBezTo>
                  <a:close/>
                  <a:moveTo>
                    <a:pt x="3" y="475"/>
                  </a:moveTo>
                  <a:lnTo>
                    <a:pt x="3" y="475"/>
                  </a:lnTo>
                  <a:cubicBezTo>
                    <a:pt x="3" y="471"/>
                    <a:pt x="6" y="467"/>
                    <a:pt x="11" y="467"/>
                  </a:cubicBezTo>
                  <a:cubicBezTo>
                    <a:pt x="16" y="467"/>
                    <a:pt x="19" y="471"/>
                    <a:pt x="19" y="475"/>
                  </a:cubicBezTo>
                  <a:lnTo>
                    <a:pt x="19" y="475"/>
                  </a:lnTo>
                  <a:cubicBezTo>
                    <a:pt x="19" y="480"/>
                    <a:pt x="16" y="484"/>
                    <a:pt x="11" y="484"/>
                  </a:cubicBezTo>
                  <a:cubicBezTo>
                    <a:pt x="6" y="484"/>
                    <a:pt x="3" y="480"/>
                    <a:pt x="3" y="475"/>
                  </a:cubicBezTo>
                  <a:close/>
                  <a:moveTo>
                    <a:pt x="3" y="442"/>
                  </a:moveTo>
                  <a:lnTo>
                    <a:pt x="3" y="442"/>
                  </a:lnTo>
                  <a:cubicBezTo>
                    <a:pt x="3" y="438"/>
                    <a:pt x="7" y="434"/>
                    <a:pt x="11" y="434"/>
                  </a:cubicBezTo>
                  <a:cubicBezTo>
                    <a:pt x="16" y="434"/>
                    <a:pt x="19" y="438"/>
                    <a:pt x="19" y="442"/>
                  </a:cubicBezTo>
                  <a:lnTo>
                    <a:pt x="19" y="442"/>
                  </a:lnTo>
                  <a:cubicBezTo>
                    <a:pt x="19" y="447"/>
                    <a:pt x="16" y="450"/>
                    <a:pt x="11" y="450"/>
                  </a:cubicBezTo>
                  <a:cubicBezTo>
                    <a:pt x="7" y="450"/>
                    <a:pt x="3" y="447"/>
                    <a:pt x="3" y="442"/>
                  </a:cubicBezTo>
                  <a:close/>
                  <a:moveTo>
                    <a:pt x="3" y="409"/>
                  </a:moveTo>
                  <a:lnTo>
                    <a:pt x="3" y="409"/>
                  </a:lnTo>
                  <a:cubicBezTo>
                    <a:pt x="3" y="404"/>
                    <a:pt x="7" y="400"/>
                    <a:pt x="11" y="400"/>
                  </a:cubicBezTo>
                  <a:cubicBezTo>
                    <a:pt x="16" y="400"/>
                    <a:pt x="20" y="404"/>
                    <a:pt x="20" y="409"/>
                  </a:cubicBezTo>
                  <a:lnTo>
                    <a:pt x="20" y="409"/>
                  </a:lnTo>
                  <a:cubicBezTo>
                    <a:pt x="20" y="413"/>
                    <a:pt x="16" y="417"/>
                    <a:pt x="11" y="417"/>
                  </a:cubicBezTo>
                  <a:cubicBezTo>
                    <a:pt x="7" y="417"/>
                    <a:pt x="3" y="413"/>
                    <a:pt x="3" y="409"/>
                  </a:cubicBezTo>
                  <a:close/>
                  <a:moveTo>
                    <a:pt x="3" y="375"/>
                  </a:moveTo>
                  <a:lnTo>
                    <a:pt x="3" y="375"/>
                  </a:lnTo>
                  <a:cubicBezTo>
                    <a:pt x="3" y="371"/>
                    <a:pt x="7" y="367"/>
                    <a:pt x="11" y="367"/>
                  </a:cubicBezTo>
                  <a:cubicBezTo>
                    <a:pt x="16" y="367"/>
                    <a:pt x="20" y="371"/>
                    <a:pt x="20" y="375"/>
                  </a:cubicBezTo>
                  <a:lnTo>
                    <a:pt x="20" y="375"/>
                  </a:lnTo>
                  <a:cubicBezTo>
                    <a:pt x="20" y="380"/>
                    <a:pt x="16" y="384"/>
                    <a:pt x="11" y="384"/>
                  </a:cubicBezTo>
                  <a:cubicBezTo>
                    <a:pt x="7" y="384"/>
                    <a:pt x="3" y="380"/>
                    <a:pt x="3" y="375"/>
                  </a:cubicBezTo>
                  <a:close/>
                  <a:moveTo>
                    <a:pt x="3" y="342"/>
                  </a:moveTo>
                  <a:lnTo>
                    <a:pt x="3" y="342"/>
                  </a:lnTo>
                  <a:cubicBezTo>
                    <a:pt x="3" y="337"/>
                    <a:pt x="7" y="334"/>
                    <a:pt x="11" y="334"/>
                  </a:cubicBezTo>
                  <a:cubicBezTo>
                    <a:pt x="16" y="334"/>
                    <a:pt x="20" y="337"/>
                    <a:pt x="20" y="342"/>
                  </a:cubicBezTo>
                  <a:lnTo>
                    <a:pt x="20" y="342"/>
                  </a:lnTo>
                  <a:cubicBezTo>
                    <a:pt x="20" y="347"/>
                    <a:pt x="16" y="350"/>
                    <a:pt x="11" y="350"/>
                  </a:cubicBezTo>
                  <a:cubicBezTo>
                    <a:pt x="7" y="350"/>
                    <a:pt x="3" y="347"/>
                    <a:pt x="3" y="342"/>
                  </a:cubicBezTo>
                  <a:close/>
                  <a:moveTo>
                    <a:pt x="3" y="309"/>
                  </a:moveTo>
                  <a:lnTo>
                    <a:pt x="3" y="309"/>
                  </a:lnTo>
                  <a:cubicBezTo>
                    <a:pt x="3" y="304"/>
                    <a:pt x="7" y="300"/>
                    <a:pt x="11" y="300"/>
                  </a:cubicBezTo>
                  <a:cubicBezTo>
                    <a:pt x="16" y="300"/>
                    <a:pt x="20" y="304"/>
                    <a:pt x="20" y="309"/>
                  </a:cubicBezTo>
                  <a:lnTo>
                    <a:pt x="20" y="309"/>
                  </a:lnTo>
                  <a:cubicBezTo>
                    <a:pt x="20" y="313"/>
                    <a:pt x="16" y="317"/>
                    <a:pt x="11" y="317"/>
                  </a:cubicBezTo>
                  <a:cubicBezTo>
                    <a:pt x="7" y="317"/>
                    <a:pt x="3" y="313"/>
                    <a:pt x="3" y="309"/>
                  </a:cubicBezTo>
                  <a:close/>
                  <a:moveTo>
                    <a:pt x="3" y="275"/>
                  </a:moveTo>
                  <a:lnTo>
                    <a:pt x="3" y="275"/>
                  </a:lnTo>
                  <a:cubicBezTo>
                    <a:pt x="3" y="271"/>
                    <a:pt x="7" y="267"/>
                    <a:pt x="11" y="267"/>
                  </a:cubicBezTo>
                  <a:cubicBezTo>
                    <a:pt x="16" y="267"/>
                    <a:pt x="20" y="271"/>
                    <a:pt x="20" y="275"/>
                  </a:cubicBezTo>
                  <a:lnTo>
                    <a:pt x="20" y="275"/>
                  </a:lnTo>
                  <a:cubicBezTo>
                    <a:pt x="20" y="280"/>
                    <a:pt x="16" y="284"/>
                    <a:pt x="11" y="284"/>
                  </a:cubicBezTo>
                  <a:cubicBezTo>
                    <a:pt x="7" y="284"/>
                    <a:pt x="3" y="280"/>
                    <a:pt x="3" y="275"/>
                  </a:cubicBezTo>
                  <a:close/>
                  <a:moveTo>
                    <a:pt x="3" y="242"/>
                  </a:moveTo>
                  <a:lnTo>
                    <a:pt x="3" y="242"/>
                  </a:lnTo>
                  <a:cubicBezTo>
                    <a:pt x="3" y="237"/>
                    <a:pt x="7" y="234"/>
                    <a:pt x="11" y="234"/>
                  </a:cubicBezTo>
                  <a:cubicBezTo>
                    <a:pt x="16" y="234"/>
                    <a:pt x="20" y="237"/>
                    <a:pt x="20" y="242"/>
                  </a:cubicBezTo>
                  <a:lnTo>
                    <a:pt x="20" y="242"/>
                  </a:lnTo>
                  <a:cubicBezTo>
                    <a:pt x="20" y="247"/>
                    <a:pt x="16" y="250"/>
                    <a:pt x="11" y="250"/>
                  </a:cubicBezTo>
                  <a:cubicBezTo>
                    <a:pt x="7" y="250"/>
                    <a:pt x="3" y="247"/>
                    <a:pt x="3" y="242"/>
                  </a:cubicBezTo>
                  <a:close/>
                  <a:moveTo>
                    <a:pt x="3" y="209"/>
                  </a:moveTo>
                  <a:lnTo>
                    <a:pt x="3" y="209"/>
                  </a:lnTo>
                  <a:cubicBezTo>
                    <a:pt x="3" y="204"/>
                    <a:pt x="7" y="200"/>
                    <a:pt x="11" y="200"/>
                  </a:cubicBezTo>
                  <a:cubicBezTo>
                    <a:pt x="16" y="200"/>
                    <a:pt x="20" y="204"/>
                    <a:pt x="20" y="209"/>
                  </a:cubicBezTo>
                  <a:lnTo>
                    <a:pt x="20" y="209"/>
                  </a:lnTo>
                  <a:cubicBezTo>
                    <a:pt x="20" y="213"/>
                    <a:pt x="16" y="217"/>
                    <a:pt x="11" y="217"/>
                  </a:cubicBezTo>
                  <a:cubicBezTo>
                    <a:pt x="7" y="217"/>
                    <a:pt x="3" y="213"/>
                    <a:pt x="3" y="209"/>
                  </a:cubicBezTo>
                  <a:close/>
                  <a:moveTo>
                    <a:pt x="3" y="175"/>
                  </a:moveTo>
                  <a:lnTo>
                    <a:pt x="3" y="175"/>
                  </a:lnTo>
                  <a:cubicBezTo>
                    <a:pt x="3" y="171"/>
                    <a:pt x="7" y="167"/>
                    <a:pt x="12" y="167"/>
                  </a:cubicBezTo>
                  <a:cubicBezTo>
                    <a:pt x="16" y="167"/>
                    <a:pt x="20" y="171"/>
                    <a:pt x="20" y="175"/>
                  </a:cubicBezTo>
                  <a:lnTo>
                    <a:pt x="20" y="175"/>
                  </a:lnTo>
                  <a:cubicBezTo>
                    <a:pt x="20" y="180"/>
                    <a:pt x="16" y="184"/>
                    <a:pt x="12" y="184"/>
                  </a:cubicBezTo>
                  <a:cubicBezTo>
                    <a:pt x="7" y="184"/>
                    <a:pt x="3" y="180"/>
                    <a:pt x="3" y="175"/>
                  </a:cubicBezTo>
                  <a:close/>
                  <a:moveTo>
                    <a:pt x="3" y="142"/>
                  </a:moveTo>
                  <a:lnTo>
                    <a:pt x="3" y="142"/>
                  </a:lnTo>
                  <a:cubicBezTo>
                    <a:pt x="3" y="137"/>
                    <a:pt x="7" y="134"/>
                    <a:pt x="12" y="134"/>
                  </a:cubicBezTo>
                  <a:cubicBezTo>
                    <a:pt x="16" y="134"/>
                    <a:pt x="20" y="137"/>
                    <a:pt x="20" y="142"/>
                  </a:cubicBezTo>
                  <a:lnTo>
                    <a:pt x="20" y="142"/>
                  </a:lnTo>
                  <a:cubicBezTo>
                    <a:pt x="20" y="147"/>
                    <a:pt x="16" y="150"/>
                    <a:pt x="12" y="150"/>
                  </a:cubicBezTo>
                  <a:cubicBezTo>
                    <a:pt x="7" y="150"/>
                    <a:pt x="3" y="147"/>
                    <a:pt x="3" y="142"/>
                  </a:cubicBezTo>
                  <a:close/>
                  <a:moveTo>
                    <a:pt x="3" y="109"/>
                  </a:moveTo>
                  <a:lnTo>
                    <a:pt x="3" y="109"/>
                  </a:lnTo>
                  <a:cubicBezTo>
                    <a:pt x="3" y="104"/>
                    <a:pt x="7" y="100"/>
                    <a:pt x="12" y="100"/>
                  </a:cubicBezTo>
                  <a:cubicBezTo>
                    <a:pt x="16" y="100"/>
                    <a:pt x="20" y="104"/>
                    <a:pt x="20" y="109"/>
                  </a:cubicBezTo>
                  <a:lnTo>
                    <a:pt x="20" y="109"/>
                  </a:lnTo>
                  <a:cubicBezTo>
                    <a:pt x="20" y="113"/>
                    <a:pt x="16" y="117"/>
                    <a:pt x="12" y="117"/>
                  </a:cubicBezTo>
                  <a:cubicBezTo>
                    <a:pt x="7" y="117"/>
                    <a:pt x="3" y="113"/>
                    <a:pt x="3" y="109"/>
                  </a:cubicBezTo>
                  <a:close/>
                  <a:moveTo>
                    <a:pt x="3" y="75"/>
                  </a:moveTo>
                  <a:lnTo>
                    <a:pt x="3" y="75"/>
                  </a:lnTo>
                  <a:cubicBezTo>
                    <a:pt x="3" y="71"/>
                    <a:pt x="7" y="67"/>
                    <a:pt x="12" y="67"/>
                  </a:cubicBezTo>
                  <a:cubicBezTo>
                    <a:pt x="16" y="67"/>
                    <a:pt x="20" y="71"/>
                    <a:pt x="20" y="75"/>
                  </a:cubicBezTo>
                  <a:lnTo>
                    <a:pt x="20" y="75"/>
                  </a:lnTo>
                  <a:cubicBezTo>
                    <a:pt x="20" y="80"/>
                    <a:pt x="16" y="84"/>
                    <a:pt x="12" y="84"/>
                  </a:cubicBezTo>
                  <a:cubicBezTo>
                    <a:pt x="7" y="84"/>
                    <a:pt x="3" y="80"/>
                    <a:pt x="3" y="75"/>
                  </a:cubicBezTo>
                  <a:close/>
                  <a:moveTo>
                    <a:pt x="3" y="42"/>
                  </a:moveTo>
                  <a:lnTo>
                    <a:pt x="3" y="42"/>
                  </a:lnTo>
                  <a:cubicBezTo>
                    <a:pt x="3" y="37"/>
                    <a:pt x="7" y="34"/>
                    <a:pt x="12" y="34"/>
                  </a:cubicBezTo>
                  <a:cubicBezTo>
                    <a:pt x="16" y="34"/>
                    <a:pt x="20" y="37"/>
                    <a:pt x="20" y="42"/>
                  </a:cubicBezTo>
                  <a:lnTo>
                    <a:pt x="20" y="42"/>
                  </a:lnTo>
                  <a:cubicBezTo>
                    <a:pt x="20" y="47"/>
                    <a:pt x="16" y="50"/>
                    <a:pt x="12" y="50"/>
                  </a:cubicBezTo>
                  <a:cubicBezTo>
                    <a:pt x="7" y="50"/>
                    <a:pt x="3" y="47"/>
                    <a:pt x="3" y="42"/>
                  </a:cubicBezTo>
                  <a:close/>
                  <a:moveTo>
                    <a:pt x="3" y="9"/>
                  </a:moveTo>
                  <a:lnTo>
                    <a:pt x="3" y="9"/>
                  </a:lnTo>
                  <a:cubicBezTo>
                    <a:pt x="3" y="4"/>
                    <a:pt x="7" y="0"/>
                    <a:pt x="12" y="0"/>
                  </a:cubicBezTo>
                  <a:cubicBezTo>
                    <a:pt x="16" y="0"/>
                    <a:pt x="20" y="4"/>
                    <a:pt x="20" y="9"/>
                  </a:cubicBezTo>
                  <a:lnTo>
                    <a:pt x="20" y="9"/>
                  </a:lnTo>
                  <a:cubicBezTo>
                    <a:pt x="20" y="13"/>
                    <a:pt x="16" y="17"/>
                    <a:pt x="12" y="17"/>
                  </a:cubicBezTo>
                  <a:cubicBezTo>
                    <a:pt x="7" y="17"/>
                    <a:pt x="3" y="13"/>
                    <a:pt x="3" y="9"/>
                  </a:cubicBez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192480" y="5346720"/>
              <a:ext cx="3240" cy="453960"/>
            </a:xfrm>
            <a:custGeom>
              <a:avLst/>
              <a:gdLst/>
              <a:ahLst/>
              <a:rect l="l" t="t" r="r" b="b"/>
              <a:pathLst>
                <a:path w="20" h="2385">
                  <a:moveTo>
                    <a:pt x="0" y="2376"/>
                  </a:moveTo>
                  <a:lnTo>
                    <a:pt x="0" y="2376"/>
                  </a:lnTo>
                  <a:cubicBezTo>
                    <a:pt x="0" y="2372"/>
                    <a:pt x="4" y="2368"/>
                    <a:pt x="8" y="2368"/>
                  </a:cubicBezTo>
                  <a:cubicBezTo>
                    <a:pt x="13" y="2368"/>
                    <a:pt x="17" y="2372"/>
                    <a:pt x="17" y="2376"/>
                  </a:cubicBezTo>
                  <a:lnTo>
                    <a:pt x="17" y="2376"/>
                  </a:lnTo>
                  <a:cubicBezTo>
                    <a:pt x="17" y="2381"/>
                    <a:pt x="13" y="2385"/>
                    <a:pt x="8" y="2385"/>
                  </a:cubicBezTo>
                  <a:cubicBezTo>
                    <a:pt x="4" y="2385"/>
                    <a:pt x="0" y="2381"/>
                    <a:pt x="0" y="2376"/>
                  </a:cubicBezTo>
                  <a:close/>
                  <a:moveTo>
                    <a:pt x="0" y="2343"/>
                  </a:moveTo>
                  <a:lnTo>
                    <a:pt x="0" y="2343"/>
                  </a:lnTo>
                  <a:cubicBezTo>
                    <a:pt x="0" y="2338"/>
                    <a:pt x="4" y="2335"/>
                    <a:pt x="9" y="2335"/>
                  </a:cubicBezTo>
                  <a:cubicBezTo>
                    <a:pt x="13" y="2335"/>
                    <a:pt x="17" y="2338"/>
                    <a:pt x="17" y="2343"/>
                  </a:cubicBezTo>
                  <a:lnTo>
                    <a:pt x="17" y="2343"/>
                  </a:lnTo>
                  <a:cubicBezTo>
                    <a:pt x="17" y="2348"/>
                    <a:pt x="13" y="2351"/>
                    <a:pt x="9" y="2351"/>
                  </a:cubicBezTo>
                  <a:cubicBezTo>
                    <a:pt x="4" y="2351"/>
                    <a:pt x="0" y="2348"/>
                    <a:pt x="0" y="2343"/>
                  </a:cubicBezTo>
                  <a:close/>
                  <a:moveTo>
                    <a:pt x="0" y="2310"/>
                  </a:moveTo>
                  <a:lnTo>
                    <a:pt x="0" y="2310"/>
                  </a:lnTo>
                  <a:cubicBezTo>
                    <a:pt x="0" y="2305"/>
                    <a:pt x="4" y="2301"/>
                    <a:pt x="9" y="2301"/>
                  </a:cubicBezTo>
                  <a:cubicBezTo>
                    <a:pt x="13" y="2301"/>
                    <a:pt x="17" y="2305"/>
                    <a:pt x="17" y="2310"/>
                  </a:cubicBezTo>
                  <a:lnTo>
                    <a:pt x="17" y="2310"/>
                  </a:lnTo>
                  <a:cubicBezTo>
                    <a:pt x="17" y="2314"/>
                    <a:pt x="13" y="2318"/>
                    <a:pt x="9" y="2318"/>
                  </a:cubicBezTo>
                  <a:cubicBezTo>
                    <a:pt x="4" y="2318"/>
                    <a:pt x="0" y="2314"/>
                    <a:pt x="0" y="2310"/>
                  </a:cubicBezTo>
                  <a:close/>
                  <a:moveTo>
                    <a:pt x="0" y="2276"/>
                  </a:moveTo>
                  <a:lnTo>
                    <a:pt x="0" y="2276"/>
                  </a:lnTo>
                  <a:cubicBezTo>
                    <a:pt x="0" y="2272"/>
                    <a:pt x="4" y="2268"/>
                    <a:pt x="9" y="2268"/>
                  </a:cubicBezTo>
                  <a:cubicBezTo>
                    <a:pt x="13" y="2268"/>
                    <a:pt x="17" y="2272"/>
                    <a:pt x="17" y="2276"/>
                  </a:cubicBezTo>
                  <a:lnTo>
                    <a:pt x="17" y="2276"/>
                  </a:lnTo>
                  <a:cubicBezTo>
                    <a:pt x="17" y="2281"/>
                    <a:pt x="13" y="2285"/>
                    <a:pt x="9" y="2285"/>
                  </a:cubicBezTo>
                  <a:cubicBezTo>
                    <a:pt x="4" y="2285"/>
                    <a:pt x="0" y="2281"/>
                    <a:pt x="0" y="2276"/>
                  </a:cubicBezTo>
                  <a:close/>
                  <a:moveTo>
                    <a:pt x="0" y="2243"/>
                  </a:moveTo>
                  <a:lnTo>
                    <a:pt x="0" y="2243"/>
                  </a:lnTo>
                  <a:cubicBezTo>
                    <a:pt x="0" y="2238"/>
                    <a:pt x="4" y="2235"/>
                    <a:pt x="9" y="2235"/>
                  </a:cubicBezTo>
                  <a:cubicBezTo>
                    <a:pt x="13" y="2235"/>
                    <a:pt x="17" y="2238"/>
                    <a:pt x="17" y="2243"/>
                  </a:cubicBezTo>
                  <a:lnTo>
                    <a:pt x="17" y="2243"/>
                  </a:lnTo>
                  <a:cubicBezTo>
                    <a:pt x="17" y="2248"/>
                    <a:pt x="13" y="2251"/>
                    <a:pt x="9" y="2251"/>
                  </a:cubicBezTo>
                  <a:cubicBezTo>
                    <a:pt x="4" y="2251"/>
                    <a:pt x="0" y="2248"/>
                    <a:pt x="0" y="2243"/>
                  </a:cubicBezTo>
                  <a:close/>
                  <a:moveTo>
                    <a:pt x="0" y="2210"/>
                  </a:moveTo>
                  <a:lnTo>
                    <a:pt x="0" y="2210"/>
                  </a:lnTo>
                  <a:cubicBezTo>
                    <a:pt x="0" y="2205"/>
                    <a:pt x="4" y="2201"/>
                    <a:pt x="9" y="2201"/>
                  </a:cubicBezTo>
                  <a:cubicBezTo>
                    <a:pt x="13" y="2201"/>
                    <a:pt x="17" y="2205"/>
                    <a:pt x="17" y="2210"/>
                  </a:cubicBezTo>
                  <a:lnTo>
                    <a:pt x="17" y="2210"/>
                  </a:lnTo>
                  <a:cubicBezTo>
                    <a:pt x="17" y="2214"/>
                    <a:pt x="13" y="2218"/>
                    <a:pt x="9" y="2218"/>
                  </a:cubicBezTo>
                  <a:cubicBezTo>
                    <a:pt x="4" y="2218"/>
                    <a:pt x="0" y="2214"/>
                    <a:pt x="0" y="2210"/>
                  </a:cubicBezTo>
                  <a:close/>
                  <a:moveTo>
                    <a:pt x="0" y="2176"/>
                  </a:moveTo>
                  <a:lnTo>
                    <a:pt x="0" y="2176"/>
                  </a:lnTo>
                  <a:cubicBezTo>
                    <a:pt x="0" y="2172"/>
                    <a:pt x="4" y="2168"/>
                    <a:pt x="9" y="2168"/>
                  </a:cubicBezTo>
                  <a:cubicBezTo>
                    <a:pt x="13" y="2168"/>
                    <a:pt x="17" y="2172"/>
                    <a:pt x="17" y="2176"/>
                  </a:cubicBezTo>
                  <a:lnTo>
                    <a:pt x="17" y="2176"/>
                  </a:lnTo>
                  <a:cubicBezTo>
                    <a:pt x="17" y="2181"/>
                    <a:pt x="13" y="2185"/>
                    <a:pt x="9" y="2185"/>
                  </a:cubicBezTo>
                  <a:cubicBezTo>
                    <a:pt x="4" y="2185"/>
                    <a:pt x="0" y="2181"/>
                    <a:pt x="0" y="2176"/>
                  </a:cubicBezTo>
                  <a:close/>
                  <a:moveTo>
                    <a:pt x="0" y="2143"/>
                  </a:moveTo>
                  <a:lnTo>
                    <a:pt x="0" y="2143"/>
                  </a:lnTo>
                  <a:cubicBezTo>
                    <a:pt x="0" y="2138"/>
                    <a:pt x="4" y="2135"/>
                    <a:pt x="9" y="2135"/>
                  </a:cubicBezTo>
                  <a:cubicBezTo>
                    <a:pt x="13" y="2135"/>
                    <a:pt x="17" y="2138"/>
                    <a:pt x="17" y="2143"/>
                  </a:cubicBezTo>
                  <a:lnTo>
                    <a:pt x="17" y="2143"/>
                  </a:lnTo>
                  <a:cubicBezTo>
                    <a:pt x="17" y="2148"/>
                    <a:pt x="13" y="2151"/>
                    <a:pt x="9" y="2151"/>
                  </a:cubicBezTo>
                  <a:cubicBezTo>
                    <a:pt x="4" y="2151"/>
                    <a:pt x="0" y="2148"/>
                    <a:pt x="0" y="2143"/>
                  </a:cubicBezTo>
                  <a:close/>
                  <a:moveTo>
                    <a:pt x="1" y="2110"/>
                  </a:moveTo>
                  <a:lnTo>
                    <a:pt x="1" y="2110"/>
                  </a:lnTo>
                  <a:cubicBezTo>
                    <a:pt x="1" y="2105"/>
                    <a:pt x="4" y="2101"/>
                    <a:pt x="9" y="2101"/>
                  </a:cubicBezTo>
                  <a:cubicBezTo>
                    <a:pt x="13" y="2101"/>
                    <a:pt x="17" y="2105"/>
                    <a:pt x="17" y="2110"/>
                  </a:cubicBezTo>
                  <a:lnTo>
                    <a:pt x="17" y="2110"/>
                  </a:lnTo>
                  <a:cubicBezTo>
                    <a:pt x="17" y="2114"/>
                    <a:pt x="13" y="2118"/>
                    <a:pt x="9" y="2118"/>
                  </a:cubicBezTo>
                  <a:cubicBezTo>
                    <a:pt x="4" y="2118"/>
                    <a:pt x="1" y="2114"/>
                    <a:pt x="1" y="2110"/>
                  </a:cubicBezTo>
                  <a:close/>
                  <a:moveTo>
                    <a:pt x="1" y="2076"/>
                  </a:moveTo>
                  <a:lnTo>
                    <a:pt x="1" y="2076"/>
                  </a:lnTo>
                  <a:cubicBezTo>
                    <a:pt x="1" y="2072"/>
                    <a:pt x="4" y="2068"/>
                    <a:pt x="9" y="2068"/>
                  </a:cubicBezTo>
                  <a:cubicBezTo>
                    <a:pt x="13" y="2068"/>
                    <a:pt x="17" y="2072"/>
                    <a:pt x="17" y="2076"/>
                  </a:cubicBezTo>
                  <a:lnTo>
                    <a:pt x="17" y="2076"/>
                  </a:lnTo>
                  <a:cubicBezTo>
                    <a:pt x="17" y="2081"/>
                    <a:pt x="13" y="2085"/>
                    <a:pt x="9" y="2085"/>
                  </a:cubicBezTo>
                  <a:cubicBezTo>
                    <a:pt x="4" y="2085"/>
                    <a:pt x="1" y="2081"/>
                    <a:pt x="1" y="2076"/>
                  </a:cubicBezTo>
                  <a:close/>
                  <a:moveTo>
                    <a:pt x="1" y="2043"/>
                  </a:moveTo>
                  <a:lnTo>
                    <a:pt x="1" y="2043"/>
                  </a:lnTo>
                  <a:cubicBezTo>
                    <a:pt x="1" y="2038"/>
                    <a:pt x="4" y="2035"/>
                    <a:pt x="9" y="2035"/>
                  </a:cubicBezTo>
                  <a:cubicBezTo>
                    <a:pt x="14" y="2035"/>
                    <a:pt x="17" y="2038"/>
                    <a:pt x="17" y="2043"/>
                  </a:cubicBezTo>
                  <a:lnTo>
                    <a:pt x="17" y="2043"/>
                  </a:lnTo>
                  <a:cubicBezTo>
                    <a:pt x="17" y="2048"/>
                    <a:pt x="14" y="2051"/>
                    <a:pt x="9" y="2051"/>
                  </a:cubicBezTo>
                  <a:cubicBezTo>
                    <a:pt x="4" y="2051"/>
                    <a:pt x="1" y="2048"/>
                    <a:pt x="1" y="2043"/>
                  </a:cubicBezTo>
                  <a:close/>
                  <a:moveTo>
                    <a:pt x="1" y="2010"/>
                  </a:moveTo>
                  <a:lnTo>
                    <a:pt x="1" y="2010"/>
                  </a:lnTo>
                  <a:cubicBezTo>
                    <a:pt x="1" y="2005"/>
                    <a:pt x="4" y="2001"/>
                    <a:pt x="9" y="2001"/>
                  </a:cubicBezTo>
                  <a:cubicBezTo>
                    <a:pt x="14" y="2001"/>
                    <a:pt x="17" y="2005"/>
                    <a:pt x="17" y="2010"/>
                  </a:cubicBezTo>
                  <a:lnTo>
                    <a:pt x="17" y="2010"/>
                  </a:lnTo>
                  <a:cubicBezTo>
                    <a:pt x="17" y="2014"/>
                    <a:pt x="14" y="2018"/>
                    <a:pt x="9" y="2018"/>
                  </a:cubicBezTo>
                  <a:cubicBezTo>
                    <a:pt x="4" y="2018"/>
                    <a:pt x="1" y="2014"/>
                    <a:pt x="1" y="2010"/>
                  </a:cubicBezTo>
                  <a:close/>
                  <a:moveTo>
                    <a:pt x="1" y="1976"/>
                  </a:moveTo>
                  <a:lnTo>
                    <a:pt x="1" y="1976"/>
                  </a:lnTo>
                  <a:cubicBezTo>
                    <a:pt x="1" y="1972"/>
                    <a:pt x="4" y="1968"/>
                    <a:pt x="9" y="1968"/>
                  </a:cubicBezTo>
                  <a:cubicBezTo>
                    <a:pt x="14" y="1968"/>
                    <a:pt x="17" y="1972"/>
                    <a:pt x="17" y="1976"/>
                  </a:cubicBezTo>
                  <a:lnTo>
                    <a:pt x="17" y="1976"/>
                  </a:lnTo>
                  <a:cubicBezTo>
                    <a:pt x="17" y="1981"/>
                    <a:pt x="14" y="1985"/>
                    <a:pt x="9" y="1985"/>
                  </a:cubicBezTo>
                  <a:cubicBezTo>
                    <a:pt x="4" y="1985"/>
                    <a:pt x="1" y="1981"/>
                    <a:pt x="1" y="1976"/>
                  </a:cubicBezTo>
                  <a:close/>
                  <a:moveTo>
                    <a:pt x="1" y="1943"/>
                  </a:moveTo>
                  <a:lnTo>
                    <a:pt x="1" y="1943"/>
                  </a:lnTo>
                  <a:cubicBezTo>
                    <a:pt x="1" y="1938"/>
                    <a:pt x="4" y="1935"/>
                    <a:pt x="9" y="1935"/>
                  </a:cubicBezTo>
                  <a:cubicBezTo>
                    <a:pt x="14" y="1935"/>
                    <a:pt x="17" y="1938"/>
                    <a:pt x="17" y="1943"/>
                  </a:cubicBezTo>
                  <a:lnTo>
                    <a:pt x="17" y="1943"/>
                  </a:lnTo>
                  <a:cubicBezTo>
                    <a:pt x="17" y="1948"/>
                    <a:pt x="14" y="1951"/>
                    <a:pt x="9" y="1951"/>
                  </a:cubicBezTo>
                  <a:cubicBezTo>
                    <a:pt x="4" y="1951"/>
                    <a:pt x="1" y="1948"/>
                    <a:pt x="1" y="1943"/>
                  </a:cubicBezTo>
                  <a:close/>
                  <a:moveTo>
                    <a:pt x="1" y="1910"/>
                  </a:moveTo>
                  <a:lnTo>
                    <a:pt x="1" y="1910"/>
                  </a:lnTo>
                  <a:cubicBezTo>
                    <a:pt x="1" y="1905"/>
                    <a:pt x="5" y="1901"/>
                    <a:pt x="9" y="1901"/>
                  </a:cubicBezTo>
                  <a:cubicBezTo>
                    <a:pt x="14" y="1901"/>
                    <a:pt x="17" y="1905"/>
                    <a:pt x="17" y="1910"/>
                  </a:cubicBezTo>
                  <a:lnTo>
                    <a:pt x="17" y="1910"/>
                  </a:lnTo>
                  <a:cubicBezTo>
                    <a:pt x="17" y="1914"/>
                    <a:pt x="14" y="1918"/>
                    <a:pt x="9" y="1918"/>
                  </a:cubicBezTo>
                  <a:cubicBezTo>
                    <a:pt x="5" y="1918"/>
                    <a:pt x="1" y="1914"/>
                    <a:pt x="1" y="1910"/>
                  </a:cubicBezTo>
                  <a:close/>
                  <a:moveTo>
                    <a:pt x="1" y="1876"/>
                  </a:moveTo>
                  <a:lnTo>
                    <a:pt x="1" y="1876"/>
                  </a:lnTo>
                  <a:cubicBezTo>
                    <a:pt x="1" y="1872"/>
                    <a:pt x="5" y="1868"/>
                    <a:pt x="9" y="1868"/>
                  </a:cubicBezTo>
                  <a:cubicBezTo>
                    <a:pt x="14" y="1868"/>
                    <a:pt x="17" y="1872"/>
                    <a:pt x="17" y="1876"/>
                  </a:cubicBezTo>
                  <a:lnTo>
                    <a:pt x="17" y="1876"/>
                  </a:lnTo>
                  <a:cubicBezTo>
                    <a:pt x="17" y="1881"/>
                    <a:pt x="14" y="1885"/>
                    <a:pt x="9" y="1885"/>
                  </a:cubicBezTo>
                  <a:cubicBezTo>
                    <a:pt x="5" y="1885"/>
                    <a:pt x="1" y="1881"/>
                    <a:pt x="1" y="1876"/>
                  </a:cubicBezTo>
                  <a:close/>
                  <a:moveTo>
                    <a:pt x="1" y="1843"/>
                  </a:moveTo>
                  <a:lnTo>
                    <a:pt x="1" y="1843"/>
                  </a:lnTo>
                  <a:cubicBezTo>
                    <a:pt x="1" y="1838"/>
                    <a:pt x="5" y="1834"/>
                    <a:pt x="9" y="1834"/>
                  </a:cubicBezTo>
                  <a:cubicBezTo>
                    <a:pt x="14" y="1834"/>
                    <a:pt x="18" y="1838"/>
                    <a:pt x="18" y="1843"/>
                  </a:cubicBezTo>
                  <a:lnTo>
                    <a:pt x="18" y="1843"/>
                  </a:lnTo>
                  <a:cubicBezTo>
                    <a:pt x="18" y="1847"/>
                    <a:pt x="14" y="1851"/>
                    <a:pt x="9" y="1851"/>
                  </a:cubicBezTo>
                  <a:cubicBezTo>
                    <a:pt x="5" y="1851"/>
                    <a:pt x="1" y="1847"/>
                    <a:pt x="1" y="1843"/>
                  </a:cubicBezTo>
                  <a:close/>
                  <a:moveTo>
                    <a:pt x="1" y="1809"/>
                  </a:moveTo>
                  <a:lnTo>
                    <a:pt x="1" y="1809"/>
                  </a:lnTo>
                  <a:cubicBezTo>
                    <a:pt x="1" y="1805"/>
                    <a:pt x="5" y="1801"/>
                    <a:pt x="9" y="1801"/>
                  </a:cubicBezTo>
                  <a:cubicBezTo>
                    <a:pt x="14" y="1801"/>
                    <a:pt x="18" y="1805"/>
                    <a:pt x="18" y="1809"/>
                  </a:cubicBezTo>
                  <a:lnTo>
                    <a:pt x="18" y="1809"/>
                  </a:lnTo>
                  <a:cubicBezTo>
                    <a:pt x="18" y="1814"/>
                    <a:pt x="14" y="1818"/>
                    <a:pt x="9" y="1818"/>
                  </a:cubicBezTo>
                  <a:cubicBezTo>
                    <a:pt x="5" y="1818"/>
                    <a:pt x="1" y="1814"/>
                    <a:pt x="1" y="1809"/>
                  </a:cubicBezTo>
                  <a:close/>
                  <a:moveTo>
                    <a:pt x="1" y="1776"/>
                  </a:moveTo>
                  <a:lnTo>
                    <a:pt x="1" y="1776"/>
                  </a:lnTo>
                  <a:cubicBezTo>
                    <a:pt x="1" y="1772"/>
                    <a:pt x="5" y="1768"/>
                    <a:pt x="9" y="1768"/>
                  </a:cubicBezTo>
                  <a:cubicBezTo>
                    <a:pt x="14" y="1768"/>
                    <a:pt x="18" y="1772"/>
                    <a:pt x="18" y="1776"/>
                  </a:cubicBezTo>
                  <a:lnTo>
                    <a:pt x="18" y="1776"/>
                  </a:lnTo>
                  <a:cubicBezTo>
                    <a:pt x="18" y="1781"/>
                    <a:pt x="14" y="1784"/>
                    <a:pt x="9" y="1784"/>
                  </a:cubicBezTo>
                  <a:cubicBezTo>
                    <a:pt x="5" y="1784"/>
                    <a:pt x="1" y="1781"/>
                    <a:pt x="1" y="1776"/>
                  </a:cubicBezTo>
                  <a:close/>
                  <a:moveTo>
                    <a:pt x="1" y="1743"/>
                  </a:moveTo>
                  <a:lnTo>
                    <a:pt x="1" y="1743"/>
                  </a:lnTo>
                  <a:cubicBezTo>
                    <a:pt x="1" y="1738"/>
                    <a:pt x="5" y="1734"/>
                    <a:pt x="9" y="1734"/>
                  </a:cubicBezTo>
                  <a:cubicBezTo>
                    <a:pt x="14" y="1734"/>
                    <a:pt x="18" y="1738"/>
                    <a:pt x="18" y="1743"/>
                  </a:cubicBezTo>
                  <a:lnTo>
                    <a:pt x="18" y="1743"/>
                  </a:lnTo>
                  <a:cubicBezTo>
                    <a:pt x="18" y="1747"/>
                    <a:pt x="14" y="1751"/>
                    <a:pt x="9" y="1751"/>
                  </a:cubicBezTo>
                  <a:cubicBezTo>
                    <a:pt x="5" y="1751"/>
                    <a:pt x="1" y="1747"/>
                    <a:pt x="1" y="1743"/>
                  </a:cubicBezTo>
                  <a:close/>
                  <a:moveTo>
                    <a:pt x="1" y="1709"/>
                  </a:moveTo>
                  <a:lnTo>
                    <a:pt x="1" y="1709"/>
                  </a:lnTo>
                  <a:cubicBezTo>
                    <a:pt x="1" y="1705"/>
                    <a:pt x="5" y="1701"/>
                    <a:pt x="9" y="1701"/>
                  </a:cubicBezTo>
                  <a:cubicBezTo>
                    <a:pt x="14" y="1701"/>
                    <a:pt x="18" y="1705"/>
                    <a:pt x="18" y="1709"/>
                  </a:cubicBezTo>
                  <a:lnTo>
                    <a:pt x="18" y="1709"/>
                  </a:lnTo>
                  <a:cubicBezTo>
                    <a:pt x="18" y="1714"/>
                    <a:pt x="14" y="1718"/>
                    <a:pt x="9" y="1718"/>
                  </a:cubicBezTo>
                  <a:cubicBezTo>
                    <a:pt x="5" y="1718"/>
                    <a:pt x="1" y="1714"/>
                    <a:pt x="1" y="1709"/>
                  </a:cubicBezTo>
                  <a:close/>
                  <a:moveTo>
                    <a:pt x="1" y="1676"/>
                  </a:moveTo>
                  <a:lnTo>
                    <a:pt x="1" y="1676"/>
                  </a:lnTo>
                  <a:cubicBezTo>
                    <a:pt x="1" y="1671"/>
                    <a:pt x="5" y="1668"/>
                    <a:pt x="9" y="1668"/>
                  </a:cubicBezTo>
                  <a:cubicBezTo>
                    <a:pt x="14" y="1668"/>
                    <a:pt x="18" y="1671"/>
                    <a:pt x="18" y="1676"/>
                  </a:cubicBezTo>
                  <a:lnTo>
                    <a:pt x="18" y="1676"/>
                  </a:lnTo>
                  <a:cubicBezTo>
                    <a:pt x="18" y="1681"/>
                    <a:pt x="14" y="1684"/>
                    <a:pt x="9" y="1684"/>
                  </a:cubicBezTo>
                  <a:cubicBezTo>
                    <a:pt x="5" y="1684"/>
                    <a:pt x="1" y="1681"/>
                    <a:pt x="1" y="1676"/>
                  </a:cubicBezTo>
                  <a:close/>
                  <a:moveTo>
                    <a:pt x="1" y="1643"/>
                  </a:moveTo>
                  <a:lnTo>
                    <a:pt x="1" y="1643"/>
                  </a:lnTo>
                  <a:cubicBezTo>
                    <a:pt x="1" y="1638"/>
                    <a:pt x="5" y="1634"/>
                    <a:pt x="9" y="1634"/>
                  </a:cubicBezTo>
                  <a:cubicBezTo>
                    <a:pt x="14" y="1634"/>
                    <a:pt x="18" y="1638"/>
                    <a:pt x="18" y="1643"/>
                  </a:cubicBezTo>
                  <a:lnTo>
                    <a:pt x="18" y="1643"/>
                  </a:lnTo>
                  <a:cubicBezTo>
                    <a:pt x="18" y="1647"/>
                    <a:pt x="14" y="1651"/>
                    <a:pt x="9" y="1651"/>
                  </a:cubicBezTo>
                  <a:cubicBezTo>
                    <a:pt x="5" y="1651"/>
                    <a:pt x="1" y="1647"/>
                    <a:pt x="1" y="1643"/>
                  </a:cubicBezTo>
                  <a:close/>
                  <a:moveTo>
                    <a:pt x="1" y="1609"/>
                  </a:moveTo>
                  <a:lnTo>
                    <a:pt x="1" y="1609"/>
                  </a:lnTo>
                  <a:cubicBezTo>
                    <a:pt x="1" y="1605"/>
                    <a:pt x="5" y="1601"/>
                    <a:pt x="10" y="1601"/>
                  </a:cubicBezTo>
                  <a:cubicBezTo>
                    <a:pt x="14" y="1601"/>
                    <a:pt x="18" y="1605"/>
                    <a:pt x="18" y="1609"/>
                  </a:cubicBezTo>
                  <a:lnTo>
                    <a:pt x="18" y="1609"/>
                  </a:lnTo>
                  <a:cubicBezTo>
                    <a:pt x="18" y="1614"/>
                    <a:pt x="14" y="1618"/>
                    <a:pt x="10" y="1618"/>
                  </a:cubicBezTo>
                  <a:cubicBezTo>
                    <a:pt x="5" y="1618"/>
                    <a:pt x="1" y="1614"/>
                    <a:pt x="1" y="1609"/>
                  </a:cubicBezTo>
                  <a:close/>
                  <a:moveTo>
                    <a:pt x="1" y="1576"/>
                  </a:moveTo>
                  <a:lnTo>
                    <a:pt x="1" y="1576"/>
                  </a:lnTo>
                  <a:cubicBezTo>
                    <a:pt x="1" y="1571"/>
                    <a:pt x="5" y="1568"/>
                    <a:pt x="10" y="1568"/>
                  </a:cubicBezTo>
                  <a:cubicBezTo>
                    <a:pt x="14" y="1568"/>
                    <a:pt x="18" y="1571"/>
                    <a:pt x="18" y="1576"/>
                  </a:cubicBezTo>
                  <a:lnTo>
                    <a:pt x="18" y="1576"/>
                  </a:lnTo>
                  <a:cubicBezTo>
                    <a:pt x="18" y="1581"/>
                    <a:pt x="14" y="1584"/>
                    <a:pt x="10" y="1584"/>
                  </a:cubicBezTo>
                  <a:cubicBezTo>
                    <a:pt x="5" y="1584"/>
                    <a:pt x="1" y="1581"/>
                    <a:pt x="1" y="1576"/>
                  </a:cubicBezTo>
                  <a:close/>
                  <a:moveTo>
                    <a:pt x="1" y="1543"/>
                  </a:moveTo>
                  <a:lnTo>
                    <a:pt x="1" y="1543"/>
                  </a:lnTo>
                  <a:cubicBezTo>
                    <a:pt x="1" y="1538"/>
                    <a:pt x="5" y="1534"/>
                    <a:pt x="10" y="1534"/>
                  </a:cubicBezTo>
                  <a:cubicBezTo>
                    <a:pt x="14" y="1534"/>
                    <a:pt x="18" y="1538"/>
                    <a:pt x="18" y="1543"/>
                  </a:cubicBezTo>
                  <a:lnTo>
                    <a:pt x="18" y="1543"/>
                  </a:lnTo>
                  <a:cubicBezTo>
                    <a:pt x="18" y="1547"/>
                    <a:pt x="14" y="1551"/>
                    <a:pt x="10" y="1551"/>
                  </a:cubicBezTo>
                  <a:cubicBezTo>
                    <a:pt x="5" y="1551"/>
                    <a:pt x="1" y="1547"/>
                    <a:pt x="1" y="1543"/>
                  </a:cubicBezTo>
                  <a:close/>
                  <a:moveTo>
                    <a:pt x="1" y="1509"/>
                  </a:moveTo>
                  <a:lnTo>
                    <a:pt x="1" y="1509"/>
                  </a:lnTo>
                  <a:cubicBezTo>
                    <a:pt x="1" y="1505"/>
                    <a:pt x="5" y="1501"/>
                    <a:pt x="10" y="1501"/>
                  </a:cubicBezTo>
                  <a:cubicBezTo>
                    <a:pt x="14" y="1501"/>
                    <a:pt x="18" y="1505"/>
                    <a:pt x="18" y="1509"/>
                  </a:cubicBezTo>
                  <a:lnTo>
                    <a:pt x="18" y="1509"/>
                  </a:lnTo>
                  <a:cubicBezTo>
                    <a:pt x="18" y="1514"/>
                    <a:pt x="14" y="1518"/>
                    <a:pt x="10" y="1518"/>
                  </a:cubicBezTo>
                  <a:cubicBezTo>
                    <a:pt x="5" y="1518"/>
                    <a:pt x="1" y="1514"/>
                    <a:pt x="1" y="1509"/>
                  </a:cubicBezTo>
                  <a:close/>
                  <a:moveTo>
                    <a:pt x="1" y="1476"/>
                  </a:moveTo>
                  <a:lnTo>
                    <a:pt x="1" y="1476"/>
                  </a:lnTo>
                  <a:cubicBezTo>
                    <a:pt x="1" y="1471"/>
                    <a:pt x="5" y="1468"/>
                    <a:pt x="10" y="1468"/>
                  </a:cubicBezTo>
                  <a:cubicBezTo>
                    <a:pt x="14" y="1468"/>
                    <a:pt x="18" y="1471"/>
                    <a:pt x="18" y="1476"/>
                  </a:cubicBezTo>
                  <a:lnTo>
                    <a:pt x="18" y="1476"/>
                  </a:lnTo>
                  <a:cubicBezTo>
                    <a:pt x="18" y="1481"/>
                    <a:pt x="14" y="1484"/>
                    <a:pt x="10" y="1484"/>
                  </a:cubicBezTo>
                  <a:cubicBezTo>
                    <a:pt x="5" y="1484"/>
                    <a:pt x="1" y="1481"/>
                    <a:pt x="1" y="1476"/>
                  </a:cubicBezTo>
                  <a:close/>
                  <a:moveTo>
                    <a:pt x="1" y="1443"/>
                  </a:moveTo>
                  <a:lnTo>
                    <a:pt x="1" y="1443"/>
                  </a:lnTo>
                  <a:cubicBezTo>
                    <a:pt x="1" y="1438"/>
                    <a:pt x="5" y="1434"/>
                    <a:pt x="10" y="1434"/>
                  </a:cubicBezTo>
                  <a:cubicBezTo>
                    <a:pt x="14" y="1434"/>
                    <a:pt x="18" y="1438"/>
                    <a:pt x="18" y="1443"/>
                  </a:cubicBezTo>
                  <a:lnTo>
                    <a:pt x="18" y="1443"/>
                  </a:lnTo>
                  <a:cubicBezTo>
                    <a:pt x="18" y="1447"/>
                    <a:pt x="14" y="1451"/>
                    <a:pt x="10" y="1451"/>
                  </a:cubicBezTo>
                  <a:cubicBezTo>
                    <a:pt x="5" y="1451"/>
                    <a:pt x="1" y="1447"/>
                    <a:pt x="1" y="1443"/>
                  </a:cubicBezTo>
                  <a:close/>
                  <a:moveTo>
                    <a:pt x="1" y="1409"/>
                  </a:moveTo>
                  <a:lnTo>
                    <a:pt x="1" y="1409"/>
                  </a:lnTo>
                  <a:cubicBezTo>
                    <a:pt x="1" y="1405"/>
                    <a:pt x="5" y="1401"/>
                    <a:pt x="10" y="1401"/>
                  </a:cubicBezTo>
                  <a:cubicBezTo>
                    <a:pt x="14" y="1401"/>
                    <a:pt x="18" y="1405"/>
                    <a:pt x="18" y="1409"/>
                  </a:cubicBezTo>
                  <a:lnTo>
                    <a:pt x="18" y="1409"/>
                  </a:lnTo>
                  <a:cubicBezTo>
                    <a:pt x="18" y="1414"/>
                    <a:pt x="14" y="1418"/>
                    <a:pt x="10" y="1418"/>
                  </a:cubicBezTo>
                  <a:cubicBezTo>
                    <a:pt x="5" y="1418"/>
                    <a:pt x="1" y="1414"/>
                    <a:pt x="1" y="1409"/>
                  </a:cubicBezTo>
                  <a:close/>
                  <a:moveTo>
                    <a:pt x="2" y="1376"/>
                  </a:moveTo>
                  <a:lnTo>
                    <a:pt x="2" y="1376"/>
                  </a:lnTo>
                  <a:cubicBezTo>
                    <a:pt x="2" y="1371"/>
                    <a:pt x="5" y="1368"/>
                    <a:pt x="10" y="1368"/>
                  </a:cubicBezTo>
                  <a:cubicBezTo>
                    <a:pt x="14" y="1368"/>
                    <a:pt x="18" y="1371"/>
                    <a:pt x="18" y="1376"/>
                  </a:cubicBezTo>
                  <a:lnTo>
                    <a:pt x="18" y="1376"/>
                  </a:lnTo>
                  <a:cubicBezTo>
                    <a:pt x="18" y="1381"/>
                    <a:pt x="14" y="1384"/>
                    <a:pt x="10" y="1384"/>
                  </a:cubicBezTo>
                  <a:cubicBezTo>
                    <a:pt x="5" y="1384"/>
                    <a:pt x="2" y="1381"/>
                    <a:pt x="2" y="1376"/>
                  </a:cubicBezTo>
                  <a:close/>
                  <a:moveTo>
                    <a:pt x="2" y="1343"/>
                  </a:moveTo>
                  <a:lnTo>
                    <a:pt x="2" y="1343"/>
                  </a:lnTo>
                  <a:cubicBezTo>
                    <a:pt x="2" y="1338"/>
                    <a:pt x="5" y="1334"/>
                    <a:pt x="10" y="1334"/>
                  </a:cubicBezTo>
                  <a:cubicBezTo>
                    <a:pt x="14" y="1334"/>
                    <a:pt x="18" y="1338"/>
                    <a:pt x="18" y="1343"/>
                  </a:cubicBezTo>
                  <a:lnTo>
                    <a:pt x="18" y="1343"/>
                  </a:lnTo>
                  <a:cubicBezTo>
                    <a:pt x="18" y="1347"/>
                    <a:pt x="14" y="1351"/>
                    <a:pt x="10" y="1351"/>
                  </a:cubicBezTo>
                  <a:cubicBezTo>
                    <a:pt x="5" y="1351"/>
                    <a:pt x="2" y="1347"/>
                    <a:pt x="2" y="1343"/>
                  </a:cubicBezTo>
                  <a:close/>
                  <a:moveTo>
                    <a:pt x="2" y="1309"/>
                  </a:moveTo>
                  <a:lnTo>
                    <a:pt x="2" y="1309"/>
                  </a:lnTo>
                  <a:cubicBezTo>
                    <a:pt x="2" y="1305"/>
                    <a:pt x="5" y="1301"/>
                    <a:pt x="10" y="1301"/>
                  </a:cubicBezTo>
                  <a:cubicBezTo>
                    <a:pt x="15" y="1301"/>
                    <a:pt x="18" y="1305"/>
                    <a:pt x="18" y="1309"/>
                  </a:cubicBezTo>
                  <a:lnTo>
                    <a:pt x="18" y="1309"/>
                  </a:lnTo>
                  <a:cubicBezTo>
                    <a:pt x="18" y="1314"/>
                    <a:pt x="15" y="1318"/>
                    <a:pt x="10" y="1318"/>
                  </a:cubicBezTo>
                  <a:cubicBezTo>
                    <a:pt x="5" y="1318"/>
                    <a:pt x="2" y="1314"/>
                    <a:pt x="2" y="1309"/>
                  </a:cubicBezTo>
                  <a:close/>
                  <a:moveTo>
                    <a:pt x="2" y="1276"/>
                  </a:moveTo>
                  <a:lnTo>
                    <a:pt x="2" y="1276"/>
                  </a:lnTo>
                  <a:cubicBezTo>
                    <a:pt x="2" y="1271"/>
                    <a:pt x="5" y="1268"/>
                    <a:pt x="10" y="1268"/>
                  </a:cubicBezTo>
                  <a:cubicBezTo>
                    <a:pt x="15" y="1268"/>
                    <a:pt x="18" y="1271"/>
                    <a:pt x="18" y="1276"/>
                  </a:cubicBezTo>
                  <a:lnTo>
                    <a:pt x="18" y="1276"/>
                  </a:lnTo>
                  <a:cubicBezTo>
                    <a:pt x="18" y="1280"/>
                    <a:pt x="15" y="1284"/>
                    <a:pt x="10" y="1284"/>
                  </a:cubicBezTo>
                  <a:cubicBezTo>
                    <a:pt x="5" y="1284"/>
                    <a:pt x="2" y="1280"/>
                    <a:pt x="2" y="1276"/>
                  </a:cubicBezTo>
                  <a:close/>
                  <a:moveTo>
                    <a:pt x="2" y="1243"/>
                  </a:moveTo>
                  <a:lnTo>
                    <a:pt x="2" y="1242"/>
                  </a:lnTo>
                  <a:cubicBezTo>
                    <a:pt x="2" y="1238"/>
                    <a:pt x="5" y="1234"/>
                    <a:pt x="10" y="1234"/>
                  </a:cubicBezTo>
                  <a:cubicBezTo>
                    <a:pt x="15" y="1234"/>
                    <a:pt x="18" y="1238"/>
                    <a:pt x="18" y="1242"/>
                  </a:cubicBezTo>
                  <a:lnTo>
                    <a:pt x="18" y="1243"/>
                  </a:lnTo>
                  <a:cubicBezTo>
                    <a:pt x="18" y="1247"/>
                    <a:pt x="15" y="1251"/>
                    <a:pt x="10" y="1251"/>
                  </a:cubicBezTo>
                  <a:cubicBezTo>
                    <a:pt x="5" y="1251"/>
                    <a:pt x="2" y="1247"/>
                    <a:pt x="2" y="1243"/>
                  </a:cubicBezTo>
                  <a:close/>
                  <a:moveTo>
                    <a:pt x="2" y="1209"/>
                  </a:moveTo>
                  <a:lnTo>
                    <a:pt x="2" y="1209"/>
                  </a:lnTo>
                  <a:cubicBezTo>
                    <a:pt x="2" y="1205"/>
                    <a:pt x="5" y="1201"/>
                    <a:pt x="10" y="1201"/>
                  </a:cubicBezTo>
                  <a:cubicBezTo>
                    <a:pt x="15" y="1201"/>
                    <a:pt x="18" y="1205"/>
                    <a:pt x="18" y="1209"/>
                  </a:cubicBezTo>
                  <a:lnTo>
                    <a:pt x="18" y="1209"/>
                  </a:lnTo>
                  <a:cubicBezTo>
                    <a:pt x="18" y="1214"/>
                    <a:pt x="15" y="1217"/>
                    <a:pt x="10" y="1217"/>
                  </a:cubicBezTo>
                  <a:cubicBezTo>
                    <a:pt x="5" y="1217"/>
                    <a:pt x="2" y="1214"/>
                    <a:pt x="2" y="1209"/>
                  </a:cubicBezTo>
                  <a:close/>
                  <a:moveTo>
                    <a:pt x="2" y="1176"/>
                  </a:moveTo>
                  <a:lnTo>
                    <a:pt x="2" y="1176"/>
                  </a:lnTo>
                  <a:cubicBezTo>
                    <a:pt x="2" y="1171"/>
                    <a:pt x="6" y="1167"/>
                    <a:pt x="10" y="1167"/>
                  </a:cubicBezTo>
                  <a:cubicBezTo>
                    <a:pt x="15" y="1167"/>
                    <a:pt x="18" y="1171"/>
                    <a:pt x="18" y="1176"/>
                  </a:cubicBezTo>
                  <a:lnTo>
                    <a:pt x="18" y="1176"/>
                  </a:lnTo>
                  <a:cubicBezTo>
                    <a:pt x="18" y="1180"/>
                    <a:pt x="15" y="1184"/>
                    <a:pt x="10" y="1184"/>
                  </a:cubicBezTo>
                  <a:cubicBezTo>
                    <a:pt x="6" y="1184"/>
                    <a:pt x="2" y="1180"/>
                    <a:pt x="2" y="1176"/>
                  </a:cubicBezTo>
                  <a:close/>
                  <a:moveTo>
                    <a:pt x="2" y="1142"/>
                  </a:moveTo>
                  <a:lnTo>
                    <a:pt x="2" y="1142"/>
                  </a:lnTo>
                  <a:cubicBezTo>
                    <a:pt x="2" y="1138"/>
                    <a:pt x="6" y="1134"/>
                    <a:pt x="10" y="1134"/>
                  </a:cubicBezTo>
                  <a:cubicBezTo>
                    <a:pt x="15" y="1134"/>
                    <a:pt x="19" y="1138"/>
                    <a:pt x="19" y="1142"/>
                  </a:cubicBezTo>
                  <a:lnTo>
                    <a:pt x="19" y="1142"/>
                  </a:lnTo>
                  <a:cubicBezTo>
                    <a:pt x="19" y="1147"/>
                    <a:pt x="15" y="1151"/>
                    <a:pt x="10" y="1151"/>
                  </a:cubicBezTo>
                  <a:cubicBezTo>
                    <a:pt x="6" y="1151"/>
                    <a:pt x="2" y="1147"/>
                    <a:pt x="2" y="1142"/>
                  </a:cubicBezTo>
                  <a:close/>
                  <a:moveTo>
                    <a:pt x="2" y="1109"/>
                  </a:moveTo>
                  <a:lnTo>
                    <a:pt x="2" y="1109"/>
                  </a:lnTo>
                  <a:cubicBezTo>
                    <a:pt x="2" y="1104"/>
                    <a:pt x="6" y="1101"/>
                    <a:pt x="10" y="1101"/>
                  </a:cubicBezTo>
                  <a:cubicBezTo>
                    <a:pt x="15" y="1101"/>
                    <a:pt x="19" y="1104"/>
                    <a:pt x="19" y="1109"/>
                  </a:cubicBezTo>
                  <a:lnTo>
                    <a:pt x="19" y="1109"/>
                  </a:lnTo>
                  <a:cubicBezTo>
                    <a:pt x="19" y="1114"/>
                    <a:pt x="15" y="1117"/>
                    <a:pt x="10" y="1117"/>
                  </a:cubicBezTo>
                  <a:cubicBezTo>
                    <a:pt x="6" y="1117"/>
                    <a:pt x="2" y="1114"/>
                    <a:pt x="2" y="1109"/>
                  </a:cubicBezTo>
                  <a:close/>
                  <a:moveTo>
                    <a:pt x="2" y="1076"/>
                  </a:moveTo>
                  <a:lnTo>
                    <a:pt x="2" y="1076"/>
                  </a:lnTo>
                  <a:cubicBezTo>
                    <a:pt x="2" y="1071"/>
                    <a:pt x="6" y="1067"/>
                    <a:pt x="10" y="1067"/>
                  </a:cubicBezTo>
                  <a:cubicBezTo>
                    <a:pt x="15" y="1067"/>
                    <a:pt x="19" y="1071"/>
                    <a:pt x="19" y="1076"/>
                  </a:cubicBezTo>
                  <a:lnTo>
                    <a:pt x="19" y="1076"/>
                  </a:lnTo>
                  <a:cubicBezTo>
                    <a:pt x="19" y="1080"/>
                    <a:pt x="15" y="1084"/>
                    <a:pt x="10" y="1084"/>
                  </a:cubicBezTo>
                  <a:cubicBezTo>
                    <a:pt x="6" y="1084"/>
                    <a:pt x="2" y="1080"/>
                    <a:pt x="2" y="1076"/>
                  </a:cubicBezTo>
                  <a:close/>
                  <a:moveTo>
                    <a:pt x="2" y="1042"/>
                  </a:moveTo>
                  <a:lnTo>
                    <a:pt x="2" y="1042"/>
                  </a:lnTo>
                  <a:cubicBezTo>
                    <a:pt x="2" y="1038"/>
                    <a:pt x="6" y="1034"/>
                    <a:pt x="10" y="1034"/>
                  </a:cubicBezTo>
                  <a:cubicBezTo>
                    <a:pt x="15" y="1034"/>
                    <a:pt x="19" y="1038"/>
                    <a:pt x="19" y="1042"/>
                  </a:cubicBezTo>
                  <a:lnTo>
                    <a:pt x="19" y="1042"/>
                  </a:lnTo>
                  <a:cubicBezTo>
                    <a:pt x="19" y="1047"/>
                    <a:pt x="15" y="1051"/>
                    <a:pt x="10" y="1051"/>
                  </a:cubicBezTo>
                  <a:cubicBezTo>
                    <a:pt x="6" y="1051"/>
                    <a:pt x="2" y="1047"/>
                    <a:pt x="2" y="1042"/>
                  </a:cubicBezTo>
                  <a:close/>
                  <a:moveTo>
                    <a:pt x="2" y="1009"/>
                  </a:moveTo>
                  <a:lnTo>
                    <a:pt x="2" y="1009"/>
                  </a:lnTo>
                  <a:cubicBezTo>
                    <a:pt x="2" y="1004"/>
                    <a:pt x="6" y="1001"/>
                    <a:pt x="10" y="1001"/>
                  </a:cubicBezTo>
                  <a:cubicBezTo>
                    <a:pt x="15" y="1001"/>
                    <a:pt x="19" y="1004"/>
                    <a:pt x="19" y="1009"/>
                  </a:cubicBezTo>
                  <a:lnTo>
                    <a:pt x="19" y="1009"/>
                  </a:lnTo>
                  <a:cubicBezTo>
                    <a:pt x="19" y="1014"/>
                    <a:pt x="15" y="1017"/>
                    <a:pt x="10" y="1017"/>
                  </a:cubicBezTo>
                  <a:cubicBezTo>
                    <a:pt x="6" y="1017"/>
                    <a:pt x="2" y="1014"/>
                    <a:pt x="2" y="1009"/>
                  </a:cubicBezTo>
                  <a:close/>
                  <a:moveTo>
                    <a:pt x="2" y="976"/>
                  </a:moveTo>
                  <a:lnTo>
                    <a:pt x="2" y="976"/>
                  </a:lnTo>
                  <a:cubicBezTo>
                    <a:pt x="2" y="971"/>
                    <a:pt x="6" y="967"/>
                    <a:pt x="10" y="967"/>
                  </a:cubicBezTo>
                  <a:cubicBezTo>
                    <a:pt x="15" y="967"/>
                    <a:pt x="19" y="971"/>
                    <a:pt x="19" y="976"/>
                  </a:cubicBezTo>
                  <a:lnTo>
                    <a:pt x="19" y="976"/>
                  </a:lnTo>
                  <a:cubicBezTo>
                    <a:pt x="19" y="980"/>
                    <a:pt x="15" y="984"/>
                    <a:pt x="10" y="984"/>
                  </a:cubicBezTo>
                  <a:cubicBezTo>
                    <a:pt x="6" y="984"/>
                    <a:pt x="2" y="980"/>
                    <a:pt x="2" y="976"/>
                  </a:cubicBezTo>
                  <a:close/>
                  <a:moveTo>
                    <a:pt x="2" y="942"/>
                  </a:moveTo>
                  <a:lnTo>
                    <a:pt x="2" y="942"/>
                  </a:lnTo>
                  <a:cubicBezTo>
                    <a:pt x="2" y="938"/>
                    <a:pt x="6" y="934"/>
                    <a:pt x="10" y="934"/>
                  </a:cubicBezTo>
                  <a:cubicBezTo>
                    <a:pt x="15" y="934"/>
                    <a:pt x="19" y="938"/>
                    <a:pt x="19" y="942"/>
                  </a:cubicBezTo>
                  <a:lnTo>
                    <a:pt x="19" y="942"/>
                  </a:lnTo>
                  <a:cubicBezTo>
                    <a:pt x="19" y="947"/>
                    <a:pt x="15" y="951"/>
                    <a:pt x="10" y="951"/>
                  </a:cubicBezTo>
                  <a:cubicBezTo>
                    <a:pt x="6" y="951"/>
                    <a:pt x="2" y="947"/>
                    <a:pt x="2" y="942"/>
                  </a:cubicBezTo>
                  <a:close/>
                  <a:moveTo>
                    <a:pt x="2" y="909"/>
                  </a:moveTo>
                  <a:lnTo>
                    <a:pt x="2" y="909"/>
                  </a:lnTo>
                  <a:cubicBezTo>
                    <a:pt x="2" y="904"/>
                    <a:pt x="6" y="901"/>
                    <a:pt x="10" y="901"/>
                  </a:cubicBezTo>
                  <a:cubicBezTo>
                    <a:pt x="15" y="901"/>
                    <a:pt x="19" y="904"/>
                    <a:pt x="19" y="909"/>
                  </a:cubicBezTo>
                  <a:lnTo>
                    <a:pt x="19" y="909"/>
                  </a:lnTo>
                  <a:cubicBezTo>
                    <a:pt x="19" y="914"/>
                    <a:pt x="15" y="917"/>
                    <a:pt x="10" y="917"/>
                  </a:cubicBezTo>
                  <a:cubicBezTo>
                    <a:pt x="6" y="917"/>
                    <a:pt x="2" y="914"/>
                    <a:pt x="2" y="909"/>
                  </a:cubicBezTo>
                  <a:close/>
                  <a:moveTo>
                    <a:pt x="2" y="876"/>
                  </a:moveTo>
                  <a:lnTo>
                    <a:pt x="2" y="876"/>
                  </a:lnTo>
                  <a:cubicBezTo>
                    <a:pt x="2" y="871"/>
                    <a:pt x="6" y="867"/>
                    <a:pt x="11" y="867"/>
                  </a:cubicBezTo>
                  <a:cubicBezTo>
                    <a:pt x="15" y="867"/>
                    <a:pt x="19" y="871"/>
                    <a:pt x="19" y="876"/>
                  </a:cubicBezTo>
                  <a:lnTo>
                    <a:pt x="19" y="876"/>
                  </a:lnTo>
                  <a:cubicBezTo>
                    <a:pt x="19" y="880"/>
                    <a:pt x="15" y="884"/>
                    <a:pt x="11" y="884"/>
                  </a:cubicBezTo>
                  <a:cubicBezTo>
                    <a:pt x="6" y="884"/>
                    <a:pt x="2" y="880"/>
                    <a:pt x="2" y="876"/>
                  </a:cubicBezTo>
                  <a:close/>
                  <a:moveTo>
                    <a:pt x="2" y="842"/>
                  </a:moveTo>
                  <a:lnTo>
                    <a:pt x="2" y="842"/>
                  </a:lnTo>
                  <a:cubicBezTo>
                    <a:pt x="2" y="838"/>
                    <a:pt x="6" y="834"/>
                    <a:pt x="11" y="834"/>
                  </a:cubicBezTo>
                  <a:cubicBezTo>
                    <a:pt x="15" y="834"/>
                    <a:pt x="19" y="838"/>
                    <a:pt x="19" y="842"/>
                  </a:cubicBezTo>
                  <a:lnTo>
                    <a:pt x="19" y="842"/>
                  </a:lnTo>
                  <a:cubicBezTo>
                    <a:pt x="19" y="847"/>
                    <a:pt x="15" y="851"/>
                    <a:pt x="11" y="851"/>
                  </a:cubicBezTo>
                  <a:cubicBezTo>
                    <a:pt x="6" y="851"/>
                    <a:pt x="2" y="847"/>
                    <a:pt x="2" y="842"/>
                  </a:cubicBezTo>
                  <a:close/>
                  <a:moveTo>
                    <a:pt x="2" y="809"/>
                  </a:moveTo>
                  <a:lnTo>
                    <a:pt x="2" y="809"/>
                  </a:lnTo>
                  <a:cubicBezTo>
                    <a:pt x="2" y="804"/>
                    <a:pt x="6" y="801"/>
                    <a:pt x="11" y="801"/>
                  </a:cubicBezTo>
                  <a:cubicBezTo>
                    <a:pt x="15" y="801"/>
                    <a:pt x="19" y="804"/>
                    <a:pt x="19" y="809"/>
                  </a:cubicBezTo>
                  <a:lnTo>
                    <a:pt x="19" y="809"/>
                  </a:lnTo>
                  <a:cubicBezTo>
                    <a:pt x="19" y="814"/>
                    <a:pt x="15" y="817"/>
                    <a:pt x="11" y="817"/>
                  </a:cubicBezTo>
                  <a:cubicBezTo>
                    <a:pt x="6" y="817"/>
                    <a:pt x="2" y="814"/>
                    <a:pt x="2" y="809"/>
                  </a:cubicBezTo>
                  <a:close/>
                  <a:moveTo>
                    <a:pt x="2" y="776"/>
                  </a:moveTo>
                  <a:lnTo>
                    <a:pt x="2" y="776"/>
                  </a:lnTo>
                  <a:cubicBezTo>
                    <a:pt x="2" y="771"/>
                    <a:pt x="6" y="767"/>
                    <a:pt x="11" y="767"/>
                  </a:cubicBezTo>
                  <a:cubicBezTo>
                    <a:pt x="15" y="767"/>
                    <a:pt x="19" y="771"/>
                    <a:pt x="19" y="776"/>
                  </a:cubicBezTo>
                  <a:lnTo>
                    <a:pt x="19" y="776"/>
                  </a:lnTo>
                  <a:cubicBezTo>
                    <a:pt x="19" y="780"/>
                    <a:pt x="15" y="784"/>
                    <a:pt x="11" y="784"/>
                  </a:cubicBezTo>
                  <a:cubicBezTo>
                    <a:pt x="6" y="784"/>
                    <a:pt x="2" y="780"/>
                    <a:pt x="2" y="776"/>
                  </a:cubicBezTo>
                  <a:close/>
                  <a:moveTo>
                    <a:pt x="2" y="742"/>
                  </a:moveTo>
                  <a:lnTo>
                    <a:pt x="2" y="742"/>
                  </a:lnTo>
                  <a:cubicBezTo>
                    <a:pt x="2" y="738"/>
                    <a:pt x="6" y="734"/>
                    <a:pt x="11" y="734"/>
                  </a:cubicBezTo>
                  <a:cubicBezTo>
                    <a:pt x="15" y="734"/>
                    <a:pt x="19" y="738"/>
                    <a:pt x="19" y="742"/>
                  </a:cubicBezTo>
                  <a:lnTo>
                    <a:pt x="19" y="742"/>
                  </a:lnTo>
                  <a:cubicBezTo>
                    <a:pt x="19" y="747"/>
                    <a:pt x="15" y="751"/>
                    <a:pt x="11" y="751"/>
                  </a:cubicBezTo>
                  <a:cubicBezTo>
                    <a:pt x="6" y="751"/>
                    <a:pt x="2" y="747"/>
                    <a:pt x="2" y="742"/>
                  </a:cubicBezTo>
                  <a:close/>
                  <a:moveTo>
                    <a:pt x="2" y="709"/>
                  </a:moveTo>
                  <a:lnTo>
                    <a:pt x="2" y="709"/>
                  </a:lnTo>
                  <a:cubicBezTo>
                    <a:pt x="2" y="704"/>
                    <a:pt x="6" y="701"/>
                    <a:pt x="11" y="701"/>
                  </a:cubicBezTo>
                  <a:cubicBezTo>
                    <a:pt x="15" y="701"/>
                    <a:pt x="19" y="704"/>
                    <a:pt x="19" y="709"/>
                  </a:cubicBezTo>
                  <a:lnTo>
                    <a:pt x="19" y="709"/>
                  </a:lnTo>
                  <a:cubicBezTo>
                    <a:pt x="19" y="714"/>
                    <a:pt x="15" y="717"/>
                    <a:pt x="11" y="717"/>
                  </a:cubicBezTo>
                  <a:cubicBezTo>
                    <a:pt x="6" y="717"/>
                    <a:pt x="2" y="714"/>
                    <a:pt x="2" y="709"/>
                  </a:cubicBezTo>
                  <a:close/>
                  <a:moveTo>
                    <a:pt x="2" y="676"/>
                  </a:moveTo>
                  <a:lnTo>
                    <a:pt x="2" y="676"/>
                  </a:lnTo>
                  <a:cubicBezTo>
                    <a:pt x="2" y="671"/>
                    <a:pt x="6" y="667"/>
                    <a:pt x="11" y="667"/>
                  </a:cubicBezTo>
                  <a:cubicBezTo>
                    <a:pt x="15" y="667"/>
                    <a:pt x="19" y="671"/>
                    <a:pt x="19" y="676"/>
                  </a:cubicBezTo>
                  <a:lnTo>
                    <a:pt x="19" y="676"/>
                  </a:lnTo>
                  <a:cubicBezTo>
                    <a:pt x="19" y="680"/>
                    <a:pt x="15" y="684"/>
                    <a:pt x="11" y="684"/>
                  </a:cubicBezTo>
                  <a:cubicBezTo>
                    <a:pt x="6" y="684"/>
                    <a:pt x="2" y="680"/>
                    <a:pt x="2" y="676"/>
                  </a:cubicBezTo>
                  <a:close/>
                  <a:moveTo>
                    <a:pt x="3" y="642"/>
                  </a:moveTo>
                  <a:lnTo>
                    <a:pt x="3" y="642"/>
                  </a:lnTo>
                  <a:cubicBezTo>
                    <a:pt x="3" y="638"/>
                    <a:pt x="6" y="634"/>
                    <a:pt x="11" y="634"/>
                  </a:cubicBezTo>
                  <a:cubicBezTo>
                    <a:pt x="15" y="634"/>
                    <a:pt x="19" y="638"/>
                    <a:pt x="19" y="642"/>
                  </a:cubicBezTo>
                  <a:lnTo>
                    <a:pt x="19" y="642"/>
                  </a:lnTo>
                  <a:cubicBezTo>
                    <a:pt x="19" y="647"/>
                    <a:pt x="15" y="651"/>
                    <a:pt x="11" y="651"/>
                  </a:cubicBezTo>
                  <a:cubicBezTo>
                    <a:pt x="6" y="651"/>
                    <a:pt x="3" y="647"/>
                    <a:pt x="3" y="642"/>
                  </a:cubicBezTo>
                  <a:close/>
                  <a:moveTo>
                    <a:pt x="3" y="609"/>
                  </a:moveTo>
                  <a:lnTo>
                    <a:pt x="3" y="609"/>
                  </a:lnTo>
                  <a:cubicBezTo>
                    <a:pt x="3" y="604"/>
                    <a:pt x="6" y="601"/>
                    <a:pt x="11" y="601"/>
                  </a:cubicBezTo>
                  <a:cubicBezTo>
                    <a:pt x="16" y="601"/>
                    <a:pt x="19" y="604"/>
                    <a:pt x="19" y="609"/>
                  </a:cubicBezTo>
                  <a:lnTo>
                    <a:pt x="19" y="609"/>
                  </a:lnTo>
                  <a:cubicBezTo>
                    <a:pt x="19" y="613"/>
                    <a:pt x="16" y="617"/>
                    <a:pt x="11" y="617"/>
                  </a:cubicBezTo>
                  <a:cubicBezTo>
                    <a:pt x="6" y="617"/>
                    <a:pt x="3" y="613"/>
                    <a:pt x="3" y="609"/>
                  </a:cubicBezTo>
                  <a:close/>
                  <a:moveTo>
                    <a:pt x="3" y="576"/>
                  </a:moveTo>
                  <a:lnTo>
                    <a:pt x="3" y="576"/>
                  </a:lnTo>
                  <a:cubicBezTo>
                    <a:pt x="3" y="571"/>
                    <a:pt x="6" y="567"/>
                    <a:pt x="11" y="567"/>
                  </a:cubicBezTo>
                  <a:cubicBezTo>
                    <a:pt x="16" y="567"/>
                    <a:pt x="19" y="571"/>
                    <a:pt x="19" y="576"/>
                  </a:cubicBezTo>
                  <a:lnTo>
                    <a:pt x="19" y="576"/>
                  </a:lnTo>
                  <a:cubicBezTo>
                    <a:pt x="19" y="580"/>
                    <a:pt x="16" y="584"/>
                    <a:pt x="11" y="584"/>
                  </a:cubicBezTo>
                  <a:cubicBezTo>
                    <a:pt x="6" y="584"/>
                    <a:pt x="3" y="580"/>
                    <a:pt x="3" y="576"/>
                  </a:cubicBezTo>
                  <a:close/>
                  <a:moveTo>
                    <a:pt x="3" y="542"/>
                  </a:moveTo>
                  <a:lnTo>
                    <a:pt x="3" y="542"/>
                  </a:lnTo>
                  <a:cubicBezTo>
                    <a:pt x="3" y="538"/>
                    <a:pt x="6" y="534"/>
                    <a:pt x="11" y="534"/>
                  </a:cubicBezTo>
                  <a:cubicBezTo>
                    <a:pt x="16" y="534"/>
                    <a:pt x="19" y="538"/>
                    <a:pt x="19" y="542"/>
                  </a:cubicBezTo>
                  <a:lnTo>
                    <a:pt x="19" y="542"/>
                  </a:lnTo>
                  <a:cubicBezTo>
                    <a:pt x="19" y="547"/>
                    <a:pt x="16" y="551"/>
                    <a:pt x="11" y="551"/>
                  </a:cubicBezTo>
                  <a:cubicBezTo>
                    <a:pt x="6" y="551"/>
                    <a:pt x="3" y="547"/>
                    <a:pt x="3" y="542"/>
                  </a:cubicBezTo>
                  <a:close/>
                  <a:moveTo>
                    <a:pt x="3" y="509"/>
                  </a:moveTo>
                  <a:lnTo>
                    <a:pt x="3" y="509"/>
                  </a:lnTo>
                  <a:cubicBezTo>
                    <a:pt x="3" y="504"/>
                    <a:pt x="6" y="500"/>
                    <a:pt x="11" y="500"/>
                  </a:cubicBezTo>
                  <a:cubicBezTo>
                    <a:pt x="16" y="500"/>
                    <a:pt x="19" y="504"/>
                    <a:pt x="19" y="509"/>
                  </a:cubicBezTo>
                  <a:lnTo>
                    <a:pt x="19" y="509"/>
                  </a:lnTo>
                  <a:cubicBezTo>
                    <a:pt x="19" y="513"/>
                    <a:pt x="16" y="517"/>
                    <a:pt x="11" y="517"/>
                  </a:cubicBezTo>
                  <a:cubicBezTo>
                    <a:pt x="6" y="517"/>
                    <a:pt x="3" y="513"/>
                    <a:pt x="3" y="509"/>
                  </a:cubicBezTo>
                  <a:close/>
                  <a:moveTo>
                    <a:pt x="3" y="475"/>
                  </a:moveTo>
                  <a:lnTo>
                    <a:pt x="3" y="475"/>
                  </a:lnTo>
                  <a:cubicBezTo>
                    <a:pt x="3" y="471"/>
                    <a:pt x="6" y="467"/>
                    <a:pt x="11" y="467"/>
                  </a:cubicBezTo>
                  <a:cubicBezTo>
                    <a:pt x="16" y="467"/>
                    <a:pt x="19" y="471"/>
                    <a:pt x="19" y="475"/>
                  </a:cubicBezTo>
                  <a:lnTo>
                    <a:pt x="19" y="475"/>
                  </a:lnTo>
                  <a:cubicBezTo>
                    <a:pt x="19" y="480"/>
                    <a:pt x="16" y="484"/>
                    <a:pt x="11" y="484"/>
                  </a:cubicBezTo>
                  <a:cubicBezTo>
                    <a:pt x="6" y="484"/>
                    <a:pt x="3" y="480"/>
                    <a:pt x="3" y="475"/>
                  </a:cubicBezTo>
                  <a:close/>
                  <a:moveTo>
                    <a:pt x="3" y="442"/>
                  </a:moveTo>
                  <a:lnTo>
                    <a:pt x="3" y="442"/>
                  </a:lnTo>
                  <a:cubicBezTo>
                    <a:pt x="3" y="438"/>
                    <a:pt x="7" y="434"/>
                    <a:pt x="11" y="434"/>
                  </a:cubicBezTo>
                  <a:cubicBezTo>
                    <a:pt x="16" y="434"/>
                    <a:pt x="19" y="438"/>
                    <a:pt x="19" y="442"/>
                  </a:cubicBezTo>
                  <a:lnTo>
                    <a:pt x="19" y="442"/>
                  </a:lnTo>
                  <a:cubicBezTo>
                    <a:pt x="19" y="447"/>
                    <a:pt x="16" y="450"/>
                    <a:pt x="11" y="450"/>
                  </a:cubicBezTo>
                  <a:cubicBezTo>
                    <a:pt x="7" y="450"/>
                    <a:pt x="3" y="447"/>
                    <a:pt x="3" y="442"/>
                  </a:cubicBezTo>
                  <a:close/>
                  <a:moveTo>
                    <a:pt x="3" y="409"/>
                  </a:moveTo>
                  <a:lnTo>
                    <a:pt x="3" y="409"/>
                  </a:lnTo>
                  <a:cubicBezTo>
                    <a:pt x="3" y="404"/>
                    <a:pt x="7" y="400"/>
                    <a:pt x="11" y="400"/>
                  </a:cubicBezTo>
                  <a:cubicBezTo>
                    <a:pt x="16" y="400"/>
                    <a:pt x="20" y="404"/>
                    <a:pt x="20" y="409"/>
                  </a:cubicBezTo>
                  <a:lnTo>
                    <a:pt x="20" y="409"/>
                  </a:lnTo>
                  <a:cubicBezTo>
                    <a:pt x="20" y="413"/>
                    <a:pt x="16" y="417"/>
                    <a:pt x="11" y="417"/>
                  </a:cubicBezTo>
                  <a:cubicBezTo>
                    <a:pt x="7" y="417"/>
                    <a:pt x="3" y="413"/>
                    <a:pt x="3" y="409"/>
                  </a:cubicBezTo>
                  <a:close/>
                  <a:moveTo>
                    <a:pt x="3" y="375"/>
                  </a:moveTo>
                  <a:lnTo>
                    <a:pt x="3" y="375"/>
                  </a:lnTo>
                  <a:cubicBezTo>
                    <a:pt x="3" y="371"/>
                    <a:pt x="7" y="367"/>
                    <a:pt x="11" y="367"/>
                  </a:cubicBezTo>
                  <a:cubicBezTo>
                    <a:pt x="16" y="367"/>
                    <a:pt x="20" y="371"/>
                    <a:pt x="20" y="375"/>
                  </a:cubicBezTo>
                  <a:lnTo>
                    <a:pt x="20" y="375"/>
                  </a:lnTo>
                  <a:cubicBezTo>
                    <a:pt x="20" y="380"/>
                    <a:pt x="16" y="384"/>
                    <a:pt x="11" y="384"/>
                  </a:cubicBezTo>
                  <a:cubicBezTo>
                    <a:pt x="7" y="384"/>
                    <a:pt x="3" y="380"/>
                    <a:pt x="3" y="375"/>
                  </a:cubicBezTo>
                  <a:close/>
                  <a:moveTo>
                    <a:pt x="3" y="342"/>
                  </a:moveTo>
                  <a:lnTo>
                    <a:pt x="3" y="342"/>
                  </a:lnTo>
                  <a:cubicBezTo>
                    <a:pt x="3" y="337"/>
                    <a:pt x="7" y="334"/>
                    <a:pt x="11" y="334"/>
                  </a:cubicBezTo>
                  <a:cubicBezTo>
                    <a:pt x="16" y="334"/>
                    <a:pt x="20" y="337"/>
                    <a:pt x="20" y="342"/>
                  </a:cubicBezTo>
                  <a:lnTo>
                    <a:pt x="20" y="342"/>
                  </a:lnTo>
                  <a:cubicBezTo>
                    <a:pt x="20" y="347"/>
                    <a:pt x="16" y="350"/>
                    <a:pt x="11" y="350"/>
                  </a:cubicBezTo>
                  <a:cubicBezTo>
                    <a:pt x="7" y="350"/>
                    <a:pt x="3" y="347"/>
                    <a:pt x="3" y="342"/>
                  </a:cubicBezTo>
                  <a:close/>
                  <a:moveTo>
                    <a:pt x="3" y="309"/>
                  </a:moveTo>
                  <a:lnTo>
                    <a:pt x="3" y="309"/>
                  </a:lnTo>
                  <a:cubicBezTo>
                    <a:pt x="3" y="304"/>
                    <a:pt x="7" y="300"/>
                    <a:pt x="11" y="300"/>
                  </a:cubicBezTo>
                  <a:cubicBezTo>
                    <a:pt x="16" y="300"/>
                    <a:pt x="20" y="304"/>
                    <a:pt x="20" y="309"/>
                  </a:cubicBezTo>
                  <a:lnTo>
                    <a:pt x="20" y="309"/>
                  </a:lnTo>
                  <a:cubicBezTo>
                    <a:pt x="20" y="313"/>
                    <a:pt x="16" y="317"/>
                    <a:pt x="11" y="317"/>
                  </a:cubicBezTo>
                  <a:cubicBezTo>
                    <a:pt x="7" y="317"/>
                    <a:pt x="3" y="313"/>
                    <a:pt x="3" y="309"/>
                  </a:cubicBezTo>
                  <a:close/>
                  <a:moveTo>
                    <a:pt x="3" y="275"/>
                  </a:moveTo>
                  <a:lnTo>
                    <a:pt x="3" y="275"/>
                  </a:lnTo>
                  <a:cubicBezTo>
                    <a:pt x="3" y="271"/>
                    <a:pt x="7" y="267"/>
                    <a:pt x="11" y="267"/>
                  </a:cubicBezTo>
                  <a:cubicBezTo>
                    <a:pt x="16" y="267"/>
                    <a:pt x="20" y="271"/>
                    <a:pt x="20" y="275"/>
                  </a:cubicBezTo>
                  <a:lnTo>
                    <a:pt x="20" y="275"/>
                  </a:lnTo>
                  <a:cubicBezTo>
                    <a:pt x="20" y="280"/>
                    <a:pt x="16" y="284"/>
                    <a:pt x="11" y="284"/>
                  </a:cubicBezTo>
                  <a:cubicBezTo>
                    <a:pt x="7" y="284"/>
                    <a:pt x="3" y="280"/>
                    <a:pt x="3" y="275"/>
                  </a:cubicBezTo>
                  <a:close/>
                  <a:moveTo>
                    <a:pt x="3" y="242"/>
                  </a:moveTo>
                  <a:lnTo>
                    <a:pt x="3" y="242"/>
                  </a:lnTo>
                  <a:cubicBezTo>
                    <a:pt x="3" y="237"/>
                    <a:pt x="7" y="234"/>
                    <a:pt x="11" y="234"/>
                  </a:cubicBezTo>
                  <a:cubicBezTo>
                    <a:pt x="16" y="234"/>
                    <a:pt x="20" y="237"/>
                    <a:pt x="20" y="242"/>
                  </a:cubicBezTo>
                  <a:lnTo>
                    <a:pt x="20" y="242"/>
                  </a:lnTo>
                  <a:cubicBezTo>
                    <a:pt x="20" y="247"/>
                    <a:pt x="16" y="250"/>
                    <a:pt x="11" y="250"/>
                  </a:cubicBezTo>
                  <a:cubicBezTo>
                    <a:pt x="7" y="250"/>
                    <a:pt x="3" y="247"/>
                    <a:pt x="3" y="242"/>
                  </a:cubicBezTo>
                  <a:close/>
                  <a:moveTo>
                    <a:pt x="3" y="209"/>
                  </a:moveTo>
                  <a:lnTo>
                    <a:pt x="3" y="209"/>
                  </a:lnTo>
                  <a:cubicBezTo>
                    <a:pt x="3" y="204"/>
                    <a:pt x="7" y="200"/>
                    <a:pt x="11" y="200"/>
                  </a:cubicBezTo>
                  <a:cubicBezTo>
                    <a:pt x="16" y="200"/>
                    <a:pt x="20" y="204"/>
                    <a:pt x="20" y="209"/>
                  </a:cubicBezTo>
                  <a:lnTo>
                    <a:pt x="20" y="209"/>
                  </a:lnTo>
                  <a:cubicBezTo>
                    <a:pt x="20" y="213"/>
                    <a:pt x="16" y="217"/>
                    <a:pt x="11" y="217"/>
                  </a:cubicBezTo>
                  <a:cubicBezTo>
                    <a:pt x="7" y="217"/>
                    <a:pt x="3" y="213"/>
                    <a:pt x="3" y="209"/>
                  </a:cubicBezTo>
                  <a:close/>
                  <a:moveTo>
                    <a:pt x="3" y="175"/>
                  </a:moveTo>
                  <a:lnTo>
                    <a:pt x="3" y="175"/>
                  </a:lnTo>
                  <a:cubicBezTo>
                    <a:pt x="3" y="171"/>
                    <a:pt x="7" y="167"/>
                    <a:pt x="12" y="167"/>
                  </a:cubicBezTo>
                  <a:cubicBezTo>
                    <a:pt x="16" y="167"/>
                    <a:pt x="20" y="171"/>
                    <a:pt x="20" y="175"/>
                  </a:cubicBezTo>
                  <a:lnTo>
                    <a:pt x="20" y="175"/>
                  </a:lnTo>
                  <a:cubicBezTo>
                    <a:pt x="20" y="180"/>
                    <a:pt x="16" y="184"/>
                    <a:pt x="12" y="184"/>
                  </a:cubicBezTo>
                  <a:cubicBezTo>
                    <a:pt x="7" y="184"/>
                    <a:pt x="3" y="180"/>
                    <a:pt x="3" y="175"/>
                  </a:cubicBezTo>
                  <a:close/>
                  <a:moveTo>
                    <a:pt x="3" y="142"/>
                  </a:moveTo>
                  <a:lnTo>
                    <a:pt x="3" y="142"/>
                  </a:lnTo>
                  <a:cubicBezTo>
                    <a:pt x="3" y="137"/>
                    <a:pt x="7" y="134"/>
                    <a:pt x="12" y="134"/>
                  </a:cubicBezTo>
                  <a:cubicBezTo>
                    <a:pt x="16" y="134"/>
                    <a:pt x="20" y="137"/>
                    <a:pt x="20" y="142"/>
                  </a:cubicBezTo>
                  <a:lnTo>
                    <a:pt x="20" y="142"/>
                  </a:lnTo>
                  <a:cubicBezTo>
                    <a:pt x="20" y="147"/>
                    <a:pt x="16" y="150"/>
                    <a:pt x="12" y="150"/>
                  </a:cubicBezTo>
                  <a:cubicBezTo>
                    <a:pt x="7" y="150"/>
                    <a:pt x="3" y="147"/>
                    <a:pt x="3" y="142"/>
                  </a:cubicBezTo>
                  <a:close/>
                  <a:moveTo>
                    <a:pt x="3" y="109"/>
                  </a:moveTo>
                  <a:lnTo>
                    <a:pt x="3" y="109"/>
                  </a:lnTo>
                  <a:cubicBezTo>
                    <a:pt x="3" y="104"/>
                    <a:pt x="7" y="100"/>
                    <a:pt x="12" y="100"/>
                  </a:cubicBezTo>
                  <a:cubicBezTo>
                    <a:pt x="16" y="100"/>
                    <a:pt x="20" y="104"/>
                    <a:pt x="20" y="109"/>
                  </a:cubicBezTo>
                  <a:lnTo>
                    <a:pt x="20" y="109"/>
                  </a:lnTo>
                  <a:cubicBezTo>
                    <a:pt x="20" y="113"/>
                    <a:pt x="16" y="117"/>
                    <a:pt x="12" y="117"/>
                  </a:cubicBezTo>
                  <a:cubicBezTo>
                    <a:pt x="7" y="117"/>
                    <a:pt x="3" y="113"/>
                    <a:pt x="3" y="109"/>
                  </a:cubicBezTo>
                  <a:close/>
                  <a:moveTo>
                    <a:pt x="3" y="75"/>
                  </a:moveTo>
                  <a:lnTo>
                    <a:pt x="3" y="75"/>
                  </a:lnTo>
                  <a:cubicBezTo>
                    <a:pt x="3" y="71"/>
                    <a:pt x="7" y="67"/>
                    <a:pt x="12" y="67"/>
                  </a:cubicBezTo>
                  <a:cubicBezTo>
                    <a:pt x="16" y="67"/>
                    <a:pt x="20" y="71"/>
                    <a:pt x="20" y="75"/>
                  </a:cubicBezTo>
                  <a:lnTo>
                    <a:pt x="20" y="75"/>
                  </a:lnTo>
                  <a:cubicBezTo>
                    <a:pt x="20" y="80"/>
                    <a:pt x="16" y="84"/>
                    <a:pt x="12" y="84"/>
                  </a:cubicBezTo>
                  <a:cubicBezTo>
                    <a:pt x="7" y="84"/>
                    <a:pt x="3" y="80"/>
                    <a:pt x="3" y="75"/>
                  </a:cubicBezTo>
                  <a:close/>
                  <a:moveTo>
                    <a:pt x="3" y="42"/>
                  </a:moveTo>
                  <a:lnTo>
                    <a:pt x="3" y="42"/>
                  </a:lnTo>
                  <a:cubicBezTo>
                    <a:pt x="3" y="37"/>
                    <a:pt x="7" y="34"/>
                    <a:pt x="12" y="34"/>
                  </a:cubicBezTo>
                  <a:cubicBezTo>
                    <a:pt x="16" y="34"/>
                    <a:pt x="20" y="37"/>
                    <a:pt x="20" y="42"/>
                  </a:cubicBezTo>
                  <a:lnTo>
                    <a:pt x="20" y="42"/>
                  </a:lnTo>
                  <a:cubicBezTo>
                    <a:pt x="20" y="47"/>
                    <a:pt x="16" y="50"/>
                    <a:pt x="12" y="50"/>
                  </a:cubicBezTo>
                  <a:cubicBezTo>
                    <a:pt x="7" y="50"/>
                    <a:pt x="3" y="47"/>
                    <a:pt x="3" y="42"/>
                  </a:cubicBezTo>
                  <a:close/>
                  <a:moveTo>
                    <a:pt x="3" y="9"/>
                  </a:moveTo>
                  <a:lnTo>
                    <a:pt x="3" y="9"/>
                  </a:lnTo>
                  <a:cubicBezTo>
                    <a:pt x="3" y="4"/>
                    <a:pt x="7" y="0"/>
                    <a:pt x="12" y="0"/>
                  </a:cubicBezTo>
                  <a:cubicBezTo>
                    <a:pt x="16" y="0"/>
                    <a:pt x="20" y="4"/>
                    <a:pt x="20" y="9"/>
                  </a:cubicBezTo>
                  <a:lnTo>
                    <a:pt x="20" y="9"/>
                  </a:lnTo>
                  <a:cubicBezTo>
                    <a:pt x="20" y="13"/>
                    <a:pt x="16" y="17"/>
                    <a:pt x="12" y="17"/>
                  </a:cubicBezTo>
                  <a:cubicBezTo>
                    <a:pt x="7" y="17"/>
                    <a:pt x="3" y="13"/>
                    <a:pt x="3" y="9"/>
                  </a:cubicBez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649680" y="5346720"/>
              <a:ext cx="3240" cy="453960"/>
            </a:xfrm>
            <a:custGeom>
              <a:avLst/>
              <a:gdLst/>
              <a:ahLst/>
              <a:rect l="l" t="t" r="r" b="b"/>
              <a:pathLst>
                <a:path w="20" h="2385">
                  <a:moveTo>
                    <a:pt x="0" y="2376"/>
                  </a:moveTo>
                  <a:lnTo>
                    <a:pt x="0" y="2376"/>
                  </a:lnTo>
                  <a:cubicBezTo>
                    <a:pt x="0" y="2372"/>
                    <a:pt x="4" y="2368"/>
                    <a:pt x="8" y="2368"/>
                  </a:cubicBezTo>
                  <a:cubicBezTo>
                    <a:pt x="13" y="2368"/>
                    <a:pt x="17" y="2372"/>
                    <a:pt x="17" y="2376"/>
                  </a:cubicBezTo>
                  <a:lnTo>
                    <a:pt x="17" y="2376"/>
                  </a:lnTo>
                  <a:cubicBezTo>
                    <a:pt x="17" y="2381"/>
                    <a:pt x="13" y="2385"/>
                    <a:pt x="8" y="2385"/>
                  </a:cubicBezTo>
                  <a:cubicBezTo>
                    <a:pt x="4" y="2385"/>
                    <a:pt x="0" y="2381"/>
                    <a:pt x="0" y="2376"/>
                  </a:cubicBezTo>
                  <a:close/>
                  <a:moveTo>
                    <a:pt x="0" y="2343"/>
                  </a:moveTo>
                  <a:lnTo>
                    <a:pt x="0" y="2343"/>
                  </a:lnTo>
                  <a:cubicBezTo>
                    <a:pt x="0" y="2338"/>
                    <a:pt x="4" y="2335"/>
                    <a:pt x="9" y="2335"/>
                  </a:cubicBezTo>
                  <a:cubicBezTo>
                    <a:pt x="13" y="2335"/>
                    <a:pt x="17" y="2338"/>
                    <a:pt x="17" y="2343"/>
                  </a:cubicBezTo>
                  <a:lnTo>
                    <a:pt x="17" y="2343"/>
                  </a:lnTo>
                  <a:cubicBezTo>
                    <a:pt x="17" y="2348"/>
                    <a:pt x="13" y="2351"/>
                    <a:pt x="9" y="2351"/>
                  </a:cubicBezTo>
                  <a:cubicBezTo>
                    <a:pt x="4" y="2351"/>
                    <a:pt x="0" y="2348"/>
                    <a:pt x="0" y="2343"/>
                  </a:cubicBezTo>
                  <a:close/>
                  <a:moveTo>
                    <a:pt x="0" y="2310"/>
                  </a:moveTo>
                  <a:lnTo>
                    <a:pt x="0" y="2310"/>
                  </a:lnTo>
                  <a:cubicBezTo>
                    <a:pt x="0" y="2305"/>
                    <a:pt x="4" y="2301"/>
                    <a:pt x="9" y="2301"/>
                  </a:cubicBezTo>
                  <a:cubicBezTo>
                    <a:pt x="13" y="2301"/>
                    <a:pt x="17" y="2305"/>
                    <a:pt x="17" y="2310"/>
                  </a:cubicBezTo>
                  <a:lnTo>
                    <a:pt x="17" y="2310"/>
                  </a:lnTo>
                  <a:cubicBezTo>
                    <a:pt x="17" y="2314"/>
                    <a:pt x="13" y="2318"/>
                    <a:pt x="9" y="2318"/>
                  </a:cubicBezTo>
                  <a:cubicBezTo>
                    <a:pt x="4" y="2318"/>
                    <a:pt x="0" y="2314"/>
                    <a:pt x="0" y="2310"/>
                  </a:cubicBezTo>
                  <a:close/>
                  <a:moveTo>
                    <a:pt x="0" y="2276"/>
                  </a:moveTo>
                  <a:lnTo>
                    <a:pt x="0" y="2276"/>
                  </a:lnTo>
                  <a:cubicBezTo>
                    <a:pt x="0" y="2272"/>
                    <a:pt x="4" y="2268"/>
                    <a:pt x="9" y="2268"/>
                  </a:cubicBezTo>
                  <a:cubicBezTo>
                    <a:pt x="13" y="2268"/>
                    <a:pt x="17" y="2272"/>
                    <a:pt x="17" y="2276"/>
                  </a:cubicBezTo>
                  <a:lnTo>
                    <a:pt x="17" y="2276"/>
                  </a:lnTo>
                  <a:cubicBezTo>
                    <a:pt x="17" y="2281"/>
                    <a:pt x="13" y="2285"/>
                    <a:pt x="9" y="2285"/>
                  </a:cubicBezTo>
                  <a:cubicBezTo>
                    <a:pt x="4" y="2285"/>
                    <a:pt x="0" y="2281"/>
                    <a:pt x="0" y="2276"/>
                  </a:cubicBezTo>
                  <a:close/>
                  <a:moveTo>
                    <a:pt x="0" y="2243"/>
                  </a:moveTo>
                  <a:lnTo>
                    <a:pt x="0" y="2243"/>
                  </a:lnTo>
                  <a:cubicBezTo>
                    <a:pt x="0" y="2238"/>
                    <a:pt x="4" y="2235"/>
                    <a:pt x="9" y="2235"/>
                  </a:cubicBezTo>
                  <a:cubicBezTo>
                    <a:pt x="13" y="2235"/>
                    <a:pt x="17" y="2238"/>
                    <a:pt x="17" y="2243"/>
                  </a:cubicBezTo>
                  <a:lnTo>
                    <a:pt x="17" y="2243"/>
                  </a:lnTo>
                  <a:cubicBezTo>
                    <a:pt x="17" y="2248"/>
                    <a:pt x="13" y="2251"/>
                    <a:pt x="9" y="2251"/>
                  </a:cubicBezTo>
                  <a:cubicBezTo>
                    <a:pt x="4" y="2251"/>
                    <a:pt x="0" y="2248"/>
                    <a:pt x="0" y="2243"/>
                  </a:cubicBezTo>
                  <a:close/>
                  <a:moveTo>
                    <a:pt x="0" y="2210"/>
                  </a:moveTo>
                  <a:lnTo>
                    <a:pt x="0" y="2210"/>
                  </a:lnTo>
                  <a:cubicBezTo>
                    <a:pt x="0" y="2205"/>
                    <a:pt x="4" y="2201"/>
                    <a:pt x="9" y="2201"/>
                  </a:cubicBezTo>
                  <a:cubicBezTo>
                    <a:pt x="13" y="2201"/>
                    <a:pt x="17" y="2205"/>
                    <a:pt x="17" y="2210"/>
                  </a:cubicBezTo>
                  <a:lnTo>
                    <a:pt x="17" y="2210"/>
                  </a:lnTo>
                  <a:cubicBezTo>
                    <a:pt x="17" y="2214"/>
                    <a:pt x="13" y="2218"/>
                    <a:pt x="9" y="2218"/>
                  </a:cubicBezTo>
                  <a:cubicBezTo>
                    <a:pt x="4" y="2218"/>
                    <a:pt x="0" y="2214"/>
                    <a:pt x="0" y="2210"/>
                  </a:cubicBezTo>
                  <a:close/>
                  <a:moveTo>
                    <a:pt x="0" y="2176"/>
                  </a:moveTo>
                  <a:lnTo>
                    <a:pt x="0" y="2176"/>
                  </a:lnTo>
                  <a:cubicBezTo>
                    <a:pt x="0" y="2172"/>
                    <a:pt x="4" y="2168"/>
                    <a:pt x="9" y="2168"/>
                  </a:cubicBezTo>
                  <a:cubicBezTo>
                    <a:pt x="13" y="2168"/>
                    <a:pt x="17" y="2172"/>
                    <a:pt x="17" y="2176"/>
                  </a:cubicBezTo>
                  <a:lnTo>
                    <a:pt x="17" y="2176"/>
                  </a:lnTo>
                  <a:cubicBezTo>
                    <a:pt x="17" y="2181"/>
                    <a:pt x="13" y="2185"/>
                    <a:pt x="9" y="2185"/>
                  </a:cubicBezTo>
                  <a:cubicBezTo>
                    <a:pt x="4" y="2185"/>
                    <a:pt x="0" y="2181"/>
                    <a:pt x="0" y="2176"/>
                  </a:cubicBezTo>
                  <a:close/>
                  <a:moveTo>
                    <a:pt x="0" y="2143"/>
                  </a:moveTo>
                  <a:lnTo>
                    <a:pt x="0" y="2143"/>
                  </a:lnTo>
                  <a:cubicBezTo>
                    <a:pt x="0" y="2138"/>
                    <a:pt x="4" y="2135"/>
                    <a:pt x="9" y="2135"/>
                  </a:cubicBezTo>
                  <a:cubicBezTo>
                    <a:pt x="13" y="2135"/>
                    <a:pt x="17" y="2138"/>
                    <a:pt x="17" y="2143"/>
                  </a:cubicBezTo>
                  <a:lnTo>
                    <a:pt x="17" y="2143"/>
                  </a:lnTo>
                  <a:cubicBezTo>
                    <a:pt x="17" y="2148"/>
                    <a:pt x="13" y="2151"/>
                    <a:pt x="9" y="2151"/>
                  </a:cubicBezTo>
                  <a:cubicBezTo>
                    <a:pt x="4" y="2151"/>
                    <a:pt x="0" y="2148"/>
                    <a:pt x="0" y="2143"/>
                  </a:cubicBezTo>
                  <a:close/>
                  <a:moveTo>
                    <a:pt x="1" y="2110"/>
                  </a:moveTo>
                  <a:lnTo>
                    <a:pt x="1" y="2110"/>
                  </a:lnTo>
                  <a:cubicBezTo>
                    <a:pt x="1" y="2105"/>
                    <a:pt x="4" y="2101"/>
                    <a:pt x="9" y="2101"/>
                  </a:cubicBezTo>
                  <a:cubicBezTo>
                    <a:pt x="13" y="2101"/>
                    <a:pt x="17" y="2105"/>
                    <a:pt x="17" y="2110"/>
                  </a:cubicBezTo>
                  <a:lnTo>
                    <a:pt x="17" y="2110"/>
                  </a:lnTo>
                  <a:cubicBezTo>
                    <a:pt x="17" y="2114"/>
                    <a:pt x="13" y="2118"/>
                    <a:pt x="9" y="2118"/>
                  </a:cubicBezTo>
                  <a:cubicBezTo>
                    <a:pt x="4" y="2118"/>
                    <a:pt x="1" y="2114"/>
                    <a:pt x="1" y="2110"/>
                  </a:cubicBezTo>
                  <a:close/>
                  <a:moveTo>
                    <a:pt x="1" y="2076"/>
                  </a:moveTo>
                  <a:lnTo>
                    <a:pt x="1" y="2076"/>
                  </a:lnTo>
                  <a:cubicBezTo>
                    <a:pt x="1" y="2072"/>
                    <a:pt x="4" y="2068"/>
                    <a:pt x="9" y="2068"/>
                  </a:cubicBezTo>
                  <a:cubicBezTo>
                    <a:pt x="13" y="2068"/>
                    <a:pt x="17" y="2072"/>
                    <a:pt x="17" y="2076"/>
                  </a:cubicBezTo>
                  <a:lnTo>
                    <a:pt x="17" y="2076"/>
                  </a:lnTo>
                  <a:cubicBezTo>
                    <a:pt x="17" y="2081"/>
                    <a:pt x="13" y="2085"/>
                    <a:pt x="9" y="2085"/>
                  </a:cubicBezTo>
                  <a:cubicBezTo>
                    <a:pt x="4" y="2085"/>
                    <a:pt x="1" y="2081"/>
                    <a:pt x="1" y="2076"/>
                  </a:cubicBezTo>
                  <a:close/>
                  <a:moveTo>
                    <a:pt x="1" y="2043"/>
                  </a:moveTo>
                  <a:lnTo>
                    <a:pt x="1" y="2043"/>
                  </a:lnTo>
                  <a:cubicBezTo>
                    <a:pt x="1" y="2038"/>
                    <a:pt x="4" y="2035"/>
                    <a:pt x="9" y="2035"/>
                  </a:cubicBezTo>
                  <a:cubicBezTo>
                    <a:pt x="14" y="2035"/>
                    <a:pt x="17" y="2038"/>
                    <a:pt x="17" y="2043"/>
                  </a:cubicBezTo>
                  <a:lnTo>
                    <a:pt x="17" y="2043"/>
                  </a:lnTo>
                  <a:cubicBezTo>
                    <a:pt x="17" y="2048"/>
                    <a:pt x="14" y="2051"/>
                    <a:pt x="9" y="2051"/>
                  </a:cubicBezTo>
                  <a:cubicBezTo>
                    <a:pt x="4" y="2051"/>
                    <a:pt x="1" y="2048"/>
                    <a:pt x="1" y="2043"/>
                  </a:cubicBezTo>
                  <a:close/>
                  <a:moveTo>
                    <a:pt x="1" y="2010"/>
                  </a:moveTo>
                  <a:lnTo>
                    <a:pt x="1" y="2010"/>
                  </a:lnTo>
                  <a:cubicBezTo>
                    <a:pt x="1" y="2005"/>
                    <a:pt x="4" y="2001"/>
                    <a:pt x="9" y="2001"/>
                  </a:cubicBezTo>
                  <a:cubicBezTo>
                    <a:pt x="14" y="2001"/>
                    <a:pt x="17" y="2005"/>
                    <a:pt x="17" y="2010"/>
                  </a:cubicBezTo>
                  <a:lnTo>
                    <a:pt x="17" y="2010"/>
                  </a:lnTo>
                  <a:cubicBezTo>
                    <a:pt x="17" y="2014"/>
                    <a:pt x="14" y="2018"/>
                    <a:pt x="9" y="2018"/>
                  </a:cubicBezTo>
                  <a:cubicBezTo>
                    <a:pt x="4" y="2018"/>
                    <a:pt x="1" y="2014"/>
                    <a:pt x="1" y="2010"/>
                  </a:cubicBezTo>
                  <a:close/>
                  <a:moveTo>
                    <a:pt x="1" y="1976"/>
                  </a:moveTo>
                  <a:lnTo>
                    <a:pt x="1" y="1976"/>
                  </a:lnTo>
                  <a:cubicBezTo>
                    <a:pt x="1" y="1972"/>
                    <a:pt x="4" y="1968"/>
                    <a:pt x="9" y="1968"/>
                  </a:cubicBezTo>
                  <a:cubicBezTo>
                    <a:pt x="14" y="1968"/>
                    <a:pt x="17" y="1972"/>
                    <a:pt x="17" y="1976"/>
                  </a:cubicBezTo>
                  <a:lnTo>
                    <a:pt x="17" y="1976"/>
                  </a:lnTo>
                  <a:cubicBezTo>
                    <a:pt x="17" y="1981"/>
                    <a:pt x="14" y="1985"/>
                    <a:pt x="9" y="1985"/>
                  </a:cubicBezTo>
                  <a:cubicBezTo>
                    <a:pt x="4" y="1985"/>
                    <a:pt x="1" y="1981"/>
                    <a:pt x="1" y="1976"/>
                  </a:cubicBezTo>
                  <a:close/>
                  <a:moveTo>
                    <a:pt x="1" y="1943"/>
                  </a:moveTo>
                  <a:lnTo>
                    <a:pt x="1" y="1943"/>
                  </a:lnTo>
                  <a:cubicBezTo>
                    <a:pt x="1" y="1938"/>
                    <a:pt x="4" y="1935"/>
                    <a:pt x="9" y="1935"/>
                  </a:cubicBezTo>
                  <a:cubicBezTo>
                    <a:pt x="14" y="1935"/>
                    <a:pt x="17" y="1938"/>
                    <a:pt x="17" y="1943"/>
                  </a:cubicBezTo>
                  <a:lnTo>
                    <a:pt x="17" y="1943"/>
                  </a:lnTo>
                  <a:cubicBezTo>
                    <a:pt x="17" y="1948"/>
                    <a:pt x="14" y="1951"/>
                    <a:pt x="9" y="1951"/>
                  </a:cubicBezTo>
                  <a:cubicBezTo>
                    <a:pt x="4" y="1951"/>
                    <a:pt x="1" y="1948"/>
                    <a:pt x="1" y="1943"/>
                  </a:cubicBezTo>
                  <a:close/>
                  <a:moveTo>
                    <a:pt x="1" y="1910"/>
                  </a:moveTo>
                  <a:lnTo>
                    <a:pt x="1" y="1910"/>
                  </a:lnTo>
                  <a:cubicBezTo>
                    <a:pt x="1" y="1905"/>
                    <a:pt x="5" y="1901"/>
                    <a:pt x="9" y="1901"/>
                  </a:cubicBezTo>
                  <a:cubicBezTo>
                    <a:pt x="14" y="1901"/>
                    <a:pt x="17" y="1905"/>
                    <a:pt x="17" y="1910"/>
                  </a:cubicBezTo>
                  <a:lnTo>
                    <a:pt x="17" y="1910"/>
                  </a:lnTo>
                  <a:cubicBezTo>
                    <a:pt x="17" y="1914"/>
                    <a:pt x="14" y="1918"/>
                    <a:pt x="9" y="1918"/>
                  </a:cubicBezTo>
                  <a:cubicBezTo>
                    <a:pt x="5" y="1918"/>
                    <a:pt x="1" y="1914"/>
                    <a:pt x="1" y="1910"/>
                  </a:cubicBezTo>
                  <a:close/>
                  <a:moveTo>
                    <a:pt x="1" y="1876"/>
                  </a:moveTo>
                  <a:lnTo>
                    <a:pt x="1" y="1876"/>
                  </a:lnTo>
                  <a:cubicBezTo>
                    <a:pt x="1" y="1872"/>
                    <a:pt x="5" y="1868"/>
                    <a:pt x="9" y="1868"/>
                  </a:cubicBezTo>
                  <a:cubicBezTo>
                    <a:pt x="14" y="1868"/>
                    <a:pt x="17" y="1872"/>
                    <a:pt x="17" y="1876"/>
                  </a:cubicBezTo>
                  <a:lnTo>
                    <a:pt x="17" y="1876"/>
                  </a:lnTo>
                  <a:cubicBezTo>
                    <a:pt x="17" y="1881"/>
                    <a:pt x="14" y="1885"/>
                    <a:pt x="9" y="1885"/>
                  </a:cubicBezTo>
                  <a:cubicBezTo>
                    <a:pt x="5" y="1885"/>
                    <a:pt x="1" y="1881"/>
                    <a:pt x="1" y="1876"/>
                  </a:cubicBezTo>
                  <a:close/>
                  <a:moveTo>
                    <a:pt x="1" y="1843"/>
                  </a:moveTo>
                  <a:lnTo>
                    <a:pt x="1" y="1843"/>
                  </a:lnTo>
                  <a:cubicBezTo>
                    <a:pt x="1" y="1838"/>
                    <a:pt x="5" y="1834"/>
                    <a:pt x="9" y="1834"/>
                  </a:cubicBezTo>
                  <a:cubicBezTo>
                    <a:pt x="14" y="1834"/>
                    <a:pt x="18" y="1838"/>
                    <a:pt x="18" y="1843"/>
                  </a:cubicBezTo>
                  <a:lnTo>
                    <a:pt x="18" y="1843"/>
                  </a:lnTo>
                  <a:cubicBezTo>
                    <a:pt x="18" y="1847"/>
                    <a:pt x="14" y="1851"/>
                    <a:pt x="9" y="1851"/>
                  </a:cubicBezTo>
                  <a:cubicBezTo>
                    <a:pt x="5" y="1851"/>
                    <a:pt x="1" y="1847"/>
                    <a:pt x="1" y="1843"/>
                  </a:cubicBezTo>
                  <a:close/>
                  <a:moveTo>
                    <a:pt x="1" y="1809"/>
                  </a:moveTo>
                  <a:lnTo>
                    <a:pt x="1" y="1809"/>
                  </a:lnTo>
                  <a:cubicBezTo>
                    <a:pt x="1" y="1805"/>
                    <a:pt x="5" y="1801"/>
                    <a:pt x="9" y="1801"/>
                  </a:cubicBezTo>
                  <a:cubicBezTo>
                    <a:pt x="14" y="1801"/>
                    <a:pt x="18" y="1805"/>
                    <a:pt x="18" y="1809"/>
                  </a:cubicBezTo>
                  <a:lnTo>
                    <a:pt x="18" y="1809"/>
                  </a:lnTo>
                  <a:cubicBezTo>
                    <a:pt x="18" y="1814"/>
                    <a:pt x="14" y="1818"/>
                    <a:pt x="9" y="1818"/>
                  </a:cubicBezTo>
                  <a:cubicBezTo>
                    <a:pt x="5" y="1818"/>
                    <a:pt x="1" y="1814"/>
                    <a:pt x="1" y="1809"/>
                  </a:cubicBezTo>
                  <a:close/>
                  <a:moveTo>
                    <a:pt x="1" y="1776"/>
                  </a:moveTo>
                  <a:lnTo>
                    <a:pt x="1" y="1776"/>
                  </a:lnTo>
                  <a:cubicBezTo>
                    <a:pt x="1" y="1772"/>
                    <a:pt x="5" y="1768"/>
                    <a:pt x="9" y="1768"/>
                  </a:cubicBezTo>
                  <a:cubicBezTo>
                    <a:pt x="14" y="1768"/>
                    <a:pt x="18" y="1772"/>
                    <a:pt x="18" y="1776"/>
                  </a:cubicBezTo>
                  <a:lnTo>
                    <a:pt x="18" y="1776"/>
                  </a:lnTo>
                  <a:cubicBezTo>
                    <a:pt x="18" y="1781"/>
                    <a:pt x="14" y="1784"/>
                    <a:pt x="9" y="1784"/>
                  </a:cubicBezTo>
                  <a:cubicBezTo>
                    <a:pt x="5" y="1784"/>
                    <a:pt x="1" y="1781"/>
                    <a:pt x="1" y="1776"/>
                  </a:cubicBezTo>
                  <a:close/>
                  <a:moveTo>
                    <a:pt x="1" y="1743"/>
                  </a:moveTo>
                  <a:lnTo>
                    <a:pt x="1" y="1743"/>
                  </a:lnTo>
                  <a:cubicBezTo>
                    <a:pt x="1" y="1738"/>
                    <a:pt x="5" y="1734"/>
                    <a:pt x="9" y="1734"/>
                  </a:cubicBezTo>
                  <a:cubicBezTo>
                    <a:pt x="14" y="1734"/>
                    <a:pt x="18" y="1738"/>
                    <a:pt x="18" y="1743"/>
                  </a:cubicBezTo>
                  <a:lnTo>
                    <a:pt x="18" y="1743"/>
                  </a:lnTo>
                  <a:cubicBezTo>
                    <a:pt x="18" y="1747"/>
                    <a:pt x="14" y="1751"/>
                    <a:pt x="9" y="1751"/>
                  </a:cubicBezTo>
                  <a:cubicBezTo>
                    <a:pt x="5" y="1751"/>
                    <a:pt x="1" y="1747"/>
                    <a:pt x="1" y="1743"/>
                  </a:cubicBezTo>
                  <a:close/>
                  <a:moveTo>
                    <a:pt x="1" y="1709"/>
                  </a:moveTo>
                  <a:lnTo>
                    <a:pt x="1" y="1709"/>
                  </a:lnTo>
                  <a:cubicBezTo>
                    <a:pt x="1" y="1705"/>
                    <a:pt x="5" y="1701"/>
                    <a:pt x="9" y="1701"/>
                  </a:cubicBezTo>
                  <a:cubicBezTo>
                    <a:pt x="14" y="1701"/>
                    <a:pt x="18" y="1705"/>
                    <a:pt x="18" y="1709"/>
                  </a:cubicBezTo>
                  <a:lnTo>
                    <a:pt x="18" y="1709"/>
                  </a:lnTo>
                  <a:cubicBezTo>
                    <a:pt x="18" y="1714"/>
                    <a:pt x="14" y="1718"/>
                    <a:pt x="9" y="1718"/>
                  </a:cubicBezTo>
                  <a:cubicBezTo>
                    <a:pt x="5" y="1718"/>
                    <a:pt x="1" y="1714"/>
                    <a:pt x="1" y="1709"/>
                  </a:cubicBezTo>
                  <a:close/>
                  <a:moveTo>
                    <a:pt x="1" y="1676"/>
                  </a:moveTo>
                  <a:lnTo>
                    <a:pt x="1" y="1676"/>
                  </a:lnTo>
                  <a:cubicBezTo>
                    <a:pt x="1" y="1671"/>
                    <a:pt x="5" y="1668"/>
                    <a:pt x="9" y="1668"/>
                  </a:cubicBezTo>
                  <a:cubicBezTo>
                    <a:pt x="14" y="1668"/>
                    <a:pt x="18" y="1671"/>
                    <a:pt x="18" y="1676"/>
                  </a:cubicBezTo>
                  <a:lnTo>
                    <a:pt x="18" y="1676"/>
                  </a:lnTo>
                  <a:cubicBezTo>
                    <a:pt x="18" y="1681"/>
                    <a:pt x="14" y="1684"/>
                    <a:pt x="9" y="1684"/>
                  </a:cubicBezTo>
                  <a:cubicBezTo>
                    <a:pt x="5" y="1684"/>
                    <a:pt x="1" y="1681"/>
                    <a:pt x="1" y="1676"/>
                  </a:cubicBezTo>
                  <a:close/>
                  <a:moveTo>
                    <a:pt x="1" y="1643"/>
                  </a:moveTo>
                  <a:lnTo>
                    <a:pt x="1" y="1643"/>
                  </a:lnTo>
                  <a:cubicBezTo>
                    <a:pt x="1" y="1638"/>
                    <a:pt x="5" y="1634"/>
                    <a:pt x="9" y="1634"/>
                  </a:cubicBezTo>
                  <a:cubicBezTo>
                    <a:pt x="14" y="1634"/>
                    <a:pt x="18" y="1638"/>
                    <a:pt x="18" y="1643"/>
                  </a:cubicBezTo>
                  <a:lnTo>
                    <a:pt x="18" y="1643"/>
                  </a:lnTo>
                  <a:cubicBezTo>
                    <a:pt x="18" y="1647"/>
                    <a:pt x="14" y="1651"/>
                    <a:pt x="9" y="1651"/>
                  </a:cubicBezTo>
                  <a:cubicBezTo>
                    <a:pt x="5" y="1651"/>
                    <a:pt x="1" y="1647"/>
                    <a:pt x="1" y="1643"/>
                  </a:cubicBezTo>
                  <a:close/>
                  <a:moveTo>
                    <a:pt x="1" y="1609"/>
                  </a:moveTo>
                  <a:lnTo>
                    <a:pt x="1" y="1609"/>
                  </a:lnTo>
                  <a:cubicBezTo>
                    <a:pt x="1" y="1605"/>
                    <a:pt x="5" y="1601"/>
                    <a:pt x="10" y="1601"/>
                  </a:cubicBezTo>
                  <a:cubicBezTo>
                    <a:pt x="14" y="1601"/>
                    <a:pt x="18" y="1605"/>
                    <a:pt x="18" y="1609"/>
                  </a:cubicBezTo>
                  <a:lnTo>
                    <a:pt x="18" y="1609"/>
                  </a:lnTo>
                  <a:cubicBezTo>
                    <a:pt x="18" y="1614"/>
                    <a:pt x="14" y="1618"/>
                    <a:pt x="10" y="1618"/>
                  </a:cubicBezTo>
                  <a:cubicBezTo>
                    <a:pt x="5" y="1618"/>
                    <a:pt x="1" y="1614"/>
                    <a:pt x="1" y="1609"/>
                  </a:cubicBezTo>
                  <a:close/>
                  <a:moveTo>
                    <a:pt x="1" y="1576"/>
                  </a:moveTo>
                  <a:lnTo>
                    <a:pt x="1" y="1576"/>
                  </a:lnTo>
                  <a:cubicBezTo>
                    <a:pt x="1" y="1571"/>
                    <a:pt x="5" y="1568"/>
                    <a:pt x="10" y="1568"/>
                  </a:cubicBezTo>
                  <a:cubicBezTo>
                    <a:pt x="14" y="1568"/>
                    <a:pt x="18" y="1571"/>
                    <a:pt x="18" y="1576"/>
                  </a:cubicBezTo>
                  <a:lnTo>
                    <a:pt x="18" y="1576"/>
                  </a:lnTo>
                  <a:cubicBezTo>
                    <a:pt x="18" y="1581"/>
                    <a:pt x="14" y="1584"/>
                    <a:pt x="10" y="1584"/>
                  </a:cubicBezTo>
                  <a:cubicBezTo>
                    <a:pt x="5" y="1584"/>
                    <a:pt x="1" y="1581"/>
                    <a:pt x="1" y="1576"/>
                  </a:cubicBezTo>
                  <a:close/>
                  <a:moveTo>
                    <a:pt x="1" y="1543"/>
                  </a:moveTo>
                  <a:lnTo>
                    <a:pt x="1" y="1543"/>
                  </a:lnTo>
                  <a:cubicBezTo>
                    <a:pt x="1" y="1538"/>
                    <a:pt x="5" y="1534"/>
                    <a:pt x="10" y="1534"/>
                  </a:cubicBezTo>
                  <a:cubicBezTo>
                    <a:pt x="14" y="1534"/>
                    <a:pt x="18" y="1538"/>
                    <a:pt x="18" y="1543"/>
                  </a:cubicBezTo>
                  <a:lnTo>
                    <a:pt x="18" y="1543"/>
                  </a:lnTo>
                  <a:cubicBezTo>
                    <a:pt x="18" y="1547"/>
                    <a:pt x="14" y="1551"/>
                    <a:pt x="10" y="1551"/>
                  </a:cubicBezTo>
                  <a:cubicBezTo>
                    <a:pt x="5" y="1551"/>
                    <a:pt x="1" y="1547"/>
                    <a:pt x="1" y="1543"/>
                  </a:cubicBezTo>
                  <a:close/>
                  <a:moveTo>
                    <a:pt x="1" y="1509"/>
                  </a:moveTo>
                  <a:lnTo>
                    <a:pt x="1" y="1509"/>
                  </a:lnTo>
                  <a:cubicBezTo>
                    <a:pt x="1" y="1505"/>
                    <a:pt x="5" y="1501"/>
                    <a:pt x="10" y="1501"/>
                  </a:cubicBezTo>
                  <a:cubicBezTo>
                    <a:pt x="14" y="1501"/>
                    <a:pt x="18" y="1505"/>
                    <a:pt x="18" y="1509"/>
                  </a:cubicBezTo>
                  <a:lnTo>
                    <a:pt x="18" y="1509"/>
                  </a:lnTo>
                  <a:cubicBezTo>
                    <a:pt x="18" y="1514"/>
                    <a:pt x="14" y="1518"/>
                    <a:pt x="10" y="1518"/>
                  </a:cubicBezTo>
                  <a:cubicBezTo>
                    <a:pt x="5" y="1518"/>
                    <a:pt x="1" y="1514"/>
                    <a:pt x="1" y="1509"/>
                  </a:cubicBezTo>
                  <a:close/>
                  <a:moveTo>
                    <a:pt x="1" y="1476"/>
                  </a:moveTo>
                  <a:lnTo>
                    <a:pt x="1" y="1476"/>
                  </a:lnTo>
                  <a:cubicBezTo>
                    <a:pt x="1" y="1471"/>
                    <a:pt x="5" y="1468"/>
                    <a:pt x="10" y="1468"/>
                  </a:cubicBezTo>
                  <a:cubicBezTo>
                    <a:pt x="14" y="1468"/>
                    <a:pt x="18" y="1471"/>
                    <a:pt x="18" y="1476"/>
                  </a:cubicBezTo>
                  <a:lnTo>
                    <a:pt x="18" y="1476"/>
                  </a:lnTo>
                  <a:cubicBezTo>
                    <a:pt x="18" y="1481"/>
                    <a:pt x="14" y="1484"/>
                    <a:pt x="10" y="1484"/>
                  </a:cubicBezTo>
                  <a:cubicBezTo>
                    <a:pt x="5" y="1484"/>
                    <a:pt x="1" y="1481"/>
                    <a:pt x="1" y="1476"/>
                  </a:cubicBezTo>
                  <a:close/>
                  <a:moveTo>
                    <a:pt x="1" y="1443"/>
                  </a:moveTo>
                  <a:lnTo>
                    <a:pt x="1" y="1443"/>
                  </a:lnTo>
                  <a:cubicBezTo>
                    <a:pt x="1" y="1438"/>
                    <a:pt x="5" y="1434"/>
                    <a:pt x="10" y="1434"/>
                  </a:cubicBezTo>
                  <a:cubicBezTo>
                    <a:pt x="14" y="1434"/>
                    <a:pt x="18" y="1438"/>
                    <a:pt x="18" y="1443"/>
                  </a:cubicBezTo>
                  <a:lnTo>
                    <a:pt x="18" y="1443"/>
                  </a:lnTo>
                  <a:cubicBezTo>
                    <a:pt x="18" y="1447"/>
                    <a:pt x="14" y="1451"/>
                    <a:pt x="10" y="1451"/>
                  </a:cubicBezTo>
                  <a:cubicBezTo>
                    <a:pt x="5" y="1451"/>
                    <a:pt x="1" y="1447"/>
                    <a:pt x="1" y="1443"/>
                  </a:cubicBezTo>
                  <a:close/>
                  <a:moveTo>
                    <a:pt x="1" y="1409"/>
                  </a:moveTo>
                  <a:lnTo>
                    <a:pt x="1" y="1409"/>
                  </a:lnTo>
                  <a:cubicBezTo>
                    <a:pt x="1" y="1405"/>
                    <a:pt x="5" y="1401"/>
                    <a:pt x="10" y="1401"/>
                  </a:cubicBezTo>
                  <a:cubicBezTo>
                    <a:pt x="14" y="1401"/>
                    <a:pt x="18" y="1405"/>
                    <a:pt x="18" y="1409"/>
                  </a:cubicBezTo>
                  <a:lnTo>
                    <a:pt x="18" y="1409"/>
                  </a:lnTo>
                  <a:cubicBezTo>
                    <a:pt x="18" y="1414"/>
                    <a:pt x="14" y="1418"/>
                    <a:pt x="10" y="1418"/>
                  </a:cubicBezTo>
                  <a:cubicBezTo>
                    <a:pt x="5" y="1418"/>
                    <a:pt x="1" y="1414"/>
                    <a:pt x="1" y="1409"/>
                  </a:cubicBezTo>
                  <a:close/>
                  <a:moveTo>
                    <a:pt x="2" y="1376"/>
                  </a:moveTo>
                  <a:lnTo>
                    <a:pt x="2" y="1376"/>
                  </a:lnTo>
                  <a:cubicBezTo>
                    <a:pt x="2" y="1371"/>
                    <a:pt x="5" y="1368"/>
                    <a:pt x="10" y="1368"/>
                  </a:cubicBezTo>
                  <a:cubicBezTo>
                    <a:pt x="14" y="1368"/>
                    <a:pt x="18" y="1371"/>
                    <a:pt x="18" y="1376"/>
                  </a:cubicBezTo>
                  <a:lnTo>
                    <a:pt x="18" y="1376"/>
                  </a:lnTo>
                  <a:cubicBezTo>
                    <a:pt x="18" y="1381"/>
                    <a:pt x="14" y="1384"/>
                    <a:pt x="10" y="1384"/>
                  </a:cubicBezTo>
                  <a:cubicBezTo>
                    <a:pt x="5" y="1384"/>
                    <a:pt x="2" y="1381"/>
                    <a:pt x="2" y="1376"/>
                  </a:cubicBezTo>
                  <a:close/>
                  <a:moveTo>
                    <a:pt x="2" y="1343"/>
                  </a:moveTo>
                  <a:lnTo>
                    <a:pt x="2" y="1343"/>
                  </a:lnTo>
                  <a:cubicBezTo>
                    <a:pt x="2" y="1338"/>
                    <a:pt x="5" y="1334"/>
                    <a:pt x="10" y="1334"/>
                  </a:cubicBezTo>
                  <a:cubicBezTo>
                    <a:pt x="14" y="1334"/>
                    <a:pt x="18" y="1338"/>
                    <a:pt x="18" y="1343"/>
                  </a:cubicBezTo>
                  <a:lnTo>
                    <a:pt x="18" y="1343"/>
                  </a:lnTo>
                  <a:cubicBezTo>
                    <a:pt x="18" y="1347"/>
                    <a:pt x="14" y="1351"/>
                    <a:pt x="10" y="1351"/>
                  </a:cubicBezTo>
                  <a:cubicBezTo>
                    <a:pt x="5" y="1351"/>
                    <a:pt x="2" y="1347"/>
                    <a:pt x="2" y="1343"/>
                  </a:cubicBezTo>
                  <a:close/>
                  <a:moveTo>
                    <a:pt x="2" y="1309"/>
                  </a:moveTo>
                  <a:lnTo>
                    <a:pt x="2" y="1309"/>
                  </a:lnTo>
                  <a:cubicBezTo>
                    <a:pt x="2" y="1305"/>
                    <a:pt x="5" y="1301"/>
                    <a:pt x="10" y="1301"/>
                  </a:cubicBezTo>
                  <a:cubicBezTo>
                    <a:pt x="15" y="1301"/>
                    <a:pt x="18" y="1305"/>
                    <a:pt x="18" y="1309"/>
                  </a:cubicBezTo>
                  <a:lnTo>
                    <a:pt x="18" y="1309"/>
                  </a:lnTo>
                  <a:cubicBezTo>
                    <a:pt x="18" y="1314"/>
                    <a:pt x="15" y="1318"/>
                    <a:pt x="10" y="1318"/>
                  </a:cubicBezTo>
                  <a:cubicBezTo>
                    <a:pt x="5" y="1318"/>
                    <a:pt x="2" y="1314"/>
                    <a:pt x="2" y="1309"/>
                  </a:cubicBezTo>
                  <a:close/>
                  <a:moveTo>
                    <a:pt x="2" y="1276"/>
                  </a:moveTo>
                  <a:lnTo>
                    <a:pt x="2" y="1276"/>
                  </a:lnTo>
                  <a:cubicBezTo>
                    <a:pt x="2" y="1271"/>
                    <a:pt x="5" y="1268"/>
                    <a:pt x="10" y="1268"/>
                  </a:cubicBezTo>
                  <a:cubicBezTo>
                    <a:pt x="15" y="1268"/>
                    <a:pt x="18" y="1271"/>
                    <a:pt x="18" y="1276"/>
                  </a:cubicBezTo>
                  <a:lnTo>
                    <a:pt x="18" y="1276"/>
                  </a:lnTo>
                  <a:cubicBezTo>
                    <a:pt x="18" y="1280"/>
                    <a:pt x="15" y="1284"/>
                    <a:pt x="10" y="1284"/>
                  </a:cubicBezTo>
                  <a:cubicBezTo>
                    <a:pt x="5" y="1284"/>
                    <a:pt x="2" y="1280"/>
                    <a:pt x="2" y="1276"/>
                  </a:cubicBezTo>
                  <a:close/>
                  <a:moveTo>
                    <a:pt x="2" y="1243"/>
                  </a:moveTo>
                  <a:lnTo>
                    <a:pt x="2" y="1242"/>
                  </a:lnTo>
                  <a:cubicBezTo>
                    <a:pt x="2" y="1238"/>
                    <a:pt x="5" y="1234"/>
                    <a:pt x="10" y="1234"/>
                  </a:cubicBezTo>
                  <a:cubicBezTo>
                    <a:pt x="15" y="1234"/>
                    <a:pt x="18" y="1238"/>
                    <a:pt x="18" y="1242"/>
                  </a:cubicBezTo>
                  <a:lnTo>
                    <a:pt x="18" y="1243"/>
                  </a:lnTo>
                  <a:cubicBezTo>
                    <a:pt x="18" y="1247"/>
                    <a:pt x="15" y="1251"/>
                    <a:pt x="10" y="1251"/>
                  </a:cubicBezTo>
                  <a:cubicBezTo>
                    <a:pt x="5" y="1251"/>
                    <a:pt x="2" y="1247"/>
                    <a:pt x="2" y="1243"/>
                  </a:cubicBezTo>
                  <a:close/>
                  <a:moveTo>
                    <a:pt x="2" y="1209"/>
                  </a:moveTo>
                  <a:lnTo>
                    <a:pt x="2" y="1209"/>
                  </a:lnTo>
                  <a:cubicBezTo>
                    <a:pt x="2" y="1205"/>
                    <a:pt x="5" y="1201"/>
                    <a:pt x="10" y="1201"/>
                  </a:cubicBezTo>
                  <a:cubicBezTo>
                    <a:pt x="15" y="1201"/>
                    <a:pt x="18" y="1205"/>
                    <a:pt x="18" y="1209"/>
                  </a:cubicBezTo>
                  <a:lnTo>
                    <a:pt x="18" y="1209"/>
                  </a:lnTo>
                  <a:cubicBezTo>
                    <a:pt x="18" y="1214"/>
                    <a:pt x="15" y="1217"/>
                    <a:pt x="10" y="1217"/>
                  </a:cubicBezTo>
                  <a:cubicBezTo>
                    <a:pt x="5" y="1217"/>
                    <a:pt x="2" y="1214"/>
                    <a:pt x="2" y="1209"/>
                  </a:cubicBezTo>
                  <a:close/>
                  <a:moveTo>
                    <a:pt x="2" y="1176"/>
                  </a:moveTo>
                  <a:lnTo>
                    <a:pt x="2" y="1176"/>
                  </a:lnTo>
                  <a:cubicBezTo>
                    <a:pt x="2" y="1171"/>
                    <a:pt x="6" y="1167"/>
                    <a:pt x="10" y="1167"/>
                  </a:cubicBezTo>
                  <a:cubicBezTo>
                    <a:pt x="15" y="1167"/>
                    <a:pt x="18" y="1171"/>
                    <a:pt x="18" y="1176"/>
                  </a:cubicBezTo>
                  <a:lnTo>
                    <a:pt x="18" y="1176"/>
                  </a:lnTo>
                  <a:cubicBezTo>
                    <a:pt x="18" y="1180"/>
                    <a:pt x="15" y="1184"/>
                    <a:pt x="10" y="1184"/>
                  </a:cubicBezTo>
                  <a:cubicBezTo>
                    <a:pt x="6" y="1184"/>
                    <a:pt x="2" y="1180"/>
                    <a:pt x="2" y="1176"/>
                  </a:cubicBezTo>
                  <a:close/>
                  <a:moveTo>
                    <a:pt x="2" y="1142"/>
                  </a:moveTo>
                  <a:lnTo>
                    <a:pt x="2" y="1142"/>
                  </a:lnTo>
                  <a:cubicBezTo>
                    <a:pt x="2" y="1138"/>
                    <a:pt x="6" y="1134"/>
                    <a:pt x="10" y="1134"/>
                  </a:cubicBezTo>
                  <a:cubicBezTo>
                    <a:pt x="15" y="1134"/>
                    <a:pt x="19" y="1138"/>
                    <a:pt x="19" y="1142"/>
                  </a:cubicBezTo>
                  <a:lnTo>
                    <a:pt x="19" y="1142"/>
                  </a:lnTo>
                  <a:cubicBezTo>
                    <a:pt x="19" y="1147"/>
                    <a:pt x="15" y="1151"/>
                    <a:pt x="10" y="1151"/>
                  </a:cubicBezTo>
                  <a:cubicBezTo>
                    <a:pt x="6" y="1151"/>
                    <a:pt x="2" y="1147"/>
                    <a:pt x="2" y="1142"/>
                  </a:cubicBezTo>
                  <a:close/>
                  <a:moveTo>
                    <a:pt x="2" y="1109"/>
                  </a:moveTo>
                  <a:lnTo>
                    <a:pt x="2" y="1109"/>
                  </a:lnTo>
                  <a:cubicBezTo>
                    <a:pt x="2" y="1104"/>
                    <a:pt x="6" y="1101"/>
                    <a:pt x="10" y="1101"/>
                  </a:cubicBezTo>
                  <a:cubicBezTo>
                    <a:pt x="15" y="1101"/>
                    <a:pt x="19" y="1104"/>
                    <a:pt x="19" y="1109"/>
                  </a:cubicBezTo>
                  <a:lnTo>
                    <a:pt x="19" y="1109"/>
                  </a:lnTo>
                  <a:cubicBezTo>
                    <a:pt x="19" y="1114"/>
                    <a:pt x="15" y="1117"/>
                    <a:pt x="10" y="1117"/>
                  </a:cubicBezTo>
                  <a:cubicBezTo>
                    <a:pt x="6" y="1117"/>
                    <a:pt x="2" y="1114"/>
                    <a:pt x="2" y="1109"/>
                  </a:cubicBezTo>
                  <a:close/>
                  <a:moveTo>
                    <a:pt x="2" y="1076"/>
                  </a:moveTo>
                  <a:lnTo>
                    <a:pt x="2" y="1076"/>
                  </a:lnTo>
                  <a:cubicBezTo>
                    <a:pt x="2" y="1071"/>
                    <a:pt x="6" y="1067"/>
                    <a:pt x="10" y="1067"/>
                  </a:cubicBezTo>
                  <a:cubicBezTo>
                    <a:pt x="15" y="1067"/>
                    <a:pt x="19" y="1071"/>
                    <a:pt x="19" y="1076"/>
                  </a:cubicBezTo>
                  <a:lnTo>
                    <a:pt x="19" y="1076"/>
                  </a:lnTo>
                  <a:cubicBezTo>
                    <a:pt x="19" y="1080"/>
                    <a:pt x="15" y="1084"/>
                    <a:pt x="10" y="1084"/>
                  </a:cubicBezTo>
                  <a:cubicBezTo>
                    <a:pt x="6" y="1084"/>
                    <a:pt x="2" y="1080"/>
                    <a:pt x="2" y="1076"/>
                  </a:cubicBezTo>
                  <a:close/>
                  <a:moveTo>
                    <a:pt x="2" y="1042"/>
                  </a:moveTo>
                  <a:lnTo>
                    <a:pt x="2" y="1042"/>
                  </a:lnTo>
                  <a:cubicBezTo>
                    <a:pt x="2" y="1038"/>
                    <a:pt x="6" y="1034"/>
                    <a:pt x="10" y="1034"/>
                  </a:cubicBezTo>
                  <a:cubicBezTo>
                    <a:pt x="15" y="1034"/>
                    <a:pt x="19" y="1038"/>
                    <a:pt x="19" y="1042"/>
                  </a:cubicBezTo>
                  <a:lnTo>
                    <a:pt x="19" y="1042"/>
                  </a:lnTo>
                  <a:cubicBezTo>
                    <a:pt x="19" y="1047"/>
                    <a:pt x="15" y="1051"/>
                    <a:pt x="10" y="1051"/>
                  </a:cubicBezTo>
                  <a:cubicBezTo>
                    <a:pt x="6" y="1051"/>
                    <a:pt x="2" y="1047"/>
                    <a:pt x="2" y="1042"/>
                  </a:cubicBezTo>
                  <a:close/>
                  <a:moveTo>
                    <a:pt x="2" y="1009"/>
                  </a:moveTo>
                  <a:lnTo>
                    <a:pt x="2" y="1009"/>
                  </a:lnTo>
                  <a:cubicBezTo>
                    <a:pt x="2" y="1004"/>
                    <a:pt x="6" y="1001"/>
                    <a:pt x="10" y="1001"/>
                  </a:cubicBezTo>
                  <a:cubicBezTo>
                    <a:pt x="15" y="1001"/>
                    <a:pt x="19" y="1004"/>
                    <a:pt x="19" y="1009"/>
                  </a:cubicBezTo>
                  <a:lnTo>
                    <a:pt x="19" y="1009"/>
                  </a:lnTo>
                  <a:cubicBezTo>
                    <a:pt x="19" y="1014"/>
                    <a:pt x="15" y="1017"/>
                    <a:pt x="10" y="1017"/>
                  </a:cubicBezTo>
                  <a:cubicBezTo>
                    <a:pt x="6" y="1017"/>
                    <a:pt x="2" y="1014"/>
                    <a:pt x="2" y="1009"/>
                  </a:cubicBezTo>
                  <a:close/>
                  <a:moveTo>
                    <a:pt x="2" y="976"/>
                  </a:moveTo>
                  <a:lnTo>
                    <a:pt x="2" y="976"/>
                  </a:lnTo>
                  <a:cubicBezTo>
                    <a:pt x="2" y="971"/>
                    <a:pt x="6" y="967"/>
                    <a:pt x="10" y="967"/>
                  </a:cubicBezTo>
                  <a:cubicBezTo>
                    <a:pt x="15" y="967"/>
                    <a:pt x="19" y="971"/>
                    <a:pt x="19" y="976"/>
                  </a:cubicBezTo>
                  <a:lnTo>
                    <a:pt x="19" y="976"/>
                  </a:lnTo>
                  <a:cubicBezTo>
                    <a:pt x="19" y="980"/>
                    <a:pt x="15" y="984"/>
                    <a:pt x="10" y="984"/>
                  </a:cubicBezTo>
                  <a:cubicBezTo>
                    <a:pt x="6" y="984"/>
                    <a:pt x="2" y="980"/>
                    <a:pt x="2" y="976"/>
                  </a:cubicBezTo>
                  <a:close/>
                  <a:moveTo>
                    <a:pt x="2" y="942"/>
                  </a:moveTo>
                  <a:lnTo>
                    <a:pt x="2" y="942"/>
                  </a:lnTo>
                  <a:cubicBezTo>
                    <a:pt x="2" y="938"/>
                    <a:pt x="6" y="934"/>
                    <a:pt x="10" y="934"/>
                  </a:cubicBezTo>
                  <a:cubicBezTo>
                    <a:pt x="15" y="934"/>
                    <a:pt x="19" y="938"/>
                    <a:pt x="19" y="942"/>
                  </a:cubicBezTo>
                  <a:lnTo>
                    <a:pt x="19" y="942"/>
                  </a:lnTo>
                  <a:cubicBezTo>
                    <a:pt x="19" y="947"/>
                    <a:pt x="15" y="951"/>
                    <a:pt x="10" y="951"/>
                  </a:cubicBezTo>
                  <a:cubicBezTo>
                    <a:pt x="6" y="951"/>
                    <a:pt x="2" y="947"/>
                    <a:pt x="2" y="942"/>
                  </a:cubicBezTo>
                  <a:close/>
                  <a:moveTo>
                    <a:pt x="2" y="909"/>
                  </a:moveTo>
                  <a:lnTo>
                    <a:pt x="2" y="909"/>
                  </a:lnTo>
                  <a:cubicBezTo>
                    <a:pt x="2" y="904"/>
                    <a:pt x="6" y="901"/>
                    <a:pt x="10" y="901"/>
                  </a:cubicBezTo>
                  <a:cubicBezTo>
                    <a:pt x="15" y="901"/>
                    <a:pt x="19" y="904"/>
                    <a:pt x="19" y="909"/>
                  </a:cubicBezTo>
                  <a:lnTo>
                    <a:pt x="19" y="909"/>
                  </a:lnTo>
                  <a:cubicBezTo>
                    <a:pt x="19" y="914"/>
                    <a:pt x="15" y="917"/>
                    <a:pt x="10" y="917"/>
                  </a:cubicBezTo>
                  <a:cubicBezTo>
                    <a:pt x="6" y="917"/>
                    <a:pt x="2" y="914"/>
                    <a:pt x="2" y="909"/>
                  </a:cubicBezTo>
                  <a:close/>
                  <a:moveTo>
                    <a:pt x="2" y="876"/>
                  </a:moveTo>
                  <a:lnTo>
                    <a:pt x="2" y="876"/>
                  </a:lnTo>
                  <a:cubicBezTo>
                    <a:pt x="2" y="871"/>
                    <a:pt x="6" y="867"/>
                    <a:pt x="11" y="867"/>
                  </a:cubicBezTo>
                  <a:cubicBezTo>
                    <a:pt x="15" y="867"/>
                    <a:pt x="19" y="871"/>
                    <a:pt x="19" y="876"/>
                  </a:cubicBezTo>
                  <a:lnTo>
                    <a:pt x="19" y="876"/>
                  </a:lnTo>
                  <a:cubicBezTo>
                    <a:pt x="19" y="880"/>
                    <a:pt x="15" y="884"/>
                    <a:pt x="11" y="884"/>
                  </a:cubicBezTo>
                  <a:cubicBezTo>
                    <a:pt x="6" y="884"/>
                    <a:pt x="2" y="880"/>
                    <a:pt x="2" y="876"/>
                  </a:cubicBezTo>
                  <a:close/>
                  <a:moveTo>
                    <a:pt x="2" y="842"/>
                  </a:moveTo>
                  <a:lnTo>
                    <a:pt x="2" y="842"/>
                  </a:lnTo>
                  <a:cubicBezTo>
                    <a:pt x="2" y="838"/>
                    <a:pt x="6" y="834"/>
                    <a:pt x="11" y="834"/>
                  </a:cubicBezTo>
                  <a:cubicBezTo>
                    <a:pt x="15" y="834"/>
                    <a:pt x="19" y="838"/>
                    <a:pt x="19" y="842"/>
                  </a:cubicBezTo>
                  <a:lnTo>
                    <a:pt x="19" y="842"/>
                  </a:lnTo>
                  <a:cubicBezTo>
                    <a:pt x="19" y="847"/>
                    <a:pt x="15" y="851"/>
                    <a:pt x="11" y="851"/>
                  </a:cubicBezTo>
                  <a:cubicBezTo>
                    <a:pt x="6" y="851"/>
                    <a:pt x="2" y="847"/>
                    <a:pt x="2" y="842"/>
                  </a:cubicBezTo>
                  <a:close/>
                  <a:moveTo>
                    <a:pt x="2" y="809"/>
                  </a:moveTo>
                  <a:lnTo>
                    <a:pt x="2" y="809"/>
                  </a:lnTo>
                  <a:cubicBezTo>
                    <a:pt x="2" y="804"/>
                    <a:pt x="6" y="801"/>
                    <a:pt x="11" y="801"/>
                  </a:cubicBezTo>
                  <a:cubicBezTo>
                    <a:pt x="15" y="801"/>
                    <a:pt x="19" y="804"/>
                    <a:pt x="19" y="809"/>
                  </a:cubicBezTo>
                  <a:lnTo>
                    <a:pt x="19" y="809"/>
                  </a:lnTo>
                  <a:cubicBezTo>
                    <a:pt x="19" y="814"/>
                    <a:pt x="15" y="817"/>
                    <a:pt x="11" y="817"/>
                  </a:cubicBezTo>
                  <a:cubicBezTo>
                    <a:pt x="6" y="817"/>
                    <a:pt x="2" y="814"/>
                    <a:pt x="2" y="809"/>
                  </a:cubicBezTo>
                  <a:close/>
                  <a:moveTo>
                    <a:pt x="2" y="776"/>
                  </a:moveTo>
                  <a:lnTo>
                    <a:pt x="2" y="776"/>
                  </a:lnTo>
                  <a:cubicBezTo>
                    <a:pt x="2" y="771"/>
                    <a:pt x="6" y="767"/>
                    <a:pt x="11" y="767"/>
                  </a:cubicBezTo>
                  <a:cubicBezTo>
                    <a:pt x="15" y="767"/>
                    <a:pt x="19" y="771"/>
                    <a:pt x="19" y="776"/>
                  </a:cubicBezTo>
                  <a:lnTo>
                    <a:pt x="19" y="776"/>
                  </a:lnTo>
                  <a:cubicBezTo>
                    <a:pt x="19" y="780"/>
                    <a:pt x="15" y="784"/>
                    <a:pt x="11" y="784"/>
                  </a:cubicBezTo>
                  <a:cubicBezTo>
                    <a:pt x="6" y="784"/>
                    <a:pt x="2" y="780"/>
                    <a:pt x="2" y="776"/>
                  </a:cubicBezTo>
                  <a:close/>
                  <a:moveTo>
                    <a:pt x="2" y="742"/>
                  </a:moveTo>
                  <a:lnTo>
                    <a:pt x="2" y="742"/>
                  </a:lnTo>
                  <a:cubicBezTo>
                    <a:pt x="2" y="738"/>
                    <a:pt x="6" y="734"/>
                    <a:pt x="11" y="734"/>
                  </a:cubicBezTo>
                  <a:cubicBezTo>
                    <a:pt x="15" y="734"/>
                    <a:pt x="19" y="738"/>
                    <a:pt x="19" y="742"/>
                  </a:cubicBezTo>
                  <a:lnTo>
                    <a:pt x="19" y="742"/>
                  </a:lnTo>
                  <a:cubicBezTo>
                    <a:pt x="19" y="747"/>
                    <a:pt x="15" y="751"/>
                    <a:pt x="11" y="751"/>
                  </a:cubicBezTo>
                  <a:cubicBezTo>
                    <a:pt x="6" y="751"/>
                    <a:pt x="2" y="747"/>
                    <a:pt x="2" y="742"/>
                  </a:cubicBezTo>
                  <a:close/>
                  <a:moveTo>
                    <a:pt x="2" y="709"/>
                  </a:moveTo>
                  <a:lnTo>
                    <a:pt x="2" y="709"/>
                  </a:lnTo>
                  <a:cubicBezTo>
                    <a:pt x="2" y="704"/>
                    <a:pt x="6" y="701"/>
                    <a:pt x="11" y="701"/>
                  </a:cubicBezTo>
                  <a:cubicBezTo>
                    <a:pt x="15" y="701"/>
                    <a:pt x="19" y="704"/>
                    <a:pt x="19" y="709"/>
                  </a:cubicBezTo>
                  <a:lnTo>
                    <a:pt x="19" y="709"/>
                  </a:lnTo>
                  <a:cubicBezTo>
                    <a:pt x="19" y="714"/>
                    <a:pt x="15" y="717"/>
                    <a:pt x="11" y="717"/>
                  </a:cubicBezTo>
                  <a:cubicBezTo>
                    <a:pt x="6" y="717"/>
                    <a:pt x="2" y="714"/>
                    <a:pt x="2" y="709"/>
                  </a:cubicBezTo>
                  <a:close/>
                  <a:moveTo>
                    <a:pt x="2" y="676"/>
                  </a:moveTo>
                  <a:lnTo>
                    <a:pt x="2" y="676"/>
                  </a:lnTo>
                  <a:cubicBezTo>
                    <a:pt x="2" y="671"/>
                    <a:pt x="6" y="667"/>
                    <a:pt x="11" y="667"/>
                  </a:cubicBezTo>
                  <a:cubicBezTo>
                    <a:pt x="15" y="667"/>
                    <a:pt x="19" y="671"/>
                    <a:pt x="19" y="676"/>
                  </a:cubicBezTo>
                  <a:lnTo>
                    <a:pt x="19" y="676"/>
                  </a:lnTo>
                  <a:cubicBezTo>
                    <a:pt x="19" y="680"/>
                    <a:pt x="15" y="684"/>
                    <a:pt x="11" y="684"/>
                  </a:cubicBezTo>
                  <a:cubicBezTo>
                    <a:pt x="6" y="684"/>
                    <a:pt x="2" y="680"/>
                    <a:pt x="2" y="676"/>
                  </a:cubicBezTo>
                  <a:close/>
                  <a:moveTo>
                    <a:pt x="3" y="642"/>
                  </a:moveTo>
                  <a:lnTo>
                    <a:pt x="3" y="642"/>
                  </a:lnTo>
                  <a:cubicBezTo>
                    <a:pt x="3" y="638"/>
                    <a:pt x="6" y="634"/>
                    <a:pt x="11" y="634"/>
                  </a:cubicBezTo>
                  <a:cubicBezTo>
                    <a:pt x="15" y="634"/>
                    <a:pt x="19" y="638"/>
                    <a:pt x="19" y="642"/>
                  </a:cubicBezTo>
                  <a:lnTo>
                    <a:pt x="19" y="642"/>
                  </a:lnTo>
                  <a:cubicBezTo>
                    <a:pt x="19" y="647"/>
                    <a:pt x="15" y="651"/>
                    <a:pt x="11" y="651"/>
                  </a:cubicBezTo>
                  <a:cubicBezTo>
                    <a:pt x="6" y="651"/>
                    <a:pt x="3" y="647"/>
                    <a:pt x="3" y="642"/>
                  </a:cubicBezTo>
                  <a:close/>
                  <a:moveTo>
                    <a:pt x="3" y="609"/>
                  </a:moveTo>
                  <a:lnTo>
                    <a:pt x="3" y="609"/>
                  </a:lnTo>
                  <a:cubicBezTo>
                    <a:pt x="3" y="604"/>
                    <a:pt x="6" y="601"/>
                    <a:pt x="11" y="601"/>
                  </a:cubicBezTo>
                  <a:cubicBezTo>
                    <a:pt x="16" y="601"/>
                    <a:pt x="19" y="604"/>
                    <a:pt x="19" y="609"/>
                  </a:cubicBezTo>
                  <a:lnTo>
                    <a:pt x="19" y="609"/>
                  </a:lnTo>
                  <a:cubicBezTo>
                    <a:pt x="19" y="613"/>
                    <a:pt x="16" y="617"/>
                    <a:pt x="11" y="617"/>
                  </a:cubicBezTo>
                  <a:cubicBezTo>
                    <a:pt x="6" y="617"/>
                    <a:pt x="3" y="613"/>
                    <a:pt x="3" y="609"/>
                  </a:cubicBezTo>
                  <a:close/>
                  <a:moveTo>
                    <a:pt x="3" y="576"/>
                  </a:moveTo>
                  <a:lnTo>
                    <a:pt x="3" y="576"/>
                  </a:lnTo>
                  <a:cubicBezTo>
                    <a:pt x="3" y="571"/>
                    <a:pt x="6" y="567"/>
                    <a:pt x="11" y="567"/>
                  </a:cubicBezTo>
                  <a:cubicBezTo>
                    <a:pt x="16" y="567"/>
                    <a:pt x="19" y="571"/>
                    <a:pt x="19" y="576"/>
                  </a:cubicBezTo>
                  <a:lnTo>
                    <a:pt x="19" y="576"/>
                  </a:lnTo>
                  <a:cubicBezTo>
                    <a:pt x="19" y="580"/>
                    <a:pt x="16" y="584"/>
                    <a:pt x="11" y="584"/>
                  </a:cubicBezTo>
                  <a:cubicBezTo>
                    <a:pt x="6" y="584"/>
                    <a:pt x="3" y="580"/>
                    <a:pt x="3" y="576"/>
                  </a:cubicBezTo>
                  <a:close/>
                  <a:moveTo>
                    <a:pt x="3" y="542"/>
                  </a:moveTo>
                  <a:lnTo>
                    <a:pt x="3" y="542"/>
                  </a:lnTo>
                  <a:cubicBezTo>
                    <a:pt x="3" y="538"/>
                    <a:pt x="6" y="534"/>
                    <a:pt x="11" y="534"/>
                  </a:cubicBezTo>
                  <a:cubicBezTo>
                    <a:pt x="16" y="534"/>
                    <a:pt x="19" y="538"/>
                    <a:pt x="19" y="542"/>
                  </a:cubicBezTo>
                  <a:lnTo>
                    <a:pt x="19" y="542"/>
                  </a:lnTo>
                  <a:cubicBezTo>
                    <a:pt x="19" y="547"/>
                    <a:pt x="16" y="551"/>
                    <a:pt x="11" y="551"/>
                  </a:cubicBezTo>
                  <a:cubicBezTo>
                    <a:pt x="6" y="551"/>
                    <a:pt x="3" y="547"/>
                    <a:pt x="3" y="542"/>
                  </a:cubicBezTo>
                  <a:close/>
                  <a:moveTo>
                    <a:pt x="3" y="509"/>
                  </a:moveTo>
                  <a:lnTo>
                    <a:pt x="3" y="509"/>
                  </a:lnTo>
                  <a:cubicBezTo>
                    <a:pt x="3" y="504"/>
                    <a:pt x="6" y="500"/>
                    <a:pt x="11" y="500"/>
                  </a:cubicBezTo>
                  <a:cubicBezTo>
                    <a:pt x="16" y="500"/>
                    <a:pt x="19" y="504"/>
                    <a:pt x="19" y="509"/>
                  </a:cubicBezTo>
                  <a:lnTo>
                    <a:pt x="19" y="509"/>
                  </a:lnTo>
                  <a:cubicBezTo>
                    <a:pt x="19" y="513"/>
                    <a:pt x="16" y="517"/>
                    <a:pt x="11" y="517"/>
                  </a:cubicBezTo>
                  <a:cubicBezTo>
                    <a:pt x="6" y="517"/>
                    <a:pt x="3" y="513"/>
                    <a:pt x="3" y="509"/>
                  </a:cubicBezTo>
                  <a:close/>
                  <a:moveTo>
                    <a:pt x="3" y="475"/>
                  </a:moveTo>
                  <a:lnTo>
                    <a:pt x="3" y="475"/>
                  </a:lnTo>
                  <a:cubicBezTo>
                    <a:pt x="3" y="471"/>
                    <a:pt x="6" y="467"/>
                    <a:pt x="11" y="467"/>
                  </a:cubicBezTo>
                  <a:cubicBezTo>
                    <a:pt x="16" y="467"/>
                    <a:pt x="19" y="471"/>
                    <a:pt x="19" y="475"/>
                  </a:cubicBezTo>
                  <a:lnTo>
                    <a:pt x="19" y="475"/>
                  </a:lnTo>
                  <a:cubicBezTo>
                    <a:pt x="19" y="480"/>
                    <a:pt x="16" y="484"/>
                    <a:pt x="11" y="484"/>
                  </a:cubicBezTo>
                  <a:cubicBezTo>
                    <a:pt x="6" y="484"/>
                    <a:pt x="3" y="480"/>
                    <a:pt x="3" y="475"/>
                  </a:cubicBezTo>
                  <a:close/>
                  <a:moveTo>
                    <a:pt x="3" y="442"/>
                  </a:moveTo>
                  <a:lnTo>
                    <a:pt x="3" y="442"/>
                  </a:lnTo>
                  <a:cubicBezTo>
                    <a:pt x="3" y="438"/>
                    <a:pt x="7" y="434"/>
                    <a:pt x="11" y="434"/>
                  </a:cubicBezTo>
                  <a:cubicBezTo>
                    <a:pt x="16" y="434"/>
                    <a:pt x="19" y="438"/>
                    <a:pt x="19" y="442"/>
                  </a:cubicBezTo>
                  <a:lnTo>
                    <a:pt x="19" y="442"/>
                  </a:lnTo>
                  <a:cubicBezTo>
                    <a:pt x="19" y="447"/>
                    <a:pt x="16" y="450"/>
                    <a:pt x="11" y="450"/>
                  </a:cubicBezTo>
                  <a:cubicBezTo>
                    <a:pt x="7" y="450"/>
                    <a:pt x="3" y="447"/>
                    <a:pt x="3" y="442"/>
                  </a:cubicBezTo>
                  <a:close/>
                  <a:moveTo>
                    <a:pt x="3" y="409"/>
                  </a:moveTo>
                  <a:lnTo>
                    <a:pt x="3" y="409"/>
                  </a:lnTo>
                  <a:cubicBezTo>
                    <a:pt x="3" y="404"/>
                    <a:pt x="7" y="400"/>
                    <a:pt x="11" y="400"/>
                  </a:cubicBezTo>
                  <a:cubicBezTo>
                    <a:pt x="16" y="400"/>
                    <a:pt x="20" y="404"/>
                    <a:pt x="20" y="409"/>
                  </a:cubicBezTo>
                  <a:lnTo>
                    <a:pt x="20" y="409"/>
                  </a:lnTo>
                  <a:cubicBezTo>
                    <a:pt x="20" y="413"/>
                    <a:pt x="16" y="417"/>
                    <a:pt x="11" y="417"/>
                  </a:cubicBezTo>
                  <a:cubicBezTo>
                    <a:pt x="7" y="417"/>
                    <a:pt x="3" y="413"/>
                    <a:pt x="3" y="409"/>
                  </a:cubicBezTo>
                  <a:close/>
                  <a:moveTo>
                    <a:pt x="3" y="375"/>
                  </a:moveTo>
                  <a:lnTo>
                    <a:pt x="3" y="375"/>
                  </a:lnTo>
                  <a:cubicBezTo>
                    <a:pt x="3" y="371"/>
                    <a:pt x="7" y="367"/>
                    <a:pt x="11" y="367"/>
                  </a:cubicBezTo>
                  <a:cubicBezTo>
                    <a:pt x="16" y="367"/>
                    <a:pt x="20" y="371"/>
                    <a:pt x="20" y="375"/>
                  </a:cubicBezTo>
                  <a:lnTo>
                    <a:pt x="20" y="375"/>
                  </a:lnTo>
                  <a:cubicBezTo>
                    <a:pt x="20" y="380"/>
                    <a:pt x="16" y="384"/>
                    <a:pt x="11" y="384"/>
                  </a:cubicBezTo>
                  <a:cubicBezTo>
                    <a:pt x="7" y="384"/>
                    <a:pt x="3" y="380"/>
                    <a:pt x="3" y="375"/>
                  </a:cubicBezTo>
                  <a:close/>
                  <a:moveTo>
                    <a:pt x="3" y="342"/>
                  </a:moveTo>
                  <a:lnTo>
                    <a:pt x="3" y="342"/>
                  </a:lnTo>
                  <a:cubicBezTo>
                    <a:pt x="3" y="337"/>
                    <a:pt x="7" y="334"/>
                    <a:pt x="11" y="334"/>
                  </a:cubicBezTo>
                  <a:cubicBezTo>
                    <a:pt x="16" y="334"/>
                    <a:pt x="20" y="337"/>
                    <a:pt x="20" y="342"/>
                  </a:cubicBezTo>
                  <a:lnTo>
                    <a:pt x="20" y="342"/>
                  </a:lnTo>
                  <a:cubicBezTo>
                    <a:pt x="20" y="347"/>
                    <a:pt x="16" y="350"/>
                    <a:pt x="11" y="350"/>
                  </a:cubicBezTo>
                  <a:cubicBezTo>
                    <a:pt x="7" y="350"/>
                    <a:pt x="3" y="347"/>
                    <a:pt x="3" y="342"/>
                  </a:cubicBezTo>
                  <a:close/>
                  <a:moveTo>
                    <a:pt x="3" y="309"/>
                  </a:moveTo>
                  <a:lnTo>
                    <a:pt x="3" y="309"/>
                  </a:lnTo>
                  <a:cubicBezTo>
                    <a:pt x="3" y="304"/>
                    <a:pt x="7" y="300"/>
                    <a:pt x="11" y="300"/>
                  </a:cubicBezTo>
                  <a:cubicBezTo>
                    <a:pt x="16" y="300"/>
                    <a:pt x="20" y="304"/>
                    <a:pt x="20" y="309"/>
                  </a:cubicBezTo>
                  <a:lnTo>
                    <a:pt x="20" y="309"/>
                  </a:lnTo>
                  <a:cubicBezTo>
                    <a:pt x="20" y="313"/>
                    <a:pt x="16" y="317"/>
                    <a:pt x="11" y="317"/>
                  </a:cubicBezTo>
                  <a:cubicBezTo>
                    <a:pt x="7" y="317"/>
                    <a:pt x="3" y="313"/>
                    <a:pt x="3" y="309"/>
                  </a:cubicBezTo>
                  <a:close/>
                  <a:moveTo>
                    <a:pt x="3" y="275"/>
                  </a:moveTo>
                  <a:lnTo>
                    <a:pt x="3" y="275"/>
                  </a:lnTo>
                  <a:cubicBezTo>
                    <a:pt x="3" y="271"/>
                    <a:pt x="7" y="267"/>
                    <a:pt x="11" y="267"/>
                  </a:cubicBezTo>
                  <a:cubicBezTo>
                    <a:pt x="16" y="267"/>
                    <a:pt x="20" y="271"/>
                    <a:pt x="20" y="275"/>
                  </a:cubicBezTo>
                  <a:lnTo>
                    <a:pt x="20" y="275"/>
                  </a:lnTo>
                  <a:cubicBezTo>
                    <a:pt x="20" y="280"/>
                    <a:pt x="16" y="284"/>
                    <a:pt x="11" y="284"/>
                  </a:cubicBezTo>
                  <a:cubicBezTo>
                    <a:pt x="7" y="284"/>
                    <a:pt x="3" y="280"/>
                    <a:pt x="3" y="275"/>
                  </a:cubicBezTo>
                  <a:close/>
                  <a:moveTo>
                    <a:pt x="3" y="242"/>
                  </a:moveTo>
                  <a:lnTo>
                    <a:pt x="3" y="242"/>
                  </a:lnTo>
                  <a:cubicBezTo>
                    <a:pt x="3" y="237"/>
                    <a:pt x="7" y="234"/>
                    <a:pt x="11" y="234"/>
                  </a:cubicBezTo>
                  <a:cubicBezTo>
                    <a:pt x="16" y="234"/>
                    <a:pt x="20" y="237"/>
                    <a:pt x="20" y="242"/>
                  </a:cubicBezTo>
                  <a:lnTo>
                    <a:pt x="20" y="242"/>
                  </a:lnTo>
                  <a:cubicBezTo>
                    <a:pt x="20" y="247"/>
                    <a:pt x="16" y="250"/>
                    <a:pt x="11" y="250"/>
                  </a:cubicBezTo>
                  <a:cubicBezTo>
                    <a:pt x="7" y="250"/>
                    <a:pt x="3" y="247"/>
                    <a:pt x="3" y="242"/>
                  </a:cubicBezTo>
                  <a:close/>
                  <a:moveTo>
                    <a:pt x="3" y="209"/>
                  </a:moveTo>
                  <a:lnTo>
                    <a:pt x="3" y="209"/>
                  </a:lnTo>
                  <a:cubicBezTo>
                    <a:pt x="3" y="204"/>
                    <a:pt x="7" y="200"/>
                    <a:pt x="11" y="200"/>
                  </a:cubicBezTo>
                  <a:cubicBezTo>
                    <a:pt x="16" y="200"/>
                    <a:pt x="20" y="204"/>
                    <a:pt x="20" y="209"/>
                  </a:cubicBezTo>
                  <a:lnTo>
                    <a:pt x="20" y="209"/>
                  </a:lnTo>
                  <a:cubicBezTo>
                    <a:pt x="20" y="213"/>
                    <a:pt x="16" y="217"/>
                    <a:pt x="11" y="217"/>
                  </a:cubicBezTo>
                  <a:cubicBezTo>
                    <a:pt x="7" y="217"/>
                    <a:pt x="3" y="213"/>
                    <a:pt x="3" y="209"/>
                  </a:cubicBezTo>
                  <a:close/>
                  <a:moveTo>
                    <a:pt x="3" y="175"/>
                  </a:moveTo>
                  <a:lnTo>
                    <a:pt x="3" y="175"/>
                  </a:lnTo>
                  <a:cubicBezTo>
                    <a:pt x="3" y="171"/>
                    <a:pt x="7" y="167"/>
                    <a:pt x="12" y="167"/>
                  </a:cubicBezTo>
                  <a:cubicBezTo>
                    <a:pt x="16" y="167"/>
                    <a:pt x="20" y="171"/>
                    <a:pt x="20" y="175"/>
                  </a:cubicBezTo>
                  <a:lnTo>
                    <a:pt x="20" y="175"/>
                  </a:lnTo>
                  <a:cubicBezTo>
                    <a:pt x="20" y="180"/>
                    <a:pt x="16" y="184"/>
                    <a:pt x="12" y="184"/>
                  </a:cubicBezTo>
                  <a:cubicBezTo>
                    <a:pt x="7" y="184"/>
                    <a:pt x="3" y="180"/>
                    <a:pt x="3" y="175"/>
                  </a:cubicBezTo>
                  <a:close/>
                  <a:moveTo>
                    <a:pt x="3" y="142"/>
                  </a:moveTo>
                  <a:lnTo>
                    <a:pt x="3" y="142"/>
                  </a:lnTo>
                  <a:cubicBezTo>
                    <a:pt x="3" y="137"/>
                    <a:pt x="7" y="134"/>
                    <a:pt x="12" y="134"/>
                  </a:cubicBezTo>
                  <a:cubicBezTo>
                    <a:pt x="16" y="134"/>
                    <a:pt x="20" y="137"/>
                    <a:pt x="20" y="142"/>
                  </a:cubicBezTo>
                  <a:lnTo>
                    <a:pt x="20" y="142"/>
                  </a:lnTo>
                  <a:cubicBezTo>
                    <a:pt x="20" y="147"/>
                    <a:pt x="16" y="150"/>
                    <a:pt x="12" y="150"/>
                  </a:cubicBezTo>
                  <a:cubicBezTo>
                    <a:pt x="7" y="150"/>
                    <a:pt x="3" y="147"/>
                    <a:pt x="3" y="142"/>
                  </a:cubicBezTo>
                  <a:close/>
                  <a:moveTo>
                    <a:pt x="3" y="109"/>
                  </a:moveTo>
                  <a:lnTo>
                    <a:pt x="3" y="109"/>
                  </a:lnTo>
                  <a:cubicBezTo>
                    <a:pt x="3" y="104"/>
                    <a:pt x="7" y="100"/>
                    <a:pt x="12" y="100"/>
                  </a:cubicBezTo>
                  <a:cubicBezTo>
                    <a:pt x="16" y="100"/>
                    <a:pt x="20" y="104"/>
                    <a:pt x="20" y="109"/>
                  </a:cubicBezTo>
                  <a:lnTo>
                    <a:pt x="20" y="109"/>
                  </a:lnTo>
                  <a:cubicBezTo>
                    <a:pt x="20" y="113"/>
                    <a:pt x="16" y="117"/>
                    <a:pt x="12" y="117"/>
                  </a:cubicBezTo>
                  <a:cubicBezTo>
                    <a:pt x="7" y="117"/>
                    <a:pt x="3" y="113"/>
                    <a:pt x="3" y="109"/>
                  </a:cubicBezTo>
                  <a:close/>
                  <a:moveTo>
                    <a:pt x="3" y="75"/>
                  </a:moveTo>
                  <a:lnTo>
                    <a:pt x="3" y="75"/>
                  </a:lnTo>
                  <a:cubicBezTo>
                    <a:pt x="3" y="71"/>
                    <a:pt x="7" y="67"/>
                    <a:pt x="12" y="67"/>
                  </a:cubicBezTo>
                  <a:cubicBezTo>
                    <a:pt x="16" y="67"/>
                    <a:pt x="20" y="71"/>
                    <a:pt x="20" y="75"/>
                  </a:cubicBezTo>
                  <a:lnTo>
                    <a:pt x="20" y="75"/>
                  </a:lnTo>
                  <a:cubicBezTo>
                    <a:pt x="20" y="80"/>
                    <a:pt x="16" y="84"/>
                    <a:pt x="12" y="84"/>
                  </a:cubicBezTo>
                  <a:cubicBezTo>
                    <a:pt x="7" y="84"/>
                    <a:pt x="3" y="80"/>
                    <a:pt x="3" y="75"/>
                  </a:cubicBezTo>
                  <a:close/>
                  <a:moveTo>
                    <a:pt x="3" y="42"/>
                  </a:moveTo>
                  <a:lnTo>
                    <a:pt x="3" y="42"/>
                  </a:lnTo>
                  <a:cubicBezTo>
                    <a:pt x="3" y="37"/>
                    <a:pt x="7" y="34"/>
                    <a:pt x="12" y="34"/>
                  </a:cubicBezTo>
                  <a:cubicBezTo>
                    <a:pt x="16" y="34"/>
                    <a:pt x="20" y="37"/>
                    <a:pt x="20" y="42"/>
                  </a:cubicBezTo>
                  <a:lnTo>
                    <a:pt x="20" y="42"/>
                  </a:lnTo>
                  <a:cubicBezTo>
                    <a:pt x="20" y="47"/>
                    <a:pt x="16" y="50"/>
                    <a:pt x="12" y="50"/>
                  </a:cubicBezTo>
                  <a:cubicBezTo>
                    <a:pt x="7" y="50"/>
                    <a:pt x="3" y="47"/>
                    <a:pt x="3" y="42"/>
                  </a:cubicBezTo>
                  <a:close/>
                  <a:moveTo>
                    <a:pt x="3" y="9"/>
                  </a:moveTo>
                  <a:lnTo>
                    <a:pt x="3" y="9"/>
                  </a:lnTo>
                  <a:cubicBezTo>
                    <a:pt x="3" y="4"/>
                    <a:pt x="7" y="0"/>
                    <a:pt x="12" y="0"/>
                  </a:cubicBezTo>
                  <a:cubicBezTo>
                    <a:pt x="16" y="0"/>
                    <a:pt x="20" y="4"/>
                    <a:pt x="20" y="9"/>
                  </a:cubicBezTo>
                  <a:lnTo>
                    <a:pt x="20" y="9"/>
                  </a:lnTo>
                  <a:cubicBezTo>
                    <a:pt x="20" y="13"/>
                    <a:pt x="16" y="17"/>
                    <a:pt x="12" y="17"/>
                  </a:cubicBezTo>
                  <a:cubicBezTo>
                    <a:pt x="7" y="17"/>
                    <a:pt x="3" y="13"/>
                    <a:pt x="3" y="9"/>
                  </a:cubicBez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106880" y="5346720"/>
              <a:ext cx="3240" cy="453960"/>
            </a:xfrm>
            <a:custGeom>
              <a:avLst/>
              <a:gdLst/>
              <a:ahLst/>
              <a:rect l="l" t="t" r="r" b="b"/>
              <a:pathLst>
                <a:path w="20" h="2385">
                  <a:moveTo>
                    <a:pt x="0" y="2376"/>
                  </a:moveTo>
                  <a:lnTo>
                    <a:pt x="0" y="2376"/>
                  </a:lnTo>
                  <a:cubicBezTo>
                    <a:pt x="0" y="2372"/>
                    <a:pt x="4" y="2368"/>
                    <a:pt x="8" y="2368"/>
                  </a:cubicBezTo>
                  <a:cubicBezTo>
                    <a:pt x="13" y="2368"/>
                    <a:pt x="17" y="2372"/>
                    <a:pt x="17" y="2376"/>
                  </a:cubicBezTo>
                  <a:lnTo>
                    <a:pt x="17" y="2376"/>
                  </a:lnTo>
                  <a:cubicBezTo>
                    <a:pt x="17" y="2381"/>
                    <a:pt x="13" y="2385"/>
                    <a:pt x="8" y="2385"/>
                  </a:cubicBezTo>
                  <a:cubicBezTo>
                    <a:pt x="4" y="2385"/>
                    <a:pt x="0" y="2381"/>
                    <a:pt x="0" y="2376"/>
                  </a:cubicBezTo>
                  <a:close/>
                  <a:moveTo>
                    <a:pt x="0" y="2343"/>
                  </a:moveTo>
                  <a:lnTo>
                    <a:pt x="0" y="2343"/>
                  </a:lnTo>
                  <a:cubicBezTo>
                    <a:pt x="0" y="2338"/>
                    <a:pt x="4" y="2335"/>
                    <a:pt x="9" y="2335"/>
                  </a:cubicBezTo>
                  <a:cubicBezTo>
                    <a:pt x="13" y="2335"/>
                    <a:pt x="17" y="2338"/>
                    <a:pt x="17" y="2343"/>
                  </a:cubicBezTo>
                  <a:lnTo>
                    <a:pt x="17" y="2343"/>
                  </a:lnTo>
                  <a:cubicBezTo>
                    <a:pt x="17" y="2348"/>
                    <a:pt x="13" y="2351"/>
                    <a:pt x="9" y="2351"/>
                  </a:cubicBezTo>
                  <a:cubicBezTo>
                    <a:pt x="4" y="2351"/>
                    <a:pt x="0" y="2348"/>
                    <a:pt x="0" y="2343"/>
                  </a:cubicBezTo>
                  <a:close/>
                  <a:moveTo>
                    <a:pt x="0" y="2310"/>
                  </a:moveTo>
                  <a:lnTo>
                    <a:pt x="0" y="2310"/>
                  </a:lnTo>
                  <a:cubicBezTo>
                    <a:pt x="0" y="2305"/>
                    <a:pt x="4" y="2301"/>
                    <a:pt x="9" y="2301"/>
                  </a:cubicBezTo>
                  <a:cubicBezTo>
                    <a:pt x="13" y="2301"/>
                    <a:pt x="17" y="2305"/>
                    <a:pt x="17" y="2310"/>
                  </a:cubicBezTo>
                  <a:lnTo>
                    <a:pt x="17" y="2310"/>
                  </a:lnTo>
                  <a:cubicBezTo>
                    <a:pt x="17" y="2314"/>
                    <a:pt x="13" y="2318"/>
                    <a:pt x="9" y="2318"/>
                  </a:cubicBezTo>
                  <a:cubicBezTo>
                    <a:pt x="4" y="2318"/>
                    <a:pt x="0" y="2314"/>
                    <a:pt x="0" y="2310"/>
                  </a:cubicBezTo>
                  <a:close/>
                  <a:moveTo>
                    <a:pt x="0" y="2276"/>
                  </a:moveTo>
                  <a:lnTo>
                    <a:pt x="0" y="2276"/>
                  </a:lnTo>
                  <a:cubicBezTo>
                    <a:pt x="0" y="2272"/>
                    <a:pt x="4" y="2268"/>
                    <a:pt x="9" y="2268"/>
                  </a:cubicBezTo>
                  <a:cubicBezTo>
                    <a:pt x="13" y="2268"/>
                    <a:pt x="17" y="2272"/>
                    <a:pt x="17" y="2276"/>
                  </a:cubicBezTo>
                  <a:lnTo>
                    <a:pt x="17" y="2276"/>
                  </a:lnTo>
                  <a:cubicBezTo>
                    <a:pt x="17" y="2281"/>
                    <a:pt x="13" y="2285"/>
                    <a:pt x="9" y="2285"/>
                  </a:cubicBezTo>
                  <a:cubicBezTo>
                    <a:pt x="4" y="2285"/>
                    <a:pt x="0" y="2281"/>
                    <a:pt x="0" y="2276"/>
                  </a:cubicBezTo>
                  <a:close/>
                  <a:moveTo>
                    <a:pt x="0" y="2243"/>
                  </a:moveTo>
                  <a:lnTo>
                    <a:pt x="0" y="2243"/>
                  </a:lnTo>
                  <a:cubicBezTo>
                    <a:pt x="0" y="2238"/>
                    <a:pt x="4" y="2235"/>
                    <a:pt x="9" y="2235"/>
                  </a:cubicBezTo>
                  <a:cubicBezTo>
                    <a:pt x="13" y="2235"/>
                    <a:pt x="17" y="2238"/>
                    <a:pt x="17" y="2243"/>
                  </a:cubicBezTo>
                  <a:lnTo>
                    <a:pt x="17" y="2243"/>
                  </a:lnTo>
                  <a:cubicBezTo>
                    <a:pt x="17" y="2248"/>
                    <a:pt x="13" y="2251"/>
                    <a:pt x="9" y="2251"/>
                  </a:cubicBezTo>
                  <a:cubicBezTo>
                    <a:pt x="4" y="2251"/>
                    <a:pt x="0" y="2248"/>
                    <a:pt x="0" y="2243"/>
                  </a:cubicBezTo>
                  <a:close/>
                  <a:moveTo>
                    <a:pt x="0" y="2210"/>
                  </a:moveTo>
                  <a:lnTo>
                    <a:pt x="0" y="2210"/>
                  </a:lnTo>
                  <a:cubicBezTo>
                    <a:pt x="0" y="2205"/>
                    <a:pt x="4" y="2201"/>
                    <a:pt x="9" y="2201"/>
                  </a:cubicBezTo>
                  <a:cubicBezTo>
                    <a:pt x="13" y="2201"/>
                    <a:pt x="17" y="2205"/>
                    <a:pt x="17" y="2210"/>
                  </a:cubicBezTo>
                  <a:lnTo>
                    <a:pt x="17" y="2210"/>
                  </a:lnTo>
                  <a:cubicBezTo>
                    <a:pt x="17" y="2214"/>
                    <a:pt x="13" y="2218"/>
                    <a:pt x="9" y="2218"/>
                  </a:cubicBezTo>
                  <a:cubicBezTo>
                    <a:pt x="4" y="2218"/>
                    <a:pt x="0" y="2214"/>
                    <a:pt x="0" y="2210"/>
                  </a:cubicBezTo>
                  <a:close/>
                  <a:moveTo>
                    <a:pt x="0" y="2176"/>
                  </a:moveTo>
                  <a:lnTo>
                    <a:pt x="0" y="2176"/>
                  </a:lnTo>
                  <a:cubicBezTo>
                    <a:pt x="0" y="2172"/>
                    <a:pt x="4" y="2168"/>
                    <a:pt x="9" y="2168"/>
                  </a:cubicBezTo>
                  <a:cubicBezTo>
                    <a:pt x="13" y="2168"/>
                    <a:pt x="17" y="2172"/>
                    <a:pt x="17" y="2176"/>
                  </a:cubicBezTo>
                  <a:lnTo>
                    <a:pt x="17" y="2176"/>
                  </a:lnTo>
                  <a:cubicBezTo>
                    <a:pt x="17" y="2181"/>
                    <a:pt x="13" y="2185"/>
                    <a:pt x="9" y="2185"/>
                  </a:cubicBezTo>
                  <a:cubicBezTo>
                    <a:pt x="4" y="2185"/>
                    <a:pt x="0" y="2181"/>
                    <a:pt x="0" y="2176"/>
                  </a:cubicBezTo>
                  <a:close/>
                  <a:moveTo>
                    <a:pt x="0" y="2143"/>
                  </a:moveTo>
                  <a:lnTo>
                    <a:pt x="0" y="2143"/>
                  </a:lnTo>
                  <a:cubicBezTo>
                    <a:pt x="0" y="2138"/>
                    <a:pt x="4" y="2135"/>
                    <a:pt x="9" y="2135"/>
                  </a:cubicBezTo>
                  <a:cubicBezTo>
                    <a:pt x="13" y="2135"/>
                    <a:pt x="17" y="2138"/>
                    <a:pt x="17" y="2143"/>
                  </a:cubicBezTo>
                  <a:lnTo>
                    <a:pt x="17" y="2143"/>
                  </a:lnTo>
                  <a:cubicBezTo>
                    <a:pt x="17" y="2148"/>
                    <a:pt x="13" y="2151"/>
                    <a:pt x="9" y="2151"/>
                  </a:cubicBezTo>
                  <a:cubicBezTo>
                    <a:pt x="4" y="2151"/>
                    <a:pt x="0" y="2148"/>
                    <a:pt x="0" y="2143"/>
                  </a:cubicBezTo>
                  <a:close/>
                  <a:moveTo>
                    <a:pt x="0" y="2110"/>
                  </a:moveTo>
                  <a:lnTo>
                    <a:pt x="0" y="2110"/>
                  </a:lnTo>
                  <a:cubicBezTo>
                    <a:pt x="0" y="2105"/>
                    <a:pt x="4" y="2101"/>
                    <a:pt x="9" y="2101"/>
                  </a:cubicBezTo>
                  <a:cubicBezTo>
                    <a:pt x="13" y="2101"/>
                    <a:pt x="17" y="2105"/>
                    <a:pt x="17" y="2110"/>
                  </a:cubicBezTo>
                  <a:lnTo>
                    <a:pt x="17" y="2110"/>
                  </a:lnTo>
                  <a:cubicBezTo>
                    <a:pt x="17" y="2114"/>
                    <a:pt x="13" y="2118"/>
                    <a:pt x="9" y="2118"/>
                  </a:cubicBezTo>
                  <a:cubicBezTo>
                    <a:pt x="4" y="2118"/>
                    <a:pt x="0" y="2114"/>
                    <a:pt x="0" y="2110"/>
                  </a:cubicBezTo>
                  <a:close/>
                  <a:moveTo>
                    <a:pt x="1" y="2076"/>
                  </a:moveTo>
                  <a:lnTo>
                    <a:pt x="1" y="2076"/>
                  </a:lnTo>
                  <a:cubicBezTo>
                    <a:pt x="1" y="2072"/>
                    <a:pt x="4" y="2068"/>
                    <a:pt x="9" y="2068"/>
                  </a:cubicBezTo>
                  <a:cubicBezTo>
                    <a:pt x="13" y="2068"/>
                    <a:pt x="17" y="2072"/>
                    <a:pt x="17" y="2076"/>
                  </a:cubicBezTo>
                  <a:lnTo>
                    <a:pt x="17" y="2076"/>
                  </a:lnTo>
                  <a:cubicBezTo>
                    <a:pt x="17" y="2081"/>
                    <a:pt x="13" y="2085"/>
                    <a:pt x="9" y="2085"/>
                  </a:cubicBezTo>
                  <a:cubicBezTo>
                    <a:pt x="4" y="2085"/>
                    <a:pt x="1" y="2081"/>
                    <a:pt x="1" y="2076"/>
                  </a:cubicBezTo>
                  <a:close/>
                  <a:moveTo>
                    <a:pt x="1" y="2043"/>
                  </a:moveTo>
                  <a:lnTo>
                    <a:pt x="1" y="2043"/>
                  </a:lnTo>
                  <a:cubicBezTo>
                    <a:pt x="1" y="2038"/>
                    <a:pt x="4" y="2035"/>
                    <a:pt x="9" y="2035"/>
                  </a:cubicBezTo>
                  <a:cubicBezTo>
                    <a:pt x="14" y="2035"/>
                    <a:pt x="17" y="2038"/>
                    <a:pt x="17" y="2043"/>
                  </a:cubicBezTo>
                  <a:lnTo>
                    <a:pt x="17" y="2043"/>
                  </a:lnTo>
                  <a:cubicBezTo>
                    <a:pt x="17" y="2048"/>
                    <a:pt x="14" y="2051"/>
                    <a:pt x="9" y="2051"/>
                  </a:cubicBezTo>
                  <a:cubicBezTo>
                    <a:pt x="4" y="2051"/>
                    <a:pt x="1" y="2048"/>
                    <a:pt x="1" y="2043"/>
                  </a:cubicBezTo>
                  <a:close/>
                  <a:moveTo>
                    <a:pt x="1" y="2010"/>
                  </a:moveTo>
                  <a:lnTo>
                    <a:pt x="1" y="2010"/>
                  </a:lnTo>
                  <a:cubicBezTo>
                    <a:pt x="1" y="2005"/>
                    <a:pt x="4" y="2001"/>
                    <a:pt x="9" y="2001"/>
                  </a:cubicBezTo>
                  <a:cubicBezTo>
                    <a:pt x="14" y="2001"/>
                    <a:pt x="17" y="2005"/>
                    <a:pt x="17" y="2010"/>
                  </a:cubicBezTo>
                  <a:lnTo>
                    <a:pt x="17" y="2010"/>
                  </a:lnTo>
                  <a:cubicBezTo>
                    <a:pt x="17" y="2014"/>
                    <a:pt x="14" y="2018"/>
                    <a:pt x="9" y="2018"/>
                  </a:cubicBezTo>
                  <a:cubicBezTo>
                    <a:pt x="4" y="2018"/>
                    <a:pt x="1" y="2014"/>
                    <a:pt x="1" y="2010"/>
                  </a:cubicBezTo>
                  <a:close/>
                  <a:moveTo>
                    <a:pt x="1" y="1976"/>
                  </a:moveTo>
                  <a:lnTo>
                    <a:pt x="1" y="1976"/>
                  </a:lnTo>
                  <a:cubicBezTo>
                    <a:pt x="1" y="1972"/>
                    <a:pt x="4" y="1968"/>
                    <a:pt x="9" y="1968"/>
                  </a:cubicBezTo>
                  <a:cubicBezTo>
                    <a:pt x="14" y="1968"/>
                    <a:pt x="17" y="1972"/>
                    <a:pt x="17" y="1976"/>
                  </a:cubicBezTo>
                  <a:lnTo>
                    <a:pt x="17" y="1976"/>
                  </a:lnTo>
                  <a:cubicBezTo>
                    <a:pt x="17" y="1981"/>
                    <a:pt x="14" y="1985"/>
                    <a:pt x="9" y="1985"/>
                  </a:cubicBezTo>
                  <a:cubicBezTo>
                    <a:pt x="4" y="1985"/>
                    <a:pt x="1" y="1981"/>
                    <a:pt x="1" y="1976"/>
                  </a:cubicBezTo>
                  <a:close/>
                  <a:moveTo>
                    <a:pt x="1" y="1943"/>
                  </a:moveTo>
                  <a:lnTo>
                    <a:pt x="1" y="1943"/>
                  </a:lnTo>
                  <a:cubicBezTo>
                    <a:pt x="1" y="1938"/>
                    <a:pt x="4" y="1935"/>
                    <a:pt x="9" y="1935"/>
                  </a:cubicBezTo>
                  <a:cubicBezTo>
                    <a:pt x="14" y="1935"/>
                    <a:pt x="17" y="1938"/>
                    <a:pt x="17" y="1943"/>
                  </a:cubicBezTo>
                  <a:lnTo>
                    <a:pt x="17" y="1943"/>
                  </a:lnTo>
                  <a:cubicBezTo>
                    <a:pt x="17" y="1948"/>
                    <a:pt x="14" y="1951"/>
                    <a:pt x="9" y="1951"/>
                  </a:cubicBezTo>
                  <a:cubicBezTo>
                    <a:pt x="4" y="1951"/>
                    <a:pt x="1" y="1948"/>
                    <a:pt x="1" y="1943"/>
                  </a:cubicBezTo>
                  <a:close/>
                  <a:moveTo>
                    <a:pt x="1" y="1910"/>
                  </a:moveTo>
                  <a:lnTo>
                    <a:pt x="1" y="1910"/>
                  </a:lnTo>
                  <a:cubicBezTo>
                    <a:pt x="1" y="1905"/>
                    <a:pt x="4" y="1901"/>
                    <a:pt x="9" y="1901"/>
                  </a:cubicBezTo>
                  <a:cubicBezTo>
                    <a:pt x="14" y="1901"/>
                    <a:pt x="17" y="1905"/>
                    <a:pt x="17" y="1910"/>
                  </a:cubicBezTo>
                  <a:lnTo>
                    <a:pt x="17" y="1910"/>
                  </a:lnTo>
                  <a:cubicBezTo>
                    <a:pt x="17" y="1914"/>
                    <a:pt x="14" y="1918"/>
                    <a:pt x="9" y="1918"/>
                  </a:cubicBezTo>
                  <a:cubicBezTo>
                    <a:pt x="4" y="1918"/>
                    <a:pt x="1" y="1914"/>
                    <a:pt x="1" y="1910"/>
                  </a:cubicBezTo>
                  <a:close/>
                  <a:moveTo>
                    <a:pt x="1" y="1876"/>
                  </a:moveTo>
                  <a:lnTo>
                    <a:pt x="1" y="1876"/>
                  </a:lnTo>
                  <a:cubicBezTo>
                    <a:pt x="1" y="1872"/>
                    <a:pt x="5" y="1868"/>
                    <a:pt x="9" y="1868"/>
                  </a:cubicBezTo>
                  <a:cubicBezTo>
                    <a:pt x="14" y="1868"/>
                    <a:pt x="17" y="1872"/>
                    <a:pt x="17" y="1876"/>
                  </a:cubicBezTo>
                  <a:lnTo>
                    <a:pt x="17" y="1876"/>
                  </a:lnTo>
                  <a:cubicBezTo>
                    <a:pt x="17" y="1881"/>
                    <a:pt x="14" y="1885"/>
                    <a:pt x="9" y="1885"/>
                  </a:cubicBezTo>
                  <a:cubicBezTo>
                    <a:pt x="5" y="1885"/>
                    <a:pt x="1" y="1881"/>
                    <a:pt x="1" y="1876"/>
                  </a:cubicBezTo>
                  <a:close/>
                  <a:moveTo>
                    <a:pt x="1" y="1843"/>
                  </a:moveTo>
                  <a:lnTo>
                    <a:pt x="1" y="1843"/>
                  </a:lnTo>
                  <a:cubicBezTo>
                    <a:pt x="1" y="1838"/>
                    <a:pt x="5" y="1834"/>
                    <a:pt x="9" y="1834"/>
                  </a:cubicBezTo>
                  <a:cubicBezTo>
                    <a:pt x="14" y="1834"/>
                    <a:pt x="18" y="1838"/>
                    <a:pt x="18" y="1843"/>
                  </a:cubicBezTo>
                  <a:lnTo>
                    <a:pt x="18" y="1843"/>
                  </a:lnTo>
                  <a:cubicBezTo>
                    <a:pt x="18" y="1847"/>
                    <a:pt x="14" y="1851"/>
                    <a:pt x="9" y="1851"/>
                  </a:cubicBezTo>
                  <a:cubicBezTo>
                    <a:pt x="5" y="1851"/>
                    <a:pt x="1" y="1847"/>
                    <a:pt x="1" y="1843"/>
                  </a:cubicBezTo>
                  <a:close/>
                  <a:moveTo>
                    <a:pt x="1" y="1809"/>
                  </a:moveTo>
                  <a:lnTo>
                    <a:pt x="1" y="1809"/>
                  </a:lnTo>
                  <a:cubicBezTo>
                    <a:pt x="1" y="1805"/>
                    <a:pt x="5" y="1801"/>
                    <a:pt x="9" y="1801"/>
                  </a:cubicBezTo>
                  <a:cubicBezTo>
                    <a:pt x="14" y="1801"/>
                    <a:pt x="18" y="1805"/>
                    <a:pt x="18" y="1809"/>
                  </a:cubicBezTo>
                  <a:lnTo>
                    <a:pt x="18" y="1809"/>
                  </a:lnTo>
                  <a:cubicBezTo>
                    <a:pt x="18" y="1814"/>
                    <a:pt x="14" y="1818"/>
                    <a:pt x="9" y="1818"/>
                  </a:cubicBezTo>
                  <a:cubicBezTo>
                    <a:pt x="5" y="1818"/>
                    <a:pt x="1" y="1814"/>
                    <a:pt x="1" y="1809"/>
                  </a:cubicBezTo>
                  <a:close/>
                  <a:moveTo>
                    <a:pt x="1" y="1776"/>
                  </a:moveTo>
                  <a:lnTo>
                    <a:pt x="1" y="1776"/>
                  </a:lnTo>
                  <a:cubicBezTo>
                    <a:pt x="1" y="1772"/>
                    <a:pt x="5" y="1768"/>
                    <a:pt x="9" y="1768"/>
                  </a:cubicBezTo>
                  <a:cubicBezTo>
                    <a:pt x="14" y="1768"/>
                    <a:pt x="18" y="1772"/>
                    <a:pt x="18" y="1776"/>
                  </a:cubicBezTo>
                  <a:lnTo>
                    <a:pt x="18" y="1776"/>
                  </a:lnTo>
                  <a:cubicBezTo>
                    <a:pt x="18" y="1781"/>
                    <a:pt x="14" y="1784"/>
                    <a:pt x="9" y="1784"/>
                  </a:cubicBezTo>
                  <a:cubicBezTo>
                    <a:pt x="5" y="1784"/>
                    <a:pt x="1" y="1781"/>
                    <a:pt x="1" y="1776"/>
                  </a:cubicBezTo>
                  <a:close/>
                  <a:moveTo>
                    <a:pt x="1" y="1743"/>
                  </a:moveTo>
                  <a:lnTo>
                    <a:pt x="1" y="1743"/>
                  </a:lnTo>
                  <a:cubicBezTo>
                    <a:pt x="1" y="1738"/>
                    <a:pt x="5" y="1734"/>
                    <a:pt x="9" y="1734"/>
                  </a:cubicBezTo>
                  <a:cubicBezTo>
                    <a:pt x="14" y="1734"/>
                    <a:pt x="18" y="1738"/>
                    <a:pt x="18" y="1743"/>
                  </a:cubicBezTo>
                  <a:lnTo>
                    <a:pt x="18" y="1743"/>
                  </a:lnTo>
                  <a:cubicBezTo>
                    <a:pt x="18" y="1747"/>
                    <a:pt x="14" y="1751"/>
                    <a:pt x="9" y="1751"/>
                  </a:cubicBezTo>
                  <a:cubicBezTo>
                    <a:pt x="5" y="1751"/>
                    <a:pt x="1" y="1747"/>
                    <a:pt x="1" y="1743"/>
                  </a:cubicBezTo>
                  <a:close/>
                  <a:moveTo>
                    <a:pt x="1" y="1709"/>
                  </a:moveTo>
                  <a:lnTo>
                    <a:pt x="1" y="1709"/>
                  </a:lnTo>
                  <a:cubicBezTo>
                    <a:pt x="1" y="1705"/>
                    <a:pt x="5" y="1701"/>
                    <a:pt x="9" y="1701"/>
                  </a:cubicBezTo>
                  <a:cubicBezTo>
                    <a:pt x="14" y="1701"/>
                    <a:pt x="18" y="1705"/>
                    <a:pt x="18" y="1709"/>
                  </a:cubicBezTo>
                  <a:lnTo>
                    <a:pt x="18" y="1709"/>
                  </a:lnTo>
                  <a:cubicBezTo>
                    <a:pt x="18" y="1714"/>
                    <a:pt x="14" y="1718"/>
                    <a:pt x="9" y="1718"/>
                  </a:cubicBezTo>
                  <a:cubicBezTo>
                    <a:pt x="5" y="1718"/>
                    <a:pt x="1" y="1714"/>
                    <a:pt x="1" y="1709"/>
                  </a:cubicBezTo>
                  <a:close/>
                  <a:moveTo>
                    <a:pt x="1" y="1676"/>
                  </a:moveTo>
                  <a:lnTo>
                    <a:pt x="1" y="1676"/>
                  </a:lnTo>
                  <a:cubicBezTo>
                    <a:pt x="1" y="1671"/>
                    <a:pt x="5" y="1668"/>
                    <a:pt x="9" y="1668"/>
                  </a:cubicBezTo>
                  <a:cubicBezTo>
                    <a:pt x="14" y="1668"/>
                    <a:pt x="18" y="1671"/>
                    <a:pt x="18" y="1676"/>
                  </a:cubicBezTo>
                  <a:lnTo>
                    <a:pt x="18" y="1676"/>
                  </a:lnTo>
                  <a:cubicBezTo>
                    <a:pt x="18" y="1681"/>
                    <a:pt x="14" y="1684"/>
                    <a:pt x="9" y="1684"/>
                  </a:cubicBezTo>
                  <a:cubicBezTo>
                    <a:pt x="5" y="1684"/>
                    <a:pt x="1" y="1681"/>
                    <a:pt x="1" y="1676"/>
                  </a:cubicBezTo>
                  <a:close/>
                  <a:moveTo>
                    <a:pt x="1" y="1643"/>
                  </a:moveTo>
                  <a:lnTo>
                    <a:pt x="1" y="1643"/>
                  </a:lnTo>
                  <a:cubicBezTo>
                    <a:pt x="1" y="1638"/>
                    <a:pt x="5" y="1634"/>
                    <a:pt x="9" y="1634"/>
                  </a:cubicBezTo>
                  <a:cubicBezTo>
                    <a:pt x="14" y="1634"/>
                    <a:pt x="18" y="1638"/>
                    <a:pt x="18" y="1643"/>
                  </a:cubicBezTo>
                  <a:lnTo>
                    <a:pt x="18" y="1643"/>
                  </a:lnTo>
                  <a:cubicBezTo>
                    <a:pt x="18" y="1647"/>
                    <a:pt x="14" y="1651"/>
                    <a:pt x="9" y="1651"/>
                  </a:cubicBezTo>
                  <a:cubicBezTo>
                    <a:pt x="5" y="1651"/>
                    <a:pt x="1" y="1647"/>
                    <a:pt x="1" y="1643"/>
                  </a:cubicBezTo>
                  <a:close/>
                  <a:moveTo>
                    <a:pt x="1" y="1609"/>
                  </a:moveTo>
                  <a:lnTo>
                    <a:pt x="1" y="1609"/>
                  </a:lnTo>
                  <a:cubicBezTo>
                    <a:pt x="1" y="1605"/>
                    <a:pt x="5" y="1601"/>
                    <a:pt x="10" y="1601"/>
                  </a:cubicBezTo>
                  <a:cubicBezTo>
                    <a:pt x="14" y="1601"/>
                    <a:pt x="18" y="1605"/>
                    <a:pt x="18" y="1609"/>
                  </a:cubicBezTo>
                  <a:lnTo>
                    <a:pt x="18" y="1609"/>
                  </a:lnTo>
                  <a:cubicBezTo>
                    <a:pt x="18" y="1614"/>
                    <a:pt x="14" y="1618"/>
                    <a:pt x="10" y="1618"/>
                  </a:cubicBezTo>
                  <a:cubicBezTo>
                    <a:pt x="5" y="1618"/>
                    <a:pt x="1" y="1614"/>
                    <a:pt x="1" y="1609"/>
                  </a:cubicBezTo>
                  <a:close/>
                  <a:moveTo>
                    <a:pt x="1" y="1576"/>
                  </a:moveTo>
                  <a:lnTo>
                    <a:pt x="1" y="1576"/>
                  </a:lnTo>
                  <a:cubicBezTo>
                    <a:pt x="1" y="1571"/>
                    <a:pt x="5" y="1568"/>
                    <a:pt x="10" y="1568"/>
                  </a:cubicBezTo>
                  <a:cubicBezTo>
                    <a:pt x="14" y="1568"/>
                    <a:pt x="18" y="1571"/>
                    <a:pt x="18" y="1576"/>
                  </a:cubicBezTo>
                  <a:lnTo>
                    <a:pt x="18" y="1576"/>
                  </a:lnTo>
                  <a:cubicBezTo>
                    <a:pt x="18" y="1581"/>
                    <a:pt x="14" y="1584"/>
                    <a:pt x="10" y="1584"/>
                  </a:cubicBezTo>
                  <a:cubicBezTo>
                    <a:pt x="5" y="1584"/>
                    <a:pt x="1" y="1581"/>
                    <a:pt x="1" y="1576"/>
                  </a:cubicBezTo>
                  <a:close/>
                  <a:moveTo>
                    <a:pt x="1" y="1543"/>
                  </a:moveTo>
                  <a:lnTo>
                    <a:pt x="1" y="1543"/>
                  </a:lnTo>
                  <a:cubicBezTo>
                    <a:pt x="1" y="1538"/>
                    <a:pt x="5" y="1534"/>
                    <a:pt x="10" y="1534"/>
                  </a:cubicBezTo>
                  <a:cubicBezTo>
                    <a:pt x="14" y="1534"/>
                    <a:pt x="18" y="1538"/>
                    <a:pt x="18" y="1543"/>
                  </a:cubicBezTo>
                  <a:lnTo>
                    <a:pt x="18" y="1543"/>
                  </a:lnTo>
                  <a:cubicBezTo>
                    <a:pt x="18" y="1547"/>
                    <a:pt x="14" y="1551"/>
                    <a:pt x="10" y="1551"/>
                  </a:cubicBezTo>
                  <a:cubicBezTo>
                    <a:pt x="5" y="1551"/>
                    <a:pt x="1" y="1547"/>
                    <a:pt x="1" y="1543"/>
                  </a:cubicBezTo>
                  <a:close/>
                  <a:moveTo>
                    <a:pt x="1" y="1509"/>
                  </a:moveTo>
                  <a:lnTo>
                    <a:pt x="1" y="1509"/>
                  </a:lnTo>
                  <a:cubicBezTo>
                    <a:pt x="1" y="1505"/>
                    <a:pt x="5" y="1501"/>
                    <a:pt x="10" y="1501"/>
                  </a:cubicBezTo>
                  <a:cubicBezTo>
                    <a:pt x="14" y="1501"/>
                    <a:pt x="18" y="1505"/>
                    <a:pt x="18" y="1509"/>
                  </a:cubicBezTo>
                  <a:lnTo>
                    <a:pt x="18" y="1509"/>
                  </a:lnTo>
                  <a:cubicBezTo>
                    <a:pt x="18" y="1514"/>
                    <a:pt x="14" y="1518"/>
                    <a:pt x="10" y="1518"/>
                  </a:cubicBezTo>
                  <a:cubicBezTo>
                    <a:pt x="5" y="1518"/>
                    <a:pt x="1" y="1514"/>
                    <a:pt x="1" y="1509"/>
                  </a:cubicBezTo>
                  <a:close/>
                  <a:moveTo>
                    <a:pt x="1" y="1476"/>
                  </a:moveTo>
                  <a:lnTo>
                    <a:pt x="1" y="1476"/>
                  </a:lnTo>
                  <a:cubicBezTo>
                    <a:pt x="1" y="1471"/>
                    <a:pt x="5" y="1468"/>
                    <a:pt x="10" y="1468"/>
                  </a:cubicBezTo>
                  <a:cubicBezTo>
                    <a:pt x="14" y="1468"/>
                    <a:pt x="18" y="1471"/>
                    <a:pt x="18" y="1476"/>
                  </a:cubicBezTo>
                  <a:lnTo>
                    <a:pt x="18" y="1476"/>
                  </a:lnTo>
                  <a:cubicBezTo>
                    <a:pt x="18" y="1481"/>
                    <a:pt x="14" y="1484"/>
                    <a:pt x="10" y="1484"/>
                  </a:cubicBezTo>
                  <a:cubicBezTo>
                    <a:pt x="5" y="1484"/>
                    <a:pt x="1" y="1481"/>
                    <a:pt x="1" y="1476"/>
                  </a:cubicBezTo>
                  <a:close/>
                  <a:moveTo>
                    <a:pt x="1" y="1443"/>
                  </a:moveTo>
                  <a:lnTo>
                    <a:pt x="1" y="1443"/>
                  </a:lnTo>
                  <a:cubicBezTo>
                    <a:pt x="1" y="1438"/>
                    <a:pt x="5" y="1434"/>
                    <a:pt x="10" y="1434"/>
                  </a:cubicBezTo>
                  <a:cubicBezTo>
                    <a:pt x="14" y="1434"/>
                    <a:pt x="18" y="1438"/>
                    <a:pt x="18" y="1443"/>
                  </a:cubicBezTo>
                  <a:lnTo>
                    <a:pt x="18" y="1443"/>
                  </a:lnTo>
                  <a:cubicBezTo>
                    <a:pt x="18" y="1447"/>
                    <a:pt x="14" y="1451"/>
                    <a:pt x="10" y="1451"/>
                  </a:cubicBezTo>
                  <a:cubicBezTo>
                    <a:pt x="5" y="1451"/>
                    <a:pt x="1" y="1447"/>
                    <a:pt x="1" y="1443"/>
                  </a:cubicBezTo>
                  <a:close/>
                  <a:moveTo>
                    <a:pt x="1" y="1409"/>
                  </a:moveTo>
                  <a:lnTo>
                    <a:pt x="1" y="1409"/>
                  </a:lnTo>
                  <a:cubicBezTo>
                    <a:pt x="1" y="1405"/>
                    <a:pt x="5" y="1401"/>
                    <a:pt x="10" y="1401"/>
                  </a:cubicBezTo>
                  <a:cubicBezTo>
                    <a:pt x="14" y="1401"/>
                    <a:pt x="18" y="1405"/>
                    <a:pt x="18" y="1409"/>
                  </a:cubicBezTo>
                  <a:lnTo>
                    <a:pt x="18" y="1409"/>
                  </a:lnTo>
                  <a:cubicBezTo>
                    <a:pt x="18" y="1414"/>
                    <a:pt x="14" y="1418"/>
                    <a:pt x="10" y="1418"/>
                  </a:cubicBezTo>
                  <a:cubicBezTo>
                    <a:pt x="5" y="1418"/>
                    <a:pt x="1" y="1414"/>
                    <a:pt x="1" y="1409"/>
                  </a:cubicBezTo>
                  <a:close/>
                  <a:moveTo>
                    <a:pt x="2" y="1376"/>
                  </a:moveTo>
                  <a:lnTo>
                    <a:pt x="2" y="1376"/>
                  </a:lnTo>
                  <a:cubicBezTo>
                    <a:pt x="2" y="1371"/>
                    <a:pt x="5" y="1368"/>
                    <a:pt x="10" y="1368"/>
                  </a:cubicBezTo>
                  <a:cubicBezTo>
                    <a:pt x="14" y="1368"/>
                    <a:pt x="18" y="1371"/>
                    <a:pt x="18" y="1376"/>
                  </a:cubicBezTo>
                  <a:lnTo>
                    <a:pt x="18" y="1376"/>
                  </a:lnTo>
                  <a:cubicBezTo>
                    <a:pt x="18" y="1381"/>
                    <a:pt x="14" y="1384"/>
                    <a:pt x="10" y="1384"/>
                  </a:cubicBezTo>
                  <a:cubicBezTo>
                    <a:pt x="5" y="1384"/>
                    <a:pt x="2" y="1381"/>
                    <a:pt x="2" y="1376"/>
                  </a:cubicBezTo>
                  <a:close/>
                  <a:moveTo>
                    <a:pt x="2" y="1343"/>
                  </a:moveTo>
                  <a:lnTo>
                    <a:pt x="2" y="1343"/>
                  </a:lnTo>
                  <a:cubicBezTo>
                    <a:pt x="2" y="1338"/>
                    <a:pt x="5" y="1334"/>
                    <a:pt x="10" y="1334"/>
                  </a:cubicBezTo>
                  <a:cubicBezTo>
                    <a:pt x="14" y="1334"/>
                    <a:pt x="18" y="1338"/>
                    <a:pt x="18" y="1343"/>
                  </a:cubicBezTo>
                  <a:lnTo>
                    <a:pt x="18" y="1343"/>
                  </a:lnTo>
                  <a:cubicBezTo>
                    <a:pt x="18" y="1347"/>
                    <a:pt x="14" y="1351"/>
                    <a:pt x="10" y="1351"/>
                  </a:cubicBezTo>
                  <a:cubicBezTo>
                    <a:pt x="5" y="1351"/>
                    <a:pt x="2" y="1347"/>
                    <a:pt x="2" y="1343"/>
                  </a:cubicBezTo>
                  <a:close/>
                  <a:moveTo>
                    <a:pt x="2" y="1309"/>
                  </a:moveTo>
                  <a:lnTo>
                    <a:pt x="2" y="1309"/>
                  </a:lnTo>
                  <a:cubicBezTo>
                    <a:pt x="2" y="1305"/>
                    <a:pt x="5" y="1301"/>
                    <a:pt x="10" y="1301"/>
                  </a:cubicBezTo>
                  <a:cubicBezTo>
                    <a:pt x="15" y="1301"/>
                    <a:pt x="18" y="1305"/>
                    <a:pt x="18" y="1309"/>
                  </a:cubicBezTo>
                  <a:lnTo>
                    <a:pt x="18" y="1309"/>
                  </a:lnTo>
                  <a:cubicBezTo>
                    <a:pt x="18" y="1314"/>
                    <a:pt x="15" y="1318"/>
                    <a:pt x="10" y="1318"/>
                  </a:cubicBezTo>
                  <a:cubicBezTo>
                    <a:pt x="5" y="1318"/>
                    <a:pt x="2" y="1314"/>
                    <a:pt x="2" y="1309"/>
                  </a:cubicBezTo>
                  <a:close/>
                  <a:moveTo>
                    <a:pt x="2" y="1276"/>
                  </a:moveTo>
                  <a:lnTo>
                    <a:pt x="2" y="1276"/>
                  </a:lnTo>
                  <a:cubicBezTo>
                    <a:pt x="2" y="1271"/>
                    <a:pt x="5" y="1268"/>
                    <a:pt x="10" y="1268"/>
                  </a:cubicBezTo>
                  <a:cubicBezTo>
                    <a:pt x="15" y="1268"/>
                    <a:pt x="18" y="1271"/>
                    <a:pt x="18" y="1276"/>
                  </a:cubicBezTo>
                  <a:lnTo>
                    <a:pt x="18" y="1276"/>
                  </a:lnTo>
                  <a:cubicBezTo>
                    <a:pt x="18" y="1280"/>
                    <a:pt x="15" y="1284"/>
                    <a:pt x="10" y="1284"/>
                  </a:cubicBezTo>
                  <a:cubicBezTo>
                    <a:pt x="5" y="1284"/>
                    <a:pt x="2" y="1280"/>
                    <a:pt x="2" y="1276"/>
                  </a:cubicBezTo>
                  <a:close/>
                  <a:moveTo>
                    <a:pt x="2" y="1243"/>
                  </a:moveTo>
                  <a:lnTo>
                    <a:pt x="2" y="1242"/>
                  </a:lnTo>
                  <a:cubicBezTo>
                    <a:pt x="2" y="1238"/>
                    <a:pt x="5" y="1234"/>
                    <a:pt x="10" y="1234"/>
                  </a:cubicBezTo>
                  <a:cubicBezTo>
                    <a:pt x="15" y="1234"/>
                    <a:pt x="18" y="1238"/>
                    <a:pt x="18" y="1242"/>
                  </a:cubicBezTo>
                  <a:lnTo>
                    <a:pt x="18" y="1243"/>
                  </a:lnTo>
                  <a:cubicBezTo>
                    <a:pt x="18" y="1247"/>
                    <a:pt x="15" y="1251"/>
                    <a:pt x="10" y="1251"/>
                  </a:cubicBezTo>
                  <a:cubicBezTo>
                    <a:pt x="5" y="1251"/>
                    <a:pt x="2" y="1247"/>
                    <a:pt x="2" y="1243"/>
                  </a:cubicBezTo>
                  <a:close/>
                  <a:moveTo>
                    <a:pt x="2" y="1209"/>
                  </a:moveTo>
                  <a:lnTo>
                    <a:pt x="2" y="1209"/>
                  </a:lnTo>
                  <a:cubicBezTo>
                    <a:pt x="2" y="1205"/>
                    <a:pt x="5" y="1201"/>
                    <a:pt x="10" y="1201"/>
                  </a:cubicBezTo>
                  <a:cubicBezTo>
                    <a:pt x="15" y="1201"/>
                    <a:pt x="18" y="1205"/>
                    <a:pt x="18" y="1209"/>
                  </a:cubicBezTo>
                  <a:lnTo>
                    <a:pt x="18" y="1209"/>
                  </a:lnTo>
                  <a:cubicBezTo>
                    <a:pt x="18" y="1214"/>
                    <a:pt x="15" y="1217"/>
                    <a:pt x="10" y="1217"/>
                  </a:cubicBezTo>
                  <a:cubicBezTo>
                    <a:pt x="5" y="1217"/>
                    <a:pt x="2" y="1214"/>
                    <a:pt x="2" y="1209"/>
                  </a:cubicBezTo>
                  <a:close/>
                  <a:moveTo>
                    <a:pt x="2" y="1176"/>
                  </a:moveTo>
                  <a:lnTo>
                    <a:pt x="2" y="1176"/>
                  </a:lnTo>
                  <a:cubicBezTo>
                    <a:pt x="2" y="1171"/>
                    <a:pt x="6" y="1167"/>
                    <a:pt x="10" y="1167"/>
                  </a:cubicBezTo>
                  <a:cubicBezTo>
                    <a:pt x="15" y="1167"/>
                    <a:pt x="18" y="1171"/>
                    <a:pt x="18" y="1176"/>
                  </a:cubicBezTo>
                  <a:lnTo>
                    <a:pt x="18" y="1176"/>
                  </a:lnTo>
                  <a:cubicBezTo>
                    <a:pt x="18" y="1180"/>
                    <a:pt x="15" y="1184"/>
                    <a:pt x="10" y="1184"/>
                  </a:cubicBezTo>
                  <a:cubicBezTo>
                    <a:pt x="6" y="1184"/>
                    <a:pt x="2" y="1180"/>
                    <a:pt x="2" y="1176"/>
                  </a:cubicBezTo>
                  <a:close/>
                  <a:moveTo>
                    <a:pt x="2" y="1142"/>
                  </a:moveTo>
                  <a:lnTo>
                    <a:pt x="2" y="1142"/>
                  </a:lnTo>
                  <a:cubicBezTo>
                    <a:pt x="2" y="1138"/>
                    <a:pt x="6" y="1134"/>
                    <a:pt x="10" y="1134"/>
                  </a:cubicBezTo>
                  <a:cubicBezTo>
                    <a:pt x="15" y="1134"/>
                    <a:pt x="18" y="1138"/>
                    <a:pt x="18" y="1142"/>
                  </a:cubicBezTo>
                  <a:lnTo>
                    <a:pt x="18" y="1142"/>
                  </a:lnTo>
                  <a:cubicBezTo>
                    <a:pt x="18" y="1147"/>
                    <a:pt x="15" y="1151"/>
                    <a:pt x="10" y="1151"/>
                  </a:cubicBezTo>
                  <a:cubicBezTo>
                    <a:pt x="6" y="1151"/>
                    <a:pt x="2" y="1147"/>
                    <a:pt x="2" y="1142"/>
                  </a:cubicBezTo>
                  <a:close/>
                  <a:moveTo>
                    <a:pt x="2" y="1109"/>
                  </a:moveTo>
                  <a:lnTo>
                    <a:pt x="2" y="1109"/>
                  </a:lnTo>
                  <a:cubicBezTo>
                    <a:pt x="2" y="1104"/>
                    <a:pt x="6" y="1101"/>
                    <a:pt x="10" y="1101"/>
                  </a:cubicBezTo>
                  <a:cubicBezTo>
                    <a:pt x="15" y="1101"/>
                    <a:pt x="19" y="1104"/>
                    <a:pt x="19" y="1109"/>
                  </a:cubicBezTo>
                  <a:lnTo>
                    <a:pt x="19" y="1109"/>
                  </a:lnTo>
                  <a:cubicBezTo>
                    <a:pt x="19" y="1114"/>
                    <a:pt x="15" y="1117"/>
                    <a:pt x="10" y="1117"/>
                  </a:cubicBezTo>
                  <a:cubicBezTo>
                    <a:pt x="6" y="1117"/>
                    <a:pt x="2" y="1114"/>
                    <a:pt x="2" y="1109"/>
                  </a:cubicBezTo>
                  <a:close/>
                  <a:moveTo>
                    <a:pt x="2" y="1076"/>
                  </a:moveTo>
                  <a:lnTo>
                    <a:pt x="2" y="1076"/>
                  </a:lnTo>
                  <a:cubicBezTo>
                    <a:pt x="2" y="1071"/>
                    <a:pt x="6" y="1067"/>
                    <a:pt x="10" y="1067"/>
                  </a:cubicBezTo>
                  <a:cubicBezTo>
                    <a:pt x="15" y="1067"/>
                    <a:pt x="19" y="1071"/>
                    <a:pt x="19" y="1076"/>
                  </a:cubicBezTo>
                  <a:lnTo>
                    <a:pt x="19" y="1076"/>
                  </a:lnTo>
                  <a:cubicBezTo>
                    <a:pt x="19" y="1080"/>
                    <a:pt x="15" y="1084"/>
                    <a:pt x="10" y="1084"/>
                  </a:cubicBezTo>
                  <a:cubicBezTo>
                    <a:pt x="6" y="1084"/>
                    <a:pt x="2" y="1080"/>
                    <a:pt x="2" y="1076"/>
                  </a:cubicBezTo>
                  <a:close/>
                  <a:moveTo>
                    <a:pt x="2" y="1042"/>
                  </a:moveTo>
                  <a:lnTo>
                    <a:pt x="2" y="1042"/>
                  </a:lnTo>
                  <a:cubicBezTo>
                    <a:pt x="2" y="1038"/>
                    <a:pt x="6" y="1034"/>
                    <a:pt x="10" y="1034"/>
                  </a:cubicBezTo>
                  <a:cubicBezTo>
                    <a:pt x="15" y="1034"/>
                    <a:pt x="19" y="1038"/>
                    <a:pt x="19" y="1042"/>
                  </a:cubicBezTo>
                  <a:lnTo>
                    <a:pt x="19" y="1042"/>
                  </a:lnTo>
                  <a:cubicBezTo>
                    <a:pt x="19" y="1047"/>
                    <a:pt x="15" y="1051"/>
                    <a:pt x="10" y="1051"/>
                  </a:cubicBezTo>
                  <a:cubicBezTo>
                    <a:pt x="6" y="1051"/>
                    <a:pt x="2" y="1047"/>
                    <a:pt x="2" y="1042"/>
                  </a:cubicBezTo>
                  <a:close/>
                  <a:moveTo>
                    <a:pt x="2" y="1009"/>
                  </a:moveTo>
                  <a:lnTo>
                    <a:pt x="2" y="1009"/>
                  </a:lnTo>
                  <a:cubicBezTo>
                    <a:pt x="2" y="1004"/>
                    <a:pt x="6" y="1001"/>
                    <a:pt x="10" y="1001"/>
                  </a:cubicBezTo>
                  <a:cubicBezTo>
                    <a:pt x="15" y="1001"/>
                    <a:pt x="19" y="1004"/>
                    <a:pt x="19" y="1009"/>
                  </a:cubicBezTo>
                  <a:lnTo>
                    <a:pt x="19" y="1009"/>
                  </a:lnTo>
                  <a:cubicBezTo>
                    <a:pt x="19" y="1014"/>
                    <a:pt x="15" y="1017"/>
                    <a:pt x="10" y="1017"/>
                  </a:cubicBezTo>
                  <a:cubicBezTo>
                    <a:pt x="6" y="1017"/>
                    <a:pt x="2" y="1014"/>
                    <a:pt x="2" y="1009"/>
                  </a:cubicBezTo>
                  <a:close/>
                  <a:moveTo>
                    <a:pt x="2" y="976"/>
                  </a:moveTo>
                  <a:lnTo>
                    <a:pt x="2" y="976"/>
                  </a:lnTo>
                  <a:cubicBezTo>
                    <a:pt x="2" y="971"/>
                    <a:pt x="6" y="967"/>
                    <a:pt x="10" y="967"/>
                  </a:cubicBezTo>
                  <a:cubicBezTo>
                    <a:pt x="15" y="967"/>
                    <a:pt x="19" y="971"/>
                    <a:pt x="19" y="976"/>
                  </a:cubicBezTo>
                  <a:lnTo>
                    <a:pt x="19" y="976"/>
                  </a:lnTo>
                  <a:cubicBezTo>
                    <a:pt x="19" y="980"/>
                    <a:pt x="15" y="984"/>
                    <a:pt x="10" y="984"/>
                  </a:cubicBezTo>
                  <a:cubicBezTo>
                    <a:pt x="6" y="984"/>
                    <a:pt x="2" y="980"/>
                    <a:pt x="2" y="976"/>
                  </a:cubicBezTo>
                  <a:close/>
                  <a:moveTo>
                    <a:pt x="2" y="942"/>
                  </a:moveTo>
                  <a:lnTo>
                    <a:pt x="2" y="942"/>
                  </a:lnTo>
                  <a:cubicBezTo>
                    <a:pt x="2" y="938"/>
                    <a:pt x="6" y="934"/>
                    <a:pt x="10" y="934"/>
                  </a:cubicBezTo>
                  <a:cubicBezTo>
                    <a:pt x="15" y="934"/>
                    <a:pt x="19" y="938"/>
                    <a:pt x="19" y="942"/>
                  </a:cubicBezTo>
                  <a:lnTo>
                    <a:pt x="19" y="942"/>
                  </a:lnTo>
                  <a:cubicBezTo>
                    <a:pt x="19" y="947"/>
                    <a:pt x="15" y="951"/>
                    <a:pt x="10" y="951"/>
                  </a:cubicBezTo>
                  <a:cubicBezTo>
                    <a:pt x="6" y="951"/>
                    <a:pt x="2" y="947"/>
                    <a:pt x="2" y="942"/>
                  </a:cubicBezTo>
                  <a:close/>
                  <a:moveTo>
                    <a:pt x="2" y="909"/>
                  </a:moveTo>
                  <a:lnTo>
                    <a:pt x="2" y="909"/>
                  </a:lnTo>
                  <a:cubicBezTo>
                    <a:pt x="2" y="904"/>
                    <a:pt x="6" y="901"/>
                    <a:pt x="10" y="901"/>
                  </a:cubicBezTo>
                  <a:cubicBezTo>
                    <a:pt x="15" y="901"/>
                    <a:pt x="19" y="904"/>
                    <a:pt x="19" y="909"/>
                  </a:cubicBezTo>
                  <a:lnTo>
                    <a:pt x="19" y="909"/>
                  </a:lnTo>
                  <a:cubicBezTo>
                    <a:pt x="19" y="914"/>
                    <a:pt x="15" y="917"/>
                    <a:pt x="10" y="917"/>
                  </a:cubicBezTo>
                  <a:cubicBezTo>
                    <a:pt x="6" y="917"/>
                    <a:pt x="2" y="914"/>
                    <a:pt x="2" y="909"/>
                  </a:cubicBezTo>
                  <a:close/>
                  <a:moveTo>
                    <a:pt x="2" y="876"/>
                  </a:moveTo>
                  <a:lnTo>
                    <a:pt x="2" y="876"/>
                  </a:lnTo>
                  <a:cubicBezTo>
                    <a:pt x="2" y="871"/>
                    <a:pt x="6" y="867"/>
                    <a:pt x="11" y="867"/>
                  </a:cubicBezTo>
                  <a:cubicBezTo>
                    <a:pt x="15" y="867"/>
                    <a:pt x="19" y="871"/>
                    <a:pt x="19" y="876"/>
                  </a:cubicBezTo>
                  <a:lnTo>
                    <a:pt x="19" y="876"/>
                  </a:lnTo>
                  <a:cubicBezTo>
                    <a:pt x="19" y="880"/>
                    <a:pt x="15" y="884"/>
                    <a:pt x="11" y="884"/>
                  </a:cubicBezTo>
                  <a:cubicBezTo>
                    <a:pt x="6" y="884"/>
                    <a:pt x="2" y="880"/>
                    <a:pt x="2" y="876"/>
                  </a:cubicBezTo>
                  <a:close/>
                  <a:moveTo>
                    <a:pt x="2" y="842"/>
                  </a:moveTo>
                  <a:lnTo>
                    <a:pt x="2" y="842"/>
                  </a:lnTo>
                  <a:cubicBezTo>
                    <a:pt x="2" y="838"/>
                    <a:pt x="6" y="834"/>
                    <a:pt x="11" y="834"/>
                  </a:cubicBezTo>
                  <a:cubicBezTo>
                    <a:pt x="15" y="834"/>
                    <a:pt x="19" y="838"/>
                    <a:pt x="19" y="842"/>
                  </a:cubicBezTo>
                  <a:lnTo>
                    <a:pt x="19" y="842"/>
                  </a:lnTo>
                  <a:cubicBezTo>
                    <a:pt x="19" y="847"/>
                    <a:pt x="15" y="851"/>
                    <a:pt x="11" y="851"/>
                  </a:cubicBezTo>
                  <a:cubicBezTo>
                    <a:pt x="6" y="851"/>
                    <a:pt x="2" y="847"/>
                    <a:pt x="2" y="842"/>
                  </a:cubicBezTo>
                  <a:close/>
                  <a:moveTo>
                    <a:pt x="2" y="809"/>
                  </a:moveTo>
                  <a:lnTo>
                    <a:pt x="2" y="809"/>
                  </a:lnTo>
                  <a:cubicBezTo>
                    <a:pt x="2" y="804"/>
                    <a:pt x="6" y="801"/>
                    <a:pt x="11" y="801"/>
                  </a:cubicBezTo>
                  <a:cubicBezTo>
                    <a:pt x="15" y="801"/>
                    <a:pt x="19" y="804"/>
                    <a:pt x="19" y="809"/>
                  </a:cubicBezTo>
                  <a:lnTo>
                    <a:pt x="19" y="809"/>
                  </a:lnTo>
                  <a:cubicBezTo>
                    <a:pt x="19" y="814"/>
                    <a:pt x="15" y="817"/>
                    <a:pt x="11" y="817"/>
                  </a:cubicBezTo>
                  <a:cubicBezTo>
                    <a:pt x="6" y="817"/>
                    <a:pt x="2" y="814"/>
                    <a:pt x="2" y="809"/>
                  </a:cubicBezTo>
                  <a:close/>
                  <a:moveTo>
                    <a:pt x="2" y="776"/>
                  </a:moveTo>
                  <a:lnTo>
                    <a:pt x="2" y="776"/>
                  </a:lnTo>
                  <a:cubicBezTo>
                    <a:pt x="2" y="771"/>
                    <a:pt x="6" y="767"/>
                    <a:pt x="11" y="767"/>
                  </a:cubicBezTo>
                  <a:cubicBezTo>
                    <a:pt x="15" y="767"/>
                    <a:pt x="19" y="771"/>
                    <a:pt x="19" y="776"/>
                  </a:cubicBezTo>
                  <a:lnTo>
                    <a:pt x="19" y="776"/>
                  </a:lnTo>
                  <a:cubicBezTo>
                    <a:pt x="19" y="780"/>
                    <a:pt x="15" y="784"/>
                    <a:pt x="11" y="784"/>
                  </a:cubicBezTo>
                  <a:cubicBezTo>
                    <a:pt x="6" y="784"/>
                    <a:pt x="2" y="780"/>
                    <a:pt x="2" y="776"/>
                  </a:cubicBezTo>
                  <a:close/>
                  <a:moveTo>
                    <a:pt x="2" y="742"/>
                  </a:moveTo>
                  <a:lnTo>
                    <a:pt x="2" y="742"/>
                  </a:lnTo>
                  <a:cubicBezTo>
                    <a:pt x="2" y="738"/>
                    <a:pt x="6" y="734"/>
                    <a:pt x="11" y="734"/>
                  </a:cubicBezTo>
                  <a:cubicBezTo>
                    <a:pt x="15" y="734"/>
                    <a:pt x="19" y="738"/>
                    <a:pt x="19" y="742"/>
                  </a:cubicBezTo>
                  <a:lnTo>
                    <a:pt x="19" y="742"/>
                  </a:lnTo>
                  <a:cubicBezTo>
                    <a:pt x="19" y="747"/>
                    <a:pt x="15" y="751"/>
                    <a:pt x="11" y="751"/>
                  </a:cubicBezTo>
                  <a:cubicBezTo>
                    <a:pt x="6" y="751"/>
                    <a:pt x="2" y="747"/>
                    <a:pt x="2" y="742"/>
                  </a:cubicBezTo>
                  <a:close/>
                  <a:moveTo>
                    <a:pt x="2" y="709"/>
                  </a:moveTo>
                  <a:lnTo>
                    <a:pt x="2" y="709"/>
                  </a:lnTo>
                  <a:cubicBezTo>
                    <a:pt x="2" y="704"/>
                    <a:pt x="6" y="701"/>
                    <a:pt x="11" y="701"/>
                  </a:cubicBezTo>
                  <a:cubicBezTo>
                    <a:pt x="15" y="701"/>
                    <a:pt x="19" y="704"/>
                    <a:pt x="19" y="709"/>
                  </a:cubicBezTo>
                  <a:lnTo>
                    <a:pt x="19" y="709"/>
                  </a:lnTo>
                  <a:cubicBezTo>
                    <a:pt x="19" y="714"/>
                    <a:pt x="15" y="717"/>
                    <a:pt x="11" y="717"/>
                  </a:cubicBezTo>
                  <a:cubicBezTo>
                    <a:pt x="6" y="717"/>
                    <a:pt x="2" y="714"/>
                    <a:pt x="2" y="709"/>
                  </a:cubicBezTo>
                  <a:close/>
                  <a:moveTo>
                    <a:pt x="2" y="676"/>
                  </a:moveTo>
                  <a:lnTo>
                    <a:pt x="2" y="676"/>
                  </a:lnTo>
                  <a:cubicBezTo>
                    <a:pt x="2" y="671"/>
                    <a:pt x="6" y="667"/>
                    <a:pt x="11" y="667"/>
                  </a:cubicBezTo>
                  <a:cubicBezTo>
                    <a:pt x="15" y="667"/>
                    <a:pt x="19" y="671"/>
                    <a:pt x="19" y="676"/>
                  </a:cubicBezTo>
                  <a:lnTo>
                    <a:pt x="19" y="676"/>
                  </a:lnTo>
                  <a:cubicBezTo>
                    <a:pt x="19" y="680"/>
                    <a:pt x="15" y="684"/>
                    <a:pt x="11" y="684"/>
                  </a:cubicBezTo>
                  <a:cubicBezTo>
                    <a:pt x="6" y="684"/>
                    <a:pt x="2" y="680"/>
                    <a:pt x="2" y="676"/>
                  </a:cubicBezTo>
                  <a:close/>
                  <a:moveTo>
                    <a:pt x="3" y="642"/>
                  </a:moveTo>
                  <a:lnTo>
                    <a:pt x="3" y="642"/>
                  </a:lnTo>
                  <a:cubicBezTo>
                    <a:pt x="3" y="638"/>
                    <a:pt x="6" y="634"/>
                    <a:pt x="11" y="634"/>
                  </a:cubicBezTo>
                  <a:cubicBezTo>
                    <a:pt x="15" y="634"/>
                    <a:pt x="19" y="638"/>
                    <a:pt x="19" y="642"/>
                  </a:cubicBezTo>
                  <a:lnTo>
                    <a:pt x="19" y="642"/>
                  </a:lnTo>
                  <a:cubicBezTo>
                    <a:pt x="19" y="647"/>
                    <a:pt x="15" y="651"/>
                    <a:pt x="11" y="651"/>
                  </a:cubicBezTo>
                  <a:cubicBezTo>
                    <a:pt x="6" y="651"/>
                    <a:pt x="3" y="647"/>
                    <a:pt x="3" y="642"/>
                  </a:cubicBezTo>
                  <a:close/>
                  <a:moveTo>
                    <a:pt x="3" y="609"/>
                  </a:moveTo>
                  <a:lnTo>
                    <a:pt x="3" y="609"/>
                  </a:lnTo>
                  <a:cubicBezTo>
                    <a:pt x="3" y="604"/>
                    <a:pt x="6" y="601"/>
                    <a:pt x="11" y="601"/>
                  </a:cubicBezTo>
                  <a:cubicBezTo>
                    <a:pt x="16" y="601"/>
                    <a:pt x="19" y="604"/>
                    <a:pt x="19" y="609"/>
                  </a:cubicBezTo>
                  <a:lnTo>
                    <a:pt x="19" y="609"/>
                  </a:lnTo>
                  <a:cubicBezTo>
                    <a:pt x="19" y="613"/>
                    <a:pt x="16" y="617"/>
                    <a:pt x="11" y="617"/>
                  </a:cubicBezTo>
                  <a:cubicBezTo>
                    <a:pt x="6" y="617"/>
                    <a:pt x="3" y="613"/>
                    <a:pt x="3" y="609"/>
                  </a:cubicBezTo>
                  <a:close/>
                  <a:moveTo>
                    <a:pt x="3" y="576"/>
                  </a:moveTo>
                  <a:lnTo>
                    <a:pt x="3" y="576"/>
                  </a:lnTo>
                  <a:cubicBezTo>
                    <a:pt x="3" y="571"/>
                    <a:pt x="6" y="567"/>
                    <a:pt x="11" y="567"/>
                  </a:cubicBezTo>
                  <a:cubicBezTo>
                    <a:pt x="16" y="567"/>
                    <a:pt x="19" y="571"/>
                    <a:pt x="19" y="576"/>
                  </a:cubicBezTo>
                  <a:lnTo>
                    <a:pt x="19" y="576"/>
                  </a:lnTo>
                  <a:cubicBezTo>
                    <a:pt x="19" y="580"/>
                    <a:pt x="16" y="584"/>
                    <a:pt x="11" y="584"/>
                  </a:cubicBezTo>
                  <a:cubicBezTo>
                    <a:pt x="6" y="584"/>
                    <a:pt x="3" y="580"/>
                    <a:pt x="3" y="576"/>
                  </a:cubicBezTo>
                  <a:close/>
                  <a:moveTo>
                    <a:pt x="3" y="542"/>
                  </a:moveTo>
                  <a:lnTo>
                    <a:pt x="3" y="542"/>
                  </a:lnTo>
                  <a:cubicBezTo>
                    <a:pt x="3" y="538"/>
                    <a:pt x="6" y="534"/>
                    <a:pt x="11" y="534"/>
                  </a:cubicBezTo>
                  <a:cubicBezTo>
                    <a:pt x="16" y="534"/>
                    <a:pt x="19" y="538"/>
                    <a:pt x="19" y="542"/>
                  </a:cubicBezTo>
                  <a:lnTo>
                    <a:pt x="19" y="542"/>
                  </a:lnTo>
                  <a:cubicBezTo>
                    <a:pt x="19" y="547"/>
                    <a:pt x="16" y="551"/>
                    <a:pt x="11" y="551"/>
                  </a:cubicBezTo>
                  <a:cubicBezTo>
                    <a:pt x="6" y="551"/>
                    <a:pt x="3" y="547"/>
                    <a:pt x="3" y="542"/>
                  </a:cubicBezTo>
                  <a:close/>
                  <a:moveTo>
                    <a:pt x="3" y="509"/>
                  </a:moveTo>
                  <a:lnTo>
                    <a:pt x="3" y="509"/>
                  </a:lnTo>
                  <a:cubicBezTo>
                    <a:pt x="3" y="504"/>
                    <a:pt x="6" y="500"/>
                    <a:pt x="11" y="500"/>
                  </a:cubicBezTo>
                  <a:cubicBezTo>
                    <a:pt x="16" y="500"/>
                    <a:pt x="19" y="504"/>
                    <a:pt x="19" y="509"/>
                  </a:cubicBezTo>
                  <a:lnTo>
                    <a:pt x="19" y="509"/>
                  </a:lnTo>
                  <a:cubicBezTo>
                    <a:pt x="19" y="513"/>
                    <a:pt x="16" y="517"/>
                    <a:pt x="11" y="517"/>
                  </a:cubicBezTo>
                  <a:cubicBezTo>
                    <a:pt x="6" y="517"/>
                    <a:pt x="3" y="513"/>
                    <a:pt x="3" y="509"/>
                  </a:cubicBezTo>
                  <a:close/>
                  <a:moveTo>
                    <a:pt x="3" y="475"/>
                  </a:moveTo>
                  <a:lnTo>
                    <a:pt x="3" y="475"/>
                  </a:lnTo>
                  <a:cubicBezTo>
                    <a:pt x="3" y="471"/>
                    <a:pt x="6" y="467"/>
                    <a:pt x="11" y="467"/>
                  </a:cubicBezTo>
                  <a:cubicBezTo>
                    <a:pt x="16" y="467"/>
                    <a:pt x="19" y="471"/>
                    <a:pt x="19" y="475"/>
                  </a:cubicBezTo>
                  <a:lnTo>
                    <a:pt x="19" y="475"/>
                  </a:lnTo>
                  <a:cubicBezTo>
                    <a:pt x="19" y="480"/>
                    <a:pt x="16" y="484"/>
                    <a:pt x="11" y="484"/>
                  </a:cubicBezTo>
                  <a:cubicBezTo>
                    <a:pt x="6" y="484"/>
                    <a:pt x="3" y="480"/>
                    <a:pt x="3" y="475"/>
                  </a:cubicBezTo>
                  <a:close/>
                  <a:moveTo>
                    <a:pt x="3" y="442"/>
                  </a:moveTo>
                  <a:lnTo>
                    <a:pt x="3" y="442"/>
                  </a:lnTo>
                  <a:cubicBezTo>
                    <a:pt x="3" y="438"/>
                    <a:pt x="7" y="434"/>
                    <a:pt x="11" y="434"/>
                  </a:cubicBezTo>
                  <a:cubicBezTo>
                    <a:pt x="16" y="434"/>
                    <a:pt x="19" y="438"/>
                    <a:pt x="19" y="442"/>
                  </a:cubicBezTo>
                  <a:lnTo>
                    <a:pt x="19" y="442"/>
                  </a:lnTo>
                  <a:cubicBezTo>
                    <a:pt x="19" y="447"/>
                    <a:pt x="16" y="450"/>
                    <a:pt x="11" y="450"/>
                  </a:cubicBezTo>
                  <a:cubicBezTo>
                    <a:pt x="7" y="450"/>
                    <a:pt x="3" y="447"/>
                    <a:pt x="3" y="442"/>
                  </a:cubicBezTo>
                  <a:close/>
                  <a:moveTo>
                    <a:pt x="3" y="409"/>
                  </a:moveTo>
                  <a:lnTo>
                    <a:pt x="3" y="409"/>
                  </a:lnTo>
                  <a:cubicBezTo>
                    <a:pt x="3" y="404"/>
                    <a:pt x="7" y="400"/>
                    <a:pt x="11" y="400"/>
                  </a:cubicBezTo>
                  <a:cubicBezTo>
                    <a:pt x="16" y="400"/>
                    <a:pt x="20" y="404"/>
                    <a:pt x="20" y="409"/>
                  </a:cubicBezTo>
                  <a:lnTo>
                    <a:pt x="20" y="409"/>
                  </a:lnTo>
                  <a:cubicBezTo>
                    <a:pt x="20" y="413"/>
                    <a:pt x="16" y="417"/>
                    <a:pt x="11" y="417"/>
                  </a:cubicBezTo>
                  <a:cubicBezTo>
                    <a:pt x="7" y="417"/>
                    <a:pt x="3" y="413"/>
                    <a:pt x="3" y="409"/>
                  </a:cubicBezTo>
                  <a:close/>
                  <a:moveTo>
                    <a:pt x="3" y="375"/>
                  </a:moveTo>
                  <a:lnTo>
                    <a:pt x="3" y="375"/>
                  </a:lnTo>
                  <a:cubicBezTo>
                    <a:pt x="3" y="371"/>
                    <a:pt x="7" y="367"/>
                    <a:pt x="11" y="367"/>
                  </a:cubicBezTo>
                  <a:cubicBezTo>
                    <a:pt x="16" y="367"/>
                    <a:pt x="20" y="371"/>
                    <a:pt x="20" y="375"/>
                  </a:cubicBezTo>
                  <a:lnTo>
                    <a:pt x="20" y="375"/>
                  </a:lnTo>
                  <a:cubicBezTo>
                    <a:pt x="20" y="380"/>
                    <a:pt x="16" y="384"/>
                    <a:pt x="11" y="384"/>
                  </a:cubicBezTo>
                  <a:cubicBezTo>
                    <a:pt x="7" y="384"/>
                    <a:pt x="3" y="380"/>
                    <a:pt x="3" y="375"/>
                  </a:cubicBezTo>
                  <a:close/>
                  <a:moveTo>
                    <a:pt x="3" y="342"/>
                  </a:moveTo>
                  <a:lnTo>
                    <a:pt x="3" y="342"/>
                  </a:lnTo>
                  <a:cubicBezTo>
                    <a:pt x="3" y="337"/>
                    <a:pt x="7" y="334"/>
                    <a:pt x="11" y="334"/>
                  </a:cubicBezTo>
                  <a:cubicBezTo>
                    <a:pt x="16" y="334"/>
                    <a:pt x="20" y="337"/>
                    <a:pt x="20" y="342"/>
                  </a:cubicBezTo>
                  <a:lnTo>
                    <a:pt x="20" y="342"/>
                  </a:lnTo>
                  <a:cubicBezTo>
                    <a:pt x="20" y="347"/>
                    <a:pt x="16" y="350"/>
                    <a:pt x="11" y="350"/>
                  </a:cubicBezTo>
                  <a:cubicBezTo>
                    <a:pt x="7" y="350"/>
                    <a:pt x="3" y="347"/>
                    <a:pt x="3" y="342"/>
                  </a:cubicBezTo>
                  <a:close/>
                  <a:moveTo>
                    <a:pt x="3" y="309"/>
                  </a:moveTo>
                  <a:lnTo>
                    <a:pt x="3" y="309"/>
                  </a:lnTo>
                  <a:cubicBezTo>
                    <a:pt x="3" y="304"/>
                    <a:pt x="7" y="300"/>
                    <a:pt x="11" y="300"/>
                  </a:cubicBezTo>
                  <a:cubicBezTo>
                    <a:pt x="16" y="300"/>
                    <a:pt x="20" y="304"/>
                    <a:pt x="20" y="309"/>
                  </a:cubicBezTo>
                  <a:lnTo>
                    <a:pt x="20" y="309"/>
                  </a:lnTo>
                  <a:cubicBezTo>
                    <a:pt x="20" y="313"/>
                    <a:pt x="16" y="317"/>
                    <a:pt x="11" y="317"/>
                  </a:cubicBezTo>
                  <a:cubicBezTo>
                    <a:pt x="7" y="317"/>
                    <a:pt x="3" y="313"/>
                    <a:pt x="3" y="309"/>
                  </a:cubicBezTo>
                  <a:close/>
                  <a:moveTo>
                    <a:pt x="3" y="275"/>
                  </a:moveTo>
                  <a:lnTo>
                    <a:pt x="3" y="275"/>
                  </a:lnTo>
                  <a:cubicBezTo>
                    <a:pt x="3" y="271"/>
                    <a:pt x="7" y="267"/>
                    <a:pt x="11" y="267"/>
                  </a:cubicBezTo>
                  <a:cubicBezTo>
                    <a:pt x="16" y="267"/>
                    <a:pt x="20" y="271"/>
                    <a:pt x="20" y="275"/>
                  </a:cubicBezTo>
                  <a:lnTo>
                    <a:pt x="20" y="275"/>
                  </a:lnTo>
                  <a:cubicBezTo>
                    <a:pt x="20" y="280"/>
                    <a:pt x="16" y="284"/>
                    <a:pt x="11" y="284"/>
                  </a:cubicBezTo>
                  <a:cubicBezTo>
                    <a:pt x="7" y="284"/>
                    <a:pt x="3" y="280"/>
                    <a:pt x="3" y="275"/>
                  </a:cubicBezTo>
                  <a:close/>
                  <a:moveTo>
                    <a:pt x="3" y="242"/>
                  </a:moveTo>
                  <a:lnTo>
                    <a:pt x="3" y="242"/>
                  </a:lnTo>
                  <a:cubicBezTo>
                    <a:pt x="3" y="237"/>
                    <a:pt x="7" y="234"/>
                    <a:pt x="11" y="234"/>
                  </a:cubicBezTo>
                  <a:cubicBezTo>
                    <a:pt x="16" y="234"/>
                    <a:pt x="20" y="237"/>
                    <a:pt x="20" y="242"/>
                  </a:cubicBezTo>
                  <a:lnTo>
                    <a:pt x="20" y="242"/>
                  </a:lnTo>
                  <a:cubicBezTo>
                    <a:pt x="20" y="247"/>
                    <a:pt x="16" y="250"/>
                    <a:pt x="11" y="250"/>
                  </a:cubicBezTo>
                  <a:cubicBezTo>
                    <a:pt x="7" y="250"/>
                    <a:pt x="3" y="247"/>
                    <a:pt x="3" y="242"/>
                  </a:cubicBezTo>
                  <a:close/>
                  <a:moveTo>
                    <a:pt x="3" y="209"/>
                  </a:moveTo>
                  <a:lnTo>
                    <a:pt x="3" y="209"/>
                  </a:lnTo>
                  <a:cubicBezTo>
                    <a:pt x="3" y="204"/>
                    <a:pt x="7" y="200"/>
                    <a:pt x="11" y="200"/>
                  </a:cubicBezTo>
                  <a:cubicBezTo>
                    <a:pt x="16" y="200"/>
                    <a:pt x="20" y="204"/>
                    <a:pt x="20" y="209"/>
                  </a:cubicBezTo>
                  <a:lnTo>
                    <a:pt x="20" y="209"/>
                  </a:lnTo>
                  <a:cubicBezTo>
                    <a:pt x="20" y="213"/>
                    <a:pt x="16" y="217"/>
                    <a:pt x="11" y="217"/>
                  </a:cubicBezTo>
                  <a:cubicBezTo>
                    <a:pt x="7" y="217"/>
                    <a:pt x="3" y="213"/>
                    <a:pt x="3" y="209"/>
                  </a:cubicBezTo>
                  <a:close/>
                  <a:moveTo>
                    <a:pt x="3" y="175"/>
                  </a:moveTo>
                  <a:lnTo>
                    <a:pt x="3" y="175"/>
                  </a:lnTo>
                  <a:cubicBezTo>
                    <a:pt x="3" y="171"/>
                    <a:pt x="7" y="167"/>
                    <a:pt x="12" y="167"/>
                  </a:cubicBezTo>
                  <a:cubicBezTo>
                    <a:pt x="16" y="167"/>
                    <a:pt x="20" y="171"/>
                    <a:pt x="20" y="175"/>
                  </a:cubicBezTo>
                  <a:lnTo>
                    <a:pt x="20" y="175"/>
                  </a:lnTo>
                  <a:cubicBezTo>
                    <a:pt x="20" y="180"/>
                    <a:pt x="16" y="184"/>
                    <a:pt x="12" y="184"/>
                  </a:cubicBezTo>
                  <a:cubicBezTo>
                    <a:pt x="7" y="184"/>
                    <a:pt x="3" y="180"/>
                    <a:pt x="3" y="175"/>
                  </a:cubicBezTo>
                  <a:close/>
                  <a:moveTo>
                    <a:pt x="3" y="142"/>
                  </a:moveTo>
                  <a:lnTo>
                    <a:pt x="3" y="142"/>
                  </a:lnTo>
                  <a:cubicBezTo>
                    <a:pt x="3" y="137"/>
                    <a:pt x="7" y="134"/>
                    <a:pt x="12" y="134"/>
                  </a:cubicBezTo>
                  <a:cubicBezTo>
                    <a:pt x="16" y="134"/>
                    <a:pt x="20" y="137"/>
                    <a:pt x="20" y="142"/>
                  </a:cubicBezTo>
                  <a:lnTo>
                    <a:pt x="20" y="142"/>
                  </a:lnTo>
                  <a:cubicBezTo>
                    <a:pt x="20" y="147"/>
                    <a:pt x="16" y="150"/>
                    <a:pt x="12" y="150"/>
                  </a:cubicBezTo>
                  <a:cubicBezTo>
                    <a:pt x="7" y="150"/>
                    <a:pt x="3" y="147"/>
                    <a:pt x="3" y="142"/>
                  </a:cubicBezTo>
                  <a:close/>
                  <a:moveTo>
                    <a:pt x="3" y="109"/>
                  </a:moveTo>
                  <a:lnTo>
                    <a:pt x="3" y="109"/>
                  </a:lnTo>
                  <a:cubicBezTo>
                    <a:pt x="3" y="104"/>
                    <a:pt x="7" y="100"/>
                    <a:pt x="12" y="100"/>
                  </a:cubicBezTo>
                  <a:cubicBezTo>
                    <a:pt x="16" y="100"/>
                    <a:pt x="20" y="104"/>
                    <a:pt x="20" y="109"/>
                  </a:cubicBezTo>
                  <a:lnTo>
                    <a:pt x="20" y="109"/>
                  </a:lnTo>
                  <a:cubicBezTo>
                    <a:pt x="20" y="113"/>
                    <a:pt x="16" y="117"/>
                    <a:pt x="12" y="117"/>
                  </a:cubicBezTo>
                  <a:cubicBezTo>
                    <a:pt x="7" y="117"/>
                    <a:pt x="3" y="113"/>
                    <a:pt x="3" y="109"/>
                  </a:cubicBezTo>
                  <a:close/>
                  <a:moveTo>
                    <a:pt x="3" y="75"/>
                  </a:moveTo>
                  <a:lnTo>
                    <a:pt x="3" y="75"/>
                  </a:lnTo>
                  <a:cubicBezTo>
                    <a:pt x="3" y="71"/>
                    <a:pt x="7" y="67"/>
                    <a:pt x="12" y="67"/>
                  </a:cubicBezTo>
                  <a:cubicBezTo>
                    <a:pt x="16" y="67"/>
                    <a:pt x="20" y="71"/>
                    <a:pt x="20" y="75"/>
                  </a:cubicBezTo>
                  <a:lnTo>
                    <a:pt x="20" y="75"/>
                  </a:lnTo>
                  <a:cubicBezTo>
                    <a:pt x="20" y="80"/>
                    <a:pt x="16" y="84"/>
                    <a:pt x="12" y="84"/>
                  </a:cubicBezTo>
                  <a:cubicBezTo>
                    <a:pt x="7" y="84"/>
                    <a:pt x="3" y="80"/>
                    <a:pt x="3" y="75"/>
                  </a:cubicBezTo>
                  <a:close/>
                  <a:moveTo>
                    <a:pt x="3" y="42"/>
                  </a:moveTo>
                  <a:lnTo>
                    <a:pt x="3" y="42"/>
                  </a:lnTo>
                  <a:cubicBezTo>
                    <a:pt x="3" y="37"/>
                    <a:pt x="7" y="34"/>
                    <a:pt x="12" y="34"/>
                  </a:cubicBezTo>
                  <a:cubicBezTo>
                    <a:pt x="16" y="34"/>
                    <a:pt x="20" y="37"/>
                    <a:pt x="20" y="42"/>
                  </a:cubicBezTo>
                  <a:lnTo>
                    <a:pt x="20" y="42"/>
                  </a:lnTo>
                  <a:cubicBezTo>
                    <a:pt x="20" y="47"/>
                    <a:pt x="16" y="50"/>
                    <a:pt x="12" y="50"/>
                  </a:cubicBezTo>
                  <a:cubicBezTo>
                    <a:pt x="7" y="50"/>
                    <a:pt x="3" y="47"/>
                    <a:pt x="3" y="42"/>
                  </a:cubicBezTo>
                  <a:close/>
                  <a:moveTo>
                    <a:pt x="3" y="9"/>
                  </a:moveTo>
                  <a:lnTo>
                    <a:pt x="3" y="9"/>
                  </a:lnTo>
                  <a:cubicBezTo>
                    <a:pt x="3" y="4"/>
                    <a:pt x="7" y="0"/>
                    <a:pt x="12" y="0"/>
                  </a:cubicBezTo>
                  <a:cubicBezTo>
                    <a:pt x="16" y="0"/>
                    <a:pt x="20" y="4"/>
                    <a:pt x="20" y="9"/>
                  </a:cubicBezTo>
                  <a:lnTo>
                    <a:pt x="20" y="9"/>
                  </a:lnTo>
                  <a:cubicBezTo>
                    <a:pt x="20" y="13"/>
                    <a:pt x="16" y="17"/>
                    <a:pt x="12" y="17"/>
                  </a:cubicBezTo>
                  <a:cubicBezTo>
                    <a:pt x="7" y="17"/>
                    <a:pt x="3" y="13"/>
                    <a:pt x="3" y="9"/>
                  </a:cubicBez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564080" y="5346720"/>
              <a:ext cx="3240" cy="453960"/>
            </a:xfrm>
            <a:custGeom>
              <a:avLst/>
              <a:gdLst/>
              <a:ahLst/>
              <a:rect l="l" t="t" r="r" b="b"/>
              <a:pathLst>
                <a:path w="20" h="2385">
                  <a:moveTo>
                    <a:pt x="0" y="2376"/>
                  </a:moveTo>
                  <a:lnTo>
                    <a:pt x="0" y="2376"/>
                  </a:lnTo>
                  <a:cubicBezTo>
                    <a:pt x="0" y="2372"/>
                    <a:pt x="4" y="2368"/>
                    <a:pt x="8" y="2368"/>
                  </a:cubicBezTo>
                  <a:cubicBezTo>
                    <a:pt x="13" y="2368"/>
                    <a:pt x="17" y="2372"/>
                    <a:pt x="17" y="2376"/>
                  </a:cubicBezTo>
                  <a:lnTo>
                    <a:pt x="17" y="2376"/>
                  </a:lnTo>
                  <a:cubicBezTo>
                    <a:pt x="17" y="2381"/>
                    <a:pt x="13" y="2385"/>
                    <a:pt x="8" y="2385"/>
                  </a:cubicBezTo>
                  <a:cubicBezTo>
                    <a:pt x="4" y="2385"/>
                    <a:pt x="0" y="2381"/>
                    <a:pt x="0" y="2376"/>
                  </a:cubicBezTo>
                  <a:close/>
                  <a:moveTo>
                    <a:pt x="0" y="2343"/>
                  </a:moveTo>
                  <a:lnTo>
                    <a:pt x="0" y="2343"/>
                  </a:lnTo>
                  <a:cubicBezTo>
                    <a:pt x="0" y="2338"/>
                    <a:pt x="4" y="2335"/>
                    <a:pt x="9" y="2335"/>
                  </a:cubicBezTo>
                  <a:cubicBezTo>
                    <a:pt x="13" y="2335"/>
                    <a:pt x="17" y="2338"/>
                    <a:pt x="17" y="2343"/>
                  </a:cubicBezTo>
                  <a:lnTo>
                    <a:pt x="17" y="2343"/>
                  </a:lnTo>
                  <a:cubicBezTo>
                    <a:pt x="17" y="2348"/>
                    <a:pt x="13" y="2351"/>
                    <a:pt x="9" y="2351"/>
                  </a:cubicBezTo>
                  <a:cubicBezTo>
                    <a:pt x="4" y="2351"/>
                    <a:pt x="0" y="2348"/>
                    <a:pt x="0" y="2343"/>
                  </a:cubicBezTo>
                  <a:close/>
                  <a:moveTo>
                    <a:pt x="0" y="2310"/>
                  </a:moveTo>
                  <a:lnTo>
                    <a:pt x="0" y="2310"/>
                  </a:lnTo>
                  <a:cubicBezTo>
                    <a:pt x="0" y="2305"/>
                    <a:pt x="4" y="2301"/>
                    <a:pt x="9" y="2301"/>
                  </a:cubicBezTo>
                  <a:cubicBezTo>
                    <a:pt x="13" y="2301"/>
                    <a:pt x="17" y="2305"/>
                    <a:pt x="17" y="2310"/>
                  </a:cubicBezTo>
                  <a:lnTo>
                    <a:pt x="17" y="2310"/>
                  </a:lnTo>
                  <a:cubicBezTo>
                    <a:pt x="17" y="2314"/>
                    <a:pt x="13" y="2318"/>
                    <a:pt x="9" y="2318"/>
                  </a:cubicBezTo>
                  <a:cubicBezTo>
                    <a:pt x="4" y="2318"/>
                    <a:pt x="0" y="2314"/>
                    <a:pt x="0" y="2310"/>
                  </a:cubicBezTo>
                  <a:close/>
                  <a:moveTo>
                    <a:pt x="0" y="2276"/>
                  </a:moveTo>
                  <a:lnTo>
                    <a:pt x="0" y="2276"/>
                  </a:lnTo>
                  <a:cubicBezTo>
                    <a:pt x="0" y="2272"/>
                    <a:pt x="4" y="2268"/>
                    <a:pt x="9" y="2268"/>
                  </a:cubicBezTo>
                  <a:cubicBezTo>
                    <a:pt x="13" y="2268"/>
                    <a:pt x="17" y="2272"/>
                    <a:pt x="17" y="2276"/>
                  </a:cubicBezTo>
                  <a:lnTo>
                    <a:pt x="17" y="2276"/>
                  </a:lnTo>
                  <a:cubicBezTo>
                    <a:pt x="17" y="2281"/>
                    <a:pt x="13" y="2285"/>
                    <a:pt x="9" y="2285"/>
                  </a:cubicBezTo>
                  <a:cubicBezTo>
                    <a:pt x="4" y="2285"/>
                    <a:pt x="0" y="2281"/>
                    <a:pt x="0" y="2276"/>
                  </a:cubicBezTo>
                  <a:close/>
                  <a:moveTo>
                    <a:pt x="0" y="2243"/>
                  </a:moveTo>
                  <a:lnTo>
                    <a:pt x="0" y="2243"/>
                  </a:lnTo>
                  <a:cubicBezTo>
                    <a:pt x="0" y="2238"/>
                    <a:pt x="4" y="2235"/>
                    <a:pt x="9" y="2235"/>
                  </a:cubicBezTo>
                  <a:cubicBezTo>
                    <a:pt x="13" y="2235"/>
                    <a:pt x="17" y="2238"/>
                    <a:pt x="17" y="2243"/>
                  </a:cubicBezTo>
                  <a:lnTo>
                    <a:pt x="17" y="2243"/>
                  </a:lnTo>
                  <a:cubicBezTo>
                    <a:pt x="17" y="2248"/>
                    <a:pt x="13" y="2251"/>
                    <a:pt x="9" y="2251"/>
                  </a:cubicBezTo>
                  <a:cubicBezTo>
                    <a:pt x="4" y="2251"/>
                    <a:pt x="0" y="2248"/>
                    <a:pt x="0" y="2243"/>
                  </a:cubicBezTo>
                  <a:close/>
                  <a:moveTo>
                    <a:pt x="0" y="2210"/>
                  </a:moveTo>
                  <a:lnTo>
                    <a:pt x="0" y="2210"/>
                  </a:lnTo>
                  <a:cubicBezTo>
                    <a:pt x="0" y="2205"/>
                    <a:pt x="4" y="2201"/>
                    <a:pt x="9" y="2201"/>
                  </a:cubicBezTo>
                  <a:cubicBezTo>
                    <a:pt x="13" y="2201"/>
                    <a:pt x="17" y="2205"/>
                    <a:pt x="17" y="2210"/>
                  </a:cubicBezTo>
                  <a:lnTo>
                    <a:pt x="17" y="2210"/>
                  </a:lnTo>
                  <a:cubicBezTo>
                    <a:pt x="17" y="2214"/>
                    <a:pt x="13" y="2218"/>
                    <a:pt x="9" y="2218"/>
                  </a:cubicBezTo>
                  <a:cubicBezTo>
                    <a:pt x="4" y="2218"/>
                    <a:pt x="0" y="2214"/>
                    <a:pt x="0" y="2210"/>
                  </a:cubicBezTo>
                  <a:close/>
                  <a:moveTo>
                    <a:pt x="0" y="2176"/>
                  </a:moveTo>
                  <a:lnTo>
                    <a:pt x="0" y="2176"/>
                  </a:lnTo>
                  <a:cubicBezTo>
                    <a:pt x="0" y="2172"/>
                    <a:pt x="4" y="2168"/>
                    <a:pt x="9" y="2168"/>
                  </a:cubicBezTo>
                  <a:cubicBezTo>
                    <a:pt x="13" y="2168"/>
                    <a:pt x="17" y="2172"/>
                    <a:pt x="17" y="2176"/>
                  </a:cubicBezTo>
                  <a:lnTo>
                    <a:pt x="17" y="2176"/>
                  </a:lnTo>
                  <a:cubicBezTo>
                    <a:pt x="17" y="2181"/>
                    <a:pt x="13" y="2185"/>
                    <a:pt x="9" y="2185"/>
                  </a:cubicBezTo>
                  <a:cubicBezTo>
                    <a:pt x="4" y="2185"/>
                    <a:pt x="0" y="2181"/>
                    <a:pt x="0" y="2176"/>
                  </a:cubicBezTo>
                  <a:close/>
                  <a:moveTo>
                    <a:pt x="0" y="2143"/>
                  </a:moveTo>
                  <a:lnTo>
                    <a:pt x="0" y="2143"/>
                  </a:lnTo>
                  <a:cubicBezTo>
                    <a:pt x="0" y="2138"/>
                    <a:pt x="4" y="2135"/>
                    <a:pt x="9" y="2135"/>
                  </a:cubicBezTo>
                  <a:cubicBezTo>
                    <a:pt x="13" y="2135"/>
                    <a:pt x="17" y="2138"/>
                    <a:pt x="17" y="2143"/>
                  </a:cubicBezTo>
                  <a:lnTo>
                    <a:pt x="17" y="2143"/>
                  </a:lnTo>
                  <a:cubicBezTo>
                    <a:pt x="17" y="2148"/>
                    <a:pt x="13" y="2151"/>
                    <a:pt x="9" y="2151"/>
                  </a:cubicBezTo>
                  <a:cubicBezTo>
                    <a:pt x="4" y="2151"/>
                    <a:pt x="0" y="2148"/>
                    <a:pt x="0" y="2143"/>
                  </a:cubicBezTo>
                  <a:close/>
                  <a:moveTo>
                    <a:pt x="0" y="2110"/>
                  </a:moveTo>
                  <a:lnTo>
                    <a:pt x="0" y="2110"/>
                  </a:lnTo>
                  <a:cubicBezTo>
                    <a:pt x="0" y="2105"/>
                    <a:pt x="4" y="2101"/>
                    <a:pt x="9" y="2101"/>
                  </a:cubicBezTo>
                  <a:cubicBezTo>
                    <a:pt x="13" y="2101"/>
                    <a:pt x="17" y="2105"/>
                    <a:pt x="17" y="2110"/>
                  </a:cubicBezTo>
                  <a:lnTo>
                    <a:pt x="17" y="2110"/>
                  </a:lnTo>
                  <a:cubicBezTo>
                    <a:pt x="17" y="2114"/>
                    <a:pt x="13" y="2118"/>
                    <a:pt x="9" y="2118"/>
                  </a:cubicBezTo>
                  <a:cubicBezTo>
                    <a:pt x="4" y="2118"/>
                    <a:pt x="0" y="2114"/>
                    <a:pt x="0" y="2110"/>
                  </a:cubicBezTo>
                  <a:close/>
                  <a:moveTo>
                    <a:pt x="1" y="2076"/>
                  </a:moveTo>
                  <a:lnTo>
                    <a:pt x="1" y="2076"/>
                  </a:lnTo>
                  <a:cubicBezTo>
                    <a:pt x="1" y="2072"/>
                    <a:pt x="4" y="2068"/>
                    <a:pt x="9" y="2068"/>
                  </a:cubicBezTo>
                  <a:cubicBezTo>
                    <a:pt x="13" y="2068"/>
                    <a:pt x="17" y="2072"/>
                    <a:pt x="17" y="2076"/>
                  </a:cubicBezTo>
                  <a:lnTo>
                    <a:pt x="17" y="2076"/>
                  </a:lnTo>
                  <a:cubicBezTo>
                    <a:pt x="17" y="2081"/>
                    <a:pt x="13" y="2085"/>
                    <a:pt x="9" y="2085"/>
                  </a:cubicBezTo>
                  <a:cubicBezTo>
                    <a:pt x="4" y="2085"/>
                    <a:pt x="1" y="2081"/>
                    <a:pt x="1" y="2076"/>
                  </a:cubicBezTo>
                  <a:close/>
                  <a:moveTo>
                    <a:pt x="1" y="2043"/>
                  </a:moveTo>
                  <a:lnTo>
                    <a:pt x="1" y="2043"/>
                  </a:lnTo>
                  <a:cubicBezTo>
                    <a:pt x="1" y="2038"/>
                    <a:pt x="4" y="2035"/>
                    <a:pt x="9" y="2035"/>
                  </a:cubicBezTo>
                  <a:cubicBezTo>
                    <a:pt x="14" y="2035"/>
                    <a:pt x="17" y="2038"/>
                    <a:pt x="17" y="2043"/>
                  </a:cubicBezTo>
                  <a:lnTo>
                    <a:pt x="17" y="2043"/>
                  </a:lnTo>
                  <a:cubicBezTo>
                    <a:pt x="17" y="2048"/>
                    <a:pt x="14" y="2051"/>
                    <a:pt x="9" y="2051"/>
                  </a:cubicBezTo>
                  <a:cubicBezTo>
                    <a:pt x="4" y="2051"/>
                    <a:pt x="1" y="2048"/>
                    <a:pt x="1" y="2043"/>
                  </a:cubicBezTo>
                  <a:close/>
                  <a:moveTo>
                    <a:pt x="1" y="2010"/>
                  </a:moveTo>
                  <a:lnTo>
                    <a:pt x="1" y="2010"/>
                  </a:lnTo>
                  <a:cubicBezTo>
                    <a:pt x="1" y="2005"/>
                    <a:pt x="4" y="2001"/>
                    <a:pt x="9" y="2001"/>
                  </a:cubicBezTo>
                  <a:cubicBezTo>
                    <a:pt x="14" y="2001"/>
                    <a:pt x="17" y="2005"/>
                    <a:pt x="17" y="2010"/>
                  </a:cubicBezTo>
                  <a:lnTo>
                    <a:pt x="17" y="2010"/>
                  </a:lnTo>
                  <a:cubicBezTo>
                    <a:pt x="17" y="2014"/>
                    <a:pt x="14" y="2018"/>
                    <a:pt x="9" y="2018"/>
                  </a:cubicBezTo>
                  <a:cubicBezTo>
                    <a:pt x="4" y="2018"/>
                    <a:pt x="1" y="2014"/>
                    <a:pt x="1" y="2010"/>
                  </a:cubicBezTo>
                  <a:close/>
                  <a:moveTo>
                    <a:pt x="1" y="1976"/>
                  </a:moveTo>
                  <a:lnTo>
                    <a:pt x="1" y="1976"/>
                  </a:lnTo>
                  <a:cubicBezTo>
                    <a:pt x="1" y="1972"/>
                    <a:pt x="4" y="1968"/>
                    <a:pt x="9" y="1968"/>
                  </a:cubicBezTo>
                  <a:cubicBezTo>
                    <a:pt x="14" y="1968"/>
                    <a:pt x="17" y="1972"/>
                    <a:pt x="17" y="1976"/>
                  </a:cubicBezTo>
                  <a:lnTo>
                    <a:pt x="17" y="1976"/>
                  </a:lnTo>
                  <a:cubicBezTo>
                    <a:pt x="17" y="1981"/>
                    <a:pt x="14" y="1985"/>
                    <a:pt x="9" y="1985"/>
                  </a:cubicBezTo>
                  <a:cubicBezTo>
                    <a:pt x="4" y="1985"/>
                    <a:pt x="1" y="1981"/>
                    <a:pt x="1" y="1976"/>
                  </a:cubicBezTo>
                  <a:close/>
                  <a:moveTo>
                    <a:pt x="1" y="1943"/>
                  </a:moveTo>
                  <a:lnTo>
                    <a:pt x="1" y="1943"/>
                  </a:lnTo>
                  <a:cubicBezTo>
                    <a:pt x="1" y="1938"/>
                    <a:pt x="4" y="1935"/>
                    <a:pt x="9" y="1935"/>
                  </a:cubicBezTo>
                  <a:cubicBezTo>
                    <a:pt x="14" y="1935"/>
                    <a:pt x="17" y="1938"/>
                    <a:pt x="17" y="1943"/>
                  </a:cubicBezTo>
                  <a:lnTo>
                    <a:pt x="17" y="1943"/>
                  </a:lnTo>
                  <a:cubicBezTo>
                    <a:pt x="17" y="1948"/>
                    <a:pt x="14" y="1951"/>
                    <a:pt x="9" y="1951"/>
                  </a:cubicBezTo>
                  <a:cubicBezTo>
                    <a:pt x="4" y="1951"/>
                    <a:pt x="1" y="1948"/>
                    <a:pt x="1" y="1943"/>
                  </a:cubicBezTo>
                  <a:close/>
                  <a:moveTo>
                    <a:pt x="1" y="1910"/>
                  </a:moveTo>
                  <a:lnTo>
                    <a:pt x="1" y="1910"/>
                  </a:lnTo>
                  <a:cubicBezTo>
                    <a:pt x="1" y="1905"/>
                    <a:pt x="4" y="1901"/>
                    <a:pt x="9" y="1901"/>
                  </a:cubicBezTo>
                  <a:cubicBezTo>
                    <a:pt x="14" y="1901"/>
                    <a:pt x="17" y="1905"/>
                    <a:pt x="17" y="1910"/>
                  </a:cubicBezTo>
                  <a:lnTo>
                    <a:pt x="17" y="1910"/>
                  </a:lnTo>
                  <a:cubicBezTo>
                    <a:pt x="17" y="1914"/>
                    <a:pt x="14" y="1918"/>
                    <a:pt x="9" y="1918"/>
                  </a:cubicBezTo>
                  <a:cubicBezTo>
                    <a:pt x="4" y="1918"/>
                    <a:pt x="1" y="1914"/>
                    <a:pt x="1" y="1910"/>
                  </a:cubicBezTo>
                  <a:close/>
                  <a:moveTo>
                    <a:pt x="1" y="1876"/>
                  </a:moveTo>
                  <a:lnTo>
                    <a:pt x="1" y="1876"/>
                  </a:lnTo>
                  <a:cubicBezTo>
                    <a:pt x="1" y="1872"/>
                    <a:pt x="5" y="1868"/>
                    <a:pt x="9" y="1868"/>
                  </a:cubicBezTo>
                  <a:cubicBezTo>
                    <a:pt x="14" y="1868"/>
                    <a:pt x="17" y="1872"/>
                    <a:pt x="17" y="1876"/>
                  </a:cubicBezTo>
                  <a:lnTo>
                    <a:pt x="17" y="1876"/>
                  </a:lnTo>
                  <a:cubicBezTo>
                    <a:pt x="17" y="1881"/>
                    <a:pt x="14" y="1885"/>
                    <a:pt x="9" y="1885"/>
                  </a:cubicBezTo>
                  <a:cubicBezTo>
                    <a:pt x="5" y="1885"/>
                    <a:pt x="1" y="1881"/>
                    <a:pt x="1" y="1876"/>
                  </a:cubicBezTo>
                  <a:close/>
                  <a:moveTo>
                    <a:pt x="1" y="1843"/>
                  </a:moveTo>
                  <a:lnTo>
                    <a:pt x="1" y="1843"/>
                  </a:lnTo>
                  <a:cubicBezTo>
                    <a:pt x="1" y="1838"/>
                    <a:pt x="5" y="1834"/>
                    <a:pt x="9" y="1834"/>
                  </a:cubicBezTo>
                  <a:cubicBezTo>
                    <a:pt x="14" y="1834"/>
                    <a:pt x="18" y="1838"/>
                    <a:pt x="18" y="1843"/>
                  </a:cubicBezTo>
                  <a:lnTo>
                    <a:pt x="18" y="1843"/>
                  </a:lnTo>
                  <a:cubicBezTo>
                    <a:pt x="18" y="1847"/>
                    <a:pt x="14" y="1851"/>
                    <a:pt x="9" y="1851"/>
                  </a:cubicBezTo>
                  <a:cubicBezTo>
                    <a:pt x="5" y="1851"/>
                    <a:pt x="1" y="1847"/>
                    <a:pt x="1" y="1843"/>
                  </a:cubicBezTo>
                  <a:close/>
                  <a:moveTo>
                    <a:pt x="1" y="1809"/>
                  </a:moveTo>
                  <a:lnTo>
                    <a:pt x="1" y="1809"/>
                  </a:lnTo>
                  <a:cubicBezTo>
                    <a:pt x="1" y="1805"/>
                    <a:pt x="5" y="1801"/>
                    <a:pt x="9" y="1801"/>
                  </a:cubicBezTo>
                  <a:cubicBezTo>
                    <a:pt x="14" y="1801"/>
                    <a:pt x="18" y="1805"/>
                    <a:pt x="18" y="1809"/>
                  </a:cubicBezTo>
                  <a:lnTo>
                    <a:pt x="18" y="1809"/>
                  </a:lnTo>
                  <a:cubicBezTo>
                    <a:pt x="18" y="1814"/>
                    <a:pt x="14" y="1818"/>
                    <a:pt x="9" y="1818"/>
                  </a:cubicBezTo>
                  <a:cubicBezTo>
                    <a:pt x="5" y="1818"/>
                    <a:pt x="1" y="1814"/>
                    <a:pt x="1" y="1809"/>
                  </a:cubicBezTo>
                  <a:close/>
                  <a:moveTo>
                    <a:pt x="1" y="1776"/>
                  </a:moveTo>
                  <a:lnTo>
                    <a:pt x="1" y="1776"/>
                  </a:lnTo>
                  <a:cubicBezTo>
                    <a:pt x="1" y="1772"/>
                    <a:pt x="5" y="1768"/>
                    <a:pt x="9" y="1768"/>
                  </a:cubicBezTo>
                  <a:cubicBezTo>
                    <a:pt x="14" y="1768"/>
                    <a:pt x="18" y="1772"/>
                    <a:pt x="18" y="1776"/>
                  </a:cubicBezTo>
                  <a:lnTo>
                    <a:pt x="18" y="1776"/>
                  </a:lnTo>
                  <a:cubicBezTo>
                    <a:pt x="18" y="1781"/>
                    <a:pt x="14" y="1784"/>
                    <a:pt x="9" y="1784"/>
                  </a:cubicBezTo>
                  <a:cubicBezTo>
                    <a:pt x="5" y="1784"/>
                    <a:pt x="1" y="1781"/>
                    <a:pt x="1" y="1776"/>
                  </a:cubicBezTo>
                  <a:close/>
                  <a:moveTo>
                    <a:pt x="1" y="1743"/>
                  </a:moveTo>
                  <a:lnTo>
                    <a:pt x="1" y="1743"/>
                  </a:lnTo>
                  <a:cubicBezTo>
                    <a:pt x="1" y="1738"/>
                    <a:pt x="5" y="1734"/>
                    <a:pt x="9" y="1734"/>
                  </a:cubicBezTo>
                  <a:cubicBezTo>
                    <a:pt x="14" y="1734"/>
                    <a:pt x="18" y="1738"/>
                    <a:pt x="18" y="1743"/>
                  </a:cubicBezTo>
                  <a:lnTo>
                    <a:pt x="18" y="1743"/>
                  </a:lnTo>
                  <a:cubicBezTo>
                    <a:pt x="18" y="1747"/>
                    <a:pt x="14" y="1751"/>
                    <a:pt x="9" y="1751"/>
                  </a:cubicBezTo>
                  <a:cubicBezTo>
                    <a:pt x="5" y="1751"/>
                    <a:pt x="1" y="1747"/>
                    <a:pt x="1" y="1743"/>
                  </a:cubicBezTo>
                  <a:close/>
                  <a:moveTo>
                    <a:pt x="1" y="1709"/>
                  </a:moveTo>
                  <a:lnTo>
                    <a:pt x="1" y="1709"/>
                  </a:lnTo>
                  <a:cubicBezTo>
                    <a:pt x="1" y="1705"/>
                    <a:pt x="5" y="1701"/>
                    <a:pt x="9" y="1701"/>
                  </a:cubicBezTo>
                  <a:cubicBezTo>
                    <a:pt x="14" y="1701"/>
                    <a:pt x="18" y="1705"/>
                    <a:pt x="18" y="1709"/>
                  </a:cubicBezTo>
                  <a:lnTo>
                    <a:pt x="18" y="1709"/>
                  </a:lnTo>
                  <a:cubicBezTo>
                    <a:pt x="18" y="1714"/>
                    <a:pt x="14" y="1718"/>
                    <a:pt x="9" y="1718"/>
                  </a:cubicBezTo>
                  <a:cubicBezTo>
                    <a:pt x="5" y="1718"/>
                    <a:pt x="1" y="1714"/>
                    <a:pt x="1" y="1709"/>
                  </a:cubicBezTo>
                  <a:close/>
                  <a:moveTo>
                    <a:pt x="1" y="1676"/>
                  </a:moveTo>
                  <a:lnTo>
                    <a:pt x="1" y="1676"/>
                  </a:lnTo>
                  <a:cubicBezTo>
                    <a:pt x="1" y="1671"/>
                    <a:pt x="5" y="1668"/>
                    <a:pt x="9" y="1668"/>
                  </a:cubicBezTo>
                  <a:cubicBezTo>
                    <a:pt x="14" y="1668"/>
                    <a:pt x="18" y="1671"/>
                    <a:pt x="18" y="1676"/>
                  </a:cubicBezTo>
                  <a:lnTo>
                    <a:pt x="18" y="1676"/>
                  </a:lnTo>
                  <a:cubicBezTo>
                    <a:pt x="18" y="1681"/>
                    <a:pt x="14" y="1684"/>
                    <a:pt x="9" y="1684"/>
                  </a:cubicBezTo>
                  <a:cubicBezTo>
                    <a:pt x="5" y="1684"/>
                    <a:pt x="1" y="1681"/>
                    <a:pt x="1" y="1676"/>
                  </a:cubicBezTo>
                  <a:close/>
                  <a:moveTo>
                    <a:pt x="1" y="1643"/>
                  </a:moveTo>
                  <a:lnTo>
                    <a:pt x="1" y="1643"/>
                  </a:lnTo>
                  <a:cubicBezTo>
                    <a:pt x="1" y="1638"/>
                    <a:pt x="5" y="1634"/>
                    <a:pt x="9" y="1634"/>
                  </a:cubicBezTo>
                  <a:cubicBezTo>
                    <a:pt x="14" y="1634"/>
                    <a:pt x="18" y="1638"/>
                    <a:pt x="18" y="1643"/>
                  </a:cubicBezTo>
                  <a:lnTo>
                    <a:pt x="18" y="1643"/>
                  </a:lnTo>
                  <a:cubicBezTo>
                    <a:pt x="18" y="1647"/>
                    <a:pt x="14" y="1651"/>
                    <a:pt x="9" y="1651"/>
                  </a:cubicBezTo>
                  <a:cubicBezTo>
                    <a:pt x="5" y="1651"/>
                    <a:pt x="1" y="1647"/>
                    <a:pt x="1" y="1643"/>
                  </a:cubicBezTo>
                  <a:close/>
                  <a:moveTo>
                    <a:pt x="1" y="1609"/>
                  </a:moveTo>
                  <a:lnTo>
                    <a:pt x="1" y="1609"/>
                  </a:lnTo>
                  <a:cubicBezTo>
                    <a:pt x="1" y="1605"/>
                    <a:pt x="5" y="1601"/>
                    <a:pt x="10" y="1601"/>
                  </a:cubicBezTo>
                  <a:cubicBezTo>
                    <a:pt x="14" y="1601"/>
                    <a:pt x="18" y="1605"/>
                    <a:pt x="18" y="1609"/>
                  </a:cubicBezTo>
                  <a:lnTo>
                    <a:pt x="18" y="1609"/>
                  </a:lnTo>
                  <a:cubicBezTo>
                    <a:pt x="18" y="1614"/>
                    <a:pt x="14" y="1618"/>
                    <a:pt x="10" y="1618"/>
                  </a:cubicBezTo>
                  <a:cubicBezTo>
                    <a:pt x="5" y="1618"/>
                    <a:pt x="1" y="1614"/>
                    <a:pt x="1" y="1609"/>
                  </a:cubicBezTo>
                  <a:close/>
                  <a:moveTo>
                    <a:pt x="1" y="1576"/>
                  </a:moveTo>
                  <a:lnTo>
                    <a:pt x="1" y="1576"/>
                  </a:lnTo>
                  <a:cubicBezTo>
                    <a:pt x="1" y="1571"/>
                    <a:pt x="5" y="1568"/>
                    <a:pt x="10" y="1568"/>
                  </a:cubicBezTo>
                  <a:cubicBezTo>
                    <a:pt x="14" y="1568"/>
                    <a:pt x="18" y="1571"/>
                    <a:pt x="18" y="1576"/>
                  </a:cubicBezTo>
                  <a:lnTo>
                    <a:pt x="18" y="1576"/>
                  </a:lnTo>
                  <a:cubicBezTo>
                    <a:pt x="18" y="1581"/>
                    <a:pt x="14" y="1584"/>
                    <a:pt x="10" y="1584"/>
                  </a:cubicBezTo>
                  <a:cubicBezTo>
                    <a:pt x="5" y="1584"/>
                    <a:pt x="1" y="1581"/>
                    <a:pt x="1" y="1576"/>
                  </a:cubicBezTo>
                  <a:close/>
                  <a:moveTo>
                    <a:pt x="1" y="1543"/>
                  </a:moveTo>
                  <a:lnTo>
                    <a:pt x="1" y="1543"/>
                  </a:lnTo>
                  <a:cubicBezTo>
                    <a:pt x="1" y="1538"/>
                    <a:pt x="5" y="1534"/>
                    <a:pt x="10" y="1534"/>
                  </a:cubicBezTo>
                  <a:cubicBezTo>
                    <a:pt x="14" y="1534"/>
                    <a:pt x="18" y="1538"/>
                    <a:pt x="18" y="1543"/>
                  </a:cubicBezTo>
                  <a:lnTo>
                    <a:pt x="18" y="1543"/>
                  </a:lnTo>
                  <a:cubicBezTo>
                    <a:pt x="18" y="1547"/>
                    <a:pt x="14" y="1551"/>
                    <a:pt x="10" y="1551"/>
                  </a:cubicBezTo>
                  <a:cubicBezTo>
                    <a:pt x="5" y="1551"/>
                    <a:pt x="1" y="1547"/>
                    <a:pt x="1" y="1543"/>
                  </a:cubicBezTo>
                  <a:close/>
                  <a:moveTo>
                    <a:pt x="1" y="1509"/>
                  </a:moveTo>
                  <a:lnTo>
                    <a:pt x="1" y="1509"/>
                  </a:lnTo>
                  <a:cubicBezTo>
                    <a:pt x="1" y="1505"/>
                    <a:pt x="5" y="1501"/>
                    <a:pt x="10" y="1501"/>
                  </a:cubicBezTo>
                  <a:cubicBezTo>
                    <a:pt x="14" y="1501"/>
                    <a:pt x="18" y="1505"/>
                    <a:pt x="18" y="1509"/>
                  </a:cubicBezTo>
                  <a:lnTo>
                    <a:pt x="18" y="1509"/>
                  </a:lnTo>
                  <a:cubicBezTo>
                    <a:pt x="18" y="1514"/>
                    <a:pt x="14" y="1518"/>
                    <a:pt x="10" y="1518"/>
                  </a:cubicBezTo>
                  <a:cubicBezTo>
                    <a:pt x="5" y="1518"/>
                    <a:pt x="1" y="1514"/>
                    <a:pt x="1" y="1509"/>
                  </a:cubicBezTo>
                  <a:close/>
                  <a:moveTo>
                    <a:pt x="1" y="1476"/>
                  </a:moveTo>
                  <a:lnTo>
                    <a:pt x="1" y="1476"/>
                  </a:lnTo>
                  <a:cubicBezTo>
                    <a:pt x="1" y="1471"/>
                    <a:pt x="5" y="1468"/>
                    <a:pt x="10" y="1468"/>
                  </a:cubicBezTo>
                  <a:cubicBezTo>
                    <a:pt x="14" y="1468"/>
                    <a:pt x="18" y="1471"/>
                    <a:pt x="18" y="1476"/>
                  </a:cubicBezTo>
                  <a:lnTo>
                    <a:pt x="18" y="1476"/>
                  </a:lnTo>
                  <a:cubicBezTo>
                    <a:pt x="18" y="1481"/>
                    <a:pt x="14" y="1484"/>
                    <a:pt x="10" y="1484"/>
                  </a:cubicBezTo>
                  <a:cubicBezTo>
                    <a:pt x="5" y="1484"/>
                    <a:pt x="1" y="1481"/>
                    <a:pt x="1" y="1476"/>
                  </a:cubicBezTo>
                  <a:close/>
                  <a:moveTo>
                    <a:pt x="1" y="1443"/>
                  </a:moveTo>
                  <a:lnTo>
                    <a:pt x="1" y="1443"/>
                  </a:lnTo>
                  <a:cubicBezTo>
                    <a:pt x="1" y="1438"/>
                    <a:pt x="5" y="1434"/>
                    <a:pt x="10" y="1434"/>
                  </a:cubicBezTo>
                  <a:cubicBezTo>
                    <a:pt x="14" y="1434"/>
                    <a:pt x="18" y="1438"/>
                    <a:pt x="18" y="1443"/>
                  </a:cubicBezTo>
                  <a:lnTo>
                    <a:pt x="18" y="1443"/>
                  </a:lnTo>
                  <a:cubicBezTo>
                    <a:pt x="18" y="1447"/>
                    <a:pt x="14" y="1451"/>
                    <a:pt x="10" y="1451"/>
                  </a:cubicBezTo>
                  <a:cubicBezTo>
                    <a:pt x="5" y="1451"/>
                    <a:pt x="1" y="1447"/>
                    <a:pt x="1" y="1443"/>
                  </a:cubicBezTo>
                  <a:close/>
                  <a:moveTo>
                    <a:pt x="1" y="1409"/>
                  </a:moveTo>
                  <a:lnTo>
                    <a:pt x="1" y="1409"/>
                  </a:lnTo>
                  <a:cubicBezTo>
                    <a:pt x="1" y="1405"/>
                    <a:pt x="5" y="1401"/>
                    <a:pt x="10" y="1401"/>
                  </a:cubicBezTo>
                  <a:cubicBezTo>
                    <a:pt x="14" y="1401"/>
                    <a:pt x="18" y="1405"/>
                    <a:pt x="18" y="1409"/>
                  </a:cubicBezTo>
                  <a:lnTo>
                    <a:pt x="18" y="1409"/>
                  </a:lnTo>
                  <a:cubicBezTo>
                    <a:pt x="18" y="1414"/>
                    <a:pt x="14" y="1418"/>
                    <a:pt x="10" y="1418"/>
                  </a:cubicBezTo>
                  <a:cubicBezTo>
                    <a:pt x="5" y="1418"/>
                    <a:pt x="1" y="1414"/>
                    <a:pt x="1" y="1409"/>
                  </a:cubicBezTo>
                  <a:close/>
                  <a:moveTo>
                    <a:pt x="2" y="1376"/>
                  </a:moveTo>
                  <a:lnTo>
                    <a:pt x="2" y="1376"/>
                  </a:lnTo>
                  <a:cubicBezTo>
                    <a:pt x="2" y="1371"/>
                    <a:pt x="5" y="1368"/>
                    <a:pt x="10" y="1368"/>
                  </a:cubicBezTo>
                  <a:cubicBezTo>
                    <a:pt x="14" y="1368"/>
                    <a:pt x="18" y="1371"/>
                    <a:pt x="18" y="1376"/>
                  </a:cubicBezTo>
                  <a:lnTo>
                    <a:pt x="18" y="1376"/>
                  </a:lnTo>
                  <a:cubicBezTo>
                    <a:pt x="18" y="1381"/>
                    <a:pt x="14" y="1384"/>
                    <a:pt x="10" y="1384"/>
                  </a:cubicBezTo>
                  <a:cubicBezTo>
                    <a:pt x="5" y="1384"/>
                    <a:pt x="2" y="1381"/>
                    <a:pt x="2" y="1376"/>
                  </a:cubicBezTo>
                  <a:close/>
                  <a:moveTo>
                    <a:pt x="2" y="1343"/>
                  </a:moveTo>
                  <a:lnTo>
                    <a:pt x="2" y="1343"/>
                  </a:lnTo>
                  <a:cubicBezTo>
                    <a:pt x="2" y="1338"/>
                    <a:pt x="5" y="1334"/>
                    <a:pt x="10" y="1334"/>
                  </a:cubicBezTo>
                  <a:cubicBezTo>
                    <a:pt x="14" y="1334"/>
                    <a:pt x="18" y="1338"/>
                    <a:pt x="18" y="1343"/>
                  </a:cubicBezTo>
                  <a:lnTo>
                    <a:pt x="18" y="1343"/>
                  </a:lnTo>
                  <a:cubicBezTo>
                    <a:pt x="18" y="1347"/>
                    <a:pt x="14" y="1351"/>
                    <a:pt x="10" y="1351"/>
                  </a:cubicBezTo>
                  <a:cubicBezTo>
                    <a:pt x="5" y="1351"/>
                    <a:pt x="2" y="1347"/>
                    <a:pt x="2" y="1343"/>
                  </a:cubicBezTo>
                  <a:close/>
                  <a:moveTo>
                    <a:pt x="2" y="1309"/>
                  </a:moveTo>
                  <a:lnTo>
                    <a:pt x="2" y="1309"/>
                  </a:lnTo>
                  <a:cubicBezTo>
                    <a:pt x="2" y="1305"/>
                    <a:pt x="5" y="1301"/>
                    <a:pt x="10" y="1301"/>
                  </a:cubicBezTo>
                  <a:cubicBezTo>
                    <a:pt x="15" y="1301"/>
                    <a:pt x="18" y="1305"/>
                    <a:pt x="18" y="1309"/>
                  </a:cubicBezTo>
                  <a:lnTo>
                    <a:pt x="18" y="1309"/>
                  </a:lnTo>
                  <a:cubicBezTo>
                    <a:pt x="18" y="1314"/>
                    <a:pt x="15" y="1318"/>
                    <a:pt x="10" y="1318"/>
                  </a:cubicBezTo>
                  <a:cubicBezTo>
                    <a:pt x="5" y="1318"/>
                    <a:pt x="2" y="1314"/>
                    <a:pt x="2" y="1309"/>
                  </a:cubicBezTo>
                  <a:close/>
                  <a:moveTo>
                    <a:pt x="2" y="1276"/>
                  </a:moveTo>
                  <a:lnTo>
                    <a:pt x="2" y="1276"/>
                  </a:lnTo>
                  <a:cubicBezTo>
                    <a:pt x="2" y="1271"/>
                    <a:pt x="5" y="1268"/>
                    <a:pt x="10" y="1268"/>
                  </a:cubicBezTo>
                  <a:cubicBezTo>
                    <a:pt x="15" y="1268"/>
                    <a:pt x="18" y="1271"/>
                    <a:pt x="18" y="1276"/>
                  </a:cubicBezTo>
                  <a:lnTo>
                    <a:pt x="18" y="1276"/>
                  </a:lnTo>
                  <a:cubicBezTo>
                    <a:pt x="18" y="1280"/>
                    <a:pt x="15" y="1284"/>
                    <a:pt x="10" y="1284"/>
                  </a:cubicBezTo>
                  <a:cubicBezTo>
                    <a:pt x="5" y="1284"/>
                    <a:pt x="2" y="1280"/>
                    <a:pt x="2" y="1276"/>
                  </a:cubicBezTo>
                  <a:close/>
                  <a:moveTo>
                    <a:pt x="2" y="1243"/>
                  </a:moveTo>
                  <a:lnTo>
                    <a:pt x="2" y="1242"/>
                  </a:lnTo>
                  <a:cubicBezTo>
                    <a:pt x="2" y="1238"/>
                    <a:pt x="5" y="1234"/>
                    <a:pt x="10" y="1234"/>
                  </a:cubicBezTo>
                  <a:cubicBezTo>
                    <a:pt x="15" y="1234"/>
                    <a:pt x="18" y="1238"/>
                    <a:pt x="18" y="1242"/>
                  </a:cubicBezTo>
                  <a:lnTo>
                    <a:pt x="18" y="1243"/>
                  </a:lnTo>
                  <a:cubicBezTo>
                    <a:pt x="18" y="1247"/>
                    <a:pt x="15" y="1251"/>
                    <a:pt x="10" y="1251"/>
                  </a:cubicBezTo>
                  <a:cubicBezTo>
                    <a:pt x="5" y="1251"/>
                    <a:pt x="2" y="1247"/>
                    <a:pt x="2" y="1243"/>
                  </a:cubicBezTo>
                  <a:close/>
                  <a:moveTo>
                    <a:pt x="2" y="1209"/>
                  </a:moveTo>
                  <a:lnTo>
                    <a:pt x="2" y="1209"/>
                  </a:lnTo>
                  <a:cubicBezTo>
                    <a:pt x="2" y="1205"/>
                    <a:pt x="5" y="1201"/>
                    <a:pt x="10" y="1201"/>
                  </a:cubicBezTo>
                  <a:cubicBezTo>
                    <a:pt x="15" y="1201"/>
                    <a:pt x="18" y="1205"/>
                    <a:pt x="18" y="1209"/>
                  </a:cubicBezTo>
                  <a:lnTo>
                    <a:pt x="18" y="1209"/>
                  </a:lnTo>
                  <a:cubicBezTo>
                    <a:pt x="18" y="1214"/>
                    <a:pt x="15" y="1217"/>
                    <a:pt x="10" y="1217"/>
                  </a:cubicBezTo>
                  <a:cubicBezTo>
                    <a:pt x="5" y="1217"/>
                    <a:pt x="2" y="1214"/>
                    <a:pt x="2" y="1209"/>
                  </a:cubicBezTo>
                  <a:close/>
                  <a:moveTo>
                    <a:pt x="2" y="1176"/>
                  </a:moveTo>
                  <a:lnTo>
                    <a:pt x="2" y="1176"/>
                  </a:lnTo>
                  <a:cubicBezTo>
                    <a:pt x="2" y="1171"/>
                    <a:pt x="6" y="1167"/>
                    <a:pt x="10" y="1167"/>
                  </a:cubicBezTo>
                  <a:cubicBezTo>
                    <a:pt x="15" y="1167"/>
                    <a:pt x="18" y="1171"/>
                    <a:pt x="18" y="1176"/>
                  </a:cubicBezTo>
                  <a:lnTo>
                    <a:pt x="18" y="1176"/>
                  </a:lnTo>
                  <a:cubicBezTo>
                    <a:pt x="18" y="1180"/>
                    <a:pt x="15" y="1184"/>
                    <a:pt x="10" y="1184"/>
                  </a:cubicBezTo>
                  <a:cubicBezTo>
                    <a:pt x="6" y="1184"/>
                    <a:pt x="2" y="1180"/>
                    <a:pt x="2" y="1176"/>
                  </a:cubicBezTo>
                  <a:close/>
                  <a:moveTo>
                    <a:pt x="2" y="1142"/>
                  </a:moveTo>
                  <a:lnTo>
                    <a:pt x="2" y="1142"/>
                  </a:lnTo>
                  <a:cubicBezTo>
                    <a:pt x="2" y="1138"/>
                    <a:pt x="6" y="1134"/>
                    <a:pt x="10" y="1134"/>
                  </a:cubicBezTo>
                  <a:cubicBezTo>
                    <a:pt x="15" y="1134"/>
                    <a:pt x="18" y="1138"/>
                    <a:pt x="18" y="1142"/>
                  </a:cubicBezTo>
                  <a:lnTo>
                    <a:pt x="18" y="1142"/>
                  </a:lnTo>
                  <a:cubicBezTo>
                    <a:pt x="18" y="1147"/>
                    <a:pt x="15" y="1151"/>
                    <a:pt x="10" y="1151"/>
                  </a:cubicBezTo>
                  <a:cubicBezTo>
                    <a:pt x="6" y="1151"/>
                    <a:pt x="2" y="1147"/>
                    <a:pt x="2" y="1142"/>
                  </a:cubicBezTo>
                  <a:close/>
                  <a:moveTo>
                    <a:pt x="2" y="1109"/>
                  </a:moveTo>
                  <a:lnTo>
                    <a:pt x="2" y="1109"/>
                  </a:lnTo>
                  <a:cubicBezTo>
                    <a:pt x="2" y="1104"/>
                    <a:pt x="6" y="1101"/>
                    <a:pt x="10" y="1101"/>
                  </a:cubicBezTo>
                  <a:cubicBezTo>
                    <a:pt x="15" y="1101"/>
                    <a:pt x="19" y="1104"/>
                    <a:pt x="19" y="1109"/>
                  </a:cubicBezTo>
                  <a:lnTo>
                    <a:pt x="19" y="1109"/>
                  </a:lnTo>
                  <a:cubicBezTo>
                    <a:pt x="19" y="1114"/>
                    <a:pt x="15" y="1117"/>
                    <a:pt x="10" y="1117"/>
                  </a:cubicBezTo>
                  <a:cubicBezTo>
                    <a:pt x="6" y="1117"/>
                    <a:pt x="2" y="1114"/>
                    <a:pt x="2" y="1109"/>
                  </a:cubicBezTo>
                  <a:close/>
                  <a:moveTo>
                    <a:pt x="2" y="1076"/>
                  </a:moveTo>
                  <a:lnTo>
                    <a:pt x="2" y="1076"/>
                  </a:lnTo>
                  <a:cubicBezTo>
                    <a:pt x="2" y="1071"/>
                    <a:pt x="6" y="1067"/>
                    <a:pt x="10" y="1067"/>
                  </a:cubicBezTo>
                  <a:cubicBezTo>
                    <a:pt x="15" y="1067"/>
                    <a:pt x="19" y="1071"/>
                    <a:pt x="19" y="1076"/>
                  </a:cubicBezTo>
                  <a:lnTo>
                    <a:pt x="19" y="1076"/>
                  </a:lnTo>
                  <a:cubicBezTo>
                    <a:pt x="19" y="1080"/>
                    <a:pt x="15" y="1084"/>
                    <a:pt x="10" y="1084"/>
                  </a:cubicBezTo>
                  <a:cubicBezTo>
                    <a:pt x="6" y="1084"/>
                    <a:pt x="2" y="1080"/>
                    <a:pt x="2" y="1076"/>
                  </a:cubicBezTo>
                  <a:close/>
                  <a:moveTo>
                    <a:pt x="2" y="1042"/>
                  </a:moveTo>
                  <a:lnTo>
                    <a:pt x="2" y="1042"/>
                  </a:lnTo>
                  <a:cubicBezTo>
                    <a:pt x="2" y="1038"/>
                    <a:pt x="6" y="1034"/>
                    <a:pt x="10" y="1034"/>
                  </a:cubicBezTo>
                  <a:cubicBezTo>
                    <a:pt x="15" y="1034"/>
                    <a:pt x="19" y="1038"/>
                    <a:pt x="19" y="1042"/>
                  </a:cubicBezTo>
                  <a:lnTo>
                    <a:pt x="19" y="1042"/>
                  </a:lnTo>
                  <a:cubicBezTo>
                    <a:pt x="19" y="1047"/>
                    <a:pt x="15" y="1051"/>
                    <a:pt x="10" y="1051"/>
                  </a:cubicBezTo>
                  <a:cubicBezTo>
                    <a:pt x="6" y="1051"/>
                    <a:pt x="2" y="1047"/>
                    <a:pt x="2" y="1042"/>
                  </a:cubicBezTo>
                  <a:close/>
                  <a:moveTo>
                    <a:pt x="2" y="1009"/>
                  </a:moveTo>
                  <a:lnTo>
                    <a:pt x="2" y="1009"/>
                  </a:lnTo>
                  <a:cubicBezTo>
                    <a:pt x="2" y="1004"/>
                    <a:pt x="6" y="1001"/>
                    <a:pt x="10" y="1001"/>
                  </a:cubicBezTo>
                  <a:cubicBezTo>
                    <a:pt x="15" y="1001"/>
                    <a:pt x="19" y="1004"/>
                    <a:pt x="19" y="1009"/>
                  </a:cubicBezTo>
                  <a:lnTo>
                    <a:pt x="19" y="1009"/>
                  </a:lnTo>
                  <a:cubicBezTo>
                    <a:pt x="19" y="1014"/>
                    <a:pt x="15" y="1017"/>
                    <a:pt x="10" y="1017"/>
                  </a:cubicBezTo>
                  <a:cubicBezTo>
                    <a:pt x="6" y="1017"/>
                    <a:pt x="2" y="1014"/>
                    <a:pt x="2" y="1009"/>
                  </a:cubicBezTo>
                  <a:close/>
                  <a:moveTo>
                    <a:pt x="2" y="976"/>
                  </a:moveTo>
                  <a:lnTo>
                    <a:pt x="2" y="976"/>
                  </a:lnTo>
                  <a:cubicBezTo>
                    <a:pt x="2" y="971"/>
                    <a:pt x="6" y="967"/>
                    <a:pt x="10" y="967"/>
                  </a:cubicBezTo>
                  <a:cubicBezTo>
                    <a:pt x="15" y="967"/>
                    <a:pt x="19" y="971"/>
                    <a:pt x="19" y="976"/>
                  </a:cubicBezTo>
                  <a:lnTo>
                    <a:pt x="19" y="976"/>
                  </a:lnTo>
                  <a:cubicBezTo>
                    <a:pt x="19" y="980"/>
                    <a:pt x="15" y="984"/>
                    <a:pt x="10" y="984"/>
                  </a:cubicBezTo>
                  <a:cubicBezTo>
                    <a:pt x="6" y="984"/>
                    <a:pt x="2" y="980"/>
                    <a:pt x="2" y="976"/>
                  </a:cubicBezTo>
                  <a:close/>
                  <a:moveTo>
                    <a:pt x="2" y="942"/>
                  </a:moveTo>
                  <a:lnTo>
                    <a:pt x="2" y="942"/>
                  </a:lnTo>
                  <a:cubicBezTo>
                    <a:pt x="2" y="938"/>
                    <a:pt x="6" y="934"/>
                    <a:pt x="10" y="934"/>
                  </a:cubicBezTo>
                  <a:cubicBezTo>
                    <a:pt x="15" y="934"/>
                    <a:pt x="19" y="938"/>
                    <a:pt x="19" y="942"/>
                  </a:cubicBezTo>
                  <a:lnTo>
                    <a:pt x="19" y="942"/>
                  </a:lnTo>
                  <a:cubicBezTo>
                    <a:pt x="19" y="947"/>
                    <a:pt x="15" y="951"/>
                    <a:pt x="10" y="951"/>
                  </a:cubicBezTo>
                  <a:cubicBezTo>
                    <a:pt x="6" y="951"/>
                    <a:pt x="2" y="947"/>
                    <a:pt x="2" y="942"/>
                  </a:cubicBezTo>
                  <a:close/>
                  <a:moveTo>
                    <a:pt x="2" y="909"/>
                  </a:moveTo>
                  <a:lnTo>
                    <a:pt x="2" y="909"/>
                  </a:lnTo>
                  <a:cubicBezTo>
                    <a:pt x="2" y="904"/>
                    <a:pt x="6" y="901"/>
                    <a:pt x="10" y="901"/>
                  </a:cubicBezTo>
                  <a:cubicBezTo>
                    <a:pt x="15" y="901"/>
                    <a:pt x="19" y="904"/>
                    <a:pt x="19" y="909"/>
                  </a:cubicBezTo>
                  <a:lnTo>
                    <a:pt x="19" y="909"/>
                  </a:lnTo>
                  <a:cubicBezTo>
                    <a:pt x="19" y="914"/>
                    <a:pt x="15" y="917"/>
                    <a:pt x="10" y="917"/>
                  </a:cubicBezTo>
                  <a:cubicBezTo>
                    <a:pt x="6" y="917"/>
                    <a:pt x="2" y="914"/>
                    <a:pt x="2" y="909"/>
                  </a:cubicBezTo>
                  <a:close/>
                  <a:moveTo>
                    <a:pt x="2" y="876"/>
                  </a:moveTo>
                  <a:lnTo>
                    <a:pt x="2" y="876"/>
                  </a:lnTo>
                  <a:cubicBezTo>
                    <a:pt x="2" y="871"/>
                    <a:pt x="6" y="867"/>
                    <a:pt x="11" y="867"/>
                  </a:cubicBezTo>
                  <a:cubicBezTo>
                    <a:pt x="15" y="867"/>
                    <a:pt x="19" y="871"/>
                    <a:pt x="19" y="876"/>
                  </a:cubicBezTo>
                  <a:lnTo>
                    <a:pt x="19" y="876"/>
                  </a:lnTo>
                  <a:cubicBezTo>
                    <a:pt x="19" y="880"/>
                    <a:pt x="15" y="884"/>
                    <a:pt x="11" y="884"/>
                  </a:cubicBezTo>
                  <a:cubicBezTo>
                    <a:pt x="6" y="884"/>
                    <a:pt x="2" y="880"/>
                    <a:pt x="2" y="876"/>
                  </a:cubicBezTo>
                  <a:close/>
                  <a:moveTo>
                    <a:pt x="2" y="842"/>
                  </a:moveTo>
                  <a:lnTo>
                    <a:pt x="2" y="842"/>
                  </a:lnTo>
                  <a:cubicBezTo>
                    <a:pt x="2" y="838"/>
                    <a:pt x="6" y="834"/>
                    <a:pt x="11" y="834"/>
                  </a:cubicBezTo>
                  <a:cubicBezTo>
                    <a:pt x="15" y="834"/>
                    <a:pt x="19" y="838"/>
                    <a:pt x="19" y="842"/>
                  </a:cubicBezTo>
                  <a:lnTo>
                    <a:pt x="19" y="842"/>
                  </a:lnTo>
                  <a:cubicBezTo>
                    <a:pt x="19" y="847"/>
                    <a:pt x="15" y="851"/>
                    <a:pt x="11" y="851"/>
                  </a:cubicBezTo>
                  <a:cubicBezTo>
                    <a:pt x="6" y="851"/>
                    <a:pt x="2" y="847"/>
                    <a:pt x="2" y="842"/>
                  </a:cubicBezTo>
                  <a:close/>
                  <a:moveTo>
                    <a:pt x="2" y="809"/>
                  </a:moveTo>
                  <a:lnTo>
                    <a:pt x="2" y="809"/>
                  </a:lnTo>
                  <a:cubicBezTo>
                    <a:pt x="2" y="804"/>
                    <a:pt x="6" y="801"/>
                    <a:pt x="11" y="801"/>
                  </a:cubicBezTo>
                  <a:cubicBezTo>
                    <a:pt x="15" y="801"/>
                    <a:pt x="19" y="804"/>
                    <a:pt x="19" y="809"/>
                  </a:cubicBezTo>
                  <a:lnTo>
                    <a:pt x="19" y="809"/>
                  </a:lnTo>
                  <a:cubicBezTo>
                    <a:pt x="19" y="814"/>
                    <a:pt x="15" y="817"/>
                    <a:pt x="11" y="817"/>
                  </a:cubicBezTo>
                  <a:cubicBezTo>
                    <a:pt x="6" y="817"/>
                    <a:pt x="2" y="814"/>
                    <a:pt x="2" y="809"/>
                  </a:cubicBezTo>
                  <a:close/>
                  <a:moveTo>
                    <a:pt x="2" y="776"/>
                  </a:moveTo>
                  <a:lnTo>
                    <a:pt x="2" y="776"/>
                  </a:lnTo>
                  <a:cubicBezTo>
                    <a:pt x="2" y="771"/>
                    <a:pt x="6" y="767"/>
                    <a:pt x="11" y="767"/>
                  </a:cubicBezTo>
                  <a:cubicBezTo>
                    <a:pt x="15" y="767"/>
                    <a:pt x="19" y="771"/>
                    <a:pt x="19" y="776"/>
                  </a:cubicBezTo>
                  <a:lnTo>
                    <a:pt x="19" y="776"/>
                  </a:lnTo>
                  <a:cubicBezTo>
                    <a:pt x="19" y="780"/>
                    <a:pt x="15" y="784"/>
                    <a:pt x="11" y="784"/>
                  </a:cubicBezTo>
                  <a:cubicBezTo>
                    <a:pt x="6" y="784"/>
                    <a:pt x="2" y="780"/>
                    <a:pt x="2" y="776"/>
                  </a:cubicBezTo>
                  <a:close/>
                  <a:moveTo>
                    <a:pt x="2" y="742"/>
                  </a:moveTo>
                  <a:lnTo>
                    <a:pt x="2" y="742"/>
                  </a:lnTo>
                  <a:cubicBezTo>
                    <a:pt x="2" y="738"/>
                    <a:pt x="6" y="734"/>
                    <a:pt x="11" y="734"/>
                  </a:cubicBezTo>
                  <a:cubicBezTo>
                    <a:pt x="15" y="734"/>
                    <a:pt x="19" y="738"/>
                    <a:pt x="19" y="742"/>
                  </a:cubicBezTo>
                  <a:lnTo>
                    <a:pt x="19" y="742"/>
                  </a:lnTo>
                  <a:cubicBezTo>
                    <a:pt x="19" y="747"/>
                    <a:pt x="15" y="751"/>
                    <a:pt x="11" y="751"/>
                  </a:cubicBezTo>
                  <a:cubicBezTo>
                    <a:pt x="6" y="751"/>
                    <a:pt x="2" y="747"/>
                    <a:pt x="2" y="742"/>
                  </a:cubicBezTo>
                  <a:close/>
                  <a:moveTo>
                    <a:pt x="2" y="709"/>
                  </a:moveTo>
                  <a:lnTo>
                    <a:pt x="2" y="709"/>
                  </a:lnTo>
                  <a:cubicBezTo>
                    <a:pt x="2" y="704"/>
                    <a:pt x="6" y="701"/>
                    <a:pt x="11" y="701"/>
                  </a:cubicBezTo>
                  <a:cubicBezTo>
                    <a:pt x="15" y="701"/>
                    <a:pt x="19" y="704"/>
                    <a:pt x="19" y="709"/>
                  </a:cubicBezTo>
                  <a:lnTo>
                    <a:pt x="19" y="709"/>
                  </a:lnTo>
                  <a:cubicBezTo>
                    <a:pt x="19" y="714"/>
                    <a:pt x="15" y="717"/>
                    <a:pt x="11" y="717"/>
                  </a:cubicBezTo>
                  <a:cubicBezTo>
                    <a:pt x="6" y="717"/>
                    <a:pt x="2" y="714"/>
                    <a:pt x="2" y="709"/>
                  </a:cubicBezTo>
                  <a:close/>
                  <a:moveTo>
                    <a:pt x="2" y="676"/>
                  </a:moveTo>
                  <a:lnTo>
                    <a:pt x="2" y="676"/>
                  </a:lnTo>
                  <a:cubicBezTo>
                    <a:pt x="2" y="671"/>
                    <a:pt x="6" y="667"/>
                    <a:pt x="11" y="667"/>
                  </a:cubicBezTo>
                  <a:cubicBezTo>
                    <a:pt x="15" y="667"/>
                    <a:pt x="19" y="671"/>
                    <a:pt x="19" y="676"/>
                  </a:cubicBezTo>
                  <a:lnTo>
                    <a:pt x="19" y="676"/>
                  </a:lnTo>
                  <a:cubicBezTo>
                    <a:pt x="19" y="680"/>
                    <a:pt x="15" y="684"/>
                    <a:pt x="11" y="684"/>
                  </a:cubicBezTo>
                  <a:cubicBezTo>
                    <a:pt x="6" y="684"/>
                    <a:pt x="2" y="680"/>
                    <a:pt x="2" y="676"/>
                  </a:cubicBezTo>
                  <a:close/>
                  <a:moveTo>
                    <a:pt x="3" y="642"/>
                  </a:moveTo>
                  <a:lnTo>
                    <a:pt x="3" y="642"/>
                  </a:lnTo>
                  <a:cubicBezTo>
                    <a:pt x="3" y="638"/>
                    <a:pt x="6" y="634"/>
                    <a:pt x="11" y="634"/>
                  </a:cubicBezTo>
                  <a:cubicBezTo>
                    <a:pt x="15" y="634"/>
                    <a:pt x="19" y="638"/>
                    <a:pt x="19" y="642"/>
                  </a:cubicBezTo>
                  <a:lnTo>
                    <a:pt x="19" y="642"/>
                  </a:lnTo>
                  <a:cubicBezTo>
                    <a:pt x="19" y="647"/>
                    <a:pt x="15" y="651"/>
                    <a:pt x="11" y="651"/>
                  </a:cubicBezTo>
                  <a:cubicBezTo>
                    <a:pt x="6" y="651"/>
                    <a:pt x="3" y="647"/>
                    <a:pt x="3" y="642"/>
                  </a:cubicBezTo>
                  <a:close/>
                  <a:moveTo>
                    <a:pt x="3" y="609"/>
                  </a:moveTo>
                  <a:lnTo>
                    <a:pt x="3" y="609"/>
                  </a:lnTo>
                  <a:cubicBezTo>
                    <a:pt x="3" y="604"/>
                    <a:pt x="6" y="601"/>
                    <a:pt x="11" y="601"/>
                  </a:cubicBezTo>
                  <a:cubicBezTo>
                    <a:pt x="16" y="601"/>
                    <a:pt x="19" y="604"/>
                    <a:pt x="19" y="609"/>
                  </a:cubicBezTo>
                  <a:lnTo>
                    <a:pt x="19" y="609"/>
                  </a:lnTo>
                  <a:cubicBezTo>
                    <a:pt x="19" y="613"/>
                    <a:pt x="16" y="617"/>
                    <a:pt x="11" y="617"/>
                  </a:cubicBezTo>
                  <a:cubicBezTo>
                    <a:pt x="6" y="617"/>
                    <a:pt x="3" y="613"/>
                    <a:pt x="3" y="609"/>
                  </a:cubicBezTo>
                  <a:close/>
                  <a:moveTo>
                    <a:pt x="3" y="576"/>
                  </a:moveTo>
                  <a:lnTo>
                    <a:pt x="3" y="576"/>
                  </a:lnTo>
                  <a:cubicBezTo>
                    <a:pt x="3" y="571"/>
                    <a:pt x="6" y="567"/>
                    <a:pt x="11" y="567"/>
                  </a:cubicBezTo>
                  <a:cubicBezTo>
                    <a:pt x="16" y="567"/>
                    <a:pt x="19" y="571"/>
                    <a:pt x="19" y="576"/>
                  </a:cubicBezTo>
                  <a:lnTo>
                    <a:pt x="19" y="576"/>
                  </a:lnTo>
                  <a:cubicBezTo>
                    <a:pt x="19" y="580"/>
                    <a:pt x="16" y="584"/>
                    <a:pt x="11" y="584"/>
                  </a:cubicBezTo>
                  <a:cubicBezTo>
                    <a:pt x="6" y="584"/>
                    <a:pt x="3" y="580"/>
                    <a:pt x="3" y="576"/>
                  </a:cubicBezTo>
                  <a:close/>
                  <a:moveTo>
                    <a:pt x="3" y="542"/>
                  </a:moveTo>
                  <a:lnTo>
                    <a:pt x="3" y="542"/>
                  </a:lnTo>
                  <a:cubicBezTo>
                    <a:pt x="3" y="538"/>
                    <a:pt x="6" y="534"/>
                    <a:pt x="11" y="534"/>
                  </a:cubicBezTo>
                  <a:cubicBezTo>
                    <a:pt x="16" y="534"/>
                    <a:pt x="19" y="538"/>
                    <a:pt x="19" y="542"/>
                  </a:cubicBezTo>
                  <a:lnTo>
                    <a:pt x="19" y="542"/>
                  </a:lnTo>
                  <a:cubicBezTo>
                    <a:pt x="19" y="547"/>
                    <a:pt x="16" y="551"/>
                    <a:pt x="11" y="551"/>
                  </a:cubicBezTo>
                  <a:cubicBezTo>
                    <a:pt x="6" y="551"/>
                    <a:pt x="3" y="547"/>
                    <a:pt x="3" y="542"/>
                  </a:cubicBezTo>
                  <a:close/>
                  <a:moveTo>
                    <a:pt x="3" y="509"/>
                  </a:moveTo>
                  <a:lnTo>
                    <a:pt x="3" y="509"/>
                  </a:lnTo>
                  <a:cubicBezTo>
                    <a:pt x="3" y="504"/>
                    <a:pt x="6" y="500"/>
                    <a:pt x="11" y="500"/>
                  </a:cubicBezTo>
                  <a:cubicBezTo>
                    <a:pt x="16" y="500"/>
                    <a:pt x="19" y="504"/>
                    <a:pt x="19" y="509"/>
                  </a:cubicBezTo>
                  <a:lnTo>
                    <a:pt x="19" y="509"/>
                  </a:lnTo>
                  <a:cubicBezTo>
                    <a:pt x="19" y="513"/>
                    <a:pt x="16" y="517"/>
                    <a:pt x="11" y="517"/>
                  </a:cubicBezTo>
                  <a:cubicBezTo>
                    <a:pt x="6" y="517"/>
                    <a:pt x="3" y="513"/>
                    <a:pt x="3" y="509"/>
                  </a:cubicBezTo>
                  <a:close/>
                  <a:moveTo>
                    <a:pt x="3" y="475"/>
                  </a:moveTo>
                  <a:lnTo>
                    <a:pt x="3" y="475"/>
                  </a:lnTo>
                  <a:cubicBezTo>
                    <a:pt x="3" y="471"/>
                    <a:pt x="6" y="467"/>
                    <a:pt x="11" y="467"/>
                  </a:cubicBezTo>
                  <a:cubicBezTo>
                    <a:pt x="16" y="467"/>
                    <a:pt x="19" y="471"/>
                    <a:pt x="19" y="475"/>
                  </a:cubicBezTo>
                  <a:lnTo>
                    <a:pt x="19" y="475"/>
                  </a:lnTo>
                  <a:cubicBezTo>
                    <a:pt x="19" y="480"/>
                    <a:pt x="16" y="484"/>
                    <a:pt x="11" y="484"/>
                  </a:cubicBezTo>
                  <a:cubicBezTo>
                    <a:pt x="6" y="484"/>
                    <a:pt x="3" y="480"/>
                    <a:pt x="3" y="475"/>
                  </a:cubicBezTo>
                  <a:close/>
                  <a:moveTo>
                    <a:pt x="3" y="442"/>
                  </a:moveTo>
                  <a:lnTo>
                    <a:pt x="3" y="442"/>
                  </a:lnTo>
                  <a:cubicBezTo>
                    <a:pt x="3" y="438"/>
                    <a:pt x="7" y="434"/>
                    <a:pt x="11" y="434"/>
                  </a:cubicBezTo>
                  <a:cubicBezTo>
                    <a:pt x="16" y="434"/>
                    <a:pt x="19" y="438"/>
                    <a:pt x="19" y="442"/>
                  </a:cubicBezTo>
                  <a:lnTo>
                    <a:pt x="19" y="442"/>
                  </a:lnTo>
                  <a:cubicBezTo>
                    <a:pt x="19" y="447"/>
                    <a:pt x="16" y="450"/>
                    <a:pt x="11" y="450"/>
                  </a:cubicBezTo>
                  <a:cubicBezTo>
                    <a:pt x="7" y="450"/>
                    <a:pt x="3" y="447"/>
                    <a:pt x="3" y="442"/>
                  </a:cubicBezTo>
                  <a:close/>
                  <a:moveTo>
                    <a:pt x="3" y="409"/>
                  </a:moveTo>
                  <a:lnTo>
                    <a:pt x="3" y="409"/>
                  </a:lnTo>
                  <a:cubicBezTo>
                    <a:pt x="3" y="404"/>
                    <a:pt x="7" y="400"/>
                    <a:pt x="11" y="400"/>
                  </a:cubicBezTo>
                  <a:cubicBezTo>
                    <a:pt x="16" y="400"/>
                    <a:pt x="20" y="404"/>
                    <a:pt x="20" y="409"/>
                  </a:cubicBezTo>
                  <a:lnTo>
                    <a:pt x="20" y="409"/>
                  </a:lnTo>
                  <a:cubicBezTo>
                    <a:pt x="20" y="413"/>
                    <a:pt x="16" y="417"/>
                    <a:pt x="11" y="417"/>
                  </a:cubicBezTo>
                  <a:cubicBezTo>
                    <a:pt x="7" y="417"/>
                    <a:pt x="3" y="413"/>
                    <a:pt x="3" y="409"/>
                  </a:cubicBezTo>
                  <a:close/>
                  <a:moveTo>
                    <a:pt x="3" y="375"/>
                  </a:moveTo>
                  <a:lnTo>
                    <a:pt x="3" y="375"/>
                  </a:lnTo>
                  <a:cubicBezTo>
                    <a:pt x="3" y="371"/>
                    <a:pt x="7" y="367"/>
                    <a:pt x="11" y="367"/>
                  </a:cubicBezTo>
                  <a:cubicBezTo>
                    <a:pt x="16" y="367"/>
                    <a:pt x="20" y="371"/>
                    <a:pt x="20" y="375"/>
                  </a:cubicBezTo>
                  <a:lnTo>
                    <a:pt x="20" y="375"/>
                  </a:lnTo>
                  <a:cubicBezTo>
                    <a:pt x="20" y="380"/>
                    <a:pt x="16" y="384"/>
                    <a:pt x="11" y="384"/>
                  </a:cubicBezTo>
                  <a:cubicBezTo>
                    <a:pt x="7" y="384"/>
                    <a:pt x="3" y="380"/>
                    <a:pt x="3" y="375"/>
                  </a:cubicBezTo>
                  <a:close/>
                  <a:moveTo>
                    <a:pt x="3" y="342"/>
                  </a:moveTo>
                  <a:lnTo>
                    <a:pt x="3" y="342"/>
                  </a:lnTo>
                  <a:cubicBezTo>
                    <a:pt x="3" y="337"/>
                    <a:pt x="7" y="334"/>
                    <a:pt x="11" y="334"/>
                  </a:cubicBezTo>
                  <a:cubicBezTo>
                    <a:pt x="16" y="334"/>
                    <a:pt x="20" y="337"/>
                    <a:pt x="20" y="342"/>
                  </a:cubicBezTo>
                  <a:lnTo>
                    <a:pt x="20" y="342"/>
                  </a:lnTo>
                  <a:cubicBezTo>
                    <a:pt x="20" y="347"/>
                    <a:pt x="16" y="350"/>
                    <a:pt x="11" y="350"/>
                  </a:cubicBezTo>
                  <a:cubicBezTo>
                    <a:pt x="7" y="350"/>
                    <a:pt x="3" y="347"/>
                    <a:pt x="3" y="342"/>
                  </a:cubicBezTo>
                  <a:close/>
                  <a:moveTo>
                    <a:pt x="3" y="309"/>
                  </a:moveTo>
                  <a:lnTo>
                    <a:pt x="3" y="309"/>
                  </a:lnTo>
                  <a:cubicBezTo>
                    <a:pt x="3" y="304"/>
                    <a:pt x="7" y="300"/>
                    <a:pt x="11" y="300"/>
                  </a:cubicBezTo>
                  <a:cubicBezTo>
                    <a:pt x="16" y="300"/>
                    <a:pt x="20" y="304"/>
                    <a:pt x="20" y="309"/>
                  </a:cubicBezTo>
                  <a:lnTo>
                    <a:pt x="20" y="309"/>
                  </a:lnTo>
                  <a:cubicBezTo>
                    <a:pt x="20" y="313"/>
                    <a:pt x="16" y="317"/>
                    <a:pt x="11" y="317"/>
                  </a:cubicBezTo>
                  <a:cubicBezTo>
                    <a:pt x="7" y="317"/>
                    <a:pt x="3" y="313"/>
                    <a:pt x="3" y="309"/>
                  </a:cubicBezTo>
                  <a:close/>
                  <a:moveTo>
                    <a:pt x="3" y="275"/>
                  </a:moveTo>
                  <a:lnTo>
                    <a:pt x="3" y="275"/>
                  </a:lnTo>
                  <a:cubicBezTo>
                    <a:pt x="3" y="271"/>
                    <a:pt x="7" y="267"/>
                    <a:pt x="11" y="267"/>
                  </a:cubicBezTo>
                  <a:cubicBezTo>
                    <a:pt x="16" y="267"/>
                    <a:pt x="20" y="271"/>
                    <a:pt x="20" y="275"/>
                  </a:cubicBezTo>
                  <a:lnTo>
                    <a:pt x="20" y="275"/>
                  </a:lnTo>
                  <a:cubicBezTo>
                    <a:pt x="20" y="280"/>
                    <a:pt x="16" y="284"/>
                    <a:pt x="11" y="284"/>
                  </a:cubicBezTo>
                  <a:cubicBezTo>
                    <a:pt x="7" y="284"/>
                    <a:pt x="3" y="280"/>
                    <a:pt x="3" y="275"/>
                  </a:cubicBezTo>
                  <a:close/>
                  <a:moveTo>
                    <a:pt x="3" y="242"/>
                  </a:moveTo>
                  <a:lnTo>
                    <a:pt x="3" y="242"/>
                  </a:lnTo>
                  <a:cubicBezTo>
                    <a:pt x="3" y="237"/>
                    <a:pt x="7" y="234"/>
                    <a:pt x="11" y="234"/>
                  </a:cubicBezTo>
                  <a:cubicBezTo>
                    <a:pt x="16" y="234"/>
                    <a:pt x="20" y="237"/>
                    <a:pt x="20" y="242"/>
                  </a:cubicBezTo>
                  <a:lnTo>
                    <a:pt x="20" y="242"/>
                  </a:lnTo>
                  <a:cubicBezTo>
                    <a:pt x="20" y="247"/>
                    <a:pt x="16" y="250"/>
                    <a:pt x="11" y="250"/>
                  </a:cubicBezTo>
                  <a:cubicBezTo>
                    <a:pt x="7" y="250"/>
                    <a:pt x="3" y="247"/>
                    <a:pt x="3" y="242"/>
                  </a:cubicBezTo>
                  <a:close/>
                  <a:moveTo>
                    <a:pt x="3" y="209"/>
                  </a:moveTo>
                  <a:lnTo>
                    <a:pt x="3" y="209"/>
                  </a:lnTo>
                  <a:cubicBezTo>
                    <a:pt x="3" y="204"/>
                    <a:pt x="7" y="200"/>
                    <a:pt x="11" y="200"/>
                  </a:cubicBezTo>
                  <a:cubicBezTo>
                    <a:pt x="16" y="200"/>
                    <a:pt x="20" y="204"/>
                    <a:pt x="20" y="209"/>
                  </a:cubicBezTo>
                  <a:lnTo>
                    <a:pt x="20" y="209"/>
                  </a:lnTo>
                  <a:cubicBezTo>
                    <a:pt x="20" y="213"/>
                    <a:pt x="16" y="217"/>
                    <a:pt x="11" y="217"/>
                  </a:cubicBezTo>
                  <a:cubicBezTo>
                    <a:pt x="7" y="217"/>
                    <a:pt x="3" y="213"/>
                    <a:pt x="3" y="209"/>
                  </a:cubicBezTo>
                  <a:close/>
                  <a:moveTo>
                    <a:pt x="3" y="175"/>
                  </a:moveTo>
                  <a:lnTo>
                    <a:pt x="3" y="175"/>
                  </a:lnTo>
                  <a:cubicBezTo>
                    <a:pt x="3" y="171"/>
                    <a:pt x="7" y="167"/>
                    <a:pt x="12" y="167"/>
                  </a:cubicBezTo>
                  <a:cubicBezTo>
                    <a:pt x="16" y="167"/>
                    <a:pt x="20" y="171"/>
                    <a:pt x="20" y="175"/>
                  </a:cubicBezTo>
                  <a:lnTo>
                    <a:pt x="20" y="175"/>
                  </a:lnTo>
                  <a:cubicBezTo>
                    <a:pt x="20" y="180"/>
                    <a:pt x="16" y="184"/>
                    <a:pt x="12" y="184"/>
                  </a:cubicBezTo>
                  <a:cubicBezTo>
                    <a:pt x="7" y="184"/>
                    <a:pt x="3" y="180"/>
                    <a:pt x="3" y="175"/>
                  </a:cubicBezTo>
                  <a:close/>
                  <a:moveTo>
                    <a:pt x="3" y="142"/>
                  </a:moveTo>
                  <a:lnTo>
                    <a:pt x="3" y="142"/>
                  </a:lnTo>
                  <a:cubicBezTo>
                    <a:pt x="3" y="137"/>
                    <a:pt x="7" y="134"/>
                    <a:pt x="12" y="134"/>
                  </a:cubicBezTo>
                  <a:cubicBezTo>
                    <a:pt x="16" y="134"/>
                    <a:pt x="20" y="137"/>
                    <a:pt x="20" y="142"/>
                  </a:cubicBezTo>
                  <a:lnTo>
                    <a:pt x="20" y="142"/>
                  </a:lnTo>
                  <a:cubicBezTo>
                    <a:pt x="20" y="147"/>
                    <a:pt x="16" y="150"/>
                    <a:pt x="12" y="150"/>
                  </a:cubicBezTo>
                  <a:cubicBezTo>
                    <a:pt x="7" y="150"/>
                    <a:pt x="3" y="147"/>
                    <a:pt x="3" y="142"/>
                  </a:cubicBezTo>
                  <a:close/>
                  <a:moveTo>
                    <a:pt x="3" y="109"/>
                  </a:moveTo>
                  <a:lnTo>
                    <a:pt x="3" y="109"/>
                  </a:lnTo>
                  <a:cubicBezTo>
                    <a:pt x="3" y="104"/>
                    <a:pt x="7" y="100"/>
                    <a:pt x="12" y="100"/>
                  </a:cubicBezTo>
                  <a:cubicBezTo>
                    <a:pt x="16" y="100"/>
                    <a:pt x="20" y="104"/>
                    <a:pt x="20" y="109"/>
                  </a:cubicBezTo>
                  <a:lnTo>
                    <a:pt x="20" y="109"/>
                  </a:lnTo>
                  <a:cubicBezTo>
                    <a:pt x="20" y="113"/>
                    <a:pt x="16" y="117"/>
                    <a:pt x="12" y="117"/>
                  </a:cubicBezTo>
                  <a:cubicBezTo>
                    <a:pt x="7" y="117"/>
                    <a:pt x="3" y="113"/>
                    <a:pt x="3" y="109"/>
                  </a:cubicBezTo>
                  <a:close/>
                  <a:moveTo>
                    <a:pt x="3" y="75"/>
                  </a:moveTo>
                  <a:lnTo>
                    <a:pt x="3" y="75"/>
                  </a:lnTo>
                  <a:cubicBezTo>
                    <a:pt x="3" y="71"/>
                    <a:pt x="7" y="67"/>
                    <a:pt x="12" y="67"/>
                  </a:cubicBezTo>
                  <a:cubicBezTo>
                    <a:pt x="16" y="67"/>
                    <a:pt x="20" y="71"/>
                    <a:pt x="20" y="75"/>
                  </a:cubicBezTo>
                  <a:lnTo>
                    <a:pt x="20" y="75"/>
                  </a:lnTo>
                  <a:cubicBezTo>
                    <a:pt x="20" y="80"/>
                    <a:pt x="16" y="84"/>
                    <a:pt x="12" y="84"/>
                  </a:cubicBezTo>
                  <a:cubicBezTo>
                    <a:pt x="7" y="84"/>
                    <a:pt x="3" y="80"/>
                    <a:pt x="3" y="75"/>
                  </a:cubicBezTo>
                  <a:close/>
                  <a:moveTo>
                    <a:pt x="3" y="42"/>
                  </a:moveTo>
                  <a:lnTo>
                    <a:pt x="3" y="42"/>
                  </a:lnTo>
                  <a:cubicBezTo>
                    <a:pt x="3" y="37"/>
                    <a:pt x="7" y="34"/>
                    <a:pt x="12" y="34"/>
                  </a:cubicBezTo>
                  <a:cubicBezTo>
                    <a:pt x="16" y="34"/>
                    <a:pt x="20" y="37"/>
                    <a:pt x="20" y="42"/>
                  </a:cubicBezTo>
                  <a:lnTo>
                    <a:pt x="20" y="42"/>
                  </a:lnTo>
                  <a:cubicBezTo>
                    <a:pt x="20" y="47"/>
                    <a:pt x="16" y="50"/>
                    <a:pt x="12" y="50"/>
                  </a:cubicBezTo>
                  <a:cubicBezTo>
                    <a:pt x="7" y="50"/>
                    <a:pt x="3" y="47"/>
                    <a:pt x="3" y="42"/>
                  </a:cubicBezTo>
                  <a:close/>
                  <a:moveTo>
                    <a:pt x="3" y="9"/>
                  </a:moveTo>
                  <a:lnTo>
                    <a:pt x="3" y="9"/>
                  </a:lnTo>
                  <a:cubicBezTo>
                    <a:pt x="3" y="4"/>
                    <a:pt x="7" y="0"/>
                    <a:pt x="12" y="0"/>
                  </a:cubicBezTo>
                  <a:cubicBezTo>
                    <a:pt x="16" y="0"/>
                    <a:pt x="20" y="4"/>
                    <a:pt x="20" y="9"/>
                  </a:cubicBezTo>
                  <a:lnTo>
                    <a:pt x="20" y="9"/>
                  </a:lnTo>
                  <a:cubicBezTo>
                    <a:pt x="20" y="13"/>
                    <a:pt x="16" y="17"/>
                    <a:pt x="12" y="17"/>
                  </a:cubicBezTo>
                  <a:cubicBezTo>
                    <a:pt x="7" y="17"/>
                    <a:pt x="3" y="13"/>
                    <a:pt x="3" y="9"/>
                  </a:cubicBez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021280" y="5346720"/>
              <a:ext cx="3240" cy="453960"/>
            </a:xfrm>
            <a:custGeom>
              <a:avLst/>
              <a:gdLst/>
              <a:ahLst/>
              <a:rect l="l" t="t" r="r" b="b"/>
              <a:pathLst>
                <a:path w="20" h="2385">
                  <a:moveTo>
                    <a:pt x="0" y="2376"/>
                  </a:moveTo>
                  <a:lnTo>
                    <a:pt x="0" y="2376"/>
                  </a:lnTo>
                  <a:cubicBezTo>
                    <a:pt x="0" y="2372"/>
                    <a:pt x="4" y="2368"/>
                    <a:pt x="8" y="2368"/>
                  </a:cubicBezTo>
                  <a:cubicBezTo>
                    <a:pt x="13" y="2368"/>
                    <a:pt x="17" y="2372"/>
                    <a:pt x="17" y="2376"/>
                  </a:cubicBezTo>
                  <a:lnTo>
                    <a:pt x="17" y="2376"/>
                  </a:lnTo>
                  <a:cubicBezTo>
                    <a:pt x="17" y="2381"/>
                    <a:pt x="13" y="2385"/>
                    <a:pt x="8" y="2385"/>
                  </a:cubicBezTo>
                  <a:cubicBezTo>
                    <a:pt x="4" y="2385"/>
                    <a:pt x="0" y="2381"/>
                    <a:pt x="0" y="2376"/>
                  </a:cubicBezTo>
                  <a:close/>
                  <a:moveTo>
                    <a:pt x="0" y="2343"/>
                  </a:moveTo>
                  <a:lnTo>
                    <a:pt x="0" y="2343"/>
                  </a:lnTo>
                  <a:cubicBezTo>
                    <a:pt x="0" y="2338"/>
                    <a:pt x="4" y="2335"/>
                    <a:pt x="9" y="2335"/>
                  </a:cubicBezTo>
                  <a:cubicBezTo>
                    <a:pt x="13" y="2335"/>
                    <a:pt x="17" y="2338"/>
                    <a:pt x="17" y="2343"/>
                  </a:cubicBezTo>
                  <a:lnTo>
                    <a:pt x="17" y="2343"/>
                  </a:lnTo>
                  <a:cubicBezTo>
                    <a:pt x="17" y="2348"/>
                    <a:pt x="13" y="2351"/>
                    <a:pt x="9" y="2351"/>
                  </a:cubicBezTo>
                  <a:cubicBezTo>
                    <a:pt x="4" y="2351"/>
                    <a:pt x="0" y="2348"/>
                    <a:pt x="0" y="2343"/>
                  </a:cubicBezTo>
                  <a:close/>
                  <a:moveTo>
                    <a:pt x="0" y="2310"/>
                  </a:moveTo>
                  <a:lnTo>
                    <a:pt x="0" y="2310"/>
                  </a:lnTo>
                  <a:cubicBezTo>
                    <a:pt x="0" y="2305"/>
                    <a:pt x="4" y="2301"/>
                    <a:pt x="9" y="2301"/>
                  </a:cubicBezTo>
                  <a:cubicBezTo>
                    <a:pt x="13" y="2301"/>
                    <a:pt x="17" y="2305"/>
                    <a:pt x="17" y="2310"/>
                  </a:cubicBezTo>
                  <a:lnTo>
                    <a:pt x="17" y="2310"/>
                  </a:lnTo>
                  <a:cubicBezTo>
                    <a:pt x="17" y="2314"/>
                    <a:pt x="13" y="2318"/>
                    <a:pt x="9" y="2318"/>
                  </a:cubicBezTo>
                  <a:cubicBezTo>
                    <a:pt x="4" y="2318"/>
                    <a:pt x="0" y="2314"/>
                    <a:pt x="0" y="2310"/>
                  </a:cubicBezTo>
                  <a:close/>
                  <a:moveTo>
                    <a:pt x="0" y="2276"/>
                  </a:moveTo>
                  <a:lnTo>
                    <a:pt x="0" y="2276"/>
                  </a:lnTo>
                  <a:cubicBezTo>
                    <a:pt x="0" y="2272"/>
                    <a:pt x="4" y="2268"/>
                    <a:pt x="9" y="2268"/>
                  </a:cubicBezTo>
                  <a:cubicBezTo>
                    <a:pt x="13" y="2268"/>
                    <a:pt x="17" y="2272"/>
                    <a:pt x="17" y="2276"/>
                  </a:cubicBezTo>
                  <a:lnTo>
                    <a:pt x="17" y="2276"/>
                  </a:lnTo>
                  <a:cubicBezTo>
                    <a:pt x="17" y="2281"/>
                    <a:pt x="13" y="2285"/>
                    <a:pt x="9" y="2285"/>
                  </a:cubicBezTo>
                  <a:cubicBezTo>
                    <a:pt x="4" y="2285"/>
                    <a:pt x="0" y="2281"/>
                    <a:pt x="0" y="2276"/>
                  </a:cubicBezTo>
                  <a:close/>
                  <a:moveTo>
                    <a:pt x="0" y="2243"/>
                  </a:moveTo>
                  <a:lnTo>
                    <a:pt x="0" y="2243"/>
                  </a:lnTo>
                  <a:cubicBezTo>
                    <a:pt x="0" y="2238"/>
                    <a:pt x="4" y="2235"/>
                    <a:pt x="9" y="2235"/>
                  </a:cubicBezTo>
                  <a:cubicBezTo>
                    <a:pt x="13" y="2235"/>
                    <a:pt x="17" y="2238"/>
                    <a:pt x="17" y="2243"/>
                  </a:cubicBezTo>
                  <a:lnTo>
                    <a:pt x="17" y="2243"/>
                  </a:lnTo>
                  <a:cubicBezTo>
                    <a:pt x="17" y="2248"/>
                    <a:pt x="13" y="2251"/>
                    <a:pt x="9" y="2251"/>
                  </a:cubicBezTo>
                  <a:cubicBezTo>
                    <a:pt x="4" y="2251"/>
                    <a:pt x="0" y="2248"/>
                    <a:pt x="0" y="2243"/>
                  </a:cubicBezTo>
                  <a:close/>
                  <a:moveTo>
                    <a:pt x="0" y="2210"/>
                  </a:moveTo>
                  <a:lnTo>
                    <a:pt x="0" y="2210"/>
                  </a:lnTo>
                  <a:cubicBezTo>
                    <a:pt x="0" y="2205"/>
                    <a:pt x="4" y="2201"/>
                    <a:pt x="9" y="2201"/>
                  </a:cubicBezTo>
                  <a:cubicBezTo>
                    <a:pt x="13" y="2201"/>
                    <a:pt x="17" y="2205"/>
                    <a:pt x="17" y="2210"/>
                  </a:cubicBezTo>
                  <a:lnTo>
                    <a:pt x="17" y="2210"/>
                  </a:lnTo>
                  <a:cubicBezTo>
                    <a:pt x="17" y="2214"/>
                    <a:pt x="13" y="2218"/>
                    <a:pt x="9" y="2218"/>
                  </a:cubicBezTo>
                  <a:cubicBezTo>
                    <a:pt x="4" y="2218"/>
                    <a:pt x="0" y="2214"/>
                    <a:pt x="0" y="2210"/>
                  </a:cubicBezTo>
                  <a:close/>
                  <a:moveTo>
                    <a:pt x="0" y="2176"/>
                  </a:moveTo>
                  <a:lnTo>
                    <a:pt x="0" y="2176"/>
                  </a:lnTo>
                  <a:cubicBezTo>
                    <a:pt x="0" y="2172"/>
                    <a:pt x="4" y="2168"/>
                    <a:pt x="9" y="2168"/>
                  </a:cubicBezTo>
                  <a:cubicBezTo>
                    <a:pt x="13" y="2168"/>
                    <a:pt x="17" y="2172"/>
                    <a:pt x="17" y="2176"/>
                  </a:cubicBezTo>
                  <a:lnTo>
                    <a:pt x="17" y="2176"/>
                  </a:lnTo>
                  <a:cubicBezTo>
                    <a:pt x="17" y="2181"/>
                    <a:pt x="13" y="2185"/>
                    <a:pt x="9" y="2185"/>
                  </a:cubicBezTo>
                  <a:cubicBezTo>
                    <a:pt x="4" y="2185"/>
                    <a:pt x="0" y="2181"/>
                    <a:pt x="0" y="2176"/>
                  </a:cubicBezTo>
                  <a:close/>
                  <a:moveTo>
                    <a:pt x="0" y="2143"/>
                  </a:moveTo>
                  <a:lnTo>
                    <a:pt x="0" y="2143"/>
                  </a:lnTo>
                  <a:cubicBezTo>
                    <a:pt x="0" y="2138"/>
                    <a:pt x="4" y="2135"/>
                    <a:pt x="9" y="2135"/>
                  </a:cubicBezTo>
                  <a:cubicBezTo>
                    <a:pt x="13" y="2135"/>
                    <a:pt x="17" y="2138"/>
                    <a:pt x="17" y="2143"/>
                  </a:cubicBezTo>
                  <a:lnTo>
                    <a:pt x="17" y="2143"/>
                  </a:lnTo>
                  <a:cubicBezTo>
                    <a:pt x="17" y="2148"/>
                    <a:pt x="13" y="2151"/>
                    <a:pt x="9" y="2151"/>
                  </a:cubicBezTo>
                  <a:cubicBezTo>
                    <a:pt x="4" y="2151"/>
                    <a:pt x="0" y="2148"/>
                    <a:pt x="0" y="2143"/>
                  </a:cubicBezTo>
                  <a:close/>
                  <a:moveTo>
                    <a:pt x="0" y="2110"/>
                  </a:moveTo>
                  <a:lnTo>
                    <a:pt x="0" y="2110"/>
                  </a:lnTo>
                  <a:cubicBezTo>
                    <a:pt x="0" y="2105"/>
                    <a:pt x="4" y="2101"/>
                    <a:pt x="9" y="2101"/>
                  </a:cubicBezTo>
                  <a:cubicBezTo>
                    <a:pt x="13" y="2101"/>
                    <a:pt x="17" y="2105"/>
                    <a:pt x="17" y="2110"/>
                  </a:cubicBezTo>
                  <a:lnTo>
                    <a:pt x="17" y="2110"/>
                  </a:lnTo>
                  <a:cubicBezTo>
                    <a:pt x="17" y="2114"/>
                    <a:pt x="13" y="2118"/>
                    <a:pt x="9" y="2118"/>
                  </a:cubicBezTo>
                  <a:cubicBezTo>
                    <a:pt x="4" y="2118"/>
                    <a:pt x="0" y="2114"/>
                    <a:pt x="0" y="2110"/>
                  </a:cubicBezTo>
                  <a:close/>
                  <a:moveTo>
                    <a:pt x="1" y="2076"/>
                  </a:moveTo>
                  <a:lnTo>
                    <a:pt x="1" y="2076"/>
                  </a:lnTo>
                  <a:cubicBezTo>
                    <a:pt x="1" y="2072"/>
                    <a:pt x="4" y="2068"/>
                    <a:pt x="9" y="2068"/>
                  </a:cubicBezTo>
                  <a:cubicBezTo>
                    <a:pt x="13" y="2068"/>
                    <a:pt x="17" y="2072"/>
                    <a:pt x="17" y="2076"/>
                  </a:cubicBezTo>
                  <a:lnTo>
                    <a:pt x="17" y="2076"/>
                  </a:lnTo>
                  <a:cubicBezTo>
                    <a:pt x="17" y="2081"/>
                    <a:pt x="13" y="2085"/>
                    <a:pt x="9" y="2085"/>
                  </a:cubicBezTo>
                  <a:cubicBezTo>
                    <a:pt x="4" y="2085"/>
                    <a:pt x="1" y="2081"/>
                    <a:pt x="1" y="2076"/>
                  </a:cubicBezTo>
                  <a:close/>
                  <a:moveTo>
                    <a:pt x="1" y="2043"/>
                  </a:moveTo>
                  <a:lnTo>
                    <a:pt x="1" y="2043"/>
                  </a:lnTo>
                  <a:cubicBezTo>
                    <a:pt x="1" y="2038"/>
                    <a:pt x="4" y="2035"/>
                    <a:pt x="9" y="2035"/>
                  </a:cubicBezTo>
                  <a:cubicBezTo>
                    <a:pt x="14" y="2035"/>
                    <a:pt x="17" y="2038"/>
                    <a:pt x="17" y="2043"/>
                  </a:cubicBezTo>
                  <a:lnTo>
                    <a:pt x="17" y="2043"/>
                  </a:lnTo>
                  <a:cubicBezTo>
                    <a:pt x="17" y="2048"/>
                    <a:pt x="14" y="2051"/>
                    <a:pt x="9" y="2051"/>
                  </a:cubicBezTo>
                  <a:cubicBezTo>
                    <a:pt x="4" y="2051"/>
                    <a:pt x="1" y="2048"/>
                    <a:pt x="1" y="2043"/>
                  </a:cubicBezTo>
                  <a:close/>
                  <a:moveTo>
                    <a:pt x="1" y="2010"/>
                  </a:moveTo>
                  <a:lnTo>
                    <a:pt x="1" y="2010"/>
                  </a:lnTo>
                  <a:cubicBezTo>
                    <a:pt x="1" y="2005"/>
                    <a:pt x="4" y="2001"/>
                    <a:pt x="9" y="2001"/>
                  </a:cubicBezTo>
                  <a:cubicBezTo>
                    <a:pt x="14" y="2001"/>
                    <a:pt x="17" y="2005"/>
                    <a:pt x="17" y="2010"/>
                  </a:cubicBezTo>
                  <a:lnTo>
                    <a:pt x="17" y="2010"/>
                  </a:lnTo>
                  <a:cubicBezTo>
                    <a:pt x="17" y="2014"/>
                    <a:pt x="14" y="2018"/>
                    <a:pt x="9" y="2018"/>
                  </a:cubicBezTo>
                  <a:cubicBezTo>
                    <a:pt x="4" y="2018"/>
                    <a:pt x="1" y="2014"/>
                    <a:pt x="1" y="2010"/>
                  </a:cubicBezTo>
                  <a:close/>
                  <a:moveTo>
                    <a:pt x="1" y="1976"/>
                  </a:moveTo>
                  <a:lnTo>
                    <a:pt x="1" y="1976"/>
                  </a:lnTo>
                  <a:cubicBezTo>
                    <a:pt x="1" y="1972"/>
                    <a:pt x="4" y="1968"/>
                    <a:pt x="9" y="1968"/>
                  </a:cubicBezTo>
                  <a:cubicBezTo>
                    <a:pt x="14" y="1968"/>
                    <a:pt x="17" y="1972"/>
                    <a:pt x="17" y="1976"/>
                  </a:cubicBezTo>
                  <a:lnTo>
                    <a:pt x="17" y="1976"/>
                  </a:lnTo>
                  <a:cubicBezTo>
                    <a:pt x="17" y="1981"/>
                    <a:pt x="14" y="1985"/>
                    <a:pt x="9" y="1985"/>
                  </a:cubicBezTo>
                  <a:cubicBezTo>
                    <a:pt x="4" y="1985"/>
                    <a:pt x="1" y="1981"/>
                    <a:pt x="1" y="1976"/>
                  </a:cubicBezTo>
                  <a:close/>
                  <a:moveTo>
                    <a:pt x="1" y="1943"/>
                  </a:moveTo>
                  <a:lnTo>
                    <a:pt x="1" y="1943"/>
                  </a:lnTo>
                  <a:cubicBezTo>
                    <a:pt x="1" y="1938"/>
                    <a:pt x="4" y="1935"/>
                    <a:pt x="9" y="1935"/>
                  </a:cubicBezTo>
                  <a:cubicBezTo>
                    <a:pt x="14" y="1935"/>
                    <a:pt x="17" y="1938"/>
                    <a:pt x="17" y="1943"/>
                  </a:cubicBezTo>
                  <a:lnTo>
                    <a:pt x="17" y="1943"/>
                  </a:lnTo>
                  <a:cubicBezTo>
                    <a:pt x="17" y="1948"/>
                    <a:pt x="14" y="1951"/>
                    <a:pt x="9" y="1951"/>
                  </a:cubicBezTo>
                  <a:cubicBezTo>
                    <a:pt x="4" y="1951"/>
                    <a:pt x="1" y="1948"/>
                    <a:pt x="1" y="1943"/>
                  </a:cubicBezTo>
                  <a:close/>
                  <a:moveTo>
                    <a:pt x="1" y="1910"/>
                  </a:moveTo>
                  <a:lnTo>
                    <a:pt x="1" y="1910"/>
                  </a:lnTo>
                  <a:cubicBezTo>
                    <a:pt x="1" y="1905"/>
                    <a:pt x="4" y="1901"/>
                    <a:pt x="9" y="1901"/>
                  </a:cubicBezTo>
                  <a:cubicBezTo>
                    <a:pt x="14" y="1901"/>
                    <a:pt x="17" y="1905"/>
                    <a:pt x="17" y="1910"/>
                  </a:cubicBezTo>
                  <a:lnTo>
                    <a:pt x="17" y="1910"/>
                  </a:lnTo>
                  <a:cubicBezTo>
                    <a:pt x="17" y="1914"/>
                    <a:pt x="14" y="1918"/>
                    <a:pt x="9" y="1918"/>
                  </a:cubicBezTo>
                  <a:cubicBezTo>
                    <a:pt x="4" y="1918"/>
                    <a:pt x="1" y="1914"/>
                    <a:pt x="1" y="1910"/>
                  </a:cubicBezTo>
                  <a:close/>
                  <a:moveTo>
                    <a:pt x="1" y="1876"/>
                  </a:moveTo>
                  <a:lnTo>
                    <a:pt x="1" y="1876"/>
                  </a:lnTo>
                  <a:cubicBezTo>
                    <a:pt x="1" y="1872"/>
                    <a:pt x="5" y="1868"/>
                    <a:pt x="9" y="1868"/>
                  </a:cubicBezTo>
                  <a:cubicBezTo>
                    <a:pt x="14" y="1868"/>
                    <a:pt x="17" y="1872"/>
                    <a:pt x="17" y="1876"/>
                  </a:cubicBezTo>
                  <a:lnTo>
                    <a:pt x="17" y="1876"/>
                  </a:lnTo>
                  <a:cubicBezTo>
                    <a:pt x="17" y="1881"/>
                    <a:pt x="14" y="1885"/>
                    <a:pt x="9" y="1885"/>
                  </a:cubicBezTo>
                  <a:cubicBezTo>
                    <a:pt x="5" y="1885"/>
                    <a:pt x="1" y="1881"/>
                    <a:pt x="1" y="1876"/>
                  </a:cubicBezTo>
                  <a:close/>
                  <a:moveTo>
                    <a:pt x="1" y="1843"/>
                  </a:moveTo>
                  <a:lnTo>
                    <a:pt x="1" y="1843"/>
                  </a:lnTo>
                  <a:cubicBezTo>
                    <a:pt x="1" y="1838"/>
                    <a:pt x="5" y="1834"/>
                    <a:pt x="9" y="1834"/>
                  </a:cubicBezTo>
                  <a:cubicBezTo>
                    <a:pt x="14" y="1834"/>
                    <a:pt x="18" y="1838"/>
                    <a:pt x="18" y="1843"/>
                  </a:cubicBezTo>
                  <a:lnTo>
                    <a:pt x="18" y="1843"/>
                  </a:lnTo>
                  <a:cubicBezTo>
                    <a:pt x="18" y="1847"/>
                    <a:pt x="14" y="1851"/>
                    <a:pt x="9" y="1851"/>
                  </a:cubicBezTo>
                  <a:cubicBezTo>
                    <a:pt x="5" y="1851"/>
                    <a:pt x="1" y="1847"/>
                    <a:pt x="1" y="1843"/>
                  </a:cubicBezTo>
                  <a:close/>
                  <a:moveTo>
                    <a:pt x="1" y="1809"/>
                  </a:moveTo>
                  <a:lnTo>
                    <a:pt x="1" y="1809"/>
                  </a:lnTo>
                  <a:cubicBezTo>
                    <a:pt x="1" y="1805"/>
                    <a:pt x="5" y="1801"/>
                    <a:pt x="9" y="1801"/>
                  </a:cubicBezTo>
                  <a:cubicBezTo>
                    <a:pt x="14" y="1801"/>
                    <a:pt x="18" y="1805"/>
                    <a:pt x="18" y="1809"/>
                  </a:cubicBezTo>
                  <a:lnTo>
                    <a:pt x="18" y="1809"/>
                  </a:lnTo>
                  <a:cubicBezTo>
                    <a:pt x="18" y="1814"/>
                    <a:pt x="14" y="1818"/>
                    <a:pt x="9" y="1818"/>
                  </a:cubicBezTo>
                  <a:cubicBezTo>
                    <a:pt x="5" y="1818"/>
                    <a:pt x="1" y="1814"/>
                    <a:pt x="1" y="1809"/>
                  </a:cubicBezTo>
                  <a:close/>
                  <a:moveTo>
                    <a:pt x="1" y="1776"/>
                  </a:moveTo>
                  <a:lnTo>
                    <a:pt x="1" y="1776"/>
                  </a:lnTo>
                  <a:cubicBezTo>
                    <a:pt x="1" y="1772"/>
                    <a:pt x="5" y="1768"/>
                    <a:pt x="9" y="1768"/>
                  </a:cubicBezTo>
                  <a:cubicBezTo>
                    <a:pt x="14" y="1768"/>
                    <a:pt x="18" y="1772"/>
                    <a:pt x="18" y="1776"/>
                  </a:cubicBezTo>
                  <a:lnTo>
                    <a:pt x="18" y="1776"/>
                  </a:lnTo>
                  <a:cubicBezTo>
                    <a:pt x="18" y="1781"/>
                    <a:pt x="14" y="1784"/>
                    <a:pt x="9" y="1784"/>
                  </a:cubicBezTo>
                  <a:cubicBezTo>
                    <a:pt x="5" y="1784"/>
                    <a:pt x="1" y="1781"/>
                    <a:pt x="1" y="1776"/>
                  </a:cubicBezTo>
                  <a:close/>
                  <a:moveTo>
                    <a:pt x="1" y="1743"/>
                  </a:moveTo>
                  <a:lnTo>
                    <a:pt x="1" y="1743"/>
                  </a:lnTo>
                  <a:cubicBezTo>
                    <a:pt x="1" y="1738"/>
                    <a:pt x="5" y="1734"/>
                    <a:pt x="9" y="1734"/>
                  </a:cubicBezTo>
                  <a:cubicBezTo>
                    <a:pt x="14" y="1734"/>
                    <a:pt x="18" y="1738"/>
                    <a:pt x="18" y="1743"/>
                  </a:cubicBezTo>
                  <a:lnTo>
                    <a:pt x="18" y="1743"/>
                  </a:lnTo>
                  <a:cubicBezTo>
                    <a:pt x="18" y="1747"/>
                    <a:pt x="14" y="1751"/>
                    <a:pt x="9" y="1751"/>
                  </a:cubicBezTo>
                  <a:cubicBezTo>
                    <a:pt x="5" y="1751"/>
                    <a:pt x="1" y="1747"/>
                    <a:pt x="1" y="1743"/>
                  </a:cubicBezTo>
                  <a:close/>
                  <a:moveTo>
                    <a:pt x="1" y="1709"/>
                  </a:moveTo>
                  <a:lnTo>
                    <a:pt x="1" y="1709"/>
                  </a:lnTo>
                  <a:cubicBezTo>
                    <a:pt x="1" y="1705"/>
                    <a:pt x="5" y="1701"/>
                    <a:pt x="9" y="1701"/>
                  </a:cubicBezTo>
                  <a:cubicBezTo>
                    <a:pt x="14" y="1701"/>
                    <a:pt x="18" y="1705"/>
                    <a:pt x="18" y="1709"/>
                  </a:cubicBezTo>
                  <a:lnTo>
                    <a:pt x="18" y="1709"/>
                  </a:lnTo>
                  <a:cubicBezTo>
                    <a:pt x="18" y="1714"/>
                    <a:pt x="14" y="1718"/>
                    <a:pt x="9" y="1718"/>
                  </a:cubicBezTo>
                  <a:cubicBezTo>
                    <a:pt x="5" y="1718"/>
                    <a:pt x="1" y="1714"/>
                    <a:pt x="1" y="1709"/>
                  </a:cubicBezTo>
                  <a:close/>
                  <a:moveTo>
                    <a:pt x="1" y="1676"/>
                  </a:moveTo>
                  <a:lnTo>
                    <a:pt x="1" y="1676"/>
                  </a:lnTo>
                  <a:cubicBezTo>
                    <a:pt x="1" y="1671"/>
                    <a:pt x="5" y="1668"/>
                    <a:pt x="9" y="1668"/>
                  </a:cubicBezTo>
                  <a:cubicBezTo>
                    <a:pt x="14" y="1668"/>
                    <a:pt x="18" y="1671"/>
                    <a:pt x="18" y="1676"/>
                  </a:cubicBezTo>
                  <a:lnTo>
                    <a:pt x="18" y="1676"/>
                  </a:lnTo>
                  <a:cubicBezTo>
                    <a:pt x="18" y="1681"/>
                    <a:pt x="14" y="1684"/>
                    <a:pt x="9" y="1684"/>
                  </a:cubicBezTo>
                  <a:cubicBezTo>
                    <a:pt x="5" y="1684"/>
                    <a:pt x="1" y="1681"/>
                    <a:pt x="1" y="1676"/>
                  </a:cubicBezTo>
                  <a:close/>
                  <a:moveTo>
                    <a:pt x="1" y="1643"/>
                  </a:moveTo>
                  <a:lnTo>
                    <a:pt x="1" y="1643"/>
                  </a:lnTo>
                  <a:cubicBezTo>
                    <a:pt x="1" y="1638"/>
                    <a:pt x="5" y="1634"/>
                    <a:pt x="9" y="1634"/>
                  </a:cubicBezTo>
                  <a:cubicBezTo>
                    <a:pt x="14" y="1634"/>
                    <a:pt x="18" y="1638"/>
                    <a:pt x="18" y="1643"/>
                  </a:cubicBezTo>
                  <a:lnTo>
                    <a:pt x="18" y="1643"/>
                  </a:lnTo>
                  <a:cubicBezTo>
                    <a:pt x="18" y="1647"/>
                    <a:pt x="14" y="1651"/>
                    <a:pt x="9" y="1651"/>
                  </a:cubicBezTo>
                  <a:cubicBezTo>
                    <a:pt x="5" y="1651"/>
                    <a:pt x="1" y="1647"/>
                    <a:pt x="1" y="1643"/>
                  </a:cubicBezTo>
                  <a:close/>
                  <a:moveTo>
                    <a:pt x="1" y="1609"/>
                  </a:moveTo>
                  <a:lnTo>
                    <a:pt x="1" y="1609"/>
                  </a:lnTo>
                  <a:cubicBezTo>
                    <a:pt x="1" y="1605"/>
                    <a:pt x="5" y="1601"/>
                    <a:pt x="10" y="1601"/>
                  </a:cubicBezTo>
                  <a:cubicBezTo>
                    <a:pt x="14" y="1601"/>
                    <a:pt x="18" y="1605"/>
                    <a:pt x="18" y="1609"/>
                  </a:cubicBezTo>
                  <a:lnTo>
                    <a:pt x="18" y="1609"/>
                  </a:lnTo>
                  <a:cubicBezTo>
                    <a:pt x="18" y="1614"/>
                    <a:pt x="14" y="1618"/>
                    <a:pt x="10" y="1618"/>
                  </a:cubicBezTo>
                  <a:cubicBezTo>
                    <a:pt x="5" y="1618"/>
                    <a:pt x="1" y="1614"/>
                    <a:pt x="1" y="1609"/>
                  </a:cubicBezTo>
                  <a:close/>
                  <a:moveTo>
                    <a:pt x="1" y="1576"/>
                  </a:moveTo>
                  <a:lnTo>
                    <a:pt x="1" y="1576"/>
                  </a:lnTo>
                  <a:cubicBezTo>
                    <a:pt x="1" y="1571"/>
                    <a:pt x="5" y="1568"/>
                    <a:pt x="10" y="1568"/>
                  </a:cubicBezTo>
                  <a:cubicBezTo>
                    <a:pt x="14" y="1568"/>
                    <a:pt x="18" y="1571"/>
                    <a:pt x="18" y="1576"/>
                  </a:cubicBezTo>
                  <a:lnTo>
                    <a:pt x="18" y="1576"/>
                  </a:lnTo>
                  <a:cubicBezTo>
                    <a:pt x="18" y="1581"/>
                    <a:pt x="14" y="1584"/>
                    <a:pt x="10" y="1584"/>
                  </a:cubicBezTo>
                  <a:cubicBezTo>
                    <a:pt x="5" y="1584"/>
                    <a:pt x="1" y="1581"/>
                    <a:pt x="1" y="1576"/>
                  </a:cubicBezTo>
                  <a:close/>
                  <a:moveTo>
                    <a:pt x="1" y="1543"/>
                  </a:moveTo>
                  <a:lnTo>
                    <a:pt x="1" y="1543"/>
                  </a:lnTo>
                  <a:cubicBezTo>
                    <a:pt x="1" y="1538"/>
                    <a:pt x="5" y="1534"/>
                    <a:pt x="10" y="1534"/>
                  </a:cubicBezTo>
                  <a:cubicBezTo>
                    <a:pt x="14" y="1534"/>
                    <a:pt x="18" y="1538"/>
                    <a:pt x="18" y="1543"/>
                  </a:cubicBezTo>
                  <a:lnTo>
                    <a:pt x="18" y="1543"/>
                  </a:lnTo>
                  <a:cubicBezTo>
                    <a:pt x="18" y="1547"/>
                    <a:pt x="14" y="1551"/>
                    <a:pt x="10" y="1551"/>
                  </a:cubicBezTo>
                  <a:cubicBezTo>
                    <a:pt x="5" y="1551"/>
                    <a:pt x="1" y="1547"/>
                    <a:pt x="1" y="1543"/>
                  </a:cubicBezTo>
                  <a:close/>
                  <a:moveTo>
                    <a:pt x="1" y="1509"/>
                  </a:moveTo>
                  <a:lnTo>
                    <a:pt x="1" y="1509"/>
                  </a:lnTo>
                  <a:cubicBezTo>
                    <a:pt x="1" y="1505"/>
                    <a:pt x="5" y="1501"/>
                    <a:pt x="10" y="1501"/>
                  </a:cubicBezTo>
                  <a:cubicBezTo>
                    <a:pt x="14" y="1501"/>
                    <a:pt x="18" y="1505"/>
                    <a:pt x="18" y="1509"/>
                  </a:cubicBezTo>
                  <a:lnTo>
                    <a:pt x="18" y="1509"/>
                  </a:lnTo>
                  <a:cubicBezTo>
                    <a:pt x="18" y="1514"/>
                    <a:pt x="14" y="1518"/>
                    <a:pt x="10" y="1518"/>
                  </a:cubicBezTo>
                  <a:cubicBezTo>
                    <a:pt x="5" y="1518"/>
                    <a:pt x="1" y="1514"/>
                    <a:pt x="1" y="1509"/>
                  </a:cubicBezTo>
                  <a:close/>
                  <a:moveTo>
                    <a:pt x="1" y="1476"/>
                  </a:moveTo>
                  <a:lnTo>
                    <a:pt x="1" y="1476"/>
                  </a:lnTo>
                  <a:cubicBezTo>
                    <a:pt x="1" y="1471"/>
                    <a:pt x="5" y="1468"/>
                    <a:pt x="10" y="1468"/>
                  </a:cubicBezTo>
                  <a:cubicBezTo>
                    <a:pt x="14" y="1468"/>
                    <a:pt x="18" y="1471"/>
                    <a:pt x="18" y="1476"/>
                  </a:cubicBezTo>
                  <a:lnTo>
                    <a:pt x="18" y="1476"/>
                  </a:lnTo>
                  <a:cubicBezTo>
                    <a:pt x="18" y="1481"/>
                    <a:pt x="14" y="1484"/>
                    <a:pt x="10" y="1484"/>
                  </a:cubicBezTo>
                  <a:cubicBezTo>
                    <a:pt x="5" y="1484"/>
                    <a:pt x="1" y="1481"/>
                    <a:pt x="1" y="1476"/>
                  </a:cubicBezTo>
                  <a:close/>
                  <a:moveTo>
                    <a:pt x="1" y="1443"/>
                  </a:moveTo>
                  <a:lnTo>
                    <a:pt x="1" y="1443"/>
                  </a:lnTo>
                  <a:cubicBezTo>
                    <a:pt x="1" y="1438"/>
                    <a:pt x="5" y="1434"/>
                    <a:pt x="10" y="1434"/>
                  </a:cubicBezTo>
                  <a:cubicBezTo>
                    <a:pt x="14" y="1434"/>
                    <a:pt x="18" y="1438"/>
                    <a:pt x="18" y="1443"/>
                  </a:cubicBezTo>
                  <a:lnTo>
                    <a:pt x="18" y="1443"/>
                  </a:lnTo>
                  <a:cubicBezTo>
                    <a:pt x="18" y="1447"/>
                    <a:pt x="14" y="1451"/>
                    <a:pt x="10" y="1451"/>
                  </a:cubicBezTo>
                  <a:cubicBezTo>
                    <a:pt x="5" y="1451"/>
                    <a:pt x="1" y="1447"/>
                    <a:pt x="1" y="1443"/>
                  </a:cubicBezTo>
                  <a:close/>
                  <a:moveTo>
                    <a:pt x="1" y="1409"/>
                  </a:moveTo>
                  <a:lnTo>
                    <a:pt x="1" y="1409"/>
                  </a:lnTo>
                  <a:cubicBezTo>
                    <a:pt x="1" y="1405"/>
                    <a:pt x="5" y="1401"/>
                    <a:pt x="10" y="1401"/>
                  </a:cubicBezTo>
                  <a:cubicBezTo>
                    <a:pt x="14" y="1401"/>
                    <a:pt x="18" y="1405"/>
                    <a:pt x="18" y="1409"/>
                  </a:cubicBezTo>
                  <a:lnTo>
                    <a:pt x="18" y="1409"/>
                  </a:lnTo>
                  <a:cubicBezTo>
                    <a:pt x="18" y="1414"/>
                    <a:pt x="14" y="1418"/>
                    <a:pt x="10" y="1418"/>
                  </a:cubicBezTo>
                  <a:cubicBezTo>
                    <a:pt x="5" y="1418"/>
                    <a:pt x="1" y="1414"/>
                    <a:pt x="1" y="1409"/>
                  </a:cubicBezTo>
                  <a:close/>
                  <a:moveTo>
                    <a:pt x="2" y="1376"/>
                  </a:moveTo>
                  <a:lnTo>
                    <a:pt x="2" y="1376"/>
                  </a:lnTo>
                  <a:cubicBezTo>
                    <a:pt x="2" y="1371"/>
                    <a:pt x="5" y="1368"/>
                    <a:pt x="10" y="1368"/>
                  </a:cubicBezTo>
                  <a:cubicBezTo>
                    <a:pt x="14" y="1368"/>
                    <a:pt x="18" y="1371"/>
                    <a:pt x="18" y="1376"/>
                  </a:cubicBezTo>
                  <a:lnTo>
                    <a:pt x="18" y="1376"/>
                  </a:lnTo>
                  <a:cubicBezTo>
                    <a:pt x="18" y="1381"/>
                    <a:pt x="14" y="1384"/>
                    <a:pt x="10" y="1384"/>
                  </a:cubicBezTo>
                  <a:cubicBezTo>
                    <a:pt x="5" y="1384"/>
                    <a:pt x="2" y="1381"/>
                    <a:pt x="2" y="1376"/>
                  </a:cubicBezTo>
                  <a:close/>
                  <a:moveTo>
                    <a:pt x="2" y="1343"/>
                  </a:moveTo>
                  <a:lnTo>
                    <a:pt x="2" y="1343"/>
                  </a:lnTo>
                  <a:cubicBezTo>
                    <a:pt x="2" y="1338"/>
                    <a:pt x="5" y="1334"/>
                    <a:pt x="10" y="1334"/>
                  </a:cubicBezTo>
                  <a:cubicBezTo>
                    <a:pt x="14" y="1334"/>
                    <a:pt x="18" y="1338"/>
                    <a:pt x="18" y="1343"/>
                  </a:cubicBezTo>
                  <a:lnTo>
                    <a:pt x="18" y="1343"/>
                  </a:lnTo>
                  <a:cubicBezTo>
                    <a:pt x="18" y="1347"/>
                    <a:pt x="14" y="1351"/>
                    <a:pt x="10" y="1351"/>
                  </a:cubicBezTo>
                  <a:cubicBezTo>
                    <a:pt x="5" y="1351"/>
                    <a:pt x="2" y="1347"/>
                    <a:pt x="2" y="1343"/>
                  </a:cubicBezTo>
                  <a:close/>
                  <a:moveTo>
                    <a:pt x="2" y="1309"/>
                  </a:moveTo>
                  <a:lnTo>
                    <a:pt x="2" y="1309"/>
                  </a:lnTo>
                  <a:cubicBezTo>
                    <a:pt x="2" y="1305"/>
                    <a:pt x="5" y="1301"/>
                    <a:pt x="10" y="1301"/>
                  </a:cubicBezTo>
                  <a:cubicBezTo>
                    <a:pt x="15" y="1301"/>
                    <a:pt x="18" y="1305"/>
                    <a:pt x="18" y="1309"/>
                  </a:cubicBezTo>
                  <a:lnTo>
                    <a:pt x="18" y="1309"/>
                  </a:lnTo>
                  <a:cubicBezTo>
                    <a:pt x="18" y="1314"/>
                    <a:pt x="15" y="1318"/>
                    <a:pt x="10" y="1318"/>
                  </a:cubicBezTo>
                  <a:cubicBezTo>
                    <a:pt x="5" y="1318"/>
                    <a:pt x="2" y="1314"/>
                    <a:pt x="2" y="1309"/>
                  </a:cubicBezTo>
                  <a:close/>
                  <a:moveTo>
                    <a:pt x="2" y="1276"/>
                  </a:moveTo>
                  <a:lnTo>
                    <a:pt x="2" y="1276"/>
                  </a:lnTo>
                  <a:cubicBezTo>
                    <a:pt x="2" y="1271"/>
                    <a:pt x="5" y="1268"/>
                    <a:pt x="10" y="1268"/>
                  </a:cubicBezTo>
                  <a:cubicBezTo>
                    <a:pt x="15" y="1268"/>
                    <a:pt x="18" y="1271"/>
                    <a:pt x="18" y="1276"/>
                  </a:cubicBezTo>
                  <a:lnTo>
                    <a:pt x="18" y="1276"/>
                  </a:lnTo>
                  <a:cubicBezTo>
                    <a:pt x="18" y="1280"/>
                    <a:pt x="15" y="1284"/>
                    <a:pt x="10" y="1284"/>
                  </a:cubicBezTo>
                  <a:cubicBezTo>
                    <a:pt x="5" y="1284"/>
                    <a:pt x="2" y="1280"/>
                    <a:pt x="2" y="1276"/>
                  </a:cubicBezTo>
                  <a:close/>
                  <a:moveTo>
                    <a:pt x="2" y="1243"/>
                  </a:moveTo>
                  <a:lnTo>
                    <a:pt x="2" y="1242"/>
                  </a:lnTo>
                  <a:cubicBezTo>
                    <a:pt x="2" y="1238"/>
                    <a:pt x="5" y="1234"/>
                    <a:pt x="10" y="1234"/>
                  </a:cubicBezTo>
                  <a:cubicBezTo>
                    <a:pt x="15" y="1234"/>
                    <a:pt x="18" y="1238"/>
                    <a:pt x="18" y="1242"/>
                  </a:cubicBezTo>
                  <a:lnTo>
                    <a:pt x="18" y="1243"/>
                  </a:lnTo>
                  <a:cubicBezTo>
                    <a:pt x="18" y="1247"/>
                    <a:pt x="15" y="1251"/>
                    <a:pt x="10" y="1251"/>
                  </a:cubicBezTo>
                  <a:cubicBezTo>
                    <a:pt x="5" y="1251"/>
                    <a:pt x="2" y="1247"/>
                    <a:pt x="2" y="1243"/>
                  </a:cubicBezTo>
                  <a:close/>
                  <a:moveTo>
                    <a:pt x="2" y="1209"/>
                  </a:moveTo>
                  <a:lnTo>
                    <a:pt x="2" y="1209"/>
                  </a:lnTo>
                  <a:cubicBezTo>
                    <a:pt x="2" y="1205"/>
                    <a:pt x="5" y="1201"/>
                    <a:pt x="10" y="1201"/>
                  </a:cubicBezTo>
                  <a:cubicBezTo>
                    <a:pt x="15" y="1201"/>
                    <a:pt x="18" y="1205"/>
                    <a:pt x="18" y="1209"/>
                  </a:cubicBezTo>
                  <a:lnTo>
                    <a:pt x="18" y="1209"/>
                  </a:lnTo>
                  <a:cubicBezTo>
                    <a:pt x="18" y="1214"/>
                    <a:pt x="15" y="1217"/>
                    <a:pt x="10" y="1217"/>
                  </a:cubicBezTo>
                  <a:cubicBezTo>
                    <a:pt x="5" y="1217"/>
                    <a:pt x="2" y="1214"/>
                    <a:pt x="2" y="1209"/>
                  </a:cubicBezTo>
                  <a:close/>
                  <a:moveTo>
                    <a:pt x="2" y="1176"/>
                  </a:moveTo>
                  <a:lnTo>
                    <a:pt x="2" y="1176"/>
                  </a:lnTo>
                  <a:cubicBezTo>
                    <a:pt x="2" y="1171"/>
                    <a:pt x="6" y="1167"/>
                    <a:pt x="10" y="1167"/>
                  </a:cubicBezTo>
                  <a:cubicBezTo>
                    <a:pt x="15" y="1167"/>
                    <a:pt x="18" y="1171"/>
                    <a:pt x="18" y="1176"/>
                  </a:cubicBezTo>
                  <a:lnTo>
                    <a:pt x="18" y="1176"/>
                  </a:lnTo>
                  <a:cubicBezTo>
                    <a:pt x="18" y="1180"/>
                    <a:pt x="15" y="1184"/>
                    <a:pt x="10" y="1184"/>
                  </a:cubicBezTo>
                  <a:cubicBezTo>
                    <a:pt x="6" y="1184"/>
                    <a:pt x="2" y="1180"/>
                    <a:pt x="2" y="1176"/>
                  </a:cubicBezTo>
                  <a:close/>
                  <a:moveTo>
                    <a:pt x="2" y="1142"/>
                  </a:moveTo>
                  <a:lnTo>
                    <a:pt x="2" y="1142"/>
                  </a:lnTo>
                  <a:cubicBezTo>
                    <a:pt x="2" y="1138"/>
                    <a:pt x="6" y="1134"/>
                    <a:pt x="10" y="1134"/>
                  </a:cubicBezTo>
                  <a:cubicBezTo>
                    <a:pt x="15" y="1134"/>
                    <a:pt x="18" y="1138"/>
                    <a:pt x="18" y="1142"/>
                  </a:cubicBezTo>
                  <a:lnTo>
                    <a:pt x="18" y="1142"/>
                  </a:lnTo>
                  <a:cubicBezTo>
                    <a:pt x="18" y="1147"/>
                    <a:pt x="15" y="1151"/>
                    <a:pt x="10" y="1151"/>
                  </a:cubicBezTo>
                  <a:cubicBezTo>
                    <a:pt x="6" y="1151"/>
                    <a:pt x="2" y="1147"/>
                    <a:pt x="2" y="1142"/>
                  </a:cubicBezTo>
                  <a:close/>
                  <a:moveTo>
                    <a:pt x="2" y="1109"/>
                  </a:moveTo>
                  <a:lnTo>
                    <a:pt x="2" y="1109"/>
                  </a:lnTo>
                  <a:cubicBezTo>
                    <a:pt x="2" y="1104"/>
                    <a:pt x="6" y="1101"/>
                    <a:pt x="10" y="1101"/>
                  </a:cubicBezTo>
                  <a:cubicBezTo>
                    <a:pt x="15" y="1101"/>
                    <a:pt x="19" y="1104"/>
                    <a:pt x="19" y="1109"/>
                  </a:cubicBezTo>
                  <a:lnTo>
                    <a:pt x="19" y="1109"/>
                  </a:lnTo>
                  <a:cubicBezTo>
                    <a:pt x="19" y="1114"/>
                    <a:pt x="15" y="1117"/>
                    <a:pt x="10" y="1117"/>
                  </a:cubicBezTo>
                  <a:cubicBezTo>
                    <a:pt x="6" y="1117"/>
                    <a:pt x="2" y="1114"/>
                    <a:pt x="2" y="1109"/>
                  </a:cubicBezTo>
                  <a:close/>
                  <a:moveTo>
                    <a:pt x="2" y="1076"/>
                  </a:moveTo>
                  <a:lnTo>
                    <a:pt x="2" y="1076"/>
                  </a:lnTo>
                  <a:cubicBezTo>
                    <a:pt x="2" y="1071"/>
                    <a:pt x="6" y="1067"/>
                    <a:pt x="10" y="1067"/>
                  </a:cubicBezTo>
                  <a:cubicBezTo>
                    <a:pt x="15" y="1067"/>
                    <a:pt x="19" y="1071"/>
                    <a:pt x="19" y="1076"/>
                  </a:cubicBezTo>
                  <a:lnTo>
                    <a:pt x="19" y="1076"/>
                  </a:lnTo>
                  <a:cubicBezTo>
                    <a:pt x="19" y="1080"/>
                    <a:pt x="15" y="1084"/>
                    <a:pt x="10" y="1084"/>
                  </a:cubicBezTo>
                  <a:cubicBezTo>
                    <a:pt x="6" y="1084"/>
                    <a:pt x="2" y="1080"/>
                    <a:pt x="2" y="1076"/>
                  </a:cubicBezTo>
                  <a:close/>
                  <a:moveTo>
                    <a:pt x="2" y="1042"/>
                  </a:moveTo>
                  <a:lnTo>
                    <a:pt x="2" y="1042"/>
                  </a:lnTo>
                  <a:cubicBezTo>
                    <a:pt x="2" y="1038"/>
                    <a:pt x="6" y="1034"/>
                    <a:pt x="10" y="1034"/>
                  </a:cubicBezTo>
                  <a:cubicBezTo>
                    <a:pt x="15" y="1034"/>
                    <a:pt x="19" y="1038"/>
                    <a:pt x="19" y="1042"/>
                  </a:cubicBezTo>
                  <a:lnTo>
                    <a:pt x="19" y="1042"/>
                  </a:lnTo>
                  <a:cubicBezTo>
                    <a:pt x="19" y="1047"/>
                    <a:pt x="15" y="1051"/>
                    <a:pt x="10" y="1051"/>
                  </a:cubicBezTo>
                  <a:cubicBezTo>
                    <a:pt x="6" y="1051"/>
                    <a:pt x="2" y="1047"/>
                    <a:pt x="2" y="1042"/>
                  </a:cubicBezTo>
                  <a:close/>
                  <a:moveTo>
                    <a:pt x="2" y="1009"/>
                  </a:moveTo>
                  <a:lnTo>
                    <a:pt x="2" y="1009"/>
                  </a:lnTo>
                  <a:cubicBezTo>
                    <a:pt x="2" y="1004"/>
                    <a:pt x="6" y="1001"/>
                    <a:pt x="10" y="1001"/>
                  </a:cubicBezTo>
                  <a:cubicBezTo>
                    <a:pt x="15" y="1001"/>
                    <a:pt x="19" y="1004"/>
                    <a:pt x="19" y="1009"/>
                  </a:cubicBezTo>
                  <a:lnTo>
                    <a:pt x="19" y="1009"/>
                  </a:lnTo>
                  <a:cubicBezTo>
                    <a:pt x="19" y="1014"/>
                    <a:pt x="15" y="1017"/>
                    <a:pt x="10" y="1017"/>
                  </a:cubicBezTo>
                  <a:cubicBezTo>
                    <a:pt x="6" y="1017"/>
                    <a:pt x="2" y="1014"/>
                    <a:pt x="2" y="1009"/>
                  </a:cubicBezTo>
                  <a:close/>
                  <a:moveTo>
                    <a:pt x="2" y="976"/>
                  </a:moveTo>
                  <a:lnTo>
                    <a:pt x="2" y="976"/>
                  </a:lnTo>
                  <a:cubicBezTo>
                    <a:pt x="2" y="971"/>
                    <a:pt x="6" y="967"/>
                    <a:pt x="10" y="967"/>
                  </a:cubicBezTo>
                  <a:cubicBezTo>
                    <a:pt x="15" y="967"/>
                    <a:pt x="19" y="971"/>
                    <a:pt x="19" y="976"/>
                  </a:cubicBezTo>
                  <a:lnTo>
                    <a:pt x="19" y="976"/>
                  </a:lnTo>
                  <a:cubicBezTo>
                    <a:pt x="19" y="980"/>
                    <a:pt x="15" y="984"/>
                    <a:pt x="10" y="984"/>
                  </a:cubicBezTo>
                  <a:cubicBezTo>
                    <a:pt x="6" y="984"/>
                    <a:pt x="2" y="980"/>
                    <a:pt x="2" y="976"/>
                  </a:cubicBezTo>
                  <a:close/>
                  <a:moveTo>
                    <a:pt x="2" y="942"/>
                  </a:moveTo>
                  <a:lnTo>
                    <a:pt x="2" y="942"/>
                  </a:lnTo>
                  <a:cubicBezTo>
                    <a:pt x="2" y="938"/>
                    <a:pt x="6" y="934"/>
                    <a:pt x="10" y="934"/>
                  </a:cubicBezTo>
                  <a:cubicBezTo>
                    <a:pt x="15" y="934"/>
                    <a:pt x="19" y="938"/>
                    <a:pt x="19" y="942"/>
                  </a:cubicBezTo>
                  <a:lnTo>
                    <a:pt x="19" y="942"/>
                  </a:lnTo>
                  <a:cubicBezTo>
                    <a:pt x="19" y="947"/>
                    <a:pt x="15" y="951"/>
                    <a:pt x="10" y="951"/>
                  </a:cubicBezTo>
                  <a:cubicBezTo>
                    <a:pt x="6" y="951"/>
                    <a:pt x="2" y="947"/>
                    <a:pt x="2" y="942"/>
                  </a:cubicBezTo>
                  <a:close/>
                  <a:moveTo>
                    <a:pt x="2" y="909"/>
                  </a:moveTo>
                  <a:lnTo>
                    <a:pt x="2" y="909"/>
                  </a:lnTo>
                  <a:cubicBezTo>
                    <a:pt x="2" y="904"/>
                    <a:pt x="6" y="901"/>
                    <a:pt x="10" y="901"/>
                  </a:cubicBezTo>
                  <a:cubicBezTo>
                    <a:pt x="15" y="901"/>
                    <a:pt x="19" y="904"/>
                    <a:pt x="19" y="909"/>
                  </a:cubicBezTo>
                  <a:lnTo>
                    <a:pt x="19" y="909"/>
                  </a:lnTo>
                  <a:cubicBezTo>
                    <a:pt x="19" y="914"/>
                    <a:pt x="15" y="917"/>
                    <a:pt x="10" y="917"/>
                  </a:cubicBezTo>
                  <a:cubicBezTo>
                    <a:pt x="6" y="917"/>
                    <a:pt x="2" y="914"/>
                    <a:pt x="2" y="909"/>
                  </a:cubicBezTo>
                  <a:close/>
                  <a:moveTo>
                    <a:pt x="2" y="876"/>
                  </a:moveTo>
                  <a:lnTo>
                    <a:pt x="2" y="876"/>
                  </a:lnTo>
                  <a:cubicBezTo>
                    <a:pt x="2" y="871"/>
                    <a:pt x="6" y="867"/>
                    <a:pt x="11" y="867"/>
                  </a:cubicBezTo>
                  <a:cubicBezTo>
                    <a:pt x="15" y="867"/>
                    <a:pt x="19" y="871"/>
                    <a:pt x="19" y="876"/>
                  </a:cubicBezTo>
                  <a:lnTo>
                    <a:pt x="19" y="876"/>
                  </a:lnTo>
                  <a:cubicBezTo>
                    <a:pt x="19" y="880"/>
                    <a:pt x="15" y="884"/>
                    <a:pt x="11" y="884"/>
                  </a:cubicBezTo>
                  <a:cubicBezTo>
                    <a:pt x="6" y="884"/>
                    <a:pt x="2" y="880"/>
                    <a:pt x="2" y="876"/>
                  </a:cubicBezTo>
                  <a:close/>
                  <a:moveTo>
                    <a:pt x="2" y="842"/>
                  </a:moveTo>
                  <a:lnTo>
                    <a:pt x="2" y="842"/>
                  </a:lnTo>
                  <a:cubicBezTo>
                    <a:pt x="2" y="838"/>
                    <a:pt x="6" y="834"/>
                    <a:pt x="11" y="834"/>
                  </a:cubicBezTo>
                  <a:cubicBezTo>
                    <a:pt x="15" y="834"/>
                    <a:pt x="19" y="838"/>
                    <a:pt x="19" y="842"/>
                  </a:cubicBezTo>
                  <a:lnTo>
                    <a:pt x="19" y="842"/>
                  </a:lnTo>
                  <a:cubicBezTo>
                    <a:pt x="19" y="847"/>
                    <a:pt x="15" y="851"/>
                    <a:pt x="11" y="851"/>
                  </a:cubicBezTo>
                  <a:cubicBezTo>
                    <a:pt x="6" y="851"/>
                    <a:pt x="2" y="847"/>
                    <a:pt x="2" y="842"/>
                  </a:cubicBezTo>
                  <a:close/>
                  <a:moveTo>
                    <a:pt x="2" y="809"/>
                  </a:moveTo>
                  <a:lnTo>
                    <a:pt x="2" y="809"/>
                  </a:lnTo>
                  <a:cubicBezTo>
                    <a:pt x="2" y="804"/>
                    <a:pt x="6" y="801"/>
                    <a:pt x="11" y="801"/>
                  </a:cubicBezTo>
                  <a:cubicBezTo>
                    <a:pt x="15" y="801"/>
                    <a:pt x="19" y="804"/>
                    <a:pt x="19" y="809"/>
                  </a:cubicBezTo>
                  <a:lnTo>
                    <a:pt x="19" y="809"/>
                  </a:lnTo>
                  <a:cubicBezTo>
                    <a:pt x="19" y="814"/>
                    <a:pt x="15" y="817"/>
                    <a:pt x="11" y="817"/>
                  </a:cubicBezTo>
                  <a:cubicBezTo>
                    <a:pt x="6" y="817"/>
                    <a:pt x="2" y="814"/>
                    <a:pt x="2" y="809"/>
                  </a:cubicBezTo>
                  <a:close/>
                  <a:moveTo>
                    <a:pt x="2" y="776"/>
                  </a:moveTo>
                  <a:lnTo>
                    <a:pt x="2" y="776"/>
                  </a:lnTo>
                  <a:cubicBezTo>
                    <a:pt x="2" y="771"/>
                    <a:pt x="6" y="767"/>
                    <a:pt x="11" y="767"/>
                  </a:cubicBezTo>
                  <a:cubicBezTo>
                    <a:pt x="15" y="767"/>
                    <a:pt x="19" y="771"/>
                    <a:pt x="19" y="776"/>
                  </a:cubicBezTo>
                  <a:lnTo>
                    <a:pt x="19" y="776"/>
                  </a:lnTo>
                  <a:cubicBezTo>
                    <a:pt x="19" y="780"/>
                    <a:pt x="15" y="784"/>
                    <a:pt x="11" y="784"/>
                  </a:cubicBezTo>
                  <a:cubicBezTo>
                    <a:pt x="6" y="784"/>
                    <a:pt x="2" y="780"/>
                    <a:pt x="2" y="776"/>
                  </a:cubicBezTo>
                  <a:close/>
                  <a:moveTo>
                    <a:pt x="2" y="742"/>
                  </a:moveTo>
                  <a:lnTo>
                    <a:pt x="2" y="742"/>
                  </a:lnTo>
                  <a:cubicBezTo>
                    <a:pt x="2" y="738"/>
                    <a:pt x="6" y="734"/>
                    <a:pt x="11" y="734"/>
                  </a:cubicBezTo>
                  <a:cubicBezTo>
                    <a:pt x="15" y="734"/>
                    <a:pt x="19" y="738"/>
                    <a:pt x="19" y="742"/>
                  </a:cubicBezTo>
                  <a:lnTo>
                    <a:pt x="19" y="742"/>
                  </a:lnTo>
                  <a:cubicBezTo>
                    <a:pt x="19" y="747"/>
                    <a:pt x="15" y="751"/>
                    <a:pt x="11" y="751"/>
                  </a:cubicBezTo>
                  <a:cubicBezTo>
                    <a:pt x="6" y="751"/>
                    <a:pt x="2" y="747"/>
                    <a:pt x="2" y="742"/>
                  </a:cubicBezTo>
                  <a:close/>
                  <a:moveTo>
                    <a:pt x="2" y="709"/>
                  </a:moveTo>
                  <a:lnTo>
                    <a:pt x="2" y="709"/>
                  </a:lnTo>
                  <a:cubicBezTo>
                    <a:pt x="2" y="704"/>
                    <a:pt x="6" y="701"/>
                    <a:pt x="11" y="701"/>
                  </a:cubicBezTo>
                  <a:cubicBezTo>
                    <a:pt x="15" y="701"/>
                    <a:pt x="19" y="704"/>
                    <a:pt x="19" y="709"/>
                  </a:cubicBezTo>
                  <a:lnTo>
                    <a:pt x="19" y="709"/>
                  </a:lnTo>
                  <a:cubicBezTo>
                    <a:pt x="19" y="714"/>
                    <a:pt x="15" y="717"/>
                    <a:pt x="11" y="717"/>
                  </a:cubicBezTo>
                  <a:cubicBezTo>
                    <a:pt x="6" y="717"/>
                    <a:pt x="2" y="714"/>
                    <a:pt x="2" y="709"/>
                  </a:cubicBezTo>
                  <a:close/>
                  <a:moveTo>
                    <a:pt x="2" y="676"/>
                  </a:moveTo>
                  <a:lnTo>
                    <a:pt x="2" y="676"/>
                  </a:lnTo>
                  <a:cubicBezTo>
                    <a:pt x="2" y="671"/>
                    <a:pt x="6" y="667"/>
                    <a:pt x="11" y="667"/>
                  </a:cubicBezTo>
                  <a:cubicBezTo>
                    <a:pt x="15" y="667"/>
                    <a:pt x="19" y="671"/>
                    <a:pt x="19" y="676"/>
                  </a:cubicBezTo>
                  <a:lnTo>
                    <a:pt x="19" y="676"/>
                  </a:lnTo>
                  <a:cubicBezTo>
                    <a:pt x="19" y="680"/>
                    <a:pt x="15" y="684"/>
                    <a:pt x="11" y="684"/>
                  </a:cubicBezTo>
                  <a:cubicBezTo>
                    <a:pt x="6" y="684"/>
                    <a:pt x="2" y="680"/>
                    <a:pt x="2" y="676"/>
                  </a:cubicBezTo>
                  <a:close/>
                  <a:moveTo>
                    <a:pt x="3" y="642"/>
                  </a:moveTo>
                  <a:lnTo>
                    <a:pt x="3" y="642"/>
                  </a:lnTo>
                  <a:cubicBezTo>
                    <a:pt x="3" y="638"/>
                    <a:pt x="6" y="634"/>
                    <a:pt x="11" y="634"/>
                  </a:cubicBezTo>
                  <a:cubicBezTo>
                    <a:pt x="15" y="634"/>
                    <a:pt x="19" y="638"/>
                    <a:pt x="19" y="642"/>
                  </a:cubicBezTo>
                  <a:lnTo>
                    <a:pt x="19" y="642"/>
                  </a:lnTo>
                  <a:cubicBezTo>
                    <a:pt x="19" y="647"/>
                    <a:pt x="15" y="651"/>
                    <a:pt x="11" y="651"/>
                  </a:cubicBezTo>
                  <a:cubicBezTo>
                    <a:pt x="6" y="651"/>
                    <a:pt x="3" y="647"/>
                    <a:pt x="3" y="642"/>
                  </a:cubicBezTo>
                  <a:close/>
                  <a:moveTo>
                    <a:pt x="3" y="609"/>
                  </a:moveTo>
                  <a:lnTo>
                    <a:pt x="3" y="609"/>
                  </a:lnTo>
                  <a:cubicBezTo>
                    <a:pt x="3" y="604"/>
                    <a:pt x="6" y="601"/>
                    <a:pt x="11" y="601"/>
                  </a:cubicBezTo>
                  <a:cubicBezTo>
                    <a:pt x="16" y="601"/>
                    <a:pt x="19" y="604"/>
                    <a:pt x="19" y="609"/>
                  </a:cubicBezTo>
                  <a:lnTo>
                    <a:pt x="19" y="609"/>
                  </a:lnTo>
                  <a:cubicBezTo>
                    <a:pt x="19" y="613"/>
                    <a:pt x="16" y="617"/>
                    <a:pt x="11" y="617"/>
                  </a:cubicBezTo>
                  <a:cubicBezTo>
                    <a:pt x="6" y="617"/>
                    <a:pt x="3" y="613"/>
                    <a:pt x="3" y="609"/>
                  </a:cubicBezTo>
                  <a:close/>
                  <a:moveTo>
                    <a:pt x="3" y="576"/>
                  </a:moveTo>
                  <a:lnTo>
                    <a:pt x="3" y="576"/>
                  </a:lnTo>
                  <a:cubicBezTo>
                    <a:pt x="3" y="571"/>
                    <a:pt x="6" y="567"/>
                    <a:pt x="11" y="567"/>
                  </a:cubicBezTo>
                  <a:cubicBezTo>
                    <a:pt x="16" y="567"/>
                    <a:pt x="19" y="571"/>
                    <a:pt x="19" y="576"/>
                  </a:cubicBezTo>
                  <a:lnTo>
                    <a:pt x="19" y="576"/>
                  </a:lnTo>
                  <a:cubicBezTo>
                    <a:pt x="19" y="580"/>
                    <a:pt x="16" y="584"/>
                    <a:pt x="11" y="584"/>
                  </a:cubicBezTo>
                  <a:cubicBezTo>
                    <a:pt x="6" y="584"/>
                    <a:pt x="3" y="580"/>
                    <a:pt x="3" y="576"/>
                  </a:cubicBezTo>
                  <a:close/>
                  <a:moveTo>
                    <a:pt x="3" y="542"/>
                  </a:moveTo>
                  <a:lnTo>
                    <a:pt x="3" y="542"/>
                  </a:lnTo>
                  <a:cubicBezTo>
                    <a:pt x="3" y="538"/>
                    <a:pt x="6" y="534"/>
                    <a:pt x="11" y="534"/>
                  </a:cubicBezTo>
                  <a:cubicBezTo>
                    <a:pt x="16" y="534"/>
                    <a:pt x="19" y="538"/>
                    <a:pt x="19" y="542"/>
                  </a:cubicBezTo>
                  <a:lnTo>
                    <a:pt x="19" y="542"/>
                  </a:lnTo>
                  <a:cubicBezTo>
                    <a:pt x="19" y="547"/>
                    <a:pt x="16" y="551"/>
                    <a:pt x="11" y="551"/>
                  </a:cubicBezTo>
                  <a:cubicBezTo>
                    <a:pt x="6" y="551"/>
                    <a:pt x="3" y="547"/>
                    <a:pt x="3" y="542"/>
                  </a:cubicBezTo>
                  <a:close/>
                  <a:moveTo>
                    <a:pt x="3" y="509"/>
                  </a:moveTo>
                  <a:lnTo>
                    <a:pt x="3" y="509"/>
                  </a:lnTo>
                  <a:cubicBezTo>
                    <a:pt x="3" y="504"/>
                    <a:pt x="6" y="500"/>
                    <a:pt x="11" y="500"/>
                  </a:cubicBezTo>
                  <a:cubicBezTo>
                    <a:pt x="16" y="500"/>
                    <a:pt x="19" y="504"/>
                    <a:pt x="19" y="509"/>
                  </a:cubicBezTo>
                  <a:lnTo>
                    <a:pt x="19" y="509"/>
                  </a:lnTo>
                  <a:cubicBezTo>
                    <a:pt x="19" y="513"/>
                    <a:pt x="16" y="517"/>
                    <a:pt x="11" y="517"/>
                  </a:cubicBezTo>
                  <a:cubicBezTo>
                    <a:pt x="6" y="517"/>
                    <a:pt x="3" y="513"/>
                    <a:pt x="3" y="509"/>
                  </a:cubicBezTo>
                  <a:close/>
                  <a:moveTo>
                    <a:pt x="3" y="475"/>
                  </a:moveTo>
                  <a:lnTo>
                    <a:pt x="3" y="475"/>
                  </a:lnTo>
                  <a:cubicBezTo>
                    <a:pt x="3" y="471"/>
                    <a:pt x="6" y="467"/>
                    <a:pt x="11" y="467"/>
                  </a:cubicBezTo>
                  <a:cubicBezTo>
                    <a:pt x="16" y="467"/>
                    <a:pt x="19" y="471"/>
                    <a:pt x="19" y="475"/>
                  </a:cubicBezTo>
                  <a:lnTo>
                    <a:pt x="19" y="475"/>
                  </a:lnTo>
                  <a:cubicBezTo>
                    <a:pt x="19" y="480"/>
                    <a:pt x="16" y="484"/>
                    <a:pt x="11" y="484"/>
                  </a:cubicBezTo>
                  <a:cubicBezTo>
                    <a:pt x="6" y="484"/>
                    <a:pt x="3" y="480"/>
                    <a:pt x="3" y="475"/>
                  </a:cubicBezTo>
                  <a:close/>
                  <a:moveTo>
                    <a:pt x="3" y="442"/>
                  </a:moveTo>
                  <a:lnTo>
                    <a:pt x="3" y="442"/>
                  </a:lnTo>
                  <a:cubicBezTo>
                    <a:pt x="3" y="438"/>
                    <a:pt x="7" y="434"/>
                    <a:pt x="11" y="434"/>
                  </a:cubicBezTo>
                  <a:cubicBezTo>
                    <a:pt x="16" y="434"/>
                    <a:pt x="19" y="438"/>
                    <a:pt x="19" y="442"/>
                  </a:cubicBezTo>
                  <a:lnTo>
                    <a:pt x="19" y="442"/>
                  </a:lnTo>
                  <a:cubicBezTo>
                    <a:pt x="19" y="447"/>
                    <a:pt x="16" y="450"/>
                    <a:pt x="11" y="450"/>
                  </a:cubicBezTo>
                  <a:cubicBezTo>
                    <a:pt x="7" y="450"/>
                    <a:pt x="3" y="447"/>
                    <a:pt x="3" y="442"/>
                  </a:cubicBezTo>
                  <a:close/>
                  <a:moveTo>
                    <a:pt x="3" y="409"/>
                  </a:moveTo>
                  <a:lnTo>
                    <a:pt x="3" y="409"/>
                  </a:lnTo>
                  <a:cubicBezTo>
                    <a:pt x="3" y="404"/>
                    <a:pt x="7" y="400"/>
                    <a:pt x="11" y="400"/>
                  </a:cubicBezTo>
                  <a:cubicBezTo>
                    <a:pt x="16" y="400"/>
                    <a:pt x="20" y="404"/>
                    <a:pt x="20" y="409"/>
                  </a:cubicBezTo>
                  <a:lnTo>
                    <a:pt x="20" y="409"/>
                  </a:lnTo>
                  <a:cubicBezTo>
                    <a:pt x="20" y="413"/>
                    <a:pt x="16" y="417"/>
                    <a:pt x="11" y="417"/>
                  </a:cubicBezTo>
                  <a:cubicBezTo>
                    <a:pt x="7" y="417"/>
                    <a:pt x="3" y="413"/>
                    <a:pt x="3" y="409"/>
                  </a:cubicBezTo>
                  <a:close/>
                  <a:moveTo>
                    <a:pt x="3" y="375"/>
                  </a:moveTo>
                  <a:lnTo>
                    <a:pt x="3" y="375"/>
                  </a:lnTo>
                  <a:cubicBezTo>
                    <a:pt x="3" y="371"/>
                    <a:pt x="7" y="367"/>
                    <a:pt x="11" y="367"/>
                  </a:cubicBezTo>
                  <a:cubicBezTo>
                    <a:pt x="16" y="367"/>
                    <a:pt x="20" y="371"/>
                    <a:pt x="20" y="375"/>
                  </a:cubicBezTo>
                  <a:lnTo>
                    <a:pt x="20" y="375"/>
                  </a:lnTo>
                  <a:cubicBezTo>
                    <a:pt x="20" y="380"/>
                    <a:pt x="16" y="384"/>
                    <a:pt x="11" y="384"/>
                  </a:cubicBezTo>
                  <a:cubicBezTo>
                    <a:pt x="7" y="384"/>
                    <a:pt x="3" y="380"/>
                    <a:pt x="3" y="375"/>
                  </a:cubicBezTo>
                  <a:close/>
                  <a:moveTo>
                    <a:pt x="3" y="342"/>
                  </a:moveTo>
                  <a:lnTo>
                    <a:pt x="3" y="342"/>
                  </a:lnTo>
                  <a:cubicBezTo>
                    <a:pt x="3" y="337"/>
                    <a:pt x="7" y="334"/>
                    <a:pt x="11" y="334"/>
                  </a:cubicBezTo>
                  <a:cubicBezTo>
                    <a:pt x="16" y="334"/>
                    <a:pt x="20" y="337"/>
                    <a:pt x="20" y="342"/>
                  </a:cubicBezTo>
                  <a:lnTo>
                    <a:pt x="20" y="342"/>
                  </a:lnTo>
                  <a:cubicBezTo>
                    <a:pt x="20" y="347"/>
                    <a:pt x="16" y="350"/>
                    <a:pt x="11" y="350"/>
                  </a:cubicBezTo>
                  <a:cubicBezTo>
                    <a:pt x="7" y="350"/>
                    <a:pt x="3" y="347"/>
                    <a:pt x="3" y="342"/>
                  </a:cubicBezTo>
                  <a:close/>
                  <a:moveTo>
                    <a:pt x="3" y="309"/>
                  </a:moveTo>
                  <a:lnTo>
                    <a:pt x="3" y="309"/>
                  </a:lnTo>
                  <a:cubicBezTo>
                    <a:pt x="3" y="304"/>
                    <a:pt x="7" y="300"/>
                    <a:pt x="11" y="300"/>
                  </a:cubicBezTo>
                  <a:cubicBezTo>
                    <a:pt x="16" y="300"/>
                    <a:pt x="20" y="304"/>
                    <a:pt x="20" y="309"/>
                  </a:cubicBezTo>
                  <a:lnTo>
                    <a:pt x="20" y="309"/>
                  </a:lnTo>
                  <a:cubicBezTo>
                    <a:pt x="20" y="313"/>
                    <a:pt x="16" y="317"/>
                    <a:pt x="11" y="317"/>
                  </a:cubicBezTo>
                  <a:cubicBezTo>
                    <a:pt x="7" y="317"/>
                    <a:pt x="3" y="313"/>
                    <a:pt x="3" y="309"/>
                  </a:cubicBezTo>
                  <a:close/>
                  <a:moveTo>
                    <a:pt x="3" y="275"/>
                  </a:moveTo>
                  <a:lnTo>
                    <a:pt x="3" y="275"/>
                  </a:lnTo>
                  <a:cubicBezTo>
                    <a:pt x="3" y="271"/>
                    <a:pt x="7" y="267"/>
                    <a:pt x="11" y="267"/>
                  </a:cubicBezTo>
                  <a:cubicBezTo>
                    <a:pt x="16" y="267"/>
                    <a:pt x="20" y="271"/>
                    <a:pt x="20" y="275"/>
                  </a:cubicBezTo>
                  <a:lnTo>
                    <a:pt x="20" y="275"/>
                  </a:lnTo>
                  <a:cubicBezTo>
                    <a:pt x="20" y="280"/>
                    <a:pt x="16" y="284"/>
                    <a:pt x="11" y="284"/>
                  </a:cubicBezTo>
                  <a:cubicBezTo>
                    <a:pt x="7" y="284"/>
                    <a:pt x="3" y="280"/>
                    <a:pt x="3" y="275"/>
                  </a:cubicBezTo>
                  <a:close/>
                  <a:moveTo>
                    <a:pt x="3" y="242"/>
                  </a:moveTo>
                  <a:lnTo>
                    <a:pt x="3" y="242"/>
                  </a:lnTo>
                  <a:cubicBezTo>
                    <a:pt x="3" y="237"/>
                    <a:pt x="7" y="234"/>
                    <a:pt x="11" y="234"/>
                  </a:cubicBezTo>
                  <a:cubicBezTo>
                    <a:pt x="16" y="234"/>
                    <a:pt x="20" y="237"/>
                    <a:pt x="20" y="242"/>
                  </a:cubicBezTo>
                  <a:lnTo>
                    <a:pt x="20" y="242"/>
                  </a:lnTo>
                  <a:cubicBezTo>
                    <a:pt x="20" y="247"/>
                    <a:pt x="16" y="250"/>
                    <a:pt x="11" y="250"/>
                  </a:cubicBezTo>
                  <a:cubicBezTo>
                    <a:pt x="7" y="250"/>
                    <a:pt x="3" y="247"/>
                    <a:pt x="3" y="242"/>
                  </a:cubicBezTo>
                  <a:close/>
                  <a:moveTo>
                    <a:pt x="3" y="209"/>
                  </a:moveTo>
                  <a:lnTo>
                    <a:pt x="3" y="209"/>
                  </a:lnTo>
                  <a:cubicBezTo>
                    <a:pt x="3" y="204"/>
                    <a:pt x="7" y="200"/>
                    <a:pt x="11" y="200"/>
                  </a:cubicBezTo>
                  <a:cubicBezTo>
                    <a:pt x="16" y="200"/>
                    <a:pt x="20" y="204"/>
                    <a:pt x="20" y="209"/>
                  </a:cubicBezTo>
                  <a:lnTo>
                    <a:pt x="20" y="209"/>
                  </a:lnTo>
                  <a:cubicBezTo>
                    <a:pt x="20" y="213"/>
                    <a:pt x="16" y="217"/>
                    <a:pt x="11" y="217"/>
                  </a:cubicBezTo>
                  <a:cubicBezTo>
                    <a:pt x="7" y="217"/>
                    <a:pt x="3" y="213"/>
                    <a:pt x="3" y="209"/>
                  </a:cubicBezTo>
                  <a:close/>
                  <a:moveTo>
                    <a:pt x="3" y="175"/>
                  </a:moveTo>
                  <a:lnTo>
                    <a:pt x="3" y="175"/>
                  </a:lnTo>
                  <a:cubicBezTo>
                    <a:pt x="3" y="171"/>
                    <a:pt x="7" y="167"/>
                    <a:pt x="12" y="167"/>
                  </a:cubicBezTo>
                  <a:cubicBezTo>
                    <a:pt x="16" y="167"/>
                    <a:pt x="20" y="171"/>
                    <a:pt x="20" y="175"/>
                  </a:cubicBezTo>
                  <a:lnTo>
                    <a:pt x="20" y="175"/>
                  </a:lnTo>
                  <a:cubicBezTo>
                    <a:pt x="20" y="180"/>
                    <a:pt x="16" y="184"/>
                    <a:pt x="12" y="184"/>
                  </a:cubicBezTo>
                  <a:cubicBezTo>
                    <a:pt x="7" y="184"/>
                    <a:pt x="3" y="180"/>
                    <a:pt x="3" y="175"/>
                  </a:cubicBezTo>
                  <a:close/>
                  <a:moveTo>
                    <a:pt x="3" y="142"/>
                  </a:moveTo>
                  <a:lnTo>
                    <a:pt x="3" y="142"/>
                  </a:lnTo>
                  <a:cubicBezTo>
                    <a:pt x="3" y="137"/>
                    <a:pt x="7" y="134"/>
                    <a:pt x="12" y="134"/>
                  </a:cubicBezTo>
                  <a:cubicBezTo>
                    <a:pt x="16" y="134"/>
                    <a:pt x="20" y="137"/>
                    <a:pt x="20" y="142"/>
                  </a:cubicBezTo>
                  <a:lnTo>
                    <a:pt x="20" y="142"/>
                  </a:lnTo>
                  <a:cubicBezTo>
                    <a:pt x="20" y="147"/>
                    <a:pt x="16" y="150"/>
                    <a:pt x="12" y="150"/>
                  </a:cubicBezTo>
                  <a:cubicBezTo>
                    <a:pt x="7" y="150"/>
                    <a:pt x="3" y="147"/>
                    <a:pt x="3" y="142"/>
                  </a:cubicBezTo>
                  <a:close/>
                  <a:moveTo>
                    <a:pt x="3" y="109"/>
                  </a:moveTo>
                  <a:lnTo>
                    <a:pt x="3" y="109"/>
                  </a:lnTo>
                  <a:cubicBezTo>
                    <a:pt x="3" y="104"/>
                    <a:pt x="7" y="100"/>
                    <a:pt x="12" y="100"/>
                  </a:cubicBezTo>
                  <a:cubicBezTo>
                    <a:pt x="16" y="100"/>
                    <a:pt x="20" y="104"/>
                    <a:pt x="20" y="109"/>
                  </a:cubicBezTo>
                  <a:lnTo>
                    <a:pt x="20" y="109"/>
                  </a:lnTo>
                  <a:cubicBezTo>
                    <a:pt x="20" y="113"/>
                    <a:pt x="16" y="117"/>
                    <a:pt x="12" y="117"/>
                  </a:cubicBezTo>
                  <a:cubicBezTo>
                    <a:pt x="7" y="117"/>
                    <a:pt x="3" y="113"/>
                    <a:pt x="3" y="109"/>
                  </a:cubicBezTo>
                  <a:close/>
                  <a:moveTo>
                    <a:pt x="3" y="75"/>
                  </a:moveTo>
                  <a:lnTo>
                    <a:pt x="3" y="75"/>
                  </a:lnTo>
                  <a:cubicBezTo>
                    <a:pt x="3" y="71"/>
                    <a:pt x="7" y="67"/>
                    <a:pt x="12" y="67"/>
                  </a:cubicBezTo>
                  <a:cubicBezTo>
                    <a:pt x="16" y="67"/>
                    <a:pt x="20" y="71"/>
                    <a:pt x="20" y="75"/>
                  </a:cubicBezTo>
                  <a:lnTo>
                    <a:pt x="20" y="75"/>
                  </a:lnTo>
                  <a:cubicBezTo>
                    <a:pt x="20" y="80"/>
                    <a:pt x="16" y="84"/>
                    <a:pt x="12" y="84"/>
                  </a:cubicBezTo>
                  <a:cubicBezTo>
                    <a:pt x="7" y="84"/>
                    <a:pt x="3" y="80"/>
                    <a:pt x="3" y="75"/>
                  </a:cubicBezTo>
                  <a:close/>
                  <a:moveTo>
                    <a:pt x="3" y="42"/>
                  </a:moveTo>
                  <a:lnTo>
                    <a:pt x="3" y="42"/>
                  </a:lnTo>
                  <a:cubicBezTo>
                    <a:pt x="3" y="37"/>
                    <a:pt x="7" y="34"/>
                    <a:pt x="12" y="34"/>
                  </a:cubicBezTo>
                  <a:cubicBezTo>
                    <a:pt x="16" y="34"/>
                    <a:pt x="20" y="37"/>
                    <a:pt x="20" y="42"/>
                  </a:cubicBezTo>
                  <a:lnTo>
                    <a:pt x="20" y="42"/>
                  </a:lnTo>
                  <a:cubicBezTo>
                    <a:pt x="20" y="47"/>
                    <a:pt x="16" y="50"/>
                    <a:pt x="12" y="50"/>
                  </a:cubicBezTo>
                  <a:cubicBezTo>
                    <a:pt x="7" y="50"/>
                    <a:pt x="3" y="47"/>
                    <a:pt x="3" y="42"/>
                  </a:cubicBezTo>
                  <a:close/>
                  <a:moveTo>
                    <a:pt x="3" y="9"/>
                  </a:moveTo>
                  <a:lnTo>
                    <a:pt x="3" y="9"/>
                  </a:lnTo>
                  <a:cubicBezTo>
                    <a:pt x="3" y="4"/>
                    <a:pt x="7" y="0"/>
                    <a:pt x="12" y="0"/>
                  </a:cubicBezTo>
                  <a:cubicBezTo>
                    <a:pt x="16" y="0"/>
                    <a:pt x="20" y="4"/>
                    <a:pt x="20" y="9"/>
                  </a:cubicBezTo>
                  <a:lnTo>
                    <a:pt x="20" y="9"/>
                  </a:lnTo>
                  <a:cubicBezTo>
                    <a:pt x="20" y="13"/>
                    <a:pt x="16" y="17"/>
                    <a:pt x="12" y="17"/>
                  </a:cubicBezTo>
                  <a:cubicBezTo>
                    <a:pt x="7" y="17"/>
                    <a:pt x="3" y="13"/>
                    <a:pt x="3" y="9"/>
                  </a:cubicBez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935680" y="5346720"/>
              <a:ext cx="3240" cy="453960"/>
            </a:xfrm>
            <a:custGeom>
              <a:avLst/>
              <a:gdLst/>
              <a:ahLst/>
              <a:rect l="l" t="t" r="r" b="b"/>
              <a:pathLst>
                <a:path w="20" h="2385">
                  <a:moveTo>
                    <a:pt x="0" y="2376"/>
                  </a:moveTo>
                  <a:lnTo>
                    <a:pt x="0" y="2376"/>
                  </a:lnTo>
                  <a:cubicBezTo>
                    <a:pt x="0" y="2372"/>
                    <a:pt x="4" y="2368"/>
                    <a:pt x="8" y="2368"/>
                  </a:cubicBezTo>
                  <a:cubicBezTo>
                    <a:pt x="13" y="2368"/>
                    <a:pt x="17" y="2372"/>
                    <a:pt x="17" y="2376"/>
                  </a:cubicBezTo>
                  <a:lnTo>
                    <a:pt x="17" y="2376"/>
                  </a:lnTo>
                  <a:cubicBezTo>
                    <a:pt x="17" y="2381"/>
                    <a:pt x="13" y="2385"/>
                    <a:pt x="8" y="2385"/>
                  </a:cubicBezTo>
                  <a:cubicBezTo>
                    <a:pt x="4" y="2385"/>
                    <a:pt x="0" y="2381"/>
                    <a:pt x="0" y="2376"/>
                  </a:cubicBezTo>
                  <a:close/>
                  <a:moveTo>
                    <a:pt x="0" y="2343"/>
                  </a:moveTo>
                  <a:lnTo>
                    <a:pt x="0" y="2343"/>
                  </a:lnTo>
                  <a:cubicBezTo>
                    <a:pt x="0" y="2338"/>
                    <a:pt x="4" y="2335"/>
                    <a:pt x="9" y="2335"/>
                  </a:cubicBezTo>
                  <a:cubicBezTo>
                    <a:pt x="13" y="2335"/>
                    <a:pt x="17" y="2338"/>
                    <a:pt x="17" y="2343"/>
                  </a:cubicBezTo>
                  <a:lnTo>
                    <a:pt x="17" y="2343"/>
                  </a:lnTo>
                  <a:cubicBezTo>
                    <a:pt x="17" y="2348"/>
                    <a:pt x="13" y="2351"/>
                    <a:pt x="9" y="2351"/>
                  </a:cubicBezTo>
                  <a:cubicBezTo>
                    <a:pt x="4" y="2351"/>
                    <a:pt x="0" y="2348"/>
                    <a:pt x="0" y="2343"/>
                  </a:cubicBezTo>
                  <a:close/>
                  <a:moveTo>
                    <a:pt x="0" y="2310"/>
                  </a:moveTo>
                  <a:lnTo>
                    <a:pt x="0" y="2310"/>
                  </a:lnTo>
                  <a:cubicBezTo>
                    <a:pt x="0" y="2305"/>
                    <a:pt x="4" y="2301"/>
                    <a:pt x="9" y="2301"/>
                  </a:cubicBezTo>
                  <a:cubicBezTo>
                    <a:pt x="13" y="2301"/>
                    <a:pt x="17" y="2305"/>
                    <a:pt x="17" y="2310"/>
                  </a:cubicBezTo>
                  <a:lnTo>
                    <a:pt x="17" y="2310"/>
                  </a:lnTo>
                  <a:cubicBezTo>
                    <a:pt x="17" y="2314"/>
                    <a:pt x="13" y="2318"/>
                    <a:pt x="9" y="2318"/>
                  </a:cubicBezTo>
                  <a:cubicBezTo>
                    <a:pt x="4" y="2318"/>
                    <a:pt x="0" y="2314"/>
                    <a:pt x="0" y="2310"/>
                  </a:cubicBezTo>
                  <a:close/>
                  <a:moveTo>
                    <a:pt x="0" y="2276"/>
                  </a:moveTo>
                  <a:lnTo>
                    <a:pt x="0" y="2276"/>
                  </a:lnTo>
                  <a:cubicBezTo>
                    <a:pt x="0" y="2272"/>
                    <a:pt x="4" y="2268"/>
                    <a:pt x="9" y="2268"/>
                  </a:cubicBezTo>
                  <a:cubicBezTo>
                    <a:pt x="13" y="2268"/>
                    <a:pt x="17" y="2272"/>
                    <a:pt x="17" y="2276"/>
                  </a:cubicBezTo>
                  <a:lnTo>
                    <a:pt x="17" y="2276"/>
                  </a:lnTo>
                  <a:cubicBezTo>
                    <a:pt x="17" y="2281"/>
                    <a:pt x="13" y="2285"/>
                    <a:pt x="9" y="2285"/>
                  </a:cubicBezTo>
                  <a:cubicBezTo>
                    <a:pt x="4" y="2285"/>
                    <a:pt x="0" y="2281"/>
                    <a:pt x="0" y="2276"/>
                  </a:cubicBezTo>
                  <a:close/>
                  <a:moveTo>
                    <a:pt x="0" y="2243"/>
                  </a:moveTo>
                  <a:lnTo>
                    <a:pt x="0" y="2243"/>
                  </a:lnTo>
                  <a:cubicBezTo>
                    <a:pt x="0" y="2238"/>
                    <a:pt x="4" y="2235"/>
                    <a:pt x="9" y="2235"/>
                  </a:cubicBezTo>
                  <a:cubicBezTo>
                    <a:pt x="13" y="2235"/>
                    <a:pt x="17" y="2238"/>
                    <a:pt x="17" y="2243"/>
                  </a:cubicBezTo>
                  <a:lnTo>
                    <a:pt x="17" y="2243"/>
                  </a:lnTo>
                  <a:cubicBezTo>
                    <a:pt x="17" y="2248"/>
                    <a:pt x="13" y="2251"/>
                    <a:pt x="9" y="2251"/>
                  </a:cubicBezTo>
                  <a:cubicBezTo>
                    <a:pt x="4" y="2251"/>
                    <a:pt x="0" y="2248"/>
                    <a:pt x="0" y="2243"/>
                  </a:cubicBezTo>
                  <a:close/>
                  <a:moveTo>
                    <a:pt x="0" y="2210"/>
                  </a:moveTo>
                  <a:lnTo>
                    <a:pt x="0" y="2210"/>
                  </a:lnTo>
                  <a:cubicBezTo>
                    <a:pt x="0" y="2205"/>
                    <a:pt x="4" y="2201"/>
                    <a:pt x="9" y="2201"/>
                  </a:cubicBezTo>
                  <a:cubicBezTo>
                    <a:pt x="13" y="2201"/>
                    <a:pt x="17" y="2205"/>
                    <a:pt x="17" y="2210"/>
                  </a:cubicBezTo>
                  <a:lnTo>
                    <a:pt x="17" y="2210"/>
                  </a:lnTo>
                  <a:cubicBezTo>
                    <a:pt x="17" y="2214"/>
                    <a:pt x="13" y="2218"/>
                    <a:pt x="9" y="2218"/>
                  </a:cubicBezTo>
                  <a:cubicBezTo>
                    <a:pt x="4" y="2218"/>
                    <a:pt x="0" y="2214"/>
                    <a:pt x="0" y="2210"/>
                  </a:cubicBezTo>
                  <a:close/>
                  <a:moveTo>
                    <a:pt x="0" y="2176"/>
                  </a:moveTo>
                  <a:lnTo>
                    <a:pt x="0" y="2176"/>
                  </a:lnTo>
                  <a:cubicBezTo>
                    <a:pt x="0" y="2172"/>
                    <a:pt x="4" y="2168"/>
                    <a:pt x="9" y="2168"/>
                  </a:cubicBezTo>
                  <a:cubicBezTo>
                    <a:pt x="13" y="2168"/>
                    <a:pt x="17" y="2172"/>
                    <a:pt x="17" y="2176"/>
                  </a:cubicBezTo>
                  <a:lnTo>
                    <a:pt x="17" y="2176"/>
                  </a:lnTo>
                  <a:cubicBezTo>
                    <a:pt x="17" y="2181"/>
                    <a:pt x="13" y="2185"/>
                    <a:pt x="9" y="2185"/>
                  </a:cubicBezTo>
                  <a:cubicBezTo>
                    <a:pt x="4" y="2185"/>
                    <a:pt x="0" y="2181"/>
                    <a:pt x="0" y="2176"/>
                  </a:cubicBezTo>
                  <a:close/>
                  <a:moveTo>
                    <a:pt x="0" y="2143"/>
                  </a:moveTo>
                  <a:lnTo>
                    <a:pt x="0" y="2143"/>
                  </a:lnTo>
                  <a:cubicBezTo>
                    <a:pt x="0" y="2138"/>
                    <a:pt x="4" y="2135"/>
                    <a:pt x="9" y="2135"/>
                  </a:cubicBezTo>
                  <a:cubicBezTo>
                    <a:pt x="13" y="2135"/>
                    <a:pt x="17" y="2138"/>
                    <a:pt x="17" y="2143"/>
                  </a:cubicBezTo>
                  <a:lnTo>
                    <a:pt x="17" y="2143"/>
                  </a:lnTo>
                  <a:cubicBezTo>
                    <a:pt x="17" y="2148"/>
                    <a:pt x="13" y="2151"/>
                    <a:pt x="9" y="2151"/>
                  </a:cubicBezTo>
                  <a:cubicBezTo>
                    <a:pt x="4" y="2151"/>
                    <a:pt x="0" y="2148"/>
                    <a:pt x="0" y="2143"/>
                  </a:cubicBezTo>
                  <a:close/>
                  <a:moveTo>
                    <a:pt x="0" y="2110"/>
                  </a:moveTo>
                  <a:lnTo>
                    <a:pt x="0" y="2110"/>
                  </a:lnTo>
                  <a:cubicBezTo>
                    <a:pt x="0" y="2105"/>
                    <a:pt x="4" y="2101"/>
                    <a:pt x="9" y="2101"/>
                  </a:cubicBezTo>
                  <a:cubicBezTo>
                    <a:pt x="13" y="2101"/>
                    <a:pt x="17" y="2105"/>
                    <a:pt x="17" y="2110"/>
                  </a:cubicBezTo>
                  <a:lnTo>
                    <a:pt x="17" y="2110"/>
                  </a:lnTo>
                  <a:cubicBezTo>
                    <a:pt x="17" y="2114"/>
                    <a:pt x="13" y="2118"/>
                    <a:pt x="9" y="2118"/>
                  </a:cubicBezTo>
                  <a:cubicBezTo>
                    <a:pt x="4" y="2118"/>
                    <a:pt x="0" y="2114"/>
                    <a:pt x="0" y="2110"/>
                  </a:cubicBezTo>
                  <a:close/>
                  <a:moveTo>
                    <a:pt x="1" y="2076"/>
                  </a:moveTo>
                  <a:lnTo>
                    <a:pt x="1" y="2076"/>
                  </a:lnTo>
                  <a:cubicBezTo>
                    <a:pt x="1" y="2072"/>
                    <a:pt x="4" y="2068"/>
                    <a:pt x="9" y="2068"/>
                  </a:cubicBezTo>
                  <a:cubicBezTo>
                    <a:pt x="13" y="2068"/>
                    <a:pt x="17" y="2072"/>
                    <a:pt x="17" y="2076"/>
                  </a:cubicBezTo>
                  <a:lnTo>
                    <a:pt x="17" y="2076"/>
                  </a:lnTo>
                  <a:cubicBezTo>
                    <a:pt x="17" y="2081"/>
                    <a:pt x="13" y="2085"/>
                    <a:pt x="9" y="2085"/>
                  </a:cubicBezTo>
                  <a:cubicBezTo>
                    <a:pt x="4" y="2085"/>
                    <a:pt x="1" y="2081"/>
                    <a:pt x="1" y="2076"/>
                  </a:cubicBezTo>
                  <a:close/>
                  <a:moveTo>
                    <a:pt x="1" y="2043"/>
                  </a:moveTo>
                  <a:lnTo>
                    <a:pt x="1" y="2043"/>
                  </a:lnTo>
                  <a:cubicBezTo>
                    <a:pt x="1" y="2038"/>
                    <a:pt x="4" y="2035"/>
                    <a:pt x="9" y="2035"/>
                  </a:cubicBezTo>
                  <a:cubicBezTo>
                    <a:pt x="14" y="2035"/>
                    <a:pt x="17" y="2038"/>
                    <a:pt x="17" y="2043"/>
                  </a:cubicBezTo>
                  <a:lnTo>
                    <a:pt x="17" y="2043"/>
                  </a:lnTo>
                  <a:cubicBezTo>
                    <a:pt x="17" y="2048"/>
                    <a:pt x="14" y="2051"/>
                    <a:pt x="9" y="2051"/>
                  </a:cubicBezTo>
                  <a:cubicBezTo>
                    <a:pt x="4" y="2051"/>
                    <a:pt x="1" y="2048"/>
                    <a:pt x="1" y="2043"/>
                  </a:cubicBezTo>
                  <a:close/>
                  <a:moveTo>
                    <a:pt x="1" y="2010"/>
                  </a:moveTo>
                  <a:lnTo>
                    <a:pt x="1" y="2010"/>
                  </a:lnTo>
                  <a:cubicBezTo>
                    <a:pt x="1" y="2005"/>
                    <a:pt x="4" y="2001"/>
                    <a:pt x="9" y="2001"/>
                  </a:cubicBezTo>
                  <a:cubicBezTo>
                    <a:pt x="14" y="2001"/>
                    <a:pt x="17" y="2005"/>
                    <a:pt x="17" y="2010"/>
                  </a:cubicBezTo>
                  <a:lnTo>
                    <a:pt x="17" y="2010"/>
                  </a:lnTo>
                  <a:cubicBezTo>
                    <a:pt x="17" y="2014"/>
                    <a:pt x="14" y="2018"/>
                    <a:pt x="9" y="2018"/>
                  </a:cubicBezTo>
                  <a:cubicBezTo>
                    <a:pt x="4" y="2018"/>
                    <a:pt x="1" y="2014"/>
                    <a:pt x="1" y="2010"/>
                  </a:cubicBezTo>
                  <a:close/>
                  <a:moveTo>
                    <a:pt x="1" y="1976"/>
                  </a:moveTo>
                  <a:lnTo>
                    <a:pt x="1" y="1976"/>
                  </a:lnTo>
                  <a:cubicBezTo>
                    <a:pt x="1" y="1972"/>
                    <a:pt x="4" y="1968"/>
                    <a:pt x="9" y="1968"/>
                  </a:cubicBezTo>
                  <a:cubicBezTo>
                    <a:pt x="14" y="1968"/>
                    <a:pt x="17" y="1972"/>
                    <a:pt x="17" y="1976"/>
                  </a:cubicBezTo>
                  <a:lnTo>
                    <a:pt x="17" y="1976"/>
                  </a:lnTo>
                  <a:cubicBezTo>
                    <a:pt x="17" y="1981"/>
                    <a:pt x="14" y="1985"/>
                    <a:pt x="9" y="1985"/>
                  </a:cubicBezTo>
                  <a:cubicBezTo>
                    <a:pt x="4" y="1985"/>
                    <a:pt x="1" y="1981"/>
                    <a:pt x="1" y="1976"/>
                  </a:cubicBezTo>
                  <a:close/>
                  <a:moveTo>
                    <a:pt x="1" y="1943"/>
                  </a:moveTo>
                  <a:lnTo>
                    <a:pt x="1" y="1943"/>
                  </a:lnTo>
                  <a:cubicBezTo>
                    <a:pt x="1" y="1938"/>
                    <a:pt x="4" y="1935"/>
                    <a:pt x="9" y="1935"/>
                  </a:cubicBezTo>
                  <a:cubicBezTo>
                    <a:pt x="14" y="1935"/>
                    <a:pt x="17" y="1938"/>
                    <a:pt x="17" y="1943"/>
                  </a:cubicBezTo>
                  <a:lnTo>
                    <a:pt x="17" y="1943"/>
                  </a:lnTo>
                  <a:cubicBezTo>
                    <a:pt x="17" y="1948"/>
                    <a:pt x="14" y="1951"/>
                    <a:pt x="9" y="1951"/>
                  </a:cubicBezTo>
                  <a:cubicBezTo>
                    <a:pt x="4" y="1951"/>
                    <a:pt x="1" y="1948"/>
                    <a:pt x="1" y="1943"/>
                  </a:cubicBezTo>
                  <a:close/>
                  <a:moveTo>
                    <a:pt x="1" y="1910"/>
                  </a:moveTo>
                  <a:lnTo>
                    <a:pt x="1" y="1910"/>
                  </a:lnTo>
                  <a:cubicBezTo>
                    <a:pt x="1" y="1905"/>
                    <a:pt x="4" y="1901"/>
                    <a:pt x="9" y="1901"/>
                  </a:cubicBezTo>
                  <a:cubicBezTo>
                    <a:pt x="14" y="1901"/>
                    <a:pt x="17" y="1905"/>
                    <a:pt x="17" y="1910"/>
                  </a:cubicBezTo>
                  <a:lnTo>
                    <a:pt x="17" y="1910"/>
                  </a:lnTo>
                  <a:cubicBezTo>
                    <a:pt x="17" y="1914"/>
                    <a:pt x="14" y="1918"/>
                    <a:pt x="9" y="1918"/>
                  </a:cubicBezTo>
                  <a:cubicBezTo>
                    <a:pt x="4" y="1918"/>
                    <a:pt x="1" y="1914"/>
                    <a:pt x="1" y="1910"/>
                  </a:cubicBezTo>
                  <a:close/>
                  <a:moveTo>
                    <a:pt x="1" y="1876"/>
                  </a:moveTo>
                  <a:lnTo>
                    <a:pt x="1" y="1876"/>
                  </a:lnTo>
                  <a:cubicBezTo>
                    <a:pt x="1" y="1872"/>
                    <a:pt x="5" y="1868"/>
                    <a:pt x="9" y="1868"/>
                  </a:cubicBezTo>
                  <a:cubicBezTo>
                    <a:pt x="14" y="1868"/>
                    <a:pt x="17" y="1872"/>
                    <a:pt x="17" y="1876"/>
                  </a:cubicBezTo>
                  <a:lnTo>
                    <a:pt x="17" y="1876"/>
                  </a:lnTo>
                  <a:cubicBezTo>
                    <a:pt x="17" y="1881"/>
                    <a:pt x="14" y="1885"/>
                    <a:pt x="9" y="1885"/>
                  </a:cubicBezTo>
                  <a:cubicBezTo>
                    <a:pt x="5" y="1885"/>
                    <a:pt x="1" y="1881"/>
                    <a:pt x="1" y="1876"/>
                  </a:cubicBezTo>
                  <a:close/>
                  <a:moveTo>
                    <a:pt x="1" y="1843"/>
                  </a:moveTo>
                  <a:lnTo>
                    <a:pt x="1" y="1843"/>
                  </a:lnTo>
                  <a:cubicBezTo>
                    <a:pt x="1" y="1838"/>
                    <a:pt x="5" y="1834"/>
                    <a:pt x="9" y="1834"/>
                  </a:cubicBezTo>
                  <a:cubicBezTo>
                    <a:pt x="14" y="1834"/>
                    <a:pt x="18" y="1838"/>
                    <a:pt x="18" y="1843"/>
                  </a:cubicBezTo>
                  <a:lnTo>
                    <a:pt x="18" y="1843"/>
                  </a:lnTo>
                  <a:cubicBezTo>
                    <a:pt x="18" y="1847"/>
                    <a:pt x="14" y="1851"/>
                    <a:pt x="9" y="1851"/>
                  </a:cubicBezTo>
                  <a:cubicBezTo>
                    <a:pt x="5" y="1851"/>
                    <a:pt x="1" y="1847"/>
                    <a:pt x="1" y="1843"/>
                  </a:cubicBezTo>
                  <a:close/>
                  <a:moveTo>
                    <a:pt x="1" y="1809"/>
                  </a:moveTo>
                  <a:lnTo>
                    <a:pt x="1" y="1809"/>
                  </a:lnTo>
                  <a:cubicBezTo>
                    <a:pt x="1" y="1805"/>
                    <a:pt x="5" y="1801"/>
                    <a:pt x="9" y="1801"/>
                  </a:cubicBezTo>
                  <a:cubicBezTo>
                    <a:pt x="14" y="1801"/>
                    <a:pt x="18" y="1805"/>
                    <a:pt x="18" y="1809"/>
                  </a:cubicBezTo>
                  <a:lnTo>
                    <a:pt x="18" y="1809"/>
                  </a:lnTo>
                  <a:cubicBezTo>
                    <a:pt x="18" y="1814"/>
                    <a:pt x="14" y="1818"/>
                    <a:pt x="9" y="1818"/>
                  </a:cubicBezTo>
                  <a:cubicBezTo>
                    <a:pt x="5" y="1818"/>
                    <a:pt x="1" y="1814"/>
                    <a:pt x="1" y="1809"/>
                  </a:cubicBezTo>
                  <a:close/>
                  <a:moveTo>
                    <a:pt x="1" y="1776"/>
                  </a:moveTo>
                  <a:lnTo>
                    <a:pt x="1" y="1776"/>
                  </a:lnTo>
                  <a:cubicBezTo>
                    <a:pt x="1" y="1772"/>
                    <a:pt x="5" y="1768"/>
                    <a:pt x="9" y="1768"/>
                  </a:cubicBezTo>
                  <a:cubicBezTo>
                    <a:pt x="14" y="1768"/>
                    <a:pt x="18" y="1772"/>
                    <a:pt x="18" y="1776"/>
                  </a:cubicBezTo>
                  <a:lnTo>
                    <a:pt x="18" y="1776"/>
                  </a:lnTo>
                  <a:cubicBezTo>
                    <a:pt x="18" y="1781"/>
                    <a:pt x="14" y="1784"/>
                    <a:pt x="9" y="1784"/>
                  </a:cubicBezTo>
                  <a:cubicBezTo>
                    <a:pt x="5" y="1784"/>
                    <a:pt x="1" y="1781"/>
                    <a:pt x="1" y="1776"/>
                  </a:cubicBezTo>
                  <a:close/>
                  <a:moveTo>
                    <a:pt x="1" y="1743"/>
                  </a:moveTo>
                  <a:lnTo>
                    <a:pt x="1" y="1743"/>
                  </a:lnTo>
                  <a:cubicBezTo>
                    <a:pt x="1" y="1738"/>
                    <a:pt x="5" y="1734"/>
                    <a:pt x="9" y="1734"/>
                  </a:cubicBezTo>
                  <a:cubicBezTo>
                    <a:pt x="14" y="1734"/>
                    <a:pt x="18" y="1738"/>
                    <a:pt x="18" y="1743"/>
                  </a:cubicBezTo>
                  <a:lnTo>
                    <a:pt x="18" y="1743"/>
                  </a:lnTo>
                  <a:cubicBezTo>
                    <a:pt x="18" y="1747"/>
                    <a:pt x="14" y="1751"/>
                    <a:pt x="9" y="1751"/>
                  </a:cubicBezTo>
                  <a:cubicBezTo>
                    <a:pt x="5" y="1751"/>
                    <a:pt x="1" y="1747"/>
                    <a:pt x="1" y="1743"/>
                  </a:cubicBezTo>
                  <a:close/>
                  <a:moveTo>
                    <a:pt x="1" y="1709"/>
                  </a:moveTo>
                  <a:lnTo>
                    <a:pt x="1" y="1709"/>
                  </a:lnTo>
                  <a:cubicBezTo>
                    <a:pt x="1" y="1705"/>
                    <a:pt x="5" y="1701"/>
                    <a:pt x="9" y="1701"/>
                  </a:cubicBezTo>
                  <a:cubicBezTo>
                    <a:pt x="14" y="1701"/>
                    <a:pt x="18" y="1705"/>
                    <a:pt x="18" y="1709"/>
                  </a:cubicBezTo>
                  <a:lnTo>
                    <a:pt x="18" y="1709"/>
                  </a:lnTo>
                  <a:cubicBezTo>
                    <a:pt x="18" y="1714"/>
                    <a:pt x="14" y="1718"/>
                    <a:pt x="9" y="1718"/>
                  </a:cubicBezTo>
                  <a:cubicBezTo>
                    <a:pt x="5" y="1718"/>
                    <a:pt x="1" y="1714"/>
                    <a:pt x="1" y="1709"/>
                  </a:cubicBezTo>
                  <a:close/>
                  <a:moveTo>
                    <a:pt x="1" y="1676"/>
                  </a:moveTo>
                  <a:lnTo>
                    <a:pt x="1" y="1676"/>
                  </a:lnTo>
                  <a:cubicBezTo>
                    <a:pt x="1" y="1671"/>
                    <a:pt x="5" y="1668"/>
                    <a:pt x="9" y="1668"/>
                  </a:cubicBezTo>
                  <a:cubicBezTo>
                    <a:pt x="14" y="1668"/>
                    <a:pt x="18" y="1671"/>
                    <a:pt x="18" y="1676"/>
                  </a:cubicBezTo>
                  <a:lnTo>
                    <a:pt x="18" y="1676"/>
                  </a:lnTo>
                  <a:cubicBezTo>
                    <a:pt x="18" y="1681"/>
                    <a:pt x="14" y="1684"/>
                    <a:pt x="9" y="1684"/>
                  </a:cubicBezTo>
                  <a:cubicBezTo>
                    <a:pt x="5" y="1684"/>
                    <a:pt x="1" y="1681"/>
                    <a:pt x="1" y="1676"/>
                  </a:cubicBezTo>
                  <a:close/>
                  <a:moveTo>
                    <a:pt x="1" y="1643"/>
                  </a:moveTo>
                  <a:lnTo>
                    <a:pt x="1" y="1643"/>
                  </a:lnTo>
                  <a:cubicBezTo>
                    <a:pt x="1" y="1638"/>
                    <a:pt x="5" y="1634"/>
                    <a:pt x="9" y="1634"/>
                  </a:cubicBezTo>
                  <a:cubicBezTo>
                    <a:pt x="14" y="1634"/>
                    <a:pt x="18" y="1638"/>
                    <a:pt x="18" y="1643"/>
                  </a:cubicBezTo>
                  <a:lnTo>
                    <a:pt x="18" y="1643"/>
                  </a:lnTo>
                  <a:cubicBezTo>
                    <a:pt x="18" y="1647"/>
                    <a:pt x="14" y="1651"/>
                    <a:pt x="9" y="1651"/>
                  </a:cubicBezTo>
                  <a:cubicBezTo>
                    <a:pt x="5" y="1651"/>
                    <a:pt x="1" y="1647"/>
                    <a:pt x="1" y="1643"/>
                  </a:cubicBezTo>
                  <a:close/>
                  <a:moveTo>
                    <a:pt x="1" y="1609"/>
                  </a:moveTo>
                  <a:lnTo>
                    <a:pt x="1" y="1609"/>
                  </a:lnTo>
                  <a:cubicBezTo>
                    <a:pt x="1" y="1605"/>
                    <a:pt x="5" y="1601"/>
                    <a:pt x="10" y="1601"/>
                  </a:cubicBezTo>
                  <a:cubicBezTo>
                    <a:pt x="14" y="1601"/>
                    <a:pt x="18" y="1605"/>
                    <a:pt x="18" y="1609"/>
                  </a:cubicBezTo>
                  <a:lnTo>
                    <a:pt x="18" y="1609"/>
                  </a:lnTo>
                  <a:cubicBezTo>
                    <a:pt x="18" y="1614"/>
                    <a:pt x="14" y="1618"/>
                    <a:pt x="10" y="1618"/>
                  </a:cubicBezTo>
                  <a:cubicBezTo>
                    <a:pt x="5" y="1618"/>
                    <a:pt x="1" y="1614"/>
                    <a:pt x="1" y="1609"/>
                  </a:cubicBezTo>
                  <a:close/>
                  <a:moveTo>
                    <a:pt x="1" y="1576"/>
                  </a:moveTo>
                  <a:lnTo>
                    <a:pt x="1" y="1576"/>
                  </a:lnTo>
                  <a:cubicBezTo>
                    <a:pt x="1" y="1571"/>
                    <a:pt x="5" y="1568"/>
                    <a:pt x="10" y="1568"/>
                  </a:cubicBezTo>
                  <a:cubicBezTo>
                    <a:pt x="14" y="1568"/>
                    <a:pt x="18" y="1571"/>
                    <a:pt x="18" y="1576"/>
                  </a:cubicBezTo>
                  <a:lnTo>
                    <a:pt x="18" y="1576"/>
                  </a:lnTo>
                  <a:cubicBezTo>
                    <a:pt x="18" y="1581"/>
                    <a:pt x="14" y="1584"/>
                    <a:pt x="10" y="1584"/>
                  </a:cubicBezTo>
                  <a:cubicBezTo>
                    <a:pt x="5" y="1584"/>
                    <a:pt x="1" y="1581"/>
                    <a:pt x="1" y="1576"/>
                  </a:cubicBezTo>
                  <a:close/>
                  <a:moveTo>
                    <a:pt x="1" y="1543"/>
                  </a:moveTo>
                  <a:lnTo>
                    <a:pt x="1" y="1543"/>
                  </a:lnTo>
                  <a:cubicBezTo>
                    <a:pt x="1" y="1538"/>
                    <a:pt x="5" y="1534"/>
                    <a:pt x="10" y="1534"/>
                  </a:cubicBezTo>
                  <a:cubicBezTo>
                    <a:pt x="14" y="1534"/>
                    <a:pt x="18" y="1538"/>
                    <a:pt x="18" y="1543"/>
                  </a:cubicBezTo>
                  <a:lnTo>
                    <a:pt x="18" y="1543"/>
                  </a:lnTo>
                  <a:cubicBezTo>
                    <a:pt x="18" y="1547"/>
                    <a:pt x="14" y="1551"/>
                    <a:pt x="10" y="1551"/>
                  </a:cubicBezTo>
                  <a:cubicBezTo>
                    <a:pt x="5" y="1551"/>
                    <a:pt x="1" y="1547"/>
                    <a:pt x="1" y="1543"/>
                  </a:cubicBezTo>
                  <a:close/>
                  <a:moveTo>
                    <a:pt x="1" y="1509"/>
                  </a:moveTo>
                  <a:lnTo>
                    <a:pt x="1" y="1509"/>
                  </a:lnTo>
                  <a:cubicBezTo>
                    <a:pt x="1" y="1505"/>
                    <a:pt x="5" y="1501"/>
                    <a:pt x="10" y="1501"/>
                  </a:cubicBezTo>
                  <a:cubicBezTo>
                    <a:pt x="14" y="1501"/>
                    <a:pt x="18" y="1505"/>
                    <a:pt x="18" y="1509"/>
                  </a:cubicBezTo>
                  <a:lnTo>
                    <a:pt x="18" y="1509"/>
                  </a:lnTo>
                  <a:cubicBezTo>
                    <a:pt x="18" y="1514"/>
                    <a:pt x="14" y="1518"/>
                    <a:pt x="10" y="1518"/>
                  </a:cubicBezTo>
                  <a:cubicBezTo>
                    <a:pt x="5" y="1518"/>
                    <a:pt x="1" y="1514"/>
                    <a:pt x="1" y="1509"/>
                  </a:cubicBezTo>
                  <a:close/>
                  <a:moveTo>
                    <a:pt x="1" y="1476"/>
                  </a:moveTo>
                  <a:lnTo>
                    <a:pt x="1" y="1476"/>
                  </a:lnTo>
                  <a:cubicBezTo>
                    <a:pt x="1" y="1471"/>
                    <a:pt x="5" y="1468"/>
                    <a:pt x="10" y="1468"/>
                  </a:cubicBezTo>
                  <a:cubicBezTo>
                    <a:pt x="14" y="1468"/>
                    <a:pt x="18" y="1471"/>
                    <a:pt x="18" y="1476"/>
                  </a:cubicBezTo>
                  <a:lnTo>
                    <a:pt x="18" y="1476"/>
                  </a:lnTo>
                  <a:cubicBezTo>
                    <a:pt x="18" y="1481"/>
                    <a:pt x="14" y="1484"/>
                    <a:pt x="10" y="1484"/>
                  </a:cubicBezTo>
                  <a:cubicBezTo>
                    <a:pt x="5" y="1484"/>
                    <a:pt x="1" y="1481"/>
                    <a:pt x="1" y="1476"/>
                  </a:cubicBezTo>
                  <a:close/>
                  <a:moveTo>
                    <a:pt x="1" y="1443"/>
                  </a:moveTo>
                  <a:lnTo>
                    <a:pt x="1" y="1443"/>
                  </a:lnTo>
                  <a:cubicBezTo>
                    <a:pt x="1" y="1438"/>
                    <a:pt x="5" y="1434"/>
                    <a:pt x="10" y="1434"/>
                  </a:cubicBezTo>
                  <a:cubicBezTo>
                    <a:pt x="14" y="1434"/>
                    <a:pt x="18" y="1438"/>
                    <a:pt x="18" y="1443"/>
                  </a:cubicBezTo>
                  <a:lnTo>
                    <a:pt x="18" y="1443"/>
                  </a:lnTo>
                  <a:cubicBezTo>
                    <a:pt x="18" y="1447"/>
                    <a:pt x="14" y="1451"/>
                    <a:pt x="10" y="1451"/>
                  </a:cubicBezTo>
                  <a:cubicBezTo>
                    <a:pt x="5" y="1451"/>
                    <a:pt x="1" y="1447"/>
                    <a:pt x="1" y="1443"/>
                  </a:cubicBezTo>
                  <a:close/>
                  <a:moveTo>
                    <a:pt x="1" y="1409"/>
                  </a:moveTo>
                  <a:lnTo>
                    <a:pt x="1" y="1409"/>
                  </a:lnTo>
                  <a:cubicBezTo>
                    <a:pt x="1" y="1405"/>
                    <a:pt x="5" y="1401"/>
                    <a:pt x="10" y="1401"/>
                  </a:cubicBezTo>
                  <a:cubicBezTo>
                    <a:pt x="14" y="1401"/>
                    <a:pt x="18" y="1405"/>
                    <a:pt x="18" y="1409"/>
                  </a:cubicBezTo>
                  <a:lnTo>
                    <a:pt x="18" y="1409"/>
                  </a:lnTo>
                  <a:cubicBezTo>
                    <a:pt x="18" y="1414"/>
                    <a:pt x="14" y="1418"/>
                    <a:pt x="10" y="1418"/>
                  </a:cubicBezTo>
                  <a:cubicBezTo>
                    <a:pt x="5" y="1418"/>
                    <a:pt x="1" y="1414"/>
                    <a:pt x="1" y="1409"/>
                  </a:cubicBezTo>
                  <a:close/>
                  <a:moveTo>
                    <a:pt x="2" y="1376"/>
                  </a:moveTo>
                  <a:lnTo>
                    <a:pt x="2" y="1376"/>
                  </a:lnTo>
                  <a:cubicBezTo>
                    <a:pt x="2" y="1371"/>
                    <a:pt x="5" y="1368"/>
                    <a:pt x="10" y="1368"/>
                  </a:cubicBezTo>
                  <a:cubicBezTo>
                    <a:pt x="14" y="1368"/>
                    <a:pt x="18" y="1371"/>
                    <a:pt x="18" y="1376"/>
                  </a:cubicBezTo>
                  <a:lnTo>
                    <a:pt x="18" y="1376"/>
                  </a:lnTo>
                  <a:cubicBezTo>
                    <a:pt x="18" y="1381"/>
                    <a:pt x="14" y="1384"/>
                    <a:pt x="10" y="1384"/>
                  </a:cubicBezTo>
                  <a:cubicBezTo>
                    <a:pt x="5" y="1384"/>
                    <a:pt x="2" y="1381"/>
                    <a:pt x="2" y="1376"/>
                  </a:cubicBezTo>
                  <a:close/>
                  <a:moveTo>
                    <a:pt x="2" y="1343"/>
                  </a:moveTo>
                  <a:lnTo>
                    <a:pt x="2" y="1343"/>
                  </a:lnTo>
                  <a:cubicBezTo>
                    <a:pt x="2" y="1338"/>
                    <a:pt x="5" y="1334"/>
                    <a:pt x="10" y="1334"/>
                  </a:cubicBezTo>
                  <a:cubicBezTo>
                    <a:pt x="14" y="1334"/>
                    <a:pt x="18" y="1338"/>
                    <a:pt x="18" y="1343"/>
                  </a:cubicBezTo>
                  <a:lnTo>
                    <a:pt x="18" y="1343"/>
                  </a:lnTo>
                  <a:cubicBezTo>
                    <a:pt x="18" y="1347"/>
                    <a:pt x="14" y="1351"/>
                    <a:pt x="10" y="1351"/>
                  </a:cubicBezTo>
                  <a:cubicBezTo>
                    <a:pt x="5" y="1351"/>
                    <a:pt x="2" y="1347"/>
                    <a:pt x="2" y="1343"/>
                  </a:cubicBezTo>
                  <a:close/>
                  <a:moveTo>
                    <a:pt x="2" y="1309"/>
                  </a:moveTo>
                  <a:lnTo>
                    <a:pt x="2" y="1309"/>
                  </a:lnTo>
                  <a:cubicBezTo>
                    <a:pt x="2" y="1305"/>
                    <a:pt x="5" y="1301"/>
                    <a:pt x="10" y="1301"/>
                  </a:cubicBezTo>
                  <a:cubicBezTo>
                    <a:pt x="15" y="1301"/>
                    <a:pt x="18" y="1305"/>
                    <a:pt x="18" y="1309"/>
                  </a:cubicBezTo>
                  <a:lnTo>
                    <a:pt x="18" y="1309"/>
                  </a:lnTo>
                  <a:cubicBezTo>
                    <a:pt x="18" y="1314"/>
                    <a:pt x="15" y="1318"/>
                    <a:pt x="10" y="1318"/>
                  </a:cubicBezTo>
                  <a:cubicBezTo>
                    <a:pt x="5" y="1318"/>
                    <a:pt x="2" y="1314"/>
                    <a:pt x="2" y="1309"/>
                  </a:cubicBezTo>
                  <a:close/>
                  <a:moveTo>
                    <a:pt x="2" y="1276"/>
                  </a:moveTo>
                  <a:lnTo>
                    <a:pt x="2" y="1276"/>
                  </a:lnTo>
                  <a:cubicBezTo>
                    <a:pt x="2" y="1271"/>
                    <a:pt x="5" y="1268"/>
                    <a:pt x="10" y="1268"/>
                  </a:cubicBezTo>
                  <a:cubicBezTo>
                    <a:pt x="15" y="1268"/>
                    <a:pt x="18" y="1271"/>
                    <a:pt x="18" y="1276"/>
                  </a:cubicBezTo>
                  <a:lnTo>
                    <a:pt x="18" y="1276"/>
                  </a:lnTo>
                  <a:cubicBezTo>
                    <a:pt x="18" y="1280"/>
                    <a:pt x="15" y="1284"/>
                    <a:pt x="10" y="1284"/>
                  </a:cubicBezTo>
                  <a:cubicBezTo>
                    <a:pt x="5" y="1284"/>
                    <a:pt x="2" y="1280"/>
                    <a:pt x="2" y="1276"/>
                  </a:cubicBezTo>
                  <a:close/>
                  <a:moveTo>
                    <a:pt x="2" y="1243"/>
                  </a:moveTo>
                  <a:lnTo>
                    <a:pt x="2" y="1242"/>
                  </a:lnTo>
                  <a:cubicBezTo>
                    <a:pt x="2" y="1238"/>
                    <a:pt x="5" y="1234"/>
                    <a:pt x="10" y="1234"/>
                  </a:cubicBezTo>
                  <a:cubicBezTo>
                    <a:pt x="15" y="1234"/>
                    <a:pt x="18" y="1238"/>
                    <a:pt x="18" y="1242"/>
                  </a:cubicBezTo>
                  <a:lnTo>
                    <a:pt x="18" y="1243"/>
                  </a:lnTo>
                  <a:cubicBezTo>
                    <a:pt x="18" y="1247"/>
                    <a:pt x="15" y="1251"/>
                    <a:pt x="10" y="1251"/>
                  </a:cubicBezTo>
                  <a:cubicBezTo>
                    <a:pt x="5" y="1251"/>
                    <a:pt x="2" y="1247"/>
                    <a:pt x="2" y="1243"/>
                  </a:cubicBezTo>
                  <a:close/>
                  <a:moveTo>
                    <a:pt x="2" y="1209"/>
                  </a:moveTo>
                  <a:lnTo>
                    <a:pt x="2" y="1209"/>
                  </a:lnTo>
                  <a:cubicBezTo>
                    <a:pt x="2" y="1205"/>
                    <a:pt x="5" y="1201"/>
                    <a:pt x="10" y="1201"/>
                  </a:cubicBezTo>
                  <a:cubicBezTo>
                    <a:pt x="15" y="1201"/>
                    <a:pt x="18" y="1205"/>
                    <a:pt x="18" y="1209"/>
                  </a:cubicBezTo>
                  <a:lnTo>
                    <a:pt x="18" y="1209"/>
                  </a:lnTo>
                  <a:cubicBezTo>
                    <a:pt x="18" y="1214"/>
                    <a:pt x="15" y="1217"/>
                    <a:pt x="10" y="1217"/>
                  </a:cubicBezTo>
                  <a:cubicBezTo>
                    <a:pt x="5" y="1217"/>
                    <a:pt x="2" y="1214"/>
                    <a:pt x="2" y="1209"/>
                  </a:cubicBezTo>
                  <a:close/>
                  <a:moveTo>
                    <a:pt x="2" y="1176"/>
                  </a:moveTo>
                  <a:lnTo>
                    <a:pt x="2" y="1176"/>
                  </a:lnTo>
                  <a:cubicBezTo>
                    <a:pt x="2" y="1171"/>
                    <a:pt x="6" y="1167"/>
                    <a:pt x="10" y="1167"/>
                  </a:cubicBezTo>
                  <a:cubicBezTo>
                    <a:pt x="15" y="1167"/>
                    <a:pt x="18" y="1171"/>
                    <a:pt x="18" y="1176"/>
                  </a:cubicBezTo>
                  <a:lnTo>
                    <a:pt x="18" y="1176"/>
                  </a:lnTo>
                  <a:cubicBezTo>
                    <a:pt x="18" y="1180"/>
                    <a:pt x="15" y="1184"/>
                    <a:pt x="10" y="1184"/>
                  </a:cubicBezTo>
                  <a:cubicBezTo>
                    <a:pt x="6" y="1184"/>
                    <a:pt x="2" y="1180"/>
                    <a:pt x="2" y="1176"/>
                  </a:cubicBezTo>
                  <a:close/>
                  <a:moveTo>
                    <a:pt x="2" y="1142"/>
                  </a:moveTo>
                  <a:lnTo>
                    <a:pt x="2" y="1142"/>
                  </a:lnTo>
                  <a:cubicBezTo>
                    <a:pt x="2" y="1138"/>
                    <a:pt x="6" y="1134"/>
                    <a:pt x="10" y="1134"/>
                  </a:cubicBezTo>
                  <a:cubicBezTo>
                    <a:pt x="15" y="1134"/>
                    <a:pt x="18" y="1138"/>
                    <a:pt x="18" y="1142"/>
                  </a:cubicBezTo>
                  <a:lnTo>
                    <a:pt x="18" y="1142"/>
                  </a:lnTo>
                  <a:cubicBezTo>
                    <a:pt x="18" y="1147"/>
                    <a:pt x="15" y="1151"/>
                    <a:pt x="10" y="1151"/>
                  </a:cubicBezTo>
                  <a:cubicBezTo>
                    <a:pt x="6" y="1151"/>
                    <a:pt x="2" y="1147"/>
                    <a:pt x="2" y="1142"/>
                  </a:cubicBezTo>
                  <a:close/>
                  <a:moveTo>
                    <a:pt x="2" y="1109"/>
                  </a:moveTo>
                  <a:lnTo>
                    <a:pt x="2" y="1109"/>
                  </a:lnTo>
                  <a:cubicBezTo>
                    <a:pt x="2" y="1104"/>
                    <a:pt x="6" y="1101"/>
                    <a:pt x="10" y="1101"/>
                  </a:cubicBezTo>
                  <a:cubicBezTo>
                    <a:pt x="15" y="1101"/>
                    <a:pt x="19" y="1104"/>
                    <a:pt x="19" y="1109"/>
                  </a:cubicBezTo>
                  <a:lnTo>
                    <a:pt x="19" y="1109"/>
                  </a:lnTo>
                  <a:cubicBezTo>
                    <a:pt x="19" y="1114"/>
                    <a:pt x="15" y="1117"/>
                    <a:pt x="10" y="1117"/>
                  </a:cubicBezTo>
                  <a:cubicBezTo>
                    <a:pt x="6" y="1117"/>
                    <a:pt x="2" y="1114"/>
                    <a:pt x="2" y="1109"/>
                  </a:cubicBezTo>
                  <a:close/>
                  <a:moveTo>
                    <a:pt x="2" y="1076"/>
                  </a:moveTo>
                  <a:lnTo>
                    <a:pt x="2" y="1076"/>
                  </a:lnTo>
                  <a:cubicBezTo>
                    <a:pt x="2" y="1071"/>
                    <a:pt x="6" y="1067"/>
                    <a:pt x="10" y="1067"/>
                  </a:cubicBezTo>
                  <a:cubicBezTo>
                    <a:pt x="15" y="1067"/>
                    <a:pt x="19" y="1071"/>
                    <a:pt x="19" y="1076"/>
                  </a:cubicBezTo>
                  <a:lnTo>
                    <a:pt x="19" y="1076"/>
                  </a:lnTo>
                  <a:cubicBezTo>
                    <a:pt x="19" y="1080"/>
                    <a:pt x="15" y="1084"/>
                    <a:pt x="10" y="1084"/>
                  </a:cubicBezTo>
                  <a:cubicBezTo>
                    <a:pt x="6" y="1084"/>
                    <a:pt x="2" y="1080"/>
                    <a:pt x="2" y="1076"/>
                  </a:cubicBezTo>
                  <a:close/>
                  <a:moveTo>
                    <a:pt x="2" y="1042"/>
                  </a:moveTo>
                  <a:lnTo>
                    <a:pt x="2" y="1042"/>
                  </a:lnTo>
                  <a:cubicBezTo>
                    <a:pt x="2" y="1038"/>
                    <a:pt x="6" y="1034"/>
                    <a:pt x="10" y="1034"/>
                  </a:cubicBezTo>
                  <a:cubicBezTo>
                    <a:pt x="15" y="1034"/>
                    <a:pt x="19" y="1038"/>
                    <a:pt x="19" y="1042"/>
                  </a:cubicBezTo>
                  <a:lnTo>
                    <a:pt x="19" y="1042"/>
                  </a:lnTo>
                  <a:cubicBezTo>
                    <a:pt x="19" y="1047"/>
                    <a:pt x="15" y="1051"/>
                    <a:pt x="10" y="1051"/>
                  </a:cubicBezTo>
                  <a:cubicBezTo>
                    <a:pt x="6" y="1051"/>
                    <a:pt x="2" y="1047"/>
                    <a:pt x="2" y="1042"/>
                  </a:cubicBezTo>
                  <a:close/>
                  <a:moveTo>
                    <a:pt x="2" y="1009"/>
                  </a:moveTo>
                  <a:lnTo>
                    <a:pt x="2" y="1009"/>
                  </a:lnTo>
                  <a:cubicBezTo>
                    <a:pt x="2" y="1004"/>
                    <a:pt x="6" y="1001"/>
                    <a:pt x="10" y="1001"/>
                  </a:cubicBezTo>
                  <a:cubicBezTo>
                    <a:pt x="15" y="1001"/>
                    <a:pt x="19" y="1004"/>
                    <a:pt x="19" y="1009"/>
                  </a:cubicBezTo>
                  <a:lnTo>
                    <a:pt x="19" y="1009"/>
                  </a:lnTo>
                  <a:cubicBezTo>
                    <a:pt x="19" y="1014"/>
                    <a:pt x="15" y="1017"/>
                    <a:pt x="10" y="1017"/>
                  </a:cubicBezTo>
                  <a:cubicBezTo>
                    <a:pt x="6" y="1017"/>
                    <a:pt x="2" y="1014"/>
                    <a:pt x="2" y="1009"/>
                  </a:cubicBezTo>
                  <a:close/>
                  <a:moveTo>
                    <a:pt x="2" y="976"/>
                  </a:moveTo>
                  <a:lnTo>
                    <a:pt x="2" y="976"/>
                  </a:lnTo>
                  <a:cubicBezTo>
                    <a:pt x="2" y="971"/>
                    <a:pt x="6" y="967"/>
                    <a:pt x="10" y="967"/>
                  </a:cubicBezTo>
                  <a:cubicBezTo>
                    <a:pt x="15" y="967"/>
                    <a:pt x="19" y="971"/>
                    <a:pt x="19" y="976"/>
                  </a:cubicBezTo>
                  <a:lnTo>
                    <a:pt x="19" y="976"/>
                  </a:lnTo>
                  <a:cubicBezTo>
                    <a:pt x="19" y="980"/>
                    <a:pt x="15" y="984"/>
                    <a:pt x="10" y="984"/>
                  </a:cubicBezTo>
                  <a:cubicBezTo>
                    <a:pt x="6" y="984"/>
                    <a:pt x="2" y="980"/>
                    <a:pt x="2" y="976"/>
                  </a:cubicBezTo>
                  <a:close/>
                  <a:moveTo>
                    <a:pt x="2" y="942"/>
                  </a:moveTo>
                  <a:lnTo>
                    <a:pt x="2" y="942"/>
                  </a:lnTo>
                  <a:cubicBezTo>
                    <a:pt x="2" y="938"/>
                    <a:pt x="6" y="934"/>
                    <a:pt x="10" y="934"/>
                  </a:cubicBezTo>
                  <a:cubicBezTo>
                    <a:pt x="15" y="934"/>
                    <a:pt x="19" y="938"/>
                    <a:pt x="19" y="942"/>
                  </a:cubicBezTo>
                  <a:lnTo>
                    <a:pt x="19" y="942"/>
                  </a:lnTo>
                  <a:cubicBezTo>
                    <a:pt x="19" y="947"/>
                    <a:pt x="15" y="951"/>
                    <a:pt x="10" y="951"/>
                  </a:cubicBezTo>
                  <a:cubicBezTo>
                    <a:pt x="6" y="951"/>
                    <a:pt x="2" y="947"/>
                    <a:pt x="2" y="942"/>
                  </a:cubicBezTo>
                  <a:close/>
                  <a:moveTo>
                    <a:pt x="2" y="909"/>
                  </a:moveTo>
                  <a:lnTo>
                    <a:pt x="2" y="909"/>
                  </a:lnTo>
                  <a:cubicBezTo>
                    <a:pt x="2" y="904"/>
                    <a:pt x="6" y="901"/>
                    <a:pt x="10" y="901"/>
                  </a:cubicBezTo>
                  <a:cubicBezTo>
                    <a:pt x="15" y="901"/>
                    <a:pt x="19" y="904"/>
                    <a:pt x="19" y="909"/>
                  </a:cubicBezTo>
                  <a:lnTo>
                    <a:pt x="19" y="909"/>
                  </a:lnTo>
                  <a:cubicBezTo>
                    <a:pt x="19" y="914"/>
                    <a:pt x="15" y="917"/>
                    <a:pt x="10" y="917"/>
                  </a:cubicBezTo>
                  <a:cubicBezTo>
                    <a:pt x="6" y="917"/>
                    <a:pt x="2" y="914"/>
                    <a:pt x="2" y="909"/>
                  </a:cubicBezTo>
                  <a:close/>
                  <a:moveTo>
                    <a:pt x="2" y="876"/>
                  </a:moveTo>
                  <a:lnTo>
                    <a:pt x="2" y="876"/>
                  </a:lnTo>
                  <a:cubicBezTo>
                    <a:pt x="2" y="871"/>
                    <a:pt x="6" y="867"/>
                    <a:pt x="11" y="867"/>
                  </a:cubicBezTo>
                  <a:cubicBezTo>
                    <a:pt x="15" y="867"/>
                    <a:pt x="19" y="871"/>
                    <a:pt x="19" y="876"/>
                  </a:cubicBezTo>
                  <a:lnTo>
                    <a:pt x="19" y="876"/>
                  </a:lnTo>
                  <a:cubicBezTo>
                    <a:pt x="19" y="880"/>
                    <a:pt x="15" y="884"/>
                    <a:pt x="11" y="884"/>
                  </a:cubicBezTo>
                  <a:cubicBezTo>
                    <a:pt x="6" y="884"/>
                    <a:pt x="2" y="880"/>
                    <a:pt x="2" y="876"/>
                  </a:cubicBezTo>
                  <a:close/>
                  <a:moveTo>
                    <a:pt x="2" y="842"/>
                  </a:moveTo>
                  <a:lnTo>
                    <a:pt x="2" y="842"/>
                  </a:lnTo>
                  <a:cubicBezTo>
                    <a:pt x="2" y="838"/>
                    <a:pt x="6" y="834"/>
                    <a:pt x="11" y="834"/>
                  </a:cubicBezTo>
                  <a:cubicBezTo>
                    <a:pt x="15" y="834"/>
                    <a:pt x="19" y="838"/>
                    <a:pt x="19" y="842"/>
                  </a:cubicBezTo>
                  <a:lnTo>
                    <a:pt x="19" y="842"/>
                  </a:lnTo>
                  <a:cubicBezTo>
                    <a:pt x="19" y="847"/>
                    <a:pt x="15" y="851"/>
                    <a:pt x="11" y="851"/>
                  </a:cubicBezTo>
                  <a:cubicBezTo>
                    <a:pt x="6" y="851"/>
                    <a:pt x="2" y="847"/>
                    <a:pt x="2" y="842"/>
                  </a:cubicBezTo>
                  <a:close/>
                  <a:moveTo>
                    <a:pt x="2" y="809"/>
                  </a:moveTo>
                  <a:lnTo>
                    <a:pt x="2" y="809"/>
                  </a:lnTo>
                  <a:cubicBezTo>
                    <a:pt x="2" y="804"/>
                    <a:pt x="6" y="801"/>
                    <a:pt x="11" y="801"/>
                  </a:cubicBezTo>
                  <a:cubicBezTo>
                    <a:pt x="15" y="801"/>
                    <a:pt x="19" y="804"/>
                    <a:pt x="19" y="809"/>
                  </a:cubicBezTo>
                  <a:lnTo>
                    <a:pt x="19" y="809"/>
                  </a:lnTo>
                  <a:cubicBezTo>
                    <a:pt x="19" y="814"/>
                    <a:pt x="15" y="817"/>
                    <a:pt x="11" y="817"/>
                  </a:cubicBezTo>
                  <a:cubicBezTo>
                    <a:pt x="6" y="817"/>
                    <a:pt x="2" y="814"/>
                    <a:pt x="2" y="809"/>
                  </a:cubicBezTo>
                  <a:close/>
                  <a:moveTo>
                    <a:pt x="2" y="776"/>
                  </a:moveTo>
                  <a:lnTo>
                    <a:pt x="2" y="776"/>
                  </a:lnTo>
                  <a:cubicBezTo>
                    <a:pt x="2" y="771"/>
                    <a:pt x="6" y="767"/>
                    <a:pt x="11" y="767"/>
                  </a:cubicBezTo>
                  <a:cubicBezTo>
                    <a:pt x="15" y="767"/>
                    <a:pt x="19" y="771"/>
                    <a:pt x="19" y="776"/>
                  </a:cubicBezTo>
                  <a:lnTo>
                    <a:pt x="19" y="776"/>
                  </a:lnTo>
                  <a:cubicBezTo>
                    <a:pt x="19" y="780"/>
                    <a:pt x="15" y="784"/>
                    <a:pt x="11" y="784"/>
                  </a:cubicBezTo>
                  <a:cubicBezTo>
                    <a:pt x="6" y="784"/>
                    <a:pt x="2" y="780"/>
                    <a:pt x="2" y="776"/>
                  </a:cubicBezTo>
                  <a:close/>
                  <a:moveTo>
                    <a:pt x="2" y="742"/>
                  </a:moveTo>
                  <a:lnTo>
                    <a:pt x="2" y="742"/>
                  </a:lnTo>
                  <a:cubicBezTo>
                    <a:pt x="2" y="738"/>
                    <a:pt x="6" y="734"/>
                    <a:pt x="11" y="734"/>
                  </a:cubicBezTo>
                  <a:cubicBezTo>
                    <a:pt x="15" y="734"/>
                    <a:pt x="19" y="738"/>
                    <a:pt x="19" y="742"/>
                  </a:cubicBezTo>
                  <a:lnTo>
                    <a:pt x="19" y="742"/>
                  </a:lnTo>
                  <a:cubicBezTo>
                    <a:pt x="19" y="747"/>
                    <a:pt x="15" y="751"/>
                    <a:pt x="11" y="751"/>
                  </a:cubicBezTo>
                  <a:cubicBezTo>
                    <a:pt x="6" y="751"/>
                    <a:pt x="2" y="747"/>
                    <a:pt x="2" y="742"/>
                  </a:cubicBezTo>
                  <a:close/>
                  <a:moveTo>
                    <a:pt x="2" y="709"/>
                  </a:moveTo>
                  <a:lnTo>
                    <a:pt x="2" y="709"/>
                  </a:lnTo>
                  <a:cubicBezTo>
                    <a:pt x="2" y="704"/>
                    <a:pt x="6" y="701"/>
                    <a:pt x="11" y="701"/>
                  </a:cubicBezTo>
                  <a:cubicBezTo>
                    <a:pt x="15" y="701"/>
                    <a:pt x="19" y="704"/>
                    <a:pt x="19" y="709"/>
                  </a:cubicBezTo>
                  <a:lnTo>
                    <a:pt x="19" y="709"/>
                  </a:lnTo>
                  <a:cubicBezTo>
                    <a:pt x="19" y="714"/>
                    <a:pt x="15" y="717"/>
                    <a:pt x="11" y="717"/>
                  </a:cubicBezTo>
                  <a:cubicBezTo>
                    <a:pt x="6" y="717"/>
                    <a:pt x="2" y="714"/>
                    <a:pt x="2" y="709"/>
                  </a:cubicBezTo>
                  <a:close/>
                  <a:moveTo>
                    <a:pt x="2" y="676"/>
                  </a:moveTo>
                  <a:lnTo>
                    <a:pt x="2" y="676"/>
                  </a:lnTo>
                  <a:cubicBezTo>
                    <a:pt x="2" y="671"/>
                    <a:pt x="6" y="667"/>
                    <a:pt x="11" y="667"/>
                  </a:cubicBezTo>
                  <a:cubicBezTo>
                    <a:pt x="15" y="667"/>
                    <a:pt x="19" y="671"/>
                    <a:pt x="19" y="676"/>
                  </a:cubicBezTo>
                  <a:lnTo>
                    <a:pt x="19" y="676"/>
                  </a:lnTo>
                  <a:cubicBezTo>
                    <a:pt x="19" y="680"/>
                    <a:pt x="15" y="684"/>
                    <a:pt x="11" y="684"/>
                  </a:cubicBezTo>
                  <a:cubicBezTo>
                    <a:pt x="6" y="684"/>
                    <a:pt x="2" y="680"/>
                    <a:pt x="2" y="676"/>
                  </a:cubicBezTo>
                  <a:close/>
                  <a:moveTo>
                    <a:pt x="3" y="642"/>
                  </a:moveTo>
                  <a:lnTo>
                    <a:pt x="3" y="642"/>
                  </a:lnTo>
                  <a:cubicBezTo>
                    <a:pt x="3" y="638"/>
                    <a:pt x="6" y="634"/>
                    <a:pt x="11" y="634"/>
                  </a:cubicBezTo>
                  <a:cubicBezTo>
                    <a:pt x="15" y="634"/>
                    <a:pt x="19" y="638"/>
                    <a:pt x="19" y="642"/>
                  </a:cubicBezTo>
                  <a:lnTo>
                    <a:pt x="19" y="642"/>
                  </a:lnTo>
                  <a:cubicBezTo>
                    <a:pt x="19" y="647"/>
                    <a:pt x="15" y="651"/>
                    <a:pt x="11" y="651"/>
                  </a:cubicBezTo>
                  <a:cubicBezTo>
                    <a:pt x="6" y="651"/>
                    <a:pt x="3" y="647"/>
                    <a:pt x="3" y="642"/>
                  </a:cubicBezTo>
                  <a:close/>
                  <a:moveTo>
                    <a:pt x="3" y="609"/>
                  </a:moveTo>
                  <a:lnTo>
                    <a:pt x="3" y="609"/>
                  </a:lnTo>
                  <a:cubicBezTo>
                    <a:pt x="3" y="604"/>
                    <a:pt x="6" y="601"/>
                    <a:pt x="11" y="601"/>
                  </a:cubicBezTo>
                  <a:cubicBezTo>
                    <a:pt x="16" y="601"/>
                    <a:pt x="19" y="604"/>
                    <a:pt x="19" y="609"/>
                  </a:cubicBezTo>
                  <a:lnTo>
                    <a:pt x="19" y="609"/>
                  </a:lnTo>
                  <a:cubicBezTo>
                    <a:pt x="19" y="613"/>
                    <a:pt x="16" y="617"/>
                    <a:pt x="11" y="617"/>
                  </a:cubicBezTo>
                  <a:cubicBezTo>
                    <a:pt x="6" y="617"/>
                    <a:pt x="3" y="613"/>
                    <a:pt x="3" y="609"/>
                  </a:cubicBezTo>
                  <a:close/>
                  <a:moveTo>
                    <a:pt x="3" y="576"/>
                  </a:moveTo>
                  <a:lnTo>
                    <a:pt x="3" y="576"/>
                  </a:lnTo>
                  <a:cubicBezTo>
                    <a:pt x="3" y="571"/>
                    <a:pt x="6" y="567"/>
                    <a:pt x="11" y="567"/>
                  </a:cubicBezTo>
                  <a:cubicBezTo>
                    <a:pt x="16" y="567"/>
                    <a:pt x="19" y="571"/>
                    <a:pt x="19" y="576"/>
                  </a:cubicBezTo>
                  <a:lnTo>
                    <a:pt x="19" y="576"/>
                  </a:lnTo>
                  <a:cubicBezTo>
                    <a:pt x="19" y="580"/>
                    <a:pt x="16" y="584"/>
                    <a:pt x="11" y="584"/>
                  </a:cubicBezTo>
                  <a:cubicBezTo>
                    <a:pt x="6" y="584"/>
                    <a:pt x="3" y="580"/>
                    <a:pt x="3" y="576"/>
                  </a:cubicBezTo>
                  <a:close/>
                  <a:moveTo>
                    <a:pt x="3" y="542"/>
                  </a:moveTo>
                  <a:lnTo>
                    <a:pt x="3" y="542"/>
                  </a:lnTo>
                  <a:cubicBezTo>
                    <a:pt x="3" y="538"/>
                    <a:pt x="6" y="534"/>
                    <a:pt x="11" y="534"/>
                  </a:cubicBezTo>
                  <a:cubicBezTo>
                    <a:pt x="16" y="534"/>
                    <a:pt x="19" y="538"/>
                    <a:pt x="19" y="542"/>
                  </a:cubicBezTo>
                  <a:lnTo>
                    <a:pt x="19" y="542"/>
                  </a:lnTo>
                  <a:cubicBezTo>
                    <a:pt x="19" y="547"/>
                    <a:pt x="16" y="551"/>
                    <a:pt x="11" y="551"/>
                  </a:cubicBezTo>
                  <a:cubicBezTo>
                    <a:pt x="6" y="551"/>
                    <a:pt x="3" y="547"/>
                    <a:pt x="3" y="542"/>
                  </a:cubicBezTo>
                  <a:close/>
                  <a:moveTo>
                    <a:pt x="3" y="509"/>
                  </a:moveTo>
                  <a:lnTo>
                    <a:pt x="3" y="509"/>
                  </a:lnTo>
                  <a:cubicBezTo>
                    <a:pt x="3" y="504"/>
                    <a:pt x="6" y="500"/>
                    <a:pt x="11" y="500"/>
                  </a:cubicBezTo>
                  <a:cubicBezTo>
                    <a:pt x="16" y="500"/>
                    <a:pt x="19" y="504"/>
                    <a:pt x="19" y="509"/>
                  </a:cubicBezTo>
                  <a:lnTo>
                    <a:pt x="19" y="509"/>
                  </a:lnTo>
                  <a:cubicBezTo>
                    <a:pt x="19" y="513"/>
                    <a:pt x="16" y="517"/>
                    <a:pt x="11" y="517"/>
                  </a:cubicBezTo>
                  <a:cubicBezTo>
                    <a:pt x="6" y="517"/>
                    <a:pt x="3" y="513"/>
                    <a:pt x="3" y="509"/>
                  </a:cubicBezTo>
                  <a:close/>
                  <a:moveTo>
                    <a:pt x="3" y="475"/>
                  </a:moveTo>
                  <a:lnTo>
                    <a:pt x="3" y="475"/>
                  </a:lnTo>
                  <a:cubicBezTo>
                    <a:pt x="3" y="471"/>
                    <a:pt x="6" y="467"/>
                    <a:pt x="11" y="467"/>
                  </a:cubicBezTo>
                  <a:cubicBezTo>
                    <a:pt x="16" y="467"/>
                    <a:pt x="19" y="471"/>
                    <a:pt x="19" y="475"/>
                  </a:cubicBezTo>
                  <a:lnTo>
                    <a:pt x="19" y="475"/>
                  </a:lnTo>
                  <a:cubicBezTo>
                    <a:pt x="19" y="480"/>
                    <a:pt x="16" y="484"/>
                    <a:pt x="11" y="484"/>
                  </a:cubicBezTo>
                  <a:cubicBezTo>
                    <a:pt x="6" y="484"/>
                    <a:pt x="3" y="480"/>
                    <a:pt x="3" y="475"/>
                  </a:cubicBezTo>
                  <a:close/>
                  <a:moveTo>
                    <a:pt x="3" y="442"/>
                  </a:moveTo>
                  <a:lnTo>
                    <a:pt x="3" y="442"/>
                  </a:lnTo>
                  <a:cubicBezTo>
                    <a:pt x="3" y="438"/>
                    <a:pt x="7" y="434"/>
                    <a:pt x="11" y="434"/>
                  </a:cubicBezTo>
                  <a:cubicBezTo>
                    <a:pt x="16" y="434"/>
                    <a:pt x="19" y="438"/>
                    <a:pt x="19" y="442"/>
                  </a:cubicBezTo>
                  <a:lnTo>
                    <a:pt x="19" y="442"/>
                  </a:lnTo>
                  <a:cubicBezTo>
                    <a:pt x="19" y="447"/>
                    <a:pt x="16" y="450"/>
                    <a:pt x="11" y="450"/>
                  </a:cubicBezTo>
                  <a:cubicBezTo>
                    <a:pt x="7" y="450"/>
                    <a:pt x="3" y="447"/>
                    <a:pt x="3" y="442"/>
                  </a:cubicBezTo>
                  <a:close/>
                  <a:moveTo>
                    <a:pt x="3" y="409"/>
                  </a:moveTo>
                  <a:lnTo>
                    <a:pt x="3" y="409"/>
                  </a:lnTo>
                  <a:cubicBezTo>
                    <a:pt x="3" y="404"/>
                    <a:pt x="7" y="400"/>
                    <a:pt x="11" y="400"/>
                  </a:cubicBezTo>
                  <a:cubicBezTo>
                    <a:pt x="16" y="400"/>
                    <a:pt x="20" y="404"/>
                    <a:pt x="20" y="409"/>
                  </a:cubicBezTo>
                  <a:lnTo>
                    <a:pt x="20" y="409"/>
                  </a:lnTo>
                  <a:cubicBezTo>
                    <a:pt x="20" y="413"/>
                    <a:pt x="16" y="417"/>
                    <a:pt x="11" y="417"/>
                  </a:cubicBezTo>
                  <a:cubicBezTo>
                    <a:pt x="7" y="417"/>
                    <a:pt x="3" y="413"/>
                    <a:pt x="3" y="409"/>
                  </a:cubicBezTo>
                  <a:close/>
                  <a:moveTo>
                    <a:pt x="3" y="375"/>
                  </a:moveTo>
                  <a:lnTo>
                    <a:pt x="3" y="375"/>
                  </a:lnTo>
                  <a:cubicBezTo>
                    <a:pt x="3" y="371"/>
                    <a:pt x="7" y="367"/>
                    <a:pt x="11" y="367"/>
                  </a:cubicBezTo>
                  <a:cubicBezTo>
                    <a:pt x="16" y="367"/>
                    <a:pt x="20" y="371"/>
                    <a:pt x="20" y="375"/>
                  </a:cubicBezTo>
                  <a:lnTo>
                    <a:pt x="20" y="375"/>
                  </a:lnTo>
                  <a:cubicBezTo>
                    <a:pt x="20" y="380"/>
                    <a:pt x="16" y="384"/>
                    <a:pt x="11" y="384"/>
                  </a:cubicBezTo>
                  <a:cubicBezTo>
                    <a:pt x="7" y="384"/>
                    <a:pt x="3" y="380"/>
                    <a:pt x="3" y="375"/>
                  </a:cubicBezTo>
                  <a:close/>
                  <a:moveTo>
                    <a:pt x="3" y="342"/>
                  </a:moveTo>
                  <a:lnTo>
                    <a:pt x="3" y="342"/>
                  </a:lnTo>
                  <a:cubicBezTo>
                    <a:pt x="3" y="337"/>
                    <a:pt x="7" y="334"/>
                    <a:pt x="11" y="334"/>
                  </a:cubicBezTo>
                  <a:cubicBezTo>
                    <a:pt x="16" y="334"/>
                    <a:pt x="20" y="337"/>
                    <a:pt x="20" y="342"/>
                  </a:cubicBezTo>
                  <a:lnTo>
                    <a:pt x="20" y="342"/>
                  </a:lnTo>
                  <a:cubicBezTo>
                    <a:pt x="20" y="347"/>
                    <a:pt x="16" y="350"/>
                    <a:pt x="11" y="350"/>
                  </a:cubicBezTo>
                  <a:cubicBezTo>
                    <a:pt x="7" y="350"/>
                    <a:pt x="3" y="347"/>
                    <a:pt x="3" y="342"/>
                  </a:cubicBezTo>
                  <a:close/>
                  <a:moveTo>
                    <a:pt x="3" y="309"/>
                  </a:moveTo>
                  <a:lnTo>
                    <a:pt x="3" y="309"/>
                  </a:lnTo>
                  <a:cubicBezTo>
                    <a:pt x="3" y="304"/>
                    <a:pt x="7" y="300"/>
                    <a:pt x="11" y="300"/>
                  </a:cubicBezTo>
                  <a:cubicBezTo>
                    <a:pt x="16" y="300"/>
                    <a:pt x="20" y="304"/>
                    <a:pt x="20" y="309"/>
                  </a:cubicBezTo>
                  <a:lnTo>
                    <a:pt x="20" y="309"/>
                  </a:lnTo>
                  <a:cubicBezTo>
                    <a:pt x="20" y="313"/>
                    <a:pt x="16" y="317"/>
                    <a:pt x="11" y="317"/>
                  </a:cubicBezTo>
                  <a:cubicBezTo>
                    <a:pt x="7" y="317"/>
                    <a:pt x="3" y="313"/>
                    <a:pt x="3" y="309"/>
                  </a:cubicBezTo>
                  <a:close/>
                  <a:moveTo>
                    <a:pt x="3" y="275"/>
                  </a:moveTo>
                  <a:lnTo>
                    <a:pt x="3" y="275"/>
                  </a:lnTo>
                  <a:cubicBezTo>
                    <a:pt x="3" y="271"/>
                    <a:pt x="7" y="267"/>
                    <a:pt x="11" y="267"/>
                  </a:cubicBezTo>
                  <a:cubicBezTo>
                    <a:pt x="16" y="267"/>
                    <a:pt x="20" y="271"/>
                    <a:pt x="20" y="275"/>
                  </a:cubicBezTo>
                  <a:lnTo>
                    <a:pt x="20" y="275"/>
                  </a:lnTo>
                  <a:cubicBezTo>
                    <a:pt x="20" y="280"/>
                    <a:pt x="16" y="284"/>
                    <a:pt x="11" y="284"/>
                  </a:cubicBezTo>
                  <a:cubicBezTo>
                    <a:pt x="7" y="284"/>
                    <a:pt x="3" y="280"/>
                    <a:pt x="3" y="275"/>
                  </a:cubicBezTo>
                  <a:close/>
                  <a:moveTo>
                    <a:pt x="3" y="242"/>
                  </a:moveTo>
                  <a:lnTo>
                    <a:pt x="3" y="242"/>
                  </a:lnTo>
                  <a:cubicBezTo>
                    <a:pt x="3" y="237"/>
                    <a:pt x="7" y="234"/>
                    <a:pt x="11" y="234"/>
                  </a:cubicBezTo>
                  <a:cubicBezTo>
                    <a:pt x="16" y="234"/>
                    <a:pt x="20" y="237"/>
                    <a:pt x="20" y="242"/>
                  </a:cubicBezTo>
                  <a:lnTo>
                    <a:pt x="20" y="242"/>
                  </a:lnTo>
                  <a:cubicBezTo>
                    <a:pt x="20" y="247"/>
                    <a:pt x="16" y="250"/>
                    <a:pt x="11" y="250"/>
                  </a:cubicBezTo>
                  <a:cubicBezTo>
                    <a:pt x="7" y="250"/>
                    <a:pt x="3" y="247"/>
                    <a:pt x="3" y="242"/>
                  </a:cubicBezTo>
                  <a:close/>
                  <a:moveTo>
                    <a:pt x="3" y="209"/>
                  </a:moveTo>
                  <a:lnTo>
                    <a:pt x="3" y="209"/>
                  </a:lnTo>
                  <a:cubicBezTo>
                    <a:pt x="3" y="204"/>
                    <a:pt x="7" y="200"/>
                    <a:pt x="11" y="200"/>
                  </a:cubicBezTo>
                  <a:cubicBezTo>
                    <a:pt x="16" y="200"/>
                    <a:pt x="20" y="204"/>
                    <a:pt x="20" y="209"/>
                  </a:cubicBezTo>
                  <a:lnTo>
                    <a:pt x="20" y="209"/>
                  </a:lnTo>
                  <a:cubicBezTo>
                    <a:pt x="20" y="213"/>
                    <a:pt x="16" y="217"/>
                    <a:pt x="11" y="217"/>
                  </a:cubicBezTo>
                  <a:cubicBezTo>
                    <a:pt x="7" y="217"/>
                    <a:pt x="3" y="213"/>
                    <a:pt x="3" y="209"/>
                  </a:cubicBezTo>
                  <a:close/>
                  <a:moveTo>
                    <a:pt x="3" y="175"/>
                  </a:moveTo>
                  <a:lnTo>
                    <a:pt x="3" y="175"/>
                  </a:lnTo>
                  <a:cubicBezTo>
                    <a:pt x="3" y="171"/>
                    <a:pt x="7" y="167"/>
                    <a:pt x="12" y="167"/>
                  </a:cubicBezTo>
                  <a:cubicBezTo>
                    <a:pt x="16" y="167"/>
                    <a:pt x="20" y="171"/>
                    <a:pt x="20" y="175"/>
                  </a:cubicBezTo>
                  <a:lnTo>
                    <a:pt x="20" y="175"/>
                  </a:lnTo>
                  <a:cubicBezTo>
                    <a:pt x="20" y="180"/>
                    <a:pt x="16" y="184"/>
                    <a:pt x="12" y="184"/>
                  </a:cubicBezTo>
                  <a:cubicBezTo>
                    <a:pt x="7" y="184"/>
                    <a:pt x="3" y="180"/>
                    <a:pt x="3" y="175"/>
                  </a:cubicBezTo>
                  <a:close/>
                  <a:moveTo>
                    <a:pt x="3" y="142"/>
                  </a:moveTo>
                  <a:lnTo>
                    <a:pt x="3" y="142"/>
                  </a:lnTo>
                  <a:cubicBezTo>
                    <a:pt x="3" y="137"/>
                    <a:pt x="7" y="134"/>
                    <a:pt x="12" y="134"/>
                  </a:cubicBezTo>
                  <a:cubicBezTo>
                    <a:pt x="16" y="134"/>
                    <a:pt x="20" y="137"/>
                    <a:pt x="20" y="142"/>
                  </a:cubicBezTo>
                  <a:lnTo>
                    <a:pt x="20" y="142"/>
                  </a:lnTo>
                  <a:cubicBezTo>
                    <a:pt x="20" y="147"/>
                    <a:pt x="16" y="150"/>
                    <a:pt x="12" y="150"/>
                  </a:cubicBezTo>
                  <a:cubicBezTo>
                    <a:pt x="7" y="150"/>
                    <a:pt x="3" y="147"/>
                    <a:pt x="3" y="142"/>
                  </a:cubicBezTo>
                  <a:close/>
                  <a:moveTo>
                    <a:pt x="3" y="109"/>
                  </a:moveTo>
                  <a:lnTo>
                    <a:pt x="3" y="109"/>
                  </a:lnTo>
                  <a:cubicBezTo>
                    <a:pt x="3" y="104"/>
                    <a:pt x="7" y="100"/>
                    <a:pt x="12" y="100"/>
                  </a:cubicBezTo>
                  <a:cubicBezTo>
                    <a:pt x="16" y="100"/>
                    <a:pt x="20" y="104"/>
                    <a:pt x="20" y="109"/>
                  </a:cubicBezTo>
                  <a:lnTo>
                    <a:pt x="20" y="109"/>
                  </a:lnTo>
                  <a:cubicBezTo>
                    <a:pt x="20" y="113"/>
                    <a:pt x="16" y="117"/>
                    <a:pt x="12" y="117"/>
                  </a:cubicBezTo>
                  <a:cubicBezTo>
                    <a:pt x="7" y="117"/>
                    <a:pt x="3" y="113"/>
                    <a:pt x="3" y="109"/>
                  </a:cubicBezTo>
                  <a:close/>
                  <a:moveTo>
                    <a:pt x="3" y="75"/>
                  </a:moveTo>
                  <a:lnTo>
                    <a:pt x="3" y="75"/>
                  </a:lnTo>
                  <a:cubicBezTo>
                    <a:pt x="3" y="71"/>
                    <a:pt x="7" y="67"/>
                    <a:pt x="12" y="67"/>
                  </a:cubicBezTo>
                  <a:cubicBezTo>
                    <a:pt x="16" y="67"/>
                    <a:pt x="20" y="71"/>
                    <a:pt x="20" y="75"/>
                  </a:cubicBezTo>
                  <a:lnTo>
                    <a:pt x="20" y="75"/>
                  </a:lnTo>
                  <a:cubicBezTo>
                    <a:pt x="20" y="80"/>
                    <a:pt x="16" y="84"/>
                    <a:pt x="12" y="84"/>
                  </a:cubicBezTo>
                  <a:cubicBezTo>
                    <a:pt x="7" y="84"/>
                    <a:pt x="3" y="80"/>
                    <a:pt x="3" y="75"/>
                  </a:cubicBezTo>
                  <a:close/>
                  <a:moveTo>
                    <a:pt x="3" y="42"/>
                  </a:moveTo>
                  <a:lnTo>
                    <a:pt x="3" y="42"/>
                  </a:lnTo>
                  <a:cubicBezTo>
                    <a:pt x="3" y="37"/>
                    <a:pt x="7" y="34"/>
                    <a:pt x="12" y="34"/>
                  </a:cubicBezTo>
                  <a:cubicBezTo>
                    <a:pt x="16" y="34"/>
                    <a:pt x="20" y="37"/>
                    <a:pt x="20" y="42"/>
                  </a:cubicBezTo>
                  <a:lnTo>
                    <a:pt x="20" y="42"/>
                  </a:lnTo>
                  <a:cubicBezTo>
                    <a:pt x="20" y="47"/>
                    <a:pt x="16" y="50"/>
                    <a:pt x="12" y="50"/>
                  </a:cubicBezTo>
                  <a:cubicBezTo>
                    <a:pt x="7" y="50"/>
                    <a:pt x="3" y="47"/>
                    <a:pt x="3" y="42"/>
                  </a:cubicBezTo>
                  <a:close/>
                  <a:moveTo>
                    <a:pt x="3" y="9"/>
                  </a:moveTo>
                  <a:lnTo>
                    <a:pt x="3" y="9"/>
                  </a:lnTo>
                  <a:cubicBezTo>
                    <a:pt x="3" y="4"/>
                    <a:pt x="7" y="0"/>
                    <a:pt x="12" y="0"/>
                  </a:cubicBezTo>
                  <a:cubicBezTo>
                    <a:pt x="16" y="0"/>
                    <a:pt x="20" y="4"/>
                    <a:pt x="20" y="9"/>
                  </a:cubicBezTo>
                  <a:lnTo>
                    <a:pt x="20" y="9"/>
                  </a:lnTo>
                  <a:cubicBezTo>
                    <a:pt x="20" y="13"/>
                    <a:pt x="16" y="17"/>
                    <a:pt x="12" y="17"/>
                  </a:cubicBezTo>
                  <a:cubicBezTo>
                    <a:pt x="7" y="17"/>
                    <a:pt x="3" y="13"/>
                    <a:pt x="3" y="9"/>
                  </a:cubicBez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478480" y="5575320"/>
              <a:ext cx="3240" cy="225360"/>
            </a:xfrm>
            <a:custGeom>
              <a:avLst/>
              <a:gdLst/>
              <a:ahLst/>
              <a:rect l="l" t="t" r="r" b="b"/>
              <a:pathLst>
                <a:path w="20" h="1184">
                  <a:moveTo>
                    <a:pt x="0" y="1175"/>
                  </a:moveTo>
                  <a:lnTo>
                    <a:pt x="0" y="1175"/>
                  </a:lnTo>
                  <a:cubicBezTo>
                    <a:pt x="0" y="1171"/>
                    <a:pt x="4" y="1167"/>
                    <a:pt x="8" y="1167"/>
                  </a:cubicBezTo>
                  <a:cubicBezTo>
                    <a:pt x="13" y="1167"/>
                    <a:pt x="17" y="1171"/>
                    <a:pt x="17" y="1175"/>
                  </a:cubicBezTo>
                  <a:lnTo>
                    <a:pt x="17" y="1175"/>
                  </a:lnTo>
                  <a:cubicBezTo>
                    <a:pt x="17" y="1180"/>
                    <a:pt x="13" y="1184"/>
                    <a:pt x="8" y="1184"/>
                  </a:cubicBezTo>
                  <a:cubicBezTo>
                    <a:pt x="4" y="1184"/>
                    <a:pt x="0" y="1180"/>
                    <a:pt x="0" y="1175"/>
                  </a:cubicBezTo>
                  <a:close/>
                  <a:moveTo>
                    <a:pt x="0" y="1142"/>
                  </a:moveTo>
                  <a:lnTo>
                    <a:pt x="0" y="1142"/>
                  </a:lnTo>
                  <a:cubicBezTo>
                    <a:pt x="0" y="1137"/>
                    <a:pt x="4" y="1134"/>
                    <a:pt x="9" y="1134"/>
                  </a:cubicBezTo>
                  <a:cubicBezTo>
                    <a:pt x="13" y="1134"/>
                    <a:pt x="17" y="1137"/>
                    <a:pt x="17" y="1142"/>
                  </a:cubicBezTo>
                  <a:lnTo>
                    <a:pt x="17" y="1142"/>
                  </a:lnTo>
                  <a:cubicBezTo>
                    <a:pt x="17" y="1147"/>
                    <a:pt x="13" y="1150"/>
                    <a:pt x="9" y="1150"/>
                  </a:cubicBezTo>
                  <a:cubicBezTo>
                    <a:pt x="4" y="1150"/>
                    <a:pt x="0" y="1147"/>
                    <a:pt x="0" y="1142"/>
                  </a:cubicBezTo>
                  <a:close/>
                  <a:moveTo>
                    <a:pt x="0" y="1109"/>
                  </a:moveTo>
                  <a:lnTo>
                    <a:pt x="0" y="1109"/>
                  </a:lnTo>
                  <a:cubicBezTo>
                    <a:pt x="0" y="1104"/>
                    <a:pt x="4" y="1100"/>
                    <a:pt x="9" y="1100"/>
                  </a:cubicBezTo>
                  <a:cubicBezTo>
                    <a:pt x="13" y="1100"/>
                    <a:pt x="17" y="1104"/>
                    <a:pt x="17" y="1109"/>
                  </a:cubicBezTo>
                  <a:lnTo>
                    <a:pt x="17" y="1109"/>
                  </a:lnTo>
                  <a:cubicBezTo>
                    <a:pt x="17" y="1113"/>
                    <a:pt x="13" y="1117"/>
                    <a:pt x="9" y="1117"/>
                  </a:cubicBezTo>
                  <a:cubicBezTo>
                    <a:pt x="4" y="1117"/>
                    <a:pt x="0" y="1113"/>
                    <a:pt x="0" y="1109"/>
                  </a:cubicBezTo>
                  <a:close/>
                  <a:moveTo>
                    <a:pt x="0" y="1075"/>
                  </a:moveTo>
                  <a:lnTo>
                    <a:pt x="0" y="1075"/>
                  </a:lnTo>
                  <a:cubicBezTo>
                    <a:pt x="0" y="1071"/>
                    <a:pt x="4" y="1067"/>
                    <a:pt x="9" y="1067"/>
                  </a:cubicBezTo>
                  <a:cubicBezTo>
                    <a:pt x="13" y="1067"/>
                    <a:pt x="17" y="1071"/>
                    <a:pt x="17" y="1075"/>
                  </a:cubicBezTo>
                  <a:lnTo>
                    <a:pt x="17" y="1075"/>
                  </a:lnTo>
                  <a:cubicBezTo>
                    <a:pt x="17" y="1080"/>
                    <a:pt x="13" y="1084"/>
                    <a:pt x="9" y="1084"/>
                  </a:cubicBezTo>
                  <a:cubicBezTo>
                    <a:pt x="4" y="1084"/>
                    <a:pt x="0" y="1080"/>
                    <a:pt x="0" y="1075"/>
                  </a:cubicBezTo>
                  <a:close/>
                  <a:moveTo>
                    <a:pt x="1" y="1042"/>
                  </a:moveTo>
                  <a:lnTo>
                    <a:pt x="1" y="1042"/>
                  </a:lnTo>
                  <a:cubicBezTo>
                    <a:pt x="1" y="1037"/>
                    <a:pt x="4" y="1034"/>
                    <a:pt x="9" y="1034"/>
                  </a:cubicBezTo>
                  <a:cubicBezTo>
                    <a:pt x="13" y="1034"/>
                    <a:pt x="17" y="1037"/>
                    <a:pt x="17" y="1042"/>
                  </a:cubicBezTo>
                  <a:lnTo>
                    <a:pt x="17" y="1042"/>
                  </a:lnTo>
                  <a:cubicBezTo>
                    <a:pt x="17" y="1047"/>
                    <a:pt x="13" y="1050"/>
                    <a:pt x="9" y="1050"/>
                  </a:cubicBezTo>
                  <a:cubicBezTo>
                    <a:pt x="4" y="1050"/>
                    <a:pt x="1" y="1047"/>
                    <a:pt x="1" y="1042"/>
                  </a:cubicBezTo>
                  <a:close/>
                  <a:moveTo>
                    <a:pt x="1" y="1009"/>
                  </a:moveTo>
                  <a:lnTo>
                    <a:pt x="1" y="1009"/>
                  </a:lnTo>
                  <a:cubicBezTo>
                    <a:pt x="1" y="1004"/>
                    <a:pt x="4" y="1000"/>
                    <a:pt x="9" y="1000"/>
                  </a:cubicBezTo>
                  <a:cubicBezTo>
                    <a:pt x="14" y="1000"/>
                    <a:pt x="17" y="1004"/>
                    <a:pt x="17" y="1009"/>
                  </a:cubicBezTo>
                  <a:lnTo>
                    <a:pt x="17" y="1009"/>
                  </a:lnTo>
                  <a:cubicBezTo>
                    <a:pt x="17" y="1013"/>
                    <a:pt x="14" y="1017"/>
                    <a:pt x="9" y="1017"/>
                  </a:cubicBezTo>
                  <a:cubicBezTo>
                    <a:pt x="4" y="1017"/>
                    <a:pt x="1" y="1013"/>
                    <a:pt x="1" y="1009"/>
                  </a:cubicBezTo>
                  <a:close/>
                  <a:moveTo>
                    <a:pt x="1" y="975"/>
                  </a:moveTo>
                  <a:lnTo>
                    <a:pt x="1" y="975"/>
                  </a:lnTo>
                  <a:cubicBezTo>
                    <a:pt x="1" y="971"/>
                    <a:pt x="4" y="967"/>
                    <a:pt x="9" y="967"/>
                  </a:cubicBezTo>
                  <a:cubicBezTo>
                    <a:pt x="14" y="967"/>
                    <a:pt x="17" y="971"/>
                    <a:pt x="17" y="975"/>
                  </a:cubicBezTo>
                  <a:lnTo>
                    <a:pt x="17" y="975"/>
                  </a:lnTo>
                  <a:cubicBezTo>
                    <a:pt x="17" y="980"/>
                    <a:pt x="14" y="984"/>
                    <a:pt x="9" y="984"/>
                  </a:cubicBezTo>
                  <a:cubicBezTo>
                    <a:pt x="4" y="984"/>
                    <a:pt x="1" y="980"/>
                    <a:pt x="1" y="975"/>
                  </a:cubicBezTo>
                  <a:close/>
                  <a:moveTo>
                    <a:pt x="1" y="942"/>
                  </a:moveTo>
                  <a:lnTo>
                    <a:pt x="1" y="942"/>
                  </a:lnTo>
                  <a:cubicBezTo>
                    <a:pt x="1" y="937"/>
                    <a:pt x="5" y="934"/>
                    <a:pt x="9" y="934"/>
                  </a:cubicBezTo>
                  <a:cubicBezTo>
                    <a:pt x="14" y="934"/>
                    <a:pt x="17" y="937"/>
                    <a:pt x="17" y="942"/>
                  </a:cubicBezTo>
                  <a:lnTo>
                    <a:pt x="17" y="942"/>
                  </a:lnTo>
                  <a:cubicBezTo>
                    <a:pt x="17" y="947"/>
                    <a:pt x="14" y="950"/>
                    <a:pt x="9" y="950"/>
                  </a:cubicBezTo>
                  <a:cubicBezTo>
                    <a:pt x="5" y="950"/>
                    <a:pt x="1" y="947"/>
                    <a:pt x="1" y="942"/>
                  </a:cubicBezTo>
                  <a:close/>
                  <a:moveTo>
                    <a:pt x="1" y="909"/>
                  </a:moveTo>
                  <a:lnTo>
                    <a:pt x="1" y="909"/>
                  </a:lnTo>
                  <a:cubicBezTo>
                    <a:pt x="1" y="904"/>
                    <a:pt x="5" y="900"/>
                    <a:pt x="9" y="900"/>
                  </a:cubicBezTo>
                  <a:cubicBezTo>
                    <a:pt x="14" y="900"/>
                    <a:pt x="18" y="904"/>
                    <a:pt x="18" y="909"/>
                  </a:cubicBezTo>
                  <a:lnTo>
                    <a:pt x="18" y="909"/>
                  </a:lnTo>
                  <a:cubicBezTo>
                    <a:pt x="18" y="913"/>
                    <a:pt x="14" y="917"/>
                    <a:pt x="9" y="917"/>
                  </a:cubicBezTo>
                  <a:cubicBezTo>
                    <a:pt x="5" y="917"/>
                    <a:pt x="1" y="913"/>
                    <a:pt x="1" y="909"/>
                  </a:cubicBezTo>
                  <a:close/>
                  <a:moveTo>
                    <a:pt x="1" y="875"/>
                  </a:moveTo>
                  <a:lnTo>
                    <a:pt x="1" y="875"/>
                  </a:lnTo>
                  <a:cubicBezTo>
                    <a:pt x="1" y="871"/>
                    <a:pt x="5" y="867"/>
                    <a:pt x="9" y="867"/>
                  </a:cubicBezTo>
                  <a:cubicBezTo>
                    <a:pt x="14" y="867"/>
                    <a:pt x="18" y="871"/>
                    <a:pt x="18" y="875"/>
                  </a:cubicBezTo>
                  <a:lnTo>
                    <a:pt x="18" y="875"/>
                  </a:lnTo>
                  <a:cubicBezTo>
                    <a:pt x="18" y="880"/>
                    <a:pt x="14" y="884"/>
                    <a:pt x="9" y="884"/>
                  </a:cubicBezTo>
                  <a:cubicBezTo>
                    <a:pt x="5" y="884"/>
                    <a:pt x="1" y="880"/>
                    <a:pt x="1" y="875"/>
                  </a:cubicBezTo>
                  <a:close/>
                  <a:moveTo>
                    <a:pt x="1" y="842"/>
                  </a:moveTo>
                  <a:lnTo>
                    <a:pt x="1" y="842"/>
                  </a:lnTo>
                  <a:cubicBezTo>
                    <a:pt x="1" y="837"/>
                    <a:pt x="5" y="834"/>
                    <a:pt x="9" y="834"/>
                  </a:cubicBezTo>
                  <a:cubicBezTo>
                    <a:pt x="14" y="834"/>
                    <a:pt x="18" y="837"/>
                    <a:pt x="18" y="842"/>
                  </a:cubicBezTo>
                  <a:lnTo>
                    <a:pt x="18" y="842"/>
                  </a:lnTo>
                  <a:cubicBezTo>
                    <a:pt x="18" y="847"/>
                    <a:pt x="14" y="850"/>
                    <a:pt x="9" y="850"/>
                  </a:cubicBezTo>
                  <a:cubicBezTo>
                    <a:pt x="5" y="850"/>
                    <a:pt x="1" y="847"/>
                    <a:pt x="1" y="842"/>
                  </a:cubicBezTo>
                  <a:close/>
                  <a:moveTo>
                    <a:pt x="1" y="809"/>
                  </a:moveTo>
                  <a:lnTo>
                    <a:pt x="1" y="809"/>
                  </a:lnTo>
                  <a:cubicBezTo>
                    <a:pt x="1" y="804"/>
                    <a:pt x="5" y="800"/>
                    <a:pt x="9" y="800"/>
                  </a:cubicBezTo>
                  <a:cubicBezTo>
                    <a:pt x="14" y="800"/>
                    <a:pt x="18" y="804"/>
                    <a:pt x="18" y="809"/>
                  </a:cubicBezTo>
                  <a:lnTo>
                    <a:pt x="18" y="809"/>
                  </a:lnTo>
                  <a:cubicBezTo>
                    <a:pt x="18" y="813"/>
                    <a:pt x="14" y="817"/>
                    <a:pt x="9" y="817"/>
                  </a:cubicBezTo>
                  <a:cubicBezTo>
                    <a:pt x="5" y="817"/>
                    <a:pt x="1" y="813"/>
                    <a:pt x="1" y="809"/>
                  </a:cubicBezTo>
                  <a:close/>
                  <a:moveTo>
                    <a:pt x="1" y="775"/>
                  </a:moveTo>
                  <a:lnTo>
                    <a:pt x="1" y="775"/>
                  </a:lnTo>
                  <a:cubicBezTo>
                    <a:pt x="1" y="771"/>
                    <a:pt x="5" y="767"/>
                    <a:pt x="10" y="767"/>
                  </a:cubicBezTo>
                  <a:cubicBezTo>
                    <a:pt x="14" y="767"/>
                    <a:pt x="18" y="771"/>
                    <a:pt x="18" y="775"/>
                  </a:cubicBezTo>
                  <a:lnTo>
                    <a:pt x="18" y="775"/>
                  </a:lnTo>
                  <a:cubicBezTo>
                    <a:pt x="18" y="780"/>
                    <a:pt x="14" y="784"/>
                    <a:pt x="10" y="784"/>
                  </a:cubicBezTo>
                  <a:cubicBezTo>
                    <a:pt x="5" y="784"/>
                    <a:pt x="1" y="780"/>
                    <a:pt x="1" y="775"/>
                  </a:cubicBezTo>
                  <a:close/>
                  <a:moveTo>
                    <a:pt x="1" y="742"/>
                  </a:moveTo>
                  <a:lnTo>
                    <a:pt x="1" y="742"/>
                  </a:lnTo>
                  <a:cubicBezTo>
                    <a:pt x="1" y="737"/>
                    <a:pt x="5" y="734"/>
                    <a:pt x="10" y="734"/>
                  </a:cubicBezTo>
                  <a:cubicBezTo>
                    <a:pt x="14" y="734"/>
                    <a:pt x="18" y="737"/>
                    <a:pt x="18" y="742"/>
                  </a:cubicBezTo>
                  <a:lnTo>
                    <a:pt x="18" y="742"/>
                  </a:lnTo>
                  <a:cubicBezTo>
                    <a:pt x="18" y="747"/>
                    <a:pt x="14" y="750"/>
                    <a:pt x="10" y="750"/>
                  </a:cubicBezTo>
                  <a:cubicBezTo>
                    <a:pt x="5" y="750"/>
                    <a:pt x="1" y="747"/>
                    <a:pt x="1" y="742"/>
                  </a:cubicBezTo>
                  <a:close/>
                  <a:moveTo>
                    <a:pt x="1" y="709"/>
                  </a:moveTo>
                  <a:lnTo>
                    <a:pt x="1" y="709"/>
                  </a:lnTo>
                  <a:cubicBezTo>
                    <a:pt x="1" y="704"/>
                    <a:pt x="5" y="700"/>
                    <a:pt x="10" y="700"/>
                  </a:cubicBezTo>
                  <a:cubicBezTo>
                    <a:pt x="14" y="700"/>
                    <a:pt x="18" y="704"/>
                    <a:pt x="18" y="709"/>
                  </a:cubicBezTo>
                  <a:lnTo>
                    <a:pt x="18" y="709"/>
                  </a:lnTo>
                  <a:cubicBezTo>
                    <a:pt x="18" y="713"/>
                    <a:pt x="14" y="717"/>
                    <a:pt x="10" y="717"/>
                  </a:cubicBezTo>
                  <a:cubicBezTo>
                    <a:pt x="5" y="717"/>
                    <a:pt x="1" y="713"/>
                    <a:pt x="1" y="709"/>
                  </a:cubicBezTo>
                  <a:close/>
                  <a:moveTo>
                    <a:pt x="2" y="675"/>
                  </a:moveTo>
                  <a:lnTo>
                    <a:pt x="2" y="675"/>
                  </a:lnTo>
                  <a:cubicBezTo>
                    <a:pt x="2" y="671"/>
                    <a:pt x="5" y="667"/>
                    <a:pt x="10" y="667"/>
                  </a:cubicBezTo>
                  <a:cubicBezTo>
                    <a:pt x="14" y="667"/>
                    <a:pt x="18" y="671"/>
                    <a:pt x="18" y="675"/>
                  </a:cubicBezTo>
                  <a:lnTo>
                    <a:pt x="18" y="675"/>
                  </a:lnTo>
                  <a:cubicBezTo>
                    <a:pt x="18" y="680"/>
                    <a:pt x="14" y="684"/>
                    <a:pt x="10" y="684"/>
                  </a:cubicBezTo>
                  <a:cubicBezTo>
                    <a:pt x="5" y="684"/>
                    <a:pt x="2" y="680"/>
                    <a:pt x="2" y="675"/>
                  </a:cubicBezTo>
                  <a:close/>
                  <a:moveTo>
                    <a:pt x="2" y="642"/>
                  </a:moveTo>
                  <a:lnTo>
                    <a:pt x="2" y="642"/>
                  </a:lnTo>
                  <a:cubicBezTo>
                    <a:pt x="2" y="637"/>
                    <a:pt x="5" y="633"/>
                    <a:pt x="10" y="633"/>
                  </a:cubicBezTo>
                  <a:cubicBezTo>
                    <a:pt x="15" y="633"/>
                    <a:pt x="18" y="637"/>
                    <a:pt x="18" y="642"/>
                  </a:cubicBezTo>
                  <a:lnTo>
                    <a:pt x="18" y="642"/>
                  </a:lnTo>
                  <a:cubicBezTo>
                    <a:pt x="18" y="646"/>
                    <a:pt x="15" y="650"/>
                    <a:pt x="10" y="650"/>
                  </a:cubicBezTo>
                  <a:cubicBezTo>
                    <a:pt x="5" y="650"/>
                    <a:pt x="2" y="646"/>
                    <a:pt x="2" y="642"/>
                  </a:cubicBezTo>
                  <a:close/>
                  <a:moveTo>
                    <a:pt x="2" y="608"/>
                  </a:moveTo>
                  <a:lnTo>
                    <a:pt x="2" y="608"/>
                  </a:lnTo>
                  <a:cubicBezTo>
                    <a:pt x="2" y="604"/>
                    <a:pt x="5" y="600"/>
                    <a:pt x="10" y="600"/>
                  </a:cubicBezTo>
                  <a:cubicBezTo>
                    <a:pt x="15" y="600"/>
                    <a:pt x="18" y="604"/>
                    <a:pt x="18" y="608"/>
                  </a:cubicBezTo>
                  <a:lnTo>
                    <a:pt x="18" y="608"/>
                  </a:lnTo>
                  <a:cubicBezTo>
                    <a:pt x="18" y="613"/>
                    <a:pt x="15" y="617"/>
                    <a:pt x="10" y="617"/>
                  </a:cubicBezTo>
                  <a:cubicBezTo>
                    <a:pt x="5" y="617"/>
                    <a:pt x="2" y="613"/>
                    <a:pt x="2" y="608"/>
                  </a:cubicBezTo>
                  <a:close/>
                  <a:moveTo>
                    <a:pt x="2" y="575"/>
                  </a:moveTo>
                  <a:lnTo>
                    <a:pt x="2" y="575"/>
                  </a:lnTo>
                  <a:cubicBezTo>
                    <a:pt x="2" y="571"/>
                    <a:pt x="6" y="567"/>
                    <a:pt x="10" y="567"/>
                  </a:cubicBezTo>
                  <a:cubicBezTo>
                    <a:pt x="15" y="567"/>
                    <a:pt x="18" y="571"/>
                    <a:pt x="18" y="575"/>
                  </a:cubicBezTo>
                  <a:lnTo>
                    <a:pt x="18" y="575"/>
                  </a:lnTo>
                  <a:cubicBezTo>
                    <a:pt x="18" y="580"/>
                    <a:pt x="15" y="583"/>
                    <a:pt x="10" y="583"/>
                  </a:cubicBezTo>
                  <a:cubicBezTo>
                    <a:pt x="6" y="583"/>
                    <a:pt x="2" y="580"/>
                    <a:pt x="2" y="575"/>
                  </a:cubicBezTo>
                  <a:close/>
                  <a:moveTo>
                    <a:pt x="2" y="542"/>
                  </a:moveTo>
                  <a:lnTo>
                    <a:pt x="2" y="542"/>
                  </a:lnTo>
                  <a:cubicBezTo>
                    <a:pt x="2" y="537"/>
                    <a:pt x="6" y="533"/>
                    <a:pt x="10" y="533"/>
                  </a:cubicBezTo>
                  <a:cubicBezTo>
                    <a:pt x="15" y="533"/>
                    <a:pt x="19" y="537"/>
                    <a:pt x="19" y="542"/>
                  </a:cubicBezTo>
                  <a:lnTo>
                    <a:pt x="19" y="542"/>
                  </a:lnTo>
                  <a:cubicBezTo>
                    <a:pt x="19" y="546"/>
                    <a:pt x="15" y="550"/>
                    <a:pt x="10" y="550"/>
                  </a:cubicBezTo>
                  <a:cubicBezTo>
                    <a:pt x="6" y="550"/>
                    <a:pt x="2" y="546"/>
                    <a:pt x="2" y="542"/>
                  </a:cubicBezTo>
                  <a:close/>
                  <a:moveTo>
                    <a:pt x="2" y="508"/>
                  </a:moveTo>
                  <a:lnTo>
                    <a:pt x="2" y="508"/>
                  </a:lnTo>
                  <a:cubicBezTo>
                    <a:pt x="2" y="504"/>
                    <a:pt x="6" y="500"/>
                    <a:pt x="10" y="500"/>
                  </a:cubicBezTo>
                  <a:cubicBezTo>
                    <a:pt x="15" y="500"/>
                    <a:pt x="19" y="504"/>
                    <a:pt x="19" y="508"/>
                  </a:cubicBezTo>
                  <a:lnTo>
                    <a:pt x="19" y="508"/>
                  </a:lnTo>
                  <a:cubicBezTo>
                    <a:pt x="19" y="513"/>
                    <a:pt x="15" y="517"/>
                    <a:pt x="10" y="517"/>
                  </a:cubicBezTo>
                  <a:cubicBezTo>
                    <a:pt x="6" y="517"/>
                    <a:pt x="2" y="513"/>
                    <a:pt x="2" y="508"/>
                  </a:cubicBezTo>
                  <a:close/>
                  <a:moveTo>
                    <a:pt x="2" y="475"/>
                  </a:moveTo>
                  <a:lnTo>
                    <a:pt x="2" y="475"/>
                  </a:lnTo>
                  <a:cubicBezTo>
                    <a:pt x="2" y="470"/>
                    <a:pt x="6" y="467"/>
                    <a:pt x="10" y="467"/>
                  </a:cubicBezTo>
                  <a:cubicBezTo>
                    <a:pt x="15" y="467"/>
                    <a:pt x="19" y="470"/>
                    <a:pt x="19" y="475"/>
                  </a:cubicBezTo>
                  <a:lnTo>
                    <a:pt x="19" y="475"/>
                  </a:lnTo>
                  <a:cubicBezTo>
                    <a:pt x="19" y="480"/>
                    <a:pt x="15" y="483"/>
                    <a:pt x="10" y="483"/>
                  </a:cubicBezTo>
                  <a:cubicBezTo>
                    <a:pt x="6" y="483"/>
                    <a:pt x="2" y="480"/>
                    <a:pt x="2" y="475"/>
                  </a:cubicBezTo>
                  <a:close/>
                  <a:moveTo>
                    <a:pt x="2" y="442"/>
                  </a:moveTo>
                  <a:lnTo>
                    <a:pt x="2" y="442"/>
                  </a:lnTo>
                  <a:cubicBezTo>
                    <a:pt x="2" y="437"/>
                    <a:pt x="6" y="433"/>
                    <a:pt x="10" y="433"/>
                  </a:cubicBezTo>
                  <a:cubicBezTo>
                    <a:pt x="15" y="433"/>
                    <a:pt x="19" y="437"/>
                    <a:pt x="19" y="442"/>
                  </a:cubicBezTo>
                  <a:lnTo>
                    <a:pt x="19" y="442"/>
                  </a:lnTo>
                  <a:cubicBezTo>
                    <a:pt x="19" y="446"/>
                    <a:pt x="15" y="450"/>
                    <a:pt x="10" y="450"/>
                  </a:cubicBezTo>
                  <a:cubicBezTo>
                    <a:pt x="6" y="450"/>
                    <a:pt x="2" y="446"/>
                    <a:pt x="2" y="442"/>
                  </a:cubicBezTo>
                  <a:close/>
                  <a:moveTo>
                    <a:pt x="2" y="408"/>
                  </a:moveTo>
                  <a:lnTo>
                    <a:pt x="2" y="408"/>
                  </a:lnTo>
                  <a:cubicBezTo>
                    <a:pt x="2" y="404"/>
                    <a:pt x="6" y="400"/>
                    <a:pt x="11" y="400"/>
                  </a:cubicBezTo>
                  <a:cubicBezTo>
                    <a:pt x="15" y="400"/>
                    <a:pt x="19" y="404"/>
                    <a:pt x="19" y="408"/>
                  </a:cubicBezTo>
                  <a:lnTo>
                    <a:pt x="19" y="408"/>
                  </a:lnTo>
                  <a:cubicBezTo>
                    <a:pt x="19" y="413"/>
                    <a:pt x="15" y="417"/>
                    <a:pt x="11" y="417"/>
                  </a:cubicBezTo>
                  <a:cubicBezTo>
                    <a:pt x="6" y="417"/>
                    <a:pt x="2" y="413"/>
                    <a:pt x="2" y="408"/>
                  </a:cubicBezTo>
                  <a:close/>
                  <a:moveTo>
                    <a:pt x="2" y="375"/>
                  </a:moveTo>
                  <a:lnTo>
                    <a:pt x="2" y="375"/>
                  </a:lnTo>
                  <a:cubicBezTo>
                    <a:pt x="2" y="370"/>
                    <a:pt x="6" y="367"/>
                    <a:pt x="11" y="367"/>
                  </a:cubicBezTo>
                  <a:cubicBezTo>
                    <a:pt x="15" y="367"/>
                    <a:pt x="19" y="370"/>
                    <a:pt x="19" y="375"/>
                  </a:cubicBezTo>
                  <a:lnTo>
                    <a:pt x="19" y="375"/>
                  </a:lnTo>
                  <a:cubicBezTo>
                    <a:pt x="19" y="380"/>
                    <a:pt x="15" y="383"/>
                    <a:pt x="11" y="383"/>
                  </a:cubicBezTo>
                  <a:cubicBezTo>
                    <a:pt x="6" y="383"/>
                    <a:pt x="2" y="380"/>
                    <a:pt x="2" y="375"/>
                  </a:cubicBezTo>
                  <a:close/>
                  <a:moveTo>
                    <a:pt x="2" y="342"/>
                  </a:moveTo>
                  <a:lnTo>
                    <a:pt x="2" y="342"/>
                  </a:lnTo>
                  <a:cubicBezTo>
                    <a:pt x="2" y="337"/>
                    <a:pt x="6" y="333"/>
                    <a:pt x="11" y="333"/>
                  </a:cubicBezTo>
                  <a:cubicBezTo>
                    <a:pt x="15" y="333"/>
                    <a:pt x="19" y="337"/>
                    <a:pt x="19" y="342"/>
                  </a:cubicBezTo>
                  <a:lnTo>
                    <a:pt x="19" y="342"/>
                  </a:lnTo>
                  <a:cubicBezTo>
                    <a:pt x="19" y="346"/>
                    <a:pt x="15" y="350"/>
                    <a:pt x="11" y="350"/>
                  </a:cubicBezTo>
                  <a:cubicBezTo>
                    <a:pt x="6" y="350"/>
                    <a:pt x="2" y="346"/>
                    <a:pt x="2" y="342"/>
                  </a:cubicBezTo>
                  <a:close/>
                  <a:moveTo>
                    <a:pt x="3" y="308"/>
                  </a:moveTo>
                  <a:lnTo>
                    <a:pt x="3" y="308"/>
                  </a:lnTo>
                  <a:cubicBezTo>
                    <a:pt x="3" y="304"/>
                    <a:pt x="6" y="300"/>
                    <a:pt x="11" y="300"/>
                  </a:cubicBezTo>
                  <a:cubicBezTo>
                    <a:pt x="15" y="300"/>
                    <a:pt x="19" y="304"/>
                    <a:pt x="19" y="308"/>
                  </a:cubicBezTo>
                  <a:lnTo>
                    <a:pt x="19" y="308"/>
                  </a:lnTo>
                  <a:cubicBezTo>
                    <a:pt x="19" y="313"/>
                    <a:pt x="15" y="317"/>
                    <a:pt x="11" y="317"/>
                  </a:cubicBezTo>
                  <a:cubicBezTo>
                    <a:pt x="6" y="317"/>
                    <a:pt x="3" y="313"/>
                    <a:pt x="3" y="308"/>
                  </a:cubicBezTo>
                  <a:close/>
                  <a:moveTo>
                    <a:pt x="3" y="275"/>
                  </a:moveTo>
                  <a:lnTo>
                    <a:pt x="3" y="275"/>
                  </a:lnTo>
                  <a:cubicBezTo>
                    <a:pt x="3" y="270"/>
                    <a:pt x="6" y="267"/>
                    <a:pt x="11" y="267"/>
                  </a:cubicBezTo>
                  <a:cubicBezTo>
                    <a:pt x="16" y="267"/>
                    <a:pt x="19" y="270"/>
                    <a:pt x="19" y="275"/>
                  </a:cubicBezTo>
                  <a:lnTo>
                    <a:pt x="19" y="275"/>
                  </a:lnTo>
                  <a:cubicBezTo>
                    <a:pt x="19" y="280"/>
                    <a:pt x="16" y="283"/>
                    <a:pt x="11" y="283"/>
                  </a:cubicBezTo>
                  <a:cubicBezTo>
                    <a:pt x="6" y="283"/>
                    <a:pt x="3" y="280"/>
                    <a:pt x="3" y="275"/>
                  </a:cubicBezTo>
                  <a:close/>
                  <a:moveTo>
                    <a:pt x="3" y="242"/>
                  </a:moveTo>
                  <a:lnTo>
                    <a:pt x="3" y="242"/>
                  </a:lnTo>
                  <a:cubicBezTo>
                    <a:pt x="3" y="237"/>
                    <a:pt x="6" y="233"/>
                    <a:pt x="11" y="233"/>
                  </a:cubicBezTo>
                  <a:cubicBezTo>
                    <a:pt x="16" y="233"/>
                    <a:pt x="19" y="237"/>
                    <a:pt x="19" y="242"/>
                  </a:cubicBezTo>
                  <a:lnTo>
                    <a:pt x="19" y="242"/>
                  </a:lnTo>
                  <a:cubicBezTo>
                    <a:pt x="19" y="246"/>
                    <a:pt x="16" y="250"/>
                    <a:pt x="11" y="250"/>
                  </a:cubicBezTo>
                  <a:cubicBezTo>
                    <a:pt x="6" y="250"/>
                    <a:pt x="3" y="246"/>
                    <a:pt x="3" y="242"/>
                  </a:cubicBezTo>
                  <a:close/>
                  <a:moveTo>
                    <a:pt x="3" y="208"/>
                  </a:moveTo>
                  <a:lnTo>
                    <a:pt x="3" y="208"/>
                  </a:lnTo>
                  <a:cubicBezTo>
                    <a:pt x="3" y="204"/>
                    <a:pt x="7" y="200"/>
                    <a:pt x="11" y="200"/>
                  </a:cubicBezTo>
                  <a:cubicBezTo>
                    <a:pt x="16" y="200"/>
                    <a:pt x="19" y="204"/>
                    <a:pt x="19" y="208"/>
                  </a:cubicBezTo>
                  <a:lnTo>
                    <a:pt x="19" y="208"/>
                  </a:lnTo>
                  <a:cubicBezTo>
                    <a:pt x="19" y="213"/>
                    <a:pt x="16" y="217"/>
                    <a:pt x="11" y="217"/>
                  </a:cubicBezTo>
                  <a:cubicBezTo>
                    <a:pt x="7" y="217"/>
                    <a:pt x="3" y="213"/>
                    <a:pt x="3" y="208"/>
                  </a:cubicBezTo>
                  <a:close/>
                  <a:moveTo>
                    <a:pt x="3" y="175"/>
                  </a:moveTo>
                  <a:lnTo>
                    <a:pt x="3" y="175"/>
                  </a:lnTo>
                  <a:cubicBezTo>
                    <a:pt x="3" y="170"/>
                    <a:pt x="7" y="167"/>
                    <a:pt x="11" y="167"/>
                  </a:cubicBezTo>
                  <a:cubicBezTo>
                    <a:pt x="16" y="167"/>
                    <a:pt x="20" y="170"/>
                    <a:pt x="20" y="175"/>
                  </a:cubicBezTo>
                  <a:lnTo>
                    <a:pt x="20" y="175"/>
                  </a:lnTo>
                  <a:cubicBezTo>
                    <a:pt x="20" y="180"/>
                    <a:pt x="16" y="183"/>
                    <a:pt x="11" y="183"/>
                  </a:cubicBezTo>
                  <a:cubicBezTo>
                    <a:pt x="7" y="183"/>
                    <a:pt x="3" y="180"/>
                    <a:pt x="3" y="175"/>
                  </a:cubicBezTo>
                  <a:close/>
                  <a:moveTo>
                    <a:pt x="3" y="142"/>
                  </a:moveTo>
                  <a:lnTo>
                    <a:pt x="3" y="142"/>
                  </a:lnTo>
                  <a:cubicBezTo>
                    <a:pt x="3" y="137"/>
                    <a:pt x="7" y="133"/>
                    <a:pt x="11" y="133"/>
                  </a:cubicBezTo>
                  <a:cubicBezTo>
                    <a:pt x="16" y="133"/>
                    <a:pt x="20" y="137"/>
                    <a:pt x="20" y="142"/>
                  </a:cubicBezTo>
                  <a:lnTo>
                    <a:pt x="20" y="142"/>
                  </a:lnTo>
                  <a:cubicBezTo>
                    <a:pt x="20" y="146"/>
                    <a:pt x="16" y="150"/>
                    <a:pt x="11" y="150"/>
                  </a:cubicBezTo>
                  <a:cubicBezTo>
                    <a:pt x="7" y="150"/>
                    <a:pt x="3" y="146"/>
                    <a:pt x="3" y="142"/>
                  </a:cubicBezTo>
                  <a:close/>
                  <a:moveTo>
                    <a:pt x="3" y="108"/>
                  </a:moveTo>
                  <a:lnTo>
                    <a:pt x="3" y="108"/>
                  </a:lnTo>
                  <a:cubicBezTo>
                    <a:pt x="3" y="104"/>
                    <a:pt x="7" y="100"/>
                    <a:pt x="11" y="100"/>
                  </a:cubicBezTo>
                  <a:cubicBezTo>
                    <a:pt x="16" y="100"/>
                    <a:pt x="20" y="104"/>
                    <a:pt x="20" y="108"/>
                  </a:cubicBezTo>
                  <a:lnTo>
                    <a:pt x="20" y="108"/>
                  </a:lnTo>
                  <a:cubicBezTo>
                    <a:pt x="20" y="113"/>
                    <a:pt x="16" y="117"/>
                    <a:pt x="11" y="117"/>
                  </a:cubicBezTo>
                  <a:cubicBezTo>
                    <a:pt x="7" y="117"/>
                    <a:pt x="3" y="113"/>
                    <a:pt x="3" y="108"/>
                  </a:cubicBezTo>
                  <a:close/>
                  <a:moveTo>
                    <a:pt x="3" y="75"/>
                  </a:moveTo>
                  <a:lnTo>
                    <a:pt x="3" y="75"/>
                  </a:lnTo>
                  <a:cubicBezTo>
                    <a:pt x="3" y="70"/>
                    <a:pt x="7" y="67"/>
                    <a:pt x="12" y="67"/>
                  </a:cubicBezTo>
                  <a:cubicBezTo>
                    <a:pt x="16" y="67"/>
                    <a:pt x="20" y="70"/>
                    <a:pt x="20" y="75"/>
                  </a:cubicBezTo>
                  <a:lnTo>
                    <a:pt x="20" y="75"/>
                  </a:lnTo>
                  <a:cubicBezTo>
                    <a:pt x="20" y="80"/>
                    <a:pt x="16" y="83"/>
                    <a:pt x="12" y="83"/>
                  </a:cubicBezTo>
                  <a:cubicBezTo>
                    <a:pt x="7" y="83"/>
                    <a:pt x="3" y="80"/>
                    <a:pt x="3" y="75"/>
                  </a:cubicBezTo>
                  <a:close/>
                  <a:moveTo>
                    <a:pt x="3" y="42"/>
                  </a:moveTo>
                  <a:lnTo>
                    <a:pt x="3" y="42"/>
                  </a:lnTo>
                  <a:cubicBezTo>
                    <a:pt x="3" y="37"/>
                    <a:pt x="7" y="33"/>
                    <a:pt x="12" y="33"/>
                  </a:cubicBezTo>
                  <a:cubicBezTo>
                    <a:pt x="16" y="33"/>
                    <a:pt x="20" y="37"/>
                    <a:pt x="20" y="42"/>
                  </a:cubicBezTo>
                  <a:lnTo>
                    <a:pt x="20" y="42"/>
                  </a:lnTo>
                  <a:cubicBezTo>
                    <a:pt x="20" y="46"/>
                    <a:pt x="16" y="50"/>
                    <a:pt x="12" y="50"/>
                  </a:cubicBezTo>
                  <a:cubicBezTo>
                    <a:pt x="7" y="50"/>
                    <a:pt x="3" y="46"/>
                    <a:pt x="3" y="42"/>
                  </a:cubicBezTo>
                  <a:close/>
                  <a:moveTo>
                    <a:pt x="3" y="8"/>
                  </a:moveTo>
                  <a:lnTo>
                    <a:pt x="3" y="8"/>
                  </a:lnTo>
                  <a:cubicBezTo>
                    <a:pt x="3" y="4"/>
                    <a:pt x="7" y="0"/>
                    <a:pt x="12" y="0"/>
                  </a:cubicBezTo>
                  <a:cubicBezTo>
                    <a:pt x="16" y="0"/>
                    <a:pt x="20" y="4"/>
                    <a:pt x="20" y="8"/>
                  </a:cubicBezTo>
                  <a:lnTo>
                    <a:pt x="20" y="8"/>
                  </a:lnTo>
                  <a:cubicBezTo>
                    <a:pt x="20" y="13"/>
                    <a:pt x="16" y="17"/>
                    <a:pt x="12" y="17"/>
                  </a:cubicBezTo>
                  <a:cubicBezTo>
                    <a:pt x="7" y="17"/>
                    <a:pt x="3" y="13"/>
                    <a:pt x="3" y="8"/>
                  </a:cubicBez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915200" y="5616720"/>
              <a:ext cx="4791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CH" sz="700" spc="-1" strike="noStrike">
                  <a:solidFill>
                    <a:srgbClr val="000000"/>
                  </a:solidFill>
                  <a:latin typeface="Times New Roman"/>
                </a:rPr>
                <a:t>Offre de bas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369160" y="5616720"/>
              <a:ext cx="237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917000" y="5388120"/>
              <a:ext cx="4777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CH" sz="700" spc="-1" strike="noStrike">
                  <a:solidFill>
                    <a:srgbClr val="000000"/>
                  </a:solidFill>
                  <a:latin typeface="Times New Roman"/>
                </a:rPr>
                <a:t>Densifica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356560" y="5388120"/>
              <a:ext cx="237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400760" y="550548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450440" y="5505480"/>
              <a:ext cx="29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00’0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740600" y="5505480"/>
              <a:ext cx="2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400760" y="527688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50440" y="5276880"/>
              <a:ext cx="29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00’0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740600" y="5276880"/>
              <a:ext cx="2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rot="16200000">
              <a:off x="906840" y="5319000"/>
              <a:ext cx="750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CH" sz="700" spc="-1" strike="noStrike">
                  <a:solidFill>
                    <a:srgbClr val="000000"/>
                  </a:solidFill>
                  <a:latin typeface="Times New Roman"/>
                </a:rPr>
                <a:t>Grandeur échantill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rot="16200000">
              <a:off x="1270080" y="5062680"/>
              <a:ext cx="237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801040" y="6073920"/>
              <a:ext cx="531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CH" sz="700" spc="-1" strike="noStrike">
                  <a:solidFill>
                    <a:srgbClr val="000000"/>
                  </a:solidFill>
                  <a:latin typeface="Times New Roman"/>
                </a:rPr>
                <a:t>Année enquêt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296760" y="6073920"/>
              <a:ext cx="237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967400" y="5848200"/>
              <a:ext cx="2080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201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172600" y="5848200"/>
              <a:ext cx="2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425320" y="5848200"/>
              <a:ext cx="156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20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578680" y="584820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629800" y="5848200"/>
              <a:ext cx="2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882520" y="5848200"/>
              <a:ext cx="156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20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035880" y="584820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087000" y="5848200"/>
              <a:ext cx="2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3339720" y="5848200"/>
              <a:ext cx="156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20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493080" y="584820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3544200" y="5848200"/>
              <a:ext cx="2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3796920" y="5848200"/>
              <a:ext cx="156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20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950280" y="584820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002840" y="5848200"/>
              <a:ext cx="2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254120" y="5848200"/>
              <a:ext cx="156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20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407480" y="584820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460040" y="5848200"/>
              <a:ext cx="2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711320" y="5848200"/>
              <a:ext cx="156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20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864680" y="584820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917240" y="5848200"/>
              <a:ext cx="2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168520" y="5848200"/>
              <a:ext cx="156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20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321880" y="584820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374440" y="5848200"/>
              <a:ext cx="2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5625720" y="5848200"/>
              <a:ext cx="156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20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779080" y="584820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831640" y="5848200"/>
              <a:ext cx="2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082920" y="5848200"/>
              <a:ext cx="156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20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236280" y="584820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288840" y="5848200"/>
              <a:ext cx="2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441440" y="1684440"/>
              <a:ext cx="31240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1530360" y="1736640"/>
              <a:ext cx="1724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CH" sz="900" spc="-1" strike="noStrike">
                  <a:solidFill>
                    <a:srgbClr val="000000"/>
                  </a:solidFill>
                  <a:latin typeface="Times New Roman"/>
                </a:rPr>
                <a:t>Variante 1: Densification constant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292920" y="17366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441440" y="3056040"/>
              <a:ext cx="31240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556640" y="3108240"/>
              <a:ext cx="5205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Variante 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048040" y="3108240"/>
              <a:ext cx="739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CH" sz="900" spc="-1" strike="noStrike">
                  <a:solidFill>
                    <a:srgbClr val="000000"/>
                  </a:solidFill>
                  <a:latin typeface="Times New Roman"/>
                </a:rPr>
                <a:t>: Densification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644560" y="3108240"/>
              <a:ext cx="6102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CH" sz="9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1" lang="de-CH" sz="900" spc="-1" strike="noStrike">
                  <a:solidFill>
                    <a:srgbClr val="000000"/>
                  </a:solidFill>
                  <a:latin typeface="Times New Roman"/>
                </a:rPr>
                <a:t>constant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290760" y="3108240"/>
              <a:ext cx="355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 „</a:t>
              </a: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Plus“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646800" y="31082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441440" y="4770360"/>
              <a:ext cx="31240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531080" y="4822920"/>
              <a:ext cx="1230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CH" sz="900" spc="-1" strike="noStrike">
                  <a:solidFill>
                    <a:srgbClr val="000000"/>
                  </a:solidFill>
                  <a:latin typeface="Times New Roman"/>
                </a:rPr>
                <a:t>Variante 3: Densificatio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679480" y="4822920"/>
              <a:ext cx="645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CH" sz="9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1" lang="de-CH" sz="900" spc="-1" strike="noStrike">
                  <a:solidFill>
                    <a:srgbClr val="000000"/>
                  </a:solidFill>
                  <a:latin typeface="Times New Roman"/>
                </a:rPr>
                <a:t>périodiqu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357720" y="482292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386520" y="482292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9" name=""/>
          <p:cNvSpPr/>
          <p:nvPr/>
        </p:nvSpPr>
        <p:spPr>
          <a:xfrm>
            <a:off x="1187280" y="1197000"/>
            <a:ext cx="5256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258920" y="1197000"/>
            <a:ext cx="5400720" cy="50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400" spc="-1" strike="noStrike">
                <a:solidFill>
                  <a:srgbClr val="000000"/>
                </a:solidFill>
                <a:latin typeface="Arial"/>
              </a:rPr>
              <a:t>Variantes proposé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295280" y="1341000"/>
            <a:ext cx="746280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Arial"/>
              </a:rPr>
              <a:t>Pour rappel – Densification de l'échantillon (3/5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295280" y="2066760"/>
            <a:ext cx="7462800" cy="399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6760"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Arial"/>
              </a:rPr>
              <a:t>Coû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ts val="2599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Echantillon de base 200'000 – pas de coûts pour les cant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ts val="2599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Jusqu'au doublement (3.5% - 7%, 200'001 – 400'000):  </a:t>
            </a:r>
            <a:r>
              <a:rPr b="0" lang="de-CH" sz="1800" spc="-1" strike="noStrike">
                <a:solidFill>
                  <a:srgbClr val="ed181e"/>
                </a:solidFill>
                <a:latin typeface="Arial"/>
              </a:rPr>
              <a:t>CHF 9.-</a:t>
            </a: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 par person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ts val="2599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Entre doublement et quadruplement (7% - 14%, 400'001 – 800'000): </a:t>
            </a:r>
            <a:r>
              <a:rPr b="0" lang="de-CH" sz="1800" spc="-1" strike="noStrike">
                <a:solidFill>
                  <a:srgbClr val="ed181e"/>
                </a:solidFill>
                <a:latin typeface="Arial"/>
              </a:rPr>
              <a:t>CHF 15.-</a:t>
            </a: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 par person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295280" y="1341000"/>
            <a:ext cx="7462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Arial"/>
              </a:rPr>
              <a:t>Pour rappel – Densification de l'échantillon (4/5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295280" y="2060280"/>
            <a:ext cx="74628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lvl="1" marL="349200" indent="0">
              <a:lnSpc>
                <a:spcPts val="2599"/>
              </a:lnSpc>
              <a:buNone/>
              <a:tabLst>
                <a:tab algn="l" pos="0"/>
                <a:tab algn="l" pos="8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9200" indent="0">
              <a:lnSpc>
                <a:spcPts val="2599"/>
              </a:lnSpc>
              <a:buNone/>
              <a:tabLst>
                <a:tab algn="l" pos="0"/>
                <a:tab algn="l" pos="8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200" spc="-1" strike="noStrike">
                <a:solidFill>
                  <a:srgbClr val="000000"/>
                </a:solidFill>
                <a:latin typeface="Arial"/>
              </a:rPr>
              <a:t>Recommand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9200" indent="0">
              <a:lnSpc>
                <a:spcPts val="1998"/>
              </a:lnSpc>
              <a:buNone/>
              <a:tabLst>
                <a:tab algn="l" pos="0"/>
                <a:tab algn="l" pos="8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9200" indent="-348120">
              <a:lnSpc>
                <a:spcPts val="2299"/>
              </a:lnSpc>
              <a:buClr>
                <a:srgbClr val="000000"/>
              </a:buClr>
              <a:buFont typeface="Arial"/>
              <a:buChar char="•"/>
              <a:tabLst>
                <a:tab algn="l" pos="8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tabilité dans les variantes et la grandeur de l'échantill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9200" indent="0">
              <a:lnSpc>
                <a:spcPts val="2299"/>
              </a:lnSpc>
              <a:buNone/>
              <a:tabLst>
                <a:tab algn="l" pos="8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9200" indent="-348120">
              <a:lnSpc>
                <a:spcPts val="2299"/>
              </a:lnSpc>
              <a:buClr>
                <a:srgbClr val="000000"/>
              </a:buClr>
              <a:buFont typeface="Arial"/>
              <a:buChar char="•"/>
              <a:tabLst>
                <a:tab algn="l" pos="8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Densification uniforme sur le territoire cant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9200" indent="0">
              <a:lnSpc>
                <a:spcPts val="2299"/>
              </a:lnSpc>
              <a:buNone/>
              <a:tabLst>
                <a:tab algn="l" pos="8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9200" indent="-348120">
              <a:lnSpc>
                <a:spcPts val="2299"/>
              </a:lnSpc>
              <a:buClr>
                <a:srgbClr val="000000"/>
              </a:buClr>
              <a:buFont typeface="Arial"/>
              <a:buChar char="•"/>
              <a:tabLst>
                <a:tab algn="l" pos="8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oordination entre les cantons est recommandé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9200" indent="0">
              <a:lnSpc>
                <a:spcPts val="2299"/>
              </a:lnSpc>
              <a:buNone/>
              <a:tabLst>
                <a:tab algn="l" pos="8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9200" indent="-348120">
              <a:lnSpc>
                <a:spcPts val="2299"/>
              </a:lnSpc>
              <a:buClr>
                <a:srgbClr val="000000"/>
              </a:buClr>
              <a:buFont typeface="Arial"/>
              <a:buChar char="•"/>
              <a:tabLst>
                <a:tab algn="l" pos="8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En cas de densification, l'OFS recommande la variante 1 orientée vers l'avenir – Densification constante (10x1) jusqu'au doublement, c-à-d une densification annuelle de l'échantillon au niveau suisse jusqu'à un maximum de 400'000 person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295280" y="1341000"/>
            <a:ext cx="7462800" cy="57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Arial"/>
              </a:rPr>
              <a:t>Pour rappel – Densification de l'échantillon (5/5)</a:t>
            </a:r>
            <a:r>
              <a:rPr b="1" lang="de-CH" sz="3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600"/>
            </a:b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295280" y="2133360"/>
            <a:ext cx="7462800" cy="39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Prochaine échéance 2010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31.12.2009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CH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➱ jusqu'au doublement (3.5% à 7%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258560" y="1413000"/>
            <a:ext cx="7273800" cy="5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800" spc="-1" strike="noStrike">
                <a:solidFill>
                  <a:srgbClr val="000000"/>
                </a:solidFill>
                <a:latin typeface="Arial"/>
              </a:rPr>
              <a:t>Commandes reçu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258920" y="1915920"/>
            <a:ext cx="7462800" cy="39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269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269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100" spc="-1" strike="noStrike">
                <a:solidFill>
                  <a:srgbClr val="000000"/>
                </a:solidFill>
                <a:latin typeface="Arial"/>
              </a:rPr>
              <a:t>Ville de Berne</a:t>
            </a:r>
            <a:r>
              <a:rPr b="0" lang="de-CH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CH" sz="21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➱</a:t>
            </a:r>
            <a:r>
              <a:rPr b="0" lang="de-CH" sz="21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de-CH" sz="21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de-CH" sz="2100" spc="-1" strike="noStrike">
                <a:solidFill>
                  <a:srgbClr val="000000"/>
                </a:solidFill>
                <a:latin typeface="Arial"/>
              </a:rPr>
              <a:t>quadruplement en 2010, doublement </a:t>
            </a:r>
            <a:r>
              <a:rPr b="0" lang="de-CH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CH" sz="2100" spc="-1" strike="noStrike">
                <a:solidFill>
                  <a:srgbClr val="000000"/>
                </a:solidFill>
                <a:latin typeface="Arial"/>
              </a:rPr>
              <a:t>dès 2013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269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100" spc="-1" strike="noStrike">
                <a:solidFill>
                  <a:srgbClr val="000000"/>
                </a:solidFill>
                <a:latin typeface="Arial"/>
              </a:rPr>
              <a:t>Ville de Zurich</a:t>
            </a:r>
            <a:r>
              <a:rPr b="0" lang="de-CH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CH" sz="21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➱</a:t>
            </a:r>
            <a:r>
              <a:rPr b="0" lang="de-CH" sz="21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de-CH" sz="21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de-CH" sz="2100" spc="-1" strike="noStrike">
                <a:solidFill>
                  <a:srgbClr val="000000"/>
                </a:solidFill>
                <a:latin typeface="Arial"/>
              </a:rPr>
              <a:t>quadruplement en 2010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269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100" spc="-1" strike="noStrike">
                <a:solidFill>
                  <a:srgbClr val="000000"/>
                </a:solidFill>
                <a:latin typeface="Arial"/>
              </a:rPr>
              <a:t>Canton Argovie</a:t>
            </a:r>
            <a:r>
              <a:rPr b="0" lang="de-CH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CH" sz="21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➱</a:t>
            </a:r>
            <a:r>
              <a:rPr b="0" lang="de-CH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CH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CH" sz="2100" spc="-1" strike="noStrike">
                <a:solidFill>
                  <a:srgbClr val="000000"/>
                </a:solidFill>
                <a:latin typeface="Arial"/>
              </a:rPr>
              <a:t>doublement dès 2010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269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100" spc="-1" strike="noStrike">
                <a:solidFill>
                  <a:srgbClr val="000000"/>
                </a:solidFill>
                <a:latin typeface="Arial"/>
              </a:rPr>
              <a:t>Canton Lucerne</a:t>
            </a:r>
            <a:r>
              <a:rPr b="0" lang="de-CH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CH" sz="21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➱</a:t>
            </a:r>
            <a:r>
              <a:rPr b="0" lang="de-CH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CH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CH" sz="2100" spc="-1" strike="noStrike">
                <a:solidFill>
                  <a:srgbClr val="000000"/>
                </a:solidFill>
                <a:latin typeface="Arial"/>
              </a:rPr>
              <a:t>doublement dès 2010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269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100" spc="-1" strike="noStrike">
                <a:solidFill>
                  <a:srgbClr val="000000"/>
                </a:solidFill>
                <a:latin typeface="Arial"/>
              </a:rPr>
              <a:t>Canton Jura</a:t>
            </a:r>
            <a:r>
              <a:rPr b="0" lang="de-CH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CH" sz="21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➱</a:t>
            </a:r>
            <a:r>
              <a:rPr b="0" lang="de-CH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CH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CH" sz="2100" spc="-1" strike="noStrike">
                <a:solidFill>
                  <a:srgbClr val="000000"/>
                </a:solidFill>
                <a:latin typeface="Arial"/>
              </a:rPr>
              <a:t>doublement dès 2010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269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100" spc="-1" strike="noStrike">
                <a:solidFill>
                  <a:srgbClr val="000000"/>
                </a:solidFill>
                <a:latin typeface="Arial"/>
              </a:rPr>
              <a:t>Canton Thurgovie</a:t>
            </a:r>
            <a:r>
              <a:rPr b="0" lang="de-CH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CH" sz="21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➱ </a:t>
            </a:r>
            <a:r>
              <a:rPr b="0" lang="de-CH" sz="21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de-CH" sz="2100" spc="-1" strike="noStrike">
                <a:solidFill>
                  <a:srgbClr val="000000"/>
                </a:solidFill>
                <a:latin typeface="Arial"/>
              </a:rPr>
              <a:t>doublement en 2010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269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295280" y="1197000"/>
            <a:ext cx="74628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800" spc="-1" strike="noStrike">
                <a:solidFill>
                  <a:srgbClr val="000000"/>
                </a:solidFill>
                <a:latin typeface="Arial"/>
              </a:rPr>
              <a:t>Exploitation et diffusion (1/3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258920" y="1915920"/>
            <a:ext cx="7462800" cy="39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100" spc="-1" strike="noStrike">
                <a:solidFill>
                  <a:srgbClr val="000000"/>
                </a:solidFill>
                <a:latin typeface="Arial"/>
              </a:rPr>
              <a:t>Résultats → un an après le jour de référence de l'enquêt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1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100" spc="-1" strike="noStrike">
                <a:solidFill>
                  <a:srgbClr val="000000"/>
                </a:solidFill>
                <a:latin typeface="Arial"/>
              </a:rPr>
              <a:t>Résultats annuels pour les domaines thématiques décrits dans le Programme de relevés du recensement fédéral de la populatio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1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100" spc="-1" strike="noStrike">
                <a:solidFill>
                  <a:srgbClr val="000000"/>
                </a:solidFill>
                <a:latin typeface="Arial"/>
              </a:rPr>
              <a:t>Les résultats détaillés peuvent être agrégés à tous les niveaux (par thème et par région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1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100" spc="-1" strike="noStrike">
                <a:solidFill>
                  <a:srgbClr val="000000"/>
                </a:solidFill>
                <a:latin typeface="Arial"/>
              </a:rPr>
              <a:t>Programme de tableaux standards en cours de réalisation. Structuration selon les variables clés et les groupes de population définis dans SHAP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95280" y="1339920"/>
            <a:ext cx="74628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200" spc="-1" strike="noStrike">
                <a:solidFill>
                  <a:srgbClr val="000000"/>
                </a:solidFill>
                <a:latin typeface="Arial"/>
              </a:rPr>
              <a:t>Somma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15640" y="1989000"/>
            <a:ext cx="77058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1080">
              <a:lnSpc>
                <a:spcPts val="4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de-CH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>
              <a:lnSpc>
                <a:spcPts val="4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de-CH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Questionnaire sur pap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>
              <a:lnSpc>
                <a:spcPts val="4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de-CH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-Surv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>
              <a:lnSpc>
                <a:spcPts val="4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Pour rappel – Densification de l'échantill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>
              <a:lnSpc>
                <a:spcPts val="4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Commandes reç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>
              <a:lnSpc>
                <a:spcPts val="4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Exploitation et diffus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>
              <a:lnSpc>
                <a:spcPts val="4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Délais pour la réalisation opérationnelle RS 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295280" y="1197000"/>
            <a:ext cx="74628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800" spc="-1" strike="noStrike">
                <a:solidFill>
                  <a:srgbClr val="000000"/>
                </a:solidFill>
                <a:latin typeface="Arial"/>
              </a:rPr>
              <a:t>Exploitation et diffusion (2/3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2" name=""/>
          <p:cNvGrpSpPr/>
          <p:nvPr/>
        </p:nvGrpSpPr>
        <p:grpSpPr>
          <a:xfrm>
            <a:off x="1187280" y="2060640"/>
            <a:ext cx="7705800" cy="3863880"/>
            <a:chOff x="1187280" y="2060640"/>
            <a:chExt cx="7705800" cy="3863880"/>
          </a:xfrm>
        </p:grpSpPr>
        <p:pic>
          <p:nvPicPr>
            <p:cNvPr id="333" name="" descr=""/>
            <p:cNvPicPr/>
            <p:nvPr/>
          </p:nvPicPr>
          <p:blipFill>
            <a:blip r:embed="rId1"/>
            <a:stretch/>
          </p:blipFill>
          <p:spPr>
            <a:xfrm>
              <a:off x="1187280" y="2060640"/>
              <a:ext cx="7705800" cy="3863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258920" y="836280"/>
            <a:ext cx="688824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Arial"/>
              </a:rPr>
              <a:t>Exploitation et diffusion (3/3)</a:t>
            </a:r>
            <a:br>
              <a:rPr sz="2800"/>
            </a:b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Portfolio envisage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295280" y="2133360"/>
            <a:ext cx="3654720" cy="39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6" name=""/>
          <p:cNvGraphicFramePr/>
          <p:nvPr/>
        </p:nvGraphicFramePr>
        <p:xfrm>
          <a:off x="1258920" y="1844640"/>
          <a:ext cx="7634160" cy="4240080"/>
        </p:xfrm>
        <a:graphic>
          <a:graphicData uri="http://schemas.openxmlformats.org/drawingml/2006/table">
            <a:tbl>
              <a:tblPr/>
              <a:tblGrid>
                <a:gridCol w="2521080"/>
                <a:gridCol w="2520720"/>
                <a:gridCol w="2592360"/>
              </a:tblGrid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CH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rtail statistique, e-mail, téléphone</a:t>
                      </a:r>
                      <a:r>
                        <a:rPr b="0" lang="de-CH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fflin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CH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primés </a:t>
                      </a:r>
                      <a:r>
                        <a:rPr b="1" lang="de-CH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également disponi-bles sous forme électronique)</a:t>
                      </a:r>
                      <a:r>
                        <a:rPr b="0" lang="de-CH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norama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porello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ices, indicateurs, tableaux, cubes, nomenclatur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ports de données électroniqu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pport de méthod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pports, dossiers, atl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tudes d'approfondissement, publications spéciales, études de synthè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ws et tendances</a:t>
                      </a:r>
                      <a:r>
                        <a:rPr b="0" lang="de-CH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uniqués de presse,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ualités OF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loitations individuelles spéciales, banques de données en ligne</a:t>
                      </a:r>
                      <a:r>
                        <a:rPr b="0" lang="de-CH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loitations sur demande, données individuelles anonymisé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nseignements par e-mail, par téléph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258560" y="1052640"/>
            <a:ext cx="7777080" cy="5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600" spc="-1" strike="noStrike">
                <a:solidFill>
                  <a:srgbClr val="000000"/>
                </a:solidFill>
                <a:latin typeface="Arial"/>
              </a:rPr>
              <a:t>Délais pour la réalisation opérationnelle RS 2010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8" name=""/>
          <p:cNvGraphicFramePr/>
          <p:nvPr/>
        </p:nvGraphicFramePr>
        <p:xfrm>
          <a:off x="1258920" y="1844640"/>
          <a:ext cx="7462800" cy="4206960"/>
        </p:xfrm>
        <a:graphic>
          <a:graphicData uri="http://schemas.openxmlformats.org/drawingml/2006/table">
            <a:tbl>
              <a:tblPr/>
              <a:tblGrid>
                <a:gridCol w="5329080"/>
                <a:gridCol w="2133720"/>
              </a:tblGrid>
              <a:tr h="42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C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éne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C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éla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éparation de l'échantill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.11.20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sonnes cibles</a:t>
                      </a:r>
                      <a:r>
                        <a:rPr b="1" lang="de-C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reçoivent les questionnair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'ici le </a:t>
                      </a:r>
                      <a:r>
                        <a:rPr b="1" lang="de-C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.12.2010</a:t>
                      </a:r>
                      <a:r>
                        <a:rPr b="0" lang="de-C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s questionnaires arrivent au Scanning Cen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ès le 20.12.201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C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ur de référence</a:t>
                      </a:r>
                      <a:r>
                        <a:rPr b="0" lang="de-C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.12.2010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élai de renvoi des questionnaires / e-Survey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01.2011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ttre de rappel 1 est délivré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'ici le 26.01.2011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ttre de rappel 2 est délivré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'ici le 16.02.2011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itement des cas restants par l'OF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ès le 25.02.2011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C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 de la phase de relevé</a:t>
                      </a:r>
                      <a:r>
                        <a:rPr b="0" lang="de-C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v.</a:t>
                      </a:r>
                      <a:r>
                        <a:rPr b="1" lang="de-C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15.04.20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95280" y="1339920"/>
            <a:ext cx="74628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800" spc="-1" strike="noStrike">
                <a:solidFill>
                  <a:srgbClr val="000000"/>
                </a:solidFill>
                <a:latin typeface="Arial"/>
              </a:rPr>
              <a:t>Introduction (1/2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15640" y="2133360"/>
            <a:ext cx="7559640" cy="39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179280" indent="1800">
              <a:lnSpc>
                <a:spcPct val="125000"/>
              </a:lnSpc>
              <a:buClr>
                <a:srgbClr val="000000"/>
              </a:buClr>
              <a:buFont typeface="Arial"/>
              <a:buChar char="–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CH" sz="1900" spc="-1" strike="noStrike">
                <a:solidFill>
                  <a:srgbClr val="000000"/>
                </a:solidFill>
                <a:latin typeface="Arial"/>
              </a:rPr>
              <a:t>enquête annuelle auprès d'un échantillon de personnes, âgées de </a:t>
            </a:r>
            <a:r>
              <a:rPr b="0" lang="de-CH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CH" sz="1900" spc="-1" strike="noStrike">
                <a:solidFill>
                  <a:srgbClr val="000000"/>
                </a:solidFill>
                <a:latin typeface="Arial"/>
              </a:rPr>
              <a:t>15 ans ou plus et vivant dans des ménages privé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1800">
              <a:lnSpc>
                <a:spcPct val="125000"/>
              </a:lnSpc>
              <a:buClr>
                <a:srgbClr val="000000"/>
              </a:buClr>
              <a:buFont typeface="Arial"/>
              <a:buChar char="–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CH" sz="1900" spc="-1" strike="noStrike">
                <a:solidFill>
                  <a:srgbClr val="000000"/>
                </a:solidFill>
                <a:latin typeface="Arial"/>
              </a:rPr>
              <a:t>obligation de renseigner selon l'art. 10 de la loi sur le recensement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1800">
              <a:lnSpc>
                <a:spcPct val="125000"/>
              </a:lnSpc>
              <a:buClr>
                <a:srgbClr val="000000"/>
              </a:buClr>
              <a:buFont typeface="Arial"/>
              <a:buChar char="–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CH" sz="1900" spc="-1" strike="noStrike">
                <a:solidFill>
                  <a:srgbClr val="000000"/>
                </a:solidFill>
                <a:latin typeface="Arial"/>
              </a:rPr>
              <a:t>répartition uniforme de l'échantillon, c-à-d env. 3,5% par commun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1800">
              <a:lnSpc>
                <a:spcPct val="125000"/>
              </a:lnSpc>
              <a:buClr>
                <a:srgbClr val="000000"/>
              </a:buClr>
              <a:buFont typeface="Arial"/>
              <a:buChar char="–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CH" sz="1900" spc="-1" strike="noStrike">
                <a:solidFill>
                  <a:srgbClr val="000000"/>
                </a:solidFill>
                <a:latin typeface="Arial"/>
              </a:rPr>
              <a:t>réalisation sous forme d'enquête écrite ou par Internet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1800">
              <a:lnSpc>
                <a:spcPct val="125000"/>
              </a:lnSpc>
              <a:buClr>
                <a:srgbClr val="000000"/>
              </a:buClr>
              <a:buFont typeface="Arial"/>
              <a:buChar char="–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CH" sz="1900" spc="-1" strike="noStrike">
                <a:solidFill>
                  <a:srgbClr val="000000"/>
                </a:solidFill>
                <a:latin typeface="Arial"/>
              </a:rPr>
              <a:t>l'enquête comprend un questionnaire-personne et un pour le </a:t>
            </a:r>
            <a:r>
              <a:rPr b="0" lang="de-CH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CH" sz="1900" spc="-1" strike="noStrike">
                <a:solidFill>
                  <a:srgbClr val="000000"/>
                </a:solidFill>
                <a:latin typeface="Arial"/>
              </a:rPr>
              <a:t>ménage, 2 x A3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1800">
              <a:lnSpc>
                <a:spcPct val="125000"/>
              </a:lnSpc>
              <a:buClr>
                <a:srgbClr val="000000"/>
              </a:buClr>
              <a:buFont typeface="Arial"/>
              <a:buChar char="–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CH" sz="1900" spc="-1" strike="noStrike">
                <a:solidFill>
                  <a:srgbClr val="000000"/>
                </a:solidFill>
                <a:latin typeface="Arial"/>
              </a:rPr>
              <a:t>les résultats peuvent être mis en pool (cumulés) sur 3 ou 5 an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1800">
              <a:lnSpc>
                <a:spcPct val="125000"/>
              </a:lnSpc>
              <a:buClr>
                <a:srgbClr val="000000"/>
              </a:buClr>
              <a:buFont typeface="Arial"/>
              <a:buChar char="–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CH" sz="1900" spc="-1" strike="noStrike">
                <a:solidFill>
                  <a:srgbClr val="000000"/>
                </a:solidFill>
                <a:latin typeface="Arial"/>
              </a:rPr>
              <a:t>les cantons peuvent densifier l'échantillon de la Confédératio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31640" y="1052640"/>
            <a:ext cx="7318440" cy="5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800" spc="-1" strike="noStrike">
                <a:solidFill>
                  <a:srgbClr val="000000"/>
                </a:solidFill>
                <a:latin typeface="Arial"/>
              </a:rPr>
              <a:t>Introduction (2/2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16000" y="1628280"/>
            <a:ext cx="770400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lvl="1" marL="175680" indent="0">
              <a:lnSpc>
                <a:spcPts val="2200"/>
              </a:lnSpc>
              <a:spcAft>
                <a:spcPts val="788"/>
              </a:spcAft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Arial"/>
              </a:rPr>
              <a:t>Univers de base</a:t>
            </a: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: population résidante permanente dès 15 ans, au domicile principal (domicile principal correspond à la commune d'établissement selon la loi sur l'harmonisation de registres, art. 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75680" indent="0">
              <a:lnSpc>
                <a:spcPts val="2200"/>
              </a:lnSpc>
              <a:spcAft>
                <a:spcPts val="788"/>
              </a:spcAft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- Suissesses et Sui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75680" indent="0">
              <a:lnSpc>
                <a:spcPts val="2200"/>
              </a:lnSpc>
              <a:spcAft>
                <a:spcPts val="788"/>
              </a:spcAft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  <a:ea typeface="Arial"/>
              </a:rPr>
              <a:t>- étrangères et étrangers avec permis B, C ou </a:t>
            </a: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L, F, N, S moyennant une </a:t>
            </a: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durée de séjour </a:t>
            </a:r>
            <a:r>
              <a:rPr b="0" lang="de-CH" sz="1800" spc="-1" strike="noStrike">
                <a:solidFill>
                  <a:srgbClr val="000000"/>
                </a:solidFill>
                <a:latin typeface="Arial"/>
                <a:ea typeface="Arial"/>
              </a:rPr>
              <a:t>≥</a:t>
            </a: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 12 moi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75680" indent="0">
              <a:lnSpc>
                <a:spcPts val="2200"/>
              </a:lnSpc>
              <a:spcAft>
                <a:spcPts val="788"/>
              </a:spcAft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- sans autorisation du DFAE (diplomates et fonctionnaires </a:t>
            </a: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internationaux); ceci uniquement sur demande spécifique d'un </a:t>
            </a: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canton (GE, VD, BE), en collaboration avec le DFAE/la mission </a:t>
            </a: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permanente à Genève; seulement au niveau de l'enquête structurelle, </a:t>
            </a: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par ex. en 201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75680" indent="0">
              <a:lnSpc>
                <a:spcPts val="2200"/>
              </a:lnSpc>
              <a:spcAft>
                <a:spcPts val="788"/>
              </a:spcAft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Arial"/>
              </a:rPr>
              <a:t>Définition des ménages</a:t>
            </a: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: toutes les personnes qui remplissent les conditions susnommées et qui vivent dans le même logement </a:t>
            </a:r>
            <a:br>
              <a:rPr sz="1800"/>
            </a:b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(= </a:t>
            </a: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household-dwelling concept</a:t>
            </a: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»</a:t>
            </a: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 de l'UNECE et d'Eurostat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58920" y="1414440"/>
            <a:ext cx="74628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800" spc="-1" strike="noStrike">
                <a:solidFill>
                  <a:srgbClr val="000000"/>
                </a:solidFill>
                <a:latin typeface="Arial"/>
              </a:rPr>
              <a:t>Questionnaire sur papi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16000" y="2133360"/>
            <a:ext cx="7642080" cy="39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- réponses manuscrites aux ques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180720">
              <a:lnSpc>
                <a:spcPts val="2599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la plupart des personnes utilise ce sup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180720">
              <a:lnSpc>
                <a:spcPts val="2599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questionnaires optimalisés (</a:t>
            </a:r>
            <a:r>
              <a:rPr b="0" lang="de-CH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1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de-CH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2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180720">
              <a:lnSpc>
                <a:spcPts val="2599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premier envoi postal deux semaines avant le jour de référence (31 décembr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58920" y="1341000"/>
            <a:ext cx="746280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e-Surve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42560" y="2133360"/>
            <a:ext cx="7715160" cy="39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100" spc="-1" strike="noStrike">
                <a:solidFill>
                  <a:srgbClr val="000000"/>
                </a:solidFill>
                <a:latin typeface="Arial"/>
              </a:rPr>
              <a:t>- canal d'enquête par Internet protégé par un mot de pass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61800" indent="-180720">
              <a:lnSpc>
                <a:spcPct val="175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100" spc="-1" strike="noStrike">
                <a:solidFill>
                  <a:srgbClr val="000000"/>
                </a:solidFill>
                <a:latin typeface="Arial"/>
              </a:rPr>
              <a:t>contrôle en ligne des répons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61800" indent="-180720">
              <a:lnSpc>
                <a:spcPct val="175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100" spc="-1" strike="noStrike">
                <a:solidFill>
                  <a:srgbClr val="000000"/>
                </a:solidFill>
                <a:latin typeface="Arial"/>
              </a:rPr>
              <a:t>questionnaire en ligne (</a:t>
            </a:r>
            <a:r>
              <a:rPr b="0" lang="de-CH" sz="21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ecensus.ch</a:t>
            </a:r>
            <a:r>
              <a:rPr b="0" lang="de-CH" sz="21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lnSpc>
                <a:spcPct val="1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100" spc="-1" strike="noStrike">
                <a:solidFill>
                  <a:srgbClr val="000000"/>
                </a:solidFill>
                <a:latin typeface="Arial"/>
              </a:rPr>
              <a:t>Ordre de grandeur estimé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61800" indent="-180720">
              <a:lnSpc>
                <a:spcPct val="175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100" spc="-1" strike="noStrike">
                <a:solidFill>
                  <a:srgbClr val="000000"/>
                </a:solidFill>
                <a:latin typeface="Arial"/>
              </a:rPr>
              <a:t>20-30% des personnes livrent leurs données par ce biai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Rectangle 4" descr=""/>
          <p:cNvPicPr/>
          <p:nvPr/>
        </p:nvPicPr>
        <p:blipFill>
          <a:blip r:embed="rId1"/>
          <a:srcRect l="0" t="0" r="24508" b="5278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Rectangle 4" descr=""/>
          <p:cNvPicPr/>
          <p:nvPr/>
        </p:nvPicPr>
        <p:blipFill>
          <a:blip r:embed="rId1"/>
          <a:srcRect l="0" t="0" r="24508" b="2694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Rectangle 4" descr=""/>
          <p:cNvPicPr/>
          <p:nvPr/>
        </p:nvPicPr>
        <p:blipFill>
          <a:blip r:embed="rId1"/>
          <a:srcRect l="0" t="0" r="24508" b="2694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1T14:20:57Z</dcterms:created>
  <dc:creator>Roland Keta</dc:creator>
  <dc:description/>
  <dc:language>en-US</dc:language>
  <cp:lastModifiedBy>Roland Keta</cp:lastModifiedBy>
  <dcterms:modified xsi:type="dcterms:W3CDTF">2009-10-07T13:09:18Z</dcterms:modified>
  <cp:revision>303</cp:revision>
  <dc:subject/>
  <dc:title>Strukturerhebung</dc:title>
</cp:coreProperties>
</file>